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A61-ECC0-4E46-AAAB-2C87605F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357C-7613-40A7-881B-3F62F2FC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B02-E5E1-47AD-B732-1EA4F6EC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403-DEA6-4C30-A4CB-7F563433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743F-3FA5-443C-BB33-F33B9487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1B4F-6A44-4706-A645-5887D375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4A46-BE70-42E6-A894-83C8DF66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99A8-A8AC-458D-8611-71AA2C92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BBA5-78BD-46DE-8DC9-80756278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AA09-2B11-40F8-BD52-9A002E9D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8571-20A9-42F8-8BB1-DC7BB136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6C7-CE3F-4E3F-96D6-452F4ED8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2F47-E22D-4182-B495-FE8061D2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A380-86CF-4349-A9AD-6D263199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7338-2004-478C-B168-E28A6557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8049-5572-40BA-B38B-BDBFCD6E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CB01-6AC9-4BC8-8879-56DB2C08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1AF-5DB8-428F-B567-5507A00C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5C7-29F1-4BB5-84C2-46ABA266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A76-CB6D-4DDE-ACB8-11F7243E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D03-CFB2-4ED7-9A09-B68D6C02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304E-AA3F-40CA-B7BB-EB8160BD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121-C3E6-4533-8E95-1FC3B75A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9D8-9202-4EA4-BCEC-62E94C87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643D-B6C3-4A5A-BBF5-99110C4D3E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864F-4306-4336-8353-7DF2A9690C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9742-5DC9-410B-A141-289F4A5A26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860E-0EDD-42B4-9BA9-88BA06D28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8"/>
          <p:cNvGrpSpPr/>
          <p:nvPr/>
        </p:nvGrpSpPr>
        <p:grpSpPr>
          <a:xfrm>
            <a:off x="754200" y="1920960"/>
            <a:ext cx="4032000" cy="4008240"/>
            <a:chOff x="754200" y="1920960"/>
            <a:chExt cx="4032000" cy="4008240"/>
          </a:xfrm>
        </p:grpSpPr>
        <p:sp>
          <p:nvSpPr>
            <p:cNvPr id="83" name="Freeform 2"/>
            <p:cNvSpPr/>
            <p:nvPr/>
          </p:nvSpPr>
          <p:spPr>
            <a:xfrm>
              <a:off x="2112120" y="3269160"/>
              <a:ext cx="1310400" cy="159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2112120" y="1920960"/>
              <a:ext cx="1597680" cy="159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754200" y="1924560"/>
              <a:ext cx="1593720" cy="1310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756000" y="4331880"/>
              <a:ext cx="1306440" cy="1595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1826640" y="4619160"/>
              <a:ext cx="1595520" cy="1310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3184920" y="4615200"/>
              <a:ext cx="1601280" cy="1311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464280" y="1920960"/>
              <a:ext cx="1308600" cy="159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756000" y="2983680"/>
              <a:ext cx="1591920" cy="1600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 rot="10800000">
              <a:off x="3175200" y="3255480"/>
              <a:ext cx="1597680" cy="159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Freeform 8"/>
          <p:cNvSpPr/>
          <p:nvPr/>
        </p:nvSpPr>
        <p:spPr>
          <a:xfrm rot="1453800">
            <a:off x="5240160" y="4587480"/>
            <a:ext cx="1336680" cy="109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948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125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1"/>
          <p:cNvSpPr/>
          <p:nvPr/>
        </p:nvSpPr>
        <p:spPr>
          <a:xfrm rot="10800000">
            <a:off x="6715080" y="4048200"/>
            <a:ext cx="1333440" cy="133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125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5637240" y="2265480"/>
            <a:ext cx="21207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9"/>
          <p:cNvSpPr/>
          <p:nvPr/>
        </p:nvSpPr>
        <p:spPr>
          <a:xfrm>
            <a:off x="5637240" y="2922480"/>
            <a:ext cx="21207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9"/>
          <p:cNvSpPr/>
          <p:nvPr/>
        </p:nvSpPr>
        <p:spPr>
          <a:xfrm>
            <a:off x="5651640" y="1870200"/>
            <a:ext cx="2120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调说明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系列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0:5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