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A626-BB03-41C3-9A50-651CEB92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383-E713-4796-86B5-CDA40B64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51B4-223D-4112-97F4-BE3ACB47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D85-7B8B-488D-A583-0BB7B584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ED4F-01DD-4B05-902A-3C7CE783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E2DB-25B8-47C6-B2B1-F7203DFB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29F-2D1A-4730-95DE-EFA36CB6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2CE8-1D3B-40AE-8497-77FDEFCE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4D39-7CBF-4F13-8C63-CE1CADE6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92F-9536-47B2-82F8-DF225A0A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71C-03C6-40B0-898D-E28EA5C5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0913-1E85-4546-935E-02C92643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575E-7ABA-400B-8B43-27E7707A4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81760" y="64771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迷你简柏青"/>
                <a:ea typeface="迷你简柏青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81760" y="64771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迷你简柏青"/>
                <a:ea typeface="迷你简柏青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05E2-18DE-44AE-ACF8-330C989F02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08:48:25Z</dcterms:created>
  <dc:creator/>
  <dc:description/>
  <dc:language>en-US</dc:language>
  <cp:lastModifiedBy>微软用户</cp:lastModifiedBy>
  <dcterms:modified xsi:type="dcterms:W3CDTF">2015-06-13T05:40:0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Version">
    <vt:r8>1</vt:r8>
  </property>
</Properties>
</file>