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8B8-473D-47D6-B1D5-DF9E1BC2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A3C-C042-4154-A9FA-62C86295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09D-A43E-42AC-9330-7A514728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AF8-3A79-4BD8-A7DD-A937BA08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09D7-0D16-4B00-A9BA-83DF153A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7C6B-C0AD-4271-921D-3D7F6B2F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B6B6-94A6-415D-8628-B814F425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2470-2EA1-4C1E-8A8F-01CDBC26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41DE-D84E-42F6-A386-94204D4A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AC1F-4410-4CA3-B7BA-9EE9CA6A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EBFA-6D5F-4CB3-86CC-B6805BD0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850-048A-4598-8B6F-21AF0C7C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2B94-B676-4E80-B8B2-DE992391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6A64-FA0A-4A71-BEB1-3D79AA7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511B-021B-4C9E-96C5-968322E6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EAE5-F43E-4D92-9971-305455FA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846A-7B09-4DA8-BB59-13B9AF8D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1AB-DBE7-4FC7-89A0-06B8BAC4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77D-E5B4-411D-B1C1-7423F3C2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7CE-1613-41CE-B222-07DE3093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048-F5E6-448A-9622-ACB6812D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207-FA0D-44B2-90DC-4C7C21A1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36E-B8B9-4BB6-ADA8-B29B6A33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8D9-41F4-4070-836A-7AC81751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95FF-6231-4631-9DE0-720D0E2A1B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ACD5-F1AA-4562-87E9-81333511D3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AF95-C7A7-4C16-9682-599CA47401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5C02-EBE2-4C0A-BCD1-0503EAF2E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 rot="21234600">
            <a:off x="3144960" y="4673520"/>
            <a:ext cx="3098520" cy="9129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6"/>
          <p:cNvSpPr/>
          <p:nvPr/>
        </p:nvSpPr>
        <p:spPr>
          <a:xfrm>
            <a:off x="1312920" y="198900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坏账率仅为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1%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。由五年前的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7%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，到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年，坏账率大为下降，处同业最好水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869400" y="706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坏账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 rot="19837200">
            <a:off x="2754000" y="3490920"/>
            <a:ext cx="32796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2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