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04B-1B12-470A-98F5-C465DB47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7EF-45E1-47C5-9560-BF3B41BE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047-10A8-4131-9F7B-96BC0091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C16-8D17-456E-952C-AD881960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BDA4-2614-42CD-A748-CB7D849A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B62B-220A-4DB9-9FF2-C9051267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363A-6855-4F22-B782-7D18216E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BE6E-6C54-4BB0-9F15-C0CFC7A7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866A-2E27-406B-8CD8-942A3EBD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C20E-64C8-46B0-8FE7-82A786A8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3CAE-93C9-4378-80DB-16B33F24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B76-DB1A-42E7-BE1A-43C538BC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19F9-9723-4266-BC6F-9A89D83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414D-75A6-4AB7-B289-43291DB4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D832-CCE7-4082-8EEE-2026AE8F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ED7C-D9AC-45D8-B0DF-03F17282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229F-4C8D-45F0-9C49-A84A0A5A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A59-41A9-466A-8AD3-2D80A136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0AE-F21E-44E0-90F9-8DD6AA3A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E38-8FB9-4A48-837C-269A4D3A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ED5-354B-4DE8-9209-AE6D0C1D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CC0-5FAC-4DE6-97FE-5429BC1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359-7ADF-4B9A-B461-471B6376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EC8-27A5-4AA3-99FC-D7E05DA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9488-3613-4333-998A-90633C9A38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BFDE-EDF2-4ABB-8DC4-AF9F710212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4BD1-F17B-4D89-B806-89520521E3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0FB5-0EE9-4505-9652-D2E5AF02F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50920" y="1965240"/>
            <a:ext cx="3904920" cy="4271760"/>
            <a:chOff x="250920" y="1965240"/>
            <a:chExt cx="3904920" cy="4271760"/>
          </a:xfrm>
        </p:grpSpPr>
        <p:sp>
          <p:nvSpPr>
            <p:cNvPr id="83" name="Freeform 29"/>
            <p:cNvSpPr/>
            <p:nvPr/>
          </p:nvSpPr>
          <p:spPr>
            <a:xfrm>
              <a:off x="454680" y="5228640"/>
              <a:ext cx="511560" cy="803880"/>
            </a:xfrm>
            <a:custGeom>
              <a:avLst/>
              <a:gdLst/>
              <a:ahLst/>
              <a:rect l="l" t="t" r="r" b="b"/>
              <a:pathLst>
                <a:path w="708" h="1027">
                  <a:moveTo>
                    <a:pt x="9" y="180"/>
                  </a:moveTo>
                  <a:lnTo>
                    <a:pt x="9" y="184"/>
                  </a:lnTo>
                  <a:lnTo>
                    <a:pt x="9" y="194"/>
                  </a:lnTo>
                  <a:lnTo>
                    <a:pt x="8" y="205"/>
                  </a:lnTo>
                  <a:lnTo>
                    <a:pt x="8" y="211"/>
                  </a:lnTo>
                  <a:lnTo>
                    <a:pt x="6" y="212"/>
                  </a:lnTo>
                  <a:lnTo>
                    <a:pt x="4" y="215"/>
                  </a:lnTo>
                  <a:lnTo>
                    <a:pt x="3" y="218"/>
                  </a:lnTo>
                  <a:lnTo>
                    <a:pt x="1" y="222"/>
                  </a:lnTo>
                  <a:lnTo>
                    <a:pt x="0" y="225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8" y="236"/>
                  </a:lnTo>
                  <a:lnTo>
                    <a:pt x="17" y="240"/>
                  </a:lnTo>
                  <a:lnTo>
                    <a:pt x="26" y="243"/>
                  </a:lnTo>
                  <a:lnTo>
                    <a:pt x="32" y="250"/>
                  </a:lnTo>
                  <a:lnTo>
                    <a:pt x="34" y="259"/>
                  </a:lnTo>
                  <a:lnTo>
                    <a:pt x="34" y="270"/>
                  </a:lnTo>
                  <a:lnTo>
                    <a:pt x="34" y="281"/>
                  </a:lnTo>
                  <a:lnTo>
                    <a:pt x="39" y="285"/>
                  </a:lnTo>
                  <a:lnTo>
                    <a:pt x="46" y="287"/>
                  </a:lnTo>
                  <a:lnTo>
                    <a:pt x="57" y="288"/>
                  </a:lnTo>
                  <a:lnTo>
                    <a:pt x="71" y="291"/>
                  </a:lnTo>
                  <a:lnTo>
                    <a:pt x="82" y="298"/>
                  </a:lnTo>
                  <a:lnTo>
                    <a:pt x="91" y="310"/>
                  </a:lnTo>
                  <a:lnTo>
                    <a:pt x="99" y="323"/>
                  </a:lnTo>
                  <a:lnTo>
                    <a:pt x="105" y="336"/>
                  </a:lnTo>
                  <a:lnTo>
                    <a:pt x="110" y="347"/>
                  </a:lnTo>
                  <a:lnTo>
                    <a:pt x="110" y="352"/>
                  </a:lnTo>
                  <a:lnTo>
                    <a:pt x="110" y="355"/>
                  </a:lnTo>
                  <a:lnTo>
                    <a:pt x="109" y="358"/>
                  </a:lnTo>
                  <a:lnTo>
                    <a:pt x="105" y="360"/>
                  </a:lnTo>
                  <a:lnTo>
                    <a:pt x="102" y="361"/>
                  </a:lnTo>
                  <a:lnTo>
                    <a:pt x="98" y="364"/>
                  </a:lnTo>
                  <a:lnTo>
                    <a:pt x="95" y="366"/>
                  </a:lnTo>
                  <a:lnTo>
                    <a:pt x="90" y="368"/>
                  </a:lnTo>
                  <a:lnTo>
                    <a:pt x="88" y="371"/>
                  </a:lnTo>
                  <a:lnTo>
                    <a:pt x="85" y="371"/>
                  </a:lnTo>
                  <a:lnTo>
                    <a:pt x="82" y="371"/>
                  </a:lnTo>
                  <a:lnTo>
                    <a:pt x="77" y="369"/>
                  </a:lnTo>
                  <a:lnTo>
                    <a:pt x="74" y="366"/>
                  </a:lnTo>
                  <a:lnTo>
                    <a:pt x="71" y="363"/>
                  </a:lnTo>
                  <a:lnTo>
                    <a:pt x="70" y="360"/>
                  </a:lnTo>
                  <a:lnTo>
                    <a:pt x="67" y="355"/>
                  </a:lnTo>
                  <a:lnTo>
                    <a:pt x="65" y="350"/>
                  </a:lnTo>
                  <a:lnTo>
                    <a:pt x="65" y="347"/>
                  </a:lnTo>
                  <a:lnTo>
                    <a:pt x="64" y="340"/>
                  </a:lnTo>
                  <a:lnTo>
                    <a:pt x="60" y="329"/>
                  </a:lnTo>
                  <a:lnTo>
                    <a:pt x="57" y="316"/>
                  </a:lnTo>
                  <a:lnTo>
                    <a:pt x="51" y="304"/>
                  </a:lnTo>
                  <a:lnTo>
                    <a:pt x="45" y="296"/>
                  </a:lnTo>
                  <a:lnTo>
                    <a:pt x="39" y="295"/>
                  </a:lnTo>
                  <a:lnTo>
                    <a:pt x="32" y="299"/>
                  </a:lnTo>
                  <a:lnTo>
                    <a:pt x="28" y="310"/>
                  </a:lnTo>
                  <a:lnTo>
                    <a:pt x="23" y="324"/>
                  </a:lnTo>
                  <a:lnTo>
                    <a:pt x="20" y="338"/>
                  </a:lnTo>
                  <a:lnTo>
                    <a:pt x="22" y="354"/>
                  </a:lnTo>
                  <a:lnTo>
                    <a:pt x="26" y="364"/>
                  </a:lnTo>
                  <a:lnTo>
                    <a:pt x="36" y="375"/>
                  </a:lnTo>
                  <a:lnTo>
                    <a:pt x="46" y="385"/>
                  </a:lnTo>
                  <a:lnTo>
                    <a:pt x="56" y="394"/>
                  </a:lnTo>
                  <a:lnTo>
                    <a:pt x="62" y="403"/>
                  </a:lnTo>
                  <a:lnTo>
                    <a:pt x="60" y="414"/>
                  </a:lnTo>
                  <a:lnTo>
                    <a:pt x="57" y="425"/>
                  </a:lnTo>
                  <a:lnTo>
                    <a:pt x="54" y="437"/>
                  </a:lnTo>
                  <a:lnTo>
                    <a:pt x="53" y="448"/>
                  </a:lnTo>
                  <a:lnTo>
                    <a:pt x="53" y="456"/>
                  </a:lnTo>
                  <a:lnTo>
                    <a:pt x="54" y="461"/>
                  </a:lnTo>
                  <a:lnTo>
                    <a:pt x="59" y="459"/>
                  </a:lnTo>
                  <a:lnTo>
                    <a:pt x="68" y="451"/>
                  </a:lnTo>
                  <a:lnTo>
                    <a:pt x="79" y="437"/>
                  </a:lnTo>
                  <a:lnTo>
                    <a:pt x="93" y="423"/>
                  </a:lnTo>
                  <a:lnTo>
                    <a:pt x="105" y="413"/>
                  </a:lnTo>
                  <a:lnTo>
                    <a:pt x="121" y="406"/>
                  </a:lnTo>
                  <a:lnTo>
                    <a:pt x="132" y="403"/>
                  </a:lnTo>
                  <a:lnTo>
                    <a:pt x="144" y="399"/>
                  </a:lnTo>
                  <a:lnTo>
                    <a:pt x="154" y="394"/>
                  </a:lnTo>
                  <a:lnTo>
                    <a:pt x="163" y="391"/>
                  </a:lnTo>
                  <a:lnTo>
                    <a:pt x="169" y="392"/>
                  </a:lnTo>
                  <a:lnTo>
                    <a:pt x="172" y="397"/>
                  </a:lnTo>
                  <a:lnTo>
                    <a:pt x="172" y="408"/>
                  </a:lnTo>
                  <a:lnTo>
                    <a:pt x="166" y="419"/>
                  </a:lnTo>
                  <a:lnTo>
                    <a:pt x="158" y="428"/>
                  </a:lnTo>
                  <a:lnTo>
                    <a:pt x="154" y="437"/>
                  </a:lnTo>
                  <a:lnTo>
                    <a:pt x="157" y="447"/>
                  </a:lnTo>
                  <a:lnTo>
                    <a:pt x="166" y="454"/>
                  </a:lnTo>
                  <a:lnTo>
                    <a:pt x="180" y="458"/>
                  </a:lnTo>
                  <a:lnTo>
                    <a:pt x="194" y="456"/>
                  </a:lnTo>
                  <a:lnTo>
                    <a:pt x="208" y="450"/>
                  </a:lnTo>
                  <a:lnTo>
                    <a:pt x="219" y="439"/>
                  </a:lnTo>
                  <a:lnTo>
                    <a:pt x="228" y="427"/>
                  </a:lnTo>
                  <a:lnTo>
                    <a:pt x="233" y="414"/>
                  </a:lnTo>
                  <a:lnTo>
                    <a:pt x="231" y="399"/>
                  </a:lnTo>
                  <a:lnTo>
                    <a:pt x="227" y="391"/>
                  </a:lnTo>
                  <a:lnTo>
                    <a:pt x="214" y="383"/>
                  </a:lnTo>
                  <a:lnTo>
                    <a:pt x="200" y="378"/>
                  </a:lnTo>
                  <a:lnTo>
                    <a:pt x="186" y="374"/>
                  </a:lnTo>
                  <a:lnTo>
                    <a:pt x="172" y="371"/>
                  </a:lnTo>
                  <a:lnTo>
                    <a:pt x="164" y="369"/>
                  </a:lnTo>
                  <a:lnTo>
                    <a:pt x="160" y="364"/>
                  </a:lnTo>
                  <a:lnTo>
                    <a:pt x="161" y="360"/>
                  </a:lnTo>
                  <a:lnTo>
                    <a:pt x="168" y="354"/>
                  </a:lnTo>
                  <a:lnTo>
                    <a:pt x="174" y="346"/>
                  </a:lnTo>
                  <a:lnTo>
                    <a:pt x="180" y="340"/>
                  </a:lnTo>
                  <a:lnTo>
                    <a:pt x="182" y="330"/>
                  </a:lnTo>
                  <a:lnTo>
                    <a:pt x="180" y="319"/>
                  </a:lnTo>
                  <a:lnTo>
                    <a:pt x="175" y="309"/>
                  </a:lnTo>
                  <a:lnTo>
                    <a:pt x="172" y="296"/>
                  </a:lnTo>
                  <a:lnTo>
                    <a:pt x="172" y="287"/>
                  </a:lnTo>
                  <a:lnTo>
                    <a:pt x="174" y="281"/>
                  </a:lnTo>
                  <a:lnTo>
                    <a:pt x="180" y="274"/>
                  </a:lnTo>
                  <a:lnTo>
                    <a:pt x="188" y="268"/>
                  </a:lnTo>
                  <a:lnTo>
                    <a:pt x="196" y="262"/>
                  </a:lnTo>
                  <a:lnTo>
                    <a:pt x="202" y="259"/>
                  </a:lnTo>
                  <a:lnTo>
                    <a:pt x="208" y="260"/>
                  </a:lnTo>
                  <a:lnTo>
                    <a:pt x="214" y="265"/>
                  </a:lnTo>
                  <a:lnTo>
                    <a:pt x="224" y="271"/>
                  </a:lnTo>
                  <a:lnTo>
                    <a:pt x="233" y="277"/>
                  </a:lnTo>
                  <a:lnTo>
                    <a:pt x="241" y="285"/>
                  </a:lnTo>
                  <a:lnTo>
                    <a:pt x="244" y="293"/>
                  </a:lnTo>
                  <a:lnTo>
                    <a:pt x="245" y="307"/>
                  </a:lnTo>
                  <a:lnTo>
                    <a:pt x="247" y="326"/>
                  </a:lnTo>
                  <a:lnTo>
                    <a:pt x="251" y="344"/>
                  </a:lnTo>
                  <a:lnTo>
                    <a:pt x="258" y="357"/>
                  </a:lnTo>
                  <a:lnTo>
                    <a:pt x="265" y="364"/>
                  </a:lnTo>
                  <a:lnTo>
                    <a:pt x="276" y="372"/>
                  </a:lnTo>
                  <a:lnTo>
                    <a:pt x="286" y="382"/>
                  </a:lnTo>
                  <a:lnTo>
                    <a:pt x="293" y="391"/>
                  </a:lnTo>
                  <a:lnTo>
                    <a:pt x="295" y="400"/>
                  </a:lnTo>
                  <a:lnTo>
                    <a:pt x="289" y="416"/>
                  </a:lnTo>
                  <a:lnTo>
                    <a:pt x="281" y="430"/>
                  </a:lnTo>
                  <a:lnTo>
                    <a:pt x="275" y="437"/>
                  </a:lnTo>
                  <a:lnTo>
                    <a:pt x="269" y="441"/>
                  </a:lnTo>
                  <a:lnTo>
                    <a:pt x="261" y="445"/>
                  </a:lnTo>
                  <a:lnTo>
                    <a:pt x="251" y="451"/>
                  </a:lnTo>
                  <a:lnTo>
                    <a:pt x="244" y="458"/>
                  </a:lnTo>
                  <a:lnTo>
                    <a:pt x="237" y="464"/>
                  </a:lnTo>
                  <a:lnTo>
                    <a:pt x="236" y="468"/>
                  </a:lnTo>
                  <a:lnTo>
                    <a:pt x="239" y="470"/>
                  </a:lnTo>
                  <a:lnTo>
                    <a:pt x="250" y="468"/>
                  </a:lnTo>
                  <a:lnTo>
                    <a:pt x="259" y="465"/>
                  </a:lnTo>
                  <a:lnTo>
                    <a:pt x="270" y="461"/>
                  </a:lnTo>
                  <a:lnTo>
                    <a:pt x="278" y="458"/>
                  </a:lnTo>
                  <a:lnTo>
                    <a:pt x="286" y="458"/>
                  </a:lnTo>
                  <a:lnTo>
                    <a:pt x="292" y="462"/>
                  </a:lnTo>
                  <a:lnTo>
                    <a:pt x="292" y="472"/>
                  </a:lnTo>
                  <a:lnTo>
                    <a:pt x="289" y="484"/>
                  </a:lnTo>
                  <a:lnTo>
                    <a:pt x="281" y="496"/>
                  </a:lnTo>
                  <a:lnTo>
                    <a:pt x="273" y="507"/>
                  </a:lnTo>
                  <a:lnTo>
                    <a:pt x="267" y="517"/>
                  </a:lnTo>
                  <a:lnTo>
                    <a:pt x="261" y="529"/>
                  </a:lnTo>
                  <a:lnTo>
                    <a:pt x="251" y="545"/>
                  </a:lnTo>
                  <a:lnTo>
                    <a:pt x="242" y="560"/>
                  </a:lnTo>
                  <a:lnTo>
                    <a:pt x="233" y="573"/>
                  </a:lnTo>
                  <a:lnTo>
                    <a:pt x="222" y="591"/>
                  </a:lnTo>
                  <a:lnTo>
                    <a:pt x="210" y="610"/>
                  </a:lnTo>
                  <a:lnTo>
                    <a:pt x="196" y="627"/>
                  </a:lnTo>
                  <a:lnTo>
                    <a:pt x="186" y="635"/>
                  </a:lnTo>
                  <a:lnTo>
                    <a:pt x="177" y="638"/>
                  </a:lnTo>
                  <a:lnTo>
                    <a:pt x="168" y="641"/>
                  </a:lnTo>
                  <a:lnTo>
                    <a:pt x="161" y="645"/>
                  </a:lnTo>
                  <a:lnTo>
                    <a:pt x="157" y="653"/>
                  </a:lnTo>
                  <a:lnTo>
                    <a:pt x="152" y="673"/>
                  </a:lnTo>
                  <a:lnTo>
                    <a:pt x="152" y="695"/>
                  </a:lnTo>
                  <a:lnTo>
                    <a:pt x="157" y="720"/>
                  </a:lnTo>
                  <a:lnTo>
                    <a:pt x="161" y="731"/>
                  </a:lnTo>
                  <a:lnTo>
                    <a:pt x="168" y="739"/>
                  </a:lnTo>
                  <a:lnTo>
                    <a:pt x="172" y="745"/>
                  </a:lnTo>
                  <a:lnTo>
                    <a:pt x="177" y="754"/>
                  </a:lnTo>
                  <a:lnTo>
                    <a:pt x="182" y="768"/>
                  </a:lnTo>
                  <a:lnTo>
                    <a:pt x="185" y="788"/>
                  </a:lnTo>
                  <a:lnTo>
                    <a:pt x="186" y="807"/>
                  </a:lnTo>
                  <a:lnTo>
                    <a:pt x="186" y="824"/>
                  </a:lnTo>
                  <a:lnTo>
                    <a:pt x="180" y="843"/>
                  </a:lnTo>
                  <a:lnTo>
                    <a:pt x="172" y="854"/>
                  </a:lnTo>
                  <a:lnTo>
                    <a:pt x="161" y="860"/>
                  </a:lnTo>
                  <a:lnTo>
                    <a:pt x="152" y="866"/>
                  </a:lnTo>
                  <a:lnTo>
                    <a:pt x="144" y="871"/>
                  </a:lnTo>
                  <a:lnTo>
                    <a:pt x="138" y="875"/>
                  </a:lnTo>
                  <a:lnTo>
                    <a:pt x="137" y="885"/>
                  </a:lnTo>
                  <a:lnTo>
                    <a:pt x="138" y="899"/>
                  </a:lnTo>
                  <a:lnTo>
                    <a:pt x="143" y="913"/>
                  </a:lnTo>
                  <a:lnTo>
                    <a:pt x="149" y="923"/>
                  </a:lnTo>
                  <a:lnTo>
                    <a:pt x="160" y="930"/>
                  </a:lnTo>
                  <a:lnTo>
                    <a:pt x="171" y="933"/>
                  </a:lnTo>
                  <a:lnTo>
                    <a:pt x="178" y="933"/>
                  </a:lnTo>
                  <a:lnTo>
                    <a:pt x="188" y="933"/>
                  </a:lnTo>
                  <a:lnTo>
                    <a:pt x="197" y="934"/>
                  </a:lnTo>
                  <a:lnTo>
                    <a:pt x="208" y="942"/>
                  </a:lnTo>
                  <a:lnTo>
                    <a:pt x="217" y="950"/>
                  </a:lnTo>
                  <a:lnTo>
                    <a:pt x="222" y="956"/>
                  </a:lnTo>
                  <a:lnTo>
                    <a:pt x="225" y="959"/>
                  </a:lnTo>
                  <a:lnTo>
                    <a:pt x="230" y="962"/>
                  </a:lnTo>
                  <a:lnTo>
                    <a:pt x="239" y="965"/>
                  </a:lnTo>
                  <a:lnTo>
                    <a:pt x="251" y="968"/>
                  </a:lnTo>
                  <a:lnTo>
                    <a:pt x="261" y="970"/>
                  </a:lnTo>
                  <a:lnTo>
                    <a:pt x="270" y="968"/>
                  </a:lnTo>
                  <a:lnTo>
                    <a:pt x="276" y="964"/>
                  </a:lnTo>
                  <a:lnTo>
                    <a:pt x="278" y="954"/>
                  </a:lnTo>
                  <a:lnTo>
                    <a:pt x="275" y="942"/>
                  </a:lnTo>
                  <a:lnTo>
                    <a:pt x="267" y="930"/>
                  </a:lnTo>
                  <a:lnTo>
                    <a:pt x="256" y="919"/>
                  </a:lnTo>
                  <a:lnTo>
                    <a:pt x="248" y="906"/>
                  </a:lnTo>
                  <a:lnTo>
                    <a:pt x="247" y="892"/>
                  </a:lnTo>
                  <a:lnTo>
                    <a:pt x="245" y="877"/>
                  </a:lnTo>
                  <a:lnTo>
                    <a:pt x="244" y="864"/>
                  </a:lnTo>
                  <a:lnTo>
                    <a:pt x="241" y="852"/>
                  </a:lnTo>
                  <a:lnTo>
                    <a:pt x="242" y="841"/>
                  </a:lnTo>
                  <a:lnTo>
                    <a:pt x="250" y="829"/>
                  </a:lnTo>
                  <a:lnTo>
                    <a:pt x="261" y="813"/>
                  </a:lnTo>
                  <a:lnTo>
                    <a:pt x="270" y="798"/>
                  </a:lnTo>
                  <a:lnTo>
                    <a:pt x="279" y="787"/>
                  </a:lnTo>
                  <a:lnTo>
                    <a:pt x="289" y="781"/>
                  </a:lnTo>
                  <a:lnTo>
                    <a:pt x="301" y="776"/>
                  </a:lnTo>
                  <a:lnTo>
                    <a:pt x="314" y="776"/>
                  </a:lnTo>
                  <a:lnTo>
                    <a:pt x="326" y="781"/>
                  </a:lnTo>
                  <a:lnTo>
                    <a:pt x="332" y="790"/>
                  </a:lnTo>
                  <a:lnTo>
                    <a:pt x="334" y="799"/>
                  </a:lnTo>
                  <a:lnTo>
                    <a:pt x="331" y="810"/>
                  </a:lnTo>
                  <a:lnTo>
                    <a:pt x="324" y="823"/>
                  </a:lnTo>
                  <a:lnTo>
                    <a:pt x="320" y="829"/>
                  </a:lnTo>
                  <a:lnTo>
                    <a:pt x="312" y="832"/>
                  </a:lnTo>
                  <a:lnTo>
                    <a:pt x="306" y="835"/>
                  </a:lnTo>
                  <a:lnTo>
                    <a:pt x="300" y="838"/>
                  </a:lnTo>
                  <a:lnTo>
                    <a:pt x="295" y="843"/>
                  </a:lnTo>
                  <a:lnTo>
                    <a:pt x="295" y="850"/>
                  </a:lnTo>
                  <a:lnTo>
                    <a:pt x="300" y="861"/>
                  </a:lnTo>
                  <a:lnTo>
                    <a:pt x="304" y="869"/>
                  </a:lnTo>
                  <a:lnTo>
                    <a:pt x="311" y="877"/>
                  </a:lnTo>
                  <a:lnTo>
                    <a:pt x="315" y="886"/>
                  </a:lnTo>
                  <a:lnTo>
                    <a:pt x="317" y="897"/>
                  </a:lnTo>
                  <a:lnTo>
                    <a:pt x="318" y="913"/>
                  </a:lnTo>
                  <a:lnTo>
                    <a:pt x="321" y="927"/>
                  </a:lnTo>
                  <a:lnTo>
                    <a:pt x="321" y="941"/>
                  </a:lnTo>
                  <a:lnTo>
                    <a:pt x="317" y="954"/>
                  </a:lnTo>
                  <a:lnTo>
                    <a:pt x="306" y="970"/>
                  </a:lnTo>
                  <a:lnTo>
                    <a:pt x="295" y="986"/>
                  </a:lnTo>
                  <a:lnTo>
                    <a:pt x="284" y="1000"/>
                  </a:lnTo>
                  <a:lnTo>
                    <a:pt x="279" y="1010"/>
                  </a:lnTo>
                  <a:lnTo>
                    <a:pt x="281" y="1020"/>
                  </a:lnTo>
                  <a:lnTo>
                    <a:pt x="284" y="1026"/>
                  </a:lnTo>
                  <a:lnTo>
                    <a:pt x="290" y="1027"/>
                  </a:lnTo>
                  <a:lnTo>
                    <a:pt x="301" y="1026"/>
                  </a:lnTo>
                  <a:lnTo>
                    <a:pt x="317" y="1020"/>
                  </a:lnTo>
                  <a:lnTo>
                    <a:pt x="337" y="1009"/>
                  </a:lnTo>
                  <a:lnTo>
                    <a:pt x="352" y="998"/>
                  </a:lnTo>
                  <a:lnTo>
                    <a:pt x="365" y="989"/>
                  </a:lnTo>
                  <a:lnTo>
                    <a:pt x="376" y="976"/>
                  </a:lnTo>
                  <a:lnTo>
                    <a:pt x="384" y="967"/>
                  </a:lnTo>
                  <a:lnTo>
                    <a:pt x="390" y="961"/>
                  </a:lnTo>
                  <a:lnTo>
                    <a:pt x="396" y="956"/>
                  </a:lnTo>
                  <a:lnTo>
                    <a:pt x="405" y="950"/>
                  </a:lnTo>
                  <a:lnTo>
                    <a:pt x="413" y="944"/>
                  </a:lnTo>
                  <a:lnTo>
                    <a:pt x="416" y="933"/>
                  </a:lnTo>
                  <a:lnTo>
                    <a:pt x="415" y="923"/>
                  </a:lnTo>
                  <a:lnTo>
                    <a:pt x="408" y="916"/>
                  </a:lnTo>
                  <a:lnTo>
                    <a:pt x="402" y="908"/>
                  </a:lnTo>
                  <a:lnTo>
                    <a:pt x="399" y="899"/>
                  </a:lnTo>
                  <a:lnTo>
                    <a:pt x="399" y="889"/>
                  </a:lnTo>
                  <a:lnTo>
                    <a:pt x="402" y="880"/>
                  </a:lnTo>
                  <a:lnTo>
                    <a:pt x="410" y="874"/>
                  </a:lnTo>
                  <a:lnTo>
                    <a:pt x="419" y="871"/>
                  </a:lnTo>
                  <a:lnTo>
                    <a:pt x="427" y="868"/>
                  </a:lnTo>
                  <a:lnTo>
                    <a:pt x="435" y="869"/>
                  </a:lnTo>
                  <a:lnTo>
                    <a:pt x="443" y="877"/>
                  </a:lnTo>
                  <a:lnTo>
                    <a:pt x="449" y="886"/>
                  </a:lnTo>
                  <a:lnTo>
                    <a:pt x="453" y="895"/>
                  </a:lnTo>
                  <a:lnTo>
                    <a:pt x="460" y="902"/>
                  </a:lnTo>
                  <a:lnTo>
                    <a:pt x="466" y="905"/>
                  </a:lnTo>
                  <a:lnTo>
                    <a:pt x="475" y="902"/>
                  </a:lnTo>
                  <a:lnTo>
                    <a:pt x="488" y="889"/>
                  </a:lnTo>
                  <a:lnTo>
                    <a:pt x="498" y="871"/>
                  </a:lnTo>
                  <a:lnTo>
                    <a:pt x="508" y="850"/>
                  </a:lnTo>
                  <a:lnTo>
                    <a:pt x="516" y="832"/>
                  </a:lnTo>
                  <a:lnTo>
                    <a:pt x="523" y="815"/>
                  </a:lnTo>
                  <a:lnTo>
                    <a:pt x="531" y="798"/>
                  </a:lnTo>
                  <a:lnTo>
                    <a:pt x="537" y="782"/>
                  </a:lnTo>
                  <a:lnTo>
                    <a:pt x="539" y="770"/>
                  </a:lnTo>
                  <a:lnTo>
                    <a:pt x="534" y="757"/>
                  </a:lnTo>
                  <a:lnTo>
                    <a:pt x="530" y="745"/>
                  </a:lnTo>
                  <a:lnTo>
                    <a:pt x="526" y="732"/>
                  </a:lnTo>
                  <a:lnTo>
                    <a:pt x="530" y="718"/>
                  </a:lnTo>
                  <a:lnTo>
                    <a:pt x="533" y="709"/>
                  </a:lnTo>
                  <a:lnTo>
                    <a:pt x="539" y="694"/>
                  </a:lnTo>
                  <a:lnTo>
                    <a:pt x="547" y="673"/>
                  </a:lnTo>
                  <a:lnTo>
                    <a:pt x="556" y="650"/>
                  </a:lnTo>
                  <a:lnTo>
                    <a:pt x="564" y="627"/>
                  </a:lnTo>
                  <a:lnTo>
                    <a:pt x="571" y="607"/>
                  </a:lnTo>
                  <a:lnTo>
                    <a:pt x="578" y="590"/>
                  </a:lnTo>
                  <a:lnTo>
                    <a:pt x="582" y="579"/>
                  </a:lnTo>
                  <a:lnTo>
                    <a:pt x="587" y="568"/>
                  </a:lnTo>
                  <a:lnTo>
                    <a:pt x="590" y="559"/>
                  </a:lnTo>
                  <a:lnTo>
                    <a:pt x="595" y="551"/>
                  </a:lnTo>
                  <a:lnTo>
                    <a:pt x="601" y="543"/>
                  </a:lnTo>
                  <a:lnTo>
                    <a:pt x="610" y="532"/>
                  </a:lnTo>
                  <a:lnTo>
                    <a:pt x="618" y="520"/>
                  </a:lnTo>
                  <a:lnTo>
                    <a:pt x="620" y="510"/>
                  </a:lnTo>
                  <a:lnTo>
                    <a:pt x="620" y="503"/>
                  </a:lnTo>
                  <a:lnTo>
                    <a:pt x="621" y="495"/>
                  </a:lnTo>
                  <a:lnTo>
                    <a:pt x="626" y="486"/>
                  </a:lnTo>
                  <a:lnTo>
                    <a:pt x="632" y="478"/>
                  </a:lnTo>
                  <a:lnTo>
                    <a:pt x="638" y="473"/>
                  </a:lnTo>
                  <a:lnTo>
                    <a:pt x="644" y="470"/>
                  </a:lnTo>
                  <a:lnTo>
                    <a:pt x="651" y="464"/>
                  </a:lnTo>
                  <a:lnTo>
                    <a:pt x="658" y="456"/>
                  </a:lnTo>
                  <a:lnTo>
                    <a:pt x="665" y="448"/>
                  </a:lnTo>
                  <a:lnTo>
                    <a:pt x="666" y="442"/>
                  </a:lnTo>
                  <a:lnTo>
                    <a:pt x="666" y="436"/>
                  </a:lnTo>
                  <a:lnTo>
                    <a:pt x="666" y="431"/>
                  </a:lnTo>
                  <a:lnTo>
                    <a:pt x="671" y="428"/>
                  </a:lnTo>
                  <a:lnTo>
                    <a:pt x="680" y="427"/>
                  </a:lnTo>
                  <a:lnTo>
                    <a:pt x="693" y="423"/>
                  </a:lnTo>
                  <a:lnTo>
                    <a:pt x="700" y="419"/>
                  </a:lnTo>
                  <a:lnTo>
                    <a:pt x="705" y="413"/>
                  </a:lnTo>
                  <a:lnTo>
                    <a:pt x="707" y="403"/>
                  </a:lnTo>
                  <a:lnTo>
                    <a:pt x="708" y="392"/>
                  </a:lnTo>
                  <a:lnTo>
                    <a:pt x="708" y="382"/>
                  </a:lnTo>
                  <a:lnTo>
                    <a:pt x="707" y="375"/>
                  </a:lnTo>
                  <a:lnTo>
                    <a:pt x="702" y="371"/>
                  </a:lnTo>
                  <a:lnTo>
                    <a:pt x="697" y="366"/>
                  </a:lnTo>
                  <a:lnTo>
                    <a:pt x="694" y="364"/>
                  </a:lnTo>
                  <a:lnTo>
                    <a:pt x="691" y="361"/>
                  </a:lnTo>
                  <a:lnTo>
                    <a:pt x="688" y="360"/>
                  </a:lnTo>
                  <a:lnTo>
                    <a:pt x="686" y="358"/>
                  </a:lnTo>
                  <a:lnTo>
                    <a:pt x="685" y="355"/>
                  </a:lnTo>
                  <a:lnTo>
                    <a:pt x="685" y="352"/>
                  </a:lnTo>
                  <a:lnTo>
                    <a:pt x="686" y="347"/>
                  </a:lnTo>
                  <a:lnTo>
                    <a:pt x="688" y="341"/>
                  </a:lnTo>
                  <a:lnTo>
                    <a:pt x="691" y="330"/>
                  </a:lnTo>
                  <a:lnTo>
                    <a:pt x="691" y="323"/>
                  </a:lnTo>
                  <a:lnTo>
                    <a:pt x="688" y="318"/>
                  </a:lnTo>
                  <a:lnTo>
                    <a:pt x="682" y="313"/>
                  </a:lnTo>
                  <a:lnTo>
                    <a:pt x="674" y="310"/>
                  </a:lnTo>
                  <a:lnTo>
                    <a:pt x="668" y="305"/>
                  </a:lnTo>
                  <a:lnTo>
                    <a:pt x="663" y="299"/>
                  </a:lnTo>
                  <a:lnTo>
                    <a:pt x="663" y="291"/>
                  </a:lnTo>
                  <a:lnTo>
                    <a:pt x="668" y="284"/>
                  </a:lnTo>
                  <a:lnTo>
                    <a:pt x="672" y="274"/>
                  </a:lnTo>
                  <a:lnTo>
                    <a:pt x="674" y="268"/>
                  </a:lnTo>
                  <a:lnTo>
                    <a:pt x="671" y="264"/>
                  </a:lnTo>
                  <a:lnTo>
                    <a:pt x="660" y="259"/>
                  </a:lnTo>
                  <a:lnTo>
                    <a:pt x="643" y="256"/>
                  </a:lnTo>
                  <a:lnTo>
                    <a:pt x="624" y="254"/>
                  </a:lnTo>
                  <a:lnTo>
                    <a:pt x="607" y="254"/>
                  </a:lnTo>
                  <a:lnTo>
                    <a:pt x="593" y="254"/>
                  </a:lnTo>
                  <a:lnTo>
                    <a:pt x="581" y="253"/>
                  </a:lnTo>
                  <a:lnTo>
                    <a:pt x="575" y="250"/>
                  </a:lnTo>
                  <a:lnTo>
                    <a:pt x="573" y="243"/>
                  </a:lnTo>
                  <a:lnTo>
                    <a:pt x="578" y="232"/>
                  </a:lnTo>
                  <a:lnTo>
                    <a:pt x="582" y="226"/>
                  </a:lnTo>
                  <a:lnTo>
                    <a:pt x="590" y="220"/>
                  </a:lnTo>
                  <a:lnTo>
                    <a:pt x="603" y="214"/>
                  </a:lnTo>
                  <a:lnTo>
                    <a:pt x="615" y="205"/>
                  </a:lnTo>
                  <a:lnTo>
                    <a:pt x="629" y="194"/>
                  </a:lnTo>
                  <a:lnTo>
                    <a:pt x="640" y="180"/>
                  </a:lnTo>
                  <a:lnTo>
                    <a:pt x="644" y="166"/>
                  </a:lnTo>
                  <a:lnTo>
                    <a:pt x="643" y="153"/>
                  </a:lnTo>
                  <a:lnTo>
                    <a:pt x="634" y="138"/>
                  </a:lnTo>
                  <a:lnTo>
                    <a:pt x="623" y="124"/>
                  </a:lnTo>
                  <a:lnTo>
                    <a:pt x="612" y="113"/>
                  </a:lnTo>
                  <a:lnTo>
                    <a:pt x="598" y="108"/>
                  </a:lnTo>
                  <a:lnTo>
                    <a:pt x="587" y="113"/>
                  </a:lnTo>
                  <a:lnTo>
                    <a:pt x="575" y="121"/>
                  </a:lnTo>
                  <a:lnTo>
                    <a:pt x="562" y="130"/>
                  </a:lnTo>
                  <a:lnTo>
                    <a:pt x="551" y="139"/>
                  </a:lnTo>
                  <a:lnTo>
                    <a:pt x="540" y="144"/>
                  </a:lnTo>
                  <a:lnTo>
                    <a:pt x="530" y="144"/>
                  </a:lnTo>
                  <a:lnTo>
                    <a:pt x="514" y="144"/>
                  </a:lnTo>
                  <a:lnTo>
                    <a:pt x="497" y="141"/>
                  </a:lnTo>
                  <a:lnTo>
                    <a:pt x="483" y="136"/>
                  </a:lnTo>
                  <a:lnTo>
                    <a:pt x="470" y="127"/>
                  </a:lnTo>
                  <a:lnTo>
                    <a:pt x="461" y="113"/>
                  </a:lnTo>
                  <a:lnTo>
                    <a:pt x="453" y="104"/>
                  </a:lnTo>
                  <a:lnTo>
                    <a:pt x="447" y="91"/>
                  </a:lnTo>
                  <a:lnTo>
                    <a:pt x="438" y="79"/>
                  </a:lnTo>
                  <a:lnTo>
                    <a:pt x="433" y="68"/>
                  </a:lnTo>
                  <a:lnTo>
                    <a:pt x="430" y="54"/>
                  </a:lnTo>
                  <a:lnTo>
                    <a:pt x="427" y="40"/>
                  </a:lnTo>
                  <a:lnTo>
                    <a:pt x="424" y="27"/>
                  </a:lnTo>
                  <a:lnTo>
                    <a:pt x="419" y="17"/>
                  </a:lnTo>
                  <a:lnTo>
                    <a:pt x="411" y="12"/>
                  </a:lnTo>
                  <a:lnTo>
                    <a:pt x="396" y="10"/>
                  </a:lnTo>
                  <a:lnTo>
                    <a:pt x="382" y="9"/>
                  </a:lnTo>
                  <a:lnTo>
                    <a:pt x="371" y="4"/>
                  </a:lnTo>
                  <a:lnTo>
                    <a:pt x="365" y="1"/>
                  </a:lnTo>
                  <a:lnTo>
                    <a:pt x="359" y="0"/>
                  </a:lnTo>
                  <a:lnTo>
                    <a:pt x="348" y="1"/>
                  </a:lnTo>
                  <a:lnTo>
                    <a:pt x="335" y="6"/>
                  </a:lnTo>
                  <a:lnTo>
                    <a:pt x="321" y="12"/>
                  </a:lnTo>
                  <a:lnTo>
                    <a:pt x="309" y="18"/>
                  </a:lnTo>
                  <a:lnTo>
                    <a:pt x="300" y="23"/>
                  </a:lnTo>
                  <a:lnTo>
                    <a:pt x="287" y="32"/>
                  </a:lnTo>
                  <a:lnTo>
                    <a:pt x="281" y="46"/>
                  </a:lnTo>
                  <a:lnTo>
                    <a:pt x="273" y="65"/>
                  </a:lnTo>
                  <a:lnTo>
                    <a:pt x="265" y="79"/>
                  </a:lnTo>
                  <a:lnTo>
                    <a:pt x="253" y="88"/>
                  </a:lnTo>
                  <a:lnTo>
                    <a:pt x="237" y="94"/>
                  </a:lnTo>
                  <a:lnTo>
                    <a:pt x="224" y="96"/>
                  </a:lnTo>
                  <a:lnTo>
                    <a:pt x="211" y="96"/>
                  </a:lnTo>
                  <a:lnTo>
                    <a:pt x="199" y="97"/>
                  </a:lnTo>
                  <a:lnTo>
                    <a:pt x="188" y="100"/>
                  </a:lnTo>
                  <a:lnTo>
                    <a:pt x="180" y="107"/>
                  </a:lnTo>
                  <a:lnTo>
                    <a:pt x="177" y="114"/>
                  </a:lnTo>
                  <a:lnTo>
                    <a:pt x="174" y="128"/>
                  </a:lnTo>
                  <a:lnTo>
                    <a:pt x="166" y="142"/>
                  </a:lnTo>
                  <a:lnTo>
                    <a:pt x="157" y="153"/>
                  </a:lnTo>
                  <a:lnTo>
                    <a:pt x="152" y="158"/>
                  </a:lnTo>
                  <a:lnTo>
                    <a:pt x="147" y="161"/>
                  </a:lnTo>
                  <a:lnTo>
                    <a:pt x="144" y="163"/>
                  </a:lnTo>
                  <a:lnTo>
                    <a:pt x="141" y="163"/>
                  </a:lnTo>
                  <a:lnTo>
                    <a:pt x="138" y="161"/>
                  </a:lnTo>
                  <a:lnTo>
                    <a:pt x="135" y="158"/>
                  </a:lnTo>
                  <a:lnTo>
                    <a:pt x="132" y="152"/>
                  </a:lnTo>
                  <a:lnTo>
                    <a:pt x="129" y="142"/>
                  </a:lnTo>
                  <a:lnTo>
                    <a:pt x="126" y="133"/>
                  </a:lnTo>
                  <a:lnTo>
                    <a:pt x="121" y="127"/>
                  </a:lnTo>
                  <a:lnTo>
                    <a:pt x="116" y="122"/>
                  </a:lnTo>
                  <a:lnTo>
                    <a:pt x="109" y="125"/>
                  </a:lnTo>
                  <a:lnTo>
                    <a:pt x="96" y="135"/>
                  </a:lnTo>
                  <a:lnTo>
                    <a:pt x="87" y="144"/>
                  </a:lnTo>
                  <a:lnTo>
                    <a:pt x="82" y="152"/>
                  </a:lnTo>
                  <a:lnTo>
                    <a:pt x="84" y="163"/>
                  </a:lnTo>
                  <a:lnTo>
                    <a:pt x="91" y="175"/>
                  </a:lnTo>
                  <a:lnTo>
                    <a:pt x="96" y="186"/>
                  </a:lnTo>
                  <a:lnTo>
                    <a:pt x="95" y="197"/>
                  </a:lnTo>
                  <a:lnTo>
                    <a:pt x="91" y="201"/>
                  </a:lnTo>
                  <a:lnTo>
                    <a:pt x="85" y="200"/>
                  </a:lnTo>
                  <a:lnTo>
                    <a:pt x="77" y="197"/>
                  </a:lnTo>
                  <a:lnTo>
                    <a:pt x="65" y="191"/>
                  </a:lnTo>
                  <a:lnTo>
                    <a:pt x="50" y="186"/>
                  </a:lnTo>
                  <a:lnTo>
                    <a:pt x="36" y="183"/>
                  </a:lnTo>
                  <a:lnTo>
                    <a:pt x="26" y="181"/>
                  </a:lnTo>
                  <a:lnTo>
                    <a:pt x="20" y="181"/>
                  </a:lnTo>
                  <a:lnTo>
                    <a:pt x="18" y="180"/>
                  </a:lnTo>
                  <a:lnTo>
                    <a:pt x="15" y="180"/>
                  </a:lnTo>
                  <a:lnTo>
                    <a:pt x="12" y="180"/>
                  </a:lnTo>
                  <a:lnTo>
                    <a:pt x="11" y="180"/>
                  </a:lnTo>
                  <a:lnTo>
                    <a:pt x="9" y="180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0"/>
            <p:cNvSpPr/>
            <p:nvPr/>
          </p:nvSpPr>
          <p:spPr>
            <a:xfrm>
              <a:off x="525240" y="5608800"/>
              <a:ext cx="51840" cy="82440"/>
            </a:xfrm>
            <a:custGeom>
              <a:avLst/>
              <a:gdLst/>
              <a:ahLst/>
              <a:rect l="l" t="t" r="r" b="b"/>
              <a:pathLst>
                <a:path w="73" h="107">
                  <a:moveTo>
                    <a:pt x="23" y="8"/>
                  </a:moveTo>
                  <a:lnTo>
                    <a:pt x="17" y="17"/>
                  </a:lnTo>
                  <a:lnTo>
                    <a:pt x="11" y="31"/>
                  </a:lnTo>
                  <a:lnTo>
                    <a:pt x="6" y="45"/>
                  </a:lnTo>
                  <a:lnTo>
                    <a:pt x="4" y="57"/>
                  </a:lnTo>
                  <a:lnTo>
                    <a:pt x="6" y="67"/>
                  </a:lnTo>
                  <a:lnTo>
                    <a:pt x="7" y="75"/>
                  </a:lnTo>
                  <a:lnTo>
                    <a:pt x="4" y="81"/>
                  </a:lnTo>
                  <a:lnTo>
                    <a:pt x="3" y="89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6" y="104"/>
                  </a:lnTo>
                  <a:lnTo>
                    <a:pt x="23" y="107"/>
                  </a:lnTo>
                  <a:lnTo>
                    <a:pt x="42" y="102"/>
                  </a:lnTo>
                  <a:lnTo>
                    <a:pt x="56" y="92"/>
                  </a:lnTo>
                  <a:lnTo>
                    <a:pt x="66" y="79"/>
                  </a:lnTo>
                  <a:lnTo>
                    <a:pt x="71" y="67"/>
                  </a:lnTo>
                  <a:lnTo>
                    <a:pt x="71" y="50"/>
                  </a:lnTo>
                  <a:lnTo>
                    <a:pt x="71" y="40"/>
                  </a:lnTo>
                  <a:lnTo>
                    <a:pt x="73" y="30"/>
                  </a:lnTo>
                  <a:lnTo>
                    <a:pt x="73" y="19"/>
                  </a:lnTo>
                  <a:lnTo>
                    <a:pt x="71" y="9"/>
                  </a:lnTo>
                  <a:lnTo>
                    <a:pt x="66" y="3"/>
                  </a:lnTo>
                  <a:lnTo>
                    <a:pt x="60" y="0"/>
                  </a:lnTo>
                  <a:lnTo>
                    <a:pt x="46" y="0"/>
                  </a:lnTo>
                  <a:lnTo>
                    <a:pt x="34" y="3"/>
                  </a:lnTo>
                  <a:lnTo>
                    <a:pt x="26" y="6"/>
                  </a:lnTo>
                  <a:lnTo>
                    <a:pt x="23" y="8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1"/>
            <p:cNvSpPr/>
            <p:nvPr/>
          </p:nvSpPr>
          <p:spPr>
            <a:xfrm>
              <a:off x="584640" y="5610240"/>
              <a:ext cx="47520" cy="4212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0" y="36"/>
                  </a:moveTo>
                  <a:lnTo>
                    <a:pt x="2" y="25"/>
                  </a:lnTo>
                  <a:lnTo>
                    <a:pt x="6" y="17"/>
                  </a:lnTo>
                  <a:lnTo>
                    <a:pt x="14" y="11"/>
                  </a:lnTo>
                  <a:lnTo>
                    <a:pt x="25" y="8"/>
                  </a:lnTo>
                  <a:lnTo>
                    <a:pt x="34" y="6"/>
                  </a:lnTo>
                  <a:lnTo>
                    <a:pt x="44" y="3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4" y="2"/>
                  </a:lnTo>
                  <a:lnTo>
                    <a:pt x="65" y="8"/>
                  </a:lnTo>
                  <a:lnTo>
                    <a:pt x="64" y="20"/>
                  </a:lnTo>
                  <a:lnTo>
                    <a:pt x="61" y="33"/>
                  </a:lnTo>
                  <a:lnTo>
                    <a:pt x="57" y="44"/>
                  </a:lnTo>
                  <a:lnTo>
                    <a:pt x="51" y="51"/>
                  </a:lnTo>
                  <a:lnTo>
                    <a:pt x="44" y="54"/>
                  </a:lnTo>
                  <a:lnTo>
                    <a:pt x="34" y="51"/>
                  </a:lnTo>
                  <a:lnTo>
                    <a:pt x="26" y="47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9" y="40"/>
                  </a:lnTo>
                  <a:lnTo>
                    <a:pt x="5" y="40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2"/>
            <p:cNvSpPr/>
            <p:nvPr/>
          </p:nvSpPr>
          <p:spPr>
            <a:xfrm>
              <a:off x="250920" y="5510160"/>
              <a:ext cx="63360" cy="5436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0" y="60"/>
                  </a:moveTo>
                  <a:lnTo>
                    <a:pt x="3" y="51"/>
                  </a:lnTo>
                  <a:lnTo>
                    <a:pt x="3" y="39"/>
                  </a:lnTo>
                  <a:lnTo>
                    <a:pt x="3" y="26"/>
                  </a:lnTo>
                  <a:lnTo>
                    <a:pt x="5" y="15"/>
                  </a:lnTo>
                  <a:lnTo>
                    <a:pt x="9" y="8"/>
                  </a:lnTo>
                  <a:lnTo>
                    <a:pt x="17" y="6"/>
                  </a:lnTo>
                  <a:lnTo>
                    <a:pt x="23" y="9"/>
                  </a:lnTo>
                  <a:lnTo>
                    <a:pt x="31" y="14"/>
                  </a:lnTo>
                  <a:lnTo>
                    <a:pt x="37" y="17"/>
                  </a:lnTo>
                  <a:lnTo>
                    <a:pt x="45" y="17"/>
                  </a:lnTo>
                  <a:lnTo>
                    <a:pt x="48" y="15"/>
                  </a:lnTo>
                  <a:lnTo>
                    <a:pt x="50" y="12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4" y="4"/>
                  </a:lnTo>
                  <a:lnTo>
                    <a:pt x="56" y="1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1"/>
                  </a:lnTo>
                  <a:lnTo>
                    <a:pt x="65" y="4"/>
                  </a:lnTo>
                  <a:lnTo>
                    <a:pt x="73" y="15"/>
                  </a:lnTo>
                  <a:lnTo>
                    <a:pt x="81" y="26"/>
                  </a:lnTo>
                  <a:lnTo>
                    <a:pt x="87" y="37"/>
                  </a:lnTo>
                  <a:lnTo>
                    <a:pt x="89" y="46"/>
                  </a:lnTo>
                  <a:lnTo>
                    <a:pt x="89" y="54"/>
                  </a:lnTo>
                  <a:lnTo>
                    <a:pt x="82" y="57"/>
                  </a:lnTo>
                  <a:lnTo>
                    <a:pt x="72" y="57"/>
                  </a:lnTo>
                  <a:lnTo>
                    <a:pt x="59" y="59"/>
                  </a:lnTo>
                  <a:lnTo>
                    <a:pt x="47" y="60"/>
                  </a:lnTo>
                  <a:lnTo>
                    <a:pt x="37" y="65"/>
                  </a:lnTo>
                  <a:lnTo>
                    <a:pt x="30" y="70"/>
                  </a:lnTo>
                  <a:lnTo>
                    <a:pt x="20" y="70"/>
                  </a:lnTo>
                  <a:lnTo>
                    <a:pt x="11" y="67"/>
                  </a:lnTo>
                  <a:lnTo>
                    <a:pt x="3" y="62"/>
                  </a:lnTo>
                  <a:lnTo>
                    <a:pt x="0" y="60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3"/>
            <p:cNvSpPr/>
            <p:nvPr/>
          </p:nvSpPr>
          <p:spPr>
            <a:xfrm>
              <a:off x="687240" y="6080760"/>
              <a:ext cx="56160" cy="129600"/>
            </a:xfrm>
            <a:custGeom>
              <a:avLst/>
              <a:gdLst/>
              <a:ahLst/>
              <a:rect l="l" t="t" r="r" b="b"/>
              <a:pathLst>
                <a:path w="78" h="166">
                  <a:moveTo>
                    <a:pt x="5" y="166"/>
                  </a:moveTo>
                  <a:lnTo>
                    <a:pt x="0" y="152"/>
                  </a:lnTo>
                  <a:lnTo>
                    <a:pt x="3" y="140"/>
                  </a:lnTo>
                  <a:lnTo>
                    <a:pt x="8" y="127"/>
                  </a:lnTo>
                  <a:lnTo>
                    <a:pt x="15" y="115"/>
                  </a:lnTo>
                  <a:lnTo>
                    <a:pt x="20" y="103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9" y="64"/>
                  </a:lnTo>
                  <a:lnTo>
                    <a:pt x="33" y="48"/>
                  </a:lnTo>
                  <a:lnTo>
                    <a:pt x="37" y="36"/>
                  </a:lnTo>
                  <a:lnTo>
                    <a:pt x="43" y="26"/>
                  </a:lnTo>
                  <a:lnTo>
                    <a:pt x="53" y="17"/>
                  </a:lnTo>
                  <a:lnTo>
                    <a:pt x="59" y="11"/>
                  </a:lnTo>
                  <a:lnTo>
                    <a:pt x="64" y="6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2"/>
                  </a:lnTo>
                  <a:lnTo>
                    <a:pt x="73" y="6"/>
                  </a:lnTo>
                  <a:lnTo>
                    <a:pt x="74" y="17"/>
                  </a:lnTo>
                  <a:lnTo>
                    <a:pt x="78" y="30"/>
                  </a:lnTo>
                  <a:lnTo>
                    <a:pt x="78" y="44"/>
                  </a:lnTo>
                  <a:lnTo>
                    <a:pt x="73" y="59"/>
                  </a:lnTo>
                  <a:lnTo>
                    <a:pt x="56" y="87"/>
                  </a:lnTo>
                  <a:lnTo>
                    <a:pt x="42" y="116"/>
                  </a:lnTo>
                  <a:lnTo>
                    <a:pt x="39" y="127"/>
                  </a:lnTo>
                  <a:lnTo>
                    <a:pt x="39" y="137"/>
                  </a:lnTo>
                  <a:lnTo>
                    <a:pt x="39" y="146"/>
                  </a:lnTo>
                  <a:lnTo>
                    <a:pt x="37" y="152"/>
                  </a:lnTo>
                  <a:lnTo>
                    <a:pt x="33" y="157"/>
                  </a:lnTo>
                  <a:lnTo>
                    <a:pt x="19" y="162"/>
                  </a:lnTo>
                  <a:lnTo>
                    <a:pt x="9" y="165"/>
                  </a:lnTo>
                  <a:lnTo>
                    <a:pt x="5" y="166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4"/>
            <p:cNvSpPr/>
            <p:nvPr/>
          </p:nvSpPr>
          <p:spPr>
            <a:xfrm>
              <a:off x="581760" y="6173280"/>
              <a:ext cx="66240" cy="6372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0" y="33"/>
                  </a:moveTo>
                  <a:lnTo>
                    <a:pt x="3" y="44"/>
                  </a:lnTo>
                  <a:lnTo>
                    <a:pt x="10" y="56"/>
                  </a:lnTo>
                  <a:lnTo>
                    <a:pt x="16" y="67"/>
                  </a:lnTo>
                  <a:lnTo>
                    <a:pt x="25" y="73"/>
                  </a:lnTo>
                  <a:lnTo>
                    <a:pt x="33" y="78"/>
                  </a:lnTo>
                  <a:lnTo>
                    <a:pt x="44" y="82"/>
                  </a:lnTo>
                  <a:lnTo>
                    <a:pt x="55" y="84"/>
                  </a:lnTo>
                  <a:lnTo>
                    <a:pt x="64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6" y="64"/>
                  </a:lnTo>
                  <a:lnTo>
                    <a:pt x="90" y="56"/>
                  </a:lnTo>
                  <a:lnTo>
                    <a:pt x="94" y="48"/>
                  </a:lnTo>
                  <a:lnTo>
                    <a:pt x="92" y="39"/>
                  </a:lnTo>
                  <a:lnTo>
                    <a:pt x="83" y="26"/>
                  </a:lnTo>
                  <a:lnTo>
                    <a:pt x="69" y="17"/>
                  </a:lnTo>
                  <a:lnTo>
                    <a:pt x="53" y="8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4" y="5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2" y="30"/>
                  </a:lnTo>
                  <a:lnTo>
                    <a:pt x="0" y="33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5"/>
            <p:cNvSpPr/>
            <p:nvPr/>
          </p:nvSpPr>
          <p:spPr>
            <a:xfrm>
              <a:off x="983520" y="5141160"/>
              <a:ext cx="559080" cy="451800"/>
            </a:xfrm>
            <a:custGeom>
              <a:avLst/>
              <a:gdLst/>
              <a:ahLst/>
              <a:rect l="l" t="t" r="r" b="b"/>
              <a:pathLst>
                <a:path w="774" h="577">
                  <a:moveTo>
                    <a:pt x="237" y="556"/>
                  </a:moveTo>
                  <a:lnTo>
                    <a:pt x="233" y="557"/>
                  </a:lnTo>
                  <a:lnTo>
                    <a:pt x="227" y="560"/>
                  </a:lnTo>
                  <a:lnTo>
                    <a:pt x="218" y="563"/>
                  </a:lnTo>
                  <a:lnTo>
                    <a:pt x="207" y="565"/>
                  </a:lnTo>
                  <a:lnTo>
                    <a:pt x="193" y="563"/>
                  </a:lnTo>
                  <a:lnTo>
                    <a:pt x="176" y="557"/>
                  </a:lnTo>
                  <a:lnTo>
                    <a:pt x="164" y="549"/>
                  </a:lnTo>
                  <a:lnTo>
                    <a:pt x="160" y="542"/>
                  </a:lnTo>
                  <a:lnTo>
                    <a:pt x="165" y="534"/>
                  </a:lnTo>
                  <a:lnTo>
                    <a:pt x="171" y="525"/>
                  </a:lnTo>
                  <a:lnTo>
                    <a:pt x="176" y="517"/>
                  </a:lnTo>
                  <a:lnTo>
                    <a:pt x="174" y="507"/>
                  </a:lnTo>
                  <a:lnTo>
                    <a:pt x="167" y="501"/>
                  </a:lnTo>
                  <a:lnTo>
                    <a:pt x="150" y="498"/>
                  </a:lnTo>
                  <a:lnTo>
                    <a:pt x="137" y="500"/>
                  </a:lnTo>
                  <a:lnTo>
                    <a:pt x="128" y="503"/>
                  </a:lnTo>
                  <a:lnTo>
                    <a:pt x="122" y="506"/>
                  </a:lnTo>
                  <a:lnTo>
                    <a:pt x="117" y="506"/>
                  </a:lnTo>
                  <a:lnTo>
                    <a:pt x="114" y="498"/>
                  </a:lnTo>
                  <a:lnTo>
                    <a:pt x="114" y="487"/>
                  </a:lnTo>
                  <a:lnTo>
                    <a:pt x="115" y="478"/>
                  </a:lnTo>
                  <a:lnTo>
                    <a:pt x="117" y="470"/>
                  </a:lnTo>
                  <a:lnTo>
                    <a:pt x="119" y="459"/>
                  </a:lnTo>
                  <a:lnTo>
                    <a:pt x="119" y="456"/>
                  </a:lnTo>
                  <a:lnTo>
                    <a:pt x="117" y="453"/>
                  </a:lnTo>
                  <a:lnTo>
                    <a:pt x="115" y="452"/>
                  </a:lnTo>
                  <a:lnTo>
                    <a:pt x="112" y="450"/>
                  </a:lnTo>
                  <a:lnTo>
                    <a:pt x="109" y="448"/>
                  </a:lnTo>
                  <a:lnTo>
                    <a:pt x="106" y="448"/>
                  </a:lnTo>
                  <a:lnTo>
                    <a:pt x="103" y="448"/>
                  </a:lnTo>
                  <a:lnTo>
                    <a:pt x="101" y="448"/>
                  </a:lnTo>
                  <a:lnTo>
                    <a:pt x="100" y="448"/>
                  </a:lnTo>
                  <a:lnTo>
                    <a:pt x="101" y="447"/>
                  </a:lnTo>
                  <a:lnTo>
                    <a:pt x="105" y="441"/>
                  </a:lnTo>
                  <a:lnTo>
                    <a:pt x="109" y="435"/>
                  </a:lnTo>
                  <a:lnTo>
                    <a:pt x="112" y="427"/>
                  </a:lnTo>
                  <a:lnTo>
                    <a:pt x="114" y="424"/>
                  </a:lnTo>
                  <a:lnTo>
                    <a:pt x="114" y="422"/>
                  </a:lnTo>
                  <a:lnTo>
                    <a:pt x="112" y="421"/>
                  </a:lnTo>
                  <a:lnTo>
                    <a:pt x="109" y="419"/>
                  </a:lnTo>
                  <a:lnTo>
                    <a:pt x="106" y="416"/>
                  </a:lnTo>
                  <a:lnTo>
                    <a:pt x="103" y="413"/>
                  </a:lnTo>
                  <a:lnTo>
                    <a:pt x="98" y="411"/>
                  </a:lnTo>
                  <a:lnTo>
                    <a:pt x="95" y="410"/>
                  </a:lnTo>
                  <a:lnTo>
                    <a:pt x="94" y="408"/>
                  </a:lnTo>
                  <a:lnTo>
                    <a:pt x="92" y="408"/>
                  </a:lnTo>
                  <a:lnTo>
                    <a:pt x="94" y="408"/>
                  </a:lnTo>
                  <a:lnTo>
                    <a:pt x="95" y="408"/>
                  </a:lnTo>
                  <a:lnTo>
                    <a:pt x="97" y="407"/>
                  </a:lnTo>
                  <a:lnTo>
                    <a:pt x="100" y="407"/>
                  </a:lnTo>
                  <a:lnTo>
                    <a:pt x="103" y="405"/>
                  </a:lnTo>
                  <a:lnTo>
                    <a:pt x="106" y="402"/>
                  </a:lnTo>
                  <a:lnTo>
                    <a:pt x="109" y="397"/>
                  </a:lnTo>
                  <a:lnTo>
                    <a:pt x="112" y="389"/>
                  </a:lnTo>
                  <a:lnTo>
                    <a:pt x="115" y="385"/>
                  </a:lnTo>
                  <a:lnTo>
                    <a:pt x="119" y="379"/>
                  </a:lnTo>
                  <a:lnTo>
                    <a:pt x="117" y="374"/>
                  </a:lnTo>
                  <a:lnTo>
                    <a:pt x="111" y="368"/>
                  </a:lnTo>
                  <a:lnTo>
                    <a:pt x="100" y="358"/>
                  </a:lnTo>
                  <a:lnTo>
                    <a:pt x="94" y="349"/>
                  </a:lnTo>
                  <a:lnTo>
                    <a:pt x="92" y="334"/>
                  </a:lnTo>
                  <a:lnTo>
                    <a:pt x="89" y="323"/>
                  </a:lnTo>
                  <a:lnTo>
                    <a:pt x="83" y="317"/>
                  </a:lnTo>
                  <a:lnTo>
                    <a:pt x="75" y="315"/>
                  </a:lnTo>
                  <a:lnTo>
                    <a:pt x="66" y="317"/>
                  </a:lnTo>
                  <a:lnTo>
                    <a:pt x="59" y="321"/>
                  </a:lnTo>
                  <a:lnTo>
                    <a:pt x="49" y="326"/>
                  </a:lnTo>
                  <a:lnTo>
                    <a:pt x="36" y="332"/>
                  </a:lnTo>
                  <a:lnTo>
                    <a:pt x="22" y="337"/>
                  </a:lnTo>
                  <a:lnTo>
                    <a:pt x="11" y="341"/>
                  </a:lnTo>
                  <a:lnTo>
                    <a:pt x="4" y="343"/>
                  </a:lnTo>
                  <a:lnTo>
                    <a:pt x="0" y="341"/>
                  </a:lnTo>
                  <a:lnTo>
                    <a:pt x="4" y="335"/>
                  </a:lnTo>
                  <a:lnTo>
                    <a:pt x="10" y="326"/>
                  </a:lnTo>
                  <a:lnTo>
                    <a:pt x="18" y="317"/>
                  </a:lnTo>
                  <a:lnTo>
                    <a:pt x="28" y="307"/>
                  </a:lnTo>
                  <a:lnTo>
                    <a:pt x="39" y="299"/>
                  </a:lnTo>
                  <a:lnTo>
                    <a:pt x="47" y="296"/>
                  </a:lnTo>
                  <a:lnTo>
                    <a:pt x="55" y="295"/>
                  </a:lnTo>
                  <a:lnTo>
                    <a:pt x="63" y="295"/>
                  </a:lnTo>
                  <a:lnTo>
                    <a:pt x="69" y="295"/>
                  </a:lnTo>
                  <a:lnTo>
                    <a:pt x="77" y="293"/>
                  </a:lnTo>
                  <a:lnTo>
                    <a:pt x="89" y="287"/>
                  </a:lnTo>
                  <a:lnTo>
                    <a:pt x="100" y="279"/>
                  </a:lnTo>
                  <a:lnTo>
                    <a:pt x="106" y="270"/>
                  </a:lnTo>
                  <a:lnTo>
                    <a:pt x="112" y="261"/>
                  </a:lnTo>
                  <a:lnTo>
                    <a:pt x="120" y="253"/>
                  </a:lnTo>
                  <a:lnTo>
                    <a:pt x="131" y="247"/>
                  </a:lnTo>
                  <a:lnTo>
                    <a:pt x="145" y="245"/>
                  </a:lnTo>
                  <a:lnTo>
                    <a:pt x="154" y="247"/>
                  </a:lnTo>
                  <a:lnTo>
                    <a:pt x="162" y="247"/>
                  </a:lnTo>
                  <a:lnTo>
                    <a:pt x="170" y="244"/>
                  </a:lnTo>
                  <a:lnTo>
                    <a:pt x="176" y="234"/>
                  </a:lnTo>
                  <a:lnTo>
                    <a:pt x="181" y="219"/>
                  </a:lnTo>
                  <a:lnTo>
                    <a:pt x="182" y="203"/>
                  </a:lnTo>
                  <a:lnTo>
                    <a:pt x="184" y="189"/>
                  </a:lnTo>
                  <a:lnTo>
                    <a:pt x="187" y="178"/>
                  </a:lnTo>
                  <a:lnTo>
                    <a:pt x="193" y="163"/>
                  </a:lnTo>
                  <a:lnTo>
                    <a:pt x="201" y="149"/>
                  </a:lnTo>
                  <a:lnTo>
                    <a:pt x="209" y="136"/>
                  </a:lnTo>
                  <a:lnTo>
                    <a:pt x="219" y="129"/>
                  </a:lnTo>
                  <a:lnTo>
                    <a:pt x="232" y="121"/>
                  </a:lnTo>
                  <a:lnTo>
                    <a:pt x="244" y="112"/>
                  </a:lnTo>
                  <a:lnTo>
                    <a:pt x="251" y="102"/>
                  </a:lnTo>
                  <a:lnTo>
                    <a:pt x="255" y="94"/>
                  </a:lnTo>
                  <a:lnTo>
                    <a:pt x="258" y="88"/>
                  </a:lnTo>
                  <a:lnTo>
                    <a:pt x="263" y="84"/>
                  </a:lnTo>
                  <a:lnTo>
                    <a:pt x="268" y="85"/>
                  </a:lnTo>
                  <a:lnTo>
                    <a:pt x="277" y="93"/>
                  </a:lnTo>
                  <a:lnTo>
                    <a:pt x="285" y="105"/>
                  </a:lnTo>
                  <a:lnTo>
                    <a:pt x="291" y="118"/>
                  </a:lnTo>
                  <a:lnTo>
                    <a:pt x="296" y="129"/>
                  </a:lnTo>
                  <a:lnTo>
                    <a:pt x="300" y="139"/>
                  </a:lnTo>
                  <a:lnTo>
                    <a:pt x="305" y="149"/>
                  </a:lnTo>
                  <a:lnTo>
                    <a:pt x="311" y="158"/>
                  </a:lnTo>
                  <a:lnTo>
                    <a:pt x="319" y="161"/>
                  </a:lnTo>
                  <a:lnTo>
                    <a:pt x="328" y="160"/>
                  </a:lnTo>
                  <a:lnTo>
                    <a:pt x="338" y="153"/>
                  </a:lnTo>
                  <a:lnTo>
                    <a:pt x="347" y="146"/>
                  </a:lnTo>
                  <a:lnTo>
                    <a:pt x="358" y="141"/>
                  </a:lnTo>
                  <a:lnTo>
                    <a:pt x="372" y="138"/>
                  </a:lnTo>
                  <a:lnTo>
                    <a:pt x="387" y="138"/>
                  </a:lnTo>
                  <a:lnTo>
                    <a:pt x="404" y="138"/>
                  </a:lnTo>
                  <a:lnTo>
                    <a:pt x="418" y="138"/>
                  </a:lnTo>
                  <a:lnTo>
                    <a:pt x="431" y="136"/>
                  </a:lnTo>
                  <a:lnTo>
                    <a:pt x="440" y="132"/>
                  </a:lnTo>
                  <a:lnTo>
                    <a:pt x="448" y="119"/>
                  </a:lnTo>
                  <a:lnTo>
                    <a:pt x="454" y="107"/>
                  </a:lnTo>
                  <a:lnTo>
                    <a:pt x="459" y="91"/>
                  </a:lnTo>
                  <a:lnTo>
                    <a:pt x="463" y="77"/>
                  </a:lnTo>
                  <a:lnTo>
                    <a:pt x="466" y="67"/>
                  </a:lnTo>
                  <a:lnTo>
                    <a:pt x="470" y="60"/>
                  </a:lnTo>
                  <a:lnTo>
                    <a:pt x="474" y="56"/>
                  </a:lnTo>
                  <a:lnTo>
                    <a:pt x="484" y="49"/>
                  </a:lnTo>
                  <a:lnTo>
                    <a:pt x="494" y="40"/>
                  </a:lnTo>
                  <a:lnTo>
                    <a:pt x="510" y="32"/>
                  </a:lnTo>
                  <a:lnTo>
                    <a:pt x="524" y="26"/>
                  </a:lnTo>
                  <a:lnTo>
                    <a:pt x="535" y="21"/>
                  </a:lnTo>
                  <a:lnTo>
                    <a:pt x="543" y="15"/>
                  </a:lnTo>
                  <a:lnTo>
                    <a:pt x="546" y="11"/>
                  </a:lnTo>
                  <a:lnTo>
                    <a:pt x="547" y="7"/>
                  </a:lnTo>
                  <a:lnTo>
                    <a:pt x="547" y="4"/>
                  </a:lnTo>
                  <a:lnTo>
                    <a:pt x="549" y="3"/>
                  </a:lnTo>
                  <a:lnTo>
                    <a:pt x="549" y="1"/>
                  </a:lnTo>
                  <a:lnTo>
                    <a:pt x="550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8" y="1"/>
                  </a:lnTo>
                  <a:lnTo>
                    <a:pt x="569" y="6"/>
                  </a:lnTo>
                  <a:lnTo>
                    <a:pt x="583" y="11"/>
                  </a:lnTo>
                  <a:lnTo>
                    <a:pt x="597" y="12"/>
                  </a:lnTo>
                  <a:lnTo>
                    <a:pt x="609" y="9"/>
                  </a:lnTo>
                  <a:lnTo>
                    <a:pt x="613" y="7"/>
                  </a:lnTo>
                  <a:lnTo>
                    <a:pt x="616" y="4"/>
                  </a:lnTo>
                  <a:lnTo>
                    <a:pt x="617" y="4"/>
                  </a:lnTo>
                  <a:lnTo>
                    <a:pt x="619" y="4"/>
                  </a:lnTo>
                  <a:lnTo>
                    <a:pt x="620" y="6"/>
                  </a:lnTo>
                  <a:lnTo>
                    <a:pt x="622" y="7"/>
                  </a:lnTo>
                  <a:lnTo>
                    <a:pt x="625" y="11"/>
                  </a:lnTo>
                  <a:lnTo>
                    <a:pt x="630" y="15"/>
                  </a:lnTo>
                  <a:lnTo>
                    <a:pt x="637" y="21"/>
                  </a:lnTo>
                  <a:lnTo>
                    <a:pt x="644" y="25"/>
                  </a:lnTo>
                  <a:lnTo>
                    <a:pt x="648" y="28"/>
                  </a:lnTo>
                  <a:lnTo>
                    <a:pt x="656" y="32"/>
                  </a:lnTo>
                  <a:lnTo>
                    <a:pt x="665" y="40"/>
                  </a:lnTo>
                  <a:lnTo>
                    <a:pt x="682" y="53"/>
                  </a:lnTo>
                  <a:lnTo>
                    <a:pt x="695" y="59"/>
                  </a:lnTo>
                  <a:lnTo>
                    <a:pt x="704" y="60"/>
                  </a:lnTo>
                  <a:lnTo>
                    <a:pt x="710" y="57"/>
                  </a:lnTo>
                  <a:lnTo>
                    <a:pt x="720" y="56"/>
                  </a:lnTo>
                  <a:lnTo>
                    <a:pt x="731" y="56"/>
                  </a:lnTo>
                  <a:lnTo>
                    <a:pt x="740" y="62"/>
                  </a:lnTo>
                  <a:lnTo>
                    <a:pt x="748" y="74"/>
                  </a:lnTo>
                  <a:lnTo>
                    <a:pt x="751" y="90"/>
                  </a:lnTo>
                  <a:lnTo>
                    <a:pt x="748" y="108"/>
                  </a:lnTo>
                  <a:lnTo>
                    <a:pt x="745" y="121"/>
                  </a:lnTo>
                  <a:lnTo>
                    <a:pt x="743" y="129"/>
                  </a:lnTo>
                  <a:lnTo>
                    <a:pt x="746" y="136"/>
                  </a:lnTo>
                  <a:lnTo>
                    <a:pt x="752" y="146"/>
                  </a:lnTo>
                  <a:lnTo>
                    <a:pt x="757" y="155"/>
                  </a:lnTo>
                  <a:lnTo>
                    <a:pt x="759" y="167"/>
                  </a:lnTo>
                  <a:lnTo>
                    <a:pt x="760" y="180"/>
                  </a:lnTo>
                  <a:lnTo>
                    <a:pt x="763" y="192"/>
                  </a:lnTo>
                  <a:lnTo>
                    <a:pt x="768" y="200"/>
                  </a:lnTo>
                  <a:lnTo>
                    <a:pt x="773" y="205"/>
                  </a:lnTo>
                  <a:lnTo>
                    <a:pt x="774" y="209"/>
                  </a:lnTo>
                  <a:lnTo>
                    <a:pt x="773" y="212"/>
                  </a:lnTo>
                  <a:lnTo>
                    <a:pt x="771" y="217"/>
                  </a:lnTo>
                  <a:lnTo>
                    <a:pt x="768" y="220"/>
                  </a:lnTo>
                  <a:lnTo>
                    <a:pt x="762" y="223"/>
                  </a:lnTo>
                  <a:lnTo>
                    <a:pt x="757" y="225"/>
                  </a:lnTo>
                  <a:lnTo>
                    <a:pt x="740" y="233"/>
                  </a:lnTo>
                  <a:lnTo>
                    <a:pt x="721" y="244"/>
                  </a:lnTo>
                  <a:lnTo>
                    <a:pt x="703" y="257"/>
                  </a:lnTo>
                  <a:lnTo>
                    <a:pt x="690" y="267"/>
                  </a:lnTo>
                  <a:lnTo>
                    <a:pt x="682" y="275"/>
                  </a:lnTo>
                  <a:lnTo>
                    <a:pt x="673" y="282"/>
                  </a:lnTo>
                  <a:lnTo>
                    <a:pt x="665" y="296"/>
                  </a:lnTo>
                  <a:lnTo>
                    <a:pt x="653" y="313"/>
                  </a:lnTo>
                  <a:lnTo>
                    <a:pt x="642" y="330"/>
                  </a:lnTo>
                  <a:lnTo>
                    <a:pt x="633" y="349"/>
                  </a:lnTo>
                  <a:lnTo>
                    <a:pt x="628" y="363"/>
                  </a:lnTo>
                  <a:lnTo>
                    <a:pt x="626" y="376"/>
                  </a:lnTo>
                  <a:lnTo>
                    <a:pt x="625" y="385"/>
                  </a:lnTo>
                  <a:lnTo>
                    <a:pt x="625" y="393"/>
                  </a:lnTo>
                  <a:lnTo>
                    <a:pt x="620" y="397"/>
                  </a:lnTo>
                  <a:lnTo>
                    <a:pt x="611" y="400"/>
                  </a:lnTo>
                  <a:lnTo>
                    <a:pt x="602" y="402"/>
                  </a:lnTo>
                  <a:lnTo>
                    <a:pt x="591" y="397"/>
                  </a:lnTo>
                  <a:lnTo>
                    <a:pt x="580" y="385"/>
                  </a:lnTo>
                  <a:lnTo>
                    <a:pt x="572" y="369"/>
                  </a:lnTo>
                  <a:lnTo>
                    <a:pt x="564" y="355"/>
                  </a:lnTo>
                  <a:lnTo>
                    <a:pt x="555" y="343"/>
                  </a:lnTo>
                  <a:lnTo>
                    <a:pt x="539" y="334"/>
                  </a:lnTo>
                  <a:lnTo>
                    <a:pt x="518" y="323"/>
                  </a:lnTo>
                  <a:lnTo>
                    <a:pt x="499" y="313"/>
                  </a:lnTo>
                  <a:lnTo>
                    <a:pt x="482" y="307"/>
                  </a:lnTo>
                  <a:lnTo>
                    <a:pt x="471" y="304"/>
                  </a:lnTo>
                  <a:lnTo>
                    <a:pt x="460" y="304"/>
                  </a:lnTo>
                  <a:lnTo>
                    <a:pt x="449" y="307"/>
                  </a:lnTo>
                  <a:lnTo>
                    <a:pt x="437" y="315"/>
                  </a:lnTo>
                  <a:lnTo>
                    <a:pt x="420" y="329"/>
                  </a:lnTo>
                  <a:lnTo>
                    <a:pt x="404" y="341"/>
                  </a:lnTo>
                  <a:lnTo>
                    <a:pt x="389" y="346"/>
                  </a:lnTo>
                  <a:lnTo>
                    <a:pt x="383" y="346"/>
                  </a:lnTo>
                  <a:lnTo>
                    <a:pt x="378" y="346"/>
                  </a:lnTo>
                  <a:lnTo>
                    <a:pt x="375" y="346"/>
                  </a:lnTo>
                  <a:lnTo>
                    <a:pt x="370" y="351"/>
                  </a:lnTo>
                  <a:lnTo>
                    <a:pt x="364" y="360"/>
                  </a:lnTo>
                  <a:lnTo>
                    <a:pt x="358" y="374"/>
                  </a:lnTo>
                  <a:lnTo>
                    <a:pt x="355" y="386"/>
                  </a:lnTo>
                  <a:lnTo>
                    <a:pt x="352" y="399"/>
                  </a:lnTo>
                  <a:lnTo>
                    <a:pt x="342" y="413"/>
                  </a:lnTo>
                  <a:lnTo>
                    <a:pt x="327" y="431"/>
                  </a:lnTo>
                  <a:lnTo>
                    <a:pt x="314" y="448"/>
                  </a:lnTo>
                  <a:lnTo>
                    <a:pt x="302" y="462"/>
                  </a:lnTo>
                  <a:lnTo>
                    <a:pt x="297" y="467"/>
                  </a:lnTo>
                  <a:lnTo>
                    <a:pt x="293" y="469"/>
                  </a:lnTo>
                  <a:lnTo>
                    <a:pt x="289" y="470"/>
                  </a:lnTo>
                  <a:lnTo>
                    <a:pt x="286" y="472"/>
                  </a:lnTo>
                  <a:lnTo>
                    <a:pt x="283" y="473"/>
                  </a:lnTo>
                  <a:lnTo>
                    <a:pt x="280" y="475"/>
                  </a:lnTo>
                  <a:lnTo>
                    <a:pt x="279" y="478"/>
                  </a:lnTo>
                  <a:lnTo>
                    <a:pt x="277" y="483"/>
                  </a:lnTo>
                  <a:lnTo>
                    <a:pt x="275" y="492"/>
                  </a:lnTo>
                  <a:lnTo>
                    <a:pt x="275" y="503"/>
                  </a:lnTo>
                  <a:lnTo>
                    <a:pt x="274" y="514"/>
                  </a:lnTo>
                  <a:lnTo>
                    <a:pt x="269" y="523"/>
                  </a:lnTo>
                  <a:lnTo>
                    <a:pt x="265" y="529"/>
                  </a:lnTo>
                  <a:lnTo>
                    <a:pt x="260" y="531"/>
                  </a:lnTo>
                  <a:lnTo>
                    <a:pt x="255" y="534"/>
                  </a:lnTo>
                  <a:lnTo>
                    <a:pt x="254" y="539"/>
                  </a:lnTo>
                  <a:lnTo>
                    <a:pt x="252" y="542"/>
                  </a:lnTo>
                  <a:lnTo>
                    <a:pt x="252" y="545"/>
                  </a:lnTo>
                  <a:lnTo>
                    <a:pt x="254" y="549"/>
                  </a:lnTo>
                  <a:lnTo>
                    <a:pt x="258" y="553"/>
                  </a:lnTo>
                  <a:lnTo>
                    <a:pt x="266" y="557"/>
                  </a:lnTo>
                  <a:lnTo>
                    <a:pt x="275" y="562"/>
                  </a:lnTo>
                  <a:lnTo>
                    <a:pt x="282" y="568"/>
                  </a:lnTo>
                  <a:lnTo>
                    <a:pt x="285" y="574"/>
                  </a:lnTo>
                  <a:lnTo>
                    <a:pt x="280" y="577"/>
                  </a:lnTo>
                  <a:lnTo>
                    <a:pt x="271" y="577"/>
                  </a:lnTo>
                  <a:lnTo>
                    <a:pt x="261" y="574"/>
                  </a:lnTo>
                  <a:lnTo>
                    <a:pt x="252" y="568"/>
                  </a:lnTo>
                  <a:lnTo>
                    <a:pt x="244" y="563"/>
                  </a:lnTo>
                  <a:lnTo>
                    <a:pt x="238" y="559"/>
                  </a:lnTo>
                  <a:lnTo>
                    <a:pt x="237" y="556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6"/>
            <p:cNvSpPr/>
            <p:nvPr/>
          </p:nvSpPr>
          <p:spPr>
            <a:xfrm>
              <a:off x="741960" y="3189600"/>
              <a:ext cx="2260440" cy="2212560"/>
            </a:xfrm>
            <a:custGeom>
              <a:avLst/>
              <a:gdLst/>
              <a:ahLst/>
              <a:rect l="l" t="t" r="r" b="b"/>
              <a:pathLst>
                <a:path w="3129" h="2831">
                  <a:moveTo>
                    <a:pt x="18" y="2610"/>
                  </a:moveTo>
                  <a:lnTo>
                    <a:pt x="18" y="2612"/>
                  </a:lnTo>
                  <a:lnTo>
                    <a:pt x="16" y="2612"/>
                  </a:lnTo>
                  <a:lnTo>
                    <a:pt x="16" y="2612"/>
                  </a:lnTo>
                  <a:lnTo>
                    <a:pt x="14" y="2610"/>
                  </a:lnTo>
                  <a:lnTo>
                    <a:pt x="13" y="2609"/>
                  </a:lnTo>
                  <a:lnTo>
                    <a:pt x="11" y="2605"/>
                  </a:lnTo>
                  <a:lnTo>
                    <a:pt x="8" y="2601"/>
                  </a:lnTo>
                  <a:lnTo>
                    <a:pt x="7" y="2593"/>
                  </a:lnTo>
                  <a:lnTo>
                    <a:pt x="4" y="2577"/>
                  </a:lnTo>
                  <a:lnTo>
                    <a:pt x="0" y="2567"/>
                  </a:lnTo>
                  <a:lnTo>
                    <a:pt x="0" y="2557"/>
                  </a:lnTo>
                  <a:lnTo>
                    <a:pt x="7" y="2548"/>
                  </a:lnTo>
                  <a:lnTo>
                    <a:pt x="14" y="2539"/>
                  </a:lnTo>
                  <a:lnTo>
                    <a:pt x="18" y="2532"/>
                  </a:lnTo>
                  <a:lnTo>
                    <a:pt x="18" y="2525"/>
                  </a:lnTo>
                  <a:lnTo>
                    <a:pt x="16" y="2515"/>
                  </a:lnTo>
                  <a:lnTo>
                    <a:pt x="14" y="2500"/>
                  </a:lnTo>
                  <a:lnTo>
                    <a:pt x="16" y="2486"/>
                  </a:lnTo>
                  <a:lnTo>
                    <a:pt x="24" y="2472"/>
                  </a:lnTo>
                  <a:lnTo>
                    <a:pt x="32" y="2463"/>
                  </a:lnTo>
                  <a:lnTo>
                    <a:pt x="41" y="2458"/>
                  </a:lnTo>
                  <a:lnTo>
                    <a:pt x="50" y="2456"/>
                  </a:lnTo>
                  <a:lnTo>
                    <a:pt x="63" y="2459"/>
                  </a:lnTo>
                  <a:lnTo>
                    <a:pt x="81" y="2467"/>
                  </a:lnTo>
                  <a:lnTo>
                    <a:pt x="98" y="2473"/>
                  </a:lnTo>
                  <a:lnTo>
                    <a:pt x="114" y="2472"/>
                  </a:lnTo>
                  <a:lnTo>
                    <a:pt x="128" y="2470"/>
                  </a:lnTo>
                  <a:lnTo>
                    <a:pt x="139" y="2469"/>
                  </a:lnTo>
                  <a:lnTo>
                    <a:pt x="151" y="2461"/>
                  </a:lnTo>
                  <a:lnTo>
                    <a:pt x="162" y="2450"/>
                  </a:lnTo>
                  <a:lnTo>
                    <a:pt x="174" y="2436"/>
                  </a:lnTo>
                  <a:lnTo>
                    <a:pt x="190" y="2418"/>
                  </a:lnTo>
                  <a:lnTo>
                    <a:pt x="206" y="2399"/>
                  </a:lnTo>
                  <a:lnTo>
                    <a:pt x="221" y="2385"/>
                  </a:lnTo>
                  <a:lnTo>
                    <a:pt x="237" y="2379"/>
                  </a:lnTo>
                  <a:lnTo>
                    <a:pt x="247" y="2377"/>
                  </a:lnTo>
                  <a:lnTo>
                    <a:pt x="257" y="2377"/>
                  </a:lnTo>
                  <a:lnTo>
                    <a:pt x="266" y="2377"/>
                  </a:lnTo>
                  <a:lnTo>
                    <a:pt x="279" y="2373"/>
                  </a:lnTo>
                  <a:lnTo>
                    <a:pt x="289" y="2366"/>
                  </a:lnTo>
                  <a:lnTo>
                    <a:pt x="297" y="2360"/>
                  </a:lnTo>
                  <a:lnTo>
                    <a:pt x="305" y="2352"/>
                  </a:lnTo>
                  <a:lnTo>
                    <a:pt x="314" y="2341"/>
                  </a:lnTo>
                  <a:lnTo>
                    <a:pt x="328" y="2326"/>
                  </a:lnTo>
                  <a:lnTo>
                    <a:pt x="342" y="2314"/>
                  </a:lnTo>
                  <a:lnTo>
                    <a:pt x="359" y="2298"/>
                  </a:lnTo>
                  <a:lnTo>
                    <a:pt x="378" y="2282"/>
                  </a:lnTo>
                  <a:lnTo>
                    <a:pt x="397" y="2270"/>
                  </a:lnTo>
                  <a:lnTo>
                    <a:pt x="412" y="2259"/>
                  </a:lnTo>
                  <a:lnTo>
                    <a:pt x="420" y="2256"/>
                  </a:lnTo>
                  <a:lnTo>
                    <a:pt x="426" y="2254"/>
                  </a:lnTo>
                  <a:lnTo>
                    <a:pt x="429" y="2253"/>
                  </a:lnTo>
                  <a:lnTo>
                    <a:pt x="434" y="2250"/>
                  </a:lnTo>
                  <a:lnTo>
                    <a:pt x="442" y="2242"/>
                  </a:lnTo>
                  <a:lnTo>
                    <a:pt x="449" y="2230"/>
                  </a:lnTo>
                  <a:lnTo>
                    <a:pt x="454" y="2220"/>
                  </a:lnTo>
                  <a:lnTo>
                    <a:pt x="462" y="2211"/>
                  </a:lnTo>
                  <a:lnTo>
                    <a:pt x="474" y="2202"/>
                  </a:lnTo>
                  <a:lnTo>
                    <a:pt x="488" y="2194"/>
                  </a:lnTo>
                  <a:lnTo>
                    <a:pt x="501" y="2189"/>
                  </a:lnTo>
                  <a:lnTo>
                    <a:pt x="512" y="2183"/>
                  </a:lnTo>
                  <a:lnTo>
                    <a:pt x="521" y="2175"/>
                  </a:lnTo>
                  <a:lnTo>
                    <a:pt x="532" y="2164"/>
                  </a:lnTo>
                  <a:lnTo>
                    <a:pt x="536" y="2154"/>
                  </a:lnTo>
                  <a:lnTo>
                    <a:pt x="538" y="2144"/>
                  </a:lnTo>
                  <a:lnTo>
                    <a:pt x="538" y="2141"/>
                  </a:lnTo>
                  <a:lnTo>
                    <a:pt x="536" y="2138"/>
                  </a:lnTo>
                  <a:lnTo>
                    <a:pt x="535" y="2135"/>
                  </a:lnTo>
                  <a:lnTo>
                    <a:pt x="533" y="2133"/>
                  </a:lnTo>
                  <a:lnTo>
                    <a:pt x="532" y="2132"/>
                  </a:lnTo>
                  <a:lnTo>
                    <a:pt x="532" y="2129"/>
                  </a:lnTo>
                  <a:lnTo>
                    <a:pt x="532" y="2127"/>
                  </a:lnTo>
                  <a:lnTo>
                    <a:pt x="533" y="2126"/>
                  </a:lnTo>
                  <a:lnTo>
                    <a:pt x="538" y="2123"/>
                  </a:lnTo>
                  <a:lnTo>
                    <a:pt x="546" y="2119"/>
                  </a:lnTo>
                  <a:lnTo>
                    <a:pt x="550" y="2118"/>
                  </a:lnTo>
                  <a:lnTo>
                    <a:pt x="555" y="2116"/>
                  </a:lnTo>
                  <a:lnTo>
                    <a:pt x="560" y="2113"/>
                  </a:lnTo>
                  <a:lnTo>
                    <a:pt x="571" y="2109"/>
                  </a:lnTo>
                  <a:lnTo>
                    <a:pt x="581" y="2102"/>
                  </a:lnTo>
                  <a:lnTo>
                    <a:pt x="591" y="2099"/>
                  </a:lnTo>
                  <a:lnTo>
                    <a:pt x="600" y="2098"/>
                  </a:lnTo>
                  <a:lnTo>
                    <a:pt x="614" y="2096"/>
                  </a:lnTo>
                  <a:lnTo>
                    <a:pt x="630" y="2093"/>
                  </a:lnTo>
                  <a:lnTo>
                    <a:pt x="639" y="2090"/>
                  </a:lnTo>
                  <a:lnTo>
                    <a:pt x="650" y="2085"/>
                  </a:lnTo>
                  <a:lnTo>
                    <a:pt x="664" y="2079"/>
                  </a:lnTo>
                  <a:lnTo>
                    <a:pt x="675" y="2077"/>
                  </a:lnTo>
                  <a:lnTo>
                    <a:pt x="682" y="2077"/>
                  </a:lnTo>
                  <a:lnTo>
                    <a:pt x="687" y="2081"/>
                  </a:lnTo>
                  <a:lnTo>
                    <a:pt x="693" y="2084"/>
                  </a:lnTo>
                  <a:lnTo>
                    <a:pt x="701" y="2087"/>
                  </a:lnTo>
                  <a:lnTo>
                    <a:pt x="707" y="2090"/>
                  </a:lnTo>
                  <a:lnTo>
                    <a:pt x="709" y="2096"/>
                  </a:lnTo>
                  <a:lnTo>
                    <a:pt x="709" y="2101"/>
                  </a:lnTo>
                  <a:lnTo>
                    <a:pt x="709" y="2107"/>
                  </a:lnTo>
                  <a:lnTo>
                    <a:pt x="712" y="2113"/>
                  </a:lnTo>
                  <a:lnTo>
                    <a:pt x="720" y="2118"/>
                  </a:lnTo>
                  <a:lnTo>
                    <a:pt x="737" y="2121"/>
                  </a:lnTo>
                  <a:lnTo>
                    <a:pt x="754" y="2119"/>
                  </a:lnTo>
                  <a:lnTo>
                    <a:pt x="769" y="2115"/>
                  </a:lnTo>
                  <a:lnTo>
                    <a:pt x="787" y="2110"/>
                  </a:lnTo>
                  <a:lnTo>
                    <a:pt x="800" y="2107"/>
                  </a:lnTo>
                  <a:lnTo>
                    <a:pt x="811" y="2107"/>
                  </a:lnTo>
                  <a:lnTo>
                    <a:pt x="824" y="2107"/>
                  </a:lnTo>
                  <a:lnTo>
                    <a:pt x="842" y="2109"/>
                  </a:lnTo>
                  <a:lnTo>
                    <a:pt x="864" y="2112"/>
                  </a:lnTo>
                  <a:lnTo>
                    <a:pt x="880" y="2115"/>
                  </a:lnTo>
                  <a:lnTo>
                    <a:pt x="895" y="2118"/>
                  </a:lnTo>
                  <a:lnTo>
                    <a:pt x="914" y="2116"/>
                  </a:lnTo>
                  <a:lnTo>
                    <a:pt x="926" y="2115"/>
                  </a:lnTo>
                  <a:lnTo>
                    <a:pt x="934" y="2115"/>
                  </a:lnTo>
                  <a:lnTo>
                    <a:pt x="942" y="2115"/>
                  </a:lnTo>
                  <a:lnTo>
                    <a:pt x="948" y="2115"/>
                  </a:lnTo>
                  <a:lnTo>
                    <a:pt x="957" y="2113"/>
                  </a:lnTo>
                  <a:lnTo>
                    <a:pt x="970" y="2109"/>
                  </a:lnTo>
                  <a:lnTo>
                    <a:pt x="984" y="2101"/>
                  </a:lnTo>
                  <a:lnTo>
                    <a:pt x="993" y="2095"/>
                  </a:lnTo>
                  <a:lnTo>
                    <a:pt x="1002" y="2090"/>
                  </a:lnTo>
                  <a:lnTo>
                    <a:pt x="1013" y="2084"/>
                  </a:lnTo>
                  <a:lnTo>
                    <a:pt x="1029" y="2079"/>
                  </a:lnTo>
                  <a:lnTo>
                    <a:pt x="1046" y="2073"/>
                  </a:lnTo>
                  <a:lnTo>
                    <a:pt x="1057" y="2068"/>
                  </a:lnTo>
                  <a:lnTo>
                    <a:pt x="1068" y="2065"/>
                  </a:lnTo>
                  <a:lnTo>
                    <a:pt x="1080" y="2064"/>
                  </a:lnTo>
                  <a:lnTo>
                    <a:pt x="1097" y="2064"/>
                  </a:lnTo>
                  <a:lnTo>
                    <a:pt x="1111" y="2064"/>
                  </a:lnTo>
                  <a:lnTo>
                    <a:pt x="1120" y="2064"/>
                  </a:lnTo>
                  <a:lnTo>
                    <a:pt x="1127" y="2062"/>
                  </a:lnTo>
                  <a:lnTo>
                    <a:pt x="1133" y="2062"/>
                  </a:lnTo>
                  <a:lnTo>
                    <a:pt x="1139" y="2062"/>
                  </a:lnTo>
                  <a:lnTo>
                    <a:pt x="1152" y="2065"/>
                  </a:lnTo>
                  <a:lnTo>
                    <a:pt x="1166" y="2068"/>
                  </a:lnTo>
                  <a:lnTo>
                    <a:pt x="1173" y="2071"/>
                  </a:lnTo>
                  <a:lnTo>
                    <a:pt x="1180" y="2073"/>
                  </a:lnTo>
                  <a:lnTo>
                    <a:pt x="1187" y="2070"/>
                  </a:lnTo>
                  <a:lnTo>
                    <a:pt x="1198" y="2064"/>
                  </a:lnTo>
                  <a:lnTo>
                    <a:pt x="1211" y="2056"/>
                  </a:lnTo>
                  <a:lnTo>
                    <a:pt x="1218" y="2048"/>
                  </a:lnTo>
                  <a:lnTo>
                    <a:pt x="1226" y="2042"/>
                  </a:lnTo>
                  <a:lnTo>
                    <a:pt x="1235" y="2037"/>
                  </a:lnTo>
                  <a:lnTo>
                    <a:pt x="1249" y="2034"/>
                  </a:lnTo>
                  <a:lnTo>
                    <a:pt x="1267" y="2032"/>
                  </a:lnTo>
                  <a:lnTo>
                    <a:pt x="1276" y="2031"/>
                  </a:lnTo>
                  <a:lnTo>
                    <a:pt x="1282" y="2034"/>
                  </a:lnTo>
                  <a:lnTo>
                    <a:pt x="1287" y="2042"/>
                  </a:lnTo>
                  <a:lnTo>
                    <a:pt x="1287" y="2053"/>
                  </a:lnTo>
                  <a:lnTo>
                    <a:pt x="1282" y="2064"/>
                  </a:lnTo>
                  <a:lnTo>
                    <a:pt x="1276" y="2074"/>
                  </a:lnTo>
                  <a:lnTo>
                    <a:pt x="1270" y="2087"/>
                  </a:lnTo>
                  <a:lnTo>
                    <a:pt x="1268" y="2096"/>
                  </a:lnTo>
                  <a:lnTo>
                    <a:pt x="1270" y="2102"/>
                  </a:lnTo>
                  <a:lnTo>
                    <a:pt x="1274" y="2107"/>
                  </a:lnTo>
                  <a:lnTo>
                    <a:pt x="1282" y="2115"/>
                  </a:lnTo>
                  <a:lnTo>
                    <a:pt x="1287" y="2121"/>
                  </a:lnTo>
                  <a:lnTo>
                    <a:pt x="1293" y="2126"/>
                  </a:lnTo>
                  <a:lnTo>
                    <a:pt x="1296" y="2129"/>
                  </a:lnTo>
                  <a:lnTo>
                    <a:pt x="1301" y="2130"/>
                  </a:lnTo>
                  <a:lnTo>
                    <a:pt x="1304" y="2129"/>
                  </a:lnTo>
                  <a:lnTo>
                    <a:pt x="1305" y="2126"/>
                  </a:lnTo>
                  <a:lnTo>
                    <a:pt x="1304" y="2121"/>
                  </a:lnTo>
                  <a:lnTo>
                    <a:pt x="1302" y="2116"/>
                  </a:lnTo>
                  <a:lnTo>
                    <a:pt x="1305" y="2110"/>
                  </a:lnTo>
                  <a:lnTo>
                    <a:pt x="1313" y="2102"/>
                  </a:lnTo>
                  <a:lnTo>
                    <a:pt x="1326" y="2095"/>
                  </a:lnTo>
                  <a:lnTo>
                    <a:pt x="1335" y="2088"/>
                  </a:lnTo>
                  <a:lnTo>
                    <a:pt x="1340" y="2087"/>
                  </a:lnTo>
                  <a:lnTo>
                    <a:pt x="1343" y="2093"/>
                  </a:lnTo>
                  <a:lnTo>
                    <a:pt x="1344" y="2104"/>
                  </a:lnTo>
                  <a:lnTo>
                    <a:pt x="1347" y="2113"/>
                  </a:lnTo>
                  <a:lnTo>
                    <a:pt x="1357" y="2121"/>
                  </a:lnTo>
                  <a:lnTo>
                    <a:pt x="1364" y="2124"/>
                  </a:lnTo>
                  <a:lnTo>
                    <a:pt x="1372" y="2124"/>
                  </a:lnTo>
                  <a:lnTo>
                    <a:pt x="1380" y="2124"/>
                  </a:lnTo>
                  <a:lnTo>
                    <a:pt x="1391" y="2121"/>
                  </a:lnTo>
                  <a:lnTo>
                    <a:pt x="1403" y="2118"/>
                  </a:lnTo>
                  <a:lnTo>
                    <a:pt x="1413" y="2115"/>
                  </a:lnTo>
                  <a:lnTo>
                    <a:pt x="1422" y="2112"/>
                  </a:lnTo>
                  <a:lnTo>
                    <a:pt x="1431" y="2105"/>
                  </a:lnTo>
                  <a:lnTo>
                    <a:pt x="1437" y="2102"/>
                  </a:lnTo>
                  <a:lnTo>
                    <a:pt x="1442" y="2099"/>
                  </a:lnTo>
                  <a:lnTo>
                    <a:pt x="1445" y="2098"/>
                  </a:lnTo>
                  <a:lnTo>
                    <a:pt x="1450" y="2095"/>
                  </a:lnTo>
                  <a:lnTo>
                    <a:pt x="1456" y="2090"/>
                  </a:lnTo>
                  <a:lnTo>
                    <a:pt x="1465" y="2081"/>
                  </a:lnTo>
                  <a:lnTo>
                    <a:pt x="1475" y="2068"/>
                  </a:lnTo>
                  <a:lnTo>
                    <a:pt x="1481" y="2059"/>
                  </a:lnTo>
                  <a:lnTo>
                    <a:pt x="1484" y="2053"/>
                  </a:lnTo>
                  <a:lnTo>
                    <a:pt x="1487" y="2046"/>
                  </a:lnTo>
                  <a:lnTo>
                    <a:pt x="1495" y="2042"/>
                  </a:lnTo>
                  <a:lnTo>
                    <a:pt x="1498" y="2039"/>
                  </a:lnTo>
                  <a:lnTo>
                    <a:pt x="1503" y="2039"/>
                  </a:lnTo>
                  <a:lnTo>
                    <a:pt x="1506" y="2039"/>
                  </a:lnTo>
                  <a:lnTo>
                    <a:pt x="1509" y="2039"/>
                  </a:lnTo>
                  <a:lnTo>
                    <a:pt x="1512" y="2039"/>
                  </a:lnTo>
                  <a:lnTo>
                    <a:pt x="1515" y="2039"/>
                  </a:lnTo>
                  <a:lnTo>
                    <a:pt x="1517" y="2039"/>
                  </a:lnTo>
                  <a:lnTo>
                    <a:pt x="1518" y="2037"/>
                  </a:lnTo>
                  <a:lnTo>
                    <a:pt x="1518" y="2036"/>
                  </a:lnTo>
                  <a:lnTo>
                    <a:pt x="1518" y="2034"/>
                  </a:lnTo>
                  <a:lnTo>
                    <a:pt x="1517" y="2029"/>
                  </a:lnTo>
                  <a:lnTo>
                    <a:pt x="1513" y="2025"/>
                  </a:lnTo>
                  <a:lnTo>
                    <a:pt x="1506" y="2014"/>
                  </a:lnTo>
                  <a:lnTo>
                    <a:pt x="1495" y="2005"/>
                  </a:lnTo>
                  <a:lnTo>
                    <a:pt x="1484" y="1995"/>
                  </a:lnTo>
                  <a:lnTo>
                    <a:pt x="1475" y="1987"/>
                  </a:lnTo>
                  <a:lnTo>
                    <a:pt x="1470" y="1980"/>
                  </a:lnTo>
                  <a:lnTo>
                    <a:pt x="1472" y="1970"/>
                  </a:lnTo>
                  <a:lnTo>
                    <a:pt x="1478" y="1953"/>
                  </a:lnTo>
                  <a:lnTo>
                    <a:pt x="1482" y="1938"/>
                  </a:lnTo>
                  <a:lnTo>
                    <a:pt x="1490" y="1921"/>
                  </a:lnTo>
                  <a:lnTo>
                    <a:pt x="1503" y="1907"/>
                  </a:lnTo>
                  <a:lnTo>
                    <a:pt x="1512" y="1897"/>
                  </a:lnTo>
                  <a:lnTo>
                    <a:pt x="1520" y="1890"/>
                  </a:lnTo>
                  <a:lnTo>
                    <a:pt x="1526" y="1882"/>
                  </a:lnTo>
                  <a:lnTo>
                    <a:pt x="1534" y="1874"/>
                  </a:lnTo>
                  <a:lnTo>
                    <a:pt x="1545" y="1863"/>
                  </a:lnTo>
                  <a:lnTo>
                    <a:pt x="1563" y="1846"/>
                  </a:lnTo>
                  <a:lnTo>
                    <a:pt x="1583" y="1827"/>
                  </a:lnTo>
                  <a:lnTo>
                    <a:pt x="1604" y="1807"/>
                  </a:lnTo>
                  <a:lnTo>
                    <a:pt x="1622" y="1789"/>
                  </a:lnTo>
                  <a:lnTo>
                    <a:pt x="1642" y="1767"/>
                  </a:lnTo>
                  <a:lnTo>
                    <a:pt x="1658" y="1745"/>
                  </a:lnTo>
                  <a:lnTo>
                    <a:pt x="1670" y="1720"/>
                  </a:lnTo>
                  <a:lnTo>
                    <a:pt x="1683" y="1695"/>
                  </a:lnTo>
                  <a:lnTo>
                    <a:pt x="1695" y="1669"/>
                  </a:lnTo>
                  <a:lnTo>
                    <a:pt x="1703" y="1646"/>
                  </a:lnTo>
                  <a:lnTo>
                    <a:pt x="1705" y="1630"/>
                  </a:lnTo>
                  <a:lnTo>
                    <a:pt x="1701" y="1618"/>
                  </a:lnTo>
                  <a:lnTo>
                    <a:pt x="1698" y="1602"/>
                  </a:lnTo>
                  <a:lnTo>
                    <a:pt x="1692" y="1585"/>
                  </a:lnTo>
                  <a:lnTo>
                    <a:pt x="1686" y="1568"/>
                  </a:lnTo>
                  <a:lnTo>
                    <a:pt x="1680" y="1554"/>
                  </a:lnTo>
                  <a:lnTo>
                    <a:pt x="1678" y="1542"/>
                  </a:lnTo>
                  <a:lnTo>
                    <a:pt x="1681" y="1526"/>
                  </a:lnTo>
                  <a:lnTo>
                    <a:pt x="1684" y="1515"/>
                  </a:lnTo>
                  <a:lnTo>
                    <a:pt x="1684" y="1505"/>
                  </a:lnTo>
                  <a:lnTo>
                    <a:pt x="1686" y="1495"/>
                  </a:lnTo>
                  <a:lnTo>
                    <a:pt x="1691" y="1486"/>
                  </a:lnTo>
                  <a:lnTo>
                    <a:pt x="1701" y="1478"/>
                  </a:lnTo>
                  <a:lnTo>
                    <a:pt x="1715" y="1473"/>
                  </a:lnTo>
                  <a:lnTo>
                    <a:pt x="1728" y="1472"/>
                  </a:lnTo>
                  <a:lnTo>
                    <a:pt x="1739" y="1470"/>
                  </a:lnTo>
                  <a:lnTo>
                    <a:pt x="1753" y="1467"/>
                  </a:lnTo>
                  <a:lnTo>
                    <a:pt x="1767" y="1461"/>
                  </a:lnTo>
                  <a:lnTo>
                    <a:pt x="1784" y="1450"/>
                  </a:lnTo>
                  <a:lnTo>
                    <a:pt x="1799" y="1442"/>
                  </a:lnTo>
                  <a:lnTo>
                    <a:pt x="1812" y="1435"/>
                  </a:lnTo>
                  <a:lnTo>
                    <a:pt x="1829" y="1428"/>
                  </a:lnTo>
                  <a:lnTo>
                    <a:pt x="1841" y="1424"/>
                  </a:lnTo>
                  <a:lnTo>
                    <a:pt x="1852" y="1418"/>
                  </a:lnTo>
                  <a:lnTo>
                    <a:pt x="1860" y="1414"/>
                  </a:lnTo>
                  <a:lnTo>
                    <a:pt x="1866" y="1414"/>
                  </a:lnTo>
                  <a:lnTo>
                    <a:pt x="1869" y="1421"/>
                  </a:lnTo>
                  <a:lnTo>
                    <a:pt x="1872" y="1430"/>
                  </a:lnTo>
                  <a:lnTo>
                    <a:pt x="1874" y="1441"/>
                  </a:lnTo>
                  <a:lnTo>
                    <a:pt x="1872" y="1450"/>
                  </a:lnTo>
                  <a:lnTo>
                    <a:pt x="1868" y="1459"/>
                  </a:lnTo>
                  <a:lnTo>
                    <a:pt x="1857" y="1466"/>
                  </a:lnTo>
                  <a:lnTo>
                    <a:pt x="1849" y="1469"/>
                  </a:lnTo>
                  <a:lnTo>
                    <a:pt x="1844" y="1470"/>
                  </a:lnTo>
                  <a:lnTo>
                    <a:pt x="1840" y="1472"/>
                  </a:lnTo>
                  <a:lnTo>
                    <a:pt x="1837" y="1473"/>
                  </a:lnTo>
                  <a:lnTo>
                    <a:pt x="1833" y="1475"/>
                  </a:lnTo>
                  <a:lnTo>
                    <a:pt x="1833" y="1475"/>
                  </a:lnTo>
                  <a:lnTo>
                    <a:pt x="1833" y="1478"/>
                  </a:lnTo>
                  <a:lnTo>
                    <a:pt x="1835" y="1480"/>
                  </a:lnTo>
                  <a:lnTo>
                    <a:pt x="1837" y="1483"/>
                  </a:lnTo>
                  <a:lnTo>
                    <a:pt x="1843" y="1491"/>
                  </a:lnTo>
                  <a:lnTo>
                    <a:pt x="1846" y="1497"/>
                  </a:lnTo>
                  <a:lnTo>
                    <a:pt x="1847" y="1501"/>
                  </a:lnTo>
                  <a:lnTo>
                    <a:pt x="1844" y="1506"/>
                  </a:lnTo>
                  <a:lnTo>
                    <a:pt x="1835" y="1509"/>
                  </a:lnTo>
                  <a:lnTo>
                    <a:pt x="1824" y="1509"/>
                  </a:lnTo>
                  <a:lnTo>
                    <a:pt x="1816" y="1508"/>
                  </a:lnTo>
                  <a:lnTo>
                    <a:pt x="1810" y="1508"/>
                  </a:lnTo>
                  <a:lnTo>
                    <a:pt x="1804" y="1509"/>
                  </a:lnTo>
                  <a:lnTo>
                    <a:pt x="1798" y="1517"/>
                  </a:lnTo>
                  <a:lnTo>
                    <a:pt x="1790" y="1528"/>
                  </a:lnTo>
                  <a:lnTo>
                    <a:pt x="1784" y="1536"/>
                  </a:lnTo>
                  <a:lnTo>
                    <a:pt x="1778" y="1539"/>
                  </a:lnTo>
                  <a:lnTo>
                    <a:pt x="1767" y="1539"/>
                  </a:lnTo>
                  <a:lnTo>
                    <a:pt x="1759" y="1536"/>
                  </a:lnTo>
                  <a:lnTo>
                    <a:pt x="1754" y="1532"/>
                  </a:lnTo>
                  <a:lnTo>
                    <a:pt x="1750" y="1532"/>
                  </a:lnTo>
                  <a:lnTo>
                    <a:pt x="1746" y="1536"/>
                  </a:lnTo>
                  <a:lnTo>
                    <a:pt x="1742" y="1543"/>
                  </a:lnTo>
                  <a:lnTo>
                    <a:pt x="1736" y="1556"/>
                  </a:lnTo>
                  <a:lnTo>
                    <a:pt x="1731" y="1564"/>
                  </a:lnTo>
                  <a:lnTo>
                    <a:pt x="1731" y="1570"/>
                  </a:lnTo>
                  <a:lnTo>
                    <a:pt x="1740" y="1576"/>
                  </a:lnTo>
                  <a:lnTo>
                    <a:pt x="1750" y="1577"/>
                  </a:lnTo>
                  <a:lnTo>
                    <a:pt x="1759" y="1576"/>
                  </a:lnTo>
                  <a:lnTo>
                    <a:pt x="1768" y="1573"/>
                  </a:lnTo>
                  <a:lnTo>
                    <a:pt x="1774" y="1571"/>
                  </a:lnTo>
                  <a:lnTo>
                    <a:pt x="1781" y="1573"/>
                  </a:lnTo>
                  <a:lnTo>
                    <a:pt x="1784" y="1579"/>
                  </a:lnTo>
                  <a:lnTo>
                    <a:pt x="1785" y="1599"/>
                  </a:lnTo>
                  <a:lnTo>
                    <a:pt x="1781" y="1618"/>
                  </a:lnTo>
                  <a:lnTo>
                    <a:pt x="1774" y="1635"/>
                  </a:lnTo>
                  <a:lnTo>
                    <a:pt x="1770" y="1646"/>
                  </a:lnTo>
                  <a:lnTo>
                    <a:pt x="1768" y="1655"/>
                  </a:lnTo>
                  <a:lnTo>
                    <a:pt x="1771" y="1663"/>
                  </a:lnTo>
                  <a:lnTo>
                    <a:pt x="1781" y="1671"/>
                  </a:lnTo>
                  <a:lnTo>
                    <a:pt x="1792" y="1677"/>
                  </a:lnTo>
                  <a:lnTo>
                    <a:pt x="1802" y="1682"/>
                  </a:lnTo>
                  <a:lnTo>
                    <a:pt x="1813" y="1688"/>
                  </a:lnTo>
                  <a:lnTo>
                    <a:pt x="1827" y="1689"/>
                  </a:lnTo>
                  <a:lnTo>
                    <a:pt x="1840" y="1691"/>
                  </a:lnTo>
                  <a:lnTo>
                    <a:pt x="1847" y="1691"/>
                  </a:lnTo>
                  <a:lnTo>
                    <a:pt x="1855" y="1689"/>
                  </a:lnTo>
                  <a:lnTo>
                    <a:pt x="1860" y="1683"/>
                  </a:lnTo>
                  <a:lnTo>
                    <a:pt x="1868" y="1674"/>
                  </a:lnTo>
                  <a:lnTo>
                    <a:pt x="1871" y="1664"/>
                  </a:lnTo>
                  <a:lnTo>
                    <a:pt x="1872" y="1657"/>
                  </a:lnTo>
                  <a:lnTo>
                    <a:pt x="1874" y="1650"/>
                  </a:lnTo>
                  <a:lnTo>
                    <a:pt x="1875" y="1644"/>
                  </a:lnTo>
                  <a:lnTo>
                    <a:pt x="1882" y="1638"/>
                  </a:lnTo>
                  <a:lnTo>
                    <a:pt x="1893" y="1632"/>
                  </a:lnTo>
                  <a:lnTo>
                    <a:pt x="1905" y="1627"/>
                  </a:lnTo>
                  <a:lnTo>
                    <a:pt x="1916" y="1624"/>
                  </a:lnTo>
                  <a:lnTo>
                    <a:pt x="1928" y="1621"/>
                  </a:lnTo>
                  <a:lnTo>
                    <a:pt x="1941" y="1619"/>
                  </a:lnTo>
                  <a:lnTo>
                    <a:pt x="1955" y="1613"/>
                  </a:lnTo>
                  <a:lnTo>
                    <a:pt x="1973" y="1605"/>
                  </a:lnTo>
                  <a:lnTo>
                    <a:pt x="2001" y="1590"/>
                  </a:lnTo>
                  <a:lnTo>
                    <a:pt x="2025" y="1579"/>
                  </a:lnTo>
                  <a:lnTo>
                    <a:pt x="2043" y="1568"/>
                  </a:lnTo>
                  <a:lnTo>
                    <a:pt x="2056" y="1560"/>
                  </a:lnTo>
                  <a:lnTo>
                    <a:pt x="2062" y="1556"/>
                  </a:lnTo>
                  <a:lnTo>
                    <a:pt x="2065" y="1551"/>
                  </a:lnTo>
                  <a:lnTo>
                    <a:pt x="2070" y="1546"/>
                  </a:lnTo>
                  <a:lnTo>
                    <a:pt x="2077" y="1543"/>
                  </a:lnTo>
                  <a:lnTo>
                    <a:pt x="2091" y="1542"/>
                  </a:lnTo>
                  <a:lnTo>
                    <a:pt x="2110" y="1537"/>
                  </a:lnTo>
                  <a:lnTo>
                    <a:pt x="2126" y="1529"/>
                  </a:lnTo>
                  <a:lnTo>
                    <a:pt x="2138" y="1518"/>
                  </a:lnTo>
                  <a:lnTo>
                    <a:pt x="2149" y="1508"/>
                  </a:lnTo>
                  <a:lnTo>
                    <a:pt x="2158" y="1497"/>
                  </a:lnTo>
                  <a:lnTo>
                    <a:pt x="2166" y="1489"/>
                  </a:lnTo>
                  <a:lnTo>
                    <a:pt x="2174" y="1486"/>
                  </a:lnTo>
                  <a:lnTo>
                    <a:pt x="2181" y="1481"/>
                  </a:lnTo>
                  <a:lnTo>
                    <a:pt x="2191" y="1475"/>
                  </a:lnTo>
                  <a:lnTo>
                    <a:pt x="2200" y="1463"/>
                  </a:lnTo>
                  <a:lnTo>
                    <a:pt x="2209" y="1449"/>
                  </a:lnTo>
                  <a:lnTo>
                    <a:pt x="2216" y="1438"/>
                  </a:lnTo>
                  <a:lnTo>
                    <a:pt x="2220" y="1430"/>
                  </a:lnTo>
                  <a:lnTo>
                    <a:pt x="2226" y="1421"/>
                  </a:lnTo>
                  <a:lnTo>
                    <a:pt x="2237" y="1410"/>
                  </a:lnTo>
                  <a:lnTo>
                    <a:pt x="2245" y="1402"/>
                  </a:lnTo>
                  <a:lnTo>
                    <a:pt x="2250" y="1396"/>
                  </a:lnTo>
                  <a:lnTo>
                    <a:pt x="2253" y="1391"/>
                  </a:lnTo>
                  <a:lnTo>
                    <a:pt x="2256" y="1385"/>
                  </a:lnTo>
                  <a:lnTo>
                    <a:pt x="2259" y="1374"/>
                  </a:lnTo>
                  <a:lnTo>
                    <a:pt x="2264" y="1359"/>
                  </a:lnTo>
                  <a:lnTo>
                    <a:pt x="2267" y="1346"/>
                  </a:lnTo>
                  <a:lnTo>
                    <a:pt x="2267" y="1335"/>
                  </a:lnTo>
                  <a:lnTo>
                    <a:pt x="2265" y="1327"/>
                  </a:lnTo>
                  <a:lnTo>
                    <a:pt x="2264" y="1321"/>
                  </a:lnTo>
                  <a:lnTo>
                    <a:pt x="2265" y="1317"/>
                  </a:lnTo>
                  <a:lnTo>
                    <a:pt x="2272" y="1309"/>
                  </a:lnTo>
                  <a:lnTo>
                    <a:pt x="2286" y="1301"/>
                  </a:lnTo>
                  <a:lnTo>
                    <a:pt x="2306" y="1289"/>
                  </a:lnTo>
                  <a:lnTo>
                    <a:pt x="2324" y="1279"/>
                  </a:lnTo>
                  <a:lnTo>
                    <a:pt x="2340" y="1273"/>
                  </a:lnTo>
                  <a:lnTo>
                    <a:pt x="2359" y="1265"/>
                  </a:lnTo>
                  <a:lnTo>
                    <a:pt x="2382" y="1255"/>
                  </a:lnTo>
                  <a:lnTo>
                    <a:pt x="2397" y="1247"/>
                  </a:lnTo>
                  <a:lnTo>
                    <a:pt x="2408" y="1241"/>
                  </a:lnTo>
                  <a:lnTo>
                    <a:pt x="2413" y="1234"/>
                  </a:lnTo>
                  <a:lnTo>
                    <a:pt x="2416" y="1230"/>
                  </a:lnTo>
                  <a:lnTo>
                    <a:pt x="2418" y="1223"/>
                  </a:lnTo>
                  <a:lnTo>
                    <a:pt x="2421" y="1216"/>
                  </a:lnTo>
                  <a:lnTo>
                    <a:pt x="2424" y="1206"/>
                  </a:lnTo>
                  <a:lnTo>
                    <a:pt x="2430" y="1194"/>
                  </a:lnTo>
                  <a:lnTo>
                    <a:pt x="2432" y="1185"/>
                  </a:lnTo>
                  <a:lnTo>
                    <a:pt x="2433" y="1174"/>
                  </a:lnTo>
                  <a:lnTo>
                    <a:pt x="2433" y="1161"/>
                  </a:lnTo>
                  <a:lnTo>
                    <a:pt x="2436" y="1143"/>
                  </a:lnTo>
                  <a:lnTo>
                    <a:pt x="2438" y="1124"/>
                  </a:lnTo>
                  <a:lnTo>
                    <a:pt x="2439" y="1107"/>
                  </a:lnTo>
                  <a:lnTo>
                    <a:pt x="2439" y="1090"/>
                  </a:lnTo>
                  <a:lnTo>
                    <a:pt x="2444" y="1074"/>
                  </a:lnTo>
                  <a:lnTo>
                    <a:pt x="2455" y="1057"/>
                  </a:lnTo>
                  <a:lnTo>
                    <a:pt x="2466" y="1042"/>
                  </a:lnTo>
                  <a:lnTo>
                    <a:pt x="2475" y="1028"/>
                  </a:lnTo>
                  <a:lnTo>
                    <a:pt x="2481" y="1017"/>
                  </a:lnTo>
                  <a:lnTo>
                    <a:pt x="2487" y="1006"/>
                  </a:lnTo>
                  <a:lnTo>
                    <a:pt x="2495" y="997"/>
                  </a:lnTo>
                  <a:lnTo>
                    <a:pt x="2500" y="992"/>
                  </a:lnTo>
                  <a:lnTo>
                    <a:pt x="2503" y="991"/>
                  </a:lnTo>
                  <a:lnTo>
                    <a:pt x="2505" y="989"/>
                  </a:lnTo>
                  <a:lnTo>
                    <a:pt x="2506" y="987"/>
                  </a:lnTo>
                  <a:lnTo>
                    <a:pt x="2508" y="987"/>
                  </a:lnTo>
                  <a:lnTo>
                    <a:pt x="2509" y="987"/>
                  </a:lnTo>
                  <a:lnTo>
                    <a:pt x="2509" y="987"/>
                  </a:lnTo>
                  <a:lnTo>
                    <a:pt x="2511" y="987"/>
                  </a:lnTo>
                  <a:lnTo>
                    <a:pt x="2512" y="986"/>
                  </a:lnTo>
                  <a:lnTo>
                    <a:pt x="2514" y="983"/>
                  </a:lnTo>
                  <a:lnTo>
                    <a:pt x="2517" y="980"/>
                  </a:lnTo>
                  <a:lnTo>
                    <a:pt x="2522" y="972"/>
                  </a:lnTo>
                  <a:lnTo>
                    <a:pt x="2523" y="966"/>
                  </a:lnTo>
                  <a:lnTo>
                    <a:pt x="2523" y="958"/>
                  </a:lnTo>
                  <a:lnTo>
                    <a:pt x="2523" y="950"/>
                  </a:lnTo>
                  <a:lnTo>
                    <a:pt x="2526" y="938"/>
                  </a:lnTo>
                  <a:lnTo>
                    <a:pt x="2531" y="919"/>
                  </a:lnTo>
                  <a:lnTo>
                    <a:pt x="2537" y="890"/>
                  </a:lnTo>
                  <a:lnTo>
                    <a:pt x="2542" y="865"/>
                  </a:lnTo>
                  <a:lnTo>
                    <a:pt x="2545" y="843"/>
                  </a:lnTo>
                  <a:lnTo>
                    <a:pt x="2548" y="826"/>
                  </a:lnTo>
                  <a:lnTo>
                    <a:pt x="2551" y="817"/>
                  </a:lnTo>
                  <a:lnTo>
                    <a:pt x="2551" y="810"/>
                  </a:lnTo>
                  <a:lnTo>
                    <a:pt x="2553" y="804"/>
                  </a:lnTo>
                  <a:lnTo>
                    <a:pt x="2554" y="798"/>
                  </a:lnTo>
                  <a:lnTo>
                    <a:pt x="2559" y="792"/>
                  </a:lnTo>
                  <a:lnTo>
                    <a:pt x="2567" y="781"/>
                  </a:lnTo>
                  <a:lnTo>
                    <a:pt x="2576" y="768"/>
                  </a:lnTo>
                  <a:lnTo>
                    <a:pt x="2582" y="758"/>
                  </a:lnTo>
                  <a:lnTo>
                    <a:pt x="2585" y="748"/>
                  </a:lnTo>
                  <a:lnTo>
                    <a:pt x="2587" y="737"/>
                  </a:lnTo>
                  <a:lnTo>
                    <a:pt x="2587" y="722"/>
                  </a:lnTo>
                  <a:lnTo>
                    <a:pt x="2587" y="703"/>
                  </a:lnTo>
                  <a:lnTo>
                    <a:pt x="2590" y="686"/>
                  </a:lnTo>
                  <a:lnTo>
                    <a:pt x="2593" y="669"/>
                  </a:lnTo>
                  <a:lnTo>
                    <a:pt x="2593" y="650"/>
                  </a:lnTo>
                  <a:lnTo>
                    <a:pt x="2590" y="632"/>
                  </a:lnTo>
                  <a:lnTo>
                    <a:pt x="2587" y="618"/>
                  </a:lnTo>
                  <a:lnTo>
                    <a:pt x="2581" y="609"/>
                  </a:lnTo>
                  <a:lnTo>
                    <a:pt x="2571" y="598"/>
                  </a:lnTo>
                  <a:lnTo>
                    <a:pt x="2560" y="590"/>
                  </a:lnTo>
                  <a:lnTo>
                    <a:pt x="2551" y="588"/>
                  </a:lnTo>
                  <a:lnTo>
                    <a:pt x="2540" y="588"/>
                  </a:lnTo>
                  <a:lnTo>
                    <a:pt x="2528" y="588"/>
                  </a:lnTo>
                  <a:lnTo>
                    <a:pt x="2517" y="588"/>
                  </a:lnTo>
                  <a:lnTo>
                    <a:pt x="2508" y="588"/>
                  </a:lnTo>
                  <a:lnTo>
                    <a:pt x="2500" y="587"/>
                  </a:lnTo>
                  <a:lnTo>
                    <a:pt x="2495" y="581"/>
                  </a:lnTo>
                  <a:lnTo>
                    <a:pt x="2494" y="570"/>
                  </a:lnTo>
                  <a:lnTo>
                    <a:pt x="2492" y="559"/>
                  </a:lnTo>
                  <a:lnTo>
                    <a:pt x="2492" y="550"/>
                  </a:lnTo>
                  <a:lnTo>
                    <a:pt x="2492" y="542"/>
                  </a:lnTo>
                  <a:lnTo>
                    <a:pt x="2494" y="537"/>
                  </a:lnTo>
                  <a:lnTo>
                    <a:pt x="2500" y="534"/>
                  </a:lnTo>
                  <a:lnTo>
                    <a:pt x="2511" y="536"/>
                  </a:lnTo>
                  <a:lnTo>
                    <a:pt x="2526" y="540"/>
                  </a:lnTo>
                  <a:lnTo>
                    <a:pt x="2536" y="546"/>
                  </a:lnTo>
                  <a:lnTo>
                    <a:pt x="2543" y="550"/>
                  </a:lnTo>
                  <a:lnTo>
                    <a:pt x="2548" y="548"/>
                  </a:lnTo>
                  <a:lnTo>
                    <a:pt x="2553" y="536"/>
                  </a:lnTo>
                  <a:lnTo>
                    <a:pt x="2557" y="523"/>
                  </a:lnTo>
                  <a:lnTo>
                    <a:pt x="2560" y="514"/>
                  </a:lnTo>
                  <a:lnTo>
                    <a:pt x="2565" y="508"/>
                  </a:lnTo>
                  <a:lnTo>
                    <a:pt x="2568" y="498"/>
                  </a:lnTo>
                  <a:lnTo>
                    <a:pt x="2571" y="486"/>
                  </a:lnTo>
                  <a:lnTo>
                    <a:pt x="2574" y="470"/>
                  </a:lnTo>
                  <a:lnTo>
                    <a:pt x="2579" y="459"/>
                  </a:lnTo>
                  <a:lnTo>
                    <a:pt x="2581" y="450"/>
                  </a:lnTo>
                  <a:lnTo>
                    <a:pt x="2581" y="439"/>
                  </a:lnTo>
                  <a:lnTo>
                    <a:pt x="2576" y="427"/>
                  </a:lnTo>
                  <a:lnTo>
                    <a:pt x="2567" y="411"/>
                  </a:lnTo>
                  <a:lnTo>
                    <a:pt x="2560" y="402"/>
                  </a:lnTo>
                  <a:lnTo>
                    <a:pt x="2554" y="391"/>
                  </a:lnTo>
                  <a:lnTo>
                    <a:pt x="2551" y="380"/>
                  </a:lnTo>
                  <a:lnTo>
                    <a:pt x="2546" y="369"/>
                  </a:lnTo>
                  <a:lnTo>
                    <a:pt x="2542" y="362"/>
                  </a:lnTo>
                  <a:lnTo>
                    <a:pt x="2534" y="354"/>
                  </a:lnTo>
                  <a:lnTo>
                    <a:pt x="2531" y="345"/>
                  </a:lnTo>
                  <a:lnTo>
                    <a:pt x="2531" y="334"/>
                  </a:lnTo>
                  <a:lnTo>
                    <a:pt x="2536" y="321"/>
                  </a:lnTo>
                  <a:lnTo>
                    <a:pt x="2543" y="310"/>
                  </a:lnTo>
                  <a:lnTo>
                    <a:pt x="2553" y="301"/>
                  </a:lnTo>
                  <a:lnTo>
                    <a:pt x="2560" y="290"/>
                  </a:lnTo>
                  <a:lnTo>
                    <a:pt x="2564" y="282"/>
                  </a:lnTo>
                  <a:lnTo>
                    <a:pt x="2565" y="276"/>
                  </a:lnTo>
                  <a:lnTo>
                    <a:pt x="2568" y="275"/>
                  </a:lnTo>
                  <a:lnTo>
                    <a:pt x="2574" y="273"/>
                  </a:lnTo>
                  <a:lnTo>
                    <a:pt x="2587" y="275"/>
                  </a:lnTo>
                  <a:lnTo>
                    <a:pt x="2604" y="276"/>
                  </a:lnTo>
                  <a:lnTo>
                    <a:pt x="2615" y="278"/>
                  </a:lnTo>
                  <a:lnTo>
                    <a:pt x="2623" y="273"/>
                  </a:lnTo>
                  <a:lnTo>
                    <a:pt x="2630" y="261"/>
                  </a:lnTo>
                  <a:lnTo>
                    <a:pt x="2640" y="242"/>
                  </a:lnTo>
                  <a:lnTo>
                    <a:pt x="2644" y="225"/>
                  </a:lnTo>
                  <a:lnTo>
                    <a:pt x="2646" y="205"/>
                  </a:lnTo>
                  <a:lnTo>
                    <a:pt x="2649" y="196"/>
                  </a:lnTo>
                  <a:lnTo>
                    <a:pt x="2651" y="192"/>
                  </a:lnTo>
                  <a:lnTo>
                    <a:pt x="2655" y="189"/>
                  </a:lnTo>
                  <a:lnTo>
                    <a:pt x="2657" y="188"/>
                  </a:lnTo>
                  <a:lnTo>
                    <a:pt x="2658" y="183"/>
                  </a:lnTo>
                  <a:lnTo>
                    <a:pt x="2655" y="177"/>
                  </a:lnTo>
                  <a:lnTo>
                    <a:pt x="2651" y="166"/>
                  </a:lnTo>
                  <a:lnTo>
                    <a:pt x="2646" y="158"/>
                  </a:lnTo>
                  <a:lnTo>
                    <a:pt x="2641" y="152"/>
                  </a:lnTo>
                  <a:lnTo>
                    <a:pt x="2641" y="146"/>
                  </a:lnTo>
                  <a:lnTo>
                    <a:pt x="2644" y="138"/>
                  </a:lnTo>
                  <a:lnTo>
                    <a:pt x="2646" y="130"/>
                  </a:lnTo>
                  <a:lnTo>
                    <a:pt x="2644" y="121"/>
                  </a:lnTo>
                  <a:lnTo>
                    <a:pt x="2643" y="113"/>
                  </a:lnTo>
                  <a:lnTo>
                    <a:pt x="2641" y="107"/>
                  </a:lnTo>
                  <a:lnTo>
                    <a:pt x="2641" y="101"/>
                  </a:lnTo>
                  <a:lnTo>
                    <a:pt x="2646" y="99"/>
                  </a:lnTo>
                  <a:lnTo>
                    <a:pt x="2654" y="99"/>
                  </a:lnTo>
                  <a:lnTo>
                    <a:pt x="2668" y="105"/>
                  </a:lnTo>
                  <a:lnTo>
                    <a:pt x="2677" y="112"/>
                  </a:lnTo>
                  <a:lnTo>
                    <a:pt x="2685" y="118"/>
                  </a:lnTo>
                  <a:lnTo>
                    <a:pt x="2691" y="121"/>
                  </a:lnTo>
                  <a:lnTo>
                    <a:pt x="2699" y="119"/>
                  </a:lnTo>
                  <a:lnTo>
                    <a:pt x="2706" y="112"/>
                  </a:lnTo>
                  <a:lnTo>
                    <a:pt x="2714" y="109"/>
                  </a:lnTo>
                  <a:lnTo>
                    <a:pt x="2719" y="109"/>
                  </a:lnTo>
                  <a:lnTo>
                    <a:pt x="2727" y="116"/>
                  </a:lnTo>
                  <a:lnTo>
                    <a:pt x="2731" y="132"/>
                  </a:lnTo>
                  <a:lnTo>
                    <a:pt x="2733" y="150"/>
                  </a:lnTo>
                  <a:lnTo>
                    <a:pt x="2733" y="174"/>
                  </a:lnTo>
                  <a:lnTo>
                    <a:pt x="2734" y="188"/>
                  </a:lnTo>
                  <a:lnTo>
                    <a:pt x="2734" y="203"/>
                  </a:lnTo>
                  <a:lnTo>
                    <a:pt x="2738" y="217"/>
                  </a:lnTo>
                  <a:lnTo>
                    <a:pt x="2744" y="228"/>
                  </a:lnTo>
                  <a:lnTo>
                    <a:pt x="2753" y="236"/>
                  </a:lnTo>
                  <a:lnTo>
                    <a:pt x="2766" y="242"/>
                  </a:lnTo>
                  <a:lnTo>
                    <a:pt x="2775" y="248"/>
                  </a:lnTo>
                  <a:lnTo>
                    <a:pt x="2783" y="251"/>
                  </a:lnTo>
                  <a:lnTo>
                    <a:pt x="2787" y="250"/>
                  </a:lnTo>
                  <a:lnTo>
                    <a:pt x="2793" y="239"/>
                  </a:lnTo>
                  <a:lnTo>
                    <a:pt x="2793" y="228"/>
                  </a:lnTo>
                  <a:lnTo>
                    <a:pt x="2792" y="216"/>
                  </a:lnTo>
                  <a:lnTo>
                    <a:pt x="2787" y="203"/>
                  </a:lnTo>
                  <a:lnTo>
                    <a:pt x="2783" y="192"/>
                  </a:lnTo>
                  <a:lnTo>
                    <a:pt x="2781" y="185"/>
                  </a:lnTo>
                  <a:lnTo>
                    <a:pt x="2783" y="178"/>
                  </a:lnTo>
                  <a:lnTo>
                    <a:pt x="2789" y="177"/>
                  </a:lnTo>
                  <a:lnTo>
                    <a:pt x="2803" y="182"/>
                  </a:lnTo>
                  <a:lnTo>
                    <a:pt x="2815" y="189"/>
                  </a:lnTo>
                  <a:lnTo>
                    <a:pt x="2828" y="199"/>
                  </a:lnTo>
                  <a:lnTo>
                    <a:pt x="2840" y="209"/>
                  </a:lnTo>
                  <a:lnTo>
                    <a:pt x="2851" y="217"/>
                  </a:lnTo>
                  <a:lnTo>
                    <a:pt x="2859" y="225"/>
                  </a:lnTo>
                  <a:lnTo>
                    <a:pt x="2865" y="230"/>
                  </a:lnTo>
                  <a:lnTo>
                    <a:pt x="2871" y="230"/>
                  </a:lnTo>
                  <a:lnTo>
                    <a:pt x="2877" y="222"/>
                  </a:lnTo>
                  <a:lnTo>
                    <a:pt x="2890" y="188"/>
                  </a:lnTo>
                  <a:lnTo>
                    <a:pt x="2894" y="154"/>
                  </a:lnTo>
                  <a:lnTo>
                    <a:pt x="2896" y="141"/>
                  </a:lnTo>
                  <a:lnTo>
                    <a:pt x="2899" y="130"/>
                  </a:lnTo>
                  <a:lnTo>
                    <a:pt x="2901" y="121"/>
                  </a:lnTo>
                  <a:lnTo>
                    <a:pt x="2898" y="112"/>
                  </a:lnTo>
                  <a:lnTo>
                    <a:pt x="2890" y="104"/>
                  </a:lnTo>
                  <a:lnTo>
                    <a:pt x="2879" y="98"/>
                  </a:lnTo>
                  <a:lnTo>
                    <a:pt x="2870" y="96"/>
                  </a:lnTo>
                  <a:lnTo>
                    <a:pt x="2863" y="98"/>
                  </a:lnTo>
                  <a:lnTo>
                    <a:pt x="2857" y="102"/>
                  </a:lnTo>
                  <a:lnTo>
                    <a:pt x="2851" y="109"/>
                  </a:lnTo>
                  <a:lnTo>
                    <a:pt x="2843" y="116"/>
                  </a:lnTo>
                  <a:lnTo>
                    <a:pt x="2835" y="119"/>
                  </a:lnTo>
                  <a:lnTo>
                    <a:pt x="2826" y="119"/>
                  </a:lnTo>
                  <a:lnTo>
                    <a:pt x="2811" y="119"/>
                  </a:lnTo>
                  <a:lnTo>
                    <a:pt x="2803" y="123"/>
                  </a:lnTo>
                  <a:lnTo>
                    <a:pt x="2797" y="127"/>
                  </a:lnTo>
                  <a:lnTo>
                    <a:pt x="2790" y="133"/>
                  </a:lnTo>
                  <a:lnTo>
                    <a:pt x="2787" y="140"/>
                  </a:lnTo>
                  <a:lnTo>
                    <a:pt x="2783" y="143"/>
                  </a:lnTo>
                  <a:lnTo>
                    <a:pt x="2779" y="143"/>
                  </a:lnTo>
                  <a:lnTo>
                    <a:pt x="2773" y="135"/>
                  </a:lnTo>
                  <a:lnTo>
                    <a:pt x="2766" y="119"/>
                  </a:lnTo>
                  <a:lnTo>
                    <a:pt x="2762" y="107"/>
                  </a:lnTo>
                  <a:lnTo>
                    <a:pt x="2764" y="93"/>
                  </a:lnTo>
                  <a:lnTo>
                    <a:pt x="2769" y="76"/>
                  </a:lnTo>
                  <a:lnTo>
                    <a:pt x="2773" y="62"/>
                  </a:lnTo>
                  <a:lnTo>
                    <a:pt x="2775" y="46"/>
                  </a:lnTo>
                  <a:lnTo>
                    <a:pt x="2778" y="31"/>
                  </a:lnTo>
                  <a:lnTo>
                    <a:pt x="2783" y="18"/>
                  </a:lnTo>
                  <a:lnTo>
                    <a:pt x="2789" y="8"/>
                  </a:lnTo>
                  <a:lnTo>
                    <a:pt x="2800" y="1"/>
                  </a:lnTo>
                  <a:lnTo>
                    <a:pt x="2815" y="0"/>
                  </a:lnTo>
                  <a:lnTo>
                    <a:pt x="2832" y="5"/>
                  </a:lnTo>
                  <a:lnTo>
                    <a:pt x="2849" y="11"/>
                  </a:lnTo>
                  <a:lnTo>
                    <a:pt x="2863" y="20"/>
                  </a:lnTo>
                  <a:lnTo>
                    <a:pt x="2874" y="28"/>
                  </a:lnTo>
                  <a:lnTo>
                    <a:pt x="2879" y="36"/>
                  </a:lnTo>
                  <a:lnTo>
                    <a:pt x="2882" y="45"/>
                  </a:lnTo>
                  <a:lnTo>
                    <a:pt x="2885" y="53"/>
                  </a:lnTo>
                  <a:lnTo>
                    <a:pt x="2887" y="59"/>
                  </a:lnTo>
                  <a:lnTo>
                    <a:pt x="2891" y="60"/>
                  </a:lnTo>
                  <a:lnTo>
                    <a:pt x="2898" y="60"/>
                  </a:lnTo>
                  <a:lnTo>
                    <a:pt x="2907" y="54"/>
                  </a:lnTo>
                  <a:lnTo>
                    <a:pt x="2916" y="46"/>
                  </a:lnTo>
                  <a:lnTo>
                    <a:pt x="2924" y="39"/>
                  </a:lnTo>
                  <a:lnTo>
                    <a:pt x="2932" y="34"/>
                  </a:lnTo>
                  <a:lnTo>
                    <a:pt x="2943" y="32"/>
                  </a:lnTo>
                  <a:lnTo>
                    <a:pt x="2949" y="36"/>
                  </a:lnTo>
                  <a:lnTo>
                    <a:pt x="2952" y="43"/>
                  </a:lnTo>
                  <a:lnTo>
                    <a:pt x="2952" y="54"/>
                  </a:lnTo>
                  <a:lnTo>
                    <a:pt x="2950" y="67"/>
                  </a:lnTo>
                  <a:lnTo>
                    <a:pt x="2946" y="79"/>
                  </a:lnTo>
                  <a:lnTo>
                    <a:pt x="2943" y="90"/>
                  </a:lnTo>
                  <a:lnTo>
                    <a:pt x="2939" y="99"/>
                  </a:lnTo>
                  <a:lnTo>
                    <a:pt x="2936" y="113"/>
                  </a:lnTo>
                  <a:lnTo>
                    <a:pt x="2936" y="132"/>
                  </a:lnTo>
                  <a:lnTo>
                    <a:pt x="2936" y="152"/>
                  </a:lnTo>
                  <a:lnTo>
                    <a:pt x="2938" y="171"/>
                  </a:lnTo>
                  <a:lnTo>
                    <a:pt x="2939" y="185"/>
                  </a:lnTo>
                  <a:lnTo>
                    <a:pt x="2941" y="199"/>
                  </a:lnTo>
                  <a:lnTo>
                    <a:pt x="2943" y="219"/>
                  </a:lnTo>
                  <a:lnTo>
                    <a:pt x="2944" y="241"/>
                  </a:lnTo>
                  <a:lnTo>
                    <a:pt x="2946" y="262"/>
                  </a:lnTo>
                  <a:lnTo>
                    <a:pt x="2949" y="282"/>
                  </a:lnTo>
                  <a:lnTo>
                    <a:pt x="2950" y="296"/>
                  </a:lnTo>
                  <a:lnTo>
                    <a:pt x="2955" y="309"/>
                  </a:lnTo>
                  <a:lnTo>
                    <a:pt x="2958" y="320"/>
                  </a:lnTo>
                  <a:lnTo>
                    <a:pt x="2964" y="329"/>
                  </a:lnTo>
                  <a:lnTo>
                    <a:pt x="2971" y="335"/>
                  </a:lnTo>
                  <a:lnTo>
                    <a:pt x="2980" y="337"/>
                  </a:lnTo>
                  <a:lnTo>
                    <a:pt x="2992" y="338"/>
                  </a:lnTo>
                  <a:lnTo>
                    <a:pt x="3002" y="343"/>
                  </a:lnTo>
                  <a:lnTo>
                    <a:pt x="3009" y="352"/>
                  </a:lnTo>
                  <a:lnTo>
                    <a:pt x="3017" y="363"/>
                  </a:lnTo>
                  <a:lnTo>
                    <a:pt x="3023" y="373"/>
                  </a:lnTo>
                  <a:lnTo>
                    <a:pt x="3033" y="383"/>
                  </a:lnTo>
                  <a:lnTo>
                    <a:pt x="3044" y="394"/>
                  </a:lnTo>
                  <a:lnTo>
                    <a:pt x="3054" y="408"/>
                  </a:lnTo>
                  <a:lnTo>
                    <a:pt x="3062" y="424"/>
                  </a:lnTo>
                  <a:lnTo>
                    <a:pt x="3067" y="442"/>
                  </a:lnTo>
                  <a:lnTo>
                    <a:pt x="3070" y="477"/>
                  </a:lnTo>
                  <a:lnTo>
                    <a:pt x="3076" y="503"/>
                  </a:lnTo>
                  <a:lnTo>
                    <a:pt x="3089" y="528"/>
                  </a:lnTo>
                  <a:lnTo>
                    <a:pt x="3098" y="539"/>
                  </a:lnTo>
                  <a:lnTo>
                    <a:pt x="3106" y="546"/>
                  </a:lnTo>
                  <a:lnTo>
                    <a:pt x="3112" y="553"/>
                  </a:lnTo>
                  <a:lnTo>
                    <a:pt x="3115" y="562"/>
                  </a:lnTo>
                  <a:lnTo>
                    <a:pt x="3117" y="577"/>
                  </a:lnTo>
                  <a:lnTo>
                    <a:pt x="3118" y="598"/>
                  </a:lnTo>
                  <a:lnTo>
                    <a:pt x="3121" y="616"/>
                  </a:lnTo>
                  <a:lnTo>
                    <a:pt x="3124" y="632"/>
                  </a:lnTo>
                  <a:lnTo>
                    <a:pt x="3123" y="650"/>
                  </a:lnTo>
                  <a:lnTo>
                    <a:pt x="3123" y="669"/>
                  </a:lnTo>
                  <a:lnTo>
                    <a:pt x="3126" y="688"/>
                  </a:lnTo>
                  <a:lnTo>
                    <a:pt x="3129" y="703"/>
                  </a:lnTo>
                  <a:lnTo>
                    <a:pt x="3129" y="716"/>
                  </a:lnTo>
                  <a:lnTo>
                    <a:pt x="3126" y="731"/>
                  </a:lnTo>
                  <a:lnTo>
                    <a:pt x="3121" y="753"/>
                  </a:lnTo>
                  <a:lnTo>
                    <a:pt x="3115" y="776"/>
                  </a:lnTo>
                  <a:lnTo>
                    <a:pt x="3107" y="800"/>
                  </a:lnTo>
                  <a:lnTo>
                    <a:pt x="3096" y="818"/>
                  </a:lnTo>
                  <a:lnTo>
                    <a:pt x="3087" y="829"/>
                  </a:lnTo>
                  <a:lnTo>
                    <a:pt x="3078" y="838"/>
                  </a:lnTo>
                  <a:lnTo>
                    <a:pt x="3070" y="849"/>
                  </a:lnTo>
                  <a:lnTo>
                    <a:pt x="3064" y="860"/>
                  </a:lnTo>
                  <a:lnTo>
                    <a:pt x="3056" y="871"/>
                  </a:lnTo>
                  <a:lnTo>
                    <a:pt x="3047" y="883"/>
                  </a:lnTo>
                  <a:lnTo>
                    <a:pt x="3036" y="900"/>
                  </a:lnTo>
                  <a:lnTo>
                    <a:pt x="3025" y="918"/>
                  </a:lnTo>
                  <a:lnTo>
                    <a:pt x="3016" y="932"/>
                  </a:lnTo>
                  <a:lnTo>
                    <a:pt x="3009" y="944"/>
                  </a:lnTo>
                  <a:lnTo>
                    <a:pt x="3009" y="959"/>
                  </a:lnTo>
                  <a:lnTo>
                    <a:pt x="3009" y="977"/>
                  </a:lnTo>
                  <a:lnTo>
                    <a:pt x="3008" y="995"/>
                  </a:lnTo>
                  <a:lnTo>
                    <a:pt x="3006" y="1017"/>
                  </a:lnTo>
                  <a:lnTo>
                    <a:pt x="3003" y="1036"/>
                  </a:lnTo>
                  <a:lnTo>
                    <a:pt x="3003" y="1051"/>
                  </a:lnTo>
                  <a:lnTo>
                    <a:pt x="3006" y="1067"/>
                  </a:lnTo>
                  <a:lnTo>
                    <a:pt x="3011" y="1082"/>
                  </a:lnTo>
                  <a:lnTo>
                    <a:pt x="3017" y="1098"/>
                  </a:lnTo>
                  <a:lnTo>
                    <a:pt x="3020" y="1112"/>
                  </a:lnTo>
                  <a:lnTo>
                    <a:pt x="3019" y="1121"/>
                  </a:lnTo>
                  <a:lnTo>
                    <a:pt x="3014" y="1129"/>
                  </a:lnTo>
                  <a:lnTo>
                    <a:pt x="3008" y="1133"/>
                  </a:lnTo>
                  <a:lnTo>
                    <a:pt x="3000" y="1135"/>
                  </a:lnTo>
                  <a:lnTo>
                    <a:pt x="2991" y="1130"/>
                  </a:lnTo>
                  <a:lnTo>
                    <a:pt x="2981" y="1118"/>
                  </a:lnTo>
                  <a:lnTo>
                    <a:pt x="2969" y="1101"/>
                  </a:lnTo>
                  <a:lnTo>
                    <a:pt x="2957" y="1091"/>
                  </a:lnTo>
                  <a:lnTo>
                    <a:pt x="2944" y="1087"/>
                  </a:lnTo>
                  <a:lnTo>
                    <a:pt x="2930" y="1091"/>
                  </a:lnTo>
                  <a:lnTo>
                    <a:pt x="2912" y="1101"/>
                  </a:lnTo>
                  <a:lnTo>
                    <a:pt x="2894" y="1107"/>
                  </a:lnTo>
                  <a:lnTo>
                    <a:pt x="2887" y="1110"/>
                  </a:lnTo>
                  <a:lnTo>
                    <a:pt x="2882" y="1113"/>
                  </a:lnTo>
                  <a:lnTo>
                    <a:pt x="2879" y="1121"/>
                  </a:lnTo>
                  <a:lnTo>
                    <a:pt x="2873" y="1135"/>
                  </a:lnTo>
                  <a:lnTo>
                    <a:pt x="2866" y="1155"/>
                  </a:lnTo>
                  <a:lnTo>
                    <a:pt x="2862" y="1174"/>
                  </a:lnTo>
                  <a:lnTo>
                    <a:pt x="2857" y="1191"/>
                  </a:lnTo>
                  <a:lnTo>
                    <a:pt x="2854" y="1208"/>
                  </a:lnTo>
                  <a:lnTo>
                    <a:pt x="2853" y="1228"/>
                  </a:lnTo>
                  <a:lnTo>
                    <a:pt x="2851" y="1253"/>
                  </a:lnTo>
                  <a:lnTo>
                    <a:pt x="2853" y="1273"/>
                  </a:lnTo>
                  <a:lnTo>
                    <a:pt x="2854" y="1287"/>
                  </a:lnTo>
                  <a:lnTo>
                    <a:pt x="2859" y="1298"/>
                  </a:lnTo>
                  <a:lnTo>
                    <a:pt x="2865" y="1304"/>
                  </a:lnTo>
                  <a:lnTo>
                    <a:pt x="2870" y="1310"/>
                  </a:lnTo>
                  <a:lnTo>
                    <a:pt x="2876" y="1318"/>
                  </a:lnTo>
                  <a:lnTo>
                    <a:pt x="2882" y="1329"/>
                  </a:lnTo>
                  <a:lnTo>
                    <a:pt x="2887" y="1345"/>
                  </a:lnTo>
                  <a:lnTo>
                    <a:pt x="2890" y="1366"/>
                  </a:lnTo>
                  <a:lnTo>
                    <a:pt x="2891" y="1393"/>
                  </a:lnTo>
                  <a:lnTo>
                    <a:pt x="2890" y="1425"/>
                  </a:lnTo>
                  <a:lnTo>
                    <a:pt x="2888" y="1452"/>
                  </a:lnTo>
                  <a:lnTo>
                    <a:pt x="2890" y="1473"/>
                  </a:lnTo>
                  <a:lnTo>
                    <a:pt x="2893" y="1491"/>
                  </a:lnTo>
                  <a:lnTo>
                    <a:pt x="2894" y="1506"/>
                  </a:lnTo>
                  <a:lnTo>
                    <a:pt x="2893" y="1522"/>
                  </a:lnTo>
                  <a:lnTo>
                    <a:pt x="2888" y="1539"/>
                  </a:lnTo>
                  <a:lnTo>
                    <a:pt x="2882" y="1560"/>
                  </a:lnTo>
                  <a:lnTo>
                    <a:pt x="2879" y="1577"/>
                  </a:lnTo>
                  <a:lnTo>
                    <a:pt x="2876" y="1590"/>
                  </a:lnTo>
                  <a:lnTo>
                    <a:pt x="2873" y="1599"/>
                  </a:lnTo>
                  <a:lnTo>
                    <a:pt x="2866" y="1605"/>
                  </a:lnTo>
                  <a:lnTo>
                    <a:pt x="2857" y="1612"/>
                  </a:lnTo>
                  <a:lnTo>
                    <a:pt x="2846" y="1624"/>
                  </a:lnTo>
                  <a:lnTo>
                    <a:pt x="2834" y="1640"/>
                  </a:lnTo>
                  <a:lnTo>
                    <a:pt x="2823" y="1661"/>
                  </a:lnTo>
                  <a:lnTo>
                    <a:pt x="2812" y="1688"/>
                  </a:lnTo>
                  <a:lnTo>
                    <a:pt x="2804" y="1714"/>
                  </a:lnTo>
                  <a:lnTo>
                    <a:pt x="2797" y="1737"/>
                  </a:lnTo>
                  <a:lnTo>
                    <a:pt x="2790" y="1758"/>
                  </a:lnTo>
                  <a:lnTo>
                    <a:pt x="2786" y="1775"/>
                  </a:lnTo>
                  <a:lnTo>
                    <a:pt x="2787" y="1789"/>
                  </a:lnTo>
                  <a:lnTo>
                    <a:pt x="2789" y="1803"/>
                  </a:lnTo>
                  <a:lnTo>
                    <a:pt x="2786" y="1815"/>
                  </a:lnTo>
                  <a:lnTo>
                    <a:pt x="2783" y="1827"/>
                  </a:lnTo>
                  <a:lnTo>
                    <a:pt x="2781" y="1843"/>
                  </a:lnTo>
                  <a:lnTo>
                    <a:pt x="2781" y="1859"/>
                  </a:lnTo>
                  <a:lnTo>
                    <a:pt x="2786" y="1877"/>
                  </a:lnTo>
                  <a:lnTo>
                    <a:pt x="2790" y="1897"/>
                  </a:lnTo>
                  <a:lnTo>
                    <a:pt x="2797" y="1919"/>
                  </a:lnTo>
                  <a:lnTo>
                    <a:pt x="2804" y="1936"/>
                  </a:lnTo>
                  <a:lnTo>
                    <a:pt x="2811" y="1949"/>
                  </a:lnTo>
                  <a:lnTo>
                    <a:pt x="2818" y="1958"/>
                  </a:lnTo>
                  <a:lnTo>
                    <a:pt x="2828" y="1969"/>
                  </a:lnTo>
                  <a:lnTo>
                    <a:pt x="2839" y="1983"/>
                  </a:lnTo>
                  <a:lnTo>
                    <a:pt x="2849" y="1997"/>
                  </a:lnTo>
                  <a:lnTo>
                    <a:pt x="2860" y="2011"/>
                  </a:lnTo>
                  <a:lnTo>
                    <a:pt x="2868" y="2022"/>
                  </a:lnTo>
                  <a:lnTo>
                    <a:pt x="2873" y="2031"/>
                  </a:lnTo>
                  <a:lnTo>
                    <a:pt x="2873" y="2037"/>
                  </a:lnTo>
                  <a:lnTo>
                    <a:pt x="2865" y="2040"/>
                  </a:lnTo>
                  <a:lnTo>
                    <a:pt x="2854" y="2042"/>
                  </a:lnTo>
                  <a:lnTo>
                    <a:pt x="2842" y="2040"/>
                  </a:lnTo>
                  <a:lnTo>
                    <a:pt x="2828" y="2042"/>
                  </a:lnTo>
                  <a:lnTo>
                    <a:pt x="2815" y="2046"/>
                  </a:lnTo>
                  <a:lnTo>
                    <a:pt x="2793" y="2060"/>
                  </a:lnTo>
                  <a:lnTo>
                    <a:pt x="2772" y="2079"/>
                  </a:lnTo>
                  <a:lnTo>
                    <a:pt x="2753" y="2101"/>
                  </a:lnTo>
                  <a:lnTo>
                    <a:pt x="2745" y="2116"/>
                  </a:lnTo>
                  <a:lnTo>
                    <a:pt x="2739" y="2130"/>
                  </a:lnTo>
                  <a:lnTo>
                    <a:pt x="2738" y="2144"/>
                  </a:lnTo>
                  <a:lnTo>
                    <a:pt x="2739" y="2160"/>
                  </a:lnTo>
                  <a:lnTo>
                    <a:pt x="2739" y="2177"/>
                  </a:lnTo>
                  <a:lnTo>
                    <a:pt x="2741" y="2194"/>
                  </a:lnTo>
                  <a:lnTo>
                    <a:pt x="2738" y="2211"/>
                  </a:lnTo>
                  <a:lnTo>
                    <a:pt x="2730" y="2225"/>
                  </a:lnTo>
                  <a:lnTo>
                    <a:pt x="2717" y="2234"/>
                  </a:lnTo>
                  <a:lnTo>
                    <a:pt x="2700" y="2239"/>
                  </a:lnTo>
                  <a:lnTo>
                    <a:pt x="2685" y="2244"/>
                  </a:lnTo>
                  <a:lnTo>
                    <a:pt x="2668" y="2250"/>
                  </a:lnTo>
                  <a:lnTo>
                    <a:pt x="2649" y="2265"/>
                  </a:lnTo>
                  <a:lnTo>
                    <a:pt x="2632" y="2281"/>
                  </a:lnTo>
                  <a:lnTo>
                    <a:pt x="2623" y="2298"/>
                  </a:lnTo>
                  <a:lnTo>
                    <a:pt x="2616" y="2310"/>
                  </a:lnTo>
                  <a:lnTo>
                    <a:pt x="2612" y="2320"/>
                  </a:lnTo>
                  <a:lnTo>
                    <a:pt x="2604" y="2323"/>
                  </a:lnTo>
                  <a:lnTo>
                    <a:pt x="2595" y="2321"/>
                  </a:lnTo>
                  <a:lnTo>
                    <a:pt x="2587" y="2318"/>
                  </a:lnTo>
                  <a:lnTo>
                    <a:pt x="2579" y="2317"/>
                  </a:lnTo>
                  <a:lnTo>
                    <a:pt x="2573" y="2314"/>
                  </a:lnTo>
                  <a:lnTo>
                    <a:pt x="2568" y="2310"/>
                  </a:lnTo>
                  <a:lnTo>
                    <a:pt x="2567" y="2306"/>
                  </a:lnTo>
                  <a:lnTo>
                    <a:pt x="2567" y="2296"/>
                  </a:lnTo>
                  <a:lnTo>
                    <a:pt x="2571" y="2284"/>
                  </a:lnTo>
                  <a:lnTo>
                    <a:pt x="2576" y="2275"/>
                  </a:lnTo>
                  <a:lnTo>
                    <a:pt x="2579" y="2267"/>
                  </a:lnTo>
                  <a:lnTo>
                    <a:pt x="2582" y="2258"/>
                  </a:lnTo>
                  <a:lnTo>
                    <a:pt x="2582" y="2244"/>
                  </a:lnTo>
                  <a:lnTo>
                    <a:pt x="2582" y="2231"/>
                  </a:lnTo>
                  <a:lnTo>
                    <a:pt x="2582" y="2223"/>
                  </a:lnTo>
                  <a:lnTo>
                    <a:pt x="2584" y="2217"/>
                  </a:lnTo>
                  <a:lnTo>
                    <a:pt x="2585" y="2209"/>
                  </a:lnTo>
                  <a:lnTo>
                    <a:pt x="2587" y="2197"/>
                  </a:lnTo>
                  <a:lnTo>
                    <a:pt x="2587" y="2186"/>
                  </a:lnTo>
                  <a:lnTo>
                    <a:pt x="2585" y="2178"/>
                  </a:lnTo>
                  <a:lnTo>
                    <a:pt x="2584" y="2172"/>
                  </a:lnTo>
                  <a:lnTo>
                    <a:pt x="2584" y="2166"/>
                  </a:lnTo>
                  <a:lnTo>
                    <a:pt x="2587" y="2158"/>
                  </a:lnTo>
                  <a:lnTo>
                    <a:pt x="2595" y="2150"/>
                  </a:lnTo>
                  <a:lnTo>
                    <a:pt x="2602" y="2143"/>
                  </a:lnTo>
                  <a:lnTo>
                    <a:pt x="2607" y="2136"/>
                  </a:lnTo>
                  <a:lnTo>
                    <a:pt x="2610" y="2133"/>
                  </a:lnTo>
                  <a:lnTo>
                    <a:pt x="2613" y="2129"/>
                  </a:lnTo>
                  <a:lnTo>
                    <a:pt x="2618" y="2123"/>
                  </a:lnTo>
                  <a:lnTo>
                    <a:pt x="2626" y="2112"/>
                  </a:lnTo>
                  <a:lnTo>
                    <a:pt x="2637" y="2101"/>
                  </a:lnTo>
                  <a:lnTo>
                    <a:pt x="2643" y="2091"/>
                  </a:lnTo>
                  <a:lnTo>
                    <a:pt x="2646" y="2085"/>
                  </a:lnTo>
                  <a:lnTo>
                    <a:pt x="2643" y="2077"/>
                  </a:lnTo>
                  <a:lnTo>
                    <a:pt x="2635" y="2068"/>
                  </a:lnTo>
                  <a:lnTo>
                    <a:pt x="2623" y="2060"/>
                  </a:lnTo>
                  <a:lnTo>
                    <a:pt x="2609" y="2060"/>
                  </a:lnTo>
                  <a:lnTo>
                    <a:pt x="2596" y="2064"/>
                  </a:lnTo>
                  <a:lnTo>
                    <a:pt x="2585" y="2070"/>
                  </a:lnTo>
                  <a:lnTo>
                    <a:pt x="2576" y="2073"/>
                  </a:lnTo>
                  <a:lnTo>
                    <a:pt x="2567" y="2079"/>
                  </a:lnTo>
                  <a:lnTo>
                    <a:pt x="2559" y="2087"/>
                  </a:lnTo>
                  <a:lnTo>
                    <a:pt x="2553" y="2099"/>
                  </a:lnTo>
                  <a:lnTo>
                    <a:pt x="2545" y="2110"/>
                  </a:lnTo>
                  <a:lnTo>
                    <a:pt x="2539" y="2116"/>
                  </a:lnTo>
                  <a:lnTo>
                    <a:pt x="2533" y="2119"/>
                  </a:lnTo>
                  <a:lnTo>
                    <a:pt x="2526" y="2121"/>
                  </a:lnTo>
                  <a:lnTo>
                    <a:pt x="2522" y="2126"/>
                  </a:lnTo>
                  <a:lnTo>
                    <a:pt x="2519" y="2132"/>
                  </a:lnTo>
                  <a:lnTo>
                    <a:pt x="2519" y="2144"/>
                  </a:lnTo>
                  <a:lnTo>
                    <a:pt x="2525" y="2161"/>
                  </a:lnTo>
                  <a:lnTo>
                    <a:pt x="2529" y="2174"/>
                  </a:lnTo>
                  <a:lnTo>
                    <a:pt x="2534" y="2186"/>
                  </a:lnTo>
                  <a:lnTo>
                    <a:pt x="2537" y="2200"/>
                  </a:lnTo>
                  <a:lnTo>
                    <a:pt x="2539" y="2213"/>
                  </a:lnTo>
                  <a:lnTo>
                    <a:pt x="2539" y="2223"/>
                  </a:lnTo>
                  <a:lnTo>
                    <a:pt x="2539" y="2231"/>
                  </a:lnTo>
                  <a:lnTo>
                    <a:pt x="2534" y="2237"/>
                  </a:lnTo>
                  <a:lnTo>
                    <a:pt x="2525" y="2241"/>
                  </a:lnTo>
                  <a:lnTo>
                    <a:pt x="2519" y="2241"/>
                  </a:lnTo>
                  <a:lnTo>
                    <a:pt x="2514" y="2236"/>
                  </a:lnTo>
                  <a:lnTo>
                    <a:pt x="2512" y="2228"/>
                  </a:lnTo>
                  <a:lnTo>
                    <a:pt x="2511" y="2219"/>
                  </a:lnTo>
                  <a:lnTo>
                    <a:pt x="2508" y="2209"/>
                  </a:lnTo>
                  <a:lnTo>
                    <a:pt x="2503" y="2200"/>
                  </a:lnTo>
                  <a:lnTo>
                    <a:pt x="2495" y="2194"/>
                  </a:lnTo>
                  <a:lnTo>
                    <a:pt x="2478" y="2186"/>
                  </a:lnTo>
                  <a:lnTo>
                    <a:pt x="2463" y="2182"/>
                  </a:lnTo>
                  <a:lnTo>
                    <a:pt x="2449" y="2182"/>
                  </a:lnTo>
                  <a:lnTo>
                    <a:pt x="2438" y="2186"/>
                  </a:lnTo>
                  <a:lnTo>
                    <a:pt x="2425" y="2192"/>
                  </a:lnTo>
                  <a:lnTo>
                    <a:pt x="2411" y="2199"/>
                  </a:lnTo>
                  <a:lnTo>
                    <a:pt x="2396" y="2206"/>
                  </a:lnTo>
                  <a:lnTo>
                    <a:pt x="2382" y="2216"/>
                  </a:lnTo>
                  <a:lnTo>
                    <a:pt x="2374" y="2227"/>
                  </a:lnTo>
                  <a:lnTo>
                    <a:pt x="2368" y="2248"/>
                  </a:lnTo>
                  <a:lnTo>
                    <a:pt x="2368" y="2272"/>
                  </a:lnTo>
                  <a:lnTo>
                    <a:pt x="2369" y="2290"/>
                  </a:lnTo>
                  <a:lnTo>
                    <a:pt x="2374" y="2301"/>
                  </a:lnTo>
                  <a:lnTo>
                    <a:pt x="2380" y="2314"/>
                  </a:lnTo>
                  <a:lnTo>
                    <a:pt x="2385" y="2326"/>
                  </a:lnTo>
                  <a:lnTo>
                    <a:pt x="2386" y="2337"/>
                  </a:lnTo>
                  <a:lnTo>
                    <a:pt x="2383" y="2345"/>
                  </a:lnTo>
                  <a:lnTo>
                    <a:pt x="2374" y="2352"/>
                  </a:lnTo>
                  <a:lnTo>
                    <a:pt x="2365" y="2360"/>
                  </a:lnTo>
                  <a:lnTo>
                    <a:pt x="2357" y="2369"/>
                  </a:lnTo>
                  <a:lnTo>
                    <a:pt x="2351" y="2379"/>
                  </a:lnTo>
                  <a:lnTo>
                    <a:pt x="2348" y="2390"/>
                  </a:lnTo>
                  <a:lnTo>
                    <a:pt x="2346" y="2400"/>
                  </a:lnTo>
                  <a:lnTo>
                    <a:pt x="2341" y="2408"/>
                  </a:lnTo>
                  <a:lnTo>
                    <a:pt x="2334" y="2413"/>
                  </a:lnTo>
                  <a:lnTo>
                    <a:pt x="2324" y="2418"/>
                  </a:lnTo>
                  <a:lnTo>
                    <a:pt x="2313" y="2425"/>
                  </a:lnTo>
                  <a:lnTo>
                    <a:pt x="2306" y="2430"/>
                  </a:lnTo>
                  <a:lnTo>
                    <a:pt x="2298" y="2432"/>
                  </a:lnTo>
                  <a:lnTo>
                    <a:pt x="2296" y="2430"/>
                  </a:lnTo>
                  <a:lnTo>
                    <a:pt x="2293" y="2428"/>
                  </a:lnTo>
                  <a:lnTo>
                    <a:pt x="2290" y="2427"/>
                  </a:lnTo>
                  <a:lnTo>
                    <a:pt x="2287" y="2425"/>
                  </a:lnTo>
                  <a:lnTo>
                    <a:pt x="2284" y="2422"/>
                  </a:lnTo>
                  <a:lnTo>
                    <a:pt x="2281" y="2419"/>
                  </a:lnTo>
                  <a:lnTo>
                    <a:pt x="2278" y="2414"/>
                  </a:lnTo>
                  <a:lnTo>
                    <a:pt x="2276" y="2408"/>
                  </a:lnTo>
                  <a:lnTo>
                    <a:pt x="2270" y="2390"/>
                  </a:lnTo>
                  <a:lnTo>
                    <a:pt x="2265" y="2376"/>
                  </a:lnTo>
                  <a:lnTo>
                    <a:pt x="2267" y="2362"/>
                  </a:lnTo>
                  <a:lnTo>
                    <a:pt x="2270" y="2351"/>
                  </a:lnTo>
                  <a:lnTo>
                    <a:pt x="2273" y="2341"/>
                  </a:lnTo>
                  <a:lnTo>
                    <a:pt x="2275" y="2327"/>
                  </a:lnTo>
                  <a:lnTo>
                    <a:pt x="2275" y="2317"/>
                  </a:lnTo>
                  <a:lnTo>
                    <a:pt x="2273" y="2307"/>
                  </a:lnTo>
                  <a:lnTo>
                    <a:pt x="2273" y="2300"/>
                  </a:lnTo>
                  <a:lnTo>
                    <a:pt x="2273" y="2293"/>
                  </a:lnTo>
                  <a:lnTo>
                    <a:pt x="2278" y="2292"/>
                  </a:lnTo>
                  <a:lnTo>
                    <a:pt x="2284" y="2292"/>
                  </a:lnTo>
                  <a:lnTo>
                    <a:pt x="2292" y="2293"/>
                  </a:lnTo>
                  <a:lnTo>
                    <a:pt x="2300" y="2295"/>
                  </a:lnTo>
                  <a:lnTo>
                    <a:pt x="2306" y="2295"/>
                  </a:lnTo>
                  <a:lnTo>
                    <a:pt x="2309" y="2289"/>
                  </a:lnTo>
                  <a:lnTo>
                    <a:pt x="2307" y="2276"/>
                  </a:lnTo>
                  <a:lnTo>
                    <a:pt x="2300" y="2265"/>
                  </a:lnTo>
                  <a:lnTo>
                    <a:pt x="2292" y="2259"/>
                  </a:lnTo>
                  <a:lnTo>
                    <a:pt x="2284" y="2254"/>
                  </a:lnTo>
                  <a:lnTo>
                    <a:pt x="2273" y="2251"/>
                  </a:lnTo>
                  <a:lnTo>
                    <a:pt x="2259" y="2247"/>
                  </a:lnTo>
                  <a:lnTo>
                    <a:pt x="2248" y="2244"/>
                  </a:lnTo>
                  <a:lnTo>
                    <a:pt x="2240" y="2245"/>
                  </a:lnTo>
                  <a:lnTo>
                    <a:pt x="2236" y="2250"/>
                  </a:lnTo>
                  <a:lnTo>
                    <a:pt x="2228" y="2259"/>
                  </a:lnTo>
                  <a:lnTo>
                    <a:pt x="2220" y="2270"/>
                  </a:lnTo>
                  <a:lnTo>
                    <a:pt x="2211" y="2281"/>
                  </a:lnTo>
                  <a:lnTo>
                    <a:pt x="2205" y="2290"/>
                  </a:lnTo>
                  <a:lnTo>
                    <a:pt x="2200" y="2301"/>
                  </a:lnTo>
                  <a:lnTo>
                    <a:pt x="2195" y="2310"/>
                  </a:lnTo>
                  <a:lnTo>
                    <a:pt x="2189" y="2318"/>
                  </a:lnTo>
                  <a:lnTo>
                    <a:pt x="2181" y="2323"/>
                  </a:lnTo>
                  <a:lnTo>
                    <a:pt x="2167" y="2326"/>
                  </a:lnTo>
                  <a:lnTo>
                    <a:pt x="2157" y="2331"/>
                  </a:lnTo>
                  <a:lnTo>
                    <a:pt x="2149" y="2337"/>
                  </a:lnTo>
                  <a:lnTo>
                    <a:pt x="2147" y="2343"/>
                  </a:lnTo>
                  <a:lnTo>
                    <a:pt x="2147" y="2351"/>
                  </a:lnTo>
                  <a:lnTo>
                    <a:pt x="2149" y="2362"/>
                  </a:lnTo>
                  <a:lnTo>
                    <a:pt x="2146" y="2374"/>
                  </a:lnTo>
                  <a:lnTo>
                    <a:pt x="2140" y="2385"/>
                  </a:lnTo>
                  <a:lnTo>
                    <a:pt x="2133" y="2394"/>
                  </a:lnTo>
                  <a:lnTo>
                    <a:pt x="2127" y="2407"/>
                  </a:lnTo>
                  <a:lnTo>
                    <a:pt x="2122" y="2421"/>
                  </a:lnTo>
                  <a:lnTo>
                    <a:pt x="2118" y="2432"/>
                  </a:lnTo>
                  <a:lnTo>
                    <a:pt x="2115" y="2436"/>
                  </a:lnTo>
                  <a:lnTo>
                    <a:pt x="2110" y="2439"/>
                  </a:lnTo>
                  <a:lnTo>
                    <a:pt x="2101" y="2438"/>
                  </a:lnTo>
                  <a:lnTo>
                    <a:pt x="2087" y="2436"/>
                  </a:lnTo>
                  <a:lnTo>
                    <a:pt x="2066" y="2433"/>
                  </a:lnTo>
                  <a:lnTo>
                    <a:pt x="2046" y="2427"/>
                  </a:lnTo>
                  <a:lnTo>
                    <a:pt x="2029" y="2421"/>
                  </a:lnTo>
                  <a:lnTo>
                    <a:pt x="2015" y="2418"/>
                  </a:lnTo>
                  <a:lnTo>
                    <a:pt x="2006" y="2419"/>
                  </a:lnTo>
                  <a:lnTo>
                    <a:pt x="1997" y="2421"/>
                  </a:lnTo>
                  <a:lnTo>
                    <a:pt x="1980" y="2424"/>
                  </a:lnTo>
                  <a:lnTo>
                    <a:pt x="1959" y="2425"/>
                  </a:lnTo>
                  <a:lnTo>
                    <a:pt x="1936" y="2425"/>
                  </a:lnTo>
                  <a:lnTo>
                    <a:pt x="1914" y="2427"/>
                  </a:lnTo>
                  <a:lnTo>
                    <a:pt x="1896" y="2428"/>
                  </a:lnTo>
                  <a:lnTo>
                    <a:pt x="1883" y="2432"/>
                  </a:lnTo>
                  <a:lnTo>
                    <a:pt x="1865" y="2435"/>
                  </a:lnTo>
                  <a:lnTo>
                    <a:pt x="1851" y="2436"/>
                  </a:lnTo>
                  <a:lnTo>
                    <a:pt x="1837" y="2436"/>
                  </a:lnTo>
                  <a:lnTo>
                    <a:pt x="1827" y="2438"/>
                  </a:lnTo>
                  <a:lnTo>
                    <a:pt x="1816" y="2439"/>
                  </a:lnTo>
                  <a:lnTo>
                    <a:pt x="1804" y="2442"/>
                  </a:lnTo>
                  <a:lnTo>
                    <a:pt x="1793" y="2444"/>
                  </a:lnTo>
                  <a:lnTo>
                    <a:pt x="1785" y="2442"/>
                  </a:lnTo>
                  <a:lnTo>
                    <a:pt x="1784" y="2438"/>
                  </a:lnTo>
                  <a:lnTo>
                    <a:pt x="1788" y="2427"/>
                  </a:lnTo>
                  <a:lnTo>
                    <a:pt x="1798" y="2418"/>
                  </a:lnTo>
                  <a:lnTo>
                    <a:pt x="1812" y="2410"/>
                  </a:lnTo>
                  <a:lnTo>
                    <a:pt x="1824" y="2407"/>
                  </a:lnTo>
                  <a:lnTo>
                    <a:pt x="1833" y="2405"/>
                  </a:lnTo>
                  <a:lnTo>
                    <a:pt x="1841" y="2405"/>
                  </a:lnTo>
                  <a:lnTo>
                    <a:pt x="1847" y="2402"/>
                  </a:lnTo>
                  <a:lnTo>
                    <a:pt x="1851" y="2394"/>
                  </a:lnTo>
                  <a:lnTo>
                    <a:pt x="1851" y="2388"/>
                  </a:lnTo>
                  <a:lnTo>
                    <a:pt x="1851" y="2382"/>
                  </a:lnTo>
                  <a:lnTo>
                    <a:pt x="1847" y="2377"/>
                  </a:lnTo>
                  <a:lnTo>
                    <a:pt x="1844" y="2373"/>
                  </a:lnTo>
                  <a:lnTo>
                    <a:pt x="1841" y="2369"/>
                  </a:lnTo>
                  <a:lnTo>
                    <a:pt x="1837" y="2368"/>
                  </a:lnTo>
                  <a:lnTo>
                    <a:pt x="1833" y="2368"/>
                  </a:lnTo>
                  <a:lnTo>
                    <a:pt x="1829" y="2369"/>
                  </a:lnTo>
                  <a:lnTo>
                    <a:pt x="1820" y="2376"/>
                  </a:lnTo>
                  <a:lnTo>
                    <a:pt x="1807" y="2382"/>
                  </a:lnTo>
                  <a:lnTo>
                    <a:pt x="1795" y="2388"/>
                  </a:lnTo>
                  <a:lnTo>
                    <a:pt x="1784" y="2390"/>
                  </a:lnTo>
                  <a:lnTo>
                    <a:pt x="1776" y="2391"/>
                  </a:lnTo>
                  <a:lnTo>
                    <a:pt x="1770" y="2396"/>
                  </a:lnTo>
                  <a:lnTo>
                    <a:pt x="1764" y="2399"/>
                  </a:lnTo>
                  <a:lnTo>
                    <a:pt x="1757" y="2399"/>
                  </a:lnTo>
                  <a:lnTo>
                    <a:pt x="1751" y="2391"/>
                  </a:lnTo>
                  <a:lnTo>
                    <a:pt x="1742" y="2373"/>
                  </a:lnTo>
                  <a:lnTo>
                    <a:pt x="1737" y="2354"/>
                  </a:lnTo>
                  <a:lnTo>
                    <a:pt x="1731" y="2337"/>
                  </a:lnTo>
                  <a:lnTo>
                    <a:pt x="1728" y="2329"/>
                  </a:lnTo>
                  <a:lnTo>
                    <a:pt x="1723" y="2324"/>
                  </a:lnTo>
                  <a:lnTo>
                    <a:pt x="1720" y="2320"/>
                  </a:lnTo>
                  <a:lnTo>
                    <a:pt x="1722" y="2315"/>
                  </a:lnTo>
                  <a:lnTo>
                    <a:pt x="1725" y="2307"/>
                  </a:lnTo>
                  <a:lnTo>
                    <a:pt x="1731" y="2298"/>
                  </a:lnTo>
                  <a:lnTo>
                    <a:pt x="1734" y="2289"/>
                  </a:lnTo>
                  <a:lnTo>
                    <a:pt x="1734" y="2281"/>
                  </a:lnTo>
                  <a:lnTo>
                    <a:pt x="1733" y="2276"/>
                  </a:lnTo>
                  <a:lnTo>
                    <a:pt x="1725" y="2275"/>
                  </a:lnTo>
                  <a:lnTo>
                    <a:pt x="1711" y="2281"/>
                  </a:lnTo>
                  <a:lnTo>
                    <a:pt x="1695" y="2289"/>
                  </a:lnTo>
                  <a:lnTo>
                    <a:pt x="1684" y="2298"/>
                  </a:lnTo>
                  <a:lnTo>
                    <a:pt x="1678" y="2310"/>
                  </a:lnTo>
                  <a:lnTo>
                    <a:pt x="1673" y="2324"/>
                  </a:lnTo>
                  <a:lnTo>
                    <a:pt x="1670" y="2338"/>
                  </a:lnTo>
                  <a:lnTo>
                    <a:pt x="1667" y="2346"/>
                  </a:lnTo>
                  <a:lnTo>
                    <a:pt x="1660" y="2355"/>
                  </a:lnTo>
                  <a:lnTo>
                    <a:pt x="1650" y="2368"/>
                  </a:lnTo>
                  <a:lnTo>
                    <a:pt x="1641" y="2380"/>
                  </a:lnTo>
                  <a:lnTo>
                    <a:pt x="1633" y="2391"/>
                  </a:lnTo>
                  <a:lnTo>
                    <a:pt x="1630" y="2404"/>
                  </a:lnTo>
                  <a:lnTo>
                    <a:pt x="1632" y="2413"/>
                  </a:lnTo>
                  <a:lnTo>
                    <a:pt x="1641" y="2428"/>
                  </a:lnTo>
                  <a:lnTo>
                    <a:pt x="1650" y="2439"/>
                  </a:lnTo>
                  <a:lnTo>
                    <a:pt x="1666" y="2449"/>
                  </a:lnTo>
                  <a:lnTo>
                    <a:pt x="1681" y="2456"/>
                  </a:lnTo>
                  <a:lnTo>
                    <a:pt x="1694" y="2466"/>
                  </a:lnTo>
                  <a:lnTo>
                    <a:pt x="1708" y="2475"/>
                  </a:lnTo>
                  <a:lnTo>
                    <a:pt x="1717" y="2478"/>
                  </a:lnTo>
                  <a:lnTo>
                    <a:pt x="1726" y="2481"/>
                  </a:lnTo>
                  <a:lnTo>
                    <a:pt x="1734" y="2483"/>
                  </a:lnTo>
                  <a:lnTo>
                    <a:pt x="1739" y="2487"/>
                  </a:lnTo>
                  <a:lnTo>
                    <a:pt x="1740" y="2494"/>
                  </a:lnTo>
                  <a:lnTo>
                    <a:pt x="1739" y="2506"/>
                  </a:lnTo>
                  <a:lnTo>
                    <a:pt x="1739" y="2517"/>
                  </a:lnTo>
                  <a:lnTo>
                    <a:pt x="1740" y="2531"/>
                  </a:lnTo>
                  <a:lnTo>
                    <a:pt x="1740" y="2542"/>
                  </a:lnTo>
                  <a:lnTo>
                    <a:pt x="1740" y="2551"/>
                  </a:lnTo>
                  <a:lnTo>
                    <a:pt x="1739" y="2557"/>
                  </a:lnTo>
                  <a:lnTo>
                    <a:pt x="1736" y="2562"/>
                  </a:lnTo>
                  <a:lnTo>
                    <a:pt x="1728" y="2562"/>
                  </a:lnTo>
                  <a:lnTo>
                    <a:pt x="1717" y="2557"/>
                  </a:lnTo>
                  <a:lnTo>
                    <a:pt x="1706" y="2551"/>
                  </a:lnTo>
                  <a:lnTo>
                    <a:pt x="1695" y="2545"/>
                  </a:lnTo>
                  <a:lnTo>
                    <a:pt x="1684" y="2545"/>
                  </a:lnTo>
                  <a:lnTo>
                    <a:pt x="1667" y="2548"/>
                  </a:lnTo>
                  <a:lnTo>
                    <a:pt x="1652" y="2551"/>
                  </a:lnTo>
                  <a:lnTo>
                    <a:pt x="1638" y="2556"/>
                  </a:lnTo>
                  <a:lnTo>
                    <a:pt x="1622" y="2564"/>
                  </a:lnTo>
                  <a:lnTo>
                    <a:pt x="1607" y="2570"/>
                  </a:lnTo>
                  <a:lnTo>
                    <a:pt x="1593" y="2577"/>
                  </a:lnTo>
                  <a:lnTo>
                    <a:pt x="1580" y="2588"/>
                  </a:lnTo>
                  <a:lnTo>
                    <a:pt x="1571" y="2601"/>
                  </a:lnTo>
                  <a:lnTo>
                    <a:pt x="1566" y="2612"/>
                  </a:lnTo>
                  <a:lnTo>
                    <a:pt x="1568" y="2624"/>
                  </a:lnTo>
                  <a:lnTo>
                    <a:pt x="1568" y="2635"/>
                  </a:lnTo>
                  <a:lnTo>
                    <a:pt x="1566" y="2646"/>
                  </a:lnTo>
                  <a:lnTo>
                    <a:pt x="1560" y="2654"/>
                  </a:lnTo>
                  <a:lnTo>
                    <a:pt x="1551" y="2658"/>
                  </a:lnTo>
                  <a:lnTo>
                    <a:pt x="1540" y="2666"/>
                  </a:lnTo>
                  <a:lnTo>
                    <a:pt x="1529" y="2677"/>
                  </a:lnTo>
                  <a:lnTo>
                    <a:pt x="1517" y="2694"/>
                  </a:lnTo>
                  <a:lnTo>
                    <a:pt x="1507" y="2708"/>
                  </a:lnTo>
                  <a:lnTo>
                    <a:pt x="1498" y="2723"/>
                  </a:lnTo>
                  <a:lnTo>
                    <a:pt x="1492" y="2734"/>
                  </a:lnTo>
                  <a:lnTo>
                    <a:pt x="1484" y="2747"/>
                  </a:lnTo>
                  <a:lnTo>
                    <a:pt x="1476" y="2758"/>
                  </a:lnTo>
                  <a:lnTo>
                    <a:pt x="1472" y="2767"/>
                  </a:lnTo>
                  <a:lnTo>
                    <a:pt x="1467" y="2773"/>
                  </a:lnTo>
                  <a:lnTo>
                    <a:pt x="1465" y="2782"/>
                  </a:lnTo>
                  <a:lnTo>
                    <a:pt x="1462" y="2793"/>
                  </a:lnTo>
                  <a:lnTo>
                    <a:pt x="1453" y="2806"/>
                  </a:lnTo>
                  <a:lnTo>
                    <a:pt x="1442" y="2817"/>
                  </a:lnTo>
                  <a:lnTo>
                    <a:pt x="1433" y="2824"/>
                  </a:lnTo>
                  <a:lnTo>
                    <a:pt x="1420" y="2829"/>
                  </a:lnTo>
                  <a:lnTo>
                    <a:pt x="1411" y="2831"/>
                  </a:lnTo>
                  <a:lnTo>
                    <a:pt x="1402" y="2831"/>
                  </a:lnTo>
                  <a:lnTo>
                    <a:pt x="1391" y="2827"/>
                  </a:lnTo>
                  <a:lnTo>
                    <a:pt x="1377" y="2823"/>
                  </a:lnTo>
                  <a:lnTo>
                    <a:pt x="1366" y="2820"/>
                  </a:lnTo>
                  <a:lnTo>
                    <a:pt x="1358" y="2820"/>
                  </a:lnTo>
                  <a:lnTo>
                    <a:pt x="1350" y="2823"/>
                  </a:lnTo>
                  <a:lnTo>
                    <a:pt x="1344" y="2823"/>
                  </a:lnTo>
                  <a:lnTo>
                    <a:pt x="1338" y="2820"/>
                  </a:lnTo>
                  <a:lnTo>
                    <a:pt x="1332" y="2812"/>
                  </a:lnTo>
                  <a:lnTo>
                    <a:pt x="1318" y="2798"/>
                  </a:lnTo>
                  <a:lnTo>
                    <a:pt x="1305" y="2787"/>
                  </a:lnTo>
                  <a:lnTo>
                    <a:pt x="1296" y="2778"/>
                  </a:lnTo>
                  <a:lnTo>
                    <a:pt x="1291" y="2768"/>
                  </a:lnTo>
                  <a:lnTo>
                    <a:pt x="1293" y="2761"/>
                  </a:lnTo>
                  <a:lnTo>
                    <a:pt x="1294" y="2756"/>
                  </a:lnTo>
                  <a:lnTo>
                    <a:pt x="1294" y="2750"/>
                  </a:lnTo>
                  <a:lnTo>
                    <a:pt x="1294" y="2744"/>
                  </a:lnTo>
                  <a:lnTo>
                    <a:pt x="1288" y="2736"/>
                  </a:lnTo>
                  <a:lnTo>
                    <a:pt x="1277" y="2728"/>
                  </a:lnTo>
                  <a:lnTo>
                    <a:pt x="1267" y="2720"/>
                  </a:lnTo>
                  <a:lnTo>
                    <a:pt x="1256" y="2714"/>
                  </a:lnTo>
                  <a:lnTo>
                    <a:pt x="1246" y="2703"/>
                  </a:lnTo>
                  <a:lnTo>
                    <a:pt x="1239" y="2694"/>
                  </a:lnTo>
                  <a:lnTo>
                    <a:pt x="1234" y="2685"/>
                  </a:lnTo>
                  <a:lnTo>
                    <a:pt x="1229" y="2675"/>
                  </a:lnTo>
                  <a:lnTo>
                    <a:pt x="1229" y="2663"/>
                  </a:lnTo>
                  <a:lnTo>
                    <a:pt x="1229" y="2647"/>
                  </a:lnTo>
                  <a:lnTo>
                    <a:pt x="1226" y="2633"/>
                  </a:lnTo>
                  <a:lnTo>
                    <a:pt x="1225" y="2618"/>
                  </a:lnTo>
                  <a:lnTo>
                    <a:pt x="1228" y="2602"/>
                  </a:lnTo>
                  <a:lnTo>
                    <a:pt x="1231" y="2587"/>
                  </a:lnTo>
                  <a:lnTo>
                    <a:pt x="1229" y="2574"/>
                  </a:lnTo>
                  <a:lnTo>
                    <a:pt x="1225" y="2564"/>
                  </a:lnTo>
                  <a:lnTo>
                    <a:pt x="1218" y="2556"/>
                  </a:lnTo>
                  <a:lnTo>
                    <a:pt x="1215" y="2554"/>
                  </a:lnTo>
                  <a:lnTo>
                    <a:pt x="1212" y="2551"/>
                  </a:lnTo>
                  <a:lnTo>
                    <a:pt x="1209" y="2548"/>
                  </a:lnTo>
                  <a:lnTo>
                    <a:pt x="1206" y="2546"/>
                  </a:lnTo>
                  <a:lnTo>
                    <a:pt x="1206" y="2543"/>
                  </a:lnTo>
                  <a:lnTo>
                    <a:pt x="1206" y="2542"/>
                  </a:lnTo>
                  <a:lnTo>
                    <a:pt x="1207" y="2539"/>
                  </a:lnTo>
                  <a:lnTo>
                    <a:pt x="1211" y="2536"/>
                  </a:lnTo>
                  <a:lnTo>
                    <a:pt x="1217" y="2534"/>
                  </a:lnTo>
                  <a:lnTo>
                    <a:pt x="1234" y="2528"/>
                  </a:lnTo>
                  <a:lnTo>
                    <a:pt x="1248" y="2523"/>
                  </a:lnTo>
                  <a:lnTo>
                    <a:pt x="1262" y="2517"/>
                  </a:lnTo>
                  <a:lnTo>
                    <a:pt x="1273" y="2511"/>
                  </a:lnTo>
                  <a:lnTo>
                    <a:pt x="1285" y="2504"/>
                  </a:lnTo>
                  <a:lnTo>
                    <a:pt x="1296" y="2497"/>
                  </a:lnTo>
                  <a:lnTo>
                    <a:pt x="1302" y="2484"/>
                  </a:lnTo>
                  <a:lnTo>
                    <a:pt x="1307" y="2473"/>
                  </a:lnTo>
                  <a:lnTo>
                    <a:pt x="1313" y="2463"/>
                  </a:lnTo>
                  <a:lnTo>
                    <a:pt x="1318" y="2452"/>
                  </a:lnTo>
                  <a:lnTo>
                    <a:pt x="1319" y="2438"/>
                  </a:lnTo>
                  <a:lnTo>
                    <a:pt x="1319" y="2424"/>
                  </a:lnTo>
                  <a:lnTo>
                    <a:pt x="1319" y="2413"/>
                  </a:lnTo>
                  <a:lnTo>
                    <a:pt x="1316" y="2405"/>
                  </a:lnTo>
                  <a:lnTo>
                    <a:pt x="1307" y="2400"/>
                  </a:lnTo>
                  <a:lnTo>
                    <a:pt x="1293" y="2400"/>
                  </a:lnTo>
                  <a:lnTo>
                    <a:pt x="1277" y="2402"/>
                  </a:lnTo>
                  <a:lnTo>
                    <a:pt x="1262" y="2407"/>
                  </a:lnTo>
                  <a:lnTo>
                    <a:pt x="1248" y="2413"/>
                  </a:lnTo>
                  <a:lnTo>
                    <a:pt x="1237" y="2418"/>
                  </a:lnTo>
                  <a:lnTo>
                    <a:pt x="1225" y="2422"/>
                  </a:lnTo>
                  <a:lnTo>
                    <a:pt x="1212" y="2425"/>
                  </a:lnTo>
                  <a:lnTo>
                    <a:pt x="1201" y="2424"/>
                  </a:lnTo>
                  <a:lnTo>
                    <a:pt x="1192" y="2418"/>
                  </a:lnTo>
                  <a:lnTo>
                    <a:pt x="1178" y="2404"/>
                  </a:lnTo>
                  <a:lnTo>
                    <a:pt x="1162" y="2393"/>
                  </a:lnTo>
                  <a:lnTo>
                    <a:pt x="1150" y="2385"/>
                  </a:lnTo>
                  <a:lnTo>
                    <a:pt x="1141" y="2379"/>
                  </a:lnTo>
                  <a:lnTo>
                    <a:pt x="1130" y="2371"/>
                  </a:lnTo>
                  <a:lnTo>
                    <a:pt x="1117" y="2363"/>
                  </a:lnTo>
                  <a:lnTo>
                    <a:pt x="1105" y="2360"/>
                  </a:lnTo>
                  <a:lnTo>
                    <a:pt x="1091" y="2363"/>
                  </a:lnTo>
                  <a:lnTo>
                    <a:pt x="1075" y="2369"/>
                  </a:lnTo>
                  <a:lnTo>
                    <a:pt x="1057" y="2377"/>
                  </a:lnTo>
                  <a:lnTo>
                    <a:pt x="1038" y="2382"/>
                  </a:lnTo>
                  <a:lnTo>
                    <a:pt x="1018" y="2385"/>
                  </a:lnTo>
                  <a:lnTo>
                    <a:pt x="999" y="2391"/>
                  </a:lnTo>
                  <a:lnTo>
                    <a:pt x="985" y="2397"/>
                  </a:lnTo>
                  <a:lnTo>
                    <a:pt x="978" y="2405"/>
                  </a:lnTo>
                  <a:lnTo>
                    <a:pt x="970" y="2414"/>
                  </a:lnTo>
                  <a:lnTo>
                    <a:pt x="962" y="2421"/>
                  </a:lnTo>
                  <a:lnTo>
                    <a:pt x="951" y="2424"/>
                  </a:lnTo>
                  <a:lnTo>
                    <a:pt x="940" y="2424"/>
                  </a:lnTo>
                  <a:lnTo>
                    <a:pt x="928" y="2422"/>
                  </a:lnTo>
                  <a:lnTo>
                    <a:pt x="919" y="2421"/>
                  </a:lnTo>
                  <a:lnTo>
                    <a:pt x="909" y="2422"/>
                  </a:lnTo>
                  <a:lnTo>
                    <a:pt x="905" y="2427"/>
                  </a:lnTo>
                  <a:lnTo>
                    <a:pt x="905" y="2435"/>
                  </a:lnTo>
                  <a:lnTo>
                    <a:pt x="906" y="2441"/>
                  </a:lnTo>
                  <a:lnTo>
                    <a:pt x="908" y="2449"/>
                  </a:lnTo>
                  <a:lnTo>
                    <a:pt x="909" y="2455"/>
                  </a:lnTo>
                  <a:lnTo>
                    <a:pt x="906" y="2461"/>
                  </a:lnTo>
                  <a:lnTo>
                    <a:pt x="897" y="2466"/>
                  </a:lnTo>
                  <a:lnTo>
                    <a:pt x="883" y="2472"/>
                  </a:lnTo>
                  <a:lnTo>
                    <a:pt x="870" y="2477"/>
                  </a:lnTo>
                  <a:lnTo>
                    <a:pt x="860" y="2480"/>
                  </a:lnTo>
                  <a:lnTo>
                    <a:pt x="852" y="2480"/>
                  </a:lnTo>
                  <a:lnTo>
                    <a:pt x="846" y="2477"/>
                  </a:lnTo>
                  <a:lnTo>
                    <a:pt x="844" y="2472"/>
                  </a:lnTo>
                  <a:lnTo>
                    <a:pt x="842" y="2467"/>
                  </a:lnTo>
                  <a:lnTo>
                    <a:pt x="841" y="2464"/>
                  </a:lnTo>
                  <a:lnTo>
                    <a:pt x="838" y="2461"/>
                  </a:lnTo>
                  <a:lnTo>
                    <a:pt x="836" y="2458"/>
                  </a:lnTo>
                  <a:lnTo>
                    <a:pt x="833" y="2456"/>
                  </a:lnTo>
                  <a:lnTo>
                    <a:pt x="830" y="2455"/>
                  </a:lnTo>
                  <a:lnTo>
                    <a:pt x="827" y="2455"/>
                  </a:lnTo>
                  <a:lnTo>
                    <a:pt x="811" y="2458"/>
                  </a:lnTo>
                  <a:lnTo>
                    <a:pt x="796" y="2464"/>
                  </a:lnTo>
                  <a:lnTo>
                    <a:pt x="783" y="2472"/>
                  </a:lnTo>
                  <a:lnTo>
                    <a:pt x="780" y="2475"/>
                  </a:lnTo>
                  <a:lnTo>
                    <a:pt x="777" y="2475"/>
                  </a:lnTo>
                  <a:lnTo>
                    <a:pt x="776" y="2475"/>
                  </a:lnTo>
                  <a:lnTo>
                    <a:pt x="771" y="2475"/>
                  </a:lnTo>
                  <a:lnTo>
                    <a:pt x="765" y="2475"/>
                  </a:lnTo>
                  <a:lnTo>
                    <a:pt x="754" y="2480"/>
                  </a:lnTo>
                  <a:lnTo>
                    <a:pt x="740" y="2487"/>
                  </a:lnTo>
                  <a:lnTo>
                    <a:pt x="731" y="2497"/>
                  </a:lnTo>
                  <a:lnTo>
                    <a:pt x="724" y="2506"/>
                  </a:lnTo>
                  <a:lnTo>
                    <a:pt x="718" y="2512"/>
                  </a:lnTo>
                  <a:lnTo>
                    <a:pt x="713" y="2515"/>
                  </a:lnTo>
                  <a:lnTo>
                    <a:pt x="707" y="2512"/>
                  </a:lnTo>
                  <a:lnTo>
                    <a:pt x="700" y="2508"/>
                  </a:lnTo>
                  <a:lnTo>
                    <a:pt x="692" y="2503"/>
                  </a:lnTo>
                  <a:lnTo>
                    <a:pt x="686" y="2501"/>
                  </a:lnTo>
                  <a:lnTo>
                    <a:pt x="681" y="2504"/>
                  </a:lnTo>
                  <a:lnTo>
                    <a:pt x="678" y="2514"/>
                  </a:lnTo>
                  <a:lnTo>
                    <a:pt x="675" y="2525"/>
                  </a:lnTo>
                  <a:lnTo>
                    <a:pt x="672" y="2532"/>
                  </a:lnTo>
                  <a:lnTo>
                    <a:pt x="665" y="2536"/>
                  </a:lnTo>
                  <a:lnTo>
                    <a:pt x="658" y="2539"/>
                  </a:lnTo>
                  <a:lnTo>
                    <a:pt x="648" y="2545"/>
                  </a:lnTo>
                  <a:lnTo>
                    <a:pt x="639" y="2553"/>
                  </a:lnTo>
                  <a:lnTo>
                    <a:pt x="628" y="2559"/>
                  </a:lnTo>
                  <a:lnTo>
                    <a:pt x="620" y="2560"/>
                  </a:lnTo>
                  <a:lnTo>
                    <a:pt x="616" y="2557"/>
                  </a:lnTo>
                  <a:lnTo>
                    <a:pt x="613" y="2542"/>
                  </a:lnTo>
                  <a:lnTo>
                    <a:pt x="616" y="2528"/>
                  </a:lnTo>
                  <a:lnTo>
                    <a:pt x="622" y="2517"/>
                  </a:lnTo>
                  <a:lnTo>
                    <a:pt x="622" y="2514"/>
                  </a:lnTo>
                  <a:lnTo>
                    <a:pt x="616" y="2512"/>
                  </a:lnTo>
                  <a:lnTo>
                    <a:pt x="606" y="2514"/>
                  </a:lnTo>
                  <a:lnTo>
                    <a:pt x="595" y="2515"/>
                  </a:lnTo>
                  <a:lnTo>
                    <a:pt x="586" y="2517"/>
                  </a:lnTo>
                  <a:lnTo>
                    <a:pt x="577" y="2522"/>
                  </a:lnTo>
                  <a:lnTo>
                    <a:pt x="569" y="2529"/>
                  </a:lnTo>
                  <a:lnTo>
                    <a:pt x="560" y="2537"/>
                  </a:lnTo>
                  <a:lnTo>
                    <a:pt x="549" y="2545"/>
                  </a:lnTo>
                  <a:lnTo>
                    <a:pt x="536" y="2548"/>
                  </a:lnTo>
                  <a:lnTo>
                    <a:pt x="524" y="2550"/>
                  </a:lnTo>
                  <a:lnTo>
                    <a:pt x="513" y="2551"/>
                  </a:lnTo>
                  <a:lnTo>
                    <a:pt x="505" y="2551"/>
                  </a:lnTo>
                  <a:lnTo>
                    <a:pt x="499" y="2550"/>
                  </a:lnTo>
                  <a:lnTo>
                    <a:pt x="494" y="2543"/>
                  </a:lnTo>
                  <a:lnTo>
                    <a:pt x="490" y="2531"/>
                  </a:lnTo>
                  <a:lnTo>
                    <a:pt x="487" y="2518"/>
                  </a:lnTo>
                  <a:lnTo>
                    <a:pt x="480" y="2509"/>
                  </a:lnTo>
                  <a:lnTo>
                    <a:pt x="476" y="2504"/>
                  </a:lnTo>
                  <a:lnTo>
                    <a:pt x="467" y="2501"/>
                  </a:lnTo>
                  <a:lnTo>
                    <a:pt x="457" y="2500"/>
                  </a:lnTo>
                  <a:lnTo>
                    <a:pt x="446" y="2503"/>
                  </a:lnTo>
                  <a:lnTo>
                    <a:pt x="435" y="2511"/>
                  </a:lnTo>
                  <a:lnTo>
                    <a:pt x="425" y="2523"/>
                  </a:lnTo>
                  <a:lnTo>
                    <a:pt x="412" y="2534"/>
                  </a:lnTo>
                  <a:lnTo>
                    <a:pt x="404" y="2545"/>
                  </a:lnTo>
                  <a:lnTo>
                    <a:pt x="400" y="2554"/>
                  </a:lnTo>
                  <a:lnTo>
                    <a:pt x="398" y="2562"/>
                  </a:lnTo>
                  <a:lnTo>
                    <a:pt x="397" y="2570"/>
                  </a:lnTo>
                  <a:lnTo>
                    <a:pt x="392" y="2581"/>
                  </a:lnTo>
                  <a:lnTo>
                    <a:pt x="386" y="2598"/>
                  </a:lnTo>
                  <a:lnTo>
                    <a:pt x="381" y="2616"/>
                  </a:lnTo>
                  <a:lnTo>
                    <a:pt x="378" y="2630"/>
                  </a:lnTo>
                  <a:lnTo>
                    <a:pt x="376" y="2641"/>
                  </a:lnTo>
                  <a:lnTo>
                    <a:pt x="373" y="2644"/>
                  </a:lnTo>
                  <a:lnTo>
                    <a:pt x="369" y="2647"/>
                  </a:lnTo>
                  <a:lnTo>
                    <a:pt x="361" y="2652"/>
                  </a:lnTo>
                  <a:lnTo>
                    <a:pt x="352" y="2655"/>
                  </a:lnTo>
                  <a:lnTo>
                    <a:pt x="341" y="2655"/>
                  </a:lnTo>
                  <a:lnTo>
                    <a:pt x="331" y="2650"/>
                  </a:lnTo>
                  <a:lnTo>
                    <a:pt x="310" y="2632"/>
                  </a:lnTo>
                  <a:lnTo>
                    <a:pt x="293" y="2616"/>
                  </a:lnTo>
                  <a:lnTo>
                    <a:pt x="285" y="2607"/>
                  </a:lnTo>
                  <a:lnTo>
                    <a:pt x="280" y="2601"/>
                  </a:lnTo>
                  <a:lnTo>
                    <a:pt x="272" y="2595"/>
                  </a:lnTo>
                  <a:lnTo>
                    <a:pt x="263" y="2595"/>
                  </a:lnTo>
                  <a:lnTo>
                    <a:pt x="254" y="2596"/>
                  </a:lnTo>
                  <a:lnTo>
                    <a:pt x="241" y="2595"/>
                  </a:lnTo>
                  <a:lnTo>
                    <a:pt x="229" y="2593"/>
                  </a:lnTo>
                  <a:lnTo>
                    <a:pt x="218" y="2593"/>
                  </a:lnTo>
                  <a:lnTo>
                    <a:pt x="212" y="2598"/>
                  </a:lnTo>
                  <a:lnTo>
                    <a:pt x="210" y="2599"/>
                  </a:lnTo>
                  <a:lnTo>
                    <a:pt x="209" y="2602"/>
                  </a:lnTo>
                  <a:lnTo>
                    <a:pt x="209" y="2605"/>
                  </a:lnTo>
                  <a:lnTo>
                    <a:pt x="209" y="2609"/>
                  </a:lnTo>
                  <a:lnTo>
                    <a:pt x="210" y="2612"/>
                  </a:lnTo>
                  <a:lnTo>
                    <a:pt x="210" y="2613"/>
                  </a:lnTo>
                  <a:lnTo>
                    <a:pt x="210" y="2616"/>
                  </a:lnTo>
                  <a:lnTo>
                    <a:pt x="210" y="2618"/>
                  </a:lnTo>
                  <a:lnTo>
                    <a:pt x="210" y="2619"/>
                  </a:lnTo>
                  <a:lnTo>
                    <a:pt x="209" y="2619"/>
                  </a:lnTo>
                  <a:lnTo>
                    <a:pt x="206" y="2619"/>
                  </a:lnTo>
                  <a:lnTo>
                    <a:pt x="202" y="2618"/>
                  </a:lnTo>
                  <a:lnTo>
                    <a:pt x="193" y="2612"/>
                  </a:lnTo>
                  <a:lnTo>
                    <a:pt x="188" y="2607"/>
                  </a:lnTo>
                  <a:lnTo>
                    <a:pt x="184" y="2602"/>
                  </a:lnTo>
                  <a:lnTo>
                    <a:pt x="179" y="2601"/>
                  </a:lnTo>
                  <a:lnTo>
                    <a:pt x="171" y="2602"/>
                  </a:lnTo>
                  <a:lnTo>
                    <a:pt x="164" y="2607"/>
                  </a:lnTo>
                  <a:lnTo>
                    <a:pt x="159" y="2612"/>
                  </a:lnTo>
                  <a:lnTo>
                    <a:pt x="156" y="2618"/>
                  </a:lnTo>
                  <a:lnTo>
                    <a:pt x="151" y="2623"/>
                  </a:lnTo>
                  <a:lnTo>
                    <a:pt x="143" y="2623"/>
                  </a:lnTo>
                  <a:lnTo>
                    <a:pt x="137" y="2623"/>
                  </a:lnTo>
                  <a:lnTo>
                    <a:pt x="133" y="2626"/>
                  </a:lnTo>
                  <a:lnTo>
                    <a:pt x="129" y="2630"/>
                  </a:lnTo>
                  <a:lnTo>
                    <a:pt x="126" y="2635"/>
                  </a:lnTo>
                  <a:lnTo>
                    <a:pt x="123" y="2635"/>
                  </a:lnTo>
                  <a:lnTo>
                    <a:pt x="117" y="2632"/>
                  </a:lnTo>
                  <a:lnTo>
                    <a:pt x="103" y="2624"/>
                  </a:lnTo>
                  <a:lnTo>
                    <a:pt x="91" y="2618"/>
                  </a:lnTo>
                  <a:lnTo>
                    <a:pt x="78" y="2610"/>
                  </a:lnTo>
                  <a:lnTo>
                    <a:pt x="67" y="2601"/>
                  </a:lnTo>
                  <a:lnTo>
                    <a:pt x="64" y="2596"/>
                  </a:lnTo>
                  <a:lnTo>
                    <a:pt x="60" y="2591"/>
                  </a:lnTo>
                  <a:lnTo>
                    <a:pt x="56" y="2587"/>
                  </a:lnTo>
                  <a:lnTo>
                    <a:pt x="53" y="2584"/>
                  </a:lnTo>
                  <a:lnTo>
                    <a:pt x="50" y="2582"/>
                  </a:lnTo>
                  <a:lnTo>
                    <a:pt x="49" y="2581"/>
                  </a:lnTo>
                  <a:lnTo>
                    <a:pt x="46" y="2582"/>
                  </a:lnTo>
                  <a:lnTo>
                    <a:pt x="44" y="2584"/>
                  </a:lnTo>
                  <a:lnTo>
                    <a:pt x="41" y="2591"/>
                  </a:lnTo>
                  <a:lnTo>
                    <a:pt x="38" y="2601"/>
                  </a:lnTo>
                  <a:lnTo>
                    <a:pt x="33" y="2609"/>
                  </a:lnTo>
                  <a:lnTo>
                    <a:pt x="30" y="2610"/>
                  </a:lnTo>
                  <a:lnTo>
                    <a:pt x="25" y="2610"/>
                  </a:lnTo>
                  <a:lnTo>
                    <a:pt x="22" y="2610"/>
                  </a:lnTo>
                  <a:lnTo>
                    <a:pt x="19" y="2610"/>
                  </a:lnTo>
                  <a:lnTo>
                    <a:pt x="18" y="2610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7"/>
            <p:cNvSpPr/>
            <p:nvPr/>
          </p:nvSpPr>
          <p:spPr>
            <a:xfrm>
              <a:off x="1534320" y="5094360"/>
              <a:ext cx="80640" cy="115560"/>
            </a:xfrm>
            <a:custGeom>
              <a:avLst/>
              <a:gdLst/>
              <a:ahLst/>
              <a:rect l="l" t="t" r="r" b="b"/>
              <a:pathLst>
                <a:path w="112" h="148">
                  <a:moveTo>
                    <a:pt x="0" y="114"/>
                  </a:moveTo>
                  <a:lnTo>
                    <a:pt x="0" y="106"/>
                  </a:lnTo>
                  <a:lnTo>
                    <a:pt x="2" y="98"/>
                  </a:lnTo>
                  <a:lnTo>
                    <a:pt x="8" y="89"/>
                  </a:lnTo>
                  <a:lnTo>
                    <a:pt x="25" y="72"/>
                  </a:lnTo>
                  <a:lnTo>
                    <a:pt x="37" y="55"/>
                  </a:lnTo>
                  <a:lnTo>
                    <a:pt x="39" y="50"/>
                  </a:lnTo>
                  <a:lnTo>
                    <a:pt x="39" y="47"/>
                  </a:lnTo>
                  <a:lnTo>
                    <a:pt x="39" y="44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2" y="37"/>
                  </a:lnTo>
                  <a:lnTo>
                    <a:pt x="45" y="36"/>
                  </a:lnTo>
                  <a:lnTo>
                    <a:pt x="51" y="34"/>
                  </a:lnTo>
                  <a:lnTo>
                    <a:pt x="65" y="27"/>
                  </a:lnTo>
                  <a:lnTo>
                    <a:pt x="78" y="17"/>
                  </a:lnTo>
                  <a:lnTo>
                    <a:pt x="89" y="9"/>
                  </a:lnTo>
                  <a:lnTo>
                    <a:pt x="92" y="6"/>
                  </a:lnTo>
                  <a:lnTo>
                    <a:pt x="96" y="3"/>
                  </a:lnTo>
                  <a:lnTo>
                    <a:pt x="100" y="2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7" y="2"/>
                  </a:lnTo>
                  <a:lnTo>
                    <a:pt x="109" y="5"/>
                  </a:lnTo>
                  <a:lnTo>
                    <a:pt x="110" y="9"/>
                  </a:lnTo>
                  <a:lnTo>
                    <a:pt x="112" y="23"/>
                  </a:lnTo>
                  <a:lnTo>
                    <a:pt x="109" y="36"/>
                  </a:lnTo>
                  <a:lnTo>
                    <a:pt x="101" y="50"/>
                  </a:lnTo>
                  <a:lnTo>
                    <a:pt x="92" y="56"/>
                  </a:lnTo>
                  <a:lnTo>
                    <a:pt x="83" y="61"/>
                  </a:lnTo>
                  <a:lnTo>
                    <a:pt x="73" y="64"/>
                  </a:lnTo>
                  <a:lnTo>
                    <a:pt x="67" y="68"/>
                  </a:lnTo>
                  <a:lnTo>
                    <a:pt x="67" y="76"/>
                  </a:lnTo>
                  <a:lnTo>
                    <a:pt x="73" y="86"/>
                  </a:lnTo>
                  <a:lnTo>
                    <a:pt x="79" y="93"/>
                  </a:lnTo>
                  <a:lnTo>
                    <a:pt x="83" y="100"/>
                  </a:lnTo>
                  <a:lnTo>
                    <a:pt x="84" y="109"/>
                  </a:lnTo>
                  <a:lnTo>
                    <a:pt x="81" y="120"/>
                  </a:lnTo>
                  <a:lnTo>
                    <a:pt x="73" y="128"/>
                  </a:lnTo>
                  <a:lnTo>
                    <a:pt x="62" y="134"/>
                  </a:lnTo>
                  <a:lnTo>
                    <a:pt x="48" y="137"/>
                  </a:lnTo>
                  <a:lnTo>
                    <a:pt x="39" y="138"/>
                  </a:lnTo>
                  <a:lnTo>
                    <a:pt x="33" y="143"/>
                  </a:lnTo>
                  <a:lnTo>
                    <a:pt x="27" y="148"/>
                  </a:lnTo>
                  <a:lnTo>
                    <a:pt x="20" y="148"/>
                  </a:lnTo>
                  <a:lnTo>
                    <a:pt x="14" y="145"/>
                  </a:lnTo>
                  <a:lnTo>
                    <a:pt x="6" y="135"/>
                  </a:lnTo>
                  <a:lnTo>
                    <a:pt x="3" y="126"/>
                  </a:lnTo>
                  <a:lnTo>
                    <a:pt x="0" y="117"/>
                  </a:lnTo>
                  <a:lnTo>
                    <a:pt x="0" y="114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396720" y="5106600"/>
              <a:ext cx="40320" cy="6084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3" y="77"/>
                  </a:moveTo>
                  <a:lnTo>
                    <a:pt x="0" y="65"/>
                  </a:lnTo>
                  <a:lnTo>
                    <a:pt x="1" y="48"/>
                  </a:lnTo>
                  <a:lnTo>
                    <a:pt x="4" y="34"/>
                  </a:lnTo>
                  <a:lnTo>
                    <a:pt x="6" y="26"/>
                  </a:lnTo>
                  <a:lnTo>
                    <a:pt x="6" y="17"/>
                  </a:lnTo>
                  <a:lnTo>
                    <a:pt x="6" y="9"/>
                  </a:lnTo>
                  <a:lnTo>
                    <a:pt x="7" y="3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32" y="4"/>
                  </a:lnTo>
                  <a:lnTo>
                    <a:pt x="45" y="7"/>
                  </a:lnTo>
                  <a:lnTo>
                    <a:pt x="52" y="12"/>
                  </a:lnTo>
                  <a:lnTo>
                    <a:pt x="56" y="18"/>
                  </a:lnTo>
                  <a:lnTo>
                    <a:pt x="52" y="28"/>
                  </a:lnTo>
                  <a:lnTo>
                    <a:pt x="45" y="40"/>
                  </a:lnTo>
                  <a:lnTo>
                    <a:pt x="35" y="52"/>
                  </a:lnTo>
                  <a:lnTo>
                    <a:pt x="28" y="62"/>
                  </a:lnTo>
                  <a:lnTo>
                    <a:pt x="21" y="70"/>
                  </a:lnTo>
                  <a:lnTo>
                    <a:pt x="12" y="74"/>
                  </a:lnTo>
                  <a:lnTo>
                    <a:pt x="6" y="77"/>
                  </a:lnTo>
                  <a:lnTo>
                    <a:pt x="3" y="77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9"/>
            <p:cNvSpPr/>
            <p:nvPr/>
          </p:nvSpPr>
          <p:spPr>
            <a:xfrm>
              <a:off x="416880" y="5006520"/>
              <a:ext cx="57960" cy="99720"/>
            </a:xfrm>
            <a:custGeom>
              <a:avLst/>
              <a:gdLst/>
              <a:ahLst/>
              <a:rect l="l" t="t" r="r" b="b"/>
              <a:pathLst>
                <a:path w="79" h="128">
                  <a:moveTo>
                    <a:pt x="0" y="109"/>
                  </a:moveTo>
                  <a:lnTo>
                    <a:pt x="3" y="97"/>
                  </a:lnTo>
                  <a:lnTo>
                    <a:pt x="7" y="84"/>
                  </a:lnTo>
                  <a:lnTo>
                    <a:pt x="12" y="70"/>
                  </a:lnTo>
                  <a:lnTo>
                    <a:pt x="14" y="59"/>
                  </a:lnTo>
                  <a:lnTo>
                    <a:pt x="14" y="49"/>
                  </a:lnTo>
                  <a:lnTo>
                    <a:pt x="14" y="39"/>
                  </a:lnTo>
                  <a:lnTo>
                    <a:pt x="15" y="30"/>
                  </a:lnTo>
                  <a:lnTo>
                    <a:pt x="21" y="24"/>
                  </a:lnTo>
                  <a:lnTo>
                    <a:pt x="35" y="16"/>
                  </a:lnTo>
                  <a:lnTo>
                    <a:pt x="46" y="11"/>
                  </a:lnTo>
                  <a:lnTo>
                    <a:pt x="55" y="5"/>
                  </a:lnTo>
                  <a:lnTo>
                    <a:pt x="59" y="3"/>
                  </a:lnTo>
                  <a:lnTo>
                    <a:pt x="63" y="2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2"/>
                  </a:lnTo>
                  <a:lnTo>
                    <a:pt x="77" y="3"/>
                  </a:lnTo>
                  <a:lnTo>
                    <a:pt x="79" y="8"/>
                  </a:lnTo>
                  <a:lnTo>
                    <a:pt x="79" y="13"/>
                  </a:lnTo>
                  <a:lnTo>
                    <a:pt x="77" y="33"/>
                  </a:lnTo>
                  <a:lnTo>
                    <a:pt x="73" y="53"/>
                  </a:lnTo>
                  <a:lnTo>
                    <a:pt x="63" y="73"/>
                  </a:lnTo>
                  <a:lnTo>
                    <a:pt x="54" y="84"/>
                  </a:lnTo>
                  <a:lnTo>
                    <a:pt x="45" y="92"/>
                  </a:lnTo>
                  <a:lnTo>
                    <a:pt x="38" y="98"/>
                  </a:lnTo>
                  <a:lnTo>
                    <a:pt x="37" y="106"/>
                  </a:lnTo>
                  <a:lnTo>
                    <a:pt x="37" y="111"/>
                  </a:lnTo>
                  <a:lnTo>
                    <a:pt x="37" y="115"/>
                  </a:lnTo>
                  <a:lnTo>
                    <a:pt x="37" y="120"/>
                  </a:lnTo>
                  <a:lnTo>
                    <a:pt x="37" y="123"/>
                  </a:lnTo>
                  <a:lnTo>
                    <a:pt x="37" y="126"/>
                  </a:lnTo>
                  <a:lnTo>
                    <a:pt x="34" y="128"/>
                  </a:lnTo>
                  <a:lnTo>
                    <a:pt x="32" y="128"/>
                  </a:lnTo>
                  <a:lnTo>
                    <a:pt x="28" y="128"/>
                  </a:lnTo>
                  <a:lnTo>
                    <a:pt x="18" y="125"/>
                  </a:lnTo>
                  <a:lnTo>
                    <a:pt x="9" y="118"/>
                  </a:lnTo>
                  <a:lnTo>
                    <a:pt x="3" y="112"/>
                  </a:lnTo>
                  <a:lnTo>
                    <a:pt x="0" y="109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0"/>
            <p:cNvSpPr/>
            <p:nvPr/>
          </p:nvSpPr>
          <p:spPr>
            <a:xfrm>
              <a:off x="1246320" y="4602960"/>
              <a:ext cx="47520" cy="5940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0" y="42"/>
                  </a:moveTo>
                  <a:lnTo>
                    <a:pt x="3" y="50"/>
                  </a:lnTo>
                  <a:lnTo>
                    <a:pt x="7" y="60"/>
                  </a:lnTo>
                  <a:lnTo>
                    <a:pt x="12" y="68"/>
                  </a:lnTo>
                  <a:lnTo>
                    <a:pt x="20" y="74"/>
                  </a:lnTo>
                  <a:lnTo>
                    <a:pt x="29" y="73"/>
                  </a:lnTo>
                  <a:lnTo>
                    <a:pt x="40" y="67"/>
                  </a:lnTo>
                  <a:lnTo>
                    <a:pt x="52" y="59"/>
                  </a:lnTo>
                  <a:lnTo>
                    <a:pt x="60" y="50"/>
                  </a:lnTo>
                  <a:lnTo>
                    <a:pt x="65" y="39"/>
                  </a:lnTo>
                  <a:lnTo>
                    <a:pt x="62" y="29"/>
                  </a:lnTo>
                  <a:lnTo>
                    <a:pt x="55" y="20"/>
                  </a:lnTo>
                  <a:lnTo>
                    <a:pt x="49" y="11"/>
                  </a:lnTo>
                  <a:lnTo>
                    <a:pt x="43" y="3"/>
                  </a:lnTo>
                  <a:lnTo>
                    <a:pt x="35" y="0"/>
                  </a:lnTo>
                  <a:lnTo>
                    <a:pt x="24" y="3"/>
                  </a:lnTo>
                  <a:lnTo>
                    <a:pt x="15" y="11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39"/>
                  </a:lnTo>
                  <a:lnTo>
                    <a:pt x="0" y="42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1"/>
            <p:cNvSpPr/>
            <p:nvPr/>
          </p:nvSpPr>
          <p:spPr>
            <a:xfrm>
              <a:off x="2256840" y="4068360"/>
              <a:ext cx="86400" cy="15624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7" y="199"/>
                  </a:moveTo>
                  <a:lnTo>
                    <a:pt x="7" y="197"/>
                  </a:lnTo>
                  <a:lnTo>
                    <a:pt x="7" y="196"/>
                  </a:lnTo>
                  <a:lnTo>
                    <a:pt x="12" y="185"/>
                  </a:lnTo>
                  <a:lnTo>
                    <a:pt x="21" y="172"/>
                  </a:lnTo>
                  <a:lnTo>
                    <a:pt x="29" y="155"/>
                  </a:lnTo>
                  <a:lnTo>
                    <a:pt x="34" y="146"/>
                  </a:lnTo>
                  <a:lnTo>
                    <a:pt x="38" y="138"/>
                  </a:lnTo>
                  <a:lnTo>
                    <a:pt x="40" y="134"/>
                  </a:lnTo>
                  <a:lnTo>
                    <a:pt x="37" y="131"/>
                  </a:lnTo>
                  <a:lnTo>
                    <a:pt x="29" y="126"/>
                  </a:lnTo>
                  <a:lnTo>
                    <a:pt x="18" y="123"/>
                  </a:lnTo>
                  <a:lnTo>
                    <a:pt x="9" y="121"/>
                  </a:lnTo>
                  <a:lnTo>
                    <a:pt x="3" y="118"/>
                  </a:lnTo>
                  <a:lnTo>
                    <a:pt x="0" y="113"/>
                  </a:lnTo>
                  <a:lnTo>
                    <a:pt x="1" y="106"/>
                  </a:lnTo>
                  <a:lnTo>
                    <a:pt x="7" y="93"/>
                  </a:lnTo>
                  <a:lnTo>
                    <a:pt x="26" y="65"/>
                  </a:lnTo>
                  <a:lnTo>
                    <a:pt x="43" y="40"/>
                  </a:lnTo>
                  <a:lnTo>
                    <a:pt x="62" y="23"/>
                  </a:lnTo>
                  <a:lnTo>
                    <a:pt x="66" y="20"/>
                  </a:lnTo>
                  <a:lnTo>
                    <a:pt x="69" y="16"/>
                  </a:lnTo>
                  <a:lnTo>
                    <a:pt x="73" y="11"/>
                  </a:lnTo>
                  <a:lnTo>
                    <a:pt x="76" y="8"/>
                  </a:lnTo>
                  <a:lnTo>
                    <a:pt x="77" y="3"/>
                  </a:lnTo>
                  <a:lnTo>
                    <a:pt x="79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28"/>
                  </a:lnTo>
                  <a:lnTo>
                    <a:pt x="82" y="47"/>
                  </a:lnTo>
                  <a:lnTo>
                    <a:pt x="80" y="65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83" y="98"/>
                  </a:lnTo>
                  <a:lnTo>
                    <a:pt x="91" y="101"/>
                  </a:lnTo>
                  <a:lnTo>
                    <a:pt x="99" y="103"/>
                  </a:lnTo>
                  <a:lnTo>
                    <a:pt x="108" y="106"/>
                  </a:lnTo>
                  <a:lnTo>
                    <a:pt x="116" y="109"/>
                  </a:lnTo>
                  <a:lnTo>
                    <a:pt x="119" y="113"/>
                  </a:lnTo>
                  <a:lnTo>
                    <a:pt x="119" y="121"/>
                  </a:lnTo>
                  <a:lnTo>
                    <a:pt x="111" y="134"/>
                  </a:lnTo>
                  <a:lnTo>
                    <a:pt x="101" y="149"/>
                  </a:lnTo>
                  <a:lnTo>
                    <a:pt x="87" y="165"/>
                  </a:lnTo>
                  <a:lnTo>
                    <a:pt x="73" y="179"/>
                  </a:lnTo>
                  <a:lnTo>
                    <a:pt x="59" y="190"/>
                  </a:lnTo>
                  <a:lnTo>
                    <a:pt x="46" y="197"/>
                  </a:lnTo>
                  <a:lnTo>
                    <a:pt x="31" y="200"/>
                  </a:lnTo>
                  <a:lnTo>
                    <a:pt x="18" y="200"/>
                  </a:lnTo>
                  <a:lnTo>
                    <a:pt x="10" y="199"/>
                  </a:lnTo>
                  <a:lnTo>
                    <a:pt x="7" y="199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2"/>
            <p:cNvSpPr/>
            <p:nvPr/>
          </p:nvSpPr>
          <p:spPr>
            <a:xfrm>
              <a:off x="2537280" y="2074680"/>
              <a:ext cx="1108440" cy="1157040"/>
            </a:xfrm>
            <a:custGeom>
              <a:avLst/>
              <a:gdLst/>
              <a:ahLst/>
              <a:rect l="l" t="t" r="r" b="b"/>
              <a:pathLst>
                <a:path w="1535" h="1480">
                  <a:moveTo>
                    <a:pt x="129" y="1477"/>
                  </a:moveTo>
                  <a:lnTo>
                    <a:pt x="117" y="1477"/>
                  </a:lnTo>
                  <a:lnTo>
                    <a:pt x="106" y="1479"/>
                  </a:lnTo>
                  <a:lnTo>
                    <a:pt x="97" y="1480"/>
                  </a:lnTo>
                  <a:lnTo>
                    <a:pt x="87" y="1479"/>
                  </a:lnTo>
                  <a:lnTo>
                    <a:pt x="81" y="1471"/>
                  </a:lnTo>
                  <a:lnTo>
                    <a:pt x="76" y="1458"/>
                  </a:lnTo>
                  <a:lnTo>
                    <a:pt x="72" y="1440"/>
                  </a:lnTo>
                  <a:lnTo>
                    <a:pt x="67" y="1424"/>
                  </a:lnTo>
                  <a:lnTo>
                    <a:pt x="62" y="1410"/>
                  </a:lnTo>
                  <a:lnTo>
                    <a:pt x="62" y="1396"/>
                  </a:lnTo>
                  <a:lnTo>
                    <a:pt x="67" y="1381"/>
                  </a:lnTo>
                  <a:lnTo>
                    <a:pt x="76" y="1365"/>
                  </a:lnTo>
                  <a:lnTo>
                    <a:pt x="84" y="1354"/>
                  </a:lnTo>
                  <a:lnTo>
                    <a:pt x="92" y="1345"/>
                  </a:lnTo>
                  <a:lnTo>
                    <a:pt x="98" y="1333"/>
                  </a:lnTo>
                  <a:lnTo>
                    <a:pt x="101" y="1316"/>
                  </a:lnTo>
                  <a:lnTo>
                    <a:pt x="106" y="1297"/>
                  </a:lnTo>
                  <a:lnTo>
                    <a:pt x="108" y="1283"/>
                  </a:lnTo>
                  <a:lnTo>
                    <a:pt x="108" y="1271"/>
                  </a:lnTo>
                  <a:lnTo>
                    <a:pt x="104" y="1260"/>
                  </a:lnTo>
                  <a:lnTo>
                    <a:pt x="94" y="1247"/>
                  </a:lnTo>
                  <a:lnTo>
                    <a:pt x="80" y="1240"/>
                  </a:lnTo>
                  <a:lnTo>
                    <a:pt x="69" y="1235"/>
                  </a:lnTo>
                  <a:lnTo>
                    <a:pt x="59" y="1233"/>
                  </a:lnTo>
                  <a:lnTo>
                    <a:pt x="52" y="1230"/>
                  </a:lnTo>
                  <a:lnTo>
                    <a:pt x="45" y="1222"/>
                  </a:lnTo>
                  <a:lnTo>
                    <a:pt x="38" y="1210"/>
                  </a:lnTo>
                  <a:lnTo>
                    <a:pt x="27" y="1199"/>
                  </a:lnTo>
                  <a:lnTo>
                    <a:pt x="17" y="1188"/>
                  </a:lnTo>
                  <a:lnTo>
                    <a:pt x="8" y="1173"/>
                  </a:lnTo>
                  <a:lnTo>
                    <a:pt x="2" y="1160"/>
                  </a:lnTo>
                  <a:lnTo>
                    <a:pt x="0" y="1153"/>
                  </a:lnTo>
                  <a:lnTo>
                    <a:pt x="0" y="1146"/>
                  </a:lnTo>
                  <a:lnTo>
                    <a:pt x="2" y="1139"/>
                  </a:lnTo>
                  <a:lnTo>
                    <a:pt x="8" y="1131"/>
                  </a:lnTo>
                  <a:lnTo>
                    <a:pt x="14" y="1115"/>
                  </a:lnTo>
                  <a:lnTo>
                    <a:pt x="21" y="1098"/>
                  </a:lnTo>
                  <a:lnTo>
                    <a:pt x="22" y="1078"/>
                  </a:lnTo>
                  <a:lnTo>
                    <a:pt x="24" y="1063"/>
                  </a:lnTo>
                  <a:lnTo>
                    <a:pt x="22" y="1050"/>
                  </a:lnTo>
                  <a:lnTo>
                    <a:pt x="21" y="1042"/>
                  </a:lnTo>
                  <a:lnTo>
                    <a:pt x="21" y="1035"/>
                  </a:lnTo>
                  <a:lnTo>
                    <a:pt x="25" y="1028"/>
                  </a:lnTo>
                  <a:lnTo>
                    <a:pt x="33" y="1025"/>
                  </a:lnTo>
                  <a:lnTo>
                    <a:pt x="45" y="1024"/>
                  </a:lnTo>
                  <a:lnTo>
                    <a:pt x="58" y="1024"/>
                  </a:lnTo>
                  <a:lnTo>
                    <a:pt x="69" y="1024"/>
                  </a:lnTo>
                  <a:lnTo>
                    <a:pt x="78" y="1021"/>
                  </a:lnTo>
                  <a:lnTo>
                    <a:pt x="87" y="1013"/>
                  </a:lnTo>
                  <a:lnTo>
                    <a:pt x="94" y="1002"/>
                  </a:lnTo>
                  <a:lnTo>
                    <a:pt x="95" y="991"/>
                  </a:lnTo>
                  <a:lnTo>
                    <a:pt x="98" y="982"/>
                  </a:lnTo>
                  <a:lnTo>
                    <a:pt x="100" y="976"/>
                  </a:lnTo>
                  <a:lnTo>
                    <a:pt x="104" y="972"/>
                  </a:lnTo>
                  <a:lnTo>
                    <a:pt x="111" y="976"/>
                  </a:lnTo>
                  <a:lnTo>
                    <a:pt x="120" y="983"/>
                  </a:lnTo>
                  <a:lnTo>
                    <a:pt x="126" y="991"/>
                  </a:lnTo>
                  <a:lnTo>
                    <a:pt x="131" y="996"/>
                  </a:lnTo>
                  <a:lnTo>
                    <a:pt x="134" y="997"/>
                  </a:lnTo>
                  <a:lnTo>
                    <a:pt x="137" y="993"/>
                  </a:lnTo>
                  <a:lnTo>
                    <a:pt x="139" y="986"/>
                  </a:lnTo>
                  <a:lnTo>
                    <a:pt x="139" y="980"/>
                  </a:lnTo>
                  <a:lnTo>
                    <a:pt x="139" y="974"/>
                  </a:lnTo>
                  <a:lnTo>
                    <a:pt x="139" y="966"/>
                  </a:lnTo>
                  <a:lnTo>
                    <a:pt x="143" y="957"/>
                  </a:lnTo>
                  <a:lnTo>
                    <a:pt x="153" y="946"/>
                  </a:lnTo>
                  <a:lnTo>
                    <a:pt x="167" y="934"/>
                  </a:lnTo>
                  <a:lnTo>
                    <a:pt x="177" y="927"/>
                  </a:lnTo>
                  <a:lnTo>
                    <a:pt x="185" y="921"/>
                  </a:lnTo>
                  <a:lnTo>
                    <a:pt x="190" y="915"/>
                  </a:lnTo>
                  <a:lnTo>
                    <a:pt x="191" y="904"/>
                  </a:lnTo>
                  <a:lnTo>
                    <a:pt x="185" y="889"/>
                  </a:lnTo>
                  <a:lnTo>
                    <a:pt x="174" y="875"/>
                  </a:lnTo>
                  <a:lnTo>
                    <a:pt x="162" y="862"/>
                  </a:lnTo>
                  <a:lnTo>
                    <a:pt x="149" y="850"/>
                  </a:lnTo>
                  <a:lnTo>
                    <a:pt x="143" y="839"/>
                  </a:lnTo>
                  <a:lnTo>
                    <a:pt x="142" y="826"/>
                  </a:lnTo>
                  <a:lnTo>
                    <a:pt x="142" y="816"/>
                  </a:lnTo>
                  <a:lnTo>
                    <a:pt x="143" y="803"/>
                  </a:lnTo>
                  <a:lnTo>
                    <a:pt x="151" y="794"/>
                  </a:lnTo>
                  <a:lnTo>
                    <a:pt x="162" y="786"/>
                  </a:lnTo>
                  <a:lnTo>
                    <a:pt x="173" y="780"/>
                  </a:lnTo>
                  <a:lnTo>
                    <a:pt x="181" y="778"/>
                  </a:lnTo>
                  <a:lnTo>
                    <a:pt x="187" y="780"/>
                  </a:lnTo>
                  <a:lnTo>
                    <a:pt x="195" y="785"/>
                  </a:lnTo>
                  <a:lnTo>
                    <a:pt x="204" y="792"/>
                  </a:lnTo>
                  <a:lnTo>
                    <a:pt x="218" y="803"/>
                  </a:lnTo>
                  <a:lnTo>
                    <a:pt x="230" y="814"/>
                  </a:lnTo>
                  <a:lnTo>
                    <a:pt x="241" y="823"/>
                  </a:lnTo>
                  <a:lnTo>
                    <a:pt x="257" y="830"/>
                  </a:lnTo>
                  <a:lnTo>
                    <a:pt x="277" y="831"/>
                  </a:lnTo>
                  <a:lnTo>
                    <a:pt x="294" y="830"/>
                  </a:lnTo>
                  <a:lnTo>
                    <a:pt x="309" y="828"/>
                  </a:lnTo>
                  <a:lnTo>
                    <a:pt x="323" y="833"/>
                  </a:lnTo>
                  <a:lnTo>
                    <a:pt x="337" y="842"/>
                  </a:lnTo>
                  <a:lnTo>
                    <a:pt x="348" y="850"/>
                  </a:lnTo>
                  <a:lnTo>
                    <a:pt x="361" y="851"/>
                  </a:lnTo>
                  <a:lnTo>
                    <a:pt x="372" y="847"/>
                  </a:lnTo>
                  <a:lnTo>
                    <a:pt x="382" y="833"/>
                  </a:lnTo>
                  <a:lnTo>
                    <a:pt x="392" y="823"/>
                  </a:lnTo>
                  <a:lnTo>
                    <a:pt x="403" y="816"/>
                  </a:lnTo>
                  <a:lnTo>
                    <a:pt x="410" y="808"/>
                  </a:lnTo>
                  <a:lnTo>
                    <a:pt x="417" y="797"/>
                  </a:lnTo>
                  <a:lnTo>
                    <a:pt x="420" y="783"/>
                  </a:lnTo>
                  <a:lnTo>
                    <a:pt x="418" y="771"/>
                  </a:lnTo>
                  <a:lnTo>
                    <a:pt x="417" y="760"/>
                  </a:lnTo>
                  <a:lnTo>
                    <a:pt x="415" y="752"/>
                  </a:lnTo>
                  <a:lnTo>
                    <a:pt x="412" y="741"/>
                  </a:lnTo>
                  <a:lnTo>
                    <a:pt x="409" y="724"/>
                  </a:lnTo>
                  <a:lnTo>
                    <a:pt x="404" y="702"/>
                  </a:lnTo>
                  <a:lnTo>
                    <a:pt x="398" y="685"/>
                  </a:lnTo>
                  <a:lnTo>
                    <a:pt x="395" y="671"/>
                  </a:lnTo>
                  <a:lnTo>
                    <a:pt x="395" y="656"/>
                  </a:lnTo>
                  <a:lnTo>
                    <a:pt x="395" y="643"/>
                  </a:lnTo>
                  <a:lnTo>
                    <a:pt x="395" y="635"/>
                  </a:lnTo>
                  <a:lnTo>
                    <a:pt x="398" y="628"/>
                  </a:lnTo>
                  <a:lnTo>
                    <a:pt x="407" y="620"/>
                  </a:lnTo>
                  <a:lnTo>
                    <a:pt x="421" y="614"/>
                  </a:lnTo>
                  <a:lnTo>
                    <a:pt x="434" y="609"/>
                  </a:lnTo>
                  <a:lnTo>
                    <a:pt x="443" y="604"/>
                  </a:lnTo>
                  <a:lnTo>
                    <a:pt x="451" y="595"/>
                  </a:lnTo>
                  <a:lnTo>
                    <a:pt x="460" y="576"/>
                  </a:lnTo>
                  <a:lnTo>
                    <a:pt x="468" y="558"/>
                  </a:lnTo>
                  <a:lnTo>
                    <a:pt x="469" y="539"/>
                  </a:lnTo>
                  <a:lnTo>
                    <a:pt x="468" y="516"/>
                  </a:lnTo>
                  <a:lnTo>
                    <a:pt x="465" y="491"/>
                  </a:lnTo>
                  <a:lnTo>
                    <a:pt x="465" y="466"/>
                  </a:lnTo>
                  <a:lnTo>
                    <a:pt x="466" y="451"/>
                  </a:lnTo>
                  <a:lnTo>
                    <a:pt x="466" y="440"/>
                  </a:lnTo>
                  <a:lnTo>
                    <a:pt x="469" y="427"/>
                  </a:lnTo>
                  <a:lnTo>
                    <a:pt x="476" y="415"/>
                  </a:lnTo>
                  <a:lnTo>
                    <a:pt x="485" y="395"/>
                  </a:lnTo>
                  <a:lnTo>
                    <a:pt x="490" y="375"/>
                  </a:lnTo>
                  <a:lnTo>
                    <a:pt x="491" y="353"/>
                  </a:lnTo>
                  <a:lnTo>
                    <a:pt x="493" y="334"/>
                  </a:lnTo>
                  <a:lnTo>
                    <a:pt x="494" y="309"/>
                  </a:lnTo>
                  <a:lnTo>
                    <a:pt x="496" y="286"/>
                  </a:lnTo>
                  <a:lnTo>
                    <a:pt x="491" y="264"/>
                  </a:lnTo>
                  <a:lnTo>
                    <a:pt x="483" y="241"/>
                  </a:lnTo>
                  <a:lnTo>
                    <a:pt x="474" y="219"/>
                  </a:lnTo>
                  <a:lnTo>
                    <a:pt x="460" y="193"/>
                  </a:lnTo>
                  <a:lnTo>
                    <a:pt x="449" y="173"/>
                  </a:lnTo>
                  <a:lnTo>
                    <a:pt x="438" y="154"/>
                  </a:lnTo>
                  <a:lnTo>
                    <a:pt x="431" y="139"/>
                  </a:lnTo>
                  <a:lnTo>
                    <a:pt x="428" y="126"/>
                  </a:lnTo>
                  <a:lnTo>
                    <a:pt x="426" y="111"/>
                  </a:lnTo>
                  <a:lnTo>
                    <a:pt x="428" y="95"/>
                  </a:lnTo>
                  <a:lnTo>
                    <a:pt x="435" y="78"/>
                  </a:lnTo>
                  <a:lnTo>
                    <a:pt x="438" y="69"/>
                  </a:lnTo>
                  <a:lnTo>
                    <a:pt x="440" y="59"/>
                  </a:lnTo>
                  <a:lnTo>
                    <a:pt x="442" y="50"/>
                  </a:lnTo>
                  <a:lnTo>
                    <a:pt x="445" y="41"/>
                  </a:lnTo>
                  <a:lnTo>
                    <a:pt x="449" y="35"/>
                  </a:lnTo>
                  <a:lnTo>
                    <a:pt x="460" y="31"/>
                  </a:lnTo>
                  <a:lnTo>
                    <a:pt x="473" y="31"/>
                  </a:lnTo>
                  <a:lnTo>
                    <a:pt x="483" y="33"/>
                  </a:lnTo>
                  <a:lnTo>
                    <a:pt x="490" y="33"/>
                  </a:lnTo>
                  <a:lnTo>
                    <a:pt x="494" y="31"/>
                  </a:lnTo>
                  <a:lnTo>
                    <a:pt x="497" y="25"/>
                  </a:lnTo>
                  <a:lnTo>
                    <a:pt x="499" y="22"/>
                  </a:lnTo>
                  <a:lnTo>
                    <a:pt x="501" y="17"/>
                  </a:lnTo>
                  <a:lnTo>
                    <a:pt x="499" y="14"/>
                  </a:lnTo>
                  <a:lnTo>
                    <a:pt x="499" y="11"/>
                  </a:lnTo>
                  <a:lnTo>
                    <a:pt x="499" y="8"/>
                  </a:lnTo>
                  <a:lnTo>
                    <a:pt x="497" y="5"/>
                  </a:lnTo>
                  <a:lnTo>
                    <a:pt x="497" y="4"/>
                  </a:lnTo>
                  <a:lnTo>
                    <a:pt x="499" y="2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08" y="0"/>
                  </a:lnTo>
                  <a:lnTo>
                    <a:pt x="522" y="5"/>
                  </a:lnTo>
                  <a:lnTo>
                    <a:pt x="532" y="11"/>
                  </a:lnTo>
                  <a:lnTo>
                    <a:pt x="541" y="21"/>
                  </a:lnTo>
                  <a:lnTo>
                    <a:pt x="552" y="35"/>
                  </a:lnTo>
                  <a:lnTo>
                    <a:pt x="561" y="45"/>
                  </a:lnTo>
                  <a:lnTo>
                    <a:pt x="574" y="59"/>
                  </a:lnTo>
                  <a:lnTo>
                    <a:pt x="588" y="73"/>
                  </a:lnTo>
                  <a:lnTo>
                    <a:pt x="602" y="87"/>
                  </a:lnTo>
                  <a:lnTo>
                    <a:pt x="614" y="101"/>
                  </a:lnTo>
                  <a:lnTo>
                    <a:pt x="625" y="112"/>
                  </a:lnTo>
                  <a:lnTo>
                    <a:pt x="631" y="120"/>
                  </a:lnTo>
                  <a:lnTo>
                    <a:pt x="640" y="134"/>
                  </a:lnTo>
                  <a:lnTo>
                    <a:pt x="653" y="148"/>
                  </a:lnTo>
                  <a:lnTo>
                    <a:pt x="665" y="163"/>
                  </a:lnTo>
                  <a:lnTo>
                    <a:pt x="671" y="173"/>
                  </a:lnTo>
                  <a:lnTo>
                    <a:pt x="678" y="185"/>
                  </a:lnTo>
                  <a:lnTo>
                    <a:pt x="685" y="199"/>
                  </a:lnTo>
                  <a:lnTo>
                    <a:pt x="698" y="216"/>
                  </a:lnTo>
                  <a:lnTo>
                    <a:pt x="712" y="233"/>
                  </a:lnTo>
                  <a:lnTo>
                    <a:pt x="729" y="249"/>
                  </a:lnTo>
                  <a:lnTo>
                    <a:pt x="748" y="263"/>
                  </a:lnTo>
                  <a:lnTo>
                    <a:pt x="765" y="275"/>
                  </a:lnTo>
                  <a:lnTo>
                    <a:pt x="777" y="285"/>
                  </a:lnTo>
                  <a:lnTo>
                    <a:pt x="791" y="300"/>
                  </a:lnTo>
                  <a:lnTo>
                    <a:pt x="805" y="320"/>
                  </a:lnTo>
                  <a:lnTo>
                    <a:pt x="816" y="337"/>
                  </a:lnTo>
                  <a:lnTo>
                    <a:pt x="827" y="347"/>
                  </a:lnTo>
                  <a:lnTo>
                    <a:pt x="842" y="353"/>
                  </a:lnTo>
                  <a:lnTo>
                    <a:pt x="861" y="362"/>
                  </a:lnTo>
                  <a:lnTo>
                    <a:pt x="880" y="372"/>
                  </a:lnTo>
                  <a:lnTo>
                    <a:pt x="894" y="385"/>
                  </a:lnTo>
                  <a:lnTo>
                    <a:pt x="904" y="398"/>
                  </a:lnTo>
                  <a:lnTo>
                    <a:pt x="912" y="407"/>
                  </a:lnTo>
                  <a:lnTo>
                    <a:pt x="918" y="413"/>
                  </a:lnTo>
                  <a:lnTo>
                    <a:pt x="928" y="420"/>
                  </a:lnTo>
                  <a:lnTo>
                    <a:pt x="940" y="424"/>
                  </a:lnTo>
                  <a:lnTo>
                    <a:pt x="954" y="429"/>
                  </a:lnTo>
                  <a:lnTo>
                    <a:pt x="967" y="429"/>
                  </a:lnTo>
                  <a:lnTo>
                    <a:pt x="976" y="431"/>
                  </a:lnTo>
                  <a:lnTo>
                    <a:pt x="984" y="431"/>
                  </a:lnTo>
                  <a:lnTo>
                    <a:pt x="988" y="434"/>
                  </a:lnTo>
                  <a:lnTo>
                    <a:pt x="990" y="441"/>
                  </a:lnTo>
                  <a:lnTo>
                    <a:pt x="988" y="452"/>
                  </a:lnTo>
                  <a:lnTo>
                    <a:pt x="985" y="460"/>
                  </a:lnTo>
                  <a:lnTo>
                    <a:pt x="984" y="468"/>
                  </a:lnTo>
                  <a:lnTo>
                    <a:pt x="985" y="474"/>
                  </a:lnTo>
                  <a:lnTo>
                    <a:pt x="995" y="479"/>
                  </a:lnTo>
                  <a:lnTo>
                    <a:pt x="1018" y="482"/>
                  </a:lnTo>
                  <a:lnTo>
                    <a:pt x="1038" y="479"/>
                  </a:lnTo>
                  <a:lnTo>
                    <a:pt x="1058" y="471"/>
                  </a:lnTo>
                  <a:lnTo>
                    <a:pt x="1071" y="463"/>
                  </a:lnTo>
                  <a:lnTo>
                    <a:pt x="1082" y="460"/>
                  </a:lnTo>
                  <a:lnTo>
                    <a:pt x="1091" y="460"/>
                  </a:lnTo>
                  <a:lnTo>
                    <a:pt x="1099" y="465"/>
                  </a:lnTo>
                  <a:lnTo>
                    <a:pt x="1099" y="471"/>
                  </a:lnTo>
                  <a:lnTo>
                    <a:pt x="1097" y="480"/>
                  </a:lnTo>
                  <a:lnTo>
                    <a:pt x="1092" y="488"/>
                  </a:lnTo>
                  <a:lnTo>
                    <a:pt x="1089" y="494"/>
                  </a:lnTo>
                  <a:lnTo>
                    <a:pt x="1089" y="499"/>
                  </a:lnTo>
                  <a:lnTo>
                    <a:pt x="1094" y="500"/>
                  </a:lnTo>
                  <a:lnTo>
                    <a:pt x="1102" y="496"/>
                  </a:lnTo>
                  <a:lnTo>
                    <a:pt x="1106" y="486"/>
                  </a:lnTo>
                  <a:lnTo>
                    <a:pt x="1111" y="476"/>
                  </a:lnTo>
                  <a:lnTo>
                    <a:pt x="1117" y="468"/>
                  </a:lnTo>
                  <a:lnTo>
                    <a:pt x="1123" y="465"/>
                  </a:lnTo>
                  <a:lnTo>
                    <a:pt x="1130" y="468"/>
                  </a:lnTo>
                  <a:lnTo>
                    <a:pt x="1133" y="472"/>
                  </a:lnTo>
                  <a:lnTo>
                    <a:pt x="1134" y="480"/>
                  </a:lnTo>
                  <a:lnTo>
                    <a:pt x="1137" y="488"/>
                  </a:lnTo>
                  <a:lnTo>
                    <a:pt x="1145" y="499"/>
                  </a:lnTo>
                  <a:lnTo>
                    <a:pt x="1159" y="513"/>
                  </a:lnTo>
                  <a:lnTo>
                    <a:pt x="1178" y="519"/>
                  </a:lnTo>
                  <a:lnTo>
                    <a:pt x="1200" y="521"/>
                  </a:lnTo>
                  <a:lnTo>
                    <a:pt x="1218" y="524"/>
                  </a:lnTo>
                  <a:lnTo>
                    <a:pt x="1235" y="527"/>
                  </a:lnTo>
                  <a:lnTo>
                    <a:pt x="1251" y="528"/>
                  </a:lnTo>
                  <a:lnTo>
                    <a:pt x="1263" y="524"/>
                  </a:lnTo>
                  <a:lnTo>
                    <a:pt x="1271" y="519"/>
                  </a:lnTo>
                  <a:lnTo>
                    <a:pt x="1277" y="514"/>
                  </a:lnTo>
                  <a:lnTo>
                    <a:pt x="1283" y="508"/>
                  </a:lnTo>
                  <a:lnTo>
                    <a:pt x="1290" y="500"/>
                  </a:lnTo>
                  <a:lnTo>
                    <a:pt x="1299" y="488"/>
                  </a:lnTo>
                  <a:lnTo>
                    <a:pt x="1313" y="472"/>
                  </a:lnTo>
                  <a:lnTo>
                    <a:pt x="1322" y="458"/>
                  </a:lnTo>
                  <a:lnTo>
                    <a:pt x="1332" y="448"/>
                  </a:lnTo>
                  <a:lnTo>
                    <a:pt x="1339" y="437"/>
                  </a:lnTo>
                  <a:lnTo>
                    <a:pt x="1350" y="423"/>
                  </a:lnTo>
                  <a:lnTo>
                    <a:pt x="1363" y="409"/>
                  </a:lnTo>
                  <a:lnTo>
                    <a:pt x="1374" y="393"/>
                  </a:lnTo>
                  <a:lnTo>
                    <a:pt x="1381" y="381"/>
                  </a:lnTo>
                  <a:lnTo>
                    <a:pt x="1384" y="376"/>
                  </a:lnTo>
                  <a:lnTo>
                    <a:pt x="1386" y="372"/>
                  </a:lnTo>
                  <a:lnTo>
                    <a:pt x="1388" y="368"/>
                  </a:lnTo>
                  <a:lnTo>
                    <a:pt x="1389" y="364"/>
                  </a:lnTo>
                  <a:lnTo>
                    <a:pt x="1391" y="361"/>
                  </a:lnTo>
                  <a:lnTo>
                    <a:pt x="1392" y="359"/>
                  </a:lnTo>
                  <a:lnTo>
                    <a:pt x="1394" y="359"/>
                  </a:lnTo>
                  <a:lnTo>
                    <a:pt x="1397" y="359"/>
                  </a:lnTo>
                  <a:lnTo>
                    <a:pt x="1398" y="361"/>
                  </a:lnTo>
                  <a:lnTo>
                    <a:pt x="1402" y="365"/>
                  </a:lnTo>
                  <a:lnTo>
                    <a:pt x="1411" y="379"/>
                  </a:lnTo>
                  <a:lnTo>
                    <a:pt x="1414" y="395"/>
                  </a:lnTo>
                  <a:lnTo>
                    <a:pt x="1411" y="409"/>
                  </a:lnTo>
                  <a:lnTo>
                    <a:pt x="1403" y="418"/>
                  </a:lnTo>
                  <a:lnTo>
                    <a:pt x="1395" y="429"/>
                  </a:lnTo>
                  <a:lnTo>
                    <a:pt x="1388" y="441"/>
                  </a:lnTo>
                  <a:lnTo>
                    <a:pt x="1383" y="455"/>
                  </a:lnTo>
                  <a:lnTo>
                    <a:pt x="1381" y="466"/>
                  </a:lnTo>
                  <a:lnTo>
                    <a:pt x="1375" y="476"/>
                  </a:lnTo>
                  <a:lnTo>
                    <a:pt x="1369" y="485"/>
                  </a:lnTo>
                  <a:lnTo>
                    <a:pt x="1364" y="499"/>
                  </a:lnTo>
                  <a:lnTo>
                    <a:pt x="1361" y="517"/>
                  </a:lnTo>
                  <a:lnTo>
                    <a:pt x="1358" y="536"/>
                  </a:lnTo>
                  <a:lnTo>
                    <a:pt x="1355" y="553"/>
                  </a:lnTo>
                  <a:lnTo>
                    <a:pt x="1350" y="564"/>
                  </a:lnTo>
                  <a:lnTo>
                    <a:pt x="1347" y="570"/>
                  </a:lnTo>
                  <a:lnTo>
                    <a:pt x="1342" y="575"/>
                  </a:lnTo>
                  <a:lnTo>
                    <a:pt x="1341" y="581"/>
                  </a:lnTo>
                  <a:lnTo>
                    <a:pt x="1344" y="587"/>
                  </a:lnTo>
                  <a:lnTo>
                    <a:pt x="1352" y="595"/>
                  </a:lnTo>
                  <a:lnTo>
                    <a:pt x="1363" y="608"/>
                  </a:lnTo>
                  <a:lnTo>
                    <a:pt x="1374" y="618"/>
                  </a:lnTo>
                  <a:lnTo>
                    <a:pt x="1383" y="628"/>
                  </a:lnTo>
                  <a:lnTo>
                    <a:pt x="1395" y="631"/>
                  </a:lnTo>
                  <a:lnTo>
                    <a:pt x="1398" y="631"/>
                  </a:lnTo>
                  <a:lnTo>
                    <a:pt x="1403" y="629"/>
                  </a:lnTo>
                  <a:lnTo>
                    <a:pt x="1406" y="629"/>
                  </a:lnTo>
                  <a:lnTo>
                    <a:pt x="1409" y="628"/>
                  </a:lnTo>
                  <a:lnTo>
                    <a:pt x="1412" y="628"/>
                  </a:lnTo>
                  <a:lnTo>
                    <a:pt x="1415" y="628"/>
                  </a:lnTo>
                  <a:lnTo>
                    <a:pt x="1417" y="628"/>
                  </a:lnTo>
                  <a:lnTo>
                    <a:pt x="1419" y="628"/>
                  </a:lnTo>
                  <a:lnTo>
                    <a:pt x="1420" y="631"/>
                  </a:lnTo>
                  <a:lnTo>
                    <a:pt x="1419" y="632"/>
                  </a:lnTo>
                  <a:lnTo>
                    <a:pt x="1419" y="637"/>
                  </a:lnTo>
                  <a:lnTo>
                    <a:pt x="1417" y="643"/>
                  </a:lnTo>
                  <a:lnTo>
                    <a:pt x="1414" y="660"/>
                  </a:lnTo>
                  <a:lnTo>
                    <a:pt x="1412" y="679"/>
                  </a:lnTo>
                  <a:lnTo>
                    <a:pt x="1414" y="696"/>
                  </a:lnTo>
                  <a:lnTo>
                    <a:pt x="1415" y="712"/>
                  </a:lnTo>
                  <a:lnTo>
                    <a:pt x="1415" y="719"/>
                  </a:lnTo>
                  <a:lnTo>
                    <a:pt x="1414" y="722"/>
                  </a:lnTo>
                  <a:lnTo>
                    <a:pt x="1412" y="726"/>
                  </a:lnTo>
                  <a:lnTo>
                    <a:pt x="1411" y="729"/>
                  </a:lnTo>
                  <a:lnTo>
                    <a:pt x="1411" y="730"/>
                  </a:lnTo>
                  <a:lnTo>
                    <a:pt x="1409" y="733"/>
                  </a:lnTo>
                  <a:lnTo>
                    <a:pt x="1411" y="736"/>
                  </a:lnTo>
                  <a:lnTo>
                    <a:pt x="1412" y="738"/>
                  </a:lnTo>
                  <a:lnTo>
                    <a:pt x="1415" y="740"/>
                  </a:lnTo>
                  <a:lnTo>
                    <a:pt x="1422" y="741"/>
                  </a:lnTo>
                  <a:lnTo>
                    <a:pt x="1440" y="744"/>
                  </a:lnTo>
                  <a:lnTo>
                    <a:pt x="1456" y="743"/>
                  </a:lnTo>
                  <a:lnTo>
                    <a:pt x="1467" y="736"/>
                  </a:lnTo>
                  <a:lnTo>
                    <a:pt x="1470" y="730"/>
                  </a:lnTo>
                  <a:lnTo>
                    <a:pt x="1473" y="722"/>
                  </a:lnTo>
                  <a:lnTo>
                    <a:pt x="1476" y="713"/>
                  </a:lnTo>
                  <a:lnTo>
                    <a:pt x="1481" y="704"/>
                  </a:lnTo>
                  <a:lnTo>
                    <a:pt x="1490" y="698"/>
                  </a:lnTo>
                  <a:lnTo>
                    <a:pt x="1499" y="693"/>
                  </a:lnTo>
                  <a:lnTo>
                    <a:pt x="1510" y="687"/>
                  </a:lnTo>
                  <a:lnTo>
                    <a:pt x="1518" y="684"/>
                  </a:lnTo>
                  <a:lnTo>
                    <a:pt x="1526" y="681"/>
                  </a:lnTo>
                  <a:lnTo>
                    <a:pt x="1532" y="682"/>
                  </a:lnTo>
                  <a:lnTo>
                    <a:pt x="1535" y="688"/>
                  </a:lnTo>
                  <a:lnTo>
                    <a:pt x="1534" y="698"/>
                  </a:lnTo>
                  <a:lnTo>
                    <a:pt x="1526" y="707"/>
                  </a:lnTo>
                  <a:lnTo>
                    <a:pt x="1515" y="716"/>
                  </a:lnTo>
                  <a:lnTo>
                    <a:pt x="1502" y="724"/>
                  </a:lnTo>
                  <a:lnTo>
                    <a:pt x="1493" y="735"/>
                  </a:lnTo>
                  <a:lnTo>
                    <a:pt x="1487" y="746"/>
                  </a:lnTo>
                  <a:lnTo>
                    <a:pt x="1482" y="755"/>
                  </a:lnTo>
                  <a:lnTo>
                    <a:pt x="1479" y="766"/>
                  </a:lnTo>
                  <a:lnTo>
                    <a:pt x="1473" y="774"/>
                  </a:lnTo>
                  <a:lnTo>
                    <a:pt x="1467" y="778"/>
                  </a:lnTo>
                  <a:lnTo>
                    <a:pt x="1459" y="777"/>
                  </a:lnTo>
                  <a:lnTo>
                    <a:pt x="1447" y="774"/>
                  </a:lnTo>
                  <a:lnTo>
                    <a:pt x="1433" y="771"/>
                  </a:lnTo>
                  <a:lnTo>
                    <a:pt x="1420" y="771"/>
                  </a:lnTo>
                  <a:lnTo>
                    <a:pt x="1409" y="774"/>
                  </a:lnTo>
                  <a:lnTo>
                    <a:pt x="1402" y="780"/>
                  </a:lnTo>
                  <a:lnTo>
                    <a:pt x="1388" y="802"/>
                  </a:lnTo>
                  <a:lnTo>
                    <a:pt x="1377" y="820"/>
                  </a:lnTo>
                  <a:lnTo>
                    <a:pt x="1369" y="828"/>
                  </a:lnTo>
                  <a:lnTo>
                    <a:pt x="1361" y="839"/>
                  </a:lnTo>
                  <a:lnTo>
                    <a:pt x="1352" y="848"/>
                  </a:lnTo>
                  <a:lnTo>
                    <a:pt x="1342" y="854"/>
                  </a:lnTo>
                  <a:lnTo>
                    <a:pt x="1332" y="854"/>
                  </a:lnTo>
                  <a:lnTo>
                    <a:pt x="1321" y="847"/>
                  </a:lnTo>
                  <a:lnTo>
                    <a:pt x="1311" y="837"/>
                  </a:lnTo>
                  <a:lnTo>
                    <a:pt x="1304" y="833"/>
                  </a:lnTo>
                  <a:lnTo>
                    <a:pt x="1296" y="834"/>
                  </a:lnTo>
                  <a:lnTo>
                    <a:pt x="1293" y="842"/>
                  </a:lnTo>
                  <a:lnTo>
                    <a:pt x="1293" y="850"/>
                  </a:lnTo>
                  <a:lnTo>
                    <a:pt x="1293" y="859"/>
                  </a:lnTo>
                  <a:lnTo>
                    <a:pt x="1293" y="867"/>
                  </a:lnTo>
                  <a:lnTo>
                    <a:pt x="1287" y="872"/>
                  </a:lnTo>
                  <a:lnTo>
                    <a:pt x="1273" y="875"/>
                  </a:lnTo>
                  <a:lnTo>
                    <a:pt x="1254" y="875"/>
                  </a:lnTo>
                  <a:lnTo>
                    <a:pt x="1229" y="873"/>
                  </a:lnTo>
                  <a:lnTo>
                    <a:pt x="1214" y="870"/>
                  </a:lnTo>
                  <a:lnTo>
                    <a:pt x="1198" y="865"/>
                  </a:lnTo>
                  <a:lnTo>
                    <a:pt x="1182" y="861"/>
                  </a:lnTo>
                  <a:lnTo>
                    <a:pt x="1169" y="858"/>
                  </a:lnTo>
                  <a:lnTo>
                    <a:pt x="1158" y="861"/>
                  </a:lnTo>
                  <a:lnTo>
                    <a:pt x="1144" y="867"/>
                  </a:lnTo>
                  <a:lnTo>
                    <a:pt x="1127" y="876"/>
                  </a:lnTo>
                  <a:lnTo>
                    <a:pt x="1108" y="885"/>
                  </a:lnTo>
                  <a:lnTo>
                    <a:pt x="1089" y="896"/>
                  </a:lnTo>
                  <a:lnTo>
                    <a:pt x="1077" y="909"/>
                  </a:lnTo>
                  <a:lnTo>
                    <a:pt x="1063" y="924"/>
                  </a:lnTo>
                  <a:lnTo>
                    <a:pt x="1050" y="940"/>
                  </a:lnTo>
                  <a:lnTo>
                    <a:pt x="1036" y="958"/>
                  </a:lnTo>
                  <a:lnTo>
                    <a:pt x="1019" y="982"/>
                  </a:lnTo>
                  <a:lnTo>
                    <a:pt x="1002" y="1002"/>
                  </a:lnTo>
                  <a:lnTo>
                    <a:pt x="987" y="1021"/>
                  </a:lnTo>
                  <a:lnTo>
                    <a:pt x="973" y="1038"/>
                  </a:lnTo>
                  <a:lnTo>
                    <a:pt x="959" y="1063"/>
                  </a:lnTo>
                  <a:lnTo>
                    <a:pt x="948" y="1080"/>
                  </a:lnTo>
                  <a:lnTo>
                    <a:pt x="940" y="1092"/>
                  </a:lnTo>
                  <a:lnTo>
                    <a:pt x="935" y="1101"/>
                  </a:lnTo>
                  <a:lnTo>
                    <a:pt x="932" y="1111"/>
                  </a:lnTo>
                  <a:lnTo>
                    <a:pt x="934" y="1126"/>
                  </a:lnTo>
                  <a:lnTo>
                    <a:pt x="937" y="1142"/>
                  </a:lnTo>
                  <a:lnTo>
                    <a:pt x="942" y="1156"/>
                  </a:lnTo>
                  <a:lnTo>
                    <a:pt x="945" y="1168"/>
                  </a:lnTo>
                  <a:lnTo>
                    <a:pt x="945" y="1182"/>
                  </a:lnTo>
                  <a:lnTo>
                    <a:pt x="939" y="1198"/>
                  </a:lnTo>
                  <a:lnTo>
                    <a:pt x="929" y="1218"/>
                  </a:lnTo>
                  <a:lnTo>
                    <a:pt x="925" y="1233"/>
                  </a:lnTo>
                  <a:lnTo>
                    <a:pt x="920" y="1244"/>
                  </a:lnTo>
                  <a:lnTo>
                    <a:pt x="915" y="1249"/>
                  </a:lnTo>
                  <a:lnTo>
                    <a:pt x="909" y="1247"/>
                  </a:lnTo>
                  <a:lnTo>
                    <a:pt x="898" y="1241"/>
                  </a:lnTo>
                  <a:lnTo>
                    <a:pt x="887" y="1230"/>
                  </a:lnTo>
                  <a:lnTo>
                    <a:pt x="873" y="1218"/>
                  </a:lnTo>
                  <a:lnTo>
                    <a:pt x="859" y="1207"/>
                  </a:lnTo>
                  <a:lnTo>
                    <a:pt x="847" y="1198"/>
                  </a:lnTo>
                  <a:lnTo>
                    <a:pt x="824" y="1188"/>
                  </a:lnTo>
                  <a:lnTo>
                    <a:pt x="796" y="1177"/>
                  </a:lnTo>
                  <a:lnTo>
                    <a:pt x="768" y="1165"/>
                  </a:lnTo>
                  <a:lnTo>
                    <a:pt x="743" y="1153"/>
                  </a:lnTo>
                  <a:lnTo>
                    <a:pt x="716" y="1137"/>
                  </a:lnTo>
                  <a:lnTo>
                    <a:pt x="693" y="1125"/>
                  </a:lnTo>
                  <a:lnTo>
                    <a:pt x="671" y="1114"/>
                  </a:lnTo>
                  <a:lnTo>
                    <a:pt x="657" y="1104"/>
                  </a:lnTo>
                  <a:lnTo>
                    <a:pt x="645" y="1094"/>
                  </a:lnTo>
                  <a:lnTo>
                    <a:pt x="633" y="1084"/>
                  </a:lnTo>
                  <a:lnTo>
                    <a:pt x="622" y="1080"/>
                  </a:lnTo>
                  <a:lnTo>
                    <a:pt x="615" y="1080"/>
                  </a:lnTo>
                  <a:lnTo>
                    <a:pt x="608" y="1080"/>
                  </a:lnTo>
                  <a:lnTo>
                    <a:pt x="602" y="1080"/>
                  </a:lnTo>
                  <a:lnTo>
                    <a:pt x="592" y="1073"/>
                  </a:lnTo>
                  <a:lnTo>
                    <a:pt x="578" y="1064"/>
                  </a:lnTo>
                  <a:lnTo>
                    <a:pt x="556" y="1045"/>
                  </a:lnTo>
                  <a:lnTo>
                    <a:pt x="538" y="1033"/>
                  </a:lnTo>
                  <a:lnTo>
                    <a:pt x="524" y="1028"/>
                  </a:lnTo>
                  <a:lnTo>
                    <a:pt x="511" y="1028"/>
                  </a:lnTo>
                  <a:lnTo>
                    <a:pt x="494" y="1028"/>
                  </a:lnTo>
                  <a:lnTo>
                    <a:pt x="477" y="1030"/>
                  </a:lnTo>
                  <a:lnTo>
                    <a:pt x="463" y="1035"/>
                  </a:lnTo>
                  <a:lnTo>
                    <a:pt x="448" y="1045"/>
                  </a:lnTo>
                  <a:lnTo>
                    <a:pt x="431" y="1059"/>
                  </a:lnTo>
                  <a:lnTo>
                    <a:pt x="414" y="1073"/>
                  </a:lnTo>
                  <a:lnTo>
                    <a:pt x="393" y="1090"/>
                  </a:lnTo>
                  <a:lnTo>
                    <a:pt x="370" y="1108"/>
                  </a:lnTo>
                  <a:lnTo>
                    <a:pt x="358" y="1118"/>
                  </a:lnTo>
                  <a:lnTo>
                    <a:pt x="347" y="1131"/>
                  </a:lnTo>
                  <a:lnTo>
                    <a:pt x="336" y="1140"/>
                  </a:lnTo>
                  <a:lnTo>
                    <a:pt x="327" y="1145"/>
                  </a:lnTo>
                  <a:lnTo>
                    <a:pt x="319" y="1143"/>
                  </a:lnTo>
                  <a:lnTo>
                    <a:pt x="311" y="1135"/>
                  </a:lnTo>
                  <a:lnTo>
                    <a:pt x="302" y="1125"/>
                  </a:lnTo>
                  <a:lnTo>
                    <a:pt x="294" y="1111"/>
                  </a:lnTo>
                  <a:lnTo>
                    <a:pt x="286" y="1098"/>
                  </a:lnTo>
                  <a:lnTo>
                    <a:pt x="282" y="1089"/>
                  </a:lnTo>
                  <a:lnTo>
                    <a:pt x="277" y="1080"/>
                  </a:lnTo>
                  <a:lnTo>
                    <a:pt x="266" y="1072"/>
                  </a:lnTo>
                  <a:lnTo>
                    <a:pt x="252" y="1063"/>
                  </a:lnTo>
                  <a:lnTo>
                    <a:pt x="241" y="1053"/>
                  </a:lnTo>
                  <a:lnTo>
                    <a:pt x="230" y="1047"/>
                  </a:lnTo>
                  <a:lnTo>
                    <a:pt x="216" y="1047"/>
                  </a:lnTo>
                  <a:lnTo>
                    <a:pt x="202" y="1050"/>
                  </a:lnTo>
                  <a:lnTo>
                    <a:pt x="190" y="1055"/>
                  </a:lnTo>
                  <a:lnTo>
                    <a:pt x="179" y="1063"/>
                  </a:lnTo>
                  <a:lnTo>
                    <a:pt x="173" y="1076"/>
                  </a:lnTo>
                  <a:lnTo>
                    <a:pt x="165" y="1090"/>
                  </a:lnTo>
                  <a:lnTo>
                    <a:pt x="159" y="1100"/>
                  </a:lnTo>
                  <a:lnTo>
                    <a:pt x="153" y="1109"/>
                  </a:lnTo>
                  <a:lnTo>
                    <a:pt x="151" y="1120"/>
                  </a:lnTo>
                  <a:lnTo>
                    <a:pt x="149" y="1132"/>
                  </a:lnTo>
                  <a:lnTo>
                    <a:pt x="146" y="1143"/>
                  </a:lnTo>
                  <a:lnTo>
                    <a:pt x="146" y="1154"/>
                  </a:lnTo>
                  <a:lnTo>
                    <a:pt x="151" y="1163"/>
                  </a:lnTo>
                  <a:lnTo>
                    <a:pt x="160" y="1170"/>
                  </a:lnTo>
                  <a:lnTo>
                    <a:pt x="168" y="1174"/>
                  </a:lnTo>
                  <a:lnTo>
                    <a:pt x="176" y="1177"/>
                  </a:lnTo>
                  <a:lnTo>
                    <a:pt x="185" y="1185"/>
                  </a:lnTo>
                  <a:lnTo>
                    <a:pt x="193" y="1198"/>
                  </a:lnTo>
                  <a:lnTo>
                    <a:pt x="201" y="1208"/>
                  </a:lnTo>
                  <a:lnTo>
                    <a:pt x="210" y="1216"/>
                  </a:lnTo>
                  <a:lnTo>
                    <a:pt x="219" y="1219"/>
                  </a:lnTo>
                  <a:lnTo>
                    <a:pt x="227" y="1219"/>
                  </a:lnTo>
                  <a:lnTo>
                    <a:pt x="230" y="1218"/>
                  </a:lnTo>
                  <a:lnTo>
                    <a:pt x="235" y="1215"/>
                  </a:lnTo>
                  <a:lnTo>
                    <a:pt x="241" y="1215"/>
                  </a:lnTo>
                  <a:lnTo>
                    <a:pt x="250" y="1219"/>
                  </a:lnTo>
                  <a:lnTo>
                    <a:pt x="264" y="1226"/>
                  </a:lnTo>
                  <a:lnTo>
                    <a:pt x="280" y="1232"/>
                  </a:lnTo>
                  <a:lnTo>
                    <a:pt x="294" y="1238"/>
                  </a:lnTo>
                  <a:lnTo>
                    <a:pt x="303" y="1246"/>
                  </a:lnTo>
                  <a:lnTo>
                    <a:pt x="311" y="1252"/>
                  </a:lnTo>
                  <a:lnTo>
                    <a:pt x="322" y="1257"/>
                  </a:lnTo>
                  <a:lnTo>
                    <a:pt x="334" y="1263"/>
                  </a:lnTo>
                  <a:lnTo>
                    <a:pt x="347" y="1271"/>
                  </a:lnTo>
                  <a:lnTo>
                    <a:pt x="356" y="1278"/>
                  </a:lnTo>
                  <a:lnTo>
                    <a:pt x="361" y="1289"/>
                  </a:lnTo>
                  <a:lnTo>
                    <a:pt x="367" y="1302"/>
                  </a:lnTo>
                  <a:lnTo>
                    <a:pt x="375" y="1311"/>
                  </a:lnTo>
                  <a:lnTo>
                    <a:pt x="382" y="1317"/>
                  </a:lnTo>
                  <a:lnTo>
                    <a:pt x="389" y="1322"/>
                  </a:lnTo>
                  <a:lnTo>
                    <a:pt x="390" y="1326"/>
                  </a:lnTo>
                  <a:lnTo>
                    <a:pt x="387" y="1333"/>
                  </a:lnTo>
                  <a:lnTo>
                    <a:pt x="378" y="1340"/>
                  </a:lnTo>
                  <a:lnTo>
                    <a:pt x="367" y="1348"/>
                  </a:lnTo>
                  <a:lnTo>
                    <a:pt x="353" y="1353"/>
                  </a:lnTo>
                  <a:lnTo>
                    <a:pt x="341" y="1356"/>
                  </a:lnTo>
                  <a:lnTo>
                    <a:pt x="319" y="1351"/>
                  </a:lnTo>
                  <a:lnTo>
                    <a:pt x="300" y="1345"/>
                  </a:lnTo>
                  <a:lnTo>
                    <a:pt x="282" y="1342"/>
                  </a:lnTo>
                  <a:lnTo>
                    <a:pt x="271" y="1339"/>
                  </a:lnTo>
                  <a:lnTo>
                    <a:pt x="263" y="1333"/>
                  </a:lnTo>
                  <a:lnTo>
                    <a:pt x="257" y="1326"/>
                  </a:lnTo>
                  <a:lnTo>
                    <a:pt x="250" y="1325"/>
                  </a:lnTo>
                  <a:lnTo>
                    <a:pt x="244" y="1328"/>
                  </a:lnTo>
                  <a:lnTo>
                    <a:pt x="236" y="1340"/>
                  </a:lnTo>
                  <a:lnTo>
                    <a:pt x="232" y="1351"/>
                  </a:lnTo>
                  <a:lnTo>
                    <a:pt x="224" y="1361"/>
                  </a:lnTo>
                  <a:lnTo>
                    <a:pt x="218" y="1364"/>
                  </a:lnTo>
                  <a:lnTo>
                    <a:pt x="210" y="1364"/>
                  </a:lnTo>
                  <a:lnTo>
                    <a:pt x="201" y="1364"/>
                  </a:lnTo>
                  <a:lnTo>
                    <a:pt x="195" y="1365"/>
                  </a:lnTo>
                  <a:lnTo>
                    <a:pt x="190" y="1370"/>
                  </a:lnTo>
                  <a:lnTo>
                    <a:pt x="188" y="1379"/>
                  </a:lnTo>
                  <a:lnTo>
                    <a:pt x="191" y="1396"/>
                  </a:lnTo>
                  <a:lnTo>
                    <a:pt x="195" y="1412"/>
                  </a:lnTo>
                  <a:lnTo>
                    <a:pt x="196" y="1424"/>
                  </a:lnTo>
                  <a:lnTo>
                    <a:pt x="195" y="1431"/>
                  </a:lnTo>
                  <a:lnTo>
                    <a:pt x="190" y="1432"/>
                  </a:lnTo>
                  <a:lnTo>
                    <a:pt x="182" y="1432"/>
                  </a:lnTo>
                  <a:lnTo>
                    <a:pt x="170" y="1434"/>
                  </a:lnTo>
                  <a:lnTo>
                    <a:pt x="159" y="1437"/>
                  </a:lnTo>
                  <a:lnTo>
                    <a:pt x="149" y="1444"/>
                  </a:lnTo>
                  <a:lnTo>
                    <a:pt x="140" y="1455"/>
                  </a:lnTo>
                  <a:lnTo>
                    <a:pt x="134" y="1466"/>
                  </a:lnTo>
                  <a:lnTo>
                    <a:pt x="131" y="1474"/>
                  </a:lnTo>
                  <a:lnTo>
                    <a:pt x="129" y="1477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3"/>
            <p:cNvSpPr/>
            <p:nvPr/>
          </p:nvSpPr>
          <p:spPr>
            <a:xfrm>
              <a:off x="3567600" y="2295000"/>
              <a:ext cx="199440" cy="239040"/>
            </a:xfrm>
            <a:custGeom>
              <a:avLst/>
              <a:gdLst/>
              <a:ahLst/>
              <a:rect l="l" t="t" r="r" b="b"/>
              <a:pathLst>
                <a:path w="277" h="306">
                  <a:moveTo>
                    <a:pt x="13" y="295"/>
                  </a:moveTo>
                  <a:lnTo>
                    <a:pt x="7" y="283"/>
                  </a:lnTo>
                  <a:lnTo>
                    <a:pt x="2" y="275"/>
                  </a:lnTo>
                  <a:lnTo>
                    <a:pt x="0" y="268"/>
                  </a:lnTo>
                  <a:lnTo>
                    <a:pt x="3" y="258"/>
                  </a:lnTo>
                  <a:lnTo>
                    <a:pt x="13" y="246"/>
                  </a:lnTo>
                  <a:lnTo>
                    <a:pt x="25" y="232"/>
                  </a:lnTo>
                  <a:lnTo>
                    <a:pt x="39" y="218"/>
                  </a:lnTo>
                  <a:lnTo>
                    <a:pt x="50" y="204"/>
                  </a:lnTo>
                  <a:lnTo>
                    <a:pt x="66" y="188"/>
                  </a:lnTo>
                  <a:lnTo>
                    <a:pt x="78" y="173"/>
                  </a:lnTo>
                  <a:lnTo>
                    <a:pt x="84" y="159"/>
                  </a:lnTo>
                  <a:lnTo>
                    <a:pt x="86" y="148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92" y="125"/>
                  </a:lnTo>
                  <a:lnTo>
                    <a:pt x="109" y="103"/>
                  </a:lnTo>
                  <a:lnTo>
                    <a:pt x="128" y="83"/>
                  </a:lnTo>
                  <a:lnTo>
                    <a:pt x="139" y="69"/>
                  </a:lnTo>
                  <a:lnTo>
                    <a:pt x="145" y="52"/>
                  </a:lnTo>
                  <a:lnTo>
                    <a:pt x="149" y="38"/>
                  </a:lnTo>
                  <a:lnTo>
                    <a:pt x="153" y="27"/>
                  </a:lnTo>
                  <a:lnTo>
                    <a:pt x="159" y="14"/>
                  </a:lnTo>
                  <a:lnTo>
                    <a:pt x="165" y="5"/>
                  </a:lnTo>
                  <a:lnTo>
                    <a:pt x="171" y="0"/>
                  </a:lnTo>
                  <a:lnTo>
                    <a:pt x="177" y="2"/>
                  </a:lnTo>
                  <a:lnTo>
                    <a:pt x="185" y="8"/>
                  </a:lnTo>
                  <a:lnTo>
                    <a:pt x="196" y="14"/>
                  </a:lnTo>
                  <a:lnTo>
                    <a:pt x="205" y="19"/>
                  </a:lnTo>
                  <a:lnTo>
                    <a:pt x="219" y="22"/>
                  </a:lnTo>
                  <a:lnTo>
                    <a:pt x="233" y="24"/>
                  </a:lnTo>
                  <a:lnTo>
                    <a:pt x="249" y="21"/>
                  </a:lnTo>
                  <a:lnTo>
                    <a:pt x="257" y="18"/>
                  </a:lnTo>
                  <a:lnTo>
                    <a:pt x="264" y="14"/>
                  </a:lnTo>
                  <a:lnTo>
                    <a:pt x="271" y="11"/>
                  </a:lnTo>
                  <a:lnTo>
                    <a:pt x="275" y="13"/>
                  </a:lnTo>
                  <a:lnTo>
                    <a:pt x="277" y="21"/>
                  </a:lnTo>
                  <a:lnTo>
                    <a:pt x="275" y="33"/>
                  </a:lnTo>
                  <a:lnTo>
                    <a:pt x="272" y="45"/>
                  </a:lnTo>
                  <a:lnTo>
                    <a:pt x="264" y="55"/>
                  </a:lnTo>
                  <a:lnTo>
                    <a:pt x="249" y="63"/>
                  </a:lnTo>
                  <a:lnTo>
                    <a:pt x="235" y="69"/>
                  </a:lnTo>
                  <a:lnTo>
                    <a:pt x="226" y="77"/>
                  </a:lnTo>
                  <a:lnTo>
                    <a:pt x="216" y="84"/>
                  </a:lnTo>
                  <a:lnTo>
                    <a:pt x="207" y="91"/>
                  </a:lnTo>
                  <a:lnTo>
                    <a:pt x="196" y="92"/>
                  </a:lnTo>
                  <a:lnTo>
                    <a:pt x="190" y="92"/>
                  </a:lnTo>
                  <a:lnTo>
                    <a:pt x="184" y="91"/>
                  </a:lnTo>
                  <a:lnTo>
                    <a:pt x="177" y="94"/>
                  </a:lnTo>
                  <a:lnTo>
                    <a:pt x="167" y="101"/>
                  </a:lnTo>
                  <a:lnTo>
                    <a:pt x="157" y="112"/>
                  </a:lnTo>
                  <a:lnTo>
                    <a:pt x="146" y="128"/>
                  </a:lnTo>
                  <a:lnTo>
                    <a:pt x="140" y="139"/>
                  </a:lnTo>
                  <a:lnTo>
                    <a:pt x="136" y="148"/>
                  </a:lnTo>
                  <a:lnTo>
                    <a:pt x="131" y="156"/>
                  </a:lnTo>
                  <a:lnTo>
                    <a:pt x="125" y="167"/>
                  </a:lnTo>
                  <a:lnTo>
                    <a:pt x="120" y="176"/>
                  </a:lnTo>
                  <a:lnTo>
                    <a:pt x="117" y="181"/>
                  </a:lnTo>
                  <a:lnTo>
                    <a:pt x="117" y="185"/>
                  </a:lnTo>
                  <a:lnTo>
                    <a:pt x="114" y="190"/>
                  </a:lnTo>
                  <a:lnTo>
                    <a:pt x="109" y="196"/>
                  </a:lnTo>
                  <a:lnTo>
                    <a:pt x="98" y="205"/>
                  </a:lnTo>
                  <a:lnTo>
                    <a:pt x="90" y="212"/>
                  </a:lnTo>
                  <a:lnTo>
                    <a:pt x="87" y="221"/>
                  </a:lnTo>
                  <a:lnTo>
                    <a:pt x="86" y="224"/>
                  </a:lnTo>
                  <a:lnTo>
                    <a:pt x="84" y="226"/>
                  </a:lnTo>
                  <a:lnTo>
                    <a:pt x="81" y="227"/>
                  </a:lnTo>
                  <a:lnTo>
                    <a:pt x="78" y="227"/>
                  </a:lnTo>
                  <a:lnTo>
                    <a:pt x="73" y="227"/>
                  </a:lnTo>
                  <a:lnTo>
                    <a:pt x="70" y="229"/>
                  </a:lnTo>
                  <a:lnTo>
                    <a:pt x="67" y="230"/>
                  </a:lnTo>
                  <a:lnTo>
                    <a:pt x="63" y="235"/>
                  </a:lnTo>
                  <a:lnTo>
                    <a:pt x="56" y="241"/>
                  </a:lnTo>
                  <a:lnTo>
                    <a:pt x="50" y="246"/>
                  </a:lnTo>
                  <a:lnTo>
                    <a:pt x="44" y="252"/>
                  </a:lnTo>
                  <a:lnTo>
                    <a:pt x="41" y="260"/>
                  </a:lnTo>
                  <a:lnTo>
                    <a:pt x="41" y="271"/>
                  </a:lnTo>
                  <a:lnTo>
                    <a:pt x="44" y="285"/>
                  </a:lnTo>
                  <a:lnTo>
                    <a:pt x="45" y="294"/>
                  </a:lnTo>
                  <a:lnTo>
                    <a:pt x="45" y="299"/>
                  </a:lnTo>
                  <a:lnTo>
                    <a:pt x="41" y="305"/>
                  </a:lnTo>
                  <a:lnTo>
                    <a:pt x="35" y="306"/>
                  </a:lnTo>
                  <a:lnTo>
                    <a:pt x="27" y="305"/>
                  </a:lnTo>
                  <a:lnTo>
                    <a:pt x="19" y="300"/>
                  </a:lnTo>
                  <a:lnTo>
                    <a:pt x="14" y="297"/>
                  </a:lnTo>
                  <a:lnTo>
                    <a:pt x="13" y="295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4"/>
            <p:cNvSpPr/>
            <p:nvPr/>
          </p:nvSpPr>
          <p:spPr>
            <a:xfrm>
              <a:off x="3786120" y="2451240"/>
              <a:ext cx="56160" cy="6264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16" y="81"/>
                  </a:moveTo>
                  <a:lnTo>
                    <a:pt x="5" y="71"/>
                  </a:lnTo>
                  <a:lnTo>
                    <a:pt x="0" y="59"/>
                  </a:lnTo>
                  <a:lnTo>
                    <a:pt x="2" y="48"/>
                  </a:lnTo>
                  <a:lnTo>
                    <a:pt x="8" y="35"/>
                  </a:lnTo>
                  <a:lnTo>
                    <a:pt x="20" y="25"/>
                  </a:lnTo>
                  <a:lnTo>
                    <a:pt x="38" y="15"/>
                  </a:lnTo>
                  <a:lnTo>
                    <a:pt x="47" y="9"/>
                  </a:lnTo>
                  <a:lnTo>
                    <a:pt x="53" y="3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7" y="6"/>
                  </a:lnTo>
                  <a:lnTo>
                    <a:pt x="73" y="15"/>
                  </a:lnTo>
                  <a:lnTo>
                    <a:pt x="76" y="26"/>
                  </a:lnTo>
                  <a:lnTo>
                    <a:pt x="78" y="35"/>
                  </a:lnTo>
                  <a:lnTo>
                    <a:pt x="76" y="45"/>
                  </a:lnTo>
                  <a:lnTo>
                    <a:pt x="67" y="53"/>
                  </a:lnTo>
                  <a:lnTo>
                    <a:pt x="55" y="60"/>
                  </a:lnTo>
                  <a:lnTo>
                    <a:pt x="41" y="67"/>
                  </a:lnTo>
                  <a:lnTo>
                    <a:pt x="28" y="74"/>
                  </a:lnTo>
                  <a:lnTo>
                    <a:pt x="19" y="79"/>
                  </a:lnTo>
                  <a:lnTo>
                    <a:pt x="16" y="81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5"/>
            <p:cNvSpPr/>
            <p:nvPr/>
          </p:nvSpPr>
          <p:spPr>
            <a:xfrm>
              <a:off x="3817800" y="1965240"/>
              <a:ext cx="338040" cy="348480"/>
            </a:xfrm>
            <a:custGeom>
              <a:avLst/>
              <a:gdLst/>
              <a:ahLst/>
              <a:rect l="l" t="t" r="r" b="b"/>
              <a:pathLst>
                <a:path w="467" h="447">
                  <a:moveTo>
                    <a:pt x="3" y="436"/>
                  </a:moveTo>
                  <a:lnTo>
                    <a:pt x="0" y="426"/>
                  </a:lnTo>
                  <a:lnTo>
                    <a:pt x="0" y="418"/>
                  </a:lnTo>
                  <a:lnTo>
                    <a:pt x="4" y="408"/>
                  </a:lnTo>
                  <a:lnTo>
                    <a:pt x="14" y="396"/>
                  </a:lnTo>
                  <a:lnTo>
                    <a:pt x="20" y="387"/>
                  </a:lnTo>
                  <a:lnTo>
                    <a:pt x="23" y="382"/>
                  </a:lnTo>
                  <a:lnTo>
                    <a:pt x="25" y="379"/>
                  </a:lnTo>
                  <a:lnTo>
                    <a:pt x="28" y="374"/>
                  </a:lnTo>
                  <a:lnTo>
                    <a:pt x="34" y="368"/>
                  </a:lnTo>
                  <a:lnTo>
                    <a:pt x="42" y="363"/>
                  </a:lnTo>
                  <a:lnTo>
                    <a:pt x="49" y="362"/>
                  </a:lnTo>
                  <a:lnTo>
                    <a:pt x="56" y="360"/>
                  </a:lnTo>
                  <a:lnTo>
                    <a:pt x="60" y="357"/>
                  </a:lnTo>
                  <a:lnTo>
                    <a:pt x="65" y="348"/>
                  </a:lnTo>
                  <a:lnTo>
                    <a:pt x="67" y="340"/>
                  </a:lnTo>
                  <a:lnTo>
                    <a:pt x="65" y="336"/>
                  </a:lnTo>
                  <a:lnTo>
                    <a:pt x="62" y="332"/>
                  </a:lnTo>
                  <a:lnTo>
                    <a:pt x="57" y="329"/>
                  </a:lnTo>
                  <a:lnTo>
                    <a:pt x="54" y="325"/>
                  </a:lnTo>
                  <a:lnTo>
                    <a:pt x="54" y="317"/>
                  </a:lnTo>
                  <a:lnTo>
                    <a:pt x="57" y="304"/>
                  </a:lnTo>
                  <a:lnTo>
                    <a:pt x="62" y="298"/>
                  </a:lnTo>
                  <a:lnTo>
                    <a:pt x="67" y="294"/>
                  </a:lnTo>
                  <a:lnTo>
                    <a:pt x="74" y="287"/>
                  </a:lnTo>
                  <a:lnTo>
                    <a:pt x="82" y="281"/>
                  </a:lnTo>
                  <a:lnTo>
                    <a:pt x="90" y="277"/>
                  </a:lnTo>
                  <a:lnTo>
                    <a:pt x="98" y="270"/>
                  </a:lnTo>
                  <a:lnTo>
                    <a:pt x="107" y="263"/>
                  </a:lnTo>
                  <a:lnTo>
                    <a:pt x="116" y="250"/>
                  </a:lnTo>
                  <a:lnTo>
                    <a:pt x="124" y="235"/>
                  </a:lnTo>
                  <a:lnTo>
                    <a:pt x="129" y="222"/>
                  </a:lnTo>
                  <a:lnTo>
                    <a:pt x="132" y="211"/>
                  </a:lnTo>
                  <a:lnTo>
                    <a:pt x="136" y="202"/>
                  </a:lnTo>
                  <a:lnTo>
                    <a:pt x="143" y="193"/>
                  </a:lnTo>
                  <a:lnTo>
                    <a:pt x="149" y="188"/>
                  </a:lnTo>
                  <a:lnTo>
                    <a:pt x="154" y="190"/>
                  </a:lnTo>
                  <a:lnTo>
                    <a:pt x="157" y="193"/>
                  </a:lnTo>
                  <a:lnTo>
                    <a:pt x="160" y="196"/>
                  </a:lnTo>
                  <a:lnTo>
                    <a:pt x="164" y="196"/>
                  </a:lnTo>
                  <a:lnTo>
                    <a:pt x="172" y="191"/>
                  </a:lnTo>
                  <a:lnTo>
                    <a:pt x="178" y="182"/>
                  </a:lnTo>
                  <a:lnTo>
                    <a:pt x="180" y="176"/>
                  </a:lnTo>
                  <a:lnTo>
                    <a:pt x="182" y="171"/>
                  </a:lnTo>
                  <a:lnTo>
                    <a:pt x="182" y="166"/>
                  </a:lnTo>
                  <a:lnTo>
                    <a:pt x="186" y="160"/>
                  </a:lnTo>
                  <a:lnTo>
                    <a:pt x="194" y="152"/>
                  </a:lnTo>
                  <a:lnTo>
                    <a:pt x="206" y="145"/>
                  </a:lnTo>
                  <a:lnTo>
                    <a:pt x="216" y="141"/>
                  </a:lnTo>
                  <a:lnTo>
                    <a:pt x="223" y="140"/>
                  </a:lnTo>
                  <a:lnTo>
                    <a:pt x="228" y="137"/>
                  </a:lnTo>
                  <a:lnTo>
                    <a:pt x="230" y="131"/>
                  </a:lnTo>
                  <a:lnTo>
                    <a:pt x="228" y="121"/>
                  </a:lnTo>
                  <a:lnTo>
                    <a:pt x="225" y="107"/>
                  </a:lnTo>
                  <a:lnTo>
                    <a:pt x="223" y="93"/>
                  </a:lnTo>
                  <a:lnTo>
                    <a:pt x="222" y="79"/>
                  </a:lnTo>
                  <a:lnTo>
                    <a:pt x="225" y="68"/>
                  </a:lnTo>
                  <a:lnTo>
                    <a:pt x="233" y="61"/>
                  </a:lnTo>
                  <a:lnTo>
                    <a:pt x="239" y="59"/>
                  </a:lnTo>
                  <a:lnTo>
                    <a:pt x="245" y="65"/>
                  </a:lnTo>
                  <a:lnTo>
                    <a:pt x="250" y="75"/>
                  </a:lnTo>
                  <a:lnTo>
                    <a:pt x="255" y="87"/>
                  </a:lnTo>
                  <a:lnTo>
                    <a:pt x="261" y="98"/>
                  </a:lnTo>
                  <a:lnTo>
                    <a:pt x="267" y="106"/>
                  </a:lnTo>
                  <a:lnTo>
                    <a:pt x="276" y="110"/>
                  </a:lnTo>
                  <a:lnTo>
                    <a:pt x="292" y="110"/>
                  </a:lnTo>
                  <a:lnTo>
                    <a:pt x="303" y="107"/>
                  </a:lnTo>
                  <a:lnTo>
                    <a:pt x="310" y="104"/>
                  </a:lnTo>
                  <a:lnTo>
                    <a:pt x="321" y="98"/>
                  </a:lnTo>
                  <a:lnTo>
                    <a:pt x="329" y="95"/>
                  </a:lnTo>
                  <a:lnTo>
                    <a:pt x="334" y="93"/>
                  </a:lnTo>
                  <a:lnTo>
                    <a:pt x="338" y="92"/>
                  </a:lnTo>
                  <a:lnTo>
                    <a:pt x="345" y="89"/>
                  </a:lnTo>
                  <a:lnTo>
                    <a:pt x="351" y="81"/>
                  </a:lnTo>
                  <a:lnTo>
                    <a:pt x="360" y="70"/>
                  </a:lnTo>
                  <a:lnTo>
                    <a:pt x="373" y="51"/>
                  </a:lnTo>
                  <a:lnTo>
                    <a:pt x="387" y="34"/>
                  </a:lnTo>
                  <a:lnTo>
                    <a:pt x="401" y="20"/>
                  </a:lnTo>
                  <a:lnTo>
                    <a:pt x="416" y="9"/>
                  </a:lnTo>
                  <a:lnTo>
                    <a:pt x="427" y="5"/>
                  </a:lnTo>
                  <a:lnTo>
                    <a:pt x="439" y="2"/>
                  </a:lnTo>
                  <a:lnTo>
                    <a:pt x="450" y="0"/>
                  </a:lnTo>
                  <a:lnTo>
                    <a:pt x="460" y="2"/>
                  </a:lnTo>
                  <a:lnTo>
                    <a:pt x="466" y="5"/>
                  </a:lnTo>
                  <a:lnTo>
                    <a:pt x="467" y="13"/>
                  </a:lnTo>
                  <a:lnTo>
                    <a:pt x="466" y="22"/>
                  </a:lnTo>
                  <a:lnTo>
                    <a:pt x="461" y="28"/>
                  </a:lnTo>
                  <a:lnTo>
                    <a:pt x="456" y="34"/>
                  </a:lnTo>
                  <a:lnTo>
                    <a:pt x="453" y="39"/>
                  </a:lnTo>
                  <a:lnTo>
                    <a:pt x="453" y="45"/>
                  </a:lnTo>
                  <a:lnTo>
                    <a:pt x="458" y="53"/>
                  </a:lnTo>
                  <a:lnTo>
                    <a:pt x="464" y="61"/>
                  </a:lnTo>
                  <a:lnTo>
                    <a:pt x="467" y="67"/>
                  </a:lnTo>
                  <a:lnTo>
                    <a:pt x="467" y="75"/>
                  </a:lnTo>
                  <a:lnTo>
                    <a:pt x="460" y="82"/>
                  </a:lnTo>
                  <a:lnTo>
                    <a:pt x="449" y="87"/>
                  </a:lnTo>
                  <a:lnTo>
                    <a:pt x="438" y="87"/>
                  </a:lnTo>
                  <a:lnTo>
                    <a:pt x="425" y="89"/>
                  </a:lnTo>
                  <a:lnTo>
                    <a:pt x="411" y="90"/>
                  </a:lnTo>
                  <a:lnTo>
                    <a:pt x="394" y="98"/>
                  </a:lnTo>
                  <a:lnTo>
                    <a:pt x="382" y="104"/>
                  </a:lnTo>
                  <a:lnTo>
                    <a:pt x="373" y="110"/>
                  </a:lnTo>
                  <a:lnTo>
                    <a:pt x="366" y="113"/>
                  </a:lnTo>
                  <a:lnTo>
                    <a:pt x="360" y="118"/>
                  </a:lnTo>
                  <a:lnTo>
                    <a:pt x="351" y="123"/>
                  </a:lnTo>
                  <a:lnTo>
                    <a:pt x="335" y="129"/>
                  </a:lnTo>
                  <a:lnTo>
                    <a:pt x="318" y="137"/>
                  </a:lnTo>
                  <a:lnTo>
                    <a:pt x="309" y="140"/>
                  </a:lnTo>
                  <a:lnTo>
                    <a:pt x="303" y="145"/>
                  </a:lnTo>
                  <a:lnTo>
                    <a:pt x="298" y="148"/>
                  </a:lnTo>
                  <a:lnTo>
                    <a:pt x="293" y="155"/>
                  </a:lnTo>
                  <a:lnTo>
                    <a:pt x="286" y="166"/>
                  </a:lnTo>
                  <a:lnTo>
                    <a:pt x="278" y="182"/>
                  </a:lnTo>
                  <a:lnTo>
                    <a:pt x="272" y="193"/>
                  </a:lnTo>
                  <a:lnTo>
                    <a:pt x="265" y="202"/>
                  </a:lnTo>
                  <a:lnTo>
                    <a:pt x="258" y="210"/>
                  </a:lnTo>
                  <a:lnTo>
                    <a:pt x="245" y="219"/>
                  </a:lnTo>
                  <a:lnTo>
                    <a:pt x="231" y="227"/>
                  </a:lnTo>
                  <a:lnTo>
                    <a:pt x="219" y="228"/>
                  </a:lnTo>
                  <a:lnTo>
                    <a:pt x="208" y="227"/>
                  </a:lnTo>
                  <a:lnTo>
                    <a:pt x="197" y="225"/>
                  </a:lnTo>
                  <a:lnTo>
                    <a:pt x="188" y="225"/>
                  </a:lnTo>
                  <a:lnTo>
                    <a:pt x="183" y="225"/>
                  </a:lnTo>
                  <a:lnTo>
                    <a:pt x="177" y="227"/>
                  </a:lnTo>
                  <a:lnTo>
                    <a:pt x="172" y="228"/>
                  </a:lnTo>
                  <a:lnTo>
                    <a:pt x="169" y="231"/>
                  </a:lnTo>
                  <a:lnTo>
                    <a:pt x="166" y="233"/>
                  </a:lnTo>
                  <a:lnTo>
                    <a:pt x="164" y="236"/>
                  </a:lnTo>
                  <a:lnTo>
                    <a:pt x="163" y="241"/>
                  </a:lnTo>
                  <a:lnTo>
                    <a:pt x="164" y="245"/>
                  </a:lnTo>
                  <a:lnTo>
                    <a:pt x="169" y="255"/>
                  </a:lnTo>
                  <a:lnTo>
                    <a:pt x="171" y="266"/>
                  </a:lnTo>
                  <a:lnTo>
                    <a:pt x="169" y="275"/>
                  </a:lnTo>
                  <a:lnTo>
                    <a:pt x="161" y="286"/>
                  </a:lnTo>
                  <a:lnTo>
                    <a:pt x="149" y="297"/>
                  </a:lnTo>
                  <a:lnTo>
                    <a:pt x="135" y="308"/>
                  </a:lnTo>
                  <a:lnTo>
                    <a:pt x="122" y="320"/>
                  </a:lnTo>
                  <a:lnTo>
                    <a:pt x="110" y="337"/>
                  </a:lnTo>
                  <a:lnTo>
                    <a:pt x="102" y="354"/>
                  </a:lnTo>
                  <a:lnTo>
                    <a:pt x="96" y="370"/>
                  </a:lnTo>
                  <a:lnTo>
                    <a:pt x="91" y="379"/>
                  </a:lnTo>
                  <a:lnTo>
                    <a:pt x="82" y="385"/>
                  </a:lnTo>
                  <a:lnTo>
                    <a:pt x="73" y="390"/>
                  </a:lnTo>
                  <a:lnTo>
                    <a:pt x="62" y="393"/>
                  </a:lnTo>
                  <a:lnTo>
                    <a:pt x="53" y="396"/>
                  </a:lnTo>
                  <a:lnTo>
                    <a:pt x="45" y="402"/>
                  </a:lnTo>
                  <a:lnTo>
                    <a:pt x="40" y="410"/>
                  </a:lnTo>
                  <a:lnTo>
                    <a:pt x="37" y="421"/>
                  </a:lnTo>
                  <a:lnTo>
                    <a:pt x="34" y="432"/>
                  </a:lnTo>
                  <a:lnTo>
                    <a:pt x="31" y="440"/>
                  </a:lnTo>
                  <a:lnTo>
                    <a:pt x="26" y="446"/>
                  </a:lnTo>
                  <a:lnTo>
                    <a:pt x="18" y="447"/>
                  </a:lnTo>
                  <a:lnTo>
                    <a:pt x="14" y="446"/>
                  </a:lnTo>
                  <a:lnTo>
                    <a:pt x="9" y="443"/>
                  </a:lnTo>
                  <a:lnTo>
                    <a:pt x="6" y="441"/>
                  </a:lnTo>
                  <a:lnTo>
                    <a:pt x="4" y="438"/>
                  </a:lnTo>
                  <a:lnTo>
                    <a:pt x="3" y="436"/>
                  </a:lnTo>
                  <a:lnTo>
                    <a:pt x="3" y="436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9"/>
          <p:cNvSpPr/>
          <p:nvPr/>
        </p:nvSpPr>
        <p:spPr>
          <a:xfrm>
            <a:off x="511200" y="43668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汉真广标"/>
                <a:ea typeface="汉真广标"/>
              </a:rPr>
              <a:t>日本板块</a:t>
            </a:r>
            <a:r>
              <a:rPr b="0" lang="zh-CN" sz="44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44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592520" y="2103480"/>
            <a:ext cx="3755880" cy="4086000"/>
            <a:chOff x="4592520" y="2103480"/>
            <a:chExt cx="3755880" cy="4086000"/>
          </a:xfrm>
        </p:grpSpPr>
        <p:sp>
          <p:nvSpPr>
            <p:cNvPr id="102" name="Freeform 23"/>
            <p:cNvSpPr/>
            <p:nvPr/>
          </p:nvSpPr>
          <p:spPr>
            <a:xfrm>
              <a:off x="4788360" y="5225040"/>
              <a:ext cx="491760" cy="768960"/>
            </a:xfrm>
            <a:custGeom>
              <a:avLst/>
              <a:gdLst/>
              <a:ahLst/>
              <a:rect l="l" t="t" r="r" b="b"/>
              <a:pathLst>
                <a:path w="708" h="1027">
                  <a:moveTo>
                    <a:pt x="9" y="180"/>
                  </a:moveTo>
                  <a:lnTo>
                    <a:pt x="9" y="184"/>
                  </a:lnTo>
                  <a:lnTo>
                    <a:pt x="9" y="194"/>
                  </a:lnTo>
                  <a:lnTo>
                    <a:pt x="8" y="205"/>
                  </a:lnTo>
                  <a:lnTo>
                    <a:pt x="8" y="211"/>
                  </a:lnTo>
                  <a:lnTo>
                    <a:pt x="6" y="212"/>
                  </a:lnTo>
                  <a:lnTo>
                    <a:pt x="4" y="215"/>
                  </a:lnTo>
                  <a:lnTo>
                    <a:pt x="3" y="218"/>
                  </a:lnTo>
                  <a:lnTo>
                    <a:pt x="1" y="222"/>
                  </a:lnTo>
                  <a:lnTo>
                    <a:pt x="0" y="225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8" y="236"/>
                  </a:lnTo>
                  <a:lnTo>
                    <a:pt x="17" y="240"/>
                  </a:lnTo>
                  <a:lnTo>
                    <a:pt x="26" y="243"/>
                  </a:lnTo>
                  <a:lnTo>
                    <a:pt x="32" y="250"/>
                  </a:lnTo>
                  <a:lnTo>
                    <a:pt x="34" y="259"/>
                  </a:lnTo>
                  <a:lnTo>
                    <a:pt x="34" y="270"/>
                  </a:lnTo>
                  <a:lnTo>
                    <a:pt x="34" y="281"/>
                  </a:lnTo>
                  <a:lnTo>
                    <a:pt x="39" y="285"/>
                  </a:lnTo>
                  <a:lnTo>
                    <a:pt x="46" y="287"/>
                  </a:lnTo>
                  <a:lnTo>
                    <a:pt x="57" y="288"/>
                  </a:lnTo>
                  <a:lnTo>
                    <a:pt x="71" y="291"/>
                  </a:lnTo>
                  <a:lnTo>
                    <a:pt x="82" y="298"/>
                  </a:lnTo>
                  <a:lnTo>
                    <a:pt x="91" y="310"/>
                  </a:lnTo>
                  <a:lnTo>
                    <a:pt x="99" y="323"/>
                  </a:lnTo>
                  <a:lnTo>
                    <a:pt x="105" y="336"/>
                  </a:lnTo>
                  <a:lnTo>
                    <a:pt x="110" y="347"/>
                  </a:lnTo>
                  <a:lnTo>
                    <a:pt x="110" y="352"/>
                  </a:lnTo>
                  <a:lnTo>
                    <a:pt x="110" y="355"/>
                  </a:lnTo>
                  <a:lnTo>
                    <a:pt x="109" y="358"/>
                  </a:lnTo>
                  <a:lnTo>
                    <a:pt x="105" y="360"/>
                  </a:lnTo>
                  <a:lnTo>
                    <a:pt x="102" y="361"/>
                  </a:lnTo>
                  <a:lnTo>
                    <a:pt x="98" y="364"/>
                  </a:lnTo>
                  <a:lnTo>
                    <a:pt x="95" y="366"/>
                  </a:lnTo>
                  <a:lnTo>
                    <a:pt x="90" y="368"/>
                  </a:lnTo>
                  <a:lnTo>
                    <a:pt x="88" y="371"/>
                  </a:lnTo>
                  <a:lnTo>
                    <a:pt x="85" y="371"/>
                  </a:lnTo>
                  <a:lnTo>
                    <a:pt x="82" y="371"/>
                  </a:lnTo>
                  <a:lnTo>
                    <a:pt x="77" y="369"/>
                  </a:lnTo>
                  <a:lnTo>
                    <a:pt x="74" y="366"/>
                  </a:lnTo>
                  <a:lnTo>
                    <a:pt x="71" y="363"/>
                  </a:lnTo>
                  <a:lnTo>
                    <a:pt x="70" y="360"/>
                  </a:lnTo>
                  <a:lnTo>
                    <a:pt x="67" y="355"/>
                  </a:lnTo>
                  <a:lnTo>
                    <a:pt x="65" y="350"/>
                  </a:lnTo>
                  <a:lnTo>
                    <a:pt x="65" y="347"/>
                  </a:lnTo>
                  <a:lnTo>
                    <a:pt x="64" y="340"/>
                  </a:lnTo>
                  <a:lnTo>
                    <a:pt x="60" y="329"/>
                  </a:lnTo>
                  <a:lnTo>
                    <a:pt x="57" y="316"/>
                  </a:lnTo>
                  <a:lnTo>
                    <a:pt x="51" y="304"/>
                  </a:lnTo>
                  <a:lnTo>
                    <a:pt x="45" y="296"/>
                  </a:lnTo>
                  <a:lnTo>
                    <a:pt x="39" y="295"/>
                  </a:lnTo>
                  <a:lnTo>
                    <a:pt x="32" y="299"/>
                  </a:lnTo>
                  <a:lnTo>
                    <a:pt x="28" y="310"/>
                  </a:lnTo>
                  <a:lnTo>
                    <a:pt x="23" y="324"/>
                  </a:lnTo>
                  <a:lnTo>
                    <a:pt x="20" y="338"/>
                  </a:lnTo>
                  <a:lnTo>
                    <a:pt x="22" y="354"/>
                  </a:lnTo>
                  <a:lnTo>
                    <a:pt x="26" y="364"/>
                  </a:lnTo>
                  <a:lnTo>
                    <a:pt x="36" y="375"/>
                  </a:lnTo>
                  <a:lnTo>
                    <a:pt x="46" y="385"/>
                  </a:lnTo>
                  <a:lnTo>
                    <a:pt x="56" y="394"/>
                  </a:lnTo>
                  <a:lnTo>
                    <a:pt x="62" y="403"/>
                  </a:lnTo>
                  <a:lnTo>
                    <a:pt x="60" y="414"/>
                  </a:lnTo>
                  <a:lnTo>
                    <a:pt x="57" y="425"/>
                  </a:lnTo>
                  <a:lnTo>
                    <a:pt x="54" y="437"/>
                  </a:lnTo>
                  <a:lnTo>
                    <a:pt x="53" y="448"/>
                  </a:lnTo>
                  <a:lnTo>
                    <a:pt x="53" y="456"/>
                  </a:lnTo>
                  <a:lnTo>
                    <a:pt x="54" y="461"/>
                  </a:lnTo>
                  <a:lnTo>
                    <a:pt x="59" y="459"/>
                  </a:lnTo>
                  <a:lnTo>
                    <a:pt x="68" y="451"/>
                  </a:lnTo>
                  <a:lnTo>
                    <a:pt x="79" y="437"/>
                  </a:lnTo>
                  <a:lnTo>
                    <a:pt x="93" y="423"/>
                  </a:lnTo>
                  <a:lnTo>
                    <a:pt x="105" y="413"/>
                  </a:lnTo>
                  <a:lnTo>
                    <a:pt x="121" y="406"/>
                  </a:lnTo>
                  <a:lnTo>
                    <a:pt x="132" y="403"/>
                  </a:lnTo>
                  <a:lnTo>
                    <a:pt x="144" y="399"/>
                  </a:lnTo>
                  <a:lnTo>
                    <a:pt x="154" y="394"/>
                  </a:lnTo>
                  <a:lnTo>
                    <a:pt x="163" y="391"/>
                  </a:lnTo>
                  <a:lnTo>
                    <a:pt x="169" y="392"/>
                  </a:lnTo>
                  <a:lnTo>
                    <a:pt x="172" y="397"/>
                  </a:lnTo>
                  <a:lnTo>
                    <a:pt x="172" y="408"/>
                  </a:lnTo>
                  <a:lnTo>
                    <a:pt x="166" y="419"/>
                  </a:lnTo>
                  <a:lnTo>
                    <a:pt x="158" y="428"/>
                  </a:lnTo>
                  <a:lnTo>
                    <a:pt x="154" y="437"/>
                  </a:lnTo>
                  <a:lnTo>
                    <a:pt x="157" y="447"/>
                  </a:lnTo>
                  <a:lnTo>
                    <a:pt x="166" y="454"/>
                  </a:lnTo>
                  <a:lnTo>
                    <a:pt x="180" y="458"/>
                  </a:lnTo>
                  <a:lnTo>
                    <a:pt x="194" y="456"/>
                  </a:lnTo>
                  <a:lnTo>
                    <a:pt x="208" y="450"/>
                  </a:lnTo>
                  <a:lnTo>
                    <a:pt x="219" y="439"/>
                  </a:lnTo>
                  <a:lnTo>
                    <a:pt x="228" y="427"/>
                  </a:lnTo>
                  <a:lnTo>
                    <a:pt x="233" y="414"/>
                  </a:lnTo>
                  <a:lnTo>
                    <a:pt x="231" y="399"/>
                  </a:lnTo>
                  <a:lnTo>
                    <a:pt x="227" y="391"/>
                  </a:lnTo>
                  <a:lnTo>
                    <a:pt x="214" y="383"/>
                  </a:lnTo>
                  <a:lnTo>
                    <a:pt x="200" y="378"/>
                  </a:lnTo>
                  <a:lnTo>
                    <a:pt x="186" y="374"/>
                  </a:lnTo>
                  <a:lnTo>
                    <a:pt x="172" y="371"/>
                  </a:lnTo>
                  <a:lnTo>
                    <a:pt x="164" y="369"/>
                  </a:lnTo>
                  <a:lnTo>
                    <a:pt x="160" y="364"/>
                  </a:lnTo>
                  <a:lnTo>
                    <a:pt x="161" y="360"/>
                  </a:lnTo>
                  <a:lnTo>
                    <a:pt x="168" y="354"/>
                  </a:lnTo>
                  <a:lnTo>
                    <a:pt x="174" y="346"/>
                  </a:lnTo>
                  <a:lnTo>
                    <a:pt x="180" y="340"/>
                  </a:lnTo>
                  <a:lnTo>
                    <a:pt x="182" y="330"/>
                  </a:lnTo>
                  <a:lnTo>
                    <a:pt x="180" y="319"/>
                  </a:lnTo>
                  <a:lnTo>
                    <a:pt x="175" y="309"/>
                  </a:lnTo>
                  <a:lnTo>
                    <a:pt x="172" y="296"/>
                  </a:lnTo>
                  <a:lnTo>
                    <a:pt x="172" y="287"/>
                  </a:lnTo>
                  <a:lnTo>
                    <a:pt x="174" y="281"/>
                  </a:lnTo>
                  <a:lnTo>
                    <a:pt x="180" y="274"/>
                  </a:lnTo>
                  <a:lnTo>
                    <a:pt x="188" y="268"/>
                  </a:lnTo>
                  <a:lnTo>
                    <a:pt x="196" y="262"/>
                  </a:lnTo>
                  <a:lnTo>
                    <a:pt x="202" y="259"/>
                  </a:lnTo>
                  <a:lnTo>
                    <a:pt x="208" y="260"/>
                  </a:lnTo>
                  <a:lnTo>
                    <a:pt x="214" y="265"/>
                  </a:lnTo>
                  <a:lnTo>
                    <a:pt x="224" y="271"/>
                  </a:lnTo>
                  <a:lnTo>
                    <a:pt x="233" y="277"/>
                  </a:lnTo>
                  <a:lnTo>
                    <a:pt x="241" y="285"/>
                  </a:lnTo>
                  <a:lnTo>
                    <a:pt x="244" y="293"/>
                  </a:lnTo>
                  <a:lnTo>
                    <a:pt x="245" y="307"/>
                  </a:lnTo>
                  <a:lnTo>
                    <a:pt x="247" y="326"/>
                  </a:lnTo>
                  <a:lnTo>
                    <a:pt x="251" y="344"/>
                  </a:lnTo>
                  <a:lnTo>
                    <a:pt x="258" y="357"/>
                  </a:lnTo>
                  <a:lnTo>
                    <a:pt x="265" y="364"/>
                  </a:lnTo>
                  <a:lnTo>
                    <a:pt x="276" y="372"/>
                  </a:lnTo>
                  <a:lnTo>
                    <a:pt x="286" y="382"/>
                  </a:lnTo>
                  <a:lnTo>
                    <a:pt x="293" y="391"/>
                  </a:lnTo>
                  <a:lnTo>
                    <a:pt x="295" y="400"/>
                  </a:lnTo>
                  <a:lnTo>
                    <a:pt x="289" y="416"/>
                  </a:lnTo>
                  <a:lnTo>
                    <a:pt x="281" y="430"/>
                  </a:lnTo>
                  <a:lnTo>
                    <a:pt x="275" y="437"/>
                  </a:lnTo>
                  <a:lnTo>
                    <a:pt x="269" y="441"/>
                  </a:lnTo>
                  <a:lnTo>
                    <a:pt x="261" y="445"/>
                  </a:lnTo>
                  <a:lnTo>
                    <a:pt x="251" y="451"/>
                  </a:lnTo>
                  <a:lnTo>
                    <a:pt x="244" y="458"/>
                  </a:lnTo>
                  <a:lnTo>
                    <a:pt x="237" y="464"/>
                  </a:lnTo>
                  <a:lnTo>
                    <a:pt x="236" y="468"/>
                  </a:lnTo>
                  <a:lnTo>
                    <a:pt x="239" y="470"/>
                  </a:lnTo>
                  <a:lnTo>
                    <a:pt x="250" y="468"/>
                  </a:lnTo>
                  <a:lnTo>
                    <a:pt x="259" y="465"/>
                  </a:lnTo>
                  <a:lnTo>
                    <a:pt x="270" y="461"/>
                  </a:lnTo>
                  <a:lnTo>
                    <a:pt x="278" y="458"/>
                  </a:lnTo>
                  <a:lnTo>
                    <a:pt x="286" y="458"/>
                  </a:lnTo>
                  <a:lnTo>
                    <a:pt x="292" y="462"/>
                  </a:lnTo>
                  <a:lnTo>
                    <a:pt x="292" y="472"/>
                  </a:lnTo>
                  <a:lnTo>
                    <a:pt x="289" y="484"/>
                  </a:lnTo>
                  <a:lnTo>
                    <a:pt x="281" y="496"/>
                  </a:lnTo>
                  <a:lnTo>
                    <a:pt x="273" y="507"/>
                  </a:lnTo>
                  <a:lnTo>
                    <a:pt x="267" y="517"/>
                  </a:lnTo>
                  <a:lnTo>
                    <a:pt x="261" y="529"/>
                  </a:lnTo>
                  <a:lnTo>
                    <a:pt x="251" y="545"/>
                  </a:lnTo>
                  <a:lnTo>
                    <a:pt x="242" y="560"/>
                  </a:lnTo>
                  <a:lnTo>
                    <a:pt x="233" y="573"/>
                  </a:lnTo>
                  <a:lnTo>
                    <a:pt x="222" y="591"/>
                  </a:lnTo>
                  <a:lnTo>
                    <a:pt x="210" y="610"/>
                  </a:lnTo>
                  <a:lnTo>
                    <a:pt x="196" y="627"/>
                  </a:lnTo>
                  <a:lnTo>
                    <a:pt x="186" y="635"/>
                  </a:lnTo>
                  <a:lnTo>
                    <a:pt x="177" y="638"/>
                  </a:lnTo>
                  <a:lnTo>
                    <a:pt x="168" y="641"/>
                  </a:lnTo>
                  <a:lnTo>
                    <a:pt x="161" y="645"/>
                  </a:lnTo>
                  <a:lnTo>
                    <a:pt x="157" y="653"/>
                  </a:lnTo>
                  <a:lnTo>
                    <a:pt x="152" y="673"/>
                  </a:lnTo>
                  <a:lnTo>
                    <a:pt x="152" y="695"/>
                  </a:lnTo>
                  <a:lnTo>
                    <a:pt x="157" y="720"/>
                  </a:lnTo>
                  <a:lnTo>
                    <a:pt x="161" y="731"/>
                  </a:lnTo>
                  <a:lnTo>
                    <a:pt x="168" y="739"/>
                  </a:lnTo>
                  <a:lnTo>
                    <a:pt x="172" y="745"/>
                  </a:lnTo>
                  <a:lnTo>
                    <a:pt x="177" y="754"/>
                  </a:lnTo>
                  <a:lnTo>
                    <a:pt x="182" y="768"/>
                  </a:lnTo>
                  <a:lnTo>
                    <a:pt x="185" y="788"/>
                  </a:lnTo>
                  <a:lnTo>
                    <a:pt x="186" y="807"/>
                  </a:lnTo>
                  <a:lnTo>
                    <a:pt x="186" y="824"/>
                  </a:lnTo>
                  <a:lnTo>
                    <a:pt x="180" y="843"/>
                  </a:lnTo>
                  <a:lnTo>
                    <a:pt x="172" y="854"/>
                  </a:lnTo>
                  <a:lnTo>
                    <a:pt x="161" y="860"/>
                  </a:lnTo>
                  <a:lnTo>
                    <a:pt x="152" y="866"/>
                  </a:lnTo>
                  <a:lnTo>
                    <a:pt x="144" y="871"/>
                  </a:lnTo>
                  <a:lnTo>
                    <a:pt x="138" y="875"/>
                  </a:lnTo>
                  <a:lnTo>
                    <a:pt x="137" y="885"/>
                  </a:lnTo>
                  <a:lnTo>
                    <a:pt x="138" y="899"/>
                  </a:lnTo>
                  <a:lnTo>
                    <a:pt x="143" y="913"/>
                  </a:lnTo>
                  <a:lnTo>
                    <a:pt x="149" y="923"/>
                  </a:lnTo>
                  <a:lnTo>
                    <a:pt x="160" y="930"/>
                  </a:lnTo>
                  <a:lnTo>
                    <a:pt x="171" y="933"/>
                  </a:lnTo>
                  <a:lnTo>
                    <a:pt x="178" y="933"/>
                  </a:lnTo>
                  <a:lnTo>
                    <a:pt x="188" y="933"/>
                  </a:lnTo>
                  <a:lnTo>
                    <a:pt x="197" y="934"/>
                  </a:lnTo>
                  <a:lnTo>
                    <a:pt x="208" y="942"/>
                  </a:lnTo>
                  <a:lnTo>
                    <a:pt x="217" y="950"/>
                  </a:lnTo>
                  <a:lnTo>
                    <a:pt x="222" y="956"/>
                  </a:lnTo>
                  <a:lnTo>
                    <a:pt x="225" y="959"/>
                  </a:lnTo>
                  <a:lnTo>
                    <a:pt x="230" y="962"/>
                  </a:lnTo>
                  <a:lnTo>
                    <a:pt x="239" y="965"/>
                  </a:lnTo>
                  <a:lnTo>
                    <a:pt x="251" y="968"/>
                  </a:lnTo>
                  <a:lnTo>
                    <a:pt x="261" y="970"/>
                  </a:lnTo>
                  <a:lnTo>
                    <a:pt x="270" y="968"/>
                  </a:lnTo>
                  <a:lnTo>
                    <a:pt x="276" y="964"/>
                  </a:lnTo>
                  <a:lnTo>
                    <a:pt x="278" y="954"/>
                  </a:lnTo>
                  <a:lnTo>
                    <a:pt x="275" y="942"/>
                  </a:lnTo>
                  <a:lnTo>
                    <a:pt x="267" y="930"/>
                  </a:lnTo>
                  <a:lnTo>
                    <a:pt x="256" y="919"/>
                  </a:lnTo>
                  <a:lnTo>
                    <a:pt x="248" y="906"/>
                  </a:lnTo>
                  <a:lnTo>
                    <a:pt x="247" y="892"/>
                  </a:lnTo>
                  <a:lnTo>
                    <a:pt x="245" y="877"/>
                  </a:lnTo>
                  <a:lnTo>
                    <a:pt x="244" y="864"/>
                  </a:lnTo>
                  <a:lnTo>
                    <a:pt x="241" y="852"/>
                  </a:lnTo>
                  <a:lnTo>
                    <a:pt x="242" y="841"/>
                  </a:lnTo>
                  <a:lnTo>
                    <a:pt x="250" y="829"/>
                  </a:lnTo>
                  <a:lnTo>
                    <a:pt x="261" y="813"/>
                  </a:lnTo>
                  <a:lnTo>
                    <a:pt x="270" y="798"/>
                  </a:lnTo>
                  <a:lnTo>
                    <a:pt x="279" y="787"/>
                  </a:lnTo>
                  <a:lnTo>
                    <a:pt x="289" y="781"/>
                  </a:lnTo>
                  <a:lnTo>
                    <a:pt x="301" y="776"/>
                  </a:lnTo>
                  <a:lnTo>
                    <a:pt x="314" y="776"/>
                  </a:lnTo>
                  <a:lnTo>
                    <a:pt x="326" y="781"/>
                  </a:lnTo>
                  <a:lnTo>
                    <a:pt x="332" y="790"/>
                  </a:lnTo>
                  <a:lnTo>
                    <a:pt x="334" y="799"/>
                  </a:lnTo>
                  <a:lnTo>
                    <a:pt x="331" y="810"/>
                  </a:lnTo>
                  <a:lnTo>
                    <a:pt x="324" y="823"/>
                  </a:lnTo>
                  <a:lnTo>
                    <a:pt x="320" y="829"/>
                  </a:lnTo>
                  <a:lnTo>
                    <a:pt x="312" y="832"/>
                  </a:lnTo>
                  <a:lnTo>
                    <a:pt x="306" y="835"/>
                  </a:lnTo>
                  <a:lnTo>
                    <a:pt x="300" y="838"/>
                  </a:lnTo>
                  <a:lnTo>
                    <a:pt x="295" y="843"/>
                  </a:lnTo>
                  <a:lnTo>
                    <a:pt x="295" y="850"/>
                  </a:lnTo>
                  <a:lnTo>
                    <a:pt x="300" y="861"/>
                  </a:lnTo>
                  <a:lnTo>
                    <a:pt x="304" y="869"/>
                  </a:lnTo>
                  <a:lnTo>
                    <a:pt x="311" y="877"/>
                  </a:lnTo>
                  <a:lnTo>
                    <a:pt x="315" y="886"/>
                  </a:lnTo>
                  <a:lnTo>
                    <a:pt x="317" y="897"/>
                  </a:lnTo>
                  <a:lnTo>
                    <a:pt x="318" y="913"/>
                  </a:lnTo>
                  <a:lnTo>
                    <a:pt x="321" y="927"/>
                  </a:lnTo>
                  <a:lnTo>
                    <a:pt x="321" y="941"/>
                  </a:lnTo>
                  <a:lnTo>
                    <a:pt x="317" y="954"/>
                  </a:lnTo>
                  <a:lnTo>
                    <a:pt x="306" y="970"/>
                  </a:lnTo>
                  <a:lnTo>
                    <a:pt x="295" y="986"/>
                  </a:lnTo>
                  <a:lnTo>
                    <a:pt x="284" y="1000"/>
                  </a:lnTo>
                  <a:lnTo>
                    <a:pt x="279" y="1010"/>
                  </a:lnTo>
                  <a:lnTo>
                    <a:pt x="281" y="1020"/>
                  </a:lnTo>
                  <a:lnTo>
                    <a:pt x="284" y="1026"/>
                  </a:lnTo>
                  <a:lnTo>
                    <a:pt x="290" y="1027"/>
                  </a:lnTo>
                  <a:lnTo>
                    <a:pt x="301" y="1026"/>
                  </a:lnTo>
                  <a:lnTo>
                    <a:pt x="317" y="1020"/>
                  </a:lnTo>
                  <a:lnTo>
                    <a:pt x="337" y="1009"/>
                  </a:lnTo>
                  <a:lnTo>
                    <a:pt x="352" y="998"/>
                  </a:lnTo>
                  <a:lnTo>
                    <a:pt x="365" y="989"/>
                  </a:lnTo>
                  <a:lnTo>
                    <a:pt x="376" y="976"/>
                  </a:lnTo>
                  <a:lnTo>
                    <a:pt x="384" y="967"/>
                  </a:lnTo>
                  <a:lnTo>
                    <a:pt x="390" y="961"/>
                  </a:lnTo>
                  <a:lnTo>
                    <a:pt x="396" y="956"/>
                  </a:lnTo>
                  <a:lnTo>
                    <a:pt x="405" y="950"/>
                  </a:lnTo>
                  <a:lnTo>
                    <a:pt x="413" y="944"/>
                  </a:lnTo>
                  <a:lnTo>
                    <a:pt x="416" y="933"/>
                  </a:lnTo>
                  <a:lnTo>
                    <a:pt x="415" y="923"/>
                  </a:lnTo>
                  <a:lnTo>
                    <a:pt x="408" y="916"/>
                  </a:lnTo>
                  <a:lnTo>
                    <a:pt x="402" y="908"/>
                  </a:lnTo>
                  <a:lnTo>
                    <a:pt x="399" y="899"/>
                  </a:lnTo>
                  <a:lnTo>
                    <a:pt x="399" y="889"/>
                  </a:lnTo>
                  <a:lnTo>
                    <a:pt x="402" y="880"/>
                  </a:lnTo>
                  <a:lnTo>
                    <a:pt x="410" y="874"/>
                  </a:lnTo>
                  <a:lnTo>
                    <a:pt x="419" y="871"/>
                  </a:lnTo>
                  <a:lnTo>
                    <a:pt x="427" y="868"/>
                  </a:lnTo>
                  <a:lnTo>
                    <a:pt x="435" y="869"/>
                  </a:lnTo>
                  <a:lnTo>
                    <a:pt x="443" y="877"/>
                  </a:lnTo>
                  <a:lnTo>
                    <a:pt x="449" y="886"/>
                  </a:lnTo>
                  <a:lnTo>
                    <a:pt x="453" y="895"/>
                  </a:lnTo>
                  <a:lnTo>
                    <a:pt x="460" y="902"/>
                  </a:lnTo>
                  <a:lnTo>
                    <a:pt x="466" y="905"/>
                  </a:lnTo>
                  <a:lnTo>
                    <a:pt x="475" y="902"/>
                  </a:lnTo>
                  <a:lnTo>
                    <a:pt x="488" y="889"/>
                  </a:lnTo>
                  <a:lnTo>
                    <a:pt x="498" y="871"/>
                  </a:lnTo>
                  <a:lnTo>
                    <a:pt x="508" y="850"/>
                  </a:lnTo>
                  <a:lnTo>
                    <a:pt x="516" y="832"/>
                  </a:lnTo>
                  <a:lnTo>
                    <a:pt x="523" y="815"/>
                  </a:lnTo>
                  <a:lnTo>
                    <a:pt x="531" y="798"/>
                  </a:lnTo>
                  <a:lnTo>
                    <a:pt x="537" y="782"/>
                  </a:lnTo>
                  <a:lnTo>
                    <a:pt x="539" y="770"/>
                  </a:lnTo>
                  <a:lnTo>
                    <a:pt x="534" y="757"/>
                  </a:lnTo>
                  <a:lnTo>
                    <a:pt x="530" y="745"/>
                  </a:lnTo>
                  <a:lnTo>
                    <a:pt x="526" y="732"/>
                  </a:lnTo>
                  <a:lnTo>
                    <a:pt x="530" y="718"/>
                  </a:lnTo>
                  <a:lnTo>
                    <a:pt x="533" y="709"/>
                  </a:lnTo>
                  <a:lnTo>
                    <a:pt x="539" y="694"/>
                  </a:lnTo>
                  <a:lnTo>
                    <a:pt x="547" y="673"/>
                  </a:lnTo>
                  <a:lnTo>
                    <a:pt x="556" y="650"/>
                  </a:lnTo>
                  <a:lnTo>
                    <a:pt x="564" y="627"/>
                  </a:lnTo>
                  <a:lnTo>
                    <a:pt x="571" y="607"/>
                  </a:lnTo>
                  <a:lnTo>
                    <a:pt x="578" y="590"/>
                  </a:lnTo>
                  <a:lnTo>
                    <a:pt x="582" y="579"/>
                  </a:lnTo>
                  <a:lnTo>
                    <a:pt x="587" y="568"/>
                  </a:lnTo>
                  <a:lnTo>
                    <a:pt x="590" y="559"/>
                  </a:lnTo>
                  <a:lnTo>
                    <a:pt x="595" y="551"/>
                  </a:lnTo>
                  <a:lnTo>
                    <a:pt x="601" y="543"/>
                  </a:lnTo>
                  <a:lnTo>
                    <a:pt x="610" y="532"/>
                  </a:lnTo>
                  <a:lnTo>
                    <a:pt x="618" y="520"/>
                  </a:lnTo>
                  <a:lnTo>
                    <a:pt x="620" y="510"/>
                  </a:lnTo>
                  <a:lnTo>
                    <a:pt x="620" y="503"/>
                  </a:lnTo>
                  <a:lnTo>
                    <a:pt x="621" y="495"/>
                  </a:lnTo>
                  <a:lnTo>
                    <a:pt x="626" y="486"/>
                  </a:lnTo>
                  <a:lnTo>
                    <a:pt x="632" y="478"/>
                  </a:lnTo>
                  <a:lnTo>
                    <a:pt x="638" y="473"/>
                  </a:lnTo>
                  <a:lnTo>
                    <a:pt x="644" y="470"/>
                  </a:lnTo>
                  <a:lnTo>
                    <a:pt x="651" y="464"/>
                  </a:lnTo>
                  <a:lnTo>
                    <a:pt x="658" y="456"/>
                  </a:lnTo>
                  <a:lnTo>
                    <a:pt x="665" y="448"/>
                  </a:lnTo>
                  <a:lnTo>
                    <a:pt x="666" y="442"/>
                  </a:lnTo>
                  <a:lnTo>
                    <a:pt x="666" y="436"/>
                  </a:lnTo>
                  <a:lnTo>
                    <a:pt x="666" y="431"/>
                  </a:lnTo>
                  <a:lnTo>
                    <a:pt x="671" y="428"/>
                  </a:lnTo>
                  <a:lnTo>
                    <a:pt x="680" y="427"/>
                  </a:lnTo>
                  <a:lnTo>
                    <a:pt x="693" y="423"/>
                  </a:lnTo>
                  <a:lnTo>
                    <a:pt x="700" y="419"/>
                  </a:lnTo>
                  <a:lnTo>
                    <a:pt x="705" y="413"/>
                  </a:lnTo>
                  <a:lnTo>
                    <a:pt x="707" y="403"/>
                  </a:lnTo>
                  <a:lnTo>
                    <a:pt x="708" y="392"/>
                  </a:lnTo>
                  <a:lnTo>
                    <a:pt x="708" y="382"/>
                  </a:lnTo>
                  <a:lnTo>
                    <a:pt x="707" y="375"/>
                  </a:lnTo>
                  <a:lnTo>
                    <a:pt x="702" y="371"/>
                  </a:lnTo>
                  <a:lnTo>
                    <a:pt x="697" y="366"/>
                  </a:lnTo>
                  <a:lnTo>
                    <a:pt x="694" y="364"/>
                  </a:lnTo>
                  <a:lnTo>
                    <a:pt x="691" y="361"/>
                  </a:lnTo>
                  <a:lnTo>
                    <a:pt x="688" y="360"/>
                  </a:lnTo>
                  <a:lnTo>
                    <a:pt x="686" y="358"/>
                  </a:lnTo>
                  <a:lnTo>
                    <a:pt x="685" y="355"/>
                  </a:lnTo>
                  <a:lnTo>
                    <a:pt x="685" y="352"/>
                  </a:lnTo>
                  <a:lnTo>
                    <a:pt x="686" y="347"/>
                  </a:lnTo>
                  <a:lnTo>
                    <a:pt x="688" y="341"/>
                  </a:lnTo>
                  <a:lnTo>
                    <a:pt x="691" y="330"/>
                  </a:lnTo>
                  <a:lnTo>
                    <a:pt x="691" y="323"/>
                  </a:lnTo>
                  <a:lnTo>
                    <a:pt x="688" y="318"/>
                  </a:lnTo>
                  <a:lnTo>
                    <a:pt x="682" y="313"/>
                  </a:lnTo>
                  <a:lnTo>
                    <a:pt x="674" y="310"/>
                  </a:lnTo>
                  <a:lnTo>
                    <a:pt x="668" y="305"/>
                  </a:lnTo>
                  <a:lnTo>
                    <a:pt x="663" y="299"/>
                  </a:lnTo>
                  <a:lnTo>
                    <a:pt x="663" y="291"/>
                  </a:lnTo>
                  <a:lnTo>
                    <a:pt x="668" y="284"/>
                  </a:lnTo>
                  <a:lnTo>
                    <a:pt x="672" y="274"/>
                  </a:lnTo>
                  <a:lnTo>
                    <a:pt x="674" y="268"/>
                  </a:lnTo>
                  <a:lnTo>
                    <a:pt x="671" y="264"/>
                  </a:lnTo>
                  <a:lnTo>
                    <a:pt x="660" y="259"/>
                  </a:lnTo>
                  <a:lnTo>
                    <a:pt x="643" y="256"/>
                  </a:lnTo>
                  <a:lnTo>
                    <a:pt x="624" y="254"/>
                  </a:lnTo>
                  <a:lnTo>
                    <a:pt x="607" y="254"/>
                  </a:lnTo>
                  <a:lnTo>
                    <a:pt x="593" y="254"/>
                  </a:lnTo>
                  <a:lnTo>
                    <a:pt x="581" y="253"/>
                  </a:lnTo>
                  <a:lnTo>
                    <a:pt x="575" y="250"/>
                  </a:lnTo>
                  <a:lnTo>
                    <a:pt x="573" y="243"/>
                  </a:lnTo>
                  <a:lnTo>
                    <a:pt x="578" y="232"/>
                  </a:lnTo>
                  <a:lnTo>
                    <a:pt x="582" y="226"/>
                  </a:lnTo>
                  <a:lnTo>
                    <a:pt x="590" y="220"/>
                  </a:lnTo>
                  <a:lnTo>
                    <a:pt x="603" y="214"/>
                  </a:lnTo>
                  <a:lnTo>
                    <a:pt x="615" y="205"/>
                  </a:lnTo>
                  <a:lnTo>
                    <a:pt x="629" y="194"/>
                  </a:lnTo>
                  <a:lnTo>
                    <a:pt x="640" y="180"/>
                  </a:lnTo>
                  <a:lnTo>
                    <a:pt x="644" y="166"/>
                  </a:lnTo>
                  <a:lnTo>
                    <a:pt x="643" y="153"/>
                  </a:lnTo>
                  <a:lnTo>
                    <a:pt x="634" y="138"/>
                  </a:lnTo>
                  <a:lnTo>
                    <a:pt x="623" y="124"/>
                  </a:lnTo>
                  <a:lnTo>
                    <a:pt x="612" y="113"/>
                  </a:lnTo>
                  <a:lnTo>
                    <a:pt x="598" y="108"/>
                  </a:lnTo>
                  <a:lnTo>
                    <a:pt x="587" y="113"/>
                  </a:lnTo>
                  <a:lnTo>
                    <a:pt x="575" y="121"/>
                  </a:lnTo>
                  <a:lnTo>
                    <a:pt x="562" y="130"/>
                  </a:lnTo>
                  <a:lnTo>
                    <a:pt x="551" y="139"/>
                  </a:lnTo>
                  <a:lnTo>
                    <a:pt x="540" y="144"/>
                  </a:lnTo>
                  <a:lnTo>
                    <a:pt x="530" y="144"/>
                  </a:lnTo>
                  <a:lnTo>
                    <a:pt x="514" y="144"/>
                  </a:lnTo>
                  <a:lnTo>
                    <a:pt x="497" y="141"/>
                  </a:lnTo>
                  <a:lnTo>
                    <a:pt x="483" y="136"/>
                  </a:lnTo>
                  <a:lnTo>
                    <a:pt x="470" y="127"/>
                  </a:lnTo>
                  <a:lnTo>
                    <a:pt x="461" y="113"/>
                  </a:lnTo>
                  <a:lnTo>
                    <a:pt x="453" y="104"/>
                  </a:lnTo>
                  <a:lnTo>
                    <a:pt x="447" y="91"/>
                  </a:lnTo>
                  <a:lnTo>
                    <a:pt x="438" y="79"/>
                  </a:lnTo>
                  <a:lnTo>
                    <a:pt x="433" y="68"/>
                  </a:lnTo>
                  <a:lnTo>
                    <a:pt x="430" y="54"/>
                  </a:lnTo>
                  <a:lnTo>
                    <a:pt x="427" y="40"/>
                  </a:lnTo>
                  <a:lnTo>
                    <a:pt x="424" y="27"/>
                  </a:lnTo>
                  <a:lnTo>
                    <a:pt x="419" y="17"/>
                  </a:lnTo>
                  <a:lnTo>
                    <a:pt x="411" y="12"/>
                  </a:lnTo>
                  <a:lnTo>
                    <a:pt x="396" y="10"/>
                  </a:lnTo>
                  <a:lnTo>
                    <a:pt x="382" y="9"/>
                  </a:lnTo>
                  <a:lnTo>
                    <a:pt x="371" y="4"/>
                  </a:lnTo>
                  <a:lnTo>
                    <a:pt x="365" y="1"/>
                  </a:lnTo>
                  <a:lnTo>
                    <a:pt x="359" y="0"/>
                  </a:lnTo>
                  <a:lnTo>
                    <a:pt x="348" y="1"/>
                  </a:lnTo>
                  <a:lnTo>
                    <a:pt x="335" y="6"/>
                  </a:lnTo>
                  <a:lnTo>
                    <a:pt x="321" y="12"/>
                  </a:lnTo>
                  <a:lnTo>
                    <a:pt x="309" y="18"/>
                  </a:lnTo>
                  <a:lnTo>
                    <a:pt x="300" y="23"/>
                  </a:lnTo>
                  <a:lnTo>
                    <a:pt x="287" y="32"/>
                  </a:lnTo>
                  <a:lnTo>
                    <a:pt x="281" y="46"/>
                  </a:lnTo>
                  <a:lnTo>
                    <a:pt x="273" y="65"/>
                  </a:lnTo>
                  <a:lnTo>
                    <a:pt x="265" y="79"/>
                  </a:lnTo>
                  <a:lnTo>
                    <a:pt x="253" y="88"/>
                  </a:lnTo>
                  <a:lnTo>
                    <a:pt x="237" y="94"/>
                  </a:lnTo>
                  <a:lnTo>
                    <a:pt x="224" y="96"/>
                  </a:lnTo>
                  <a:lnTo>
                    <a:pt x="211" y="96"/>
                  </a:lnTo>
                  <a:lnTo>
                    <a:pt x="199" y="97"/>
                  </a:lnTo>
                  <a:lnTo>
                    <a:pt x="188" y="100"/>
                  </a:lnTo>
                  <a:lnTo>
                    <a:pt x="180" y="107"/>
                  </a:lnTo>
                  <a:lnTo>
                    <a:pt x="177" y="114"/>
                  </a:lnTo>
                  <a:lnTo>
                    <a:pt x="174" y="128"/>
                  </a:lnTo>
                  <a:lnTo>
                    <a:pt x="166" y="142"/>
                  </a:lnTo>
                  <a:lnTo>
                    <a:pt x="157" y="153"/>
                  </a:lnTo>
                  <a:lnTo>
                    <a:pt x="152" y="158"/>
                  </a:lnTo>
                  <a:lnTo>
                    <a:pt x="147" y="161"/>
                  </a:lnTo>
                  <a:lnTo>
                    <a:pt x="144" y="163"/>
                  </a:lnTo>
                  <a:lnTo>
                    <a:pt x="141" y="163"/>
                  </a:lnTo>
                  <a:lnTo>
                    <a:pt x="138" y="161"/>
                  </a:lnTo>
                  <a:lnTo>
                    <a:pt x="135" y="158"/>
                  </a:lnTo>
                  <a:lnTo>
                    <a:pt x="132" y="152"/>
                  </a:lnTo>
                  <a:lnTo>
                    <a:pt x="129" y="142"/>
                  </a:lnTo>
                  <a:lnTo>
                    <a:pt x="126" y="133"/>
                  </a:lnTo>
                  <a:lnTo>
                    <a:pt x="121" y="127"/>
                  </a:lnTo>
                  <a:lnTo>
                    <a:pt x="116" y="122"/>
                  </a:lnTo>
                  <a:lnTo>
                    <a:pt x="109" y="125"/>
                  </a:lnTo>
                  <a:lnTo>
                    <a:pt x="96" y="135"/>
                  </a:lnTo>
                  <a:lnTo>
                    <a:pt x="87" y="144"/>
                  </a:lnTo>
                  <a:lnTo>
                    <a:pt x="82" y="152"/>
                  </a:lnTo>
                  <a:lnTo>
                    <a:pt x="84" y="163"/>
                  </a:lnTo>
                  <a:lnTo>
                    <a:pt x="91" y="175"/>
                  </a:lnTo>
                  <a:lnTo>
                    <a:pt x="96" y="186"/>
                  </a:lnTo>
                  <a:lnTo>
                    <a:pt x="95" y="197"/>
                  </a:lnTo>
                  <a:lnTo>
                    <a:pt x="91" y="201"/>
                  </a:lnTo>
                  <a:lnTo>
                    <a:pt x="85" y="200"/>
                  </a:lnTo>
                  <a:lnTo>
                    <a:pt x="77" y="197"/>
                  </a:lnTo>
                  <a:lnTo>
                    <a:pt x="65" y="191"/>
                  </a:lnTo>
                  <a:lnTo>
                    <a:pt x="50" y="186"/>
                  </a:lnTo>
                  <a:lnTo>
                    <a:pt x="36" y="183"/>
                  </a:lnTo>
                  <a:lnTo>
                    <a:pt x="26" y="181"/>
                  </a:lnTo>
                  <a:lnTo>
                    <a:pt x="20" y="181"/>
                  </a:lnTo>
                  <a:lnTo>
                    <a:pt x="18" y="180"/>
                  </a:lnTo>
                  <a:lnTo>
                    <a:pt x="15" y="180"/>
                  </a:lnTo>
                  <a:lnTo>
                    <a:pt x="12" y="180"/>
                  </a:lnTo>
                  <a:lnTo>
                    <a:pt x="11" y="180"/>
                  </a:lnTo>
                  <a:lnTo>
                    <a:pt x="9" y="180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4856400" y="5588640"/>
              <a:ext cx="50040" cy="78840"/>
            </a:xfrm>
            <a:custGeom>
              <a:avLst/>
              <a:gdLst/>
              <a:ahLst/>
              <a:rect l="l" t="t" r="r" b="b"/>
              <a:pathLst>
                <a:path w="73" h="107">
                  <a:moveTo>
                    <a:pt x="23" y="8"/>
                  </a:moveTo>
                  <a:lnTo>
                    <a:pt x="17" y="17"/>
                  </a:lnTo>
                  <a:lnTo>
                    <a:pt x="11" y="31"/>
                  </a:lnTo>
                  <a:lnTo>
                    <a:pt x="6" y="45"/>
                  </a:lnTo>
                  <a:lnTo>
                    <a:pt x="4" y="57"/>
                  </a:lnTo>
                  <a:lnTo>
                    <a:pt x="6" y="67"/>
                  </a:lnTo>
                  <a:lnTo>
                    <a:pt x="7" y="75"/>
                  </a:lnTo>
                  <a:lnTo>
                    <a:pt x="4" y="81"/>
                  </a:lnTo>
                  <a:lnTo>
                    <a:pt x="3" y="89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6" y="104"/>
                  </a:lnTo>
                  <a:lnTo>
                    <a:pt x="23" y="107"/>
                  </a:lnTo>
                  <a:lnTo>
                    <a:pt x="42" y="102"/>
                  </a:lnTo>
                  <a:lnTo>
                    <a:pt x="56" y="92"/>
                  </a:lnTo>
                  <a:lnTo>
                    <a:pt x="66" y="79"/>
                  </a:lnTo>
                  <a:lnTo>
                    <a:pt x="71" y="67"/>
                  </a:lnTo>
                  <a:lnTo>
                    <a:pt x="71" y="50"/>
                  </a:lnTo>
                  <a:lnTo>
                    <a:pt x="71" y="40"/>
                  </a:lnTo>
                  <a:lnTo>
                    <a:pt x="73" y="30"/>
                  </a:lnTo>
                  <a:lnTo>
                    <a:pt x="73" y="19"/>
                  </a:lnTo>
                  <a:lnTo>
                    <a:pt x="71" y="9"/>
                  </a:lnTo>
                  <a:lnTo>
                    <a:pt x="66" y="3"/>
                  </a:lnTo>
                  <a:lnTo>
                    <a:pt x="60" y="0"/>
                  </a:lnTo>
                  <a:lnTo>
                    <a:pt x="46" y="0"/>
                  </a:lnTo>
                  <a:lnTo>
                    <a:pt x="34" y="3"/>
                  </a:lnTo>
                  <a:lnTo>
                    <a:pt x="26" y="6"/>
                  </a:lnTo>
                  <a:lnTo>
                    <a:pt x="23" y="8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4913640" y="5590080"/>
              <a:ext cx="45360" cy="4032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0" y="36"/>
                  </a:moveTo>
                  <a:lnTo>
                    <a:pt x="2" y="25"/>
                  </a:lnTo>
                  <a:lnTo>
                    <a:pt x="6" y="17"/>
                  </a:lnTo>
                  <a:lnTo>
                    <a:pt x="14" y="11"/>
                  </a:lnTo>
                  <a:lnTo>
                    <a:pt x="25" y="8"/>
                  </a:lnTo>
                  <a:lnTo>
                    <a:pt x="34" y="6"/>
                  </a:lnTo>
                  <a:lnTo>
                    <a:pt x="44" y="3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4" y="2"/>
                  </a:lnTo>
                  <a:lnTo>
                    <a:pt x="65" y="8"/>
                  </a:lnTo>
                  <a:lnTo>
                    <a:pt x="64" y="20"/>
                  </a:lnTo>
                  <a:lnTo>
                    <a:pt x="61" y="33"/>
                  </a:lnTo>
                  <a:lnTo>
                    <a:pt x="57" y="44"/>
                  </a:lnTo>
                  <a:lnTo>
                    <a:pt x="51" y="51"/>
                  </a:lnTo>
                  <a:lnTo>
                    <a:pt x="44" y="54"/>
                  </a:lnTo>
                  <a:lnTo>
                    <a:pt x="34" y="51"/>
                  </a:lnTo>
                  <a:lnTo>
                    <a:pt x="26" y="47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9" y="40"/>
                  </a:lnTo>
                  <a:lnTo>
                    <a:pt x="5" y="40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4592520" y="5494320"/>
              <a:ext cx="60840" cy="5220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0" y="60"/>
                  </a:moveTo>
                  <a:lnTo>
                    <a:pt x="3" y="51"/>
                  </a:lnTo>
                  <a:lnTo>
                    <a:pt x="3" y="39"/>
                  </a:lnTo>
                  <a:lnTo>
                    <a:pt x="3" y="26"/>
                  </a:lnTo>
                  <a:lnTo>
                    <a:pt x="5" y="15"/>
                  </a:lnTo>
                  <a:lnTo>
                    <a:pt x="9" y="8"/>
                  </a:lnTo>
                  <a:lnTo>
                    <a:pt x="17" y="6"/>
                  </a:lnTo>
                  <a:lnTo>
                    <a:pt x="23" y="9"/>
                  </a:lnTo>
                  <a:lnTo>
                    <a:pt x="31" y="14"/>
                  </a:lnTo>
                  <a:lnTo>
                    <a:pt x="37" y="17"/>
                  </a:lnTo>
                  <a:lnTo>
                    <a:pt x="45" y="17"/>
                  </a:lnTo>
                  <a:lnTo>
                    <a:pt x="48" y="15"/>
                  </a:lnTo>
                  <a:lnTo>
                    <a:pt x="50" y="12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4" y="4"/>
                  </a:lnTo>
                  <a:lnTo>
                    <a:pt x="56" y="1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1"/>
                  </a:lnTo>
                  <a:lnTo>
                    <a:pt x="65" y="4"/>
                  </a:lnTo>
                  <a:lnTo>
                    <a:pt x="73" y="15"/>
                  </a:lnTo>
                  <a:lnTo>
                    <a:pt x="81" y="26"/>
                  </a:lnTo>
                  <a:lnTo>
                    <a:pt x="87" y="37"/>
                  </a:lnTo>
                  <a:lnTo>
                    <a:pt x="89" y="46"/>
                  </a:lnTo>
                  <a:lnTo>
                    <a:pt x="89" y="54"/>
                  </a:lnTo>
                  <a:lnTo>
                    <a:pt x="82" y="57"/>
                  </a:lnTo>
                  <a:lnTo>
                    <a:pt x="72" y="57"/>
                  </a:lnTo>
                  <a:lnTo>
                    <a:pt x="59" y="59"/>
                  </a:lnTo>
                  <a:lnTo>
                    <a:pt x="47" y="60"/>
                  </a:lnTo>
                  <a:lnTo>
                    <a:pt x="37" y="65"/>
                  </a:lnTo>
                  <a:lnTo>
                    <a:pt x="30" y="70"/>
                  </a:lnTo>
                  <a:lnTo>
                    <a:pt x="20" y="70"/>
                  </a:lnTo>
                  <a:lnTo>
                    <a:pt x="11" y="67"/>
                  </a:lnTo>
                  <a:lnTo>
                    <a:pt x="3" y="62"/>
                  </a:lnTo>
                  <a:lnTo>
                    <a:pt x="0" y="60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5012280" y="6040080"/>
              <a:ext cx="54000" cy="123840"/>
            </a:xfrm>
            <a:custGeom>
              <a:avLst/>
              <a:gdLst/>
              <a:ahLst/>
              <a:rect l="l" t="t" r="r" b="b"/>
              <a:pathLst>
                <a:path w="78" h="166">
                  <a:moveTo>
                    <a:pt x="5" y="166"/>
                  </a:moveTo>
                  <a:lnTo>
                    <a:pt x="0" y="152"/>
                  </a:lnTo>
                  <a:lnTo>
                    <a:pt x="3" y="140"/>
                  </a:lnTo>
                  <a:lnTo>
                    <a:pt x="8" y="127"/>
                  </a:lnTo>
                  <a:lnTo>
                    <a:pt x="15" y="115"/>
                  </a:lnTo>
                  <a:lnTo>
                    <a:pt x="20" y="103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9" y="64"/>
                  </a:lnTo>
                  <a:lnTo>
                    <a:pt x="33" y="48"/>
                  </a:lnTo>
                  <a:lnTo>
                    <a:pt x="37" y="36"/>
                  </a:lnTo>
                  <a:lnTo>
                    <a:pt x="43" y="26"/>
                  </a:lnTo>
                  <a:lnTo>
                    <a:pt x="53" y="17"/>
                  </a:lnTo>
                  <a:lnTo>
                    <a:pt x="59" y="11"/>
                  </a:lnTo>
                  <a:lnTo>
                    <a:pt x="64" y="6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2"/>
                  </a:lnTo>
                  <a:lnTo>
                    <a:pt x="73" y="6"/>
                  </a:lnTo>
                  <a:lnTo>
                    <a:pt x="74" y="17"/>
                  </a:lnTo>
                  <a:lnTo>
                    <a:pt x="78" y="30"/>
                  </a:lnTo>
                  <a:lnTo>
                    <a:pt x="78" y="44"/>
                  </a:lnTo>
                  <a:lnTo>
                    <a:pt x="73" y="59"/>
                  </a:lnTo>
                  <a:lnTo>
                    <a:pt x="56" y="87"/>
                  </a:lnTo>
                  <a:lnTo>
                    <a:pt x="42" y="116"/>
                  </a:lnTo>
                  <a:lnTo>
                    <a:pt x="39" y="127"/>
                  </a:lnTo>
                  <a:lnTo>
                    <a:pt x="39" y="137"/>
                  </a:lnTo>
                  <a:lnTo>
                    <a:pt x="39" y="146"/>
                  </a:lnTo>
                  <a:lnTo>
                    <a:pt x="37" y="152"/>
                  </a:lnTo>
                  <a:lnTo>
                    <a:pt x="33" y="157"/>
                  </a:lnTo>
                  <a:lnTo>
                    <a:pt x="19" y="162"/>
                  </a:lnTo>
                  <a:lnTo>
                    <a:pt x="9" y="165"/>
                  </a:lnTo>
                  <a:lnTo>
                    <a:pt x="5" y="166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4910760" y="6128640"/>
              <a:ext cx="63720" cy="6084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0" y="33"/>
                  </a:moveTo>
                  <a:lnTo>
                    <a:pt x="3" y="44"/>
                  </a:lnTo>
                  <a:lnTo>
                    <a:pt x="10" y="56"/>
                  </a:lnTo>
                  <a:lnTo>
                    <a:pt x="16" y="67"/>
                  </a:lnTo>
                  <a:lnTo>
                    <a:pt x="25" y="73"/>
                  </a:lnTo>
                  <a:lnTo>
                    <a:pt x="33" y="78"/>
                  </a:lnTo>
                  <a:lnTo>
                    <a:pt x="44" y="82"/>
                  </a:lnTo>
                  <a:lnTo>
                    <a:pt x="55" y="84"/>
                  </a:lnTo>
                  <a:lnTo>
                    <a:pt x="64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6" y="64"/>
                  </a:lnTo>
                  <a:lnTo>
                    <a:pt x="90" y="56"/>
                  </a:lnTo>
                  <a:lnTo>
                    <a:pt x="94" y="48"/>
                  </a:lnTo>
                  <a:lnTo>
                    <a:pt x="92" y="39"/>
                  </a:lnTo>
                  <a:lnTo>
                    <a:pt x="83" y="26"/>
                  </a:lnTo>
                  <a:lnTo>
                    <a:pt x="69" y="17"/>
                  </a:lnTo>
                  <a:lnTo>
                    <a:pt x="53" y="8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4" y="5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2" y="30"/>
                  </a:lnTo>
                  <a:lnTo>
                    <a:pt x="0" y="33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5297400" y="5141160"/>
              <a:ext cx="537480" cy="432360"/>
            </a:xfrm>
            <a:custGeom>
              <a:avLst/>
              <a:gdLst/>
              <a:ahLst/>
              <a:rect l="l" t="t" r="r" b="b"/>
              <a:pathLst>
                <a:path w="774" h="577">
                  <a:moveTo>
                    <a:pt x="237" y="556"/>
                  </a:moveTo>
                  <a:lnTo>
                    <a:pt x="233" y="557"/>
                  </a:lnTo>
                  <a:lnTo>
                    <a:pt x="227" y="560"/>
                  </a:lnTo>
                  <a:lnTo>
                    <a:pt x="218" y="563"/>
                  </a:lnTo>
                  <a:lnTo>
                    <a:pt x="207" y="565"/>
                  </a:lnTo>
                  <a:lnTo>
                    <a:pt x="193" y="563"/>
                  </a:lnTo>
                  <a:lnTo>
                    <a:pt x="176" y="557"/>
                  </a:lnTo>
                  <a:lnTo>
                    <a:pt x="164" y="549"/>
                  </a:lnTo>
                  <a:lnTo>
                    <a:pt x="160" y="542"/>
                  </a:lnTo>
                  <a:lnTo>
                    <a:pt x="165" y="534"/>
                  </a:lnTo>
                  <a:lnTo>
                    <a:pt x="171" y="525"/>
                  </a:lnTo>
                  <a:lnTo>
                    <a:pt x="176" y="517"/>
                  </a:lnTo>
                  <a:lnTo>
                    <a:pt x="174" y="507"/>
                  </a:lnTo>
                  <a:lnTo>
                    <a:pt x="167" y="501"/>
                  </a:lnTo>
                  <a:lnTo>
                    <a:pt x="150" y="498"/>
                  </a:lnTo>
                  <a:lnTo>
                    <a:pt x="137" y="500"/>
                  </a:lnTo>
                  <a:lnTo>
                    <a:pt x="128" y="503"/>
                  </a:lnTo>
                  <a:lnTo>
                    <a:pt x="122" y="506"/>
                  </a:lnTo>
                  <a:lnTo>
                    <a:pt x="117" y="506"/>
                  </a:lnTo>
                  <a:lnTo>
                    <a:pt x="114" y="498"/>
                  </a:lnTo>
                  <a:lnTo>
                    <a:pt x="114" y="487"/>
                  </a:lnTo>
                  <a:lnTo>
                    <a:pt x="115" y="478"/>
                  </a:lnTo>
                  <a:lnTo>
                    <a:pt x="117" y="470"/>
                  </a:lnTo>
                  <a:lnTo>
                    <a:pt x="119" y="459"/>
                  </a:lnTo>
                  <a:lnTo>
                    <a:pt x="119" y="456"/>
                  </a:lnTo>
                  <a:lnTo>
                    <a:pt x="117" y="453"/>
                  </a:lnTo>
                  <a:lnTo>
                    <a:pt x="115" y="452"/>
                  </a:lnTo>
                  <a:lnTo>
                    <a:pt x="112" y="450"/>
                  </a:lnTo>
                  <a:lnTo>
                    <a:pt x="109" y="448"/>
                  </a:lnTo>
                  <a:lnTo>
                    <a:pt x="106" y="448"/>
                  </a:lnTo>
                  <a:lnTo>
                    <a:pt x="103" y="448"/>
                  </a:lnTo>
                  <a:lnTo>
                    <a:pt x="101" y="448"/>
                  </a:lnTo>
                  <a:lnTo>
                    <a:pt x="100" y="448"/>
                  </a:lnTo>
                  <a:lnTo>
                    <a:pt x="101" y="447"/>
                  </a:lnTo>
                  <a:lnTo>
                    <a:pt x="105" y="441"/>
                  </a:lnTo>
                  <a:lnTo>
                    <a:pt x="109" y="435"/>
                  </a:lnTo>
                  <a:lnTo>
                    <a:pt x="112" y="427"/>
                  </a:lnTo>
                  <a:lnTo>
                    <a:pt x="114" y="424"/>
                  </a:lnTo>
                  <a:lnTo>
                    <a:pt x="114" y="422"/>
                  </a:lnTo>
                  <a:lnTo>
                    <a:pt x="112" y="421"/>
                  </a:lnTo>
                  <a:lnTo>
                    <a:pt x="109" y="419"/>
                  </a:lnTo>
                  <a:lnTo>
                    <a:pt x="106" y="416"/>
                  </a:lnTo>
                  <a:lnTo>
                    <a:pt x="103" y="413"/>
                  </a:lnTo>
                  <a:lnTo>
                    <a:pt x="98" y="411"/>
                  </a:lnTo>
                  <a:lnTo>
                    <a:pt x="95" y="410"/>
                  </a:lnTo>
                  <a:lnTo>
                    <a:pt x="94" y="408"/>
                  </a:lnTo>
                  <a:lnTo>
                    <a:pt x="92" y="408"/>
                  </a:lnTo>
                  <a:lnTo>
                    <a:pt x="94" y="408"/>
                  </a:lnTo>
                  <a:lnTo>
                    <a:pt x="95" y="408"/>
                  </a:lnTo>
                  <a:lnTo>
                    <a:pt x="97" y="407"/>
                  </a:lnTo>
                  <a:lnTo>
                    <a:pt x="100" y="407"/>
                  </a:lnTo>
                  <a:lnTo>
                    <a:pt x="103" y="405"/>
                  </a:lnTo>
                  <a:lnTo>
                    <a:pt x="106" y="402"/>
                  </a:lnTo>
                  <a:lnTo>
                    <a:pt x="109" y="397"/>
                  </a:lnTo>
                  <a:lnTo>
                    <a:pt x="112" y="389"/>
                  </a:lnTo>
                  <a:lnTo>
                    <a:pt x="115" y="385"/>
                  </a:lnTo>
                  <a:lnTo>
                    <a:pt x="119" y="379"/>
                  </a:lnTo>
                  <a:lnTo>
                    <a:pt x="117" y="374"/>
                  </a:lnTo>
                  <a:lnTo>
                    <a:pt x="111" y="368"/>
                  </a:lnTo>
                  <a:lnTo>
                    <a:pt x="100" y="358"/>
                  </a:lnTo>
                  <a:lnTo>
                    <a:pt x="94" y="349"/>
                  </a:lnTo>
                  <a:lnTo>
                    <a:pt x="92" y="334"/>
                  </a:lnTo>
                  <a:lnTo>
                    <a:pt x="89" y="323"/>
                  </a:lnTo>
                  <a:lnTo>
                    <a:pt x="83" y="317"/>
                  </a:lnTo>
                  <a:lnTo>
                    <a:pt x="75" y="315"/>
                  </a:lnTo>
                  <a:lnTo>
                    <a:pt x="66" y="317"/>
                  </a:lnTo>
                  <a:lnTo>
                    <a:pt x="59" y="321"/>
                  </a:lnTo>
                  <a:lnTo>
                    <a:pt x="49" y="326"/>
                  </a:lnTo>
                  <a:lnTo>
                    <a:pt x="36" y="332"/>
                  </a:lnTo>
                  <a:lnTo>
                    <a:pt x="22" y="337"/>
                  </a:lnTo>
                  <a:lnTo>
                    <a:pt x="11" y="341"/>
                  </a:lnTo>
                  <a:lnTo>
                    <a:pt x="4" y="343"/>
                  </a:lnTo>
                  <a:lnTo>
                    <a:pt x="0" y="341"/>
                  </a:lnTo>
                  <a:lnTo>
                    <a:pt x="4" y="335"/>
                  </a:lnTo>
                  <a:lnTo>
                    <a:pt x="10" y="326"/>
                  </a:lnTo>
                  <a:lnTo>
                    <a:pt x="18" y="317"/>
                  </a:lnTo>
                  <a:lnTo>
                    <a:pt x="28" y="307"/>
                  </a:lnTo>
                  <a:lnTo>
                    <a:pt x="39" y="299"/>
                  </a:lnTo>
                  <a:lnTo>
                    <a:pt x="47" y="296"/>
                  </a:lnTo>
                  <a:lnTo>
                    <a:pt x="55" y="295"/>
                  </a:lnTo>
                  <a:lnTo>
                    <a:pt x="63" y="295"/>
                  </a:lnTo>
                  <a:lnTo>
                    <a:pt x="69" y="295"/>
                  </a:lnTo>
                  <a:lnTo>
                    <a:pt x="77" y="293"/>
                  </a:lnTo>
                  <a:lnTo>
                    <a:pt x="89" y="287"/>
                  </a:lnTo>
                  <a:lnTo>
                    <a:pt x="100" y="279"/>
                  </a:lnTo>
                  <a:lnTo>
                    <a:pt x="106" y="270"/>
                  </a:lnTo>
                  <a:lnTo>
                    <a:pt x="112" y="261"/>
                  </a:lnTo>
                  <a:lnTo>
                    <a:pt x="120" y="253"/>
                  </a:lnTo>
                  <a:lnTo>
                    <a:pt x="131" y="247"/>
                  </a:lnTo>
                  <a:lnTo>
                    <a:pt x="145" y="245"/>
                  </a:lnTo>
                  <a:lnTo>
                    <a:pt x="154" y="247"/>
                  </a:lnTo>
                  <a:lnTo>
                    <a:pt x="162" y="247"/>
                  </a:lnTo>
                  <a:lnTo>
                    <a:pt x="170" y="244"/>
                  </a:lnTo>
                  <a:lnTo>
                    <a:pt x="176" y="234"/>
                  </a:lnTo>
                  <a:lnTo>
                    <a:pt x="181" y="219"/>
                  </a:lnTo>
                  <a:lnTo>
                    <a:pt x="182" y="203"/>
                  </a:lnTo>
                  <a:lnTo>
                    <a:pt x="184" y="189"/>
                  </a:lnTo>
                  <a:lnTo>
                    <a:pt x="187" y="178"/>
                  </a:lnTo>
                  <a:lnTo>
                    <a:pt x="193" y="163"/>
                  </a:lnTo>
                  <a:lnTo>
                    <a:pt x="201" y="149"/>
                  </a:lnTo>
                  <a:lnTo>
                    <a:pt x="209" y="136"/>
                  </a:lnTo>
                  <a:lnTo>
                    <a:pt x="219" y="129"/>
                  </a:lnTo>
                  <a:lnTo>
                    <a:pt x="232" y="121"/>
                  </a:lnTo>
                  <a:lnTo>
                    <a:pt x="244" y="112"/>
                  </a:lnTo>
                  <a:lnTo>
                    <a:pt x="251" y="102"/>
                  </a:lnTo>
                  <a:lnTo>
                    <a:pt x="255" y="94"/>
                  </a:lnTo>
                  <a:lnTo>
                    <a:pt x="258" y="88"/>
                  </a:lnTo>
                  <a:lnTo>
                    <a:pt x="263" y="84"/>
                  </a:lnTo>
                  <a:lnTo>
                    <a:pt x="268" y="85"/>
                  </a:lnTo>
                  <a:lnTo>
                    <a:pt x="277" y="93"/>
                  </a:lnTo>
                  <a:lnTo>
                    <a:pt x="285" y="105"/>
                  </a:lnTo>
                  <a:lnTo>
                    <a:pt x="291" y="118"/>
                  </a:lnTo>
                  <a:lnTo>
                    <a:pt x="296" y="129"/>
                  </a:lnTo>
                  <a:lnTo>
                    <a:pt x="300" y="139"/>
                  </a:lnTo>
                  <a:lnTo>
                    <a:pt x="305" y="149"/>
                  </a:lnTo>
                  <a:lnTo>
                    <a:pt x="311" y="158"/>
                  </a:lnTo>
                  <a:lnTo>
                    <a:pt x="319" y="161"/>
                  </a:lnTo>
                  <a:lnTo>
                    <a:pt x="328" y="160"/>
                  </a:lnTo>
                  <a:lnTo>
                    <a:pt x="338" y="153"/>
                  </a:lnTo>
                  <a:lnTo>
                    <a:pt x="347" y="146"/>
                  </a:lnTo>
                  <a:lnTo>
                    <a:pt x="358" y="141"/>
                  </a:lnTo>
                  <a:lnTo>
                    <a:pt x="372" y="138"/>
                  </a:lnTo>
                  <a:lnTo>
                    <a:pt x="387" y="138"/>
                  </a:lnTo>
                  <a:lnTo>
                    <a:pt x="404" y="138"/>
                  </a:lnTo>
                  <a:lnTo>
                    <a:pt x="418" y="138"/>
                  </a:lnTo>
                  <a:lnTo>
                    <a:pt x="431" y="136"/>
                  </a:lnTo>
                  <a:lnTo>
                    <a:pt x="440" y="132"/>
                  </a:lnTo>
                  <a:lnTo>
                    <a:pt x="448" y="119"/>
                  </a:lnTo>
                  <a:lnTo>
                    <a:pt x="454" y="107"/>
                  </a:lnTo>
                  <a:lnTo>
                    <a:pt x="459" y="91"/>
                  </a:lnTo>
                  <a:lnTo>
                    <a:pt x="463" y="77"/>
                  </a:lnTo>
                  <a:lnTo>
                    <a:pt x="466" y="67"/>
                  </a:lnTo>
                  <a:lnTo>
                    <a:pt x="470" y="60"/>
                  </a:lnTo>
                  <a:lnTo>
                    <a:pt x="474" y="56"/>
                  </a:lnTo>
                  <a:lnTo>
                    <a:pt x="484" y="49"/>
                  </a:lnTo>
                  <a:lnTo>
                    <a:pt x="494" y="40"/>
                  </a:lnTo>
                  <a:lnTo>
                    <a:pt x="510" y="32"/>
                  </a:lnTo>
                  <a:lnTo>
                    <a:pt x="524" y="26"/>
                  </a:lnTo>
                  <a:lnTo>
                    <a:pt x="535" y="21"/>
                  </a:lnTo>
                  <a:lnTo>
                    <a:pt x="543" y="15"/>
                  </a:lnTo>
                  <a:lnTo>
                    <a:pt x="546" y="11"/>
                  </a:lnTo>
                  <a:lnTo>
                    <a:pt x="547" y="7"/>
                  </a:lnTo>
                  <a:lnTo>
                    <a:pt x="547" y="4"/>
                  </a:lnTo>
                  <a:lnTo>
                    <a:pt x="549" y="3"/>
                  </a:lnTo>
                  <a:lnTo>
                    <a:pt x="549" y="1"/>
                  </a:lnTo>
                  <a:lnTo>
                    <a:pt x="550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8" y="1"/>
                  </a:lnTo>
                  <a:lnTo>
                    <a:pt x="569" y="6"/>
                  </a:lnTo>
                  <a:lnTo>
                    <a:pt x="583" y="11"/>
                  </a:lnTo>
                  <a:lnTo>
                    <a:pt x="597" y="12"/>
                  </a:lnTo>
                  <a:lnTo>
                    <a:pt x="609" y="9"/>
                  </a:lnTo>
                  <a:lnTo>
                    <a:pt x="613" y="7"/>
                  </a:lnTo>
                  <a:lnTo>
                    <a:pt x="616" y="4"/>
                  </a:lnTo>
                  <a:lnTo>
                    <a:pt x="617" y="4"/>
                  </a:lnTo>
                  <a:lnTo>
                    <a:pt x="619" y="4"/>
                  </a:lnTo>
                  <a:lnTo>
                    <a:pt x="620" y="6"/>
                  </a:lnTo>
                  <a:lnTo>
                    <a:pt x="622" y="7"/>
                  </a:lnTo>
                  <a:lnTo>
                    <a:pt x="625" y="11"/>
                  </a:lnTo>
                  <a:lnTo>
                    <a:pt x="630" y="15"/>
                  </a:lnTo>
                  <a:lnTo>
                    <a:pt x="637" y="21"/>
                  </a:lnTo>
                  <a:lnTo>
                    <a:pt x="644" y="25"/>
                  </a:lnTo>
                  <a:lnTo>
                    <a:pt x="648" y="28"/>
                  </a:lnTo>
                  <a:lnTo>
                    <a:pt x="656" y="32"/>
                  </a:lnTo>
                  <a:lnTo>
                    <a:pt x="665" y="40"/>
                  </a:lnTo>
                  <a:lnTo>
                    <a:pt x="682" y="53"/>
                  </a:lnTo>
                  <a:lnTo>
                    <a:pt x="695" y="59"/>
                  </a:lnTo>
                  <a:lnTo>
                    <a:pt x="704" y="60"/>
                  </a:lnTo>
                  <a:lnTo>
                    <a:pt x="710" y="57"/>
                  </a:lnTo>
                  <a:lnTo>
                    <a:pt x="720" y="56"/>
                  </a:lnTo>
                  <a:lnTo>
                    <a:pt x="731" y="56"/>
                  </a:lnTo>
                  <a:lnTo>
                    <a:pt x="740" y="62"/>
                  </a:lnTo>
                  <a:lnTo>
                    <a:pt x="748" y="74"/>
                  </a:lnTo>
                  <a:lnTo>
                    <a:pt x="751" y="90"/>
                  </a:lnTo>
                  <a:lnTo>
                    <a:pt x="748" y="108"/>
                  </a:lnTo>
                  <a:lnTo>
                    <a:pt x="745" y="121"/>
                  </a:lnTo>
                  <a:lnTo>
                    <a:pt x="743" y="129"/>
                  </a:lnTo>
                  <a:lnTo>
                    <a:pt x="746" y="136"/>
                  </a:lnTo>
                  <a:lnTo>
                    <a:pt x="752" y="146"/>
                  </a:lnTo>
                  <a:lnTo>
                    <a:pt x="757" y="155"/>
                  </a:lnTo>
                  <a:lnTo>
                    <a:pt x="759" y="167"/>
                  </a:lnTo>
                  <a:lnTo>
                    <a:pt x="760" y="180"/>
                  </a:lnTo>
                  <a:lnTo>
                    <a:pt x="763" y="192"/>
                  </a:lnTo>
                  <a:lnTo>
                    <a:pt x="768" y="200"/>
                  </a:lnTo>
                  <a:lnTo>
                    <a:pt x="773" y="205"/>
                  </a:lnTo>
                  <a:lnTo>
                    <a:pt x="774" y="209"/>
                  </a:lnTo>
                  <a:lnTo>
                    <a:pt x="773" y="212"/>
                  </a:lnTo>
                  <a:lnTo>
                    <a:pt x="771" y="217"/>
                  </a:lnTo>
                  <a:lnTo>
                    <a:pt x="768" y="220"/>
                  </a:lnTo>
                  <a:lnTo>
                    <a:pt x="762" y="223"/>
                  </a:lnTo>
                  <a:lnTo>
                    <a:pt x="757" y="225"/>
                  </a:lnTo>
                  <a:lnTo>
                    <a:pt x="740" y="233"/>
                  </a:lnTo>
                  <a:lnTo>
                    <a:pt x="721" y="244"/>
                  </a:lnTo>
                  <a:lnTo>
                    <a:pt x="703" y="257"/>
                  </a:lnTo>
                  <a:lnTo>
                    <a:pt x="690" y="267"/>
                  </a:lnTo>
                  <a:lnTo>
                    <a:pt x="682" y="275"/>
                  </a:lnTo>
                  <a:lnTo>
                    <a:pt x="673" y="282"/>
                  </a:lnTo>
                  <a:lnTo>
                    <a:pt x="665" y="296"/>
                  </a:lnTo>
                  <a:lnTo>
                    <a:pt x="653" y="313"/>
                  </a:lnTo>
                  <a:lnTo>
                    <a:pt x="642" y="330"/>
                  </a:lnTo>
                  <a:lnTo>
                    <a:pt x="633" y="349"/>
                  </a:lnTo>
                  <a:lnTo>
                    <a:pt x="628" y="363"/>
                  </a:lnTo>
                  <a:lnTo>
                    <a:pt x="626" y="376"/>
                  </a:lnTo>
                  <a:lnTo>
                    <a:pt x="625" y="385"/>
                  </a:lnTo>
                  <a:lnTo>
                    <a:pt x="625" y="393"/>
                  </a:lnTo>
                  <a:lnTo>
                    <a:pt x="620" y="397"/>
                  </a:lnTo>
                  <a:lnTo>
                    <a:pt x="611" y="400"/>
                  </a:lnTo>
                  <a:lnTo>
                    <a:pt x="602" y="402"/>
                  </a:lnTo>
                  <a:lnTo>
                    <a:pt x="591" y="397"/>
                  </a:lnTo>
                  <a:lnTo>
                    <a:pt x="580" y="385"/>
                  </a:lnTo>
                  <a:lnTo>
                    <a:pt x="572" y="369"/>
                  </a:lnTo>
                  <a:lnTo>
                    <a:pt x="564" y="355"/>
                  </a:lnTo>
                  <a:lnTo>
                    <a:pt x="555" y="343"/>
                  </a:lnTo>
                  <a:lnTo>
                    <a:pt x="539" y="334"/>
                  </a:lnTo>
                  <a:lnTo>
                    <a:pt x="518" y="323"/>
                  </a:lnTo>
                  <a:lnTo>
                    <a:pt x="499" y="313"/>
                  </a:lnTo>
                  <a:lnTo>
                    <a:pt x="482" y="307"/>
                  </a:lnTo>
                  <a:lnTo>
                    <a:pt x="471" y="304"/>
                  </a:lnTo>
                  <a:lnTo>
                    <a:pt x="460" y="304"/>
                  </a:lnTo>
                  <a:lnTo>
                    <a:pt x="449" y="307"/>
                  </a:lnTo>
                  <a:lnTo>
                    <a:pt x="437" y="315"/>
                  </a:lnTo>
                  <a:lnTo>
                    <a:pt x="420" y="329"/>
                  </a:lnTo>
                  <a:lnTo>
                    <a:pt x="404" y="341"/>
                  </a:lnTo>
                  <a:lnTo>
                    <a:pt x="389" y="346"/>
                  </a:lnTo>
                  <a:lnTo>
                    <a:pt x="383" y="346"/>
                  </a:lnTo>
                  <a:lnTo>
                    <a:pt x="378" y="346"/>
                  </a:lnTo>
                  <a:lnTo>
                    <a:pt x="375" y="346"/>
                  </a:lnTo>
                  <a:lnTo>
                    <a:pt x="370" y="351"/>
                  </a:lnTo>
                  <a:lnTo>
                    <a:pt x="364" y="360"/>
                  </a:lnTo>
                  <a:lnTo>
                    <a:pt x="358" y="374"/>
                  </a:lnTo>
                  <a:lnTo>
                    <a:pt x="355" y="386"/>
                  </a:lnTo>
                  <a:lnTo>
                    <a:pt x="352" y="399"/>
                  </a:lnTo>
                  <a:lnTo>
                    <a:pt x="342" y="413"/>
                  </a:lnTo>
                  <a:lnTo>
                    <a:pt x="327" y="431"/>
                  </a:lnTo>
                  <a:lnTo>
                    <a:pt x="314" y="448"/>
                  </a:lnTo>
                  <a:lnTo>
                    <a:pt x="302" y="462"/>
                  </a:lnTo>
                  <a:lnTo>
                    <a:pt x="297" y="467"/>
                  </a:lnTo>
                  <a:lnTo>
                    <a:pt x="293" y="469"/>
                  </a:lnTo>
                  <a:lnTo>
                    <a:pt x="289" y="470"/>
                  </a:lnTo>
                  <a:lnTo>
                    <a:pt x="286" y="472"/>
                  </a:lnTo>
                  <a:lnTo>
                    <a:pt x="283" y="473"/>
                  </a:lnTo>
                  <a:lnTo>
                    <a:pt x="280" y="475"/>
                  </a:lnTo>
                  <a:lnTo>
                    <a:pt x="279" y="478"/>
                  </a:lnTo>
                  <a:lnTo>
                    <a:pt x="277" y="483"/>
                  </a:lnTo>
                  <a:lnTo>
                    <a:pt x="275" y="492"/>
                  </a:lnTo>
                  <a:lnTo>
                    <a:pt x="275" y="503"/>
                  </a:lnTo>
                  <a:lnTo>
                    <a:pt x="274" y="514"/>
                  </a:lnTo>
                  <a:lnTo>
                    <a:pt x="269" y="523"/>
                  </a:lnTo>
                  <a:lnTo>
                    <a:pt x="265" y="529"/>
                  </a:lnTo>
                  <a:lnTo>
                    <a:pt x="260" y="531"/>
                  </a:lnTo>
                  <a:lnTo>
                    <a:pt x="255" y="534"/>
                  </a:lnTo>
                  <a:lnTo>
                    <a:pt x="254" y="539"/>
                  </a:lnTo>
                  <a:lnTo>
                    <a:pt x="252" y="542"/>
                  </a:lnTo>
                  <a:lnTo>
                    <a:pt x="252" y="545"/>
                  </a:lnTo>
                  <a:lnTo>
                    <a:pt x="254" y="549"/>
                  </a:lnTo>
                  <a:lnTo>
                    <a:pt x="258" y="553"/>
                  </a:lnTo>
                  <a:lnTo>
                    <a:pt x="266" y="557"/>
                  </a:lnTo>
                  <a:lnTo>
                    <a:pt x="275" y="562"/>
                  </a:lnTo>
                  <a:lnTo>
                    <a:pt x="282" y="568"/>
                  </a:lnTo>
                  <a:lnTo>
                    <a:pt x="285" y="574"/>
                  </a:lnTo>
                  <a:lnTo>
                    <a:pt x="280" y="577"/>
                  </a:lnTo>
                  <a:lnTo>
                    <a:pt x="271" y="577"/>
                  </a:lnTo>
                  <a:lnTo>
                    <a:pt x="261" y="574"/>
                  </a:lnTo>
                  <a:lnTo>
                    <a:pt x="252" y="568"/>
                  </a:lnTo>
                  <a:lnTo>
                    <a:pt x="244" y="563"/>
                  </a:lnTo>
                  <a:lnTo>
                    <a:pt x="238" y="559"/>
                  </a:lnTo>
                  <a:lnTo>
                    <a:pt x="237" y="556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5064840" y="3274560"/>
              <a:ext cx="2174040" cy="2116440"/>
            </a:xfrm>
            <a:custGeom>
              <a:avLst/>
              <a:gdLst/>
              <a:ahLst/>
              <a:rect l="l" t="t" r="r" b="b"/>
              <a:pathLst>
                <a:path w="3129" h="2831">
                  <a:moveTo>
                    <a:pt x="18" y="2610"/>
                  </a:moveTo>
                  <a:lnTo>
                    <a:pt x="18" y="2612"/>
                  </a:lnTo>
                  <a:lnTo>
                    <a:pt x="16" y="2612"/>
                  </a:lnTo>
                  <a:lnTo>
                    <a:pt x="16" y="2612"/>
                  </a:lnTo>
                  <a:lnTo>
                    <a:pt x="14" y="2610"/>
                  </a:lnTo>
                  <a:lnTo>
                    <a:pt x="13" y="2609"/>
                  </a:lnTo>
                  <a:lnTo>
                    <a:pt x="11" y="2605"/>
                  </a:lnTo>
                  <a:lnTo>
                    <a:pt x="8" y="2601"/>
                  </a:lnTo>
                  <a:lnTo>
                    <a:pt x="7" y="2593"/>
                  </a:lnTo>
                  <a:lnTo>
                    <a:pt x="4" y="2577"/>
                  </a:lnTo>
                  <a:lnTo>
                    <a:pt x="0" y="2567"/>
                  </a:lnTo>
                  <a:lnTo>
                    <a:pt x="0" y="2557"/>
                  </a:lnTo>
                  <a:lnTo>
                    <a:pt x="7" y="2548"/>
                  </a:lnTo>
                  <a:lnTo>
                    <a:pt x="14" y="2539"/>
                  </a:lnTo>
                  <a:lnTo>
                    <a:pt x="18" y="2532"/>
                  </a:lnTo>
                  <a:lnTo>
                    <a:pt x="18" y="2525"/>
                  </a:lnTo>
                  <a:lnTo>
                    <a:pt x="16" y="2515"/>
                  </a:lnTo>
                  <a:lnTo>
                    <a:pt x="14" y="2500"/>
                  </a:lnTo>
                  <a:lnTo>
                    <a:pt x="16" y="2486"/>
                  </a:lnTo>
                  <a:lnTo>
                    <a:pt x="24" y="2472"/>
                  </a:lnTo>
                  <a:lnTo>
                    <a:pt x="32" y="2463"/>
                  </a:lnTo>
                  <a:lnTo>
                    <a:pt x="41" y="2458"/>
                  </a:lnTo>
                  <a:lnTo>
                    <a:pt x="50" y="2456"/>
                  </a:lnTo>
                  <a:lnTo>
                    <a:pt x="63" y="2459"/>
                  </a:lnTo>
                  <a:lnTo>
                    <a:pt x="81" y="2467"/>
                  </a:lnTo>
                  <a:lnTo>
                    <a:pt x="98" y="2473"/>
                  </a:lnTo>
                  <a:lnTo>
                    <a:pt x="114" y="2472"/>
                  </a:lnTo>
                  <a:lnTo>
                    <a:pt x="128" y="2470"/>
                  </a:lnTo>
                  <a:lnTo>
                    <a:pt x="139" y="2469"/>
                  </a:lnTo>
                  <a:lnTo>
                    <a:pt x="151" y="2461"/>
                  </a:lnTo>
                  <a:lnTo>
                    <a:pt x="162" y="2450"/>
                  </a:lnTo>
                  <a:lnTo>
                    <a:pt x="174" y="2436"/>
                  </a:lnTo>
                  <a:lnTo>
                    <a:pt x="190" y="2418"/>
                  </a:lnTo>
                  <a:lnTo>
                    <a:pt x="206" y="2399"/>
                  </a:lnTo>
                  <a:lnTo>
                    <a:pt x="221" y="2385"/>
                  </a:lnTo>
                  <a:lnTo>
                    <a:pt x="237" y="2379"/>
                  </a:lnTo>
                  <a:lnTo>
                    <a:pt x="247" y="2377"/>
                  </a:lnTo>
                  <a:lnTo>
                    <a:pt x="257" y="2377"/>
                  </a:lnTo>
                  <a:lnTo>
                    <a:pt x="266" y="2377"/>
                  </a:lnTo>
                  <a:lnTo>
                    <a:pt x="279" y="2373"/>
                  </a:lnTo>
                  <a:lnTo>
                    <a:pt x="289" y="2366"/>
                  </a:lnTo>
                  <a:lnTo>
                    <a:pt x="297" y="2360"/>
                  </a:lnTo>
                  <a:lnTo>
                    <a:pt x="305" y="2352"/>
                  </a:lnTo>
                  <a:lnTo>
                    <a:pt x="314" y="2341"/>
                  </a:lnTo>
                  <a:lnTo>
                    <a:pt x="328" y="2326"/>
                  </a:lnTo>
                  <a:lnTo>
                    <a:pt x="342" y="2314"/>
                  </a:lnTo>
                  <a:lnTo>
                    <a:pt x="359" y="2298"/>
                  </a:lnTo>
                  <a:lnTo>
                    <a:pt x="378" y="2282"/>
                  </a:lnTo>
                  <a:lnTo>
                    <a:pt x="397" y="2270"/>
                  </a:lnTo>
                  <a:lnTo>
                    <a:pt x="412" y="2259"/>
                  </a:lnTo>
                  <a:lnTo>
                    <a:pt x="420" y="2256"/>
                  </a:lnTo>
                  <a:lnTo>
                    <a:pt x="426" y="2254"/>
                  </a:lnTo>
                  <a:lnTo>
                    <a:pt x="429" y="2253"/>
                  </a:lnTo>
                  <a:lnTo>
                    <a:pt x="434" y="2250"/>
                  </a:lnTo>
                  <a:lnTo>
                    <a:pt x="442" y="2242"/>
                  </a:lnTo>
                  <a:lnTo>
                    <a:pt x="449" y="2230"/>
                  </a:lnTo>
                  <a:lnTo>
                    <a:pt x="454" y="2220"/>
                  </a:lnTo>
                  <a:lnTo>
                    <a:pt x="462" y="2211"/>
                  </a:lnTo>
                  <a:lnTo>
                    <a:pt x="474" y="2202"/>
                  </a:lnTo>
                  <a:lnTo>
                    <a:pt x="488" y="2194"/>
                  </a:lnTo>
                  <a:lnTo>
                    <a:pt x="501" y="2189"/>
                  </a:lnTo>
                  <a:lnTo>
                    <a:pt x="512" y="2183"/>
                  </a:lnTo>
                  <a:lnTo>
                    <a:pt x="521" y="2175"/>
                  </a:lnTo>
                  <a:lnTo>
                    <a:pt x="532" y="2164"/>
                  </a:lnTo>
                  <a:lnTo>
                    <a:pt x="536" y="2154"/>
                  </a:lnTo>
                  <a:lnTo>
                    <a:pt x="538" y="2144"/>
                  </a:lnTo>
                  <a:lnTo>
                    <a:pt x="538" y="2141"/>
                  </a:lnTo>
                  <a:lnTo>
                    <a:pt x="536" y="2138"/>
                  </a:lnTo>
                  <a:lnTo>
                    <a:pt x="535" y="2135"/>
                  </a:lnTo>
                  <a:lnTo>
                    <a:pt x="533" y="2133"/>
                  </a:lnTo>
                  <a:lnTo>
                    <a:pt x="532" y="2132"/>
                  </a:lnTo>
                  <a:lnTo>
                    <a:pt x="532" y="2129"/>
                  </a:lnTo>
                  <a:lnTo>
                    <a:pt x="532" y="2127"/>
                  </a:lnTo>
                  <a:lnTo>
                    <a:pt x="533" y="2126"/>
                  </a:lnTo>
                  <a:lnTo>
                    <a:pt x="538" y="2123"/>
                  </a:lnTo>
                  <a:lnTo>
                    <a:pt x="546" y="2119"/>
                  </a:lnTo>
                  <a:lnTo>
                    <a:pt x="550" y="2118"/>
                  </a:lnTo>
                  <a:lnTo>
                    <a:pt x="555" y="2116"/>
                  </a:lnTo>
                  <a:lnTo>
                    <a:pt x="560" y="2113"/>
                  </a:lnTo>
                  <a:lnTo>
                    <a:pt x="571" y="2109"/>
                  </a:lnTo>
                  <a:lnTo>
                    <a:pt x="581" y="2102"/>
                  </a:lnTo>
                  <a:lnTo>
                    <a:pt x="591" y="2099"/>
                  </a:lnTo>
                  <a:lnTo>
                    <a:pt x="600" y="2098"/>
                  </a:lnTo>
                  <a:lnTo>
                    <a:pt x="614" y="2096"/>
                  </a:lnTo>
                  <a:lnTo>
                    <a:pt x="630" y="2093"/>
                  </a:lnTo>
                  <a:lnTo>
                    <a:pt x="639" y="2090"/>
                  </a:lnTo>
                  <a:lnTo>
                    <a:pt x="650" y="2085"/>
                  </a:lnTo>
                  <a:lnTo>
                    <a:pt x="664" y="2079"/>
                  </a:lnTo>
                  <a:lnTo>
                    <a:pt x="675" y="2077"/>
                  </a:lnTo>
                  <a:lnTo>
                    <a:pt x="682" y="2077"/>
                  </a:lnTo>
                  <a:lnTo>
                    <a:pt x="687" y="2081"/>
                  </a:lnTo>
                  <a:lnTo>
                    <a:pt x="693" y="2084"/>
                  </a:lnTo>
                  <a:lnTo>
                    <a:pt x="701" y="2087"/>
                  </a:lnTo>
                  <a:lnTo>
                    <a:pt x="707" y="2090"/>
                  </a:lnTo>
                  <a:lnTo>
                    <a:pt x="709" y="2096"/>
                  </a:lnTo>
                  <a:lnTo>
                    <a:pt x="709" y="2101"/>
                  </a:lnTo>
                  <a:lnTo>
                    <a:pt x="709" y="2107"/>
                  </a:lnTo>
                  <a:lnTo>
                    <a:pt x="712" y="2113"/>
                  </a:lnTo>
                  <a:lnTo>
                    <a:pt x="720" y="2118"/>
                  </a:lnTo>
                  <a:lnTo>
                    <a:pt x="737" y="2121"/>
                  </a:lnTo>
                  <a:lnTo>
                    <a:pt x="754" y="2119"/>
                  </a:lnTo>
                  <a:lnTo>
                    <a:pt x="769" y="2115"/>
                  </a:lnTo>
                  <a:lnTo>
                    <a:pt x="787" y="2110"/>
                  </a:lnTo>
                  <a:lnTo>
                    <a:pt x="800" y="2107"/>
                  </a:lnTo>
                  <a:lnTo>
                    <a:pt x="811" y="2107"/>
                  </a:lnTo>
                  <a:lnTo>
                    <a:pt x="824" y="2107"/>
                  </a:lnTo>
                  <a:lnTo>
                    <a:pt x="842" y="2109"/>
                  </a:lnTo>
                  <a:lnTo>
                    <a:pt x="864" y="2112"/>
                  </a:lnTo>
                  <a:lnTo>
                    <a:pt x="880" y="2115"/>
                  </a:lnTo>
                  <a:lnTo>
                    <a:pt x="895" y="2118"/>
                  </a:lnTo>
                  <a:lnTo>
                    <a:pt x="914" y="2116"/>
                  </a:lnTo>
                  <a:lnTo>
                    <a:pt x="926" y="2115"/>
                  </a:lnTo>
                  <a:lnTo>
                    <a:pt x="934" y="2115"/>
                  </a:lnTo>
                  <a:lnTo>
                    <a:pt x="942" y="2115"/>
                  </a:lnTo>
                  <a:lnTo>
                    <a:pt x="948" y="2115"/>
                  </a:lnTo>
                  <a:lnTo>
                    <a:pt x="957" y="2113"/>
                  </a:lnTo>
                  <a:lnTo>
                    <a:pt x="970" y="2109"/>
                  </a:lnTo>
                  <a:lnTo>
                    <a:pt x="984" y="2101"/>
                  </a:lnTo>
                  <a:lnTo>
                    <a:pt x="993" y="2095"/>
                  </a:lnTo>
                  <a:lnTo>
                    <a:pt x="1002" y="2090"/>
                  </a:lnTo>
                  <a:lnTo>
                    <a:pt x="1013" y="2084"/>
                  </a:lnTo>
                  <a:lnTo>
                    <a:pt x="1029" y="2079"/>
                  </a:lnTo>
                  <a:lnTo>
                    <a:pt x="1046" y="2073"/>
                  </a:lnTo>
                  <a:lnTo>
                    <a:pt x="1057" y="2068"/>
                  </a:lnTo>
                  <a:lnTo>
                    <a:pt x="1068" y="2065"/>
                  </a:lnTo>
                  <a:lnTo>
                    <a:pt x="1080" y="2064"/>
                  </a:lnTo>
                  <a:lnTo>
                    <a:pt x="1097" y="2064"/>
                  </a:lnTo>
                  <a:lnTo>
                    <a:pt x="1111" y="2064"/>
                  </a:lnTo>
                  <a:lnTo>
                    <a:pt x="1120" y="2064"/>
                  </a:lnTo>
                  <a:lnTo>
                    <a:pt x="1127" y="2062"/>
                  </a:lnTo>
                  <a:lnTo>
                    <a:pt x="1133" y="2062"/>
                  </a:lnTo>
                  <a:lnTo>
                    <a:pt x="1139" y="2062"/>
                  </a:lnTo>
                  <a:lnTo>
                    <a:pt x="1152" y="2065"/>
                  </a:lnTo>
                  <a:lnTo>
                    <a:pt x="1166" y="2068"/>
                  </a:lnTo>
                  <a:lnTo>
                    <a:pt x="1173" y="2071"/>
                  </a:lnTo>
                  <a:lnTo>
                    <a:pt x="1180" y="2073"/>
                  </a:lnTo>
                  <a:lnTo>
                    <a:pt x="1187" y="2070"/>
                  </a:lnTo>
                  <a:lnTo>
                    <a:pt x="1198" y="2064"/>
                  </a:lnTo>
                  <a:lnTo>
                    <a:pt x="1211" y="2056"/>
                  </a:lnTo>
                  <a:lnTo>
                    <a:pt x="1218" y="2048"/>
                  </a:lnTo>
                  <a:lnTo>
                    <a:pt x="1226" y="2042"/>
                  </a:lnTo>
                  <a:lnTo>
                    <a:pt x="1235" y="2037"/>
                  </a:lnTo>
                  <a:lnTo>
                    <a:pt x="1249" y="2034"/>
                  </a:lnTo>
                  <a:lnTo>
                    <a:pt x="1267" y="2032"/>
                  </a:lnTo>
                  <a:lnTo>
                    <a:pt x="1276" y="2031"/>
                  </a:lnTo>
                  <a:lnTo>
                    <a:pt x="1282" y="2034"/>
                  </a:lnTo>
                  <a:lnTo>
                    <a:pt x="1287" y="2042"/>
                  </a:lnTo>
                  <a:lnTo>
                    <a:pt x="1287" y="2053"/>
                  </a:lnTo>
                  <a:lnTo>
                    <a:pt x="1282" y="2064"/>
                  </a:lnTo>
                  <a:lnTo>
                    <a:pt x="1276" y="2074"/>
                  </a:lnTo>
                  <a:lnTo>
                    <a:pt x="1270" y="2087"/>
                  </a:lnTo>
                  <a:lnTo>
                    <a:pt x="1268" y="2096"/>
                  </a:lnTo>
                  <a:lnTo>
                    <a:pt x="1270" y="2102"/>
                  </a:lnTo>
                  <a:lnTo>
                    <a:pt x="1274" y="2107"/>
                  </a:lnTo>
                  <a:lnTo>
                    <a:pt x="1282" y="2115"/>
                  </a:lnTo>
                  <a:lnTo>
                    <a:pt x="1287" y="2121"/>
                  </a:lnTo>
                  <a:lnTo>
                    <a:pt x="1293" y="2126"/>
                  </a:lnTo>
                  <a:lnTo>
                    <a:pt x="1296" y="2129"/>
                  </a:lnTo>
                  <a:lnTo>
                    <a:pt x="1301" y="2130"/>
                  </a:lnTo>
                  <a:lnTo>
                    <a:pt x="1304" y="2129"/>
                  </a:lnTo>
                  <a:lnTo>
                    <a:pt x="1305" y="2126"/>
                  </a:lnTo>
                  <a:lnTo>
                    <a:pt x="1304" y="2121"/>
                  </a:lnTo>
                  <a:lnTo>
                    <a:pt x="1302" y="2116"/>
                  </a:lnTo>
                  <a:lnTo>
                    <a:pt x="1305" y="2110"/>
                  </a:lnTo>
                  <a:lnTo>
                    <a:pt x="1313" y="2102"/>
                  </a:lnTo>
                  <a:lnTo>
                    <a:pt x="1326" y="2095"/>
                  </a:lnTo>
                  <a:lnTo>
                    <a:pt x="1335" y="2088"/>
                  </a:lnTo>
                  <a:lnTo>
                    <a:pt x="1340" y="2087"/>
                  </a:lnTo>
                  <a:lnTo>
                    <a:pt x="1343" y="2093"/>
                  </a:lnTo>
                  <a:lnTo>
                    <a:pt x="1344" y="2104"/>
                  </a:lnTo>
                  <a:lnTo>
                    <a:pt x="1347" y="2113"/>
                  </a:lnTo>
                  <a:lnTo>
                    <a:pt x="1357" y="2121"/>
                  </a:lnTo>
                  <a:lnTo>
                    <a:pt x="1364" y="2124"/>
                  </a:lnTo>
                  <a:lnTo>
                    <a:pt x="1372" y="2124"/>
                  </a:lnTo>
                  <a:lnTo>
                    <a:pt x="1380" y="2124"/>
                  </a:lnTo>
                  <a:lnTo>
                    <a:pt x="1391" y="2121"/>
                  </a:lnTo>
                  <a:lnTo>
                    <a:pt x="1403" y="2118"/>
                  </a:lnTo>
                  <a:lnTo>
                    <a:pt x="1413" y="2115"/>
                  </a:lnTo>
                  <a:lnTo>
                    <a:pt x="1422" y="2112"/>
                  </a:lnTo>
                  <a:lnTo>
                    <a:pt x="1431" y="2105"/>
                  </a:lnTo>
                  <a:lnTo>
                    <a:pt x="1437" y="2102"/>
                  </a:lnTo>
                  <a:lnTo>
                    <a:pt x="1442" y="2099"/>
                  </a:lnTo>
                  <a:lnTo>
                    <a:pt x="1445" y="2098"/>
                  </a:lnTo>
                  <a:lnTo>
                    <a:pt x="1450" y="2095"/>
                  </a:lnTo>
                  <a:lnTo>
                    <a:pt x="1456" y="2090"/>
                  </a:lnTo>
                  <a:lnTo>
                    <a:pt x="1465" y="2081"/>
                  </a:lnTo>
                  <a:lnTo>
                    <a:pt x="1475" y="2068"/>
                  </a:lnTo>
                  <a:lnTo>
                    <a:pt x="1481" y="2059"/>
                  </a:lnTo>
                  <a:lnTo>
                    <a:pt x="1484" y="2053"/>
                  </a:lnTo>
                  <a:lnTo>
                    <a:pt x="1487" y="2046"/>
                  </a:lnTo>
                  <a:lnTo>
                    <a:pt x="1495" y="2042"/>
                  </a:lnTo>
                  <a:lnTo>
                    <a:pt x="1498" y="2039"/>
                  </a:lnTo>
                  <a:lnTo>
                    <a:pt x="1503" y="2039"/>
                  </a:lnTo>
                  <a:lnTo>
                    <a:pt x="1506" y="2039"/>
                  </a:lnTo>
                  <a:lnTo>
                    <a:pt x="1509" y="2039"/>
                  </a:lnTo>
                  <a:lnTo>
                    <a:pt x="1512" y="2039"/>
                  </a:lnTo>
                  <a:lnTo>
                    <a:pt x="1515" y="2039"/>
                  </a:lnTo>
                  <a:lnTo>
                    <a:pt x="1517" y="2039"/>
                  </a:lnTo>
                  <a:lnTo>
                    <a:pt x="1518" y="2037"/>
                  </a:lnTo>
                  <a:lnTo>
                    <a:pt x="1518" y="2036"/>
                  </a:lnTo>
                  <a:lnTo>
                    <a:pt x="1518" y="2034"/>
                  </a:lnTo>
                  <a:lnTo>
                    <a:pt x="1517" y="2029"/>
                  </a:lnTo>
                  <a:lnTo>
                    <a:pt x="1513" y="2025"/>
                  </a:lnTo>
                  <a:lnTo>
                    <a:pt x="1506" y="2014"/>
                  </a:lnTo>
                  <a:lnTo>
                    <a:pt x="1495" y="2005"/>
                  </a:lnTo>
                  <a:lnTo>
                    <a:pt x="1484" y="1995"/>
                  </a:lnTo>
                  <a:lnTo>
                    <a:pt x="1475" y="1987"/>
                  </a:lnTo>
                  <a:lnTo>
                    <a:pt x="1470" y="1980"/>
                  </a:lnTo>
                  <a:lnTo>
                    <a:pt x="1472" y="1970"/>
                  </a:lnTo>
                  <a:lnTo>
                    <a:pt x="1478" y="1953"/>
                  </a:lnTo>
                  <a:lnTo>
                    <a:pt x="1482" y="1938"/>
                  </a:lnTo>
                  <a:lnTo>
                    <a:pt x="1490" y="1921"/>
                  </a:lnTo>
                  <a:lnTo>
                    <a:pt x="1503" y="1907"/>
                  </a:lnTo>
                  <a:lnTo>
                    <a:pt x="1512" y="1897"/>
                  </a:lnTo>
                  <a:lnTo>
                    <a:pt x="1520" y="1890"/>
                  </a:lnTo>
                  <a:lnTo>
                    <a:pt x="1526" y="1882"/>
                  </a:lnTo>
                  <a:lnTo>
                    <a:pt x="1534" y="1874"/>
                  </a:lnTo>
                  <a:lnTo>
                    <a:pt x="1545" y="1863"/>
                  </a:lnTo>
                  <a:lnTo>
                    <a:pt x="1563" y="1846"/>
                  </a:lnTo>
                  <a:lnTo>
                    <a:pt x="1583" y="1827"/>
                  </a:lnTo>
                  <a:lnTo>
                    <a:pt x="1604" y="1807"/>
                  </a:lnTo>
                  <a:lnTo>
                    <a:pt x="1622" y="1789"/>
                  </a:lnTo>
                  <a:lnTo>
                    <a:pt x="1642" y="1767"/>
                  </a:lnTo>
                  <a:lnTo>
                    <a:pt x="1658" y="1745"/>
                  </a:lnTo>
                  <a:lnTo>
                    <a:pt x="1670" y="1720"/>
                  </a:lnTo>
                  <a:lnTo>
                    <a:pt x="1683" y="1695"/>
                  </a:lnTo>
                  <a:lnTo>
                    <a:pt x="1695" y="1669"/>
                  </a:lnTo>
                  <a:lnTo>
                    <a:pt x="1703" y="1646"/>
                  </a:lnTo>
                  <a:lnTo>
                    <a:pt x="1705" y="1630"/>
                  </a:lnTo>
                  <a:lnTo>
                    <a:pt x="1701" y="1618"/>
                  </a:lnTo>
                  <a:lnTo>
                    <a:pt x="1698" y="1602"/>
                  </a:lnTo>
                  <a:lnTo>
                    <a:pt x="1692" y="1585"/>
                  </a:lnTo>
                  <a:lnTo>
                    <a:pt x="1686" y="1568"/>
                  </a:lnTo>
                  <a:lnTo>
                    <a:pt x="1680" y="1554"/>
                  </a:lnTo>
                  <a:lnTo>
                    <a:pt x="1678" y="1542"/>
                  </a:lnTo>
                  <a:lnTo>
                    <a:pt x="1681" y="1526"/>
                  </a:lnTo>
                  <a:lnTo>
                    <a:pt x="1684" y="1515"/>
                  </a:lnTo>
                  <a:lnTo>
                    <a:pt x="1684" y="1505"/>
                  </a:lnTo>
                  <a:lnTo>
                    <a:pt x="1686" y="1495"/>
                  </a:lnTo>
                  <a:lnTo>
                    <a:pt x="1691" y="1486"/>
                  </a:lnTo>
                  <a:lnTo>
                    <a:pt x="1701" y="1478"/>
                  </a:lnTo>
                  <a:lnTo>
                    <a:pt x="1715" y="1473"/>
                  </a:lnTo>
                  <a:lnTo>
                    <a:pt x="1728" y="1472"/>
                  </a:lnTo>
                  <a:lnTo>
                    <a:pt x="1739" y="1470"/>
                  </a:lnTo>
                  <a:lnTo>
                    <a:pt x="1753" y="1467"/>
                  </a:lnTo>
                  <a:lnTo>
                    <a:pt x="1767" y="1461"/>
                  </a:lnTo>
                  <a:lnTo>
                    <a:pt x="1784" y="1450"/>
                  </a:lnTo>
                  <a:lnTo>
                    <a:pt x="1799" y="1442"/>
                  </a:lnTo>
                  <a:lnTo>
                    <a:pt x="1812" y="1435"/>
                  </a:lnTo>
                  <a:lnTo>
                    <a:pt x="1829" y="1428"/>
                  </a:lnTo>
                  <a:lnTo>
                    <a:pt x="1841" y="1424"/>
                  </a:lnTo>
                  <a:lnTo>
                    <a:pt x="1852" y="1418"/>
                  </a:lnTo>
                  <a:lnTo>
                    <a:pt x="1860" y="1414"/>
                  </a:lnTo>
                  <a:lnTo>
                    <a:pt x="1866" y="1414"/>
                  </a:lnTo>
                  <a:lnTo>
                    <a:pt x="1869" y="1421"/>
                  </a:lnTo>
                  <a:lnTo>
                    <a:pt x="1872" y="1430"/>
                  </a:lnTo>
                  <a:lnTo>
                    <a:pt x="1874" y="1441"/>
                  </a:lnTo>
                  <a:lnTo>
                    <a:pt x="1872" y="1450"/>
                  </a:lnTo>
                  <a:lnTo>
                    <a:pt x="1868" y="1459"/>
                  </a:lnTo>
                  <a:lnTo>
                    <a:pt x="1857" y="1466"/>
                  </a:lnTo>
                  <a:lnTo>
                    <a:pt x="1849" y="1469"/>
                  </a:lnTo>
                  <a:lnTo>
                    <a:pt x="1844" y="1470"/>
                  </a:lnTo>
                  <a:lnTo>
                    <a:pt x="1840" y="1472"/>
                  </a:lnTo>
                  <a:lnTo>
                    <a:pt x="1837" y="1473"/>
                  </a:lnTo>
                  <a:lnTo>
                    <a:pt x="1833" y="1475"/>
                  </a:lnTo>
                  <a:lnTo>
                    <a:pt x="1833" y="1475"/>
                  </a:lnTo>
                  <a:lnTo>
                    <a:pt x="1833" y="1478"/>
                  </a:lnTo>
                  <a:lnTo>
                    <a:pt x="1835" y="1480"/>
                  </a:lnTo>
                  <a:lnTo>
                    <a:pt x="1837" y="1483"/>
                  </a:lnTo>
                  <a:lnTo>
                    <a:pt x="1843" y="1491"/>
                  </a:lnTo>
                  <a:lnTo>
                    <a:pt x="1846" y="1497"/>
                  </a:lnTo>
                  <a:lnTo>
                    <a:pt x="1847" y="1501"/>
                  </a:lnTo>
                  <a:lnTo>
                    <a:pt x="1844" y="1506"/>
                  </a:lnTo>
                  <a:lnTo>
                    <a:pt x="1835" y="1509"/>
                  </a:lnTo>
                  <a:lnTo>
                    <a:pt x="1824" y="1509"/>
                  </a:lnTo>
                  <a:lnTo>
                    <a:pt x="1816" y="1508"/>
                  </a:lnTo>
                  <a:lnTo>
                    <a:pt x="1810" y="1508"/>
                  </a:lnTo>
                  <a:lnTo>
                    <a:pt x="1804" y="1509"/>
                  </a:lnTo>
                  <a:lnTo>
                    <a:pt x="1798" y="1517"/>
                  </a:lnTo>
                  <a:lnTo>
                    <a:pt x="1790" y="1528"/>
                  </a:lnTo>
                  <a:lnTo>
                    <a:pt x="1784" y="1536"/>
                  </a:lnTo>
                  <a:lnTo>
                    <a:pt x="1778" y="1539"/>
                  </a:lnTo>
                  <a:lnTo>
                    <a:pt x="1767" y="1539"/>
                  </a:lnTo>
                  <a:lnTo>
                    <a:pt x="1759" y="1536"/>
                  </a:lnTo>
                  <a:lnTo>
                    <a:pt x="1754" y="1532"/>
                  </a:lnTo>
                  <a:lnTo>
                    <a:pt x="1750" y="1532"/>
                  </a:lnTo>
                  <a:lnTo>
                    <a:pt x="1746" y="1536"/>
                  </a:lnTo>
                  <a:lnTo>
                    <a:pt x="1742" y="1543"/>
                  </a:lnTo>
                  <a:lnTo>
                    <a:pt x="1736" y="1556"/>
                  </a:lnTo>
                  <a:lnTo>
                    <a:pt x="1731" y="1564"/>
                  </a:lnTo>
                  <a:lnTo>
                    <a:pt x="1731" y="1570"/>
                  </a:lnTo>
                  <a:lnTo>
                    <a:pt x="1740" y="1576"/>
                  </a:lnTo>
                  <a:lnTo>
                    <a:pt x="1750" y="1577"/>
                  </a:lnTo>
                  <a:lnTo>
                    <a:pt x="1759" y="1576"/>
                  </a:lnTo>
                  <a:lnTo>
                    <a:pt x="1768" y="1573"/>
                  </a:lnTo>
                  <a:lnTo>
                    <a:pt x="1774" y="1571"/>
                  </a:lnTo>
                  <a:lnTo>
                    <a:pt x="1781" y="1573"/>
                  </a:lnTo>
                  <a:lnTo>
                    <a:pt x="1784" y="1579"/>
                  </a:lnTo>
                  <a:lnTo>
                    <a:pt x="1785" y="1599"/>
                  </a:lnTo>
                  <a:lnTo>
                    <a:pt x="1781" y="1618"/>
                  </a:lnTo>
                  <a:lnTo>
                    <a:pt x="1774" y="1635"/>
                  </a:lnTo>
                  <a:lnTo>
                    <a:pt x="1770" y="1646"/>
                  </a:lnTo>
                  <a:lnTo>
                    <a:pt x="1768" y="1655"/>
                  </a:lnTo>
                  <a:lnTo>
                    <a:pt x="1771" y="1663"/>
                  </a:lnTo>
                  <a:lnTo>
                    <a:pt x="1781" y="1671"/>
                  </a:lnTo>
                  <a:lnTo>
                    <a:pt x="1792" y="1677"/>
                  </a:lnTo>
                  <a:lnTo>
                    <a:pt x="1802" y="1682"/>
                  </a:lnTo>
                  <a:lnTo>
                    <a:pt x="1813" y="1688"/>
                  </a:lnTo>
                  <a:lnTo>
                    <a:pt x="1827" y="1689"/>
                  </a:lnTo>
                  <a:lnTo>
                    <a:pt x="1840" y="1691"/>
                  </a:lnTo>
                  <a:lnTo>
                    <a:pt x="1847" y="1691"/>
                  </a:lnTo>
                  <a:lnTo>
                    <a:pt x="1855" y="1689"/>
                  </a:lnTo>
                  <a:lnTo>
                    <a:pt x="1860" y="1683"/>
                  </a:lnTo>
                  <a:lnTo>
                    <a:pt x="1868" y="1674"/>
                  </a:lnTo>
                  <a:lnTo>
                    <a:pt x="1871" y="1664"/>
                  </a:lnTo>
                  <a:lnTo>
                    <a:pt x="1872" y="1657"/>
                  </a:lnTo>
                  <a:lnTo>
                    <a:pt x="1874" y="1650"/>
                  </a:lnTo>
                  <a:lnTo>
                    <a:pt x="1875" y="1644"/>
                  </a:lnTo>
                  <a:lnTo>
                    <a:pt x="1882" y="1638"/>
                  </a:lnTo>
                  <a:lnTo>
                    <a:pt x="1893" y="1632"/>
                  </a:lnTo>
                  <a:lnTo>
                    <a:pt x="1905" y="1627"/>
                  </a:lnTo>
                  <a:lnTo>
                    <a:pt x="1916" y="1624"/>
                  </a:lnTo>
                  <a:lnTo>
                    <a:pt x="1928" y="1621"/>
                  </a:lnTo>
                  <a:lnTo>
                    <a:pt x="1941" y="1619"/>
                  </a:lnTo>
                  <a:lnTo>
                    <a:pt x="1955" y="1613"/>
                  </a:lnTo>
                  <a:lnTo>
                    <a:pt x="1973" y="1605"/>
                  </a:lnTo>
                  <a:lnTo>
                    <a:pt x="2001" y="1590"/>
                  </a:lnTo>
                  <a:lnTo>
                    <a:pt x="2025" y="1579"/>
                  </a:lnTo>
                  <a:lnTo>
                    <a:pt x="2043" y="1568"/>
                  </a:lnTo>
                  <a:lnTo>
                    <a:pt x="2056" y="1560"/>
                  </a:lnTo>
                  <a:lnTo>
                    <a:pt x="2062" y="1556"/>
                  </a:lnTo>
                  <a:lnTo>
                    <a:pt x="2065" y="1551"/>
                  </a:lnTo>
                  <a:lnTo>
                    <a:pt x="2070" y="1546"/>
                  </a:lnTo>
                  <a:lnTo>
                    <a:pt x="2077" y="1543"/>
                  </a:lnTo>
                  <a:lnTo>
                    <a:pt x="2091" y="1542"/>
                  </a:lnTo>
                  <a:lnTo>
                    <a:pt x="2110" y="1537"/>
                  </a:lnTo>
                  <a:lnTo>
                    <a:pt x="2126" y="1529"/>
                  </a:lnTo>
                  <a:lnTo>
                    <a:pt x="2138" y="1518"/>
                  </a:lnTo>
                  <a:lnTo>
                    <a:pt x="2149" y="1508"/>
                  </a:lnTo>
                  <a:lnTo>
                    <a:pt x="2158" y="1497"/>
                  </a:lnTo>
                  <a:lnTo>
                    <a:pt x="2166" y="1489"/>
                  </a:lnTo>
                  <a:lnTo>
                    <a:pt x="2174" y="1486"/>
                  </a:lnTo>
                  <a:lnTo>
                    <a:pt x="2181" y="1481"/>
                  </a:lnTo>
                  <a:lnTo>
                    <a:pt x="2191" y="1475"/>
                  </a:lnTo>
                  <a:lnTo>
                    <a:pt x="2200" y="1463"/>
                  </a:lnTo>
                  <a:lnTo>
                    <a:pt x="2209" y="1449"/>
                  </a:lnTo>
                  <a:lnTo>
                    <a:pt x="2216" y="1438"/>
                  </a:lnTo>
                  <a:lnTo>
                    <a:pt x="2220" y="1430"/>
                  </a:lnTo>
                  <a:lnTo>
                    <a:pt x="2226" y="1421"/>
                  </a:lnTo>
                  <a:lnTo>
                    <a:pt x="2237" y="1410"/>
                  </a:lnTo>
                  <a:lnTo>
                    <a:pt x="2245" y="1402"/>
                  </a:lnTo>
                  <a:lnTo>
                    <a:pt x="2250" y="1396"/>
                  </a:lnTo>
                  <a:lnTo>
                    <a:pt x="2253" y="1391"/>
                  </a:lnTo>
                  <a:lnTo>
                    <a:pt x="2256" y="1385"/>
                  </a:lnTo>
                  <a:lnTo>
                    <a:pt x="2259" y="1374"/>
                  </a:lnTo>
                  <a:lnTo>
                    <a:pt x="2264" y="1359"/>
                  </a:lnTo>
                  <a:lnTo>
                    <a:pt x="2267" y="1346"/>
                  </a:lnTo>
                  <a:lnTo>
                    <a:pt x="2267" y="1335"/>
                  </a:lnTo>
                  <a:lnTo>
                    <a:pt x="2265" y="1327"/>
                  </a:lnTo>
                  <a:lnTo>
                    <a:pt x="2264" y="1321"/>
                  </a:lnTo>
                  <a:lnTo>
                    <a:pt x="2265" y="1317"/>
                  </a:lnTo>
                  <a:lnTo>
                    <a:pt x="2272" y="1309"/>
                  </a:lnTo>
                  <a:lnTo>
                    <a:pt x="2286" y="1301"/>
                  </a:lnTo>
                  <a:lnTo>
                    <a:pt x="2306" y="1289"/>
                  </a:lnTo>
                  <a:lnTo>
                    <a:pt x="2324" y="1279"/>
                  </a:lnTo>
                  <a:lnTo>
                    <a:pt x="2340" y="1273"/>
                  </a:lnTo>
                  <a:lnTo>
                    <a:pt x="2359" y="1265"/>
                  </a:lnTo>
                  <a:lnTo>
                    <a:pt x="2382" y="1255"/>
                  </a:lnTo>
                  <a:lnTo>
                    <a:pt x="2397" y="1247"/>
                  </a:lnTo>
                  <a:lnTo>
                    <a:pt x="2408" y="1241"/>
                  </a:lnTo>
                  <a:lnTo>
                    <a:pt x="2413" y="1234"/>
                  </a:lnTo>
                  <a:lnTo>
                    <a:pt x="2416" y="1230"/>
                  </a:lnTo>
                  <a:lnTo>
                    <a:pt x="2418" y="1223"/>
                  </a:lnTo>
                  <a:lnTo>
                    <a:pt x="2421" y="1216"/>
                  </a:lnTo>
                  <a:lnTo>
                    <a:pt x="2424" y="1206"/>
                  </a:lnTo>
                  <a:lnTo>
                    <a:pt x="2430" y="1194"/>
                  </a:lnTo>
                  <a:lnTo>
                    <a:pt x="2432" y="1185"/>
                  </a:lnTo>
                  <a:lnTo>
                    <a:pt x="2433" y="1174"/>
                  </a:lnTo>
                  <a:lnTo>
                    <a:pt x="2433" y="1161"/>
                  </a:lnTo>
                  <a:lnTo>
                    <a:pt x="2436" y="1143"/>
                  </a:lnTo>
                  <a:lnTo>
                    <a:pt x="2438" y="1124"/>
                  </a:lnTo>
                  <a:lnTo>
                    <a:pt x="2439" y="1107"/>
                  </a:lnTo>
                  <a:lnTo>
                    <a:pt x="2439" y="1090"/>
                  </a:lnTo>
                  <a:lnTo>
                    <a:pt x="2444" y="1074"/>
                  </a:lnTo>
                  <a:lnTo>
                    <a:pt x="2455" y="1057"/>
                  </a:lnTo>
                  <a:lnTo>
                    <a:pt x="2466" y="1042"/>
                  </a:lnTo>
                  <a:lnTo>
                    <a:pt x="2475" y="1028"/>
                  </a:lnTo>
                  <a:lnTo>
                    <a:pt x="2481" y="1017"/>
                  </a:lnTo>
                  <a:lnTo>
                    <a:pt x="2487" y="1006"/>
                  </a:lnTo>
                  <a:lnTo>
                    <a:pt x="2495" y="997"/>
                  </a:lnTo>
                  <a:lnTo>
                    <a:pt x="2500" y="992"/>
                  </a:lnTo>
                  <a:lnTo>
                    <a:pt x="2503" y="991"/>
                  </a:lnTo>
                  <a:lnTo>
                    <a:pt x="2505" y="989"/>
                  </a:lnTo>
                  <a:lnTo>
                    <a:pt x="2506" y="987"/>
                  </a:lnTo>
                  <a:lnTo>
                    <a:pt x="2508" y="987"/>
                  </a:lnTo>
                  <a:lnTo>
                    <a:pt x="2509" y="987"/>
                  </a:lnTo>
                  <a:lnTo>
                    <a:pt x="2509" y="987"/>
                  </a:lnTo>
                  <a:lnTo>
                    <a:pt x="2511" y="987"/>
                  </a:lnTo>
                  <a:lnTo>
                    <a:pt x="2512" y="986"/>
                  </a:lnTo>
                  <a:lnTo>
                    <a:pt x="2514" y="983"/>
                  </a:lnTo>
                  <a:lnTo>
                    <a:pt x="2517" y="980"/>
                  </a:lnTo>
                  <a:lnTo>
                    <a:pt x="2522" y="972"/>
                  </a:lnTo>
                  <a:lnTo>
                    <a:pt x="2523" y="966"/>
                  </a:lnTo>
                  <a:lnTo>
                    <a:pt x="2523" y="958"/>
                  </a:lnTo>
                  <a:lnTo>
                    <a:pt x="2523" y="950"/>
                  </a:lnTo>
                  <a:lnTo>
                    <a:pt x="2526" y="938"/>
                  </a:lnTo>
                  <a:lnTo>
                    <a:pt x="2531" y="919"/>
                  </a:lnTo>
                  <a:lnTo>
                    <a:pt x="2537" y="890"/>
                  </a:lnTo>
                  <a:lnTo>
                    <a:pt x="2542" y="865"/>
                  </a:lnTo>
                  <a:lnTo>
                    <a:pt x="2545" y="843"/>
                  </a:lnTo>
                  <a:lnTo>
                    <a:pt x="2548" y="826"/>
                  </a:lnTo>
                  <a:lnTo>
                    <a:pt x="2551" y="817"/>
                  </a:lnTo>
                  <a:lnTo>
                    <a:pt x="2551" y="810"/>
                  </a:lnTo>
                  <a:lnTo>
                    <a:pt x="2553" y="804"/>
                  </a:lnTo>
                  <a:lnTo>
                    <a:pt x="2554" y="798"/>
                  </a:lnTo>
                  <a:lnTo>
                    <a:pt x="2559" y="792"/>
                  </a:lnTo>
                  <a:lnTo>
                    <a:pt x="2567" y="781"/>
                  </a:lnTo>
                  <a:lnTo>
                    <a:pt x="2576" y="768"/>
                  </a:lnTo>
                  <a:lnTo>
                    <a:pt x="2582" y="758"/>
                  </a:lnTo>
                  <a:lnTo>
                    <a:pt x="2585" y="748"/>
                  </a:lnTo>
                  <a:lnTo>
                    <a:pt x="2587" y="737"/>
                  </a:lnTo>
                  <a:lnTo>
                    <a:pt x="2587" y="722"/>
                  </a:lnTo>
                  <a:lnTo>
                    <a:pt x="2587" y="703"/>
                  </a:lnTo>
                  <a:lnTo>
                    <a:pt x="2590" y="686"/>
                  </a:lnTo>
                  <a:lnTo>
                    <a:pt x="2593" y="669"/>
                  </a:lnTo>
                  <a:lnTo>
                    <a:pt x="2593" y="650"/>
                  </a:lnTo>
                  <a:lnTo>
                    <a:pt x="2590" y="632"/>
                  </a:lnTo>
                  <a:lnTo>
                    <a:pt x="2587" y="618"/>
                  </a:lnTo>
                  <a:lnTo>
                    <a:pt x="2581" y="609"/>
                  </a:lnTo>
                  <a:lnTo>
                    <a:pt x="2571" y="598"/>
                  </a:lnTo>
                  <a:lnTo>
                    <a:pt x="2560" y="590"/>
                  </a:lnTo>
                  <a:lnTo>
                    <a:pt x="2551" y="588"/>
                  </a:lnTo>
                  <a:lnTo>
                    <a:pt x="2540" y="588"/>
                  </a:lnTo>
                  <a:lnTo>
                    <a:pt x="2528" y="588"/>
                  </a:lnTo>
                  <a:lnTo>
                    <a:pt x="2517" y="588"/>
                  </a:lnTo>
                  <a:lnTo>
                    <a:pt x="2508" y="588"/>
                  </a:lnTo>
                  <a:lnTo>
                    <a:pt x="2500" y="587"/>
                  </a:lnTo>
                  <a:lnTo>
                    <a:pt x="2495" y="581"/>
                  </a:lnTo>
                  <a:lnTo>
                    <a:pt x="2494" y="570"/>
                  </a:lnTo>
                  <a:lnTo>
                    <a:pt x="2492" y="559"/>
                  </a:lnTo>
                  <a:lnTo>
                    <a:pt x="2492" y="550"/>
                  </a:lnTo>
                  <a:lnTo>
                    <a:pt x="2492" y="542"/>
                  </a:lnTo>
                  <a:lnTo>
                    <a:pt x="2494" y="537"/>
                  </a:lnTo>
                  <a:lnTo>
                    <a:pt x="2500" y="534"/>
                  </a:lnTo>
                  <a:lnTo>
                    <a:pt x="2511" y="536"/>
                  </a:lnTo>
                  <a:lnTo>
                    <a:pt x="2526" y="540"/>
                  </a:lnTo>
                  <a:lnTo>
                    <a:pt x="2536" y="546"/>
                  </a:lnTo>
                  <a:lnTo>
                    <a:pt x="2543" y="550"/>
                  </a:lnTo>
                  <a:lnTo>
                    <a:pt x="2548" y="548"/>
                  </a:lnTo>
                  <a:lnTo>
                    <a:pt x="2553" y="536"/>
                  </a:lnTo>
                  <a:lnTo>
                    <a:pt x="2557" y="523"/>
                  </a:lnTo>
                  <a:lnTo>
                    <a:pt x="2560" y="514"/>
                  </a:lnTo>
                  <a:lnTo>
                    <a:pt x="2565" y="508"/>
                  </a:lnTo>
                  <a:lnTo>
                    <a:pt x="2568" y="498"/>
                  </a:lnTo>
                  <a:lnTo>
                    <a:pt x="2571" y="486"/>
                  </a:lnTo>
                  <a:lnTo>
                    <a:pt x="2574" y="470"/>
                  </a:lnTo>
                  <a:lnTo>
                    <a:pt x="2579" y="459"/>
                  </a:lnTo>
                  <a:lnTo>
                    <a:pt x="2581" y="450"/>
                  </a:lnTo>
                  <a:lnTo>
                    <a:pt x="2581" y="439"/>
                  </a:lnTo>
                  <a:lnTo>
                    <a:pt x="2576" y="427"/>
                  </a:lnTo>
                  <a:lnTo>
                    <a:pt x="2567" y="411"/>
                  </a:lnTo>
                  <a:lnTo>
                    <a:pt x="2560" y="402"/>
                  </a:lnTo>
                  <a:lnTo>
                    <a:pt x="2554" y="391"/>
                  </a:lnTo>
                  <a:lnTo>
                    <a:pt x="2551" y="380"/>
                  </a:lnTo>
                  <a:lnTo>
                    <a:pt x="2546" y="369"/>
                  </a:lnTo>
                  <a:lnTo>
                    <a:pt x="2542" y="362"/>
                  </a:lnTo>
                  <a:lnTo>
                    <a:pt x="2534" y="354"/>
                  </a:lnTo>
                  <a:lnTo>
                    <a:pt x="2531" y="345"/>
                  </a:lnTo>
                  <a:lnTo>
                    <a:pt x="2531" y="334"/>
                  </a:lnTo>
                  <a:lnTo>
                    <a:pt x="2536" y="321"/>
                  </a:lnTo>
                  <a:lnTo>
                    <a:pt x="2543" y="310"/>
                  </a:lnTo>
                  <a:lnTo>
                    <a:pt x="2553" y="301"/>
                  </a:lnTo>
                  <a:lnTo>
                    <a:pt x="2560" y="290"/>
                  </a:lnTo>
                  <a:lnTo>
                    <a:pt x="2564" y="282"/>
                  </a:lnTo>
                  <a:lnTo>
                    <a:pt x="2565" y="276"/>
                  </a:lnTo>
                  <a:lnTo>
                    <a:pt x="2568" y="275"/>
                  </a:lnTo>
                  <a:lnTo>
                    <a:pt x="2574" y="273"/>
                  </a:lnTo>
                  <a:lnTo>
                    <a:pt x="2587" y="275"/>
                  </a:lnTo>
                  <a:lnTo>
                    <a:pt x="2604" y="276"/>
                  </a:lnTo>
                  <a:lnTo>
                    <a:pt x="2615" y="278"/>
                  </a:lnTo>
                  <a:lnTo>
                    <a:pt x="2623" y="273"/>
                  </a:lnTo>
                  <a:lnTo>
                    <a:pt x="2630" y="261"/>
                  </a:lnTo>
                  <a:lnTo>
                    <a:pt x="2640" y="242"/>
                  </a:lnTo>
                  <a:lnTo>
                    <a:pt x="2644" y="225"/>
                  </a:lnTo>
                  <a:lnTo>
                    <a:pt x="2646" y="205"/>
                  </a:lnTo>
                  <a:lnTo>
                    <a:pt x="2649" y="196"/>
                  </a:lnTo>
                  <a:lnTo>
                    <a:pt x="2651" y="192"/>
                  </a:lnTo>
                  <a:lnTo>
                    <a:pt x="2655" y="189"/>
                  </a:lnTo>
                  <a:lnTo>
                    <a:pt x="2657" y="188"/>
                  </a:lnTo>
                  <a:lnTo>
                    <a:pt x="2658" y="183"/>
                  </a:lnTo>
                  <a:lnTo>
                    <a:pt x="2655" y="177"/>
                  </a:lnTo>
                  <a:lnTo>
                    <a:pt x="2651" y="166"/>
                  </a:lnTo>
                  <a:lnTo>
                    <a:pt x="2646" y="158"/>
                  </a:lnTo>
                  <a:lnTo>
                    <a:pt x="2641" y="152"/>
                  </a:lnTo>
                  <a:lnTo>
                    <a:pt x="2641" y="146"/>
                  </a:lnTo>
                  <a:lnTo>
                    <a:pt x="2644" y="138"/>
                  </a:lnTo>
                  <a:lnTo>
                    <a:pt x="2646" y="130"/>
                  </a:lnTo>
                  <a:lnTo>
                    <a:pt x="2644" y="121"/>
                  </a:lnTo>
                  <a:lnTo>
                    <a:pt x="2643" y="113"/>
                  </a:lnTo>
                  <a:lnTo>
                    <a:pt x="2641" y="107"/>
                  </a:lnTo>
                  <a:lnTo>
                    <a:pt x="2641" y="101"/>
                  </a:lnTo>
                  <a:lnTo>
                    <a:pt x="2646" y="99"/>
                  </a:lnTo>
                  <a:lnTo>
                    <a:pt x="2654" y="99"/>
                  </a:lnTo>
                  <a:lnTo>
                    <a:pt x="2668" y="105"/>
                  </a:lnTo>
                  <a:lnTo>
                    <a:pt x="2677" y="112"/>
                  </a:lnTo>
                  <a:lnTo>
                    <a:pt x="2685" y="118"/>
                  </a:lnTo>
                  <a:lnTo>
                    <a:pt x="2691" y="121"/>
                  </a:lnTo>
                  <a:lnTo>
                    <a:pt x="2699" y="119"/>
                  </a:lnTo>
                  <a:lnTo>
                    <a:pt x="2706" y="112"/>
                  </a:lnTo>
                  <a:lnTo>
                    <a:pt x="2714" y="109"/>
                  </a:lnTo>
                  <a:lnTo>
                    <a:pt x="2719" y="109"/>
                  </a:lnTo>
                  <a:lnTo>
                    <a:pt x="2727" y="116"/>
                  </a:lnTo>
                  <a:lnTo>
                    <a:pt x="2731" y="132"/>
                  </a:lnTo>
                  <a:lnTo>
                    <a:pt x="2733" y="150"/>
                  </a:lnTo>
                  <a:lnTo>
                    <a:pt x="2733" y="174"/>
                  </a:lnTo>
                  <a:lnTo>
                    <a:pt x="2734" y="188"/>
                  </a:lnTo>
                  <a:lnTo>
                    <a:pt x="2734" y="203"/>
                  </a:lnTo>
                  <a:lnTo>
                    <a:pt x="2738" y="217"/>
                  </a:lnTo>
                  <a:lnTo>
                    <a:pt x="2744" y="228"/>
                  </a:lnTo>
                  <a:lnTo>
                    <a:pt x="2753" y="236"/>
                  </a:lnTo>
                  <a:lnTo>
                    <a:pt x="2766" y="242"/>
                  </a:lnTo>
                  <a:lnTo>
                    <a:pt x="2775" y="248"/>
                  </a:lnTo>
                  <a:lnTo>
                    <a:pt x="2783" y="251"/>
                  </a:lnTo>
                  <a:lnTo>
                    <a:pt x="2787" y="250"/>
                  </a:lnTo>
                  <a:lnTo>
                    <a:pt x="2793" y="239"/>
                  </a:lnTo>
                  <a:lnTo>
                    <a:pt x="2793" y="228"/>
                  </a:lnTo>
                  <a:lnTo>
                    <a:pt x="2792" y="216"/>
                  </a:lnTo>
                  <a:lnTo>
                    <a:pt x="2787" y="203"/>
                  </a:lnTo>
                  <a:lnTo>
                    <a:pt x="2783" y="192"/>
                  </a:lnTo>
                  <a:lnTo>
                    <a:pt x="2781" y="185"/>
                  </a:lnTo>
                  <a:lnTo>
                    <a:pt x="2783" y="178"/>
                  </a:lnTo>
                  <a:lnTo>
                    <a:pt x="2789" y="177"/>
                  </a:lnTo>
                  <a:lnTo>
                    <a:pt x="2803" y="182"/>
                  </a:lnTo>
                  <a:lnTo>
                    <a:pt x="2815" y="189"/>
                  </a:lnTo>
                  <a:lnTo>
                    <a:pt x="2828" y="199"/>
                  </a:lnTo>
                  <a:lnTo>
                    <a:pt x="2840" y="209"/>
                  </a:lnTo>
                  <a:lnTo>
                    <a:pt x="2851" y="217"/>
                  </a:lnTo>
                  <a:lnTo>
                    <a:pt x="2859" y="225"/>
                  </a:lnTo>
                  <a:lnTo>
                    <a:pt x="2865" y="230"/>
                  </a:lnTo>
                  <a:lnTo>
                    <a:pt x="2871" y="230"/>
                  </a:lnTo>
                  <a:lnTo>
                    <a:pt x="2877" y="222"/>
                  </a:lnTo>
                  <a:lnTo>
                    <a:pt x="2890" y="188"/>
                  </a:lnTo>
                  <a:lnTo>
                    <a:pt x="2894" y="154"/>
                  </a:lnTo>
                  <a:lnTo>
                    <a:pt x="2896" y="141"/>
                  </a:lnTo>
                  <a:lnTo>
                    <a:pt x="2899" y="130"/>
                  </a:lnTo>
                  <a:lnTo>
                    <a:pt x="2901" y="121"/>
                  </a:lnTo>
                  <a:lnTo>
                    <a:pt x="2898" y="112"/>
                  </a:lnTo>
                  <a:lnTo>
                    <a:pt x="2890" y="104"/>
                  </a:lnTo>
                  <a:lnTo>
                    <a:pt x="2879" y="98"/>
                  </a:lnTo>
                  <a:lnTo>
                    <a:pt x="2870" y="96"/>
                  </a:lnTo>
                  <a:lnTo>
                    <a:pt x="2863" y="98"/>
                  </a:lnTo>
                  <a:lnTo>
                    <a:pt x="2857" y="102"/>
                  </a:lnTo>
                  <a:lnTo>
                    <a:pt x="2851" y="109"/>
                  </a:lnTo>
                  <a:lnTo>
                    <a:pt x="2843" y="116"/>
                  </a:lnTo>
                  <a:lnTo>
                    <a:pt x="2835" y="119"/>
                  </a:lnTo>
                  <a:lnTo>
                    <a:pt x="2826" y="119"/>
                  </a:lnTo>
                  <a:lnTo>
                    <a:pt x="2811" y="119"/>
                  </a:lnTo>
                  <a:lnTo>
                    <a:pt x="2803" y="123"/>
                  </a:lnTo>
                  <a:lnTo>
                    <a:pt x="2797" y="127"/>
                  </a:lnTo>
                  <a:lnTo>
                    <a:pt x="2790" y="133"/>
                  </a:lnTo>
                  <a:lnTo>
                    <a:pt x="2787" y="140"/>
                  </a:lnTo>
                  <a:lnTo>
                    <a:pt x="2783" y="143"/>
                  </a:lnTo>
                  <a:lnTo>
                    <a:pt x="2779" y="143"/>
                  </a:lnTo>
                  <a:lnTo>
                    <a:pt x="2773" y="135"/>
                  </a:lnTo>
                  <a:lnTo>
                    <a:pt x="2766" y="119"/>
                  </a:lnTo>
                  <a:lnTo>
                    <a:pt x="2762" y="107"/>
                  </a:lnTo>
                  <a:lnTo>
                    <a:pt x="2764" y="93"/>
                  </a:lnTo>
                  <a:lnTo>
                    <a:pt x="2769" y="76"/>
                  </a:lnTo>
                  <a:lnTo>
                    <a:pt x="2773" y="62"/>
                  </a:lnTo>
                  <a:lnTo>
                    <a:pt x="2775" y="46"/>
                  </a:lnTo>
                  <a:lnTo>
                    <a:pt x="2778" y="31"/>
                  </a:lnTo>
                  <a:lnTo>
                    <a:pt x="2783" y="18"/>
                  </a:lnTo>
                  <a:lnTo>
                    <a:pt x="2789" y="8"/>
                  </a:lnTo>
                  <a:lnTo>
                    <a:pt x="2800" y="1"/>
                  </a:lnTo>
                  <a:lnTo>
                    <a:pt x="2815" y="0"/>
                  </a:lnTo>
                  <a:lnTo>
                    <a:pt x="2832" y="5"/>
                  </a:lnTo>
                  <a:lnTo>
                    <a:pt x="2849" y="11"/>
                  </a:lnTo>
                  <a:lnTo>
                    <a:pt x="2863" y="20"/>
                  </a:lnTo>
                  <a:lnTo>
                    <a:pt x="2874" y="28"/>
                  </a:lnTo>
                  <a:lnTo>
                    <a:pt x="2879" y="36"/>
                  </a:lnTo>
                  <a:lnTo>
                    <a:pt x="2882" y="45"/>
                  </a:lnTo>
                  <a:lnTo>
                    <a:pt x="2885" y="53"/>
                  </a:lnTo>
                  <a:lnTo>
                    <a:pt x="2887" y="59"/>
                  </a:lnTo>
                  <a:lnTo>
                    <a:pt x="2891" y="60"/>
                  </a:lnTo>
                  <a:lnTo>
                    <a:pt x="2898" y="60"/>
                  </a:lnTo>
                  <a:lnTo>
                    <a:pt x="2907" y="54"/>
                  </a:lnTo>
                  <a:lnTo>
                    <a:pt x="2916" y="46"/>
                  </a:lnTo>
                  <a:lnTo>
                    <a:pt x="2924" y="39"/>
                  </a:lnTo>
                  <a:lnTo>
                    <a:pt x="2932" y="34"/>
                  </a:lnTo>
                  <a:lnTo>
                    <a:pt x="2943" y="32"/>
                  </a:lnTo>
                  <a:lnTo>
                    <a:pt x="2949" y="36"/>
                  </a:lnTo>
                  <a:lnTo>
                    <a:pt x="2952" y="43"/>
                  </a:lnTo>
                  <a:lnTo>
                    <a:pt x="2952" y="54"/>
                  </a:lnTo>
                  <a:lnTo>
                    <a:pt x="2950" y="67"/>
                  </a:lnTo>
                  <a:lnTo>
                    <a:pt x="2946" y="79"/>
                  </a:lnTo>
                  <a:lnTo>
                    <a:pt x="2943" y="90"/>
                  </a:lnTo>
                  <a:lnTo>
                    <a:pt x="2939" y="99"/>
                  </a:lnTo>
                  <a:lnTo>
                    <a:pt x="2936" y="113"/>
                  </a:lnTo>
                  <a:lnTo>
                    <a:pt x="2936" y="132"/>
                  </a:lnTo>
                  <a:lnTo>
                    <a:pt x="2936" y="152"/>
                  </a:lnTo>
                  <a:lnTo>
                    <a:pt x="2938" y="171"/>
                  </a:lnTo>
                  <a:lnTo>
                    <a:pt x="2939" y="185"/>
                  </a:lnTo>
                  <a:lnTo>
                    <a:pt x="2941" y="199"/>
                  </a:lnTo>
                  <a:lnTo>
                    <a:pt x="2943" y="219"/>
                  </a:lnTo>
                  <a:lnTo>
                    <a:pt x="2944" y="241"/>
                  </a:lnTo>
                  <a:lnTo>
                    <a:pt x="2946" y="262"/>
                  </a:lnTo>
                  <a:lnTo>
                    <a:pt x="2949" y="282"/>
                  </a:lnTo>
                  <a:lnTo>
                    <a:pt x="2950" y="296"/>
                  </a:lnTo>
                  <a:lnTo>
                    <a:pt x="2955" y="309"/>
                  </a:lnTo>
                  <a:lnTo>
                    <a:pt x="2958" y="320"/>
                  </a:lnTo>
                  <a:lnTo>
                    <a:pt x="2964" y="329"/>
                  </a:lnTo>
                  <a:lnTo>
                    <a:pt x="2971" y="335"/>
                  </a:lnTo>
                  <a:lnTo>
                    <a:pt x="2980" y="337"/>
                  </a:lnTo>
                  <a:lnTo>
                    <a:pt x="2992" y="338"/>
                  </a:lnTo>
                  <a:lnTo>
                    <a:pt x="3002" y="343"/>
                  </a:lnTo>
                  <a:lnTo>
                    <a:pt x="3009" y="352"/>
                  </a:lnTo>
                  <a:lnTo>
                    <a:pt x="3017" y="363"/>
                  </a:lnTo>
                  <a:lnTo>
                    <a:pt x="3023" y="373"/>
                  </a:lnTo>
                  <a:lnTo>
                    <a:pt x="3033" y="383"/>
                  </a:lnTo>
                  <a:lnTo>
                    <a:pt x="3044" y="394"/>
                  </a:lnTo>
                  <a:lnTo>
                    <a:pt x="3054" y="408"/>
                  </a:lnTo>
                  <a:lnTo>
                    <a:pt x="3062" y="424"/>
                  </a:lnTo>
                  <a:lnTo>
                    <a:pt x="3067" y="442"/>
                  </a:lnTo>
                  <a:lnTo>
                    <a:pt x="3070" y="477"/>
                  </a:lnTo>
                  <a:lnTo>
                    <a:pt x="3076" y="503"/>
                  </a:lnTo>
                  <a:lnTo>
                    <a:pt x="3089" y="528"/>
                  </a:lnTo>
                  <a:lnTo>
                    <a:pt x="3098" y="539"/>
                  </a:lnTo>
                  <a:lnTo>
                    <a:pt x="3106" y="546"/>
                  </a:lnTo>
                  <a:lnTo>
                    <a:pt x="3112" y="553"/>
                  </a:lnTo>
                  <a:lnTo>
                    <a:pt x="3115" y="562"/>
                  </a:lnTo>
                  <a:lnTo>
                    <a:pt x="3117" y="577"/>
                  </a:lnTo>
                  <a:lnTo>
                    <a:pt x="3118" y="598"/>
                  </a:lnTo>
                  <a:lnTo>
                    <a:pt x="3121" y="616"/>
                  </a:lnTo>
                  <a:lnTo>
                    <a:pt x="3124" y="632"/>
                  </a:lnTo>
                  <a:lnTo>
                    <a:pt x="3123" y="650"/>
                  </a:lnTo>
                  <a:lnTo>
                    <a:pt x="3123" y="669"/>
                  </a:lnTo>
                  <a:lnTo>
                    <a:pt x="3126" y="688"/>
                  </a:lnTo>
                  <a:lnTo>
                    <a:pt x="3129" y="703"/>
                  </a:lnTo>
                  <a:lnTo>
                    <a:pt x="3129" y="716"/>
                  </a:lnTo>
                  <a:lnTo>
                    <a:pt x="3126" y="731"/>
                  </a:lnTo>
                  <a:lnTo>
                    <a:pt x="3121" y="753"/>
                  </a:lnTo>
                  <a:lnTo>
                    <a:pt x="3115" y="776"/>
                  </a:lnTo>
                  <a:lnTo>
                    <a:pt x="3107" y="800"/>
                  </a:lnTo>
                  <a:lnTo>
                    <a:pt x="3096" y="818"/>
                  </a:lnTo>
                  <a:lnTo>
                    <a:pt x="3087" y="829"/>
                  </a:lnTo>
                  <a:lnTo>
                    <a:pt x="3078" y="838"/>
                  </a:lnTo>
                  <a:lnTo>
                    <a:pt x="3070" y="849"/>
                  </a:lnTo>
                  <a:lnTo>
                    <a:pt x="3064" y="860"/>
                  </a:lnTo>
                  <a:lnTo>
                    <a:pt x="3056" y="871"/>
                  </a:lnTo>
                  <a:lnTo>
                    <a:pt x="3047" y="883"/>
                  </a:lnTo>
                  <a:lnTo>
                    <a:pt x="3036" y="900"/>
                  </a:lnTo>
                  <a:lnTo>
                    <a:pt x="3025" y="918"/>
                  </a:lnTo>
                  <a:lnTo>
                    <a:pt x="3016" y="932"/>
                  </a:lnTo>
                  <a:lnTo>
                    <a:pt x="3009" y="944"/>
                  </a:lnTo>
                  <a:lnTo>
                    <a:pt x="3009" y="959"/>
                  </a:lnTo>
                  <a:lnTo>
                    <a:pt x="3009" y="977"/>
                  </a:lnTo>
                  <a:lnTo>
                    <a:pt x="3008" y="995"/>
                  </a:lnTo>
                  <a:lnTo>
                    <a:pt x="3006" y="1017"/>
                  </a:lnTo>
                  <a:lnTo>
                    <a:pt x="3003" y="1036"/>
                  </a:lnTo>
                  <a:lnTo>
                    <a:pt x="3003" y="1051"/>
                  </a:lnTo>
                  <a:lnTo>
                    <a:pt x="3006" y="1067"/>
                  </a:lnTo>
                  <a:lnTo>
                    <a:pt x="3011" y="1082"/>
                  </a:lnTo>
                  <a:lnTo>
                    <a:pt x="3017" y="1098"/>
                  </a:lnTo>
                  <a:lnTo>
                    <a:pt x="3020" y="1112"/>
                  </a:lnTo>
                  <a:lnTo>
                    <a:pt x="3019" y="1121"/>
                  </a:lnTo>
                  <a:lnTo>
                    <a:pt x="3014" y="1129"/>
                  </a:lnTo>
                  <a:lnTo>
                    <a:pt x="3008" y="1133"/>
                  </a:lnTo>
                  <a:lnTo>
                    <a:pt x="3000" y="1135"/>
                  </a:lnTo>
                  <a:lnTo>
                    <a:pt x="2991" y="1130"/>
                  </a:lnTo>
                  <a:lnTo>
                    <a:pt x="2981" y="1118"/>
                  </a:lnTo>
                  <a:lnTo>
                    <a:pt x="2969" y="1101"/>
                  </a:lnTo>
                  <a:lnTo>
                    <a:pt x="2957" y="1091"/>
                  </a:lnTo>
                  <a:lnTo>
                    <a:pt x="2944" y="1087"/>
                  </a:lnTo>
                  <a:lnTo>
                    <a:pt x="2930" y="1091"/>
                  </a:lnTo>
                  <a:lnTo>
                    <a:pt x="2912" y="1101"/>
                  </a:lnTo>
                  <a:lnTo>
                    <a:pt x="2894" y="1107"/>
                  </a:lnTo>
                  <a:lnTo>
                    <a:pt x="2887" y="1110"/>
                  </a:lnTo>
                  <a:lnTo>
                    <a:pt x="2882" y="1113"/>
                  </a:lnTo>
                  <a:lnTo>
                    <a:pt x="2879" y="1121"/>
                  </a:lnTo>
                  <a:lnTo>
                    <a:pt x="2873" y="1135"/>
                  </a:lnTo>
                  <a:lnTo>
                    <a:pt x="2866" y="1155"/>
                  </a:lnTo>
                  <a:lnTo>
                    <a:pt x="2862" y="1174"/>
                  </a:lnTo>
                  <a:lnTo>
                    <a:pt x="2857" y="1191"/>
                  </a:lnTo>
                  <a:lnTo>
                    <a:pt x="2854" y="1208"/>
                  </a:lnTo>
                  <a:lnTo>
                    <a:pt x="2853" y="1228"/>
                  </a:lnTo>
                  <a:lnTo>
                    <a:pt x="2851" y="1253"/>
                  </a:lnTo>
                  <a:lnTo>
                    <a:pt x="2853" y="1273"/>
                  </a:lnTo>
                  <a:lnTo>
                    <a:pt x="2854" y="1287"/>
                  </a:lnTo>
                  <a:lnTo>
                    <a:pt x="2859" y="1298"/>
                  </a:lnTo>
                  <a:lnTo>
                    <a:pt x="2865" y="1304"/>
                  </a:lnTo>
                  <a:lnTo>
                    <a:pt x="2870" y="1310"/>
                  </a:lnTo>
                  <a:lnTo>
                    <a:pt x="2876" y="1318"/>
                  </a:lnTo>
                  <a:lnTo>
                    <a:pt x="2882" y="1329"/>
                  </a:lnTo>
                  <a:lnTo>
                    <a:pt x="2887" y="1345"/>
                  </a:lnTo>
                  <a:lnTo>
                    <a:pt x="2890" y="1366"/>
                  </a:lnTo>
                  <a:lnTo>
                    <a:pt x="2891" y="1393"/>
                  </a:lnTo>
                  <a:lnTo>
                    <a:pt x="2890" y="1425"/>
                  </a:lnTo>
                  <a:lnTo>
                    <a:pt x="2888" y="1452"/>
                  </a:lnTo>
                  <a:lnTo>
                    <a:pt x="2890" y="1473"/>
                  </a:lnTo>
                  <a:lnTo>
                    <a:pt x="2893" y="1491"/>
                  </a:lnTo>
                  <a:lnTo>
                    <a:pt x="2894" y="1506"/>
                  </a:lnTo>
                  <a:lnTo>
                    <a:pt x="2893" y="1522"/>
                  </a:lnTo>
                  <a:lnTo>
                    <a:pt x="2888" y="1539"/>
                  </a:lnTo>
                  <a:lnTo>
                    <a:pt x="2882" y="1560"/>
                  </a:lnTo>
                  <a:lnTo>
                    <a:pt x="2879" y="1577"/>
                  </a:lnTo>
                  <a:lnTo>
                    <a:pt x="2876" y="1590"/>
                  </a:lnTo>
                  <a:lnTo>
                    <a:pt x="2873" y="1599"/>
                  </a:lnTo>
                  <a:lnTo>
                    <a:pt x="2866" y="1605"/>
                  </a:lnTo>
                  <a:lnTo>
                    <a:pt x="2857" y="1612"/>
                  </a:lnTo>
                  <a:lnTo>
                    <a:pt x="2846" y="1624"/>
                  </a:lnTo>
                  <a:lnTo>
                    <a:pt x="2834" y="1640"/>
                  </a:lnTo>
                  <a:lnTo>
                    <a:pt x="2823" y="1661"/>
                  </a:lnTo>
                  <a:lnTo>
                    <a:pt x="2812" y="1688"/>
                  </a:lnTo>
                  <a:lnTo>
                    <a:pt x="2804" y="1714"/>
                  </a:lnTo>
                  <a:lnTo>
                    <a:pt x="2797" y="1737"/>
                  </a:lnTo>
                  <a:lnTo>
                    <a:pt x="2790" y="1758"/>
                  </a:lnTo>
                  <a:lnTo>
                    <a:pt x="2786" y="1775"/>
                  </a:lnTo>
                  <a:lnTo>
                    <a:pt x="2787" y="1789"/>
                  </a:lnTo>
                  <a:lnTo>
                    <a:pt x="2789" y="1803"/>
                  </a:lnTo>
                  <a:lnTo>
                    <a:pt x="2786" y="1815"/>
                  </a:lnTo>
                  <a:lnTo>
                    <a:pt x="2783" y="1827"/>
                  </a:lnTo>
                  <a:lnTo>
                    <a:pt x="2781" y="1843"/>
                  </a:lnTo>
                  <a:lnTo>
                    <a:pt x="2781" y="1859"/>
                  </a:lnTo>
                  <a:lnTo>
                    <a:pt x="2786" y="1877"/>
                  </a:lnTo>
                  <a:lnTo>
                    <a:pt x="2790" y="1897"/>
                  </a:lnTo>
                  <a:lnTo>
                    <a:pt x="2797" y="1919"/>
                  </a:lnTo>
                  <a:lnTo>
                    <a:pt x="2804" y="1936"/>
                  </a:lnTo>
                  <a:lnTo>
                    <a:pt x="2811" y="1949"/>
                  </a:lnTo>
                  <a:lnTo>
                    <a:pt x="2818" y="1958"/>
                  </a:lnTo>
                  <a:lnTo>
                    <a:pt x="2828" y="1969"/>
                  </a:lnTo>
                  <a:lnTo>
                    <a:pt x="2839" y="1983"/>
                  </a:lnTo>
                  <a:lnTo>
                    <a:pt x="2849" y="1997"/>
                  </a:lnTo>
                  <a:lnTo>
                    <a:pt x="2860" y="2011"/>
                  </a:lnTo>
                  <a:lnTo>
                    <a:pt x="2868" y="2022"/>
                  </a:lnTo>
                  <a:lnTo>
                    <a:pt x="2873" y="2031"/>
                  </a:lnTo>
                  <a:lnTo>
                    <a:pt x="2873" y="2037"/>
                  </a:lnTo>
                  <a:lnTo>
                    <a:pt x="2865" y="2040"/>
                  </a:lnTo>
                  <a:lnTo>
                    <a:pt x="2854" y="2042"/>
                  </a:lnTo>
                  <a:lnTo>
                    <a:pt x="2842" y="2040"/>
                  </a:lnTo>
                  <a:lnTo>
                    <a:pt x="2828" y="2042"/>
                  </a:lnTo>
                  <a:lnTo>
                    <a:pt x="2815" y="2046"/>
                  </a:lnTo>
                  <a:lnTo>
                    <a:pt x="2793" y="2060"/>
                  </a:lnTo>
                  <a:lnTo>
                    <a:pt x="2772" y="2079"/>
                  </a:lnTo>
                  <a:lnTo>
                    <a:pt x="2753" y="2101"/>
                  </a:lnTo>
                  <a:lnTo>
                    <a:pt x="2745" y="2116"/>
                  </a:lnTo>
                  <a:lnTo>
                    <a:pt x="2739" y="2130"/>
                  </a:lnTo>
                  <a:lnTo>
                    <a:pt x="2738" y="2144"/>
                  </a:lnTo>
                  <a:lnTo>
                    <a:pt x="2739" y="2160"/>
                  </a:lnTo>
                  <a:lnTo>
                    <a:pt x="2739" y="2177"/>
                  </a:lnTo>
                  <a:lnTo>
                    <a:pt x="2741" y="2194"/>
                  </a:lnTo>
                  <a:lnTo>
                    <a:pt x="2738" y="2211"/>
                  </a:lnTo>
                  <a:lnTo>
                    <a:pt x="2730" y="2225"/>
                  </a:lnTo>
                  <a:lnTo>
                    <a:pt x="2717" y="2234"/>
                  </a:lnTo>
                  <a:lnTo>
                    <a:pt x="2700" y="2239"/>
                  </a:lnTo>
                  <a:lnTo>
                    <a:pt x="2685" y="2244"/>
                  </a:lnTo>
                  <a:lnTo>
                    <a:pt x="2668" y="2250"/>
                  </a:lnTo>
                  <a:lnTo>
                    <a:pt x="2649" y="2265"/>
                  </a:lnTo>
                  <a:lnTo>
                    <a:pt x="2632" y="2281"/>
                  </a:lnTo>
                  <a:lnTo>
                    <a:pt x="2623" y="2298"/>
                  </a:lnTo>
                  <a:lnTo>
                    <a:pt x="2616" y="2310"/>
                  </a:lnTo>
                  <a:lnTo>
                    <a:pt x="2612" y="2320"/>
                  </a:lnTo>
                  <a:lnTo>
                    <a:pt x="2604" y="2323"/>
                  </a:lnTo>
                  <a:lnTo>
                    <a:pt x="2595" y="2321"/>
                  </a:lnTo>
                  <a:lnTo>
                    <a:pt x="2587" y="2318"/>
                  </a:lnTo>
                  <a:lnTo>
                    <a:pt x="2579" y="2317"/>
                  </a:lnTo>
                  <a:lnTo>
                    <a:pt x="2573" y="2314"/>
                  </a:lnTo>
                  <a:lnTo>
                    <a:pt x="2568" y="2310"/>
                  </a:lnTo>
                  <a:lnTo>
                    <a:pt x="2567" y="2306"/>
                  </a:lnTo>
                  <a:lnTo>
                    <a:pt x="2567" y="2296"/>
                  </a:lnTo>
                  <a:lnTo>
                    <a:pt x="2571" y="2284"/>
                  </a:lnTo>
                  <a:lnTo>
                    <a:pt x="2576" y="2275"/>
                  </a:lnTo>
                  <a:lnTo>
                    <a:pt x="2579" y="2267"/>
                  </a:lnTo>
                  <a:lnTo>
                    <a:pt x="2582" y="2258"/>
                  </a:lnTo>
                  <a:lnTo>
                    <a:pt x="2582" y="2244"/>
                  </a:lnTo>
                  <a:lnTo>
                    <a:pt x="2582" y="2231"/>
                  </a:lnTo>
                  <a:lnTo>
                    <a:pt x="2582" y="2223"/>
                  </a:lnTo>
                  <a:lnTo>
                    <a:pt x="2584" y="2217"/>
                  </a:lnTo>
                  <a:lnTo>
                    <a:pt x="2585" y="2209"/>
                  </a:lnTo>
                  <a:lnTo>
                    <a:pt x="2587" y="2197"/>
                  </a:lnTo>
                  <a:lnTo>
                    <a:pt x="2587" y="2186"/>
                  </a:lnTo>
                  <a:lnTo>
                    <a:pt x="2585" y="2178"/>
                  </a:lnTo>
                  <a:lnTo>
                    <a:pt x="2584" y="2172"/>
                  </a:lnTo>
                  <a:lnTo>
                    <a:pt x="2584" y="2166"/>
                  </a:lnTo>
                  <a:lnTo>
                    <a:pt x="2587" y="2158"/>
                  </a:lnTo>
                  <a:lnTo>
                    <a:pt x="2595" y="2150"/>
                  </a:lnTo>
                  <a:lnTo>
                    <a:pt x="2602" y="2143"/>
                  </a:lnTo>
                  <a:lnTo>
                    <a:pt x="2607" y="2136"/>
                  </a:lnTo>
                  <a:lnTo>
                    <a:pt x="2610" y="2133"/>
                  </a:lnTo>
                  <a:lnTo>
                    <a:pt x="2613" y="2129"/>
                  </a:lnTo>
                  <a:lnTo>
                    <a:pt x="2618" y="2123"/>
                  </a:lnTo>
                  <a:lnTo>
                    <a:pt x="2626" y="2112"/>
                  </a:lnTo>
                  <a:lnTo>
                    <a:pt x="2637" y="2101"/>
                  </a:lnTo>
                  <a:lnTo>
                    <a:pt x="2643" y="2091"/>
                  </a:lnTo>
                  <a:lnTo>
                    <a:pt x="2646" y="2085"/>
                  </a:lnTo>
                  <a:lnTo>
                    <a:pt x="2643" y="2077"/>
                  </a:lnTo>
                  <a:lnTo>
                    <a:pt x="2635" y="2068"/>
                  </a:lnTo>
                  <a:lnTo>
                    <a:pt x="2623" y="2060"/>
                  </a:lnTo>
                  <a:lnTo>
                    <a:pt x="2609" y="2060"/>
                  </a:lnTo>
                  <a:lnTo>
                    <a:pt x="2596" y="2064"/>
                  </a:lnTo>
                  <a:lnTo>
                    <a:pt x="2585" y="2070"/>
                  </a:lnTo>
                  <a:lnTo>
                    <a:pt x="2576" y="2073"/>
                  </a:lnTo>
                  <a:lnTo>
                    <a:pt x="2567" y="2079"/>
                  </a:lnTo>
                  <a:lnTo>
                    <a:pt x="2559" y="2087"/>
                  </a:lnTo>
                  <a:lnTo>
                    <a:pt x="2553" y="2099"/>
                  </a:lnTo>
                  <a:lnTo>
                    <a:pt x="2545" y="2110"/>
                  </a:lnTo>
                  <a:lnTo>
                    <a:pt x="2539" y="2116"/>
                  </a:lnTo>
                  <a:lnTo>
                    <a:pt x="2533" y="2119"/>
                  </a:lnTo>
                  <a:lnTo>
                    <a:pt x="2526" y="2121"/>
                  </a:lnTo>
                  <a:lnTo>
                    <a:pt x="2522" y="2126"/>
                  </a:lnTo>
                  <a:lnTo>
                    <a:pt x="2519" y="2132"/>
                  </a:lnTo>
                  <a:lnTo>
                    <a:pt x="2519" y="2144"/>
                  </a:lnTo>
                  <a:lnTo>
                    <a:pt x="2525" y="2161"/>
                  </a:lnTo>
                  <a:lnTo>
                    <a:pt x="2529" y="2174"/>
                  </a:lnTo>
                  <a:lnTo>
                    <a:pt x="2534" y="2186"/>
                  </a:lnTo>
                  <a:lnTo>
                    <a:pt x="2537" y="2200"/>
                  </a:lnTo>
                  <a:lnTo>
                    <a:pt x="2539" y="2213"/>
                  </a:lnTo>
                  <a:lnTo>
                    <a:pt x="2539" y="2223"/>
                  </a:lnTo>
                  <a:lnTo>
                    <a:pt x="2539" y="2231"/>
                  </a:lnTo>
                  <a:lnTo>
                    <a:pt x="2534" y="2237"/>
                  </a:lnTo>
                  <a:lnTo>
                    <a:pt x="2525" y="2241"/>
                  </a:lnTo>
                  <a:lnTo>
                    <a:pt x="2519" y="2241"/>
                  </a:lnTo>
                  <a:lnTo>
                    <a:pt x="2514" y="2236"/>
                  </a:lnTo>
                  <a:lnTo>
                    <a:pt x="2512" y="2228"/>
                  </a:lnTo>
                  <a:lnTo>
                    <a:pt x="2511" y="2219"/>
                  </a:lnTo>
                  <a:lnTo>
                    <a:pt x="2508" y="2209"/>
                  </a:lnTo>
                  <a:lnTo>
                    <a:pt x="2503" y="2200"/>
                  </a:lnTo>
                  <a:lnTo>
                    <a:pt x="2495" y="2194"/>
                  </a:lnTo>
                  <a:lnTo>
                    <a:pt x="2478" y="2186"/>
                  </a:lnTo>
                  <a:lnTo>
                    <a:pt x="2463" y="2182"/>
                  </a:lnTo>
                  <a:lnTo>
                    <a:pt x="2449" y="2182"/>
                  </a:lnTo>
                  <a:lnTo>
                    <a:pt x="2438" y="2186"/>
                  </a:lnTo>
                  <a:lnTo>
                    <a:pt x="2425" y="2192"/>
                  </a:lnTo>
                  <a:lnTo>
                    <a:pt x="2411" y="2199"/>
                  </a:lnTo>
                  <a:lnTo>
                    <a:pt x="2396" y="2206"/>
                  </a:lnTo>
                  <a:lnTo>
                    <a:pt x="2382" y="2216"/>
                  </a:lnTo>
                  <a:lnTo>
                    <a:pt x="2374" y="2227"/>
                  </a:lnTo>
                  <a:lnTo>
                    <a:pt x="2368" y="2248"/>
                  </a:lnTo>
                  <a:lnTo>
                    <a:pt x="2368" y="2272"/>
                  </a:lnTo>
                  <a:lnTo>
                    <a:pt x="2369" y="2290"/>
                  </a:lnTo>
                  <a:lnTo>
                    <a:pt x="2374" y="2301"/>
                  </a:lnTo>
                  <a:lnTo>
                    <a:pt x="2380" y="2314"/>
                  </a:lnTo>
                  <a:lnTo>
                    <a:pt x="2385" y="2326"/>
                  </a:lnTo>
                  <a:lnTo>
                    <a:pt x="2386" y="2337"/>
                  </a:lnTo>
                  <a:lnTo>
                    <a:pt x="2383" y="2345"/>
                  </a:lnTo>
                  <a:lnTo>
                    <a:pt x="2374" y="2352"/>
                  </a:lnTo>
                  <a:lnTo>
                    <a:pt x="2365" y="2360"/>
                  </a:lnTo>
                  <a:lnTo>
                    <a:pt x="2357" y="2369"/>
                  </a:lnTo>
                  <a:lnTo>
                    <a:pt x="2351" y="2379"/>
                  </a:lnTo>
                  <a:lnTo>
                    <a:pt x="2348" y="2390"/>
                  </a:lnTo>
                  <a:lnTo>
                    <a:pt x="2346" y="2400"/>
                  </a:lnTo>
                  <a:lnTo>
                    <a:pt x="2341" y="2408"/>
                  </a:lnTo>
                  <a:lnTo>
                    <a:pt x="2334" y="2413"/>
                  </a:lnTo>
                  <a:lnTo>
                    <a:pt x="2324" y="2418"/>
                  </a:lnTo>
                  <a:lnTo>
                    <a:pt x="2313" y="2425"/>
                  </a:lnTo>
                  <a:lnTo>
                    <a:pt x="2306" y="2430"/>
                  </a:lnTo>
                  <a:lnTo>
                    <a:pt x="2298" y="2432"/>
                  </a:lnTo>
                  <a:lnTo>
                    <a:pt x="2296" y="2430"/>
                  </a:lnTo>
                  <a:lnTo>
                    <a:pt x="2293" y="2428"/>
                  </a:lnTo>
                  <a:lnTo>
                    <a:pt x="2290" y="2427"/>
                  </a:lnTo>
                  <a:lnTo>
                    <a:pt x="2287" y="2425"/>
                  </a:lnTo>
                  <a:lnTo>
                    <a:pt x="2284" y="2422"/>
                  </a:lnTo>
                  <a:lnTo>
                    <a:pt x="2281" y="2419"/>
                  </a:lnTo>
                  <a:lnTo>
                    <a:pt x="2278" y="2414"/>
                  </a:lnTo>
                  <a:lnTo>
                    <a:pt x="2276" y="2408"/>
                  </a:lnTo>
                  <a:lnTo>
                    <a:pt x="2270" y="2390"/>
                  </a:lnTo>
                  <a:lnTo>
                    <a:pt x="2265" y="2376"/>
                  </a:lnTo>
                  <a:lnTo>
                    <a:pt x="2267" y="2362"/>
                  </a:lnTo>
                  <a:lnTo>
                    <a:pt x="2270" y="2351"/>
                  </a:lnTo>
                  <a:lnTo>
                    <a:pt x="2273" y="2341"/>
                  </a:lnTo>
                  <a:lnTo>
                    <a:pt x="2275" y="2327"/>
                  </a:lnTo>
                  <a:lnTo>
                    <a:pt x="2275" y="2317"/>
                  </a:lnTo>
                  <a:lnTo>
                    <a:pt x="2273" y="2307"/>
                  </a:lnTo>
                  <a:lnTo>
                    <a:pt x="2273" y="2300"/>
                  </a:lnTo>
                  <a:lnTo>
                    <a:pt x="2273" y="2293"/>
                  </a:lnTo>
                  <a:lnTo>
                    <a:pt x="2278" y="2292"/>
                  </a:lnTo>
                  <a:lnTo>
                    <a:pt x="2284" y="2292"/>
                  </a:lnTo>
                  <a:lnTo>
                    <a:pt x="2292" y="2293"/>
                  </a:lnTo>
                  <a:lnTo>
                    <a:pt x="2300" y="2295"/>
                  </a:lnTo>
                  <a:lnTo>
                    <a:pt x="2306" y="2295"/>
                  </a:lnTo>
                  <a:lnTo>
                    <a:pt x="2309" y="2289"/>
                  </a:lnTo>
                  <a:lnTo>
                    <a:pt x="2307" y="2276"/>
                  </a:lnTo>
                  <a:lnTo>
                    <a:pt x="2300" y="2265"/>
                  </a:lnTo>
                  <a:lnTo>
                    <a:pt x="2292" y="2259"/>
                  </a:lnTo>
                  <a:lnTo>
                    <a:pt x="2284" y="2254"/>
                  </a:lnTo>
                  <a:lnTo>
                    <a:pt x="2273" y="2251"/>
                  </a:lnTo>
                  <a:lnTo>
                    <a:pt x="2259" y="2247"/>
                  </a:lnTo>
                  <a:lnTo>
                    <a:pt x="2248" y="2244"/>
                  </a:lnTo>
                  <a:lnTo>
                    <a:pt x="2240" y="2245"/>
                  </a:lnTo>
                  <a:lnTo>
                    <a:pt x="2236" y="2250"/>
                  </a:lnTo>
                  <a:lnTo>
                    <a:pt x="2228" y="2259"/>
                  </a:lnTo>
                  <a:lnTo>
                    <a:pt x="2220" y="2270"/>
                  </a:lnTo>
                  <a:lnTo>
                    <a:pt x="2211" y="2281"/>
                  </a:lnTo>
                  <a:lnTo>
                    <a:pt x="2205" y="2290"/>
                  </a:lnTo>
                  <a:lnTo>
                    <a:pt x="2200" y="2301"/>
                  </a:lnTo>
                  <a:lnTo>
                    <a:pt x="2195" y="2310"/>
                  </a:lnTo>
                  <a:lnTo>
                    <a:pt x="2189" y="2318"/>
                  </a:lnTo>
                  <a:lnTo>
                    <a:pt x="2181" y="2323"/>
                  </a:lnTo>
                  <a:lnTo>
                    <a:pt x="2167" y="2326"/>
                  </a:lnTo>
                  <a:lnTo>
                    <a:pt x="2157" y="2331"/>
                  </a:lnTo>
                  <a:lnTo>
                    <a:pt x="2149" y="2337"/>
                  </a:lnTo>
                  <a:lnTo>
                    <a:pt x="2147" y="2343"/>
                  </a:lnTo>
                  <a:lnTo>
                    <a:pt x="2147" y="2351"/>
                  </a:lnTo>
                  <a:lnTo>
                    <a:pt x="2149" y="2362"/>
                  </a:lnTo>
                  <a:lnTo>
                    <a:pt x="2146" y="2374"/>
                  </a:lnTo>
                  <a:lnTo>
                    <a:pt x="2140" y="2385"/>
                  </a:lnTo>
                  <a:lnTo>
                    <a:pt x="2133" y="2394"/>
                  </a:lnTo>
                  <a:lnTo>
                    <a:pt x="2127" y="2407"/>
                  </a:lnTo>
                  <a:lnTo>
                    <a:pt x="2122" y="2421"/>
                  </a:lnTo>
                  <a:lnTo>
                    <a:pt x="2118" y="2432"/>
                  </a:lnTo>
                  <a:lnTo>
                    <a:pt x="2115" y="2436"/>
                  </a:lnTo>
                  <a:lnTo>
                    <a:pt x="2110" y="2439"/>
                  </a:lnTo>
                  <a:lnTo>
                    <a:pt x="2101" y="2438"/>
                  </a:lnTo>
                  <a:lnTo>
                    <a:pt x="2087" y="2436"/>
                  </a:lnTo>
                  <a:lnTo>
                    <a:pt x="2066" y="2433"/>
                  </a:lnTo>
                  <a:lnTo>
                    <a:pt x="2046" y="2427"/>
                  </a:lnTo>
                  <a:lnTo>
                    <a:pt x="2029" y="2421"/>
                  </a:lnTo>
                  <a:lnTo>
                    <a:pt x="2015" y="2418"/>
                  </a:lnTo>
                  <a:lnTo>
                    <a:pt x="2006" y="2419"/>
                  </a:lnTo>
                  <a:lnTo>
                    <a:pt x="1997" y="2421"/>
                  </a:lnTo>
                  <a:lnTo>
                    <a:pt x="1980" y="2424"/>
                  </a:lnTo>
                  <a:lnTo>
                    <a:pt x="1959" y="2425"/>
                  </a:lnTo>
                  <a:lnTo>
                    <a:pt x="1936" y="2425"/>
                  </a:lnTo>
                  <a:lnTo>
                    <a:pt x="1914" y="2427"/>
                  </a:lnTo>
                  <a:lnTo>
                    <a:pt x="1896" y="2428"/>
                  </a:lnTo>
                  <a:lnTo>
                    <a:pt x="1883" y="2432"/>
                  </a:lnTo>
                  <a:lnTo>
                    <a:pt x="1865" y="2435"/>
                  </a:lnTo>
                  <a:lnTo>
                    <a:pt x="1851" y="2436"/>
                  </a:lnTo>
                  <a:lnTo>
                    <a:pt x="1837" y="2436"/>
                  </a:lnTo>
                  <a:lnTo>
                    <a:pt x="1827" y="2438"/>
                  </a:lnTo>
                  <a:lnTo>
                    <a:pt x="1816" y="2439"/>
                  </a:lnTo>
                  <a:lnTo>
                    <a:pt x="1804" y="2442"/>
                  </a:lnTo>
                  <a:lnTo>
                    <a:pt x="1793" y="2444"/>
                  </a:lnTo>
                  <a:lnTo>
                    <a:pt x="1785" y="2442"/>
                  </a:lnTo>
                  <a:lnTo>
                    <a:pt x="1784" y="2438"/>
                  </a:lnTo>
                  <a:lnTo>
                    <a:pt x="1788" y="2427"/>
                  </a:lnTo>
                  <a:lnTo>
                    <a:pt x="1798" y="2418"/>
                  </a:lnTo>
                  <a:lnTo>
                    <a:pt x="1812" y="2410"/>
                  </a:lnTo>
                  <a:lnTo>
                    <a:pt x="1824" y="2407"/>
                  </a:lnTo>
                  <a:lnTo>
                    <a:pt x="1833" y="2405"/>
                  </a:lnTo>
                  <a:lnTo>
                    <a:pt x="1841" y="2405"/>
                  </a:lnTo>
                  <a:lnTo>
                    <a:pt x="1847" y="2402"/>
                  </a:lnTo>
                  <a:lnTo>
                    <a:pt x="1851" y="2394"/>
                  </a:lnTo>
                  <a:lnTo>
                    <a:pt x="1851" y="2388"/>
                  </a:lnTo>
                  <a:lnTo>
                    <a:pt x="1851" y="2382"/>
                  </a:lnTo>
                  <a:lnTo>
                    <a:pt x="1847" y="2377"/>
                  </a:lnTo>
                  <a:lnTo>
                    <a:pt x="1844" y="2373"/>
                  </a:lnTo>
                  <a:lnTo>
                    <a:pt x="1841" y="2369"/>
                  </a:lnTo>
                  <a:lnTo>
                    <a:pt x="1837" y="2368"/>
                  </a:lnTo>
                  <a:lnTo>
                    <a:pt x="1833" y="2368"/>
                  </a:lnTo>
                  <a:lnTo>
                    <a:pt x="1829" y="2369"/>
                  </a:lnTo>
                  <a:lnTo>
                    <a:pt x="1820" y="2376"/>
                  </a:lnTo>
                  <a:lnTo>
                    <a:pt x="1807" y="2382"/>
                  </a:lnTo>
                  <a:lnTo>
                    <a:pt x="1795" y="2388"/>
                  </a:lnTo>
                  <a:lnTo>
                    <a:pt x="1784" y="2390"/>
                  </a:lnTo>
                  <a:lnTo>
                    <a:pt x="1776" y="2391"/>
                  </a:lnTo>
                  <a:lnTo>
                    <a:pt x="1770" y="2396"/>
                  </a:lnTo>
                  <a:lnTo>
                    <a:pt x="1764" y="2399"/>
                  </a:lnTo>
                  <a:lnTo>
                    <a:pt x="1757" y="2399"/>
                  </a:lnTo>
                  <a:lnTo>
                    <a:pt x="1751" y="2391"/>
                  </a:lnTo>
                  <a:lnTo>
                    <a:pt x="1742" y="2373"/>
                  </a:lnTo>
                  <a:lnTo>
                    <a:pt x="1737" y="2354"/>
                  </a:lnTo>
                  <a:lnTo>
                    <a:pt x="1731" y="2337"/>
                  </a:lnTo>
                  <a:lnTo>
                    <a:pt x="1728" y="2329"/>
                  </a:lnTo>
                  <a:lnTo>
                    <a:pt x="1723" y="2324"/>
                  </a:lnTo>
                  <a:lnTo>
                    <a:pt x="1720" y="2320"/>
                  </a:lnTo>
                  <a:lnTo>
                    <a:pt x="1722" y="2315"/>
                  </a:lnTo>
                  <a:lnTo>
                    <a:pt x="1725" y="2307"/>
                  </a:lnTo>
                  <a:lnTo>
                    <a:pt x="1731" y="2298"/>
                  </a:lnTo>
                  <a:lnTo>
                    <a:pt x="1734" y="2289"/>
                  </a:lnTo>
                  <a:lnTo>
                    <a:pt x="1734" y="2281"/>
                  </a:lnTo>
                  <a:lnTo>
                    <a:pt x="1733" y="2276"/>
                  </a:lnTo>
                  <a:lnTo>
                    <a:pt x="1725" y="2275"/>
                  </a:lnTo>
                  <a:lnTo>
                    <a:pt x="1711" y="2281"/>
                  </a:lnTo>
                  <a:lnTo>
                    <a:pt x="1695" y="2289"/>
                  </a:lnTo>
                  <a:lnTo>
                    <a:pt x="1684" y="2298"/>
                  </a:lnTo>
                  <a:lnTo>
                    <a:pt x="1678" y="2310"/>
                  </a:lnTo>
                  <a:lnTo>
                    <a:pt x="1673" y="2324"/>
                  </a:lnTo>
                  <a:lnTo>
                    <a:pt x="1670" y="2338"/>
                  </a:lnTo>
                  <a:lnTo>
                    <a:pt x="1667" y="2346"/>
                  </a:lnTo>
                  <a:lnTo>
                    <a:pt x="1660" y="2355"/>
                  </a:lnTo>
                  <a:lnTo>
                    <a:pt x="1650" y="2368"/>
                  </a:lnTo>
                  <a:lnTo>
                    <a:pt x="1641" y="2380"/>
                  </a:lnTo>
                  <a:lnTo>
                    <a:pt x="1633" y="2391"/>
                  </a:lnTo>
                  <a:lnTo>
                    <a:pt x="1630" y="2404"/>
                  </a:lnTo>
                  <a:lnTo>
                    <a:pt x="1632" y="2413"/>
                  </a:lnTo>
                  <a:lnTo>
                    <a:pt x="1641" y="2428"/>
                  </a:lnTo>
                  <a:lnTo>
                    <a:pt x="1650" y="2439"/>
                  </a:lnTo>
                  <a:lnTo>
                    <a:pt x="1666" y="2449"/>
                  </a:lnTo>
                  <a:lnTo>
                    <a:pt x="1681" y="2456"/>
                  </a:lnTo>
                  <a:lnTo>
                    <a:pt x="1694" y="2466"/>
                  </a:lnTo>
                  <a:lnTo>
                    <a:pt x="1708" y="2475"/>
                  </a:lnTo>
                  <a:lnTo>
                    <a:pt x="1717" y="2478"/>
                  </a:lnTo>
                  <a:lnTo>
                    <a:pt x="1726" y="2481"/>
                  </a:lnTo>
                  <a:lnTo>
                    <a:pt x="1734" y="2483"/>
                  </a:lnTo>
                  <a:lnTo>
                    <a:pt x="1739" y="2487"/>
                  </a:lnTo>
                  <a:lnTo>
                    <a:pt x="1740" y="2494"/>
                  </a:lnTo>
                  <a:lnTo>
                    <a:pt x="1739" y="2506"/>
                  </a:lnTo>
                  <a:lnTo>
                    <a:pt x="1739" y="2517"/>
                  </a:lnTo>
                  <a:lnTo>
                    <a:pt x="1740" y="2531"/>
                  </a:lnTo>
                  <a:lnTo>
                    <a:pt x="1740" y="2542"/>
                  </a:lnTo>
                  <a:lnTo>
                    <a:pt x="1740" y="2551"/>
                  </a:lnTo>
                  <a:lnTo>
                    <a:pt x="1739" y="2557"/>
                  </a:lnTo>
                  <a:lnTo>
                    <a:pt x="1736" y="2562"/>
                  </a:lnTo>
                  <a:lnTo>
                    <a:pt x="1728" y="2562"/>
                  </a:lnTo>
                  <a:lnTo>
                    <a:pt x="1717" y="2557"/>
                  </a:lnTo>
                  <a:lnTo>
                    <a:pt x="1706" y="2551"/>
                  </a:lnTo>
                  <a:lnTo>
                    <a:pt x="1695" y="2545"/>
                  </a:lnTo>
                  <a:lnTo>
                    <a:pt x="1684" y="2545"/>
                  </a:lnTo>
                  <a:lnTo>
                    <a:pt x="1667" y="2548"/>
                  </a:lnTo>
                  <a:lnTo>
                    <a:pt x="1652" y="2551"/>
                  </a:lnTo>
                  <a:lnTo>
                    <a:pt x="1638" y="2556"/>
                  </a:lnTo>
                  <a:lnTo>
                    <a:pt x="1622" y="2564"/>
                  </a:lnTo>
                  <a:lnTo>
                    <a:pt x="1607" y="2570"/>
                  </a:lnTo>
                  <a:lnTo>
                    <a:pt x="1593" y="2577"/>
                  </a:lnTo>
                  <a:lnTo>
                    <a:pt x="1580" y="2588"/>
                  </a:lnTo>
                  <a:lnTo>
                    <a:pt x="1571" y="2601"/>
                  </a:lnTo>
                  <a:lnTo>
                    <a:pt x="1566" y="2612"/>
                  </a:lnTo>
                  <a:lnTo>
                    <a:pt x="1568" y="2624"/>
                  </a:lnTo>
                  <a:lnTo>
                    <a:pt x="1568" y="2635"/>
                  </a:lnTo>
                  <a:lnTo>
                    <a:pt x="1566" y="2646"/>
                  </a:lnTo>
                  <a:lnTo>
                    <a:pt x="1560" y="2654"/>
                  </a:lnTo>
                  <a:lnTo>
                    <a:pt x="1551" y="2658"/>
                  </a:lnTo>
                  <a:lnTo>
                    <a:pt x="1540" y="2666"/>
                  </a:lnTo>
                  <a:lnTo>
                    <a:pt x="1529" y="2677"/>
                  </a:lnTo>
                  <a:lnTo>
                    <a:pt x="1517" y="2694"/>
                  </a:lnTo>
                  <a:lnTo>
                    <a:pt x="1507" y="2708"/>
                  </a:lnTo>
                  <a:lnTo>
                    <a:pt x="1498" y="2723"/>
                  </a:lnTo>
                  <a:lnTo>
                    <a:pt x="1492" y="2734"/>
                  </a:lnTo>
                  <a:lnTo>
                    <a:pt x="1484" y="2747"/>
                  </a:lnTo>
                  <a:lnTo>
                    <a:pt x="1476" y="2758"/>
                  </a:lnTo>
                  <a:lnTo>
                    <a:pt x="1472" y="2767"/>
                  </a:lnTo>
                  <a:lnTo>
                    <a:pt x="1467" y="2773"/>
                  </a:lnTo>
                  <a:lnTo>
                    <a:pt x="1465" y="2782"/>
                  </a:lnTo>
                  <a:lnTo>
                    <a:pt x="1462" y="2793"/>
                  </a:lnTo>
                  <a:lnTo>
                    <a:pt x="1453" y="2806"/>
                  </a:lnTo>
                  <a:lnTo>
                    <a:pt x="1442" y="2817"/>
                  </a:lnTo>
                  <a:lnTo>
                    <a:pt x="1433" y="2824"/>
                  </a:lnTo>
                  <a:lnTo>
                    <a:pt x="1420" y="2829"/>
                  </a:lnTo>
                  <a:lnTo>
                    <a:pt x="1411" y="2831"/>
                  </a:lnTo>
                  <a:lnTo>
                    <a:pt x="1402" y="2831"/>
                  </a:lnTo>
                  <a:lnTo>
                    <a:pt x="1391" y="2827"/>
                  </a:lnTo>
                  <a:lnTo>
                    <a:pt x="1377" y="2823"/>
                  </a:lnTo>
                  <a:lnTo>
                    <a:pt x="1366" y="2820"/>
                  </a:lnTo>
                  <a:lnTo>
                    <a:pt x="1358" y="2820"/>
                  </a:lnTo>
                  <a:lnTo>
                    <a:pt x="1350" y="2823"/>
                  </a:lnTo>
                  <a:lnTo>
                    <a:pt x="1344" y="2823"/>
                  </a:lnTo>
                  <a:lnTo>
                    <a:pt x="1338" y="2820"/>
                  </a:lnTo>
                  <a:lnTo>
                    <a:pt x="1332" y="2812"/>
                  </a:lnTo>
                  <a:lnTo>
                    <a:pt x="1318" y="2798"/>
                  </a:lnTo>
                  <a:lnTo>
                    <a:pt x="1305" y="2787"/>
                  </a:lnTo>
                  <a:lnTo>
                    <a:pt x="1296" y="2778"/>
                  </a:lnTo>
                  <a:lnTo>
                    <a:pt x="1291" y="2768"/>
                  </a:lnTo>
                  <a:lnTo>
                    <a:pt x="1293" y="2761"/>
                  </a:lnTo>
                  <a:lnTo>
                    <a:pt x="1294" y="2756"/>
                  </a:lnTo>
                  <a:lnTo>
                    <a:pt x="1294" y="2750"/>
                  </a:lnTo>
                  <a:lnTo>
                    <a:pt x="1294" y="2744"/>
                  </a:lnTo>
                  <a:lnTo>
                    <a:pt x="1288" y="2736"/>
                  </a:lnTo>
                  <a:lnTo>
                    <a:pt x="1277" y="2728"/>
                  </a:lnTo>
                  <a:lnTo>
                    <a:pt x="1267" y="2720"/>
                  </a:lnTo>
                  <a:lnTo>
                    <a:pt x="1256" y="2714"/>
                  </a:lnTo>
                  <a:lnTo>
                    <a:pt x="1246" y="2703"/>
                  </a:lnTo>
                  <a:lnTo>
                    <a:pt x="1239" y="2694"/>
                  </a:lnTo>
                  <a:lnTo>
                    <a:pt x="1234" y="2685"/>
                  </a:lnTo>
                  <a:lnTo>
                    <a:pt x="1229" y="2675"/>
                  </a:lnTo>
                  <a:lnTo>
                    <a:pt x="1229" y="2663"/>
                  </a:lnTo>
                  <a:lnTo>
                    <a:pt x="1229" y="2647"/>
                  </a:lnTo>
                  <a:lnTo>
                    <a:pt x="1226" y="2633"/>
                  </a:lnTo>
                  <a:lnTo>
                    <a:pt x="1225" y="2618"/>
                  </a:lnTo>
                  <a:lnTo>
                    <a:pt x="1228" y="2602"/>
                  </a:lnTo>
                  <a:lnTo>
                    <a:pt x="1231" y="2587"/>
                  </a:lnTo>
                  <a:lnTo>
                    <a:pt x="1229" y="2574"/>
                  </a:lnTo>
                  <a:lnTo>
                    <a:pt x="1225" y="2564"/>
                  </a:lnTo>
                  <a:lnTo>
                    <a:pt x="1218" y="2556"/>
                  </a:lnTo>
                  <a:lnTo>
                    <a:pt x="1215" y="2554"/>
                  </a:lnTo>
                  <a:lnTo>
                    <a:pt x="1212" y="2551"/>
                  </a:lnTo>
                  <a:lnTo>
                    <a:pt x="1209" y="2548"/>
                  </a:lnTo>
                  <a:lnTo>
                    <a:pt x="1206" y="2546"/>
                  </a:lnTo>
                  <a:lnTo>
                    <a:pt x="1206" y="2543"/>
                  </a:lnTo>
                  <a:lnTo>
                    <a:pt x="1206" y="2542"/>
                  </a:lnTo>
                  <a:lnTo>
                    <a:pt x="1207" y="2539"/>
                  </a:lnTo>
                  <a:lnTo>
                    <a:pt x="1211" y="2536"/>
                  </a:lnTo>
                  <a:lnTo>
                    <a:pt x="1217" y="2534"/>
                  </a:lnTo>
                  <a:lnTo>
                    <a:pt x="1234" y="2528"/>
                  </a:lnTo>
                  <a:lnTo>
                    <a:pt x="1248" y="2523"/>
                  </a:lnTo>
                  <a:lnTo>
                    <a:pt x="1262" y="2517"/>
                  </a:lnTo>
                  <a:lnTo>
                    <a:pt x="1273" y="2511"/>
                  </a:lnTo>
                  <a:lnTo>
                    <a:pt x="1285" y="2504"/>
                  </a:lnTo>
                  <a:lnTo>
                    <a:pt x="1296" y="2497"/>
                  </a:lnTo>
                  <a:lnTo>
                    <a:pt x="1302" y="2484"/>
                  </a:lnTo>
                  <a:lnTo>
                    <a:pt x="1307" y="2473"/>
                  </a:lnTo>
                  <a:lnTo>
                    <a:pt x="1313" y="2463"/>
                  </a:lnTo>
                  <a:lnTo>
                    <a:pt x="1318" y="2452"/>
                  </a:lnTo>
                  <a:lnTo>
                    <a:pt x="1319" y="2438"/>
                  </a:lnTo>
                  <a:lnTo>
                    <a:pt x="1319" y="2424"/>
                  </a:lnTo>
                  <a:lnTo>
                    <a:pt x="1319" y="2413"/>
                  </a:lnTo>
                  <a:lnTo>
                    <a:pt x="1316" y="2405"/>
                  </a:lnTo>
                  <a:lnTo>
                    <a:pt x="1307" y="2400"/>
                  </a:lnTo>
                  <a:lnTo>
                    <a:pt x="1293" y="2400"/>
                  </a:lnTo>
                  <a:lnTo>
                    <a:pt x="1277" y="2402"/>
                  </a:lnTo>
                  <a:lnTo>
                    <a:pt x="1262" y="2407"/>
                  </a:lnTo>
                  <a:lnTo>
                    <a:pt x="1248" y="2413"/>
                  </a:lnTo>
                  <a:lnTo>
                    <a:pt x="1237" y="2418"/>
                  </a:lnTo>
                  <a:lnTo>
                    <a:pt x="1225" y="2422"/>
                  </a:lnTo>
                  <a:lnTo>
                    <a:pt x="1212" y="2425"/>
                  </a:lnTo>
                  <a:lnTo>
                    <a:pt x="1201" y="2424"/>
                  </a:lnTo>
                  <a:lnTo>
                    <a:pt x="1192" y="2418"/>
                  </a:lnTo>
                  <a:lnTo>
                    <a:pt x="1178" y="2404"/>
                  </a:lnTo>
                  <a:lnTo>
                    <a:pt x="1162" y="2393"/>
                  </a:lnTo>
                  <a:lnTo>
                    <a:pt x="1150" y="2385"/>
                  </a:lnTo>
                  <a:lnTo>
                    <a:pt x="1141" y="2379"/>
                  </a:lnTo>
                  <a:lnTo>
                    <a:pt x="1130" y="2371"/>
                  </a:lnTo>
                  <a:lnTo>
                    <a:pt x="1117" y="2363"/>
                  </a:lnTo>
                  <a:lnTo>
                    <a:pt x="1105" y="2360"/>
                  </a:lnTo>
                  <a:lnTo>
                    <a:pt x="1091" y="2363"/>
                  </a:lnTo>
                  <a:lnTo>
                    <a:pt x="1075" y="2369"/>
                  </a:lnTo>
                  <a:lnTo>
                    <a:pt x="1057" y="2377"/>
                  </a:lnTo>
                  <a:lnTo>
                    <a:pt x="1038" y="2382"/>
                  </a:lnTo>
                  <a:lnTo>
                    <a:pt x="1018" y="2385"/>
                  </a:lnTo>
                  <a:lnTo>
                    <a:pt x="999" y="2391"/>
                  </a:lnTo>
                  <a:lnTo>
                    <a:pt x="985" y="2397"/>
                  </a:lnTo>
                  <a:lnTo>
                    <a:pt x="978" y="2405"/>
                  </a:lnTo>
                  <a:lnTo>
                    <a:pt x="970" y="2414"/>
                  </a:lnTo>
                  <a:lnTo>
                    <a:pt x="962" y="2421"/>
                  </a:lnTo>
                  <a:lnTo>
                    <a:pt x="951" y="2424"/>
                  </a:lnTo>
                  <a:lnTo>
                    <a:pt x="940" y="2424"/>
                  </a:lnTo>
                  <a:lnTo>
                    <a:pt x="928" y="2422"/>
                  </a:lnTo>
                  <a:lnTo>
                    <a:pt x="919" y="2421"/>
                  </a:lnTo>
                  <a:lnTo>
                    <a:pt x="909" y="2422"/>
                  </a:lnTo>
                  <a:lnTo>
                    <a:pt x="905" y="2427"/>
                  </a:lnTo>
                  <a:lnTo>
                    <a:pt x="905" y="2435"/>
                  </a:lnTo>
                  <a:lnTo>
                    <a:pt x="906" y="2441"/>
                  </a:lnTo>
                  <a:lnTo>
                    <a:pt x="908" y="2449"/>
                  </a:lnTo>
                  <a:lnTo>
                    <a:pt x="909" y="2455"/>
                  </a:lnTo>
                  <a:lnTo>
                    <a:pt x="906" y="2461"/>
                  </a:lnTo>
                  <a:lnTo>
                    <a:pt x="897" y="2466"/>
                  </a:lnTo>
                  <a:lnTo>
                    <a:pt x="883" y="2472"/>
                  </a:lnTo>
                  <a:lnTo>
                    <a:pt x="870" y="2477"/>
                  </a:lnTo>
                  <a:lnTo>
                    <a:pt x="860" y="2480"/>
                  </a:lnTo>
                  <a:lnTo>
                    <a:pt x="852" y="2480"/>
                  </a:lnTo>
                  <a:lnTo>
                    <a:pt x="846" y="2477"/>
                  </a:lnTo>
                  <a:lnTo>
                    <a:pt x="844" y="2472"/>
                  </a:lnTo>
                  <a:lnTo>
                    <a:pt x="842" y="2467"/>
                  </a:lnTo>
                  <a:lnTo>
                    <a:pt x="841" y="2464"/>
                  </a:lnTo>
                  <a:lnTo>
                    <a:pt x="838" y="2461"/>
                  </a:lnTo>
                  <a:lnTo>
                    <a:pt x="836" y="2458"/>
                  </a:lnTo>
                  <a:lnTo>
                    <a:pt x="833" y="2456"/>
                  </a:lnTo>
                  <a:lnTo>
                    <a:pt x="830" y="2455"/>
                  </a:lnTo>
                  <a:lnTo>
                    <a:pt x="827" y="2455"/>
                  </a:lnTo>
                  <a:lnTo>
                    <a:pt x="811" y="2458"/>
                  </a:lnTo>
                  <a:lnTo>
                    <a:pt x="796" y="2464"/>
                  </a:lnTo>
                  <a:lnTo>
                    <a:pt x="783" y="2472"/>
                  </a:lnTo>
                  <a:lnTo>
                    <a:pt x="780" y="2475"/>
                  </a:lnTo>
                  <a:lnTo>
                    <a:pt x="777" y="2475"/>
                  </a:lnTo>
                  <a:lnTo>
                    <a:pt x="776" y="2475"/>
                  </a:lnTo>
                  <a:lnTo>
                    <a:pt x="771" y="2475"/>
                  </a:lnTo>
                  <a:lnTo>
                    <a:pt x="765" y="2475"/>
                  </a:lnTo>
                  <a:lnTo>
                    <a:pt x="754" y="2480"/>
                  </a:lnTo>
                  <a:lnTo>
                    <a:pt x="740" y="2487"/>
                  </a:lnTo>
                  <a:lnTo>
                    <a:pt x="731" y="2497"/>
                  </a:lnTo>
                  <a:lnTo>
                    <a:pt x="724" y="2506"/>
                  </a:lnTo>
                  <a:lnTo>
                    <a:pt x="718" y="2512"/>
                  </a:lnTo>
                  <a:lnTo>
                    <a:pt x="713" y="2515"/>
                  </a:lnTo>
                  <a:lnTo>
                    <a:pt x="707" y="2512"/>
                  </a:lnTo>
                  <a:lnTo>
                    <a:pt x="700" y="2508"/>
                  </a:lnTo>
                  <a:lnTo>
                    <a:pt x="692" y="2503"/>
                  </a:lnTo>
                  <a:lnTo>
                    <a:pt x="686" y="2501"/>
                  </a:lnTo>
                  <a:lnTo>
                    <a:pt x="681" y="2504"/>
                  </a:lnTo>
                  <a:lnTo>
                    <a:pt x="678" y="2514"/>
                  </a:lnTo>
                  <a:lnTo>
                    <a:pt x="675" y="2525"/>
                  </a:lnTo>
                  <a:lnTo>
                    <a:pt x="672" y="2532"/>
                  </a:lnTo>
                  <a:lnTo>
                    <a:pt x="665" y="2536"/>
                  </a:lnTo>
                  <a:lnTo>
                    <a:pt x="658" y="2539"/>
                  </a:lnTo>
                  <a:lnTo>
                    <a:pt x="648" y="2545"/>
                  </a:lnTo>
                  <a:lnTo>
                    <a:pt x="639" y="2553"/>
                  </a:lnTo>
                  <a:lnTo>
                    <a:pt x="628" y="2559"/>
                  </a:lnTo>
                  <a:lnTo>
                    <a:pt x="620" y="2560"/>
                  </a:lnTo>
                  <a:lnTo>
                    <a:pt x="616" y="2557"/>
                  </a:lnTo>
                  <a:lnTo>
                    <a:pt x="613" y="2542"/>
                  </a:lnTo>
                  <a:lnTo>
                    <a:pt x="616" y="2528"/>
                  </a:lnTo>
                  <a:lnTo>
                    <a:pt x="622" y="2517"/>
                  </a:lnTo>
                  <a:lnTo>
                    <a:pt x="622" y="2514"/>
                  </a:lnTo>
                  <a:lnTo>
                    <a:pt x="616" y="2512"/>
                  </a:lnTo>
                  <a:lnTo>
                    <a:pt x="606" y="2514"/>
                  </a:lnTo>
                  <a:lnTo>
                    <a:pt x="595" y="2515"/>
                  </a:lnTo>
                  <a:lnTo>
                    <a:pt x="586" y="2517"/>
                  </a:lnTo>
                  <a:lnTo>
                    <a:pt x="577" y="2522"/>
                  </a:lnTo>
                  <a:lnTo>
                    <a:pt x="569" y="2529"/>
                  </a:lnTo>
                  <a:lnTo>
                    <a:pt x="560" y="2537"/>
                  </a:lnTo>
                  <a:lnTo>
                    <a:pt x="549" y="2545"/>
                  </a:lnTo>
                  <a:lnTo>
                    <a:pt x="536" y="2548"/>
                  </a:lnTo>
                  <a:lnTo>
                    <a:pt x="524" y="2550"/>
                  </a:lnTo>
                  <a:lnTo>
                    <a:pt x="513" y="2551"/>
                  </a:lnTo>
                  <a:lnTo>
                    <a:pt x="505" y="2551"/>
                  </a:lnTo>
                  <a:lnTo>
                    <a:pt x="499" y="2550"/>
                  </a:lnTo>
                  <a:lnTo>
                    <a:pt x="494" y="2543"/>
                  </a:lnTo>
                  <a:lnTo>
                    <a:pt x="490" y="2531"/>
                  </a:lnTo>
                  <a:lnTo>
                    <a:pt x="487" y="2518"/>
                  </a:lnTo>
                  <a:lnTo>
                    <a:pt x="480" y="2509"/>
                  </a:lnTo>
                  <a:lnTo>
                    <a:pt x="476" y="2504"/>
                  </a:lnTo>
                  <a:lnTo>
                    <a:pt x="467" y="2501"/>
                  </a:lnTo>
                  <a:lnTo>
                    <a:pt x="457" y="2500"/>
                  </a:lnTo>
                  <a:lnTo>
                    <a:pt x="446" y="2503"/>
                  </a:lnTo>
                  <a:lnTo>
                    <a:pt x="435" y="2511"/>
                  </a:lnTo>
                  <a:lnTo>
                    <a:pt x="425" y="2523"/>
                  </a:lnTo>
                  <a:lnTo>
                    <a:pt x="412" y="2534"/>
                  </a:lnTo>
                  <a:lnTo>
                    <a:pt x="404" y="2545"/>
                  </a:lnTo>
                  <a:lnTo>
                    <a:pt x="400" y="2554"/>
                  </a:lnTo>
                  <a:lnTo>
                    <a:pt x="398" y="2562"/>
                  </a:lnTo>
                  <a:lnTo>
                    <a:pt x="397" y="2570"/>
                  </a:lnTo>
                  <a:lnTo>
                    <a:pt x="392" y="2581"/>
                  </a:lnTo>
                  <a:lnTo>
                    <a:pt x="386" y="2598"/>
                  </a:lnTo>
                  <a:lnTo>
                    <a:pt x="381" y="2616"/>
                  </a:lnTo>
                  <a:lnTo>
                    <a:pt x="378" y="2630"/>
                  </a:lnTo>
                  <a:lnTo>
                    <a:pt x="376" y="2641"/>
                  </a:lnTo>
                  <a:lnTo>
                    <a:pt x="373" y="2644"/>
                  </a:lnTo>
                  <a:lnTo>
                    <a:pt x="369" y="2647"/>
                  </a:lnTo>
                  <a:lnTo>
                    <a:pt x="361" y="2652"/>
                  </a:lnTo>
                  <a:lnTo>
                    <a:pt x="352" y="2655"/>
                  </a:lnTo>
                  <a:lnTo>
                    <a:pt x="341" y="2655"/>
                  </a:lnTo>
                  <a:lnTo>
                    <a:pt x="331" y="2650"/>
                  </a:lnTo>
                  <a:lnTo>
                    <a:pt x="310" y="2632"/>
                  </a:lnTo>
                  <a:lnTo>
                    <a:pt x="293" y="2616"/>
                  </a:lnTo>
                  <a:lnTo>
                    <a:pt x="285" y="2607"/>
                  </a:lnTo>
                  <a:lnTo>
                    <a:pt x="280" y="2601"/>
                  </a:lnTo>
                  <a:lnTo>
                    <a:pt x="272" y="2595"/>
                  </a:lnTo>
                  <a:lnTo>
                    <a:pt x="263" y="2595"/>
                  </a:lnTo>
                  <a:lnTo>
                    <a:pt x="254" y="2596"/>
                  </a:lnTo>
                  <a:lnTo>
                    <a:pt x="241" y="2595"/>
                  </a:lnTo>
                  <a:lnTo>
                    <a:pt x="229" y="2593"/>
                  </a:lnTo>
                  <a:lnTo>
                    <a:pt x="218" y="2593"/>
                  </a:lnTo>
                  <a:lnTo>
                    <a:pt x="212" y="2598"/>
                  </a:lnTo>
                  <a:lnTo>
                    <a:pt x="210" y="2599"/>
                  </a:lnTo>
                  <a:lnTo>
                    <a:pt x="209" y="2602"/>
                  </a:lnTo>
                  <a:lnTo>
                    <a:pt x="209" y="2605"/>
                  </a:lnTo>
                  <a:lnTo>
                    <a:pt x="209" y="2609"/>
                  </a:lnTo>
                  <a:lnTo>
                    <a:pt x="210" y="2612"/>
                  </a:lnTo>
                  <a:lnTo>
                    <a:pt x="210" y="2613"/>
                  </a:lnTo>
                  <a:lnTo>
                    <a:pt x="210" y="2616"/>
                  </a:lnTo>
                  <a:lnTo>
                    <a:pt x="210" y="2618"/>
                  </a:lnTo>
                  <a:lnTo>
                    <a:pt x="210" y="2619"/>
                  </a:lnTo>
                  <a:lnTo>
                    <a:pt x="209" y="2619"/>
                  </a:lnTo>
                  <a:lnTo>
                    <a:pt x="206" y="2619"/>
                  </a:lnTo>
                  <a:lnTo>
                    <a:pt x="202" y="2618"/>
                  </a:lnTo>
                  <a:lnTo>
                    <a:pt x="193" y="2612"/>
                  </a:lnTo>
                  <a:lnTo>
                    <a:pt x="188" y="2607"/>
                  </a:lnTo>
                  <a:lnTo>
                    <a:pt x="184" y="2602"/>
                  </a:lnTo>
                  <a:lnTo>
                    <a:pt x="179" y="2601"/>
                  </a:lnTo>
                  <a:lnTo>
                    <a:pt x="171" y="2602"/>
                  </a:lnTo>
                  <a:lnTo>
                    <a:pt x="164" y="2607"/>
                  </a:lnTo>
                  <a:lnTo>
                    <a:pt x="159" y="2612"/>
                  </a:lnTo>
                  <a:lnTo>
                    <a:pt x="156" y="2618"/>
                  </a:lnTo>
                  <a:lnTo>
                    <a:pt x="151" y="2623"/>
                  </a:lnTo>
                  <a:lnTo>
                    <a:pt x="143" y="2623"/>
                  </a:lnTo>
                  <a:lnTo>
                    <a:pt x="137" y="2623"/>
                  </a:lnTo>
                  <a:lnTo>
                    <a:pt x="133" y="2626"/>
                  </a:lnTo>
                  <a:lnTo>
                    <a:pt x="129" y="2630"/>
                  </a:lnTo>
                  <a:lnTo>
                    <a:pt x="126" y="2635"/>
                  </a:lnTo>
                  <a:lnTo>
                    <a:pt x="123" y="2635"/>
                  </a:lnTo>
                  <a:lnTo>
                    <a:pt x="117" y="2632"/>
                  </a:lnTo>
                  <a:lnTo>
                    <a:pt x="103" y="2624"/>
                  </a:lnTo>
                  <a:lnTo>
                    <a:pt x="91" y="2618"/>
                  </a:lnTo>
                  <a:lnTo>
                    <a:pt x="78" y="2610"/>
                  </a:lnTo>
                  <a:lnTo>
                    <a:pt x="67" y="2601"/>
                  </a:lnTo>
                  <a:lnTo>
                    <a:pt x="64" y="2596"/>
                  </a:lnTo>
                  <a:lnTo>
                    <a:pt x="60" y="2591"/>
                  </a:lnTo>
                  <a:lnTo>
                    <a:pt x="56" y="2587"/>
                  </a:lnTo>
                  <a:lnTo>
                    <a:pt x="53" y="2584"/>
                  </a:lnTo>
                  <a:lnTo>
                    <a:pt x="50" y="2582"/>
                  </a:lnTo>
                  <a:lnTo>
                    <a:pt x="49" y="2581"/>
                  </a:lnTo>
                  <a:lnTo>
                    <a:pt x="46" y="2582"/>
                  </a:lnTo>
                  <a:lnTo>
                    <a:pt x="44" y="2584"/>
                  </a:lnTo>
                  <a:lnTo>
                    <a:pt x="41" y="2591"/>
                  </a:lnTo>
                  <a:lnTo>
                    <a:pt x="38" y="2601"/>
                  </a:lnTo>
                  <a:lnTo>
                    <a:pt x="33" y="2609"/>
                  </a:lnTo>
                  <a:lnTo>
                    <a:pt x="30" y="2610"/>
                  </a:lnTo>
                  <a:lnTo>
                    <a:pt x="25" y="2610"/>
                  </a:lnTo>
                  <a:lnTo>
                    <a:pt x="22" y="2610"/>
                  </a:lnTo>
                  <a:lnTo>
                    <a:pt x="19" y="2610"/>
                  </a:lnTo>
                  <a:lnTo>
                    <a:pt x="18" y="2610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5826960" y="5096520"/>
              <a:ext cx="77760" cy="110520"/>
            </a:xfrm>
            <a:custGeom>
              <a:avLst/>
              <a:gdLst/>
              <a:ahLst/>
              <a:rect l="l" t="t" r="r" b="b"/>
              <a:pathLst>
                <a:path w="112" h="148">
                  <a:moveTo>
                    <a:pt x="0" y="114"/>
                  </a:moveTo>
                  <a:lnTo>
                    <a:pt x="0" y="106"/>
                  </a:lnTo>
                  <a:lnTo>
                    <a:pt x="2" y="98"/>
                  </a:lnTo>
                  <a:lnTo>
                    <a:pt x="8" y="89"/>
                  </a:lnTo>
                  <a:lnTo>
                    <a:pt x="25" y="72"/>
                  </a:lnTo>
                  <a:lnTo>
                    <a:pt x="37" y="55"/>
                  </a:lnTo>
                  <a:lnTo>
                    <a:pt x="39" y="50"/>
                  </a:lnTo>
                  <a:lnTo>
                    <a:pt x="39" y="47"/>
                  </a:lnTo>
                  <a:lnTo>
                    <a:pt x="39" y="44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2" y="37"/>
                  </a:lnTo>
                  <a:lnTo>
                    <a:pt x="45" y="36"/>
                  </a:lnTo>
                  <a:lnTo>
                    <a:pt x="51" y="34"/>
                  </a:lnTo>
                  <a:lnTo>
                    <a:pt x="65" y="27"/>
                  </a:lnTo>
                  <a:lnTo>
                    <a:pt x="78" y="17"/>
                  </a:lnTo>
                  <a:lnTo>
                    <a:pt x="89" y="9"/>
                  </a:lnTo>
                  <a:lnTo>
                    <a:pt x="92" y="6"/>
                  </a:lnTo>
                  <a:lnTo>
                    <a:pt x="96" y="3"/>
                  </a:lnTo>
                  <a:lnTo>
                    <a:pt x="100" y="2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7" y="2"/>
                  </a:lnTo>
                  <a:lnTo>
                    <a:pt x="109" y="5"/>
                  </a:lnTo>
                  <a:lnTo>
                    <a:pt x="110" y="9"/>
                  </a:lnTo>
                  <a:lnTo>
                    <a:pt x="112" y="23"/>
                  </a:lnTo>
                  <a:lnTo>
                    <a:pt x="109" y="36"/>
                  </a:lnTo>
                  <a:lnTo>
                    <a:pt x="101" y="50"/>
                  </a:lnTo>
                  <a:lnTo>
                    <a:pt x="92" y="56"/>
                  </a:lnTo>
                  <a:lnTo>
                    <a:pt x="83" y="61"/>
                  </a:lnTo>
                  <a:lnTo>
                    <a:pt x="73" y="64"/>
                  </a:lnTo>
                  <a:lnTo>
                    <a:pt x="67" y="68"/>
                  </a:lnTo>
                  <a:lnTo>
                    <a:pt x="67" y="76"/>
                  </a:lnTo>
                  <a:lnTo>
                    <a:pt x="73" y="86"/>
                  </a:lnTo>
                  <a:lnTo>
                    <a:pt x="79" y="93"/>
                  </a:lnTo>
                  <a:lnTo>
                    <a:pt x="83" y="100"/>
                  </a:lnTo>
                  <a:lnTo>
                    <a:pt x="84" y="109"/>
                  </a:lnTo>
                  <a:lnTo>
                    <a:pt x="81" y="120"/>
                  </a:lnTo>
                  <a:lnTo>
                    <a:pt x="73" y="128"/>
                  </a:lnTo>
                  <a:lnTo>
                    <a:pt x="62" y="134"/>
                  </a:lnTo>
                  <a:lnTo>
                    <a:pt x="48" y="137"/>
                  </a:lnTo>
                  <a:lnTo>
                    <a:pt x="39" y="138"/>
                  </a:lnTo>
                  <a:lnTo>
                    <a:pt x="33" y="143"/>
                  </a:lnTo>
                  <a:lnTo>
                    <a:pt x="27" y="148"/>
                  </a:lnTo>
                  <a:lnTo>
                    <a:pt x="20" y="148"/>
                  </a:lnTo>
                  <a:lnTo>
                    <a:pt x="14" y="145"/>
                  </a:lnTo>
                  <a:lnTo>
                    <a:pt x="6" y="135"/>
                  </a:lnTo>
                  <a:lnTo>
                    <a:pt x="3" y="126"/>
                  </a:lnTo>
                  <a:lnTo>
                    <a:pt x="0" y="117"/>
                  </a:lnTo>
                  <a:lnTo>
                    <a:pt x="0" y="114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4732560" y="5108400"/>
              <a:ext cx="38880" cy="5832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3" y="77"/>
                  </a:moveTo>
                  <a:lnTo>
                    <a:pt x="0" y="65"/>
                  </a:lnTo>
                  <a:lnTo>
                    <a:pt x="1" y="48"/>
                  </a:lnTo>
                  <a:lnTo>
                    <a:pt x="4" y="34"/>
                  </a:lnTo>
                  <a:lnTo>
                    <a:pt x="6" y="26"/>
                  </a:lnTo>
                  <a:lnTo>
                    <a:pt x="6" y="17"/>
                  </a:lnTo>
                  <a:lnTo>
                    <a:pt x="6" y="9"/>
                  </a:lnTo>
                  <a:lnTo>
                    <a:pt x="7" y="3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32" y="4"/>
                  </a:lnTo>
                  <a:lnTo>
                    <a:pt x="45" y="7"/>
                  </a:lnTo>
                  <a:lnTo>
                    <a:pt x="52" y="12"/>
                  </a:lnTo>
                  <a:lnTo>
                    <a:pt x="56" y="18"/>
                  </a:lnTo>
                  <a:lnTo>
                    <a:pt x="52" y="28"/>
                  </a:lnTo>
                  <a:lnTo>
                    <a:pt x="45" y="40"/>
                  </a:lnTo>
                  <a:lnTo>
                    <a:pt x="35" y="52"/>
                  </a:lnTo>
                  <a:lnTo>
                    <a:pt x="28" y="62"/>
                  </a:lnTo>
                  <a:lnTo>
                    <a:pt x="21" y="70"/>
                  </a:lnTo>
                  <a:lnTo>
                    <a:pt x="12" y="74"/>
                  </a:lnTo>
                  <a:lnTo>
                    <a:pt x="6" y="77"/>
                  </a:lnTo>
                  <a:lnTo>
                    <a:pt x="3" y="77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4752000" y="5012640"/>
              <a:ext cx="55800" cy="95400"/>
            </a:xfrm>
            <a:custGeom>
              <a:avLst/>
              <a:gdLst/>
              <a:ahLst/>
              <a:rect l="l" t="t" r="r" b="b"/>
              <a:pathLst>
                <a:path w="79" h="128">
                  <a:moveTo>
                    <a:pt x="0" y="109"/>
                  </a:moveTo>
                  <a:lnTo>
                    <a:pt x="3" y="97"/>
                  </a:lnTo>
                  <a:lnTo>
                    <a:pt x="7" y="84"/>
                  </a:lnTo>
                  <a:lnTo>
                    <a:pt x="12" y="70"/>
                  </a:lnTo>
                  <a:lnTo>
                    <a:pt x="14" y="59"/>
                  </a:lnTo>
                  <a:lnTo>
                    <a:pt x="14" y="49"/>
                  </a:lnTo>
                  <a:lnTo>
                    <a:pt x="14" y="39"/>
                  </a:lnTo>
                  <a:lnTo>
                    <a:pt x="15" y="30"/>
                  </a:lnTo>
                  <a:lnTo>
                    <a:pt x="21" y="24"/>
                  </a:lnTo>
                  <a:lnTo>
                    <a:pt x="35" y="16"/>
                  </a:lnTo>
                  <a:lnTo>
                    <a:pt x="46" y="11"/>
                  </a:lnTo>
                  <a:lnTo>
                    <a:pt x="55" y="5"/>
                  </a:lnTo>
                  <a:lnTo>
                    <a:pt x="59" y="3"/>
                  </a:lnTo>
                  <a:lnTo>
                    <a:pt x="63" y="2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2"/>
                  </a:lnTo>
                  <a:lnTo>
                    <a:pt x="77" y="3"/>
                  </a:lnTo>
                  <a:lnTo>
                    <a:pt x="79" y="8"/>
                  </a:lnTo>
                  <a:lnTo>
                    <a:pt x="79" y="13"/>
                  </a:lnTo>
                  <a:lnTo>
                    <a:pt x="77" y="33"/>
                  </a:lnTo>
                  <a:lnTo>
                    <a:pt x="73" y="53"/>
                  </a:lnTo>
                  <a:lnTo>
                    <a:pt x="63" y="73"/>
                  </a:lnTo>
                  <a:lnTo>
                    <a:pt x="54" y="84"/>
                  </a:lnTo>
                  <a:lnTo>
                    <a:pt x="45" y="92"/>
                  </a:lnTo>
                  <a:lnTo>
                    <a:pt x="38" y="98"/>
                  </a:lnTo>
                  <a:lnTo>
                    <a:pt x="37" y="106"/>
                  </a:lnTo>
                  <a:lnTo>
                    <a:pt x="37" y="111"/>
                  </a:lnTo>
                  <a:lnTo>
                    <a:pt x="37" y="115"/>
                  </a:lnTo>
                  <a:lnTo>
                    <a:pt x="37" y="120"/>
                  </a:lnTo>
                  <a:lnTo>
                    <a:pt x="37" y="123"/>
                  </a:lnTo>
                  <a:lnTo>
                    <a:pt x="37" y="126"/>
                  </a:lnTo>
                  <a:lnTo>
                    <a:pt x="34" y="128"/>
                  </a:lnTo>
                  <a:lnTo>
                    <a:pt x="32" y="128"/>
                  </a:lnTo>
                  <a:lnTo>
                    <a:pt x="28" y="128"/>
                  </a:lnTo>
                  <a:lnTo>
                    <a:pt x="18" y="125"/>
                  </a:lnTo>
                  <a:lnTo>
                    <a:pt x="9" y="118"/>
                  </a:lnTo>
                  <a:lnTo>
                    <a:pt x="3" y="112"/>
                  </a:lnTo>
                  <a:lnTo>
                    <a:pt x="0" y="109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550120" y="4626720"/>
              <a:ext cx="45720" cy="5688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0" y="42"/>
                  </a:moveTo>
                  <a:lnTo>
                    <a:pt x="3" y="50"/>
                  </a:lnTo>
                  <a:lnTo>
                    <a:pt x="7" y="60"/>
                  </a:lnTo>
                  <a:lnTo>
                    <a:pt x="12" y="68"/>
                  </a:lnTo>
                  <a:lnTo>
                    <a:pt x="20" y="74"/>
                  </a:lnTo>
                  <a:lnTo>
                    <a:pt x="29" y="73"/>
                  </a:lnTo>
                  <a:lnTo>
                    <a:pt x="40" y="67"/>
                  </a:lnTo>
                  <a:lnTo>
                    <a:pt x="52" y="59"/>
                  </a:lnTo>
                  <a:lnTo>
                    <a:pt x="60" y="50"/>
                  </a:lnTo>
                  <a:lnTo>
                    <a:pt x="65" y="39"/>
                  </a:lnTo>
                  <a:lnTo>
                    <a:pt x="62" y="29"/>
                  </a:lnTo>
                  <a:lnTo>
                    <a:pt x="55" y="20"/>
                  </a:lnTo>
                  <a:lnTo>
                    <a:pt x="49" y="11"/>
                  </a:lnTo>
                  <a:lnTo>
                    <a:pt x="43" y="3"/>
                  </a:lnTo>
                  <a:lnTo>
                    <a:pt x="35" y="0"/>
                  </a:lnTo>
                  <a:lnTo>
                    <a:pt x="24" y="3"/>
                  </a:lnTo>
                  <a:lnTo>
                    <a:pt x="15" y="11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39"/>
                  </a:lnTo>
                  <a:lnTo>
                    <a:pt x="0" y="42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522120" y="4115160"/>
              <a:ext cx="83160" cy="14940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7" y="199"/>
                  </a:moveTo>
                  <a:lnTo>
                    <a:pt x="7" y="197"/>
                  </a:lnTo>
                  <a:lnTo>
                    <a:pt x="7" y="196"/>
                  </a:lnTo>
                  <a:lnTo>
                    <a:pt x="12" y="185"/>
                  </a:lnTo>
                  <a:lnTo>
                    <a:pt x="21" y="172"/>
                  </a:lnTo>
                  <a:lnTo>
                    <a:pt x="29" y="155"/>
                  </a:lnTo>
                  <a:lnTo>
                    <a:pt x="34" y="146"/>
                  </a:lnTo>
                  <a:lnTo>
                    <a:pt x="38" y="138"/>
                  </a:lnTo>
                  <a:lnTo>
                    <a:pt x="40" y="134"/>
                  </a:lnTo>
                  <a:lnTo>
                    <a:pt x="37" y="131"/>
                  </a:lnTo>
                  <a:lnTo>
                    <a:pt x="29" y="126"/>
                  </a:lnTo>
                  <a:lnTo>
                    <a:pt x="18" y="123"/>
                  </a:lnTo>
                  <a:lnTo>
                    <a:pt x="9" y="121"/>
                  </a:lnTo>
                  <a:lnTo>
                    <a:pt x="3" y="118"/>
                  </a:lnTo>
                  <a:lnTo>
                    <a:pt x="0" y="113"/>
                  </a:lnTo>
                  <a:lnTo>
                    <a:pt x="1" y="106"/>
                  </a:lnTo>
                  <a:lnTo>
                    <a:pt x="7" y="93"/>
                  </a:lnTo>
                  <a:lnTo>
                    <a:pt x="26" y="65"/>
                  </a:lnTo>
                  <a:lnTo>
                    <a:pt x="43" y="40"/>
                  </a:lnTo>
                  <a:lnTo>
                    <a:pt x="62" y="23"/>
                  </a:lnTo>
                  <a:lnTo>
                    <a:pt x="66" y="20"/>
                  </a:lnTo>
                  <a:lnTo>
                    <a:pt x="69" y="16"/>
                  </a:lnTo>
                  <a:lnTo>
                    <a:pt x="73" y="11"/>
                  </a:lnTo>
                  <a:lnTo>
                    <a:pt x="76" y="8"/>
                  </a:lnTo>
                  <a:lnTo>
                    <a:pt x="77" y="3"/>
                  </a:lnTo>
                  <a:lnTo>
                    <a:pt x="79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5"/>
                  </a:lnTo>
                  <a:lnTo>
                    <a:pt x="83" y="9"/>
                  </a:lnTo>
                  <a:lnTo>
                    <a:pt x="83" y="28"/>
                  </a:lnTo>
                  <a:lnTo>
                    <a:pt x="82" y="47"/>
                  </a:lnTo>
                  <a:lnTo>
                    <a:pt x="80" y="65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83" y="98"/>
                  </a:lnTo>
                  <a:lnTo>
                    <a:pt x="91" y="101"/>
                  </a:lnTo>
                  <a:lnTo>
                    <a:pt x="99" y="103"/>
                  </a:lnTo>
                  <a:lnTo>
                    <a:pt x="108" y="106"/>
                  </a:lnTo>
                  <a:lnTo>
                    <a:pt x="116" y="109"/>
                  </a:lnTo>
                  <a:lnTo>
                    <a:pt x="119" y="113"/>
                  </a:lnTo>
                  <a:lnTo>
                    <a:pt x="119" y="121"/>
                  </a:lnTo>
                  <a:lnTo>
                    <a:pt x="111" y="134"/>
                  </a:lnTo>
                  <a:lnTo>
                    <a:pt x="101" y="149"/>
                  </a:lnTo>
                  <a:lnTo>
                    <a:pt x="87" y="165"/>
                  </a:lnTo>
                  <a:lnTo>
                    <a:pt x="73" y="179"/>
                  </a:lnTo>
                  <a:lnTo>
                    <a:pt x="59" y="190"/>
                  </a:lnTo>
                  <a:lnTo>
                    <a:pt x="46" y="197"/>
                  </a:lnTo>
                  <a:lnTo>
                    <a:pt x="31" y="200"/>
                  </a:lnTo>
                  <a:lnTo>
                    <a:pt x="18" y="200"/>
                  </a:lnTo>
                  <a:lnTo>
                    <a:pt x="10" y="199"/>
                  </a:lnTo>
                  <a:lnTo>
                    <a:pt x="7" y="199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6791400" y="2208240"/>
              <a:ext cx="1065960" cy="1106640"/>
            </a:xfrm>
            <a:custGeom>
              <a:avLst/>
              <a:gdLst/>
              <a:ahLst/>
              <a:rect l="l" t="t" r="r" b="b"/>
              <a:pathLst>
                <a:path w="1535" h="1480">
                  <a:moveTo>
                    <a:pt x="129" y="1477"/>
                  </a:moveTo>
                  <a:lnTo>
                    <a:pt x="117" y="1477"/>
                  </a:lnTo>
                  <a:lnTo>
                    <a:pt x="106" y="1479"/>
                  </a:lnTo>
                  <a:lnTo>
                    <a:pt x="97" y="1480"/>
                  </a:lnTo>
                  <a:lnTo>
                    <a:pt x="87" y="1479"/>
                  </a:lnTo>
                  <a:lnTo>
                    <a:pt x="81" y="1471"/>
                  </a:lnTo>
                  <a:lnTo>
                    <a:pt x="76" y="1458"/>
                  </a:lnTo>
                  <a:lnTo>
                    <a:pt x="72" y="1440"/>
                  </a:lnTo>
                  <a:lnTo>
                    <a:pt x="67" y="1424"/>
                  </a:lnTo>
                  <a:lnTo>
                    <a:pt x="62" y="1410"/>
                  </a:lnTo>
                  <a:lnTo>
                    <a:pt x="62" y="1396"/>
                  </a:lnTo>
                  <a:lnTo>
                    <a:pt x="67" y="1381"/>
                  </a:lnTo>
                  <a:lnTo>
                    <a:pt x="76" y="1365"/>
                  </a:lnTo>
                  <a:lnTo>
                    <a:pt x="84" y="1354"/>
                  </a:lnTo>
                  <a:lnTo>
                    <a:pt x="92" y="1345"/>
                  </a:lnTo>
                  <a:lnTo>
                    <a:pt x="98" y="1333"/>
                  </a:lnTo>
                  <a:lnTo>
                    <a:pt x="101" y="1316"/>
                  </a:lnTo>
                  <a:lnTo>
                    <a:pt x="106" y="1297"/>
                  </a:lnTo>
                  <a:lnTo>
                    <a:pt x="108" y="1283"/>
                  </a:lnTo>
                  <a:lnTo>
                    <a:pt x="108" y="1271"/>
                  </a:lnTo>
                  <a:lnTo>
                    <a:pt x="104" y="1260"/>
                  </a:lnTo>
                  <a:lnTo>
                    <a:pt x="94" y="1247"/>
                  </a:lnTo>
                  <a:lnTo>
                    <a:pt x="80" y="1240"/>
                  </a:lnTo>
                  <a:lnTo>
                    <a:pt x="69" y="1235"/>
                  </a:lnTo>
                  <a:lnTo>
                    <a:pt x="59" y="1233"/>
                  </a:lnTo>
                  <a:lnTo>
                    <a:pt x="52" y="1230"/>
                  </a:lnTo>
                  <a:lnTo>
                    <a:pt x="45" y="1222"/>
                  </a:lnTo>
                  <a:lnTo>
                    <a:pt x="38" y="1210"/>
                  </a:lnTo>
                  <a:lnTo>
                    <a:pt x="27" y="1199"/>
                  </a:lnTo>
                  <a:lnTo>
                    <a:pt x="17" y="1188"/>
                  </a:lnTo>
                  <a:lnTo>
                    <a:pt x="8" y="1173"/>
                  </a:lnTo>
                  <a:lnTo>
                    <a:pt x="2" y="1160"/>
                  </a:lnTo>
                  <a:lnTo>
                    <a:pt x="0" y="1153"/>
                  </a:lnTo>
                  <a:lnTo>
                    <a:pt x="0" y="1146"/>
                  </a:lnTo>
                  <a:lnTo>
                    <a:pt x="2" y="1139"/>
                  </a:lnTo>
                  <a:lnTo>
                    <a:pt x="8" y="1131"/>
                  </a:lnTo>
                  <a:lnTo>
                    <a:pt x="14" y="1115"/>
                  </a:lnTo>
                  <a:lnTo>
                    <a:pt x="21" y="1098"/>
                  </a:lnTo>
                  <a:lnTo>
                    <a:pt x="22" y="1078"/>
                  </a:lnTo>
                  <a:lnTo>
                    <a:pt x="24" y="1063"/>
                  </a:lnTo>
                  <a:lnTo>
                    <a:pt x="22" y="1050"/>
                  </a:lnTo>
                  <a:lnTo>
                    <a:pt x="21" y="1042"/>
                  </a:lnTo>
                  <a:lnTo>
                    <a:pt x="21" y="1035"/>
                  </a:lnTo>
                  <a:lnTo>
                    <a:pt x="25" y="1028"/>
                  </a:lnTo>
                  <a:lnTo>
                    <a:pt x="33" y="1025"/>
                  </a:lnTo>
                  <a:lnTo>
                    <a:pt x="45" y="1024"/>
                  </a:lnTo>
                  <a:lnTo>
                    <a:pt x="58" y="1024"/>
                  </a:lnTo>
                  <a:lnTo>
                    <a:pt x="69" y="1024"/>
                  </a:lnTo>
                  <a:lnTo>
                    <a:pt x="78" y="1021"/>
                  </a:lnTo>
                  <a:lnTo>
                    <a:pt x="87" y="1013"/>
                  </a:lnTo>
                  <a:lnTo>
                    <a:pt x="94" y="1002"/>
                  </a:lnTo>
                  <a:lnTo>
                    <a:pt x="95" y="991"/>
                  </a:lnTo>
                  <a:lnTo>
                    <a:pt x="98" y="982"/>
                  </a:lnTo>
                  <a:lnTo>
                    <a:pt x="100" y="976"/>
                  </a:lnTo>
                  <a:lnTo>
                    <a:pt x="104" y="972"/>
                  </a:lnTo>
                  <a:lnTo>
                    <a:pt x="111" y="976"/>
                  </a:lnTo>
                  <a:lnTo>
                    <a:pt x="120" y="983"/>
                  </a:lnTo>
                  <a:lnTo>
                    <a:pt x="126" y="991"/>
                  </a:lnTo>
                  <a:lnTo>
                    <a:pt x="131" y="996"/>
                  </a:lnTo>
                  <a:lnTo>
                    <a:pt x="134" y="997"/>
                  </a:lnTo>
                  <a:lnTo>
                    <a:pt x="137" y="993"/>
                  </a:lnTo>
                  <a:lnTo>
                    <a:pt x="139" y="986"/>
                  </a:lnTo>
                  <a:lnTo>
                    <a:pt x="139" y="980"/>
                  </a:lnTo>
                  <a:lnTo>
                    <a:pt x="139" y="974"/>
                  </a:lnTo>
                  <a:lnTo>
                    <a:pt x="139" y="966"/>
                  </a:lnTo>
                  <a:lnTo>
                    <a:pt x="143" y="957"/>
                  </a:lnTo>
                  <a:lnTo>
                    <a:pt x="153" y="946"/>
                  </a:lnTo>
                  <a:lnTo>
                    <a:pt x="167" y="934"/>
                  </a:lnTo>
                  <a:lnTo>
                    <a:pt x="177" y="927"/>
                  </a:lnTo>
                  <a:lnTo>
                    <a:pt x="185" y="921"/>
                  </a:lnTo>
                  <a:lnTo>
                    <a:pt x="190" y="915"/>
                  </a:lnTo>
                  <a:lnTo>
                    <a:pt x="191" y="904"/>
                  </a:lnTo>
                  <a:lnTo>
                    <a:pt x="185" y="889"/>
                  </a:lnTo>
                  <a:lnTo>
                    <a:pt x="174" y="875"/>
                  </a:lnTo>
                  <a:lnTo>
                    <a:pt x="162" y="862"/>
                  </a:lnTo>
                  <a:lnTo>
                    <a:pt x="149" y="850"/>
                  </a:lnTo>
                  <a:lnTo>
                    <a:pt x="143" y="839"/>
                  </a:lnTo>
                  <a:lnTo>
                    <a:pt x="142" y="826"/>
                  </a:lnTo>
                  <a:lnTo>
                    <a:pt x="142" y="816"/>
                  </a:lnTo>
                  <a:lnTo>
                    <a:pt x="143" y="803"/>
                  </a:lnTo>
                  <a:lnTo>
                    <a:pt x="151" y="794"/>
                  </a:lnTo>
                  <a:lnTo>
                    <a:pt x="162" y="786"/>
                  </a:lnTo>
                  <a:lnTo>
                    <a:pt x="173" y="780"/>
                  </a:lnTo>
                  <a:lnTo>
                    <a:pt x="181" y="778"/>
                  </a:lnTo>
                  <a:lnTo>
                    <a:pt x="187" y="780"/>
                  </a:lnTo>
                  <a:lnTo>
                    <a:pt x="195" y="785"/>
                  </a:lnTo>
                  <a:lnTo>
                    <a:pt x="204" y="792"/>
                  </a:lnTo>
                  <a:lnTo>
                    <a:pt x="218" y="803"/>
                  </a:lnTo>
                  <a:lnTo>
                    <a:pt x="230" y="814"/>
                  </a:lnTo>
                  <a:lnTo>
                    <a:pt x="241" y="823"/>
                  </a:lnTo>
                  <a:lnTo>
                    <a:pt x="257" y="830"/>
                  </a:lnTo>
                  <a:lnTo>
                    <a:pt x="277" y="831"/>
                  </a:lnTo>
                  <a:lnTo>
                    <a:pt x="294" y="830"/>
                  </a:lnTo>
                  <a:lnTo>
                    <a:pt x="309" y="828"/>
                  </a:lnTo>
                  <a:lnTo>
                    <a:pt x="323" y="833"/>
                  </a:lnTo>
                  <a:lnTo>
                    <a:pt x="337" y="842"/>
                  </a:lnTo>
                  <a:lnTo>
                    <a:pt x="348" y="850"/>
                  </a:lnTo>
                  <a:lnTo>
                    <a:pt x="361" y="851"/>
                  </a:lnTo>
                  <a:lnTo>
                    <a:pt x="372" y="847"/>
                  </a:lnTo>
                  <a:lnTo>
                    <a:pt x="382" y="833"/>
                  </a:lnTo>
                  <a:lnTo>
                    <a:pt x="392" y="823"/>
                  </a:lnTo>
                  <a:lnTo>
                    <a:pt x="403" y="816"/>
                  </a:lnTo>
                  <a:lnTo>
                    <a:pt x="410" y="808"/>
                  </a:lnTo>
                  <a:lnTo>
                    <a:pt x="417" y="797"/>
                  </a:lnTo>
                  <a:lnTo>
                    <a:pt x="420" y="783"/>
                  </a:lnTo>
                  <a:lnTo>
                    <a:pt x="418" y="771"/>
                  </a:lnTo>
                  <a:lnTo>
                    <a:pt x="417" y="760"/>
                  </a:lnTo>
                  <a:lnTo>
                    <a:pt x="415" y="752"/>
                  </a:lnTo>
                  <a:lnTo>
                    <a:pt x="412" y="741"/>
                  </a:lnTo>
                  <a:lnTo>
                    <a:pt x="409" y="724"/>
                  </a:lnTo>
                  <a:lnTo>
                    <a:pt x="404" y="702"/>
                  </a:lnTo>
                  <a:lnTo>
                    <a:pt x="398" y="685"/>
                  </a:lnTo>
                  <a:lnTo>
                    <a:pt x="395" y="671"/>
                  </a:lnTo>
                  <a:lnTo>
                    <a:pt x="395" y="656"/>
                  </a:lnTo>
                  <a:lnTo>
                    <a:pt x="395" y="643"/>
                  </a:lnTo>
                  <a:lnTo>
                    <a:pt x="395" y="635"/>
                  </a:lnTo>
                  <a:lnTo>
                    <a:pt x="398" y="628"/>
                  </a:lnTo>
                  <a:lnTo>
                    <a:pt x="407" y="620"/>
                  </a:lnTo>
                  <a:lnTo>
                    <a:pt x="421" y="614"/>
                  </a:lnTo>
                  <a:lnTo>
                    <a:pt x="434" y="609"/>
                  </a:lnTo>
                  <a:lnTo>
                    <a:pt x="443" y="604"/>
                  </a:lnTo>
                  <a:lnTo>
                    <a:pt x="451" y="595"/>
                  </a:lnTo>
                  <a:lnTo>
                    <a:pt x="460" y="576"/>
                  </a:lnTo>
                  <a:lnTo>
                    <a:pt x="468" y="558"/>
                  </a:lnTo>
                  <a:lnTo>
                    <a:pt x="469" y="539"/>
                  </a:lnTo>
                  <a:lnTo>
                    <a:pt x="468" y="516"/>
                  </a:lnTo>
                  <a:lnTo>
                    <a:pt x="465" y="491"/>
                  </a:lnTo>
                  <a:lnTo>
                    <a:pt x="465" y="466"/>
                  </a:lnTo>
                  <a:lnTo>
                    <a:pt x="466" y="451"/>
                  </a:lnTo>
                  <a:lnTo>
                    <a:pt x="466" y="440"/>
                  </a:lnTo>
                  <a:lnTo>
                    <a:pt x="469" y="427"/>
                  </a:lnTo>
                  <a:lnTo>
                    <a:pt x="476" y="415"/>
                  </a:lnTo>
                  <a:lnTo>
                    <a:pt x="485" y="395"/>
                  </a:lnTo>
                  <a:lnTo>
                    <a:pt x="490" y="375"/>
                  </a:lnTo>
                  <a:lnTo>
                    <a:pt x="491" y="353"/>
                  </a:lnTo>
                  <a:lnTo>
                    <a:pt x="493" y="334"/>
                  </a:lnTo>
                  <a:lnTo>
                    <a:pt x="494" y="309"/>
                  </a:lnTo>
                  <a:lnTo>
                    <a:pt x="496" y="286"/>
                  </a:lnTo>
                  <a:lnTo>
                    <a:pt x="491" y="264"/>
                  </a:lnTo>
                  <a:lnTo>
                    <a:pt x="483" y="241"/>
                  </a:lnTo>
                  <a:lnTo>
                    <a:pt x="474" y="219"/>
                  </a:lnTo>
                  <a:lnTo>
                    <a:pt x="460" y="193"/>
                  </a:lnTo>
                  <a:lnTo>
                    <a:pt x="449" y="173"/>
                  </a:lnTo>
                  <a:lnTo>
                    <a:pt x="438" y="154"/>
                  </a:lnTo>
                  <a:lnTo>
                    <a:pt x="431" y="139"/>
                  </a:lnTo>
                  <a:lnTo>
                    <a:pt x="428" y="126"/>
                  </a:lnTo>
                  <a:lnTo>
                    <a:pt x="426" y="111"/>
                  </a:lnTo>
                  <a:lnTo>
                    <a:pt x="428" y="95"/>
                  </a:lnTo>
                  <a:lnTo>
                    <a:pt x="435" y="78"/>
                  </a:lnTo>
                  <a:lnTo>
                    <a:pt x="438" y="69"/>
                  </a:lnTo>
                  <a:lnTo>
                    <a:pt x="440" y="59"/>
                  </a:lnTo>
                  <a:lnTo>
                    <a:pt x="442" y="50"/>
                  </a:lnTo>
                  <a:lnTo>
                    <a:pt x="445" y="41"/>
                  </a:lnTo>
                  <a:lnTo>
                    <a:pt x="449" y="35"/>
                  </a:lnTo>
                  <a:lnTo>
                    <a:pt x="460" y="31"/>
                  </a:lnTo>
                  <a:lnTo>
                    <a:pt x="473" y="31"/>
                  </a:lnTo>
                  <a:lnTo>
                    <a:pt x="483" y="33"/>
                  </a:lnTo>
                  <a:lnTo>
                    <a:pt x="490" y="33"/>
                  </a:lnTo>
                  <a:lnTo>
                    <a:pt x="494" y="31"/>
                  </a:lnTo>
                  <a:lnTo>
                    <a:pt x="497" y="25"/>
                  </a:lnTo>
                  <a:lnTo>
                    <a:pt x="499" y="22"/>
                  </a:lnTo>
                  <a:lnTo>
                    <a:pt x="501" y="17"/>
                  </a:lnTo>
                  <a:lnTo>
                    <a:pt x="499" y="14"/>
                  </a:lnTo>
                  <a:lnTo>
                    <a:pt x="499" y="11"/>
                  </a:lnTo>
                  <a:lnTo>
                    <a:pt x="499" y="8"/>
                  </a:lnTo>
                  <a:lnTo>
                    <a:pt x="497" y="5"/>
                  </a:lnTo>
                  <a:lnTo>
                    <a:pt x="497" y="4"/>
                  </a:lnTo>
                  <a:lnTo>
                    <a:pt x="499" y="2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08" y="0"/>
                  </a:lnTo>
                  <a:lnTo>
                    <a:pt x="522" y="5"/>
                  </a:lnTo>
                  <a:lnTo>
                    <a:pt x="532" y="11"/>
                  </a:lnTo>
                  <a:lnTo>
                    <a:pt x="541" y="21"/>
                  </a:lnTo>
                  <a:lnTo>
                    <a:pt x="552" y="35"/>
                  </a:lnTo>
                  <a:lnTo>
                    <a:pt x="561" y="45"/>
                  </a:lnTo>
                  <a:lnTo>
                    <a:pt x="574" y="59"/>
                  </a:lnTo>
                  <a:lnTo>
                    <a:pt x="588" y="73"/>
                  </a:lnTo>
                  <a:lnTo>
                    <a:pt x="602" y="87"/>
                  </a:lnTo>
                  <a:lnTo>
                    <a:pt x="614" y="101"/>
                  </a:lnTo>
                  <a:lnTo>
                    <a:pt x="625" y="112"/>
                  </a:lnTo>
                  <a:lnTo>
                    <a:pt x="631" y="120"/>
                  </a:lnTo>
                  <a:lnTo>
                    <a:pt x="640" y="134"/>
                  </a:lnTo>
                  <a:lnTo>
                    <a:pt x="653" y="148"/>
                  </a:lnTo>
                  <a:lnTo>
                    <a:pt x="665" y="163"/>
                  </a:lnTo>
                  <a:lnTo>
                    <a:pt x="671" y="173"/>
                  </a:lnTo>
                  <a:lnTo>
                    <a:pt x="678" y="185"/>
                  </a:lnTo>
                  <a:lnTo>
                    <a:pt x="685" y="199"/>
                  </a:lnTo>
                  <a:lnTo>
                    <a:pt x="698" y="216"/>
                  </a:lnTo>
                  <a:lnTo>
                    <a:pt x="712" y="233"/>
                  </a:lnTo>
                  <a:lnTo>
                    <a:pt x="729" y="249"/>
                  </a:lnTo>
                  <a:lnTo>
                    <a:pt x="748" y="263"/>
                  </a:lnTo>
                  <a:lnTo>
                    <a:pt x="765" y="275"/>
                  </a:lnTo>
                  <a:lnTo>
                    <a:pt x="777" y="285"/>
                  </a:lnTo>
                  <a:lnTo>
                    <a:pt x="791" y="300"/>
                  </a:lnTo>
                  <a:lnTo>
                    <a:pt x="805" y="320"/>
                  </a:lnTo>
                  <a:lnTo>
                    <a:pt x="816" y="337"/>
                  </a:lnTo>
                  <a:lnTo>
                    <a:pt x="827" y="347"/>
                  </a:lnTo>
                  <a:lnTo>
                    <a:pt x="842" y="353"/>
                  </a:lnTo>
                  <a:lnTo>
                    <a:pt x="861" y="362"/>
                  </a:lnTo>
                  <a:lnTo>
                    <a:pt x="880" y="372"/>
                  </a:lnTo>
                  <a:lnTo>
                    <a:pt x="894" y="385"/>
                  </a:lnTo>
                  <a:lnTo>
                    <a:pt x="904" y="398"/>
                  </a:lnTo>
                  <a:lnTo>
                    <a:pt x="912" y="407"/>
                  </a:lnTo>
                  <a:lnTo>
                    <a:pt x="918" y="413"/>
                  </a:lnTo>
                  <a:lnTo>
                    <a:pt x="928" y="420"/>
                  </a:lnTo>
                  <a:lnTo>
                    <a:pt x="940" y="424"/>
                  </a:lnTo>
                  <a:lnTo>
                    <a:pt x="954" y="429"/>
                  </a:lnTo>
                  <a:lnTo>
                    <a:pt x="967" y="429"/>
                  </a:lnTo>
                  <a:lnTo>
                    <a:pt x="976" y="431"/>
                  </a:lnTo>
                  <a:lnTo>
                    <a:pt x="984" y="431"/>
                  </a:lnTo>
                  <a:lnTo>
                    <a:pt x="988" y="434"/>
                  </a:lnTo>
                  <a:lnTo>
                    <a:pt x="990" y="441"/>
                  </a:lnTo>
                  <a:lnTo>
                    <a:pt x="988" y="452"/>
                  </a:lnTo>
                  <a:lnTo>
                    <a:pt x="985" y="460"/>
                  </a:lnTo>
                  <a:lnTo>
                    <a:pt x="984" y="468"/>
                  </a:lnTo>
                  <a:lnTo>
                    <a:pt x="985" y="474"/>
                  </a:lnTo>
                  <a:lnTo>
                    <a:pt x="995" y="479"/>
                  </a:lnTo>
                  <a:lnTo>
                    <a:pt x="1018" y="482"/>
                  </a:lnTo>
                  <a:lnTo>
                    <a:pt x="1038" y="479"/>
                  </a:lnTo>
                  <a:lnTo>
                    <a:pt x="1058" y="471"/>
                  </a:lnTo>
                  <a:lnTo>
                    <a:pt x="1071" y="463"/>
                  </a:lnTo>
                  <a:lnTo>
                    <a:pt x="1082" y="460"/>
                  </a:lnTo>
                  <a:lnTo>
                    <a:pt x="1091" y="460"/>
                  </a:lnTo>
                  <a:lnTo>
                    <a:pt x="1099" y="465"/>
                  </a:lnTo>
                  <a:lnTo>
                    <a:pt x="1099" y="471"/>
                  </a:lnTo>
                  <a:lnTo>
                    <a:pt x="1097" y="480"/>
                  </a:lnTo>
                  <a:lnTo>
                    <a:pt x="1092" y="488"/>
                  </a:lnTo>
                  <a:lnTo>
                    <a:pt x="1089" y="494"/>
                  </a:lnTo>
                  <a:lnTo>
                    <a:pt x="1089" y="499"/>
                  </a:lnTo>
                  <a:lnTo>
                    <a:pt x="1094" y="500"/>
                  </a:lnTo>
                  <a:lnTo>
                    <a:pt x="1102" y="496"/>
                  </a:lnTo>
                  <a:lnTo>
                    <a:pt x="1106" y="486"/>
                  </a:lnTo>
                  <a:lnTo>
                    <a:pt x="1111" y="476"/>
                  </a:lnTo>
                  <a:lnTo>
                    <a:pt x="1117" y="468"/>
                  </a:lnTo>
                  <a:lnTo>
                    <a:pt x="1123" y="465"/>
                  </a:lnTo>
                  <a:lnTo>
                    <a:pt x="1130" y="468"/>
                  </a:lnTo>
                  <a:lnTo>
                    <a:pt x="1133" y="472"/>
                  </a:lnTo>
                  <a:lnTo>
                    <a:pt x="1134" y="480"/>
                  </a:lnTo>
                  <a:lnTo>
                    <a:pt x="1137" y="488"/>
                  </a:lnTo>
                  <a:lnTo>
                    <a:pt x="1145" y="499"/>
                  </a:lnTo>
                  <a:lnTo>
                    <a:pt x="1159" y="513"/>
                  </a:lnTo>
                  <a:lnTo>
                    <a:pt x="1178" y="519"/>
                  </a:lnTo>
                  <a:lnTo>
                    <a:pt x="1200" y="521"/>
                  </a:lnTo>
                  <a:lnTo>
                    <a:pt x="1218" y="524"/>
                  </a:lnTo>
                  <a:lnTo>
                    <a:pt x="1235" y="527"/>
                  </a:lnTo>
                  <a:lnTo>
                    <a:pt x="1251" y="528"/>
                  </a:lnTo>
                  <a:lnTo>
                    <a:pt x="1263" y="524"/>
                  </a:lnTo>
                  <a:lnTo>
                    <a:pt x="1271" y="519"/>
                  </a:lnTo>
                  <a:lnTo>
                    <a:pt x="1277" y="514"/>
                  </a:lnTo>
                  <a:lnTo>
                    <a:pt x="1283" y="508"/>
                  </a:lnTo>
                  <a:lnTo>
                    <a:pt x="1290" y="500"/>
                  </a:lnTo>
                  <a:lnTo>
                    <a:pt x="1299" y="488"/>
                  </a:lnTo>
                  <a:lnTo>
                    <a:pt x="1313" y="472"/>
                  </a:lnTo>
                  <a:lnTo>
                    <a:pt x="1322" y="458"/>
                  </a:lnTo>
                  <a:lnTo>
                    <a:pt x="1332" y="448"/>
                  </a:lnTo>
                  <a:lnTo>
                    <a:pt x="1339" y="437"/>
                  </a:lnTo>
                  <a:lnTo>
                    <a:pt x="1350" y="423"/>
                  </a:lnTo>
                  <a:lnTo>
                    <a:pt x="1363" y="409"/>
                  </a:lnTo>
                  <a:lnTo>
                    <a:pt x="1374" y="393"/>
                  </a:lnTo>
                  <a:lnTo>
                    <a:pt x="1381" y="381"/>
                  </a:lnTo>
                  <a:lnTo>
                    <a:pt x="1384" y="376"/>
                  </a:lnTo>
                  <a:lnTo>
                    <a:pt x="1386" y="372"/>
                  </a:lnTo>
                  <a:lnTo>
                    <a:pt x="1388" y="368"/>
                  </a:lnTo>
                  <a:lnTo>
                    <a:pt x="1389" y="364"/>
                  </a:lnTo>
                  <a:lnTo>
                    <a:pt x="1391" y="361"/>
                  </a:lnTo>
                  <a:lnTo>
                    <a:pt x="1392" y="359"/>
                  </a:lnTo>
                  <a:lnTo>
                    <a:pt x="1394" y="359"/>
                  </a:lnTo>
                  <a:lnTo>
                    <a:pt x="1397" y="359"/>
                  </a:lnTo>
                  <a:lnTo>
                    <a:pt x="1398" y="361"/>
                  </a:lnTo>
                  <a:lnTo>
                    <a:pt x="1402" y="365"/>
                  </a:lnTo>
                  <a:lnTo>
                    <a:pt x="1411" y="379"/>
                  </a:lnTo>
                  <a:lnTo>
                    <a:pt x="1414" y="395"/>
                  </a:lnTo>
                  <a:lnTo>
                    <a:pt x="1411" y="409"/>
                  </a:lnTo>
                  <a:lnTo>
                    <a:pt x="1403" y="418"/>
                  </a:lnTo>
                  <a:lnTo>
                    <a:pt x="1395" y="429"/>
                  </a:lnTo>
                  <a:lnTo>
                    <a:pt x="1388" y="441"/>
                  </a:lnTo>
                  <a:lnTo>
                    <a:pt x="1383" y="455"/>
                  </a:lnTo>
                  <a:lnTo>
                    <a:pt x="1381" y="466"/>
                  </a:lnTo>
                  <a:lnTo>
                    <a:pt x="1375" y="476"/>
                  </a:lnTo>
                  <a:lnTo>
                    <a:pt x="1369" y="485"/>
                  </a:lnTo>
                  <a:lnTo>
                    <a:pt x="1364" y="499"/>
                  </a:lnTo>
                  <a:lnTo>
                    <a:pt x="1361" y="517"/>
                  </a:lnTo>
                  <a:lnTo>
                    <a:pt x="1358" y="536"/>
                  </a:lnTo>
                  <a:lnTo>
                    <a:pt x="1355" y="553"/>
                  </a:lnTo>
                  <a:lnTo>
                    <a:pt x="1350" y="564"/>
                  </a:lnTo>
                  <a:lnTo>
                    <a:pt x="1347" y="570"/>
                  </a:lnTo>
                  <a:lnTo>
                    <a:pt x="1342" y="575"/>
                  </a:lnTo>
                  <a:lnTo>
                    <a:pt x="1341" y="581"/>
                  </a:lnTo>
                  <a:lnTo>
                    <a:pt x="1344" y="587"/>
                  </a:lnTo>
                  <a:lnTo>
                    <a:pt x="1352" y="595"/>
                  </a:lnTo>
                  <a:lnTo>
                    <a:pt x="1363" y="608"/>
                  </a:lnTo>
                  <a:lnTo>
                    <a:pt x="1374" y="618"/>
                  </a:lnTo>
                  <a:lnTo>
                    <a:pt x="1383" y="628"/>
                  </a:lnTo>
                  <a:lnTo>
                    <a:pt x="1395" y="631"/>
                  </a:lnTo>
                  <a:lnTo>
                    <a:pt x="1398" y="631"/>
                  </a:lnTo>
                  <a:lnTo>
                    <a:pt x="1403" y="629"/>
                  </a:lnTo>
                  <a:lnTo>
                    <a:pt x="1406" y="629"/>
                  </a:lnTo>
                  <a:lnTo>
                    <a:pt x="1409" y="628"/>
                  </a:lnTo>
                  <a:lnTo>
                    <a:pt x="1412" y="628"/>
                  </a:lnTo>
                  <a:lnTo>
                    <a:pt x="1415" y="628"/>
                  </a:lnTo>
                  <a:lnTo>
                    <a:pt x="1417" y="628"/>
                  </a:lnTo>
                  <a:lnTo>
                    <a:pt x="1419" y="628"/>
                  </a:lnTo>
                  <a:lnTo>
                    <a:pt x="1420" y="631"/>
                  </a:lnTo>
                  <a:lnTo>
                    <a:pt x="1419" y="632"/>
                  </a:lnTo>
                  <a:lnTo>
                    <a:pt x="1419" y="637"/>
                  </a:lnTo>
                  <a:lnTo>
                    <a:pt x="1417" y="643"/>
                  </a:lnTo>
                  <a:lnTo>
                    <a:pt x="1414" y="660"/>
                  </a:lnTo>
                  <a:lnTo>
                    <a:pt x="1412" y="679"/>
                  </a:lnTo>
                  <a:lnTo>
                    <a:pt x="1414" y="696"/>
                  </a:lnTo>
                  <a:lnTo>
                    <a:pt x="1415" y="712"/>
                  </a:lnTo>
                  <a:lnTo>
                    <a:pt x="1415" y="719"/>
                  </a:lnTo>
                  <a:lnTo>
                    <a:pt x="1414" y="722"/>
                  </a:lnTo>
                  <a:lnTo>
                    <a:pt x="1412" y="726"/>
                  </a:lnTo>
                  <a:lnTo>
                    <a:pt x="1411" y="729"/>
                  </a:lnTo>
                  <a:lnTo>
                    <a:pt x="1411" y="730"/>
                  </a:lnTo>
                  <a:lnTo>
                    <a:pt x="1409" y="733"/>
                  </a:lnTo>
                  <a:lnTo>
                    <a:pt x="1411" y="736"/>
                  </a:lnTo>
                  <a:lnTo>
                    <a:pt x="1412" y="738"/>
                  </a:lnTo>
                  <a:lnTo>
                    <a:pt x="1415" y="740"/>
                  </a:lnTo>
                  <a:lnTo>
                    <a:pt x="1422" y="741"/>
                  </a:lnTo>
                  <a:lnTo>
                    <a:pt x="1440" y="744"/>
                  </a:lnTo>
                  <a:lnTo>
                    <a:pt x="1456" y="743"/>
                  </a:lnTo>
                  <a:lnTo>
                    <a:pt x="1467" y="736"/>
                  </a:lnTo>
                  <a:lnTo>
                    <a:pt x="1470" y="730"/>
                  </a:lnTo>
                  <a:lnTo>
                    <a:pt x="1473" y="722"/>
                  </a:lnTo>
                  <a:lnTo>
                    <a:pt x="1476" y="713"/>
                  </a:lnTo>
                  <a:lnTo>
                    <a:pt x="1481" y="704"/>
                  </a:lnTo>
                  <a:lnTo>
                    <a:pt x="1490" y="698"/>
                  </a:lnTo>
                  <a:lnTo>
                    <a:pt x="1499" y="693"/>
                  </a:lnTo>
                  <a:lnTo>
                    <a:pt x="1510" y="687"/>
                  </a:lnTo>
                  <a:lnTo>
                    <a:pt x="1518" y="684"/>
                  </a:lnTo>
                  <a:lnTo>
                    <a:pt x="1526" y="681"/>
                  </a:lnTo>
                  <a:lnTo>
                    <a:pt x="1532" y="682"/>
                  </a:lnTo>
                  <a:lnTo>
                    <a:pt x="1535" y="688"/>
                  </a:lnTo>
                  <a:lnTo>
                    <a:pt x="1534" y="698"/>
                  </a:lnTo>
                  <a:lnTo>
                    <a:pt x="1526" y="707"/>
                  </a:lnTo>
                  <a:lnTo>
                    <a:pt x="1515" y="716"/>
                  </a:lnTo>
                  <a:lnTo>
                    <a:pt x="1502" y="724"/>
                  </a:lnTo>
                  <a:lnTo>
                    <a:pt x="1493" y="735"/>
                  </a:lnTo>
                  <a:lnTo>
                    <a:pt x="1487" y="746"/>
                  </a:lnTo>
                  <a:lnTo>
                    <a:pt x="1482" y="755"/>
                  </a:lnTo>
                  <a:lnTo>
                    <a:pt x="1479" y="766"/>
                  </a:lnTo>
                  <a:lnTo>
                    <a:pt x="1473" y="774"/>
                  </a:lnTo>
                  <a:lnTo>
                    <a:pt x="1467" y="778"/>
                  </a:lnTo>
                  <a:lnTo>
                    <a:pt x="1459" y="777"/>
                  </a:lnTo>
                  <a:lnTo>
                    <a:pt x="1447" y="774"/>
                  </a:lnTo>
                  <a:lnTo>
                    <a:pt x="1433" y="771"/>
                  </a:lnTo>
                  <a:lnTo>
                    <a:pt x="1420" y="771"/>
                  </a:lnTo>
                  <a:lnTo>
                    <a:pt x="1409" y="774"/>
                  </a:lnTo>
                  <a:lnTo>
                    <a:pt x="1402" y="780"/>
                  </a:lnTo>
                  <a:lnTo>
                    <a:pt x="1388" y="802"/>
                  </a:lnTo>
                  <a:lnTo>
                    <a:pt x="1377" y="820"/>
                  </a:lnTo>
                  <a:lnTo>
                    <a:pt x="1369" y="828"/>
                  </a:lnTo>
                  <a:lnTo>
                    <a:pt x="1361" y="839"/>
                  </a:lnTo>
                  <a:lnTo>
                    <a:pt x="1352" y="848"/>
                  </a:lnTo>
                  <a:lnTo>
                    <a:pt x="1342" y="854"/>
                  </a:lnTo>
                  <a:lnTo>
                    <a:pt x="1332" y="854"/>
                  </a:lnTo>
                  <a:lnTo>
                    <a:pt x="1321" y="847"/>
                  </a:lnTo>
                  <a:lnTo>
                    <a:pt x="1311" y="837"/>
                  </a:lnTo>
                  <a:lnTo>
                    <a:pt x="1304" y="833"/>
                  </a:lnTo>
                  <a:lnTo>
                    <a:pt x="1296" y="834"/>
                  </a:lnTo>
                  <a:lnTo>
                    <a:pt x="1293" y="842"/>
                  </a:lnTo>
                  <a:lnTo>
                    <a:pt x="1293" y="850"/>
                  </a:lnTo>
                  <a:lnTo>
                    <a:pt x="1293" y="859"/>
                  </a:lnTo>
                  <a:lnTo>
                    <a:pt x="1293" y="867"/>
                  </a:lnTo>
                  <a:lnTo>
                    <a:pt x="1287" y="872"/>
                  </a:lnTo>
                  <a:lnTo>
                    <a:pt x="1273" y="875"/>
                  </a:lnTo>
                  <a:lnTo>
                    <a:pt x="1254" y="875"/>
                  </a:lnTo>
                  <a:lnTo>
                    <a:pt x="1229" y="873"/>
                  </a:lnTo>
                  <a:lnTo>
                    <a:pt x="1214" y="870"/>
                  </a:lnTo>
                  <a:lnTo>
                    <a:pt x="1198" y="865"/>
                  </a:lnTo>
                  <a:lnTo>
                    <a:pt x="1182" y="861"/>
                  </a:lnTo>
                  <a:lnTo>
                    <a:pt x="1169" y="858"/>
                  </a:lnTo>
                  <a:lnTo>
                    <a:pt x="1158" y="861"/>
                  </a:lnTo>
                  <a:lnTo>
                    <a:pt x="1144" y="867"/>
                  </a:lnTo>
                  <a:lnTo>
                    <a:pt x="1127" y="876"/>
                  </a:lnTo>
                  <a:lnTo>
                    <a:pt x="1108" y="885"/>
                  </a:lnTo>
                  <a:lnTo>
                    <a:pt x="1089" y="896"/>
                  </a:lnTo>
                  <a:lnTo>
                    <a:pt x="1077" y="909"/>
                  </a:lnTo>
                  <a:lnTo>
                    <a:pt x="1063" y="924"/>
                  </a:lnTo>
                  <a:lnTo>
                    <a:pt x="1050" y="940"/>
                  </a:lnTo>
                  <a:lnTo>
                    <a:pt x="1036" y="958"/>
                  </a:lnTo>
                  <a:lnTo>
                    <a:pt x="1019" y="982"/>
                  </a:lnTo>
                  <a:lnTo>
                    <a:pt x="1002" y="1002"/>
                  </a:lnTo>
                  <a:lnTo>
                    <a:pt x="987" y="1021"/>
                  </a:lnTo>
                  <a:lnTo>
                    <a:pt x="973" y="1038"/>
                  </a:lnTo>
                  <a:lnTo>
                    <a:pt x="959" y="1063"/>
                  </a:lnTo>
                  <a:lnTo>
                    <a:pt x="948" y="1080"/>
                  </a:lnTo>
                  <a:lnTo>
                    <a:pt x="940" y="1092"/>
                  </a:lnTo>
                  <a:lnTo>
                    <a:pt x="935" y="1101"/>
                  </a:lnTo>
                  <a:lnTo>
                    <a:pt x="932" y="1111"/>
                  </a:lnTo>
                  <a:lnTo>
                    <a:pt x="934" y="1126"/>
                  </a:lnTo>
                  <a:lnTo>
                    <a:pt x="937" y="1142"/>
                  </a:lnTo>
                  <a:lnTo>
                    <a:pt x="942" y="1156"/>
                  </a:lnTo>
                  <a:lnTo>
                    <a:pt x="945" y="1168"/>
                  </a:lnTo>
                  <a:lnTo>
                    <a:pt x="945" y="1182"/>
                  </a:lnTo>
                  <a:lnTo>
                    <a:pt x="939" y="1198"/>
                  </a:lnTo>
                  <a:lnTo>
                    <a:pt x="929" y="1218"/>
                  </a:lnTo>
                  <a:lnTo>
                    <a:pt x="925" y="1233"/>
                  </a:lnTo>
                  <a:lnTo>
                    <a:pt x="920" y="1244"/>
                  </a:lnTo>
                  <a:lnTo>
                    <a:pt x="915" y="1249"/>
                  </a:lnTo>
                  <a:lnTo>
                    <a:pt x="909" y="1247"/>
                  </a:lnTo>
                  <a:lnTo>
                    <a:pt x="898" y="1241"/>
                  </a:lnTo>
                  <a:lnTo>
                    <a:pt x="887" y="1230"/>
                  </a:lnTo>
                  <a:lnTo>
                    <a:pt x="873" y="1218"/>
                  </a:lnTo>
                  <a:lnTo>
                    <a:pt x="859" y="1207"/>
                  </a:lnTo>
                  <a:lnTo>
                    <a:pt x="847" y="1198"/>
                  </a:lnTo>
                  <a:lnTo>
                    <a:pt x="824" y="1188"/>
                  </a:lnTo>
                  <a:lnTo>
                    <a:pt x="796" y="1177"/>
                  </a:lnTo>
                  <a:lnTo>
                    <a:pt x="768" y="1165"/>
                  </a:lnTo>
                  <a:lnTo>
                    <a:pt x="743" y="1153"/>
                  </a:lnTo>
                  <a:lnTo>
                    <a:pt x="716" y="1137"/>
                  </a:lnTo>
                  <a:lnTo>
                    <a:pt x="693" y="1125"/>
                  </a:lnTo>
                  <a:lnTo>
                    <a:pt x="671" y="1114"/>
                  </a:lnTo>
                  <a:lnTo>
                    <a:pt x="657" y="1104"/>
                  </a:lnTo>
                  <a:lnTo>
                    <a:pt x="645" y="1094"/>
                  </a:lnTo>
                  <a:lnTo>
                    <a:pt x="633" y="1084"/>
                  </a:lnTo>
                  <a:lnTo>
                    <a:pt x="622" y="1080"/>
                  </a:lnTo>
                  <a:lnTo>
                    <a:pt x="615" y="1080"/>
                  </a:lnTo>
                  <a:lnTo>
                    <a:pt x="608" y="1080"/>
                  </a:lnTo>
                  <a:lnTo>
                    <a:pt x="602" y="1080"/>
                  </a:lnTo>
                  <a:lnTo>
                    <a:pt x="592" y="1073"/>
                  </a:lnTo>
                  <a:lnTo>
                    <a:pt x="578" y="1064"/>
                  </a:lnTo>
                  <a:lnTo>
                    <a:pt x="556" y="1045"/>
                  </a:lnTo>
                  <a:lnTo>
                    <a:pt x="538" y="1033"/>
                  </a:lnTo>
                  <a:lnTo>
                    <a:pt x="524" y="1028"/>
                  </a:lnTo>
                  <a:lnTo>
                    <a:pt x="511" y="1028"/>
                  </a:lnTo>
                  <a:lnTo>
                    <a:pt x="494" y="1028"/>
                  </a:lnTo>
                  <a:lnTo>
                    <a:pt x="477" y="1030"/>
                  </a:lnTo>
                  <a:lnTo>
                    <a:pt x="463" y="1035"/>
                  </a:lnTo>
                  <a:lnTo>
                    <a:pt x="448" y="1045"/>
                  </a:lnTo>
                  <a:lnTo>
                    <a:pt x="431" y="1059"/>
                  </a:lnTo>
                  <a:lnTo>
                    <a:pt x="414" y="1073"/>
                  </a:lnTo>
                  <a:lnTo>
                    <a:pt x="393" y="1090"/>
                  </a:lnTo>
                  <a:lnTo>
                    <a:pt x="370" y="1108"/>
                  </a:lnTo>
                  <a:lnTo>
                    <a:pt x="358" y="1118"/>
                  </a:lnTo>
                  <a:lnTo>
                    <a:pt x="347" y="1131"/>
                  </a:lnTo>
                  <a:lnTo>
                    <a:pt x="336" y="1140"/>
                  </a:lnTo>
                  <a:lnTo>
                    <a:pt x="327" y="1145"/>
                  </a:lnTo>
                  <a:lnTo>
                    <a:pt x="319" y="1143"/>
                  </a:lnTo>
                  <a:lnTo>
                    <a:pt x="311" y="1135"/>
                  </a:lnTo>
                  <a:lnTo>
                    <a:pt x="302" y="1125"/>
                  </a:lnTo>
                  <a:lnTo>
                    <a:pt x="294" y="1111"/>
                  </a:lnTo>
                  <a:lnTo>
                    <a:pt x="286" y="1098"/>
                  </a:lnTo>
                  <a:lnTo>
                    <a:pt x="282" y="1089"/>
                  </a:lnTo>
                  <a:lnTo>
                    <a:pt x="277" y="1080"/>
                  </a:lnTo>
                  <a:lnTo>
                    <a:pt x="266" y="1072"/>
                  </a:lnTo>
                  <a:lnTo>
                    <a:pt x="252" y="1063"/>
                  </a:lnTo>
                  <a:lnTo>
                    <a:pt x="241" y="1053"/>
                  </a:lnTo>
                  <a:lnTo>
                    <a:pt x="230" y="1047"/>
                  </a:lnTo>
                  <a:lnTo>
                    <a:pt x="216" y="1047"/>
                  </a:lnTo>
                  <a:lnTo>
                    <a:pt x="202" y="1050"/>
                  </a:lnTo>
                  <a:lnTo>
                    <a:pt x="190" y="1055"/>
                  </a:lnTo>
                  <a:lnTo>
                    <a:pt x="179" y="1063"/>
                  </a:lnTo>
                  <a:lnTo>
                    <a:pt x="173" y="1076"/>
                  </a:lnTo>
                  <a:lnTo>
                    <a:pt x="165" y="1090"/>
                  </a:lnTo>
                  <a:lnTo>
                    <a:pt x="159" y="1100"/>
                  </a:lnTo>
                  <a:lnTo>
                    <a:pt x="153" y="1109"/>
                  </a:lnTo>
                  <a:lnTo>
                    <a:pt x="151" y="1120"/>
                  </a:lnTo>
                  <a:lnTo>
                    <a:pt x="149" y="1132"/>
                  </a:lnTo>
                  <a:lnTo>
                    <a:pt x="146" y="1143"/>
                  </a:lnTo>
                  <a:lnTo>
                    <a:pt x="146" y="1154"/>
                  </a:lnTo>
                  <a:lnTo>
                    <a:pt x="151" y="1163"/>
                  </a:lnTo>
                  <a:lnTo>
                    <a:pt x="160" y="1170"/>
                  </a:lnTo>
                  <a:lnTo>
                    <a:pt x="168" y="1174"/>
                  </a:lnTo>
                  <a:lnTo>
                    <a:pt x="176" y="1177"/>
                  </a:lnTo>
                  <a:lnTo>
                    <a:pt x="185" y="1185"/>
                  </a:lnTo>
                  <a:lnTo>
                    <a:pt x="193" y="1198"/>
                  </a:lnTo>
                  <a:lnTo>
                    <a:pt x="201" y="1208"/>
                  </a:lnTo>
                  <a:lnTo>
                    <a:pt x="210" y="1216"/>
                  </a:lnTo>
                  <a:lnTo>
                    <a:pt x="219" y="1219"/>
                  </a:lnTo>
                  <a:lnTo>
                    <a:pt x="227" y="1219"/>
                  </a:lnTo>
                  <a:lnTo>
                    <a:pt x="230" y="1218"/>
                  </a:lnTo>
                  <a:lnTo>
                    <a:pt x="235" y="1215"/>
                  </a:lnTo>
                  <a:lnTo>
                    <a:pt x="241" y="1215"/>
                  </a:lnTo>
                  <a:lnTo>
                    <a:pt x="250" y="1219"/>
                  </a:lnTo>
                  <a:lnTo>
                    <a:pt x="264" y="1226"/>
                  </a:lnTo>
                  <a:lnTo>
                    <a:pt x="280" y="1232"/>
                  </a:lnTo>
                  <a:lnTo>
                    <a:pt x="294" y="1238"/>
                  </a:lnTo>
                  <a:lnTo>
                    <a:pt x="303" y="1246"/>
                  </a:lnTo>
                  <a:lnTo>
                    <a:pt x="311" y="1252"/>
                  </a:lnTo>
                  <a:lnTo>
                    <a:pt x="322" y="1257"/>
                  </a:lnTo>
                  <a:lnTo>
                    <a:pt x="334" y="1263"/>
                  </a:lnTo>
                  <a:lnTo>
                    <a:pt x="347" y="1271"/>
                  </a:lnTo>
                  <a:lnTo>
                    <a:pt x="356" y="1278"/>
                  </a:lnTo>
                  <a:lnTo>
                    <a:pt x="361" y="1289"/>
                  </a:lnTo>
                  <a:lnTo>
                    <a:pt x="367" y="1302"/>
                  </a:lnTo>
                  <a:lnTo>
                    <a:pt x="375" y="1311"/>
                  </a:lnTo>
                  <a:lnTo>
                    <a:pt x="382" y="1317"/>
                  </a:lnTo>
                  <a:lnTo>
                    <a:pt x="389" y="1322"/>
                  </a:lnTo>
                  <a:lnTo>
                    <a:pt x="390" y="1326"/>
                  </a:lnTo>
                  <a:lnTo>
                    <a:pt x="387" y="1333"/>
                  </a:lnTo>
                  <a:lnTo>
                    <a:pt x="378" y="1340"/>
                  </a:lnTo>
                  <a:lnTo>
                    <a:pt x="367" y="1348"/>
                  </a:lnTo>
                  <a:lnTo>
                    <a:pt x="353" y="1353"/>
                  </a:lnTo>
                  <a:lnTo>
                    <a:pt x="341" y="1356"/>
                  </a:lnTo>
                  <a:lnTo>
                    <a:pt x="319" y="1351"/>
                  </a:lnTo>
                  <a:lnTo>
                    <a:pt x="300" y="1345"/>
                  </a:lnTo>
                  <a:lnTo>
                    <a:pt x="282" y="1342"/>
                  </a:lnTo>
                  <a:lnTo>
                    <a:pt x="271" y="1339"/>
                  </a:lnTo>
                  <a:lnTo>
                    <a:pt x="263" y="1333"/>
                  </a:lnTo>
                  <a:lnTo>
                    <a:pt x="257" y="1326"/>
                  </a:lnTo>
                  <a:lnTo>
                    <a:pt x="250" y="1325"/>
                  </a:lnTo>
                  <a:lnTo>
                    <a:pt x="244" y="1328"/>
                  </a:lnTo>
                  <a:lnTo>
                    <a:pt x="236" y="1340"/>
                  </a:lnTo>
                  <a:lnTo>
                    <a:pt x="232" y="1351"/>
                  </a:lnTo>
                  <a:lnTo>
                    <a:pt x="224" y="1361"/>
                  </a:lnTo>
                  <a:lnTo>
                    <a:pt x="218" y="1364"/>
                  </a:lnTo>
                  <a:lnTo>
                    <a:pt x="210" y="1364"/>
                  </a:lnTo>
                  <a:lnTo>
                    <a:pt x="201" y="1364"/>
                  </a:lnTo>
                  <a:lnTo>
                    <a:pt x="195" y="1365"/>
                  </a:lnTo>
                  <a:lnTo>
                    <a:pt x="190" y="1370"/>
                  </a:lnTo>
                  <a:lnTo>
                    <a:pt x="188" y="1379"/>
                  </a:lnTo>
                  <a:lnTo>
                    <a:pt x="191" y="1396"/>
                  </a:lnTo>
                  <a:lnTo>
                    <a:pt x="195" y="1412"/>
                  </a:lnTo>
                  <a:lnTo>
                    <a:pt x="196" y="1424"/>
                  </a:lnTo>
                  <a:lnTo>
                    <a:pt x="195" y="1431"/>
                  </a:lnTo>
                  <a:lnTo>
                    <a:pt x="190" y="1432"/>
                  </a:lnTo>
                  <a:lnTo>
                    <a:pt x="182" y="1432"/>
                  </a:lnTo>
                  <a:lnTo>
                    <a:pt x="170" y="1434"/>
                  </a:lnTo>
                  <a:lnTo>
                    <a:pt x="159" y="1437"/>
                  </a:lnTo>
                  <a:lnTo>
                    <a:pt x="149" y="1444"/>
                  </a:lnTo>
                  <a:lnTo>
                    <a:pt x="140" y="1455"/>
                  </a:lnTo>
                  <a:lnTo>
                    <a:pt x="134" y="1466"/>
                  </a:lnTo>
                  <a:lnTo>
                    <a:pt x="131" y="1474"/>
                  </a:lnTo>
                  <a:lnTo>
                    <a:pt x="129" y="1477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782840" y="2418840"/>
              <a:ext cx="191880" cy="228960"/>
            </a:xfrm>
            <a:custGeom>
              <a:avLst/>
              <a:gdLst/>
              <a:ahLst/>
              <a:rect l="l" t="t" r="r" b="b"/>
              <a:pathLst>
                <a:path w="277" h="306">
                  <a:moveTo>
                    <a:pt x="13" y="295"/>
                  </a:moveTo>
                  <a:lnTo>
                    <a:pt x="7" y="283"/>
                  </a:lnTo>
                  <a:lnTo>
                    <a:pt x="2" y="275"/>
                  </a:lnTo>
                  <a:lnTo>
                    <a:pt x="0" y="268"/>
                  </a:lnTo>
                  <a:lnTo>
                    <a:pt x="3" y="258"/>
                  </a:lnTo>
                  <a:lnTo>
                    <a:pt x="13" y="246"/>
                  </a:lnTo>
                  <a:lnTo>
                    <a:pt x="25" y="232"/>
                  </a:lnTo>
                  <a:lnTo>
                    <a:pt x="39" y="218"/>
                  </a:lnTo>
                  <a:lnTo>
                    <a:pt x="50" y="204"/>
                  </a:lnTo>
                  <a:lnTo>
                    <a:pt x="66" y="188"/>
                  </a:lnTo>
                  <a:lnTo>
                    <a:pt x="78" y="173"/>
                  </a:lnTo>
                  <a:lnTo>
                    <a:pt x="84" y="159"/>
                  </a:lnTo>
                  <a:lnTo>
                    <a:pt x="86" y="148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92" y="125"/>
                  </a:lnTo>
                  <a:lnTo>
                    <a:pt x="109" y="103"/>
                  </a:lnTo>
                  <a:lnTo>
                    <a:pt x="128" y="83"/>
                  </a:lnTo>
                  <a:lnTo>
                    <a:pt x="139" y="69"/>
                  </a:lnTo>
                  <a:lnTo>
                    <a:pt x="145" y="52"/>
                  </a:lnTo>
                  <a:lnTo>
                    <a:pt x="149" y="38"/>
                  </a:lnTo>
                  <a:lnTo>
                    <a:pt x="153" y="27"/>
                  </a:lnTo>
                  <a:lnTo>
                    <a:pt x="159" y="14"/>
                  </a:lnTo>
                  <a:lnTo>
                    <a:pt x="165" y="5"/>
                  </a:lnTo>
                  <a:lnTo>
                    <a:pt x="171" y="0"/>
                  </a:lnTo>
                  <a:lnTo>
                    <a:pt x="177" y="2"/>
                  </a:lnTo>
                  <a:lnTo>
                    <a:pt x="185" y="8"/>
                  </a:lnTo>
                  <a:lnTo>
                    <a:pt x="196" y="14"/>
                  </a:lnTo>
                  <a:lnTo>
                    <a:pt x="205" y="19"/>
                  </a:lnTo>
                  <a:lnTo>
                    <a:pt x="219" y="22"/>
                  </a:lnTo>
                  <a:lnTo>
                    <a:pt x="233" y="24"/>
                  </a:lnTo>
                  <a:lnTo>
                    <a:pt x="249" y="21"/>
                  </a:lnTo>
                  <a:lnTo>
                    <a:pt x="257" y="18"/>
                  </a:lnTo>
                  <a:lnTo>
                    <a:pt x="264" y="14"/>
                  </a:lnTo>
                  <a:lnTo>
                    <a:pt x="271" y="11"/>
                  </a:lnTo>
                  <a:lnTo>
                    <a:pt x="275" y="13"/>
                  </a:lnTo>
                  <a:lnTo>
                    <a:pt x="277" y="21"/>
                  </a:lnTo>
                  <a:lnTo>
                    <a:pt x="275" y="33"/>
                  </a:lnTo>
                  <a:lnTo>
                    <a:pt x="272" y="45"/>
                  </a:lnTo>
                  <a:lnTo>
                    <a:pt x="264" y="55"/>
                  </a:lnTo>
                  <a:lnTo>
                    <a:pt x="249" y="63"/>
                  </a:lnTo>
                  <a:lnTo>
                    <a:pt x="235" y="69"/>
                  </a:lnTo>
                  <a:lnTo>
                    <a:pt x="226" y="77"/>
                  </a:lnTo>
                  <a:lnTo>
                    <a:pt x="216" y="84"/>
                  </a:lnTo>
                  <a:lnTo>
                    <a:pt x="207" y="91"/>
                  </a:lnTo>
                  <a:lnTo>
                    <a:pt x="196" y="92"/>
                  </a:lnTo>
                  <a:lnTo>
                    <a:pt x="190" y="92"/>
                  </a:lnTo>
                  <a:lnTo>
                    <a:pt x="184" y="91"/>
                  </a:lnTo>
                  <a:lnTo>
                    <a:pt x="177" y="94"/>
                  </a:lnTo>
                  <a:lnTo>
                    <a:pt x="167" y="101"/>
                  </a:lnTo>
                  <a:lnTo>
                    <a:pt x="157" y="112"/>
                  </a:lnTo>
                  <a:lnTo>
                    <a:pt x="146" y="128"/>
                  </a:lnTo>
                  <a:lnTo>
                    <a:pt x="140" y="139"/>
                  </a:lnTo>
                  <a:lnTo>
                    <a:pt x="136" y="148"/>
                  </a:lnTo>
                  <a:lnTo>
                    <a:pt x="131" y="156"/>
                  </a:lnTo>
                  <a:lnTo>
                    <a:pt x="125" y="167"/>
                  </a:lnTo>
                  <a:lnTo>
                    <a:pt x="120" y="176"/>
                  </a:lnTo>
                  <a:lnTo>
                    <a:pt x="117" y="181"/>
                  </a:lnTo>
                  <a:lnTo>
                    <a:pt x="117" y="185"/>
                  </a:lnTo>
                  <a:lnTo>
                    <a:pt x="114" y="190"/>
                  </a:lnTo>
                  <a:lnTo>
                    <a:pt x="109" y="196"/>
                  </a:lnTo>
                  <a:lnTo>
                    <a:pt x="98" y="205"/>
                  </a:lnTo>
                  <a:lnTo>
                    <a:pt x="90" y="212"/>
                  </a:lnTo>
                  <a:lnTo>
                    <a:pt x="87" y="221"/>
                  </a:lnTo>
                  <a:lnTo>
                    <a:pt x="86" y="224"/>
                  </a:lnTo>
                  <a:lnTo>
                    <a:pt x="84" y="226"/>
                  </a:lnTo>
                  <a:lnTo>
                    <a:pt x="81" y="227"/>
                  </a:lnTo>
                  <a:lnTo>
                    <a:pt x="78" y="227"/>
                  </a:lnTo>
                  <a:lnTo>
                    <a:pt x="73" y="227"/>
                  </a:lnTo>
                  <a:lnTo>
                    <a:pt x="70" y="229"/>
                  </a:lnTo>
                  <a:lnTo>
                    <a:pt x="67" y="230"/>
                  </a:lnTo>
                  <a:lnTo>
                    <a:pt x="63" y="235"/>
                  </a:lnTo>
                  <a:lnTo>
                    <a:pt x="56" y="241"/>
                  </a:lnTo>
                  <a:lnTo>
                    <a:pt x="50" y="246"/>
                  </a:lnTo>
                  <a:lnTo>
                    <a:pt x="44" y="252"/>
                  </a:lnTo>
                  <a:lnTo>
                    <a:pt x="41" y="260"/>
                  </a:lnTo>
                  <a:lnTo>
                    <a:pt x="41" y="271"/>
                  </a:lnTo>
                  <a:lnTo>
                    <a:pt x="44" y="285"/>
                  </a:lnTo>
                  <a:lnTo>
                    <a:pt x="45" y="294"/>
                  </a:lnTo>
                  <a:lnTo>
                    <a:pt x="45" y="299"/>
                  </a:lnTo>
                  <a:lnTo>
                    <a:pt x="41" y="305"/>
                  </a:lnTo>
                  <a:lnTo>
                    <a:pt x="35" y="306"/>
                  </a:lnTo>
                  <a:lnTo>
                    <a:pt x="27" y="305"/>
                  </a:lnTo>
                  <a:lnTo>
                    <a:pt x="19" y="300"/>
                  </a:lnTo>
                  <a:lnTo>
                    <a:pt x="14" y="297"/>
                  </a:lnTo>
                  <a:lnTo>
                    <a:pt x="13" y="295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92720" y="2568240"/>
              <a:ext cx="54000" cy="5976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16" y="81"/>
                  </a:moveTo>
                  <a:lnTo>
                    <a:pt x="5" y="71"/>
                  </a:lnTo>
                  <a:lnTo>
                    <a:pt x="0" y="59"/>
                  </a:lnTo>
                  <a:lnTo>
                    <a:pt x="2" y="48"/>
                  </a:lnTo>
                  <a:lnTo>
                    <a:pt x="8" y="35"/>
                  </a:lnTo>
                  <a:lnTo>
                    <a:pt x="20" y="25"/>
                  </a:lnTo>
                  <a:lnTo>
                    <a:pt x="38" y="15"/>
                  </a:lnTo>
                  <a:lnTo>
                    <a:pt x="47" y="9"/>
                  </a:lnTo>
                  <a:lnTo>
                    <a:pt x="53" y="3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7" y="6"/>
                  </a:lnTo>
                  <a:lnTo>
                    <a:pt x="73" y="15"/>
                  </a:lnTo>
                  <a:lnTo>
                    <a:pt x="76" y="26"/>
                  </a:lnTo>
                  <a:lnTo>
                    <a:pt x="78" y="35"/>
                  </a:lnTo>
                  <a:lnTo>
                    <a:pt x="76" y="45"/>
                  </a:lnTo>
                  <a:lnTo>
                    <a:pt x="67" y="53"/>
                  </a:lnTo>
                  <a:lnTo>
                    <a:pt x="55" y="60"/>
                  </a:lnTo>
                  <a:lnTo>
                    <a:pt x="41" y="67"/>
                  </a:lnTo>
                  <a:lnTo>
                    <a:pt x="28" y="74"/>
                  </a:lnTo>
                  <a:lnTo>
                    <a:pt x="19" y="79"/>
                  </a:lnTo>
                  <a:lnTo>
                    <a:pt x="16" y="81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9"/>
            <p:cNvSpPr/>
            <p:nvPr/>
          </p:nvSpPr>
          <p:spPr>
            <a:xfrm>
              <a:off x="8023320" y="2103480"/>
              <a:ext cx="325080" cy="333360"/>
            </a:xfrm>
            <a:custGeom>
              <a:avLst/>
              <a:gdLst/>
              <a:ahLst/>
              <a:rect l="l" t="t" r="r" b="b"/>
              <a:pathLst>
                <a:path w="467" h="447">
                  <a:moveTo>
                    <a:pt x="3" y="436"/>
                  </a:moveTo>
                  <a:lnTo>
                    <a:pt x="0" y="426"/>
                  </a:lnTo>
                  <a:lnTo>
                    <a:pt x="0" y="418"/>
                  </a:lnTo>
                  <a:lnTo>
                    <a:pt x="4" y="408"/>
                  </a:lnTo>
                  <a:lnTo>
                    <a:pt x="14" y="396"/>
                  </a:lnTo>
                  <a:lnTo>
                    <a:pt x="20" y="387"/>
                  </a:lnTo>
                  <a:lnTo>
                    <a:pt x="23" y="382"/>
                  </a:lnTo>
                  <a:lnTo>
                    <a:pt x="25" y="379"/>
                  </a:lnTo>
                  <a:lnTo>
                    <a:pt x="28" y="374"/>
                  </a:lnTo>
                  <a:lnTo>
                    <a:pt x="34" y="368"/>
                  </a:lnTo>
                  <a:lnTo>
                    <a:pt x="42" y="363"/>
                  </a:lnTo>
                  <a:lnTo>
                    <a:pt x="49" y="362"/>
                  </a:lnTo>
                  <a:lnTo>
                    <a:pt x="56" y="360"/>
                  </a:lnTo>
                  <a:lnTo>
                    <a:pt x="60" y="357"/>
                  </a:lnTo>
                  <a:lnTo>
                    <a:pt x="65" y="348"/>
                  </a:lnTo>
                  <a:lnTo>
                    <a:pt x="67" y="340"/>
                  </a:lnTo>
                  <a:lnTo>
                    <a:pt x="65" y="336"/>
                  </a:lnTo>
                  <a:lnTo>
                    <a:pt x="62" y="332"/>
                  </a:lnTo>
                  <a:lnTo>
                    <a:pt x="57" y="329"/>
                  </a:lnTo>
                  <a:lnTo>
                    <a:pt x="54" y="325"/>
                  </a:lnTo>
                  <a:lnTo>
                    <a:pt x="54" y="317"/>
                  </a:lnTo>
                  <a:lnTo>
                    <a:pt x="57" y="304"/>
                  </a:lnTo>
                  <a:lnTo>
                    <a:pt x="62" y="298"/>
                  </a:lnTo>
                  <a:lnTo>
                    <a:pt x="67" y="294"/>
                  </a:lnTo>
                  <a:lnTo>
                    <a:pt x="74" y="287"/>
                  </a:lnTo>
                  <a:lnTo>
                    <a:pt x="82" y="281"/>
                  </a:lnTo>
                  <a:lnTo>
                    <a:pt x="90" y="277"/>
                  </a:lnTo>
                  <a:lnTo>
                    <a:pt x="98" y="270"/>
                  </a:lnTo>
                  <a:lnTo>
                    <a:pt x="107" y="263"/>
                  </a:lnTo>
                  <a:lnTo>
                    <a:pt x="116" y="250"/>
                  </a:lnTo>
                  <a:lnTo>
                    <a:pt x="124" y="235"/>
                  </a:lnTo>
                  <a:lnTo>
                    <a:pt x="129" y="222"/>
                  </a:lnTo>
                  <a:lnTo>
                    <a:pt x="132" y="211"/>
                  </a:lnTo>
                  <a:lnTo>
                    <a:pt x="136" y="202"/>
                  </a:lnTo>
                  <a:lnTo>
                    <a:pt x="143" y="193"/>
                  </a:lnTo>
                  <a:lnTo>
                    <a:pt x="149" y="188"/>
                  </a:lnTo>
                  <a:lnTo>
                    <a:pt x="154" y="190"/>
                  </a:lnTo>
                  <a:lnTo>
                    <a:pt x="157" y="193"/>
                  </a:lnTo>
                  <a:lnTo>
                    <a:pt x="160" y="196"/>
                  </a:lnTo>
                  <a:lnTo>
                    <a:pt x="164" y="196"/>
                  </a:lnTo>
                  <a:lnTo>
                    <a:pt x="172" y="191"/>
                  </a:lnTo>
                  <a:lnTo>
                    <a:pt x="178" y="182"/>
                  </a:lnTo>
                  <a:lnTo>
                    <a:pt x="180" y="176"/>
                  </a:lnTo>
                  <a:lnTo>
                    <a:pt x="182" y="171"/>
                  </a:lnTo>
                  <a:lnTo>
                    <a:pt x="182" y="166"/>
                  </a:lnTo>
                  <a:lnTo>
                    <a:pt x="186" y="160"/>
                  </a:lnTo>
                  <a:lnTo>
                    <a:pt x="194" y="152"/>
                  </a:lnTo>
                  <a:lnTo>
                    <a:pt x="206" y="145"/>
                  </a:lnTo>
                  <a:lnTo>
                    <a:pt x="216" y="141"/>
                  </a:lnTo>
                  <a:lnTo>
                    <a:pt x="223" y="140"/>
                  </a:lnTo>
                  <a:lnTo>
                    <a:pt x="228" y="137"/>
                  </a:lnTo>
                  <a:lnTo>
                    <a:pt x="230" y="131"/>
                  </a:lnTo>
                  <a:lnTo>
                    <a:pt x="228" y="121"/>
                  </a:lnTo>
                  <a:lnTo>
                    <a:pt x="225" y="107"/>
                  </a:lnTo>
                  <a:lnTo>
                    <a:pt x="223" y="93"/>
                  </a:lnTo>
                  <a:lnTo>
                    <a:pt x="222" y="79"/>
                  </a:lnTo>
                  <a:lnTo>
                    <a:pt x="225" y="68"/>
                  </a:lnTo>
                  <a:lnTo>
                    <a:pt x="233" y="61"/>
                  </a:lnTo>
                  <a:lnTo>
                    <a:pt x="239" y="59"/>
                  </a:lnTo>
                  <a:lnTo>
                    <a:pt x="245" y="65"/>
                  </a:lnTo>
                  <a:lnTo>
                    <a:pt x="250" y="75"/>
                  </a:lnTo>
                  <a:lnTo>
                    <a:pt x="255" y="87"/>
                  </a:lnTo>
                  <a:lnTo>
                    <a:pt x="261" y="98"/>
                  </a:lnTo>
                  <a:lnTo>
                    <a:pt x="267" y="106"/>
                  </a:lnTo>
                  <a:lnTo>
                    <a:pt x="276" y="110"/>
                  </a:lnTo>
                  <a:lnTo>
                    <a:pt x="292" y="110"/>
                  </a:lnTo>
                  <a:lnTo>
                    <a:pt x="303" y="107"/>
                  </a:lnTo>
                  <a:lnTo>
                    <a:pt x="310" y="104"/>
                  </a:lnTo>
                  <a:lnTo>
                    <a:pt x="321" y="98"/>
                  </a:lnTo>
                  <a:lnTo>
                    <a:pt x="329" y="95"/>
                  </a:lnTo>
                  <a:lnTo>
                    <a:pt x="334" y="93"/>
                  </a:lnTo>
                  <a:lnTo>
                    <a:pt x="338" y="92"/>
                  </a:lnTo>
                  <a:lnTo>
                    <a:pt x="345" y="89"/>
                  </a:lnTo>
                  <a:lnTo>
                    <a:pt x="351" y="81"/>
                  </a:lnTo>
                  <a:lnTo>
                    <a:pt x="360" y="70"/>
                  </a:lnTo>
                  <a:lnTo>
                    <a:pt x="373" y="51"/>
                  </a:lnTo>
                  <a:lnTo>
                    <a:pt x="387" y="34"/>
                  </a:lnTo>
                  <a:lnTo>
                    <a:pt x="401" y="20"/>
                  </a:lnTo>
                  <a:lnTo>
                    <a:pt x="416" y="9"/>
                  </a:lnTo>
                  <a:lnTo>
                    <a:pt x="427" y="5"/>
                  </a:lnTo>
                  <a:lnTo>
                    <a:pt x="439" y="2"/>
                  </a:lnTo>
                  <a:lnTo>
                    <a:pt x="450" y="0"/>
                  </a:lnTo>
                  <a:lnTo>
                    <a:pt x="460" y="2"/>
                  </a:lnTo>
                  <a:lnTo>
                    <a:pt x="466" y="5"/>
                  </a:lnTo>
                  <a:lnTo>
                    <a:pt x="467" y="13"/>
                  </a:lnTo>
                  <a:lnTo>
                    <a:pt x="466" y="22"/>
                  </a:lnTo>
                  <a:lnTo>
                    <a:pt x="461" y="28"/>
                  </a:lnTo>
                  <a:lnTo>
                    <a:pt x="456" y="34"/>
                  </a:lnTo>
                  <a:lnTo>
                    <a:pt x="453" y="39"/>
                  </a:lnTo>
                  <a:lnTo>
                    <a:pt x="453" y="45"/>
                  </a:lnTo>
                  <a:lnTo>
                    <a:pt x="458" y="53"/>
                  </a:lnTo>
                  <a:lnTo>
                    <a:pt x="464" y="61"/>
                  </a:lnTo>
                  <a:lnTo>
                    <a:pt x="467" y="67"/>
                  </a:lnTo>
                  <a:lnTo>
                    <a:pt x="467" y="75"/>
                  </a:lnTo>
                  <a:lnTo>
                    <a:pt x="460" y="82"/>
                  </a:lnTo>
                  <a:lnTo>
                    <a:pt x="449" y="87"/>
                  </a:lnTo>
                  <a:lnTo>
                    <a:pt x="438" y="87"/>
                  </a:lnTo>
                  <a:lnTo>
                    <a:pt x="425" y="89"/>
                  </a:lnTo>
                  <a:lnTo>
                    <a:pt x="411" y="90"/>
                  </a:lnTo>
                  <a:lnTo>
                    <a:pt x="394" y="98"/>
                  </a:lnTo>
                  <a:lnTo>
                    <a:pt x="382" y="104"/>
                  </a:lnTo>
                  <a:lnTo>
                    <a:pt x="373" y="110"/>
                  </a:lnTo>
                  <a:lnTo>
                    <a:pt x="366" y="113"/>
                  </a:lnTo>
                  <a:lnTo>
                    <a:pt x="360" y="118"/>
                  </a:lnTo>
                  <a:lnTo>
                    <a:pt x="351" y="123"/>
                  </a:lnTo>
                  <a:lnTo>
                    <a:pt x="335" y="129"/>
                  </a:lnTo>
                  <a:lnTo>
                    <a:pt x="318" y="137"/>
                  </a:lnTo>
                  <a:lnTo>
                    <a:pt x="309" y="140"/>
                  </a:lnTo>
                  <a:lnTo>
                    <a:pt x="303" y="145"/>
                  </a:lnTo>
                  <a:lnTo>
                    <a:pt x="298" y="148"/>
                  </a:lnTo>
                  <a:lnTo>
                    <a:pt x="293" y="155"/>
                  </a:lnTo>
                  <a:lnTo>
                    <a:pt x="286" y="166"/>
                  </a:lnTo>
                  <a:lnTo>
                    <a:pt x="278" y="182"/>
                  </a:lnTo>
                  <a:lnTo>
                    <a:pt x="272" y="193"/>
                  </a:lnTo>
                  <a:lnTo>
                    <a:pt x="265" y="202"/>
                  </a:lnTo>
                  <a:lnTo>
                    <a:pt x="258" y="210"/>
                  </a:lnTo>
                  <a:lnTo>
                    <a:pt x="245" y="219"/>
                  </a:lnTo>
                  <a:lnTo>
                    <a:pt x="231" y="227"/>
                  </a:lnTo>
                  <a:lnTo>
                    <a:pt x="219" y="228"/>
                  </a:lnTo>
                  <a:lnTo>
                    <a:pt x="208" y="227"/>
                  </a:lnTo>
                  <a:lnTo>
                    <a:pt x="197" y="225"/>
                  </a:lnTo>
                  <a:lnTo>
                    <a:pt x="188" y="225"/>
                  </a:lnTo>
                  <a:lnTo>
                    <a:pt x="183" y="225"/>
                  </a:lnTo>
                  <a:lnTo>
                    <a:pt x="177" y="227"/>
                  </a:lnTo>
                  <a:lnTo>
                    <a:pt x="172" y="228"/>
                  </a:lnTo>
                  <a:lnTo>
                    <a:pt x="169" y="231"/>
                  </a:lnTo>
                  <a:lnTo>
                    <a:pt x="166" y="233"/>
                  </a:lnTo>
                  <a:lnTo>
                    <a:pt x="164" y="236"/>
                  </a:lnTo>
                  <a:lnTo>
                    <a:pt x="163" y="241"/>
                  </a:lnTo>
                  <a:lnTo>
                    <a:pt x="164" y="245"/>
                  </a:lnTo>
                  <a:lnTo>
                    <a:pt x="169" y="255"/>
                  </a:lnTo>
                  <a:lnTo>
                    <a:pt x="171" y="266"/>
                  </a:lnTo>
                  <a:lnTo>
                    <a:pt x="169" y="275"/>
                  </a:lnTo>
                  <a:lnTo>
                    <a:pt x="161" y="286"/>
                  </a:lnTo>
                  <a:lnTo>
                    <a:pt x="149" y="297"/>
                  </a:lnTo>
                  <a:lnTo>
                    <a:pt x="135" y="308"/>
                  </a:lnTo>
                  <a:lnTo>
                    <a:pt x="122" y="320"/>
                  </a:lnTo>
                  <a:lnTo>
                    <a:pt x="110" y="337"/>
                  </a:lnTo>
                  <a:lnTo>
                    <a:pt x="102" y="354"/>
                  </a:lnTo>
                  <a:lnTo>
                    <a:pt x="96" y="370"/>
                  </a:lnTo>
                  <a:lnTo>
                    <a:pt x="91" y="379"/>
                  </a:lnTo>
                  <a:lnTo>
                    <a:pt x="82" y="385"/>
                  </a:lnTo>
                  <a:lnTo>
                    <a:pt x="73" y="390"/>
                  </a:lnTo>
                  <a:lnTo>
                    <a:pt x="62" y="393"/>
                  </a:lnTo>
                  <a:lnTo>
                    <a:pt x="53" y="396"/>
                  </a:lnTo>
                  <a:lnTo>
                    <a:pt x="45" y="402"/>
                  </a:lnTo>
                  <a:lnTo>
                    <a:pt x="40" y="410"/>
                  </a:lnTo>
                  <a:lnTo>
                    <a:pt x="37" y="421"/>
                  </a:lnTo>
                  <a:lnTo>
                    <a:pt x="34" y="432"/>
                  </a:lnTo>
                  <a:lnTo>
                    <a:pt x="31" y="440"/>
                  </a:lnTo>
                  <a:lnTo>
                    <a:pt x="26" y="446"/>
                  </a:lnTo>
                  <a:lnTo>
                    <a:pt x="18" y="447"/>
                  </a:lnTo>
                  <a:lnTo>
                    <a:pt x="14" y="446"/>
                  </a:lnTo>
                  <a:lnTo>
                    <a:pt x="9" y="443"/>
                  </a:lnTo>
                  <a:lnTo>
                    <a:pt x="6" y="441"/>
                  </a:lnTo>
                  <a:lnTo>
                    <a:pt x="4" y="438"/>
                  </a:lnTo>
                  <a:lnTo>
                    <a:pt x="3" y="436"/>
                  </a:lnTo>
                  <a:lnTo>
                    <a:pt x="3" y="436"/>
                  </a:lnTo>
                </a:path>
              </a:pathLst>
            </a:custGeom>
            <a:solidFill>
              <a:srgbClr val="d7b46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5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