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A9D7-4FA0-4568-B437-80B64A55A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A139-F5E6-4C9E-8013-F6E7764C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789B-4B10-4035-B04E-12278B436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62E8-A10F-43D3-B399-59A4F913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A98F-C9B8-425B-B561-9830FDDA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03E4-3682-4DD8-8F34-75B12081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B1AA-DF5C-43BD-8FF9-6277744B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7745-2558-4E0D-895B-742BD32D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85F6-ED46-4E28-B689-32443F6D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2C73-664B-44BC-A4D1-C9823DC2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CD88-7EE6-49B3-BB8F-F7C4045F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42CD-58AD-44AE-8753-B4438B61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4B7C-0DC0-42E3-8FE1-9AD4C3C3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0290-DE0F-499B-B15D-B3F8D451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746B-018A-4610-B3B0-5A9E49DA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101E-F713-40A2-B64B-4271C7257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5040-36A5-4AC9-9C33-1DF5F480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A621-D7C2-4230-8660-05CDB558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A47F-95EA-4B28-BB5B-9C1B1BE9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5E1C-FC47-4112-88AF-EB400E14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162B-71A6-4BB1-B45E-BC24A7D6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C814-ABCC-4709-8741-70F4ADB2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2303-4D11-4D3F-A1AF-3A89BA50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2028-6E52-40C3-9EBC-C61DAF4C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3268800" y="0"/>
            <a:ext cx="5151240" cy="686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A96F-B1DD-40A6-8919-3BAF4054535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9" descr=""/>
          <p:cNvPicPr/>
          <p:nvPr/>
        </p:nvPicPr>
        <p:blipFill>
          <a:blip r:embed="rId2"/>
          <a:stretch/>
        </p:blipFill>
        <p:spPr>
          <a:xfrm>
            <a:off x="7867800" y="272880"/>
            <a:ext cx="1103040" cy="92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-31680" y="2289240"/>
            <a:ext cx="9175680" cy="24717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8896-9A8C-43E7-8247-FADAC5A6521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hyperlink" Target="http://www.eeppt.com/moban/jiaoyu/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"/>
          <p:cNvSpPr/>
          <p:nvPr/>
        </p:nvSpPr>
        <p:spPr>
          <a:xfrm>
            <a:off x="5839560" y="41353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科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2"/>
          <p:cNvSpPr/>
          <p:nvPr/>
        </p:nvSpPr>
        <p:spPr>
          <a:xfrm>
            <a:off x="7337520" y="4135320"/>
            <a:ext cx="94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878040" y="2813040"/>
            <a:ext cx="7864200" cy="1682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2"/>
          <a:stretch/>
        </p:blipFill>
        <p:spPr>
          <a:xfrm>
            <a:off x="7518240" y="1766880"/>
            <a:ext cx="110340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7"/>
          <p:cNvSpPr/>
          <p:nvPr/>
        </p:nvSpPr>
        <p:spPr>
          <a:xfrm>
            <a:off x="3481560" y="2673360"/>
            <a:ext cx="347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合培养博士生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名，即将回校工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9"/>
          <p:cNvSpPr/>
          <p:nvPr/>
        </p:nvSpPr>
        <p:spPr>
          <a:xfrm>
            <a:off x="3481560" y="1623960"/>
            <a:ext cx="382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加拿大 蒙特利尔大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##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授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图片 11" descr=""/>
          <p:cNvPicPr/>
          <p:nvPr/>
        </p:nvPicPr>
        <p:blipFill>
          <a:blip r:embed="rId1"/>
          <a:stretch/>
        </p:blipFill>
        <p:spPr>
          <a:xfrm>
            <a:off x="1598760" y="4462560"/>
            <a:ext cx="1557360" cy="85572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13" descr=""/>
          <p:cNvPicPr/>
          <p:nvPr/>
        </p:nvPicPr>
        <p:blipFill>
          <a:blip r:embed="rId2"/>
          <a:stretch/>
        </p:blipFill>
        <p:spPr>
          <a:xfrm>
            <a:off x="1263600" y="1712880"/>
            <a:ext cx="1976400" cy="806400"/>
          </a:xfrm>
          <a:prstGeom prst="rect">
            <a:avLst/>
          </a:prstGeom>
          <a:ln w="0">
            <a:noFill/>
          </a:ln>
        </p:spPr>
      </p:pic>
      <p:sp>
        <p:nvSpPr>
          <p:cNvPr id="146" name="矩形 15"/>
          <p:cNvSpPr/>
          <p:nvPr/>
        </p:nvSpPr>
        <p:spPr>
          <a:xfrm>
            <a:off x="3481560" y="4309920"/>
            <a:ext cx="282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法国 蒙彼利埃第二大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##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17"/>
          <p:cNvSpPr/>
          <p:nvPr/>
        </p:nvSpPr>
        <p:spPr>
          <a:xfrm>
            <a:off x="3481560" y="5326200"/>
            <a:ext cx="3369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合培养博士生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名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3"/>
          <a:stretch/>
        </p:blipFill>
        <p:spPr>
          <a:xfrm>
            <a:off x="52560" y="369720"/>
            <a:ext cx="339552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8" descr=""/>
          <p:cNvPicPr/>
          <p:nvPr/>
        </p:nvPicPr>
        <p:blipFill>
          <a:blip r:embed="rId1"/>
          <a:stretch/>
        </p:blipFill>
        <p:spPr>
          <a:xfrm>
            <a:off x="1601640" y="1781280"/>
            <a:ext cx="5774040" cy="3846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0C78-8A30-4681-B1E3-0FEA1DD02F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6"/>
          <p:cNvSpPr/>
          <p:nvPr/>
        </p:nvSpPr>
        <p:spPr>
          <a:xfrm>
            <a:off x="3319560" y="1724040"/>
            <a:ext cx="515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研究生课程 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门。总教学工作量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0000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均教学工作量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000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时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648960" y="3360600"/>
            <a:ext cx="4463280" cy="757800"/>
            <a:chOff x="3648960" y="3360600"/>
            <a:chExt cx="4463280" cy="757800"/>
          </a:xfrm>
        </p:grpSpPr>
        <p:sp>
          <p:nvSpPr>
            <p:cNvPr id="91" name="矩形 8"/>
            <p:cNvSpPr/>
            <p:nvPr/>
          </p:nvSpPr>
          <p:spPr>
            <a:xfrm>
              <a:off x="5499000" y="3360600"/>
              <a:ext cx="96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毕业 </a:t>
              </a:r>
              <a:r>
                <a:rPr b="0" lang="en-US" sz="20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6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矩形 9"/>
            <p:cNvSpPr/>
            <p:nvPr/>
          </p:nvSpPr>
          <p:spPr>
            <a:xfrm>
              <a:off x="6996240" y="3360600"/>
              <a:ext cx="11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读 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##</a:t>
              </a:r>
              <a:r>
                <a:rPr b="0" lang="en-US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矩形 10"/>
            <p:cNvSpPr/>
            <p:nvPr/>
          </p:nvSpPr>
          <p:spPr>
            <a:xfrm>
              <a:off x="3648960" y="373536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指导硕士研究生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矩形 11"/>
            <p:cNvSpPr/>
            <p:nvPr/>
          </p:nvSpPr>
          <p:spPr>
            <a:xfrm>
              <a:off x="5499000" y="3719520"/>
              <a:ext cx="96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毕业 </a:t>
              </a:r>
              <a:r>
                <a:rPr b="0" lang="en-US" sz="20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9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矩形 12"/>
            <p:cNvSpPr/>
            <p:nvPr/>
          </p:nvSpPr>
          <p:spPr>
            <a:xfrm>
              <a:off x="7104960" y="3719520"/>
              <a:ext cx="8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读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矩形 14"/>
            <p:cNvSpPr/>
            <p:nvPr/>
          </p:nvSpPr>
          <p:spPr>
            <a:xfrm>
              <a:off x="3648960" y="337644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指导博士研究生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7" name="图片 2" descr=""/>
          <p:cNvPicPr/>
          <p:nvPr/>
        </p:nvPicPr>
        <p:blipFill>
          <a:blip r:embed="rId1"/>
          <a:stretch/>
        </p:blipFill>
        <p:spPr>
          <a:xfrm>
            <a:off x="2190600" y="324324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Paralife\Downloads\1305510976_ordinateur off.png"/>
          <p:cNvPicPr/>
          <p:nvPr/>
        </p:nvPicPr>
        <p:blipFill>
          <a:blip r:embed="rId2"/>
          <a:stretch/>
        </p:blipFill>
        <p:spPr>
          <a:xfrm>
            <a:off x="2313000" y="1844640"/>
            <a:ext cx="712800" cy="714240"/>
          </a:xfrm>
          <a:prstGeom prst="rect">
            <a:avLst/>
          </a:prstGeom>
          <a:ln w="0">
            <a:noFill/>
          </a:ln>
        </p:spPr>
      </p:pic>
      <p:sp>
        <p:nvSpPr>
          <p:cNvPr id="99" name="矩形 15"/>
          <p:cNvSpPr/>
          <p:nvPr/>
        </p:nvSpPr>
        <p:spPr>
          <a:xfrm>
            <a:off x="3319560" y="4786200"/>
            <a:ext cx="515124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秀硕士论文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#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 刘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#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 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图片 4" descr=""/>
          <p:cNvPicPr/>
          <p:nvPr/>
        </p:nvPicPr>
        <p:blipFill>
          <a:blip r:embed="rId3"/>
          <a:stretch/>
        </p:blipFill>
        <p:spPr>
          <a:xfrm rot="748200">
            <a:off x="2300400" y="4879800"/>
            <a:ext cx="966600" cy="966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"/>
          <p:cNvPicPr/>
          <p:nvPr/>
        </p:nvPicPr>
        <p:blipFill>
          <a:blip r:embed="rId4"/>
          <a:stretch/>
        </p:blipFill>
        <p:spPr>
          <a:xfrm>
            <a:off x="52560" y="382680"/>
            <a:ext cx="339552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7"/>
          <p:cNvSpPr/>
          <p:nvPr/>
        </p:nvSpPr>
        <p:spPr>
          <a:xfrm>
            <a:off x="3402000" y="2444760"/>
            <a:ext cx="488484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加了理学院化学博士点的建设工作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化学一级学科博士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已顺利通过教育部的批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图片 3" descr=""/>
          <p:cNvPicPr/>
          <p:nvPr/>
        </p:nvPicPr>
        <p:blipFill>
          <a:blip r:embed="rId1"/>
          <a:stretch/>
        </p:blipFill>
        <p:spPr>
          <a:xfrm>
            <a:off x="1330200" y="2719440"/>
            <a:ext cx="1695600" cy="1693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461880" y="115920"/>
            <a:ext cx="2987640" cy="14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1"/>
          <p:cNvSpPr/>
          <p:nvPr/>
        </p:nvSpPr>
        <p:spPr>
          <a:xfrm>
            <a:off x="3378240" y="5286240"/>
            <a:ext cx="4572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组织了校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21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98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科建设工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1"/>
          <p:cNvSpPr/>
          <p:nvPr/>
        </p:nvSpPr>
        <p:spPr>
          <a:xfrm>
            <a:off x="3413160" y="1711440"/>
            <a:ext cx="488772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组织并申报了西北工业大学</a:t>
            </a:r>
            <a:br>
              <a:rPr sz="1800"/>
            </a:b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分子化学与物理的博士后流动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2"/>
          <p:cNvSpPr/>
          <p:nvPr/>
        </p:nvSpPr>
        <p:spPr>
          <a:xfrm>
            <a:off x="3413160" y="3216240"/>
            <a:ext cx="488772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等学校科学研究及大型仪器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享平台</a:t>
            </a:r>
            <a:br>
              <a:rPr sz="2000"/>
            </a:b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前材料已上报省教育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图片 2" descr=""/>
          <p:cNvPicPr/>
          <p:nvPr/>
        </p:nvPicPr>
        <p:blipFill>
          <a:blip r:embed="rId1"/>
          <a:stretch/>
        </p:blipFill>
        <p:spPr>
          <a:xfrm>
            <a:off x="2190600" y="180648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C:\Users\Paralife\Downloads\1306049947_microscope.png"/>
          <p:cNvPicPr/>
          <p:nvPr/>
        </p:nvPicPr>
        <p:blipFill>
          <a:blip r:embed="rId2"/>
          <a:stretch/>
        </p:blipFill>
        <p:spPr>
          <a:xfrm>
            <a:off x="1928880" y="3368520"/>
            <a:ext cx="1384200" cy="1384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3"/>
          <a:stretch/>
        </p:blipFill>
        <p:spPr>
          <a:xfrm>
            <a:off x="2287440" y="518328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4"/>
          <a:stretch/>
        </p:blipFill>
        <p:spPr>
          <a:xfrm>
            <a:off x="461880" y="115920"/>
            <a:ext cx="2987640" cy="1401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504800" y="6342120"/>
            <a:ext cx="647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教育教学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模板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eeppt.com/moban/jiaoyu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2"/>
          <p:cNvSpPr/>
          <p:nvPr/>
        </p:nvSpPr>
        <p:spPr>
          <a:xfrm>
            <a:off x="3413160" y="2440080"/>
            <a:ext cx="489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养 博士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养 博士生已留校工作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，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图片 4" descr=""/>
          <p:cNvPicPr/>
          <p:nvPr/>
        </p:nvPicPr>
        <p:blipFill>
          <a:blip r:embed="rId1"/>
          <a:stretch/>
        </p:blipFill>
        <p:spPr>
          <a:xfrm>
            <a:off x="1998720" y="2313000"/>
            <a:ext cx="1268280" cy="1268280"/>
          </a:xfrm>
          <a:prstGeom prst="rect">
            <a:avLst/>
          </a:prstGeom>
          <a:ln w="0">
            <a:noFill/>
          </a:ln>
        </p:spPr>
      </p:pic>
      <p:sp>
        <p:nvSpPr>
          <p:cNvPr id="115" name="矩形 5"/>
          <p:cNvSpPr/>
          <p:nvPr/>
        </p:nvSpPr>
        <p:spPr>
          <a:xfrm>
            <a:off x="3413160" y="3454560"/>
            <a:ext cx="3724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评为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破格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为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评为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副教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473040" y="361800"/>
            <a:ext cx="298764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8"/>
          <p:cNvSpPr/>
          <p:nvPr/>
        </p:nvSpPr>
        <p:spPr>
          <a:xfrm>
            <a:off x="3456000" y="4410000"/>
            <a:ext cx="228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田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10"/>
          <p:cNvSpPr/>
          <p:nvPr/>
        </p:nvSpPr>
        <p:spPr>
          <a:xfrm>
            <a:off x="3456000" y="5081760"/>
            <a:ext cx="4821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博士后特别奖励基金 </a:t>
            </a: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家自然科学基金 青年基金 </a:t>
            </a: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陕西省科学基金 </a:t>
            </a: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CI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篇，最高影响因子：</a:t>
            </a: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4.53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965960" y="863640"/>
            <a:ext cx="6168240" cy="1303200"/>
            <a:chOff x="1965960" y="863640"/>
            <a:chExt cx="6168240" cy="1303200"/>
          </a:xfrm>
        </p:grpSpPr>
        <p:sp>
          <p:nvSpPr>
            <p:cNvPr id="120" name="矩形 3"/>
            <p:cNvSpPr/>
            <p:nvPr/>
          </p:nvSpPr>
          <p:spPr>
            <a:xfrm>
              <a:off x="3455640" y="863640"/>
              <a:ext cx="46785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刘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##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矩形 6"/>
            <p:cNvSpPr/>
            <p:nvPr/>
          </p:nvSpPr>
          <p:spPr>
            <a:xfrm>
              <a:off x="3455640" y="1335240"/>
              <a:ext cx="4630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国家自然科学基金 面上项目 </a:t>
              </a:r>
              <a:r>
                <a:rPr b="0" lang="en-US" sz="16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发表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CI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论文 </a:t>
              </a:r>
              <a:r>
                <a:rPr b="0" lang="en-US" sz="16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3  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篇，最高影响因子：</a:t>
              </a:r>
              <a:r>
                <a:rPr b="0" lang="en-US" sz="16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4.539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2" name="Picture 2" descr="C:\Users\Paralife\Downloads\1306051577_User.png"/>
            <p:cNvPicPr/>
            <p:nvPr/>
          </p:nvPicPr>
          <p:blipFill>
            <a:blip r:embed="rId1"/>
            <a:stretch/>
          </p:blipFill>
          <p:spPr>
            <a:xfrm flipH="1" rot="21081600">
              <a:off x="2042640" y="982800"/>
              <a:ext cx="1104840" cy="110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"/>
          <p:cNvGrpSpPr/>
          <p:nvPr/>
        </p:nvGrpSpPr>
        <p:grpSpPr>
          <a:xfrm>
            <a:off x="1924200" y="2344680"/>
            <a:ext cx="6210000" cy="2314080"/>
            <a:chOff x="1924200" y="2344680"/>
            <a:chExt cx="6210000" cy="2314080"/>
          </a:xfrm>
        </p:grpSpPr>
        <p:sp>
          <p:nvSpPr>
            <p:cNvPr id="124" name="矩形 7"/>
            <p:cNvSpPr/>
            <p:nvPr/>
          </p:nvSpPr>
          <p:spPr>
            <a:xfrm>
              <a:off x="3456000" y="2344680"/>
              <a:ext cx="2286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孔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#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矩形 9"/>
            <p:cNvSpPr/>
            <p:nvPr/>
          </p:nvSpPr>
          <p:spPr>
            <a:xfrm>
              <a:off x="3456000" y="2739600"/>
              <a:ext cx="467820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洪堡基金 </a:t>
              </a:r>
              <a:r>
                <a:rPr b="0" lang="en-US" sz="16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国家自然科学基金 面上项目 </a:t>
              </a:r>
              <a:r>
                <a:rPr b="0" lang="en-US" sz="16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国家自然科学基金 青年项目 </a:t>
              </a:r>
              <a:r>
                <a:rPr b="0" lang="en-US" sz="16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航空基金 </a:t>
              </a:r>
              <a:r>
                <a:rPr b="0" lang="en-US" sz="16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发表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CI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论文 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篇，最高影响因子：</a:t>
              </a:r>
              <a:r>
                <a:rPr b="0" lang="en-US" sz="16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4.539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6" name="Picture 3" descr="C:\Users\Paralife\Downloads\1306051570_administrator.png"/>
            <p:cNvPicPr/>
            <p:nvPr/>
          </p:nvPicPr>
          <p:blipFill>
            <a:blip r:embed="rId2"/>
            <a:stretch/>
          </p:blipFill>
          <p:spPr>
            <a:xfrm>
              <a:off x="1924200" y="3104640"/>
              <a:ext cx="1190520" cy="1191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" name="Picture 4" descr="C:\Users\Paralife\Downloads\1306051563_administrator.png"/>
          <p:cNvPicPr/>
          <p:nvPr/>
        </p:nvPicPr>
        <p:blipFill>
          <a:blip r:embed="rId3"/>
          <a:stretch/>
        </p:blipFill>
        <p:spPr>
          <a:xfrm rot="21117600">
            <a:off x="1938240" y="5310360"/>
            <a:ext cx="1258920" cy="1258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4"/>
          <a:stretch/>
        </p:blipFill>
        <p:spPr>
          <a:xfrm>
            <a:off x="473040" y="136440"/>
            <a:ext cx="298764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2"/>
          <p:cNvSpPr/>
          <p:nvPr/>
        </p:nvSpPr>
        <p:spPr>
          <a:xfrm>
            <a:off x="3311640" y="760320"/>
            <a:ext cx="5108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持科研项目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50000"/>
              </a:lnSpc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家自然科学基金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50000"/>
              </a:lnSpc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省部级项目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3311640" y="2643120"/>
            <a:ext cx="510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研经费累计到款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100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万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图片 22" descr=""/>
          <p:cNvPicPr/>
          <p:nvPr/>
        </p:nvPicPr>
        <p:blipFill>
          <a:blip r:embed="rId1"/>
          <a:stretch/>
        </p:blipFill>
        <p:spPr>
          <a:xfrm>
            <a:off x="1963800" y="958680"/>
            <a:ext cx="1305000" cy="130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263520" y="3614760"/>
          <a:ext cx="8156520" cy="2967120"/>
        </p:xfrm>
        <a:graphic>
          <a:graphicData uri="http://schemas.openxmlformats.org/drawingml/2006/table">
            <a:tbl>
              <a:tblPr/>
              <a:tblGrid>
                <a:gridCol w="747720"/>
                <a:gridCol w="4100400"/>
                <a:gridCol w="852480"/>
                <a:gridCol w="1227240"/>
                <a:gridCol w="1228680"/>
              </a:tblGrid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207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类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207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项目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207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本人排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207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总经费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(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万元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207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已到款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(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万元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369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国家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############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</a:tr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7375e"/>
                          </a:solidFill>
                          <a:latin typeface="微软雅黑"/>
                          <a:ea typeface="微软雅黑"/>
                        </a:rPr>
                        <a:t>省部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##############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0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7375e"/>
                          </a:solidFill>
                          <a:latin typeface="微软雅黑"/>
                          <a:ea typeface="微软雅黑"/>
                        </a:rPr>
                        <a:t>省部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##############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</a:tr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7375e"/>
                          </a:solidFill>
                          <a:latin typeface="微软雅黑"/>
                          <a:ea typeface="微软雅黑"/>
                        </a:rPr>
                        <a:t>省部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##############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1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7375e"/>
                          </a:solidFill>
                          <a:latin typeface="微软雅黑"/>
                          <a:ea typeface="微软雅黑"/>
                        </a:rPr>
                        <a:t>省部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##############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</a:tr>
              <a:tr h="370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7375e"/>
                          </a:solidFill>
                          <a:latin typeface="微软雅黑"/>
                          <a:ea typeface="微软雅黑"/>
                        </a:rPr>
                        <a:t>省部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##############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横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##############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</a:tr>
            </a:tbl>
          </a:graphicData>
        </a:graphic>
      </p:graphicFrame>
      <p:pic>
        <p:nvPicPr>
          <p:cNvPr id="133" name="图片 26" descr=""/>
          <p:cNvPicPr/>
          <p:nvPr/>
        </p:nvPicPr>
        <p:blipFill>
          <a:blip r:embed="rId2"/>
          <a:stretch/>
        </p:blipFill>
        <p:spPr>
          <a:xfrm>
            <a:off x="2208240" y="2597040"/>
            <a:ext cx="885960" cy="885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3" descr=""/>
          <p:cNvPicPr/>
          <p:nvPr/>
        </p:nvPicPr>
        <p:blipFill>
          <a:blip r:embed="rId3"/>
          <a:stretch/>
        </p:blipFill>
        <p:spPr>
          <a:xfrm>
            <a:off x="63360" y="201600"/>
            <a:ext cx="3395880" cy="9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7"/>
          <p:cNvSpPr/>
          <p:nvPr/>
        </p:nvSpPr>
        <p:spPr>
          <a:xfrm>
            <a:off x="3594240" y="2532240"/>
            <a:ext cx="5149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般若黑洞出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于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，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石油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##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油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进行了大规模的推广应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已由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般若黑洞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图片 1" descr=""/>
          <p:cNvPicPr/>
          <p:nvPr/>
        </p:nvPicPr>
        <p:blipFill>
          <a:blip r:embed="rId1"/>
          <a:stretch/>
        </p:blipFill>
        <p:spPr>
          <a:xfrm>
            <a:off x="1028880" y="1793880"/>
            <a:ext cx="2565360" cy="3857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3" descr=""/>
          <p:cNvPicPr/>
          <p:nvPr/>
        </p:nvPicPr>
        <p:blipFill>
          <a:blip r:embed="rId2"/>
          <a:stretch/>
        </p:blipFill>
        <p:spPr>
          <a:xfrm>
            <a:off x="63360" y="368280"/>
            <a:ext cx="3395880" cy="9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7"/>
          <p:cNvSpPr/>
          <p:nvPr/>
        </p:nvSpPr>
        <p:spPr>
          <a:xfrm>
            <a:off x="5083920" y="1852560"/>
            <a:ext cx="24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##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###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届集成分子及大分子材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际会议（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ISIMME-#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#######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13"/>
          <p:cNvSpPr/>
          <p:nvPr/>
        </p:nvSpPr>
        <p:spPr>
          <a:xfrm>
            <a:off x="2765520" y="1852560"/>
            <a:ext cx="1984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点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议名称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宣读论文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C:\Users\Paralife\Downloads\1305556563_Microphone.png"/>
          <p:cNvPicPr/>
          <p:nvPr/>
        </p:nvPicPr>
        <p:blipFill>
          <a:blip r:embed="rId1"/>
          <a:srcRect l="20145" t="0" r="20780" b="0"/>
          <a:stretch/>
        </p:blipFill>
        <p:spPr>
          <a:xfrm>
            <a:off x="1633680" y="2797200"/>
            <a:ext cx="1404720" cy="2379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52560" y="369720"/>
            <a:ext cx="3395520" cy="914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08:48:18Z</dcterms:created>
  <dc:creator/>
  <dc:description/>
  <dc:language>en-US</dc:language>
  <cp:lastModifiedBy>a</cp:lastModifiedBy>
  <dcterms:modified xsi:type="dcterms:W3CDTF">2015-06-13T11:53:17Z</dcterms:modified>
  <cp:revision>6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