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15A-CAFA-452C-ABE9-AA107AFE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334-C2C0-4BE8-BF73-57BEA7BE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D74-8628-487E-9900-8C1B81B9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45F-BAB1-47B2-A9D6-53D66068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C7F-2394-46E7-907D-B4F1DBB4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B15-BB95-4168-A418-9DC0C1A1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24E-20E3-4F89-BE86-BB313102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613-898D-44CD-B3B7-EA6B8535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B37-DAE4-42FE-8B21-95675902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257-6FCE-4F50-AB56-CB3EF52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601-C5CA-4D8A-8B86-7525401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725-BC51-4955-A58A-7ECE496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A40-54D7-43B9-BEBC-B936F6D2E1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C180-5F82-4AAC-92A7-0B45597B4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4750"/>
          <a:stretch/>
        </p:blipFill>
        <p:spPr>
          <a:xfrm>
            <a:off x="-1141560" y="304920"/>
            <a:ext cx="1028556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38" t="0" r="738" b="3378"/>
          <a:stretch/>
        </p:blipFill>
        <p:spPr>
          <a:xfrm>
            <a:off x="-303120" y="0"/>
            <a:ext cx="9447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0" b="4750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-227160" y="0"/>
            <a:ext cx="9142560" cy="7009920"/>
            <a:chOff x="-227160" y="0"/>
            <a:chExt cx="9142560" cy="70099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-227160" y="0"/>
              <a:ext cx="914256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182520" y="6401160"/>
              <a:ext cx="283896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5"/>
          <a:srcRect l="746" t="0" r="746" b="3364"/>
          <a:stretch/>
        </p:blipFill>
        <p:spPr>
          <a:xfrm>
            <a:off x="5226120" y="0"/>
            <a:ext cx="3917880" cy="552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4497" r="0" b="0"/>
          <a:stretch/>
        </p:blipFill>
        <p:spPr>
          <a:xfrm>
            <a:off x="-608040" y="0"/>
            <a:ext cx="9142560" cy="7010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rcRect l="0" t="0" r="0" b="4750"/>
          <a:stretch/>
        </p:blipFill>
        <p:spPr>
          <a:xfrm>
            <a:off x="-1446120" y="0"/>
            <a:ext cx="102852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227160" y="0"/>
            <a:ext cx="10361520" cy="7009920"/>
            <a:chOff x="-227160" y="0"/>
            <a:chExt cx="10361520" cy="7009920"/>
          </a:xfrm>
        </p:grpSpPr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 flipH="1">
              <a:off x="-227160" y="0"/>
              <a:ext cx="1036152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flipH="1">
              <a:off x="6865920" y="6401160"/>
              <a:ext cx="321768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74160" y="152280"/>
            <a:ext cx="10361160" cy="7010280"/>
            <a:chOff x="-74160" y="152280"/>
            <a:chExt cx="10361160" cy="7010280"/>
          </a:xfrm>
        </p:grpSpPr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 flipH="1">
              <a:off x="-74160" y="152280"/>
              <a:ext cx="1036116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018560" y="6553800"/>
              <a:ext cx="3217680" cy="585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6680" y="304920"/>
            <a:ext cx="10362600" cy="7009920"/>
            <a:chOff x="76680" y="304920"/>
            <a:chExt cx="10362600" cy="7009920"/>
          </a:xfrm>
        </p:grpSpPr>
        <p:pic>
          <p:nvPicPr>
            <p:cNvPr id="57" name="" descr=""/>
            <p:cNvPicPr/>
            <p:nvPr/>
          </p:nvPicPr>
          <p:blipFill>
            <a:blip r:embed="rId10"/>
            <a:stretch/>
          </p:blipFill>
          <p:spPr>
            <a:xfrm flipH="1">
              <a:off x="76680" y="304920"/>
              <a:ext cx="1036260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flipH="1">
              <a:off x="7170480" y="6706080"/>
              <a:ext cx="321804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1"/>
          <a:srcRect l="0" t="0" r="0" b="4750"/>
          <a:stretch/>
        </p:blipFill>
        <p:spPr>
          <a:xfrm>
            <a:off x="-912960" y="0"/>
            <a:ext cx="1028556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293840" y="-709560"/>
            <a:ext cx="11046960" cy="8253000"/>
            <a:chOff x="-1293840" y="-709560"/>
            <a:chExt cx="11046960" cy="8253000"/>
          </a:xfrm>
        </p:grpSpPr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-1293840" y="-709560"/>
              <a:ext cx="11046960" cy="82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-1271880" y="7084440"/>
              <a:ext cx="3818880" cy="41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892-FFB7-4FC9-B38D-807698682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6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