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1F8-6067-46A7-B024-D57115C9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FB02-3ECA-4964-872E-D9818784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6DC-198F-4FBF-9A09-90A8356C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A23C-C529-41C6-BA1B-9BE93AE6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33FA-B5A0-4DED-80F6-56BE8678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5DF3-1746-474C-9969-6CEFFDC3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353C-4130-4DF2-905B-E871E343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C1D4-B608-4CB9-93D2-B5E25EA4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31B2-DDBC-4C08-BBED-E490902E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678C-AF5B-4486-A949-D891B9DD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0EEF-CA28-4BF1-865F-55F30AC7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8FFC-2585-465A-A4AB-0953BB2D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79F4-2BB7-4949-A095-2FE70A6E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24C0-E965-40EE-BD1F-6C602CFB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118D-5CE1-4298-84A6-FB659877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1EE6-252B-4F6D-AAA9-7142C427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7D02-2728-403B-AFC6-026F8734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D612A-59ED-474B-B600-7C8E5BF0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809F6-D8F0-4E97-91F9-097ADDC1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22E09-4968-47C0-87E8-65543C57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91AE5-F35B-48BC-A8C5-3322A8C7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EF009-0E9E-4286-A694-27122D51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9D9D-FBC6-489C-8E2E-A4C0B29D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DCBC0-F562-4AF0-9BAA-824E1572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F8B41-E602-452D-A59E-74CF51B8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2D756-5674-43BD-96B0-67FA432F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B7FD2-3E7F-4EAA-B0DA-33CF7963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9C321-1DF7-49C1-89F5-EB7446C0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D9B68-D223-49D2-AE6B-4E84ACDA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DBCB0-6928-46B0-9DF2-632DAFB8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45410-791F-40B2-9477-7F4A4762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BFE71-47F0-4E48-98E0-DF3B0580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471D6-530F-4CE9-BF5B-13C2FBD6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048-F8C1-4B08-A0F4-ED06155B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7B88F-0366-452E-BAD9-BF1A7AB2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E3EE5-B047-4052-AD1E-6CF0FA36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BC52C-5B77-41F4-9D5D-C9BE4FCE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AF7ED-B2D5-4268-A9D8-9AEF87C8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B000E-524D-45DA-8E12-793E4CE5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38CCE-036D-427F-8855-D645C0DF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9E688-AD81-4C2D-A358-CA73FF1A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A8F80-3046-47D0-BE50-F456A3C5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7BC7E-A5BC-451A-A1CC-2695A557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9C8-9559-4A2A-A9DE-6C9FE845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DC20-579D-46A2-AB99-CC7509FF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75C1-93DC-4BB9-A4BE-29CB6AB2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8E00-6AD9-4115-B3B7-4FD13F9D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59E1-0762-40BA-B0A2-6F0CBAF2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5C33-1E00-454E-B474-A4EF976EE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480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E374-5741-45E7-A1C0-11E879E65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F8DE-9F1B-47AA-9719-138F30B0B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77480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6832-01F9-485E-913B-E6DE7DFCD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1" descr="F:\work\第二\圣诞2008\未标题-9副本.png"/>
          <p:cNvPicPr/>
          <p:nvPr/>
        </p:nvPicPr>
        <p:blipFill>
          <a:blip r:embed="rId2"/>
          <a:srcRect l="0" t="0" r="86670" b="58005"/>
          <a:stretch/>
        </p:blipFill>
        <p:spPr>
          <a:xfrm>
            <a:off x="152280" y="-28440"/>
            <a:ext cx="1217880" cy="2390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F:\work\第二\圣诞2008\未标题-10副本.png"/>
          <p:cNvPicPr/>
          <p:nvPr/>
        </p:nvPicPr>
        <p:blipFill>
          <a:blip r:embed="rId3"/>
          <a:srcRect l="7500" t="0" r="75003" b="55333"/>
          <a:stretch/>
        </p:blipFill>
        <p:spPr>
          <a:xfrm>
            <a:off x="838080" y="-28440"/>
            <a:ext cx="1598760" cy="2543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F:\work\第二\圣诞2008\未标题-8副本.png"/>
          <p:cNvPicPr/>
          <p:nvPr/>
        </p:nvPicPr>
        <p:blipFill>
          <a:blip r:embed="rId4"/>
          <a:srcRect l="0" t="0" r="73337" b="87339"/>
          <a:stretch/>
        </p:blipFill>
        <p:spPr>
          <a:xfrm>
            <a:off x="152280" y="-28440"/>
            <a:ext cx="2436840" cy="714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F:\work\第二\圣诞2008\未标题-7副本.png"/>
          <p:cNvPicPr/>
          <p:nvPr/>
        </p:nvPicPr>
        <p:blipFill>
          <a:blip r:embed="rId5"/>
          <a:srcRect l="3333" t="0" r="80837" b="18000"/>
          <a:stretch/>
        </p:blipFill>
        <p:spPr>
          <a:xfrm>
            <a:off x="152280" y="-28440"/>
            <a:ext cx="1446480" cy="4676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F:\work\第二\圣诞2008\未标题-5副本.png"/>
          <p:cNvPicPr/>
          <p:nvPr/>
        </p:nvPicPr>
        <p:blipFill>
          <a:blip r:embed="rId6"/>
          <a:srcRect l="1804" t="0" r="80003" b="64226"/>
          <a:stretch/>
        </p:blipFill>
        <p:spPr>
          <a:xfrm>
            <a:off x="152280" y="-28440"/>
            <a:ext cx="1662120" cy="2035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F:\work\第二\圣诞2008\未标题-6副本.png"/>
          <p:cNvPicPr/>
          <p:nvPr/>
        </p:nvPicPr>
        <p:blipFill>
          <a:blip r:embed="rId7"/>
          <a:srcRect l="5833" t="0" r="76670" b="47780"/>
          <a:stretch/>
        </p:blipFill>
        <p:spPr>
          <a:xfrm>
            <a:off x="533520" y="266760"/>
            <a:ext cx="1598400" cy="2982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3" descr="F:\work\第二\圣诞2008\未标题-22副本.png"/>
          <p:cNvPicPr/>
          <p:nvPr/>
        </p:nvPicPr>
        <p:blipFill>
          <a:blip r:embed="rId8"/>
          <a:srcRect l="31667" t="47333" r="0" b="0"/>
          <a:stretch/>
        </p:blipFill>
        <p:spPr>
          <a:xfrm>
            <a:off x="2895480" y="2705040"/>
            <a:ext cx="6248520" cy="3009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581200" y="1832040"/>
            <a:ext cx="49626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16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175 0.13666 E">
                                      <p:cBhvr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066680" y="914400"/>
            <a:ext cx="6629400" cy="615960"/>
            <a:chOff x="1066680" y="914400"/>
            <a:chExt cx="6629400" cy="615960"/>
          </a:xfrm>
        </p:grpSpPr>
        <p:grpSp>
          <p:nvGrpSpPr>
            <p:cNvPr id="173" name=""/>
            <p:cNvGrpSpPr/>
            <p:nvPr/>
          </p:nvGrpSpPr>
          <p:grpSpPr>
            <a:xfrm>
              <a:off x="1066680" y="914400"/>
              <a:ext cx="6629400" cy="615960"/>
              <a:chOff x="1066680" y="914400"/>
              <a:chExt cx="6629400" cy="615960"/>
            </a:xfrm>
          </p:grpSpPr>
          <p:sp>
            <p:nvSpPr>
              <p:cNvPr id="174" name="AutoShape 3"/>
              <p:cNvSpPr/>
              <p:nvPr/>
            </p:nvSpPr>
            <p:spPr>
              <a:xfrm>
                <a:off x="1067400" y="914400"/>
                <a:ext cx="6627600" cy="615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54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utoShape 3"/>
              <p:cNvSpPr/>
              <p:nvPr/>
            </p:nvSpPr>
            <p:spPr>
              <a:xfrm>
                <a:off x="1066680" y="958680"/>
                <a:ext cx="6629400" cy="527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57cff"/>
                  </a:gs>
                  <a:gs pos="100000">
                    <a:srgbClr val="05004c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Rectangle 13"/>
            <p:cNvSpPr/>
            <p:nvPr/>
          </p:nvSpPr>
          <p:spPr>
            <a:xfrm>
              <a:off x="2932200" y="1026720"/>
              <a:ext cx="292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Picture 2" descr="C:\Documents and Settings\laoli\My Documents\My Pictures\merry_christmas_002.png"/>
          <p:cNvPicPr/>
          <p:nvPr/>
        </p:nvPicPr>
        <p:blipFill>
          <a:blip r:embed="rId2"/>
          <a:stretch/>
        </p:blipFill>
        <p:spPr>
          <a:xfrm>
            <a:off x="923760" y="771480"/>
            <a:ext cx="857520" cy="85716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1066680" y="1866960"/>
            <a:ext cx="6629400" cy="615960"/>
            <a:chOff x="1066680" y="1866960"/>
            <a:chExt cx="6629400" cy="615960"/>
          </a:xfrm>
        </p:grpSpPr>
        <p:grpSp>
          <p:nvGrpSpPr>
            <p:cNvPr id="179" name=""/>
            <p:cNvGrpSpPr/>
            <p:nvPr/>
          </p:nvGrpSpPr>
          <p:grpSpPr>
            <a:xfrm>
              <a:off x="1066680" y="1866960"/>
              <a:ext cx="6629400" cy="615960"/>
              <a:chOff x="1066680" y="1866960"/>
              <a:chExt cx="6629400" cy="615960"/>
            </a:xfrm>
          </p:grpSpPr>
          <p:sp>
            <p:nvSpPr>
              <p:cNvPr id="180" name="AutoShape 3"/>
              <p:cNvSpPr/>
              <p:nvPr/>
            </p:nvSpPr>
            <p:spPr>
              <a:xfrm>
                <a:off x="1067400" y="1866960"/>
                <a:ext cx="6627600" cy="615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54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AutoShape 3"/>
              <p:cNvSpPr/>
              <p:nvPr/>
            </p:nvSpPr>
            <p:spPr>
              <a:xfrm>
                <a:off x="1066680" y="1911240"/>
                <a:ext cx="6629400" cy="527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57cff"/>
                  </a:gs>
                  <a:gs pos="100000">
                    <a:srgbClr val="05004c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Rectangle 13"/>
            <p:cNvSpPr/>
            <p:nvPr/>
          </p:nvSpPr>
          <p:spPr>
            <a:xfrm>
              <a:off x="2932200" y="1979280"/>
              <a:ext cx="292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Picture 2" descr="C:\Documents and Settings\laoli\My Documents\My Pictures\merry_christmas_002.png"/>
          <p:cNvPicPr/>
          <p:nvPr/>
        </p:nvPicPr>
        <p:blipFill>
          <a:blip r:embed="rId3"/>
          <a:stretch/>
        </p:blipFill>
        <p:spPr>
          <a:xfrm>
            <a:off x="923760" y="1724040"/>
            <a:ext cx="857520" cy="8571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1066680" y="2819520"/>
            <a:ext cx="6629400" cy="615960"/>
            <a:chOff x="1066680" y="2819520"/>
            <a:chExt cx="6629400" cy="615960"/>
          </a:xfrm>
        </p:grpSpPr>
        <p:grpSp>
          <p:nvGrpSpPr>
            <p:cNvPr id="185" name=""/>
            <p:cNvGrpSpPr/>
            <p:nvPr/>
          </p:nvGrpSpPr>
          <p:grpSpPr>
            <a:xfrm>
              <a:off x="1066680" y="2819520"/>
              <a:ext cx="6629400" cy="615960"/>
              <a:chOff x="1066680" y="2819520"/>
              <a:chExt cx="6629400" cy="615960"/>
            </a:xfrm>
          </p:grpSpPr>
          <p:sp>
            <p:nvSpPr>
              <p:cNvPr id="186" name="AutoShape 3"/>
              <p:cNvSpPr/>
              <p:nvPr/>
            </p:nvSpPr>
            <p:spPr>
              <a:xfrm>
                <a:off x="1067400" y="2819520"/>
                <a:ext cx="6627600" cy="615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54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3"/>
              <p:cNvSpPr/>
              <p:nvPr/>
            </p:nvSpPr>
            <p:spPr>
              <a:xfrm>
                <a:off x="1066680" y="2863800"/>
                <a:ext cx="6629400" cy="527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57cff"/>
                  </a:gs>
                  <a:gs pos="100000">
                    <a:srgbClr val="05004c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Rectangle 13"/>
            <p:cNvSpPr/>
            <p:nvPr/>
          </p:nvSpPr>
          <p:spPr>
            <a:xfrm>
              <a:off x="2932200" y="2931840"/>
              <a:ext cx="292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Picture 2" descr="C:\Documents and Settings\laoli\My Documents\My Pictures\merry_christmas_002.png"/>
          <p:cNvPicPr/>
          <p:nvPr/>
        </p:nvPicPr>
        <p:blipFill>
          <a:blip r:embed="rId4"/>
          <a:stretch/>
        </p:blipFill>
        <p:spPr>
          <a:xfrm>
            <a:off x="923760" y="2676600"/>
            <a:ext cx="857520" cy="85716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1066680" y="3772080"/>
            <a:ext cx="6629400" cy="615600"/>
            <a:chOff x="1066680" y="3772080"/>
            <a:chExt cx="6629400" cy="615600"/>
          </a:xfrm>
        </p:grpSpPr>
        <p:grpSp>
          <p:nvGrpSpPr>
            <p:cNvPr id="191" name=""/>
            <p:cNvGrpSpPr/>
            <p:nvPr/>
          </p:nvGrpSpPr>
          <p:grpSpPr>
            <a:xfrm>
              <a:off x="1066680" y="3772080"/>
              <a:ext cx="6629400" cy="615600"/>
              <a:chOff x="1066680" y="3772080"/>
              <a:chExt cx="6629400" cy="615600"/>
            </a:xfrm>
          </p:grpSpPr>
          <p:sp>
            <p:nvSpPr>
              <p:cNvPr id="192" name="AutoShape 3"/>
              <p:cNvSpPr/>
              <p:nvPr/>
            </p:nvSpPr>
            <p:spPr>
              <a:xfrm>
                <a:off x="1067400" y="3772080"/>
                <a:ext cx="6627600" cy="6156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54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3"/>
              <p:cNvSpPr/>
              <p:nvPr/>
            </p:nvSpPr>
            <p:spPr>
              <a:xfrm>
                <a:off x="1066680" y="3816000"/>
                <a:ext cx="6629400" cy="527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57cff"/>
                  </a:gs>
                  <a:gs pos="100000">
                    <a:srgbClr val="05004c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Rectangle 13"/>
            <p:cNvSpPr/>
            <p:nvPr/>
          </p:nvSpPr>
          <p:spPr>
            <a:xfrm>
              <a:off x="2932200" y="3884400"/>
              <a:ext cx="292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.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Picture 2" descr="C:\Documents and Settings\laoli\My Documents\My Pictures\merry_christmas_002.png"/>
          <p:cNvPicPr/>
          <p:nvPr/>
        </p:nvPicPr>
        <p:blipFill>
          <a:blip r:embed="rId5"/>
          <a:stretch/>
        </p:blipFill>
        <p:spPr>
          <a:xfrm>
            <a:off x="923760" y="362916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5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600"/>
                            </p:stCondLst>
                            <p:childTnLst>
                              <p:par>
                                <p:cTn id="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990720" y="2095560"/>
            <a:ext cx="6692760" cy="1295280"/>
            <a:chOff x="990720" y="2095560"/>
            <a:chExt cx="6692760" cy="1295280"/>
          </a:xfrm>
        </p:grpSpPr>
        <p:grpSp>
          <p:nvGrpSpPr>
            <p:cNvPr id="197" name=""/>
            <p:cNvGrpSpPr/>
            <p:nvPr/>
          </p:nvGrpSpPr>
          <p:grpSpPr>
            <a:xfrm>
              <a:off x="1206360" y="2311200"/>
              <a:ext cx="6477120" cy="930600"/>
              <a:chOff x="1206360" y="2311200"/>
              <a:chExt cx="6477120" cy="93060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1206360" y="2311200"/>
                <a:ext cx="6477120" cy="930600"/>
                <a:chOff x="1206360" y="2311200"/>
                <a:chExt cx="6477120" cy="930600"/>
              </a:xfrm>
            </p:grpSpPr>
            <p:sp>
              <p:nvSpPr>
                <p:cNvPr id="199" name="AutoShape 3"/>
                <p:cNvSpPr/>
                <p:nvPr/>
              </p:nvSpPr>
              <p:spPr>
                <a:xfrm>
                  <a:off x="1207080" y="2311200"/>
                  <a:ext cx="6475320" cy="93060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bfbfbf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AutoShape 3"/>
                <p:cNvSpPr/>
                <p:nvPr/>
              </p:nvSpPr>
              <p:spPr>
                <a:xfrm>
                  <a:off x="1206360" y="2377800"/>
                  <a:ext cx="6477120" cy="79704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057cff"/>
                    </a:gs>
                    <a:gs pos="100000">
                      <a:srgbClr val="05004c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Rectangle 13"/>
              <p:cNvSpPr/>
              <p:nvPr/>
            </p:nvSpPr>
            <p:spPr>
              <a:xfrm>
                <a:off x="3029040" y="2481120"/>
                <a:ext cx="285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.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2" name="Picture 2" descr="C:\Documents and Settings\laoli\My Documents\My Pictures\merry_christmas_002.png"/>
            <p:cNvPicPr/>
            <p:nvPr/>
          </p:nvPicPr>
          <p:blipFill>
            <a:blip r:embed="rId2"/>
            <a:stretch/>
          </p:blipFill>
          <p:spPr>
            <a:xfrm>
              <a:off x="990720" y="2095560"/>
              <a:ext cx="1295280" cy="129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extBox 3" descr=""/>
          <p:cNvPicPr/>
          <p:nvPr/>
        </p:nvPicPr>
        <p:blipFill>
          <a:blip r:embed="rId2"/>
          <a:stretch/>
        </p:blipFill>
        <p:spPr>
          <a:xfrm>
            <a:off x="1523880" y="1866960"/>
            <a:ext cx="632160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5CE55-B59A-4FC4-82F9-6302DE0F58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00:12:58Z</dcterms:created>
  <dc:creator/>
  <dc:description/>
  <dc:language>en-US</dc:language>
  <cp:lastModifiedBy>a</cp:lastModifiedBy>
  <dcterms:modified xsi:type="dcterms:W3CDTF">2015-06-13T07:03:21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Version">
    <vt:r8>1</vt:r8>
  </property>
</Properties>
</file>