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26A-6FAD-4730-8E89-5D0406EC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FDE-1352-44BA-A774-BC1239A3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43D-8528-4CEC-A5D3-8248B6A0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073-2A27-4F0A-A59F-949C7DFD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4923-2A6F-4797-8132-EC932CEC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268-E16A-49E2-B56D-0FA525C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5A3-7007-4913-925A-8DE331D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F5E-7753-4395-95F2-5A4813D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76C-B9E6-4EE8-97D2-A051842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1D03-F277-49A4-903B-E4AFEC8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0599-67AA-48A6-A720-915FCEB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554-48C4-473B-AB13-A16EC025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37A1-72E6-4127-BA2F-802B117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8A2-5618-400C-9503-0A8A2B6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21A1-25CD-4000-BE9A-61C1946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32B-C302-480D-89B0-F00D47D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1DD5-4891-4D65-B009-53E1F209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06A-F3E4-40A1-9340-2A8CC6D5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E30-FFFA-4FC2-B791-CDDDB530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EA3-650A-44B1-A1F3-E9C020C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18A-5B33-4BB5-B9D1-4D8A301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B5E-2D2F-4A80-818F-38D5DBA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1BE-70B0-477D-A540-63FD2AE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CF3-01C9-4B5E-A292-67A3486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FBE8-6413-4A0E-8626-DE917E1DA9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D470-BC50-4E1B-AA9C-A8E7FA318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6FD-B654-447F-847C-5E7346A3A8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FE67-3961-42A9-B729-3A12CCF81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2825640" y="1806480"/>
            <a:ext cx="3691080" cy="3062520"/>
            <a:chOff x="2825640" y="1806480"/>
            <a:chExt cx="3691080" cy="3062520"/>
          </a:xfrm>
        </p:grpSpPr>
        <p:grpSp>
          <p:nvGrpSpPr>
            <p:cNvPr id="83" name="组合 1057"/>
            <p:cNvGrpSpPr/>
            <p:nvPr/>
          </p:nvGrpSpPr>
          <p:grpSpPr>
            <a:xfrm>
              <a:off x="3556080" y="1806480"/>
              <a:ext cx="1372680" cy="897120"/>
              <a:chOff x="3556080" y="1806480"/>
              <a:chExt cx="1372680" cy="897120"/>
            </a:xfrm>
          </p:grpSpPr>
          <p:sp>
            <p:nvSpPr>
              <p:cNvPr id="84" name="Freeform 15"/>
              <p:cNvSpPr/>
              <p:nvPr/>
            </p:nvSpPr>
            <p:spPr>
              <a:xfrm>
                <a:off x="3791880" y="1887120"/>
                <a:ext cx="924840" cy="492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6"/>
              <p:cNvSpPr/>
              <p:nvPr/>
            </p:nvSpPr>
            <p:spPr>
              <a:xfrm>
                <a:off x="3556080" y="1960560"/>
                <a:ext cx="1372680" cy="74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3829320" y="1870200"/>
                <a:ext cx="905040" cy="49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3568320" y="1902600"/>
                <a:ext cx="1315800" cy="70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4"/>
              <p:cNvSpPr/>
              <p:nvPr/>
            </p:nvSpPr>
            <p:spPr>
              <a:xfrm>
                <a:off x="3595320" y="1806480"/>
                <a:ext cx="1310760" cy="770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1056"/>
            <p:cNvGrpSpPr/>
            <p:nvPr/>
          </p:nvGrpSpPr>
          <p:grpSpPr>
            <a:xfrm>
              <a:off x="5302080" y="3136320"/>
              <a:ext cx="1214640" cy="1412280"/>
              <a:chOff x="5302080" y="3136320"/>
              <a:chExt cx="1214640" cy="1412280"/>
            </a:xfrm>
          </p:grpSpPr>
          <p:sp>
            <p:nvSpPr>
              <p:cNvPr id="90" name="Freeform 17"/>
              <p:cNvSpPr/>
              <p:nvPr/>
            </p:nvSpPr>
            <p:spPr>
              <a:xfrm>
                <a:off x="5560920" y="3248640"/>
                <a:ext cx="817560" cy="75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0"/>
              <p:cNvSpPr/>
              <p:nvPr/>
            </p:nvSpPr>
            <p:spPr>
              <a:xfrm>
                <a:off x="5315400" y="3400200"/>
                <a:ext cx="1201320" cy="114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5302080" y="3213360"/>
                <a:ext cx="1144800" cy="117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5600520" y="3262680"/>
                <a:ext cx="772560" cy="81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8"/>
              <p:cNvSpPr/>
              <p:nvPr/>
            </p:nvSpPr>
            <p:spPr>
              <a:xfrm>
                <a:off x="5337720" y="3136320"/>
                <a:ext cx="1162800" cy="1201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058"/>
            <p:cNvGrpSpPr/>
            <p:nvPr/>
          </p:nvGrpSpPr>
          <p:grpSpPr>
            <a:xfrm>
              <a:off x="3167280" y="2248560"/>
              <a:ext cx="2594520" cy="2440800"/>
              <a:chOff x="3167280" y="2248560"/>
              <a:chExt cx="2594520" cy="2440800"/>
            </a:xfrm>
          </p:grpSpPr>
          <p:sp>
            <p:nvSpPr>
              <p:cNvPr id="96" name="Freeform 14"/>
              <p:cNvSpPr/>
              <p:nvPr/>
            </p:nvSpPr>
            <p:spPr>
              <a:xfrm>
                <a:off x="5063760" y="2386440"/>
                <a:ext cx="39240" cy="159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5171760" y="2890800"/>
                <a:ext cx="590040" cy="5734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3167280" y="2637000"/>
                <a:ext cx="64080" cy="4456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3181680" y="2809440"/>
                <a:ext cx="1717560" cy="145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3"/>
              <p:cNvSpPr/>
              <p:nvPr/>
            </p:nvSpPr>
            <p:spPr>
              <a:xfrm>
                <a:off x="4728960" y="4344480"/>
                <a:ext cx="969480" cy="3448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9"/>
              <p:cNvSpPr/>
              <p:nvPr/>
            </p:nvSpPr>
            <p:spPr>
              <a:xfrm>
                <a:off x="5252760" y="2913480"/>
                <a:ext cx="492480" cy="16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"/>
              <p:cNvSpPr/>
              <p:nvPr/>
            </p:nvSpPr>
            <p:spPr>
              <a:xfrm>
                <a:off x="5063760" y="2386440"/>
                <a:ext cx="59040" cy="2336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"/>
              <p:cNvSpPr/>
              <p:nvPr/>
            </p:nvSpPr>
            <p:spPr>
              <a:xfrm>
                <a:off x="3186720" y="2406240"/>
                <a:ext cx="2511720" cy="21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6"/>
              <p:cNvSpPr/>
              <p:nvPr/>
            </p:nvSpPr>
            <p:spPr>
              <a:xfrm>
                <a:off x="3201480" y="2248560"/>
                <a:ext cx="2295360" cy="85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0"/>
              <p:cNvSpPr/>
              <p:nvPr/>
            </p:nvSpPr>
            <p:spPr>
              <a:xfrm>
                <a:off x="4354920" y="2733840"/>
                <a:ext cx="1365480" cy="1775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1055"/>
            <p:cNvGrpSpPr/>
            <p:nvPr/>
          </p:nvGrpSpPr>
          <p:grpSpPr>
            <a:xfrm>
              <a:off x="2825640" y="3048840"/>
              <a:ext cx="1883880" cy="1820160"/>
              <a:chOff x="2825640" y="3048840"/>
              <a:chExt cx="1883880" cy="1820160"/>
            </a:xfrm>
          </p:grpSpPr>
          <p:sp>
            <p:nvSpPr>
              <p:cNvPr id="107" name="Freeform 21"/>
              <p:cNvSpPr/>
              <p:nvPr/>
            </p:nvSpPr>
            <p:spPr>
              <a:xfrm>
                <a:off x="3165480" y="3250080"/>
                <a:ext cx="1232280" cy="856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4"/>
              <p:cNvSpPr/>
              <p:nvPr/>
            </p:nvSpPr>
            <p:spPr>
              <a:xfrm>
                <a:off x="2825640" y="3584880"/>
                <a:ext cx="1802880" cy="128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2"/>
              <p:cNvSpPr/>
              <p:nvPr/>
            </p:nvSpPr>
            <p:spPr>
              <a:xfrm>
                <a:off x="2830680" y="3368880"/>
                <a:ext cx="1691640" cy="132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3"/>
              <p:cNvSpPr/>
              <p:nvPr/>
            </p:nvSpPr>
            <p:spPr>
              <a:xfrm>
                <a:off x="3273480" y="3230640"/>
                <a:ext cx="1173240" cy="88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7"/>
              <p:cNvSpPr/>
              <p:nvPr/>
            </p:nvSpPr>
            <p:spPr>
              <a:xfrm>
                <a:off x="2859840" y="3048840"/>
                <a:ext cx="1286640" cy="1145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1"/>
              <p:cNvSpPr/>
              <p:nvPr/>
            </p:nvSpPr>
            <p:spPr>
              <a:xfrm>
                <a:off x="3103920" y="3215880"/>
                <a:ext cx="1605600" cy="146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矩形 1"/>
          <p:cNvSpPr/>
          <p:nvPr/>
        </p:nvSpPr>
        <p:spPr>
          <a:xfrm>
            <a:off x="6521040" y="25560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三环关联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1"/>
          <p:cNvSpPr/>
          <p:nvPr/>
        </p:nvSpPr>
        <p:spPr>
          <a:xfrm flipH="1">
            <a:off x="812520" y="2108160"/>
            <a:ext cx="3413160" cy="4680"/>
          </a:xfrm>
          <a:prstGeom prst="line">
            <a:avLst/>
          </a:prstGeom>
          <a:ln w="6480">
            <a:solidFill>
              <a:srgbClr val="e36c09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892080" y="17701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5"/>
          <p:cNvSpPr/>
          <p:nvPr/>
        </p:nvSpPr>
        <p:spPr>
          <a:xfrm flipH="1">
            <a:off x="5915160" y="3728880"/>
            <a:ext cx="2566800" cy="0"/>
          </a:xfrm>
          <a:prstGeom prst="line">
            <a:avLst/>
          </a:prstGeom>
          <a:ln w="6480">
            <a:solidFill>
              <a:srgbClr val="0070c0"/>
            </a:solidFill>
            <a:prstDash val="sysDot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7458120" y="37609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7092360" y="33577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48"/>
          <p:cNvSpPr/>
          <p:nvPr/>
        </p:nvSpPr>
        <p:spPr>
          <a:xfrm flipH="1">
            <a:off x="812880" y="3828960"/>
            <a:ext cx="2968560" cy="0"/>
          </a:xfrm>
          <a:prstGeom prst="line">
            <a:avLst/>
          </a:prstGeom>
          <a:ln w="6480">
            <a:solidFill>
              <a:srgbClr val="be1247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 flipH="1">
            <a:off x="892080" y="35002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 flipH="1">
            <a:off x="6486480" y="3759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1"/>
          <p:cNvGrpSpPr/>
          <p:nvPr/>
        </p:nvGrpSpPr>
        <p:grpSpPr>
          <a:xfrm>
            <a:off x="812880" y="2168640"/>
            <a:ext cx="2112840" cy="464040"/>
            <a:chOff x="812880" y="2168640"/>
            <a:chExt cx="2112840" cy="464040"/>
          </a:xfrm>
        </p:grpSpPr>
        <p:sp>
          <p:nvSpPr>
            <p:cNvPr id="123" name="TextBox 11"/>
            <p:cNvSpPr/>
            <p:nvPr/>
          </p:nvSpPr>
          <p:spPr>
            <a:xfrm flipH="1">
              <a:off x="812880" y="217368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"/>
            <p:cNvSpPr/>
            <p:nvPr/>
          </p:nvSpPr>
          <p:spPr>
            <a:xfrm flipH="1">
              <a:off x="1780200" y="216864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4"/>
          <p:cNvGrpSpPr/>
          <p:nvPr/>
        </p:nvGrpSpPr>
        <p:grpSpPr>
          <a:xfrm>
            <a:off x="822240" y="3840120"/>
            <a:ext cx="2113200" cy="464040"/>
            <a:chOff x="822240" y="3840120"/>
            <a:chExt cx="2113200" cy="464040"/>
          </a:xfrm>
        </p:grpSpPr>
        <p:sp>
          <p:nvSpPr>
            <p:cNvPr id="126" name="TextBox 11"/>
            <p:cNvSpPr/>
            <p:nvPr/>
          </p:nvSpPr>
          <p:spPr>
            <a:xfrm flipH="1">
              <a:off x="822240" y="384516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 flipH="1">
              <a:off x="1789920" y="384012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椭圆 57"/>
          <p:cNvSpPr/>
          <p:nvPr/>
        </p:nvSpPr>
        <p:spPr>
          <a:xfrm>
            <a:off x="1332000" y="4863960"/>
            <a:ext cx="669600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230720" y="272268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5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