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10B-3F7A-4F21-85E7-D3594853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DF74-55D6-475D-9907-C596EDE2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2E4-4A0E-40A5-A83A-2B6A58A1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5C1-D7B7-4D19-8406-DD967823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B3F-3F69-496E-AF2C-D6762FCE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AD3-F7A6-42B3-B6BA-3AE6D341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B32E-0B14-4060-8165-5CBBCBA2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E96-806C-49A3-9897-79A6114B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8FDA-A485-4ECD-8290-FEE39DB8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260-CCCB-479B-904B-09049B76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158-E511-49FA-A0F7-15873DB3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C8A-0A73-43D2-84B0-20BA813B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29C0-17BD-4991-931D-CB70247793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D086-067B-4A71-AE3F-57C4F5A71D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世界地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3749760" y="4546440"/>
            <a:ext cx="77760" cy="149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95280" y="2133720"/>
            <a:ext cx="8180280" cy="4238280"/>
            <a:chOff x="395280" y="2133720"/>
            <a:chExt cx="8180280" cy="4238280"/>
          </a:xfrm>
        </p:grpSpPr>
        <p:sp>
          <p:nvSpPr>
            <p:cNvPr id="44" name="Freeform 5"/>
            <p:cNvSpPr/>
            <p:nvPr/>
          </p:nvSpPr>
          <p:spPr>
            <a:xfrm>
              <a:off x="395280" y="3860280"/>
              <a:ext cx="1660680" cy="1791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5370480" y="2234880"/>
              <a:ext cx="3205080" cy="4137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3527280" y="4794840"/>
              <a:ext cx="946440" cy="111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93720" y="3128760"/>
              <a:ext cx="264960" cy="39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2212920" y="2168280"/>
              <a:ext cx="217440" cy="4536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3048120" y="4647240"/>
              <a:ext cx="304560" cy="258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73560" y="4534560"/>
              <a:ext cx="411120" cy="47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3684600" y="4302720"/>
              <a:ext cx="88920" cy="166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4219560" y="3342600"/>
              <a:ext cx="71280" cy="279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3914640" y="3636360"/>
              <a:ext cx="392400" cy="444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4552920" y="5517000"/>
              <a:ext cx="262080" cy="418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669960" y="2133720"/>
              <a:ext cx="4637160" cy="2583360"/>
              <a:chOff x="669960" y="2133720"/>
              <a:chExt cx="4637160" cy="2583360"/>
            </a:xfrm>
          </p:grpSpPr>
          <p:sp>
            <p:nvSpPr>
              <p:cNvPr id="56" name="Freeform 17"/>
              <p:cNvSpPr/>
              <p:nvPr/>
            </p:nvSpPr>
            <p:spPr>
              <a:xfrm>
                <a:off x="669960" y="2133720"/>
                <a:ext cx="4637160" cy="2583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3788640" y="3721680"/>
                <a:ext cx="167040" cy="324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19"/>
            <p:cNvSpPr/>
            <p:nvPr/>
          </p:nvSpPr>
          <p:spPr>
            <a:xfrm>
              <a:off x="1801800" y="5050440"/>
              <a:ext cx="169920" cy="339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Freeform 20"/>
          <p:cNvSpPr/>
          <p:nvPr/>
        </p:nvSpPr>
        <p:spPr>
          <a:xfrm>
            <a:off x="6794640" y="2298600"/>
            <a:ext cx="147600" cy="200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2"/>
          <p:cNvSpPr/>
          <p:nvPr/>
        </p:nvSpPr>
        <p:spPr>
          <a:xfrm>
            <a:off x="7980480" y="522288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3"/>
          <p:cNvSpPr/>
          <p:nvPr/>
        </p:nvSpPr>
        <p:spPr>
          <a:xfrm>
            <a:off x="5356080" y="2619360"/>
            <a:ext cx="2189160" cy="2295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4"/>
          <p:cNvSpPr/>
          <p:nvPr/>
        </p:nvSpPr>
        <p:spPr>
          <a:xfrm>
            <a:off x="5367240" y="2523960"/>
            <a:ext cx="2414520" cy="31276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4"/>
          <p:cNvSpPr/>
          <p:nvPr/>
        </p:nvSpPr>
        <p:spPr>
          <a:xfrm>
            <a:off x="1400040" y="4362480"/>
            <a:ext cx="120960" cy="12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5"/>
          <p:cNvSpPr/>
          <p:nvPr/>
        </p:nvSpPr>
        <p:spPr>
          <a:xfrm>
            <a:off x="1743120" y="3867120"/>
            <a:ext cx="120600" cy="1206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6"/>
          <p:cNvSpPr/>
          <p:nvPr/>
        </p:nvSpPr>
        <p:spPr>
          <a:xfrm>
            <a:off x="895320" y="354636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7"/>
          <p:cNvSpPr/>
          <p:nvPr/>
        </p:nvSpPr>
        <p:spPr>
          <a:xfrm>
            <a:off x="5965920" y="287352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9"/>
          <p:cNvSpPr/>
          <p:nvPr/>
        </p:nvSpPr>
        <p:spPr>
          <a:xfrm>
            <a:off x="6931080" y="422280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0"/>
          <p:cNvSpPr/>
          <p:nvPr/>
        </p:nvSpPr>
        <p:spPr>
          <a:xfrm>
            <a:off x="3600360" y="5530680"/>
            <a:ext cx="120600" cy="12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1"/>
          <p:cNvSpPr/>
          <p:nvPr/>
        </p:nvSpPr>
        <p:spPr>
          <a:xfrm>
            <a:off x="1590840" y="348948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4"/>
          <p:cNvSpPr/>
          <p:nvPr/>
        </p:nvSpPr>
        <p:spPr>
          <a:xfrm>
            <a:off x="6513480" y="33750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.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6"/>
          <p:cNvSpPr/>
          <p:nvPr/>
        </p:nvSpPr>
        <p:spPr>
          <a:xfrm>
            <a:off x="3592080" y="525780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7"/>
          <p:cNvSpPr/>
          <p:nvPr/>
        </p:nvSpPr>
        <p:spPr>
          <a:xfrm>
            <a:off x="951120" y="443880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35"/>
          <p:cNvSpPr/>
          <p:nvPr/>
        </p:nvSpPr>
        <p:spPr>
          <a:xfrm>
            <a:off x="969840" y="1773360"/>
            <a:ext cx="2855880" cy="1795320"/>
          </a:xfrm>
          <a:prstGeom prst="pi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任意多边形 36"/>
          <p:cNvSpPr/>
          <p:nvPr/>
        </p:nvSpPr>
        <p:spPr>
          <a:xfrm>
            <a:off x="1692360" y="2492280"/>
            <a:ext cx="2133360" cy="1009800"/>
          </a:xfrm>
          <a:prstGeom prst="pi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37"/>
          <p:cNvSpPr/>
          <p:nvPr/>
        </p:nvSpPr>
        <p:spPr>
          <a:xfrm rot="20334000">
            <a:off x="1285920" y="3349800"/>
            <a:ext cx="2566800" cy="572760"/>
          </a:xfrm>
          <a:prstGeom prst="pi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38"/>
          <p:cNvSpPr/>
          <p:nvPr/>
        </p:nvSpPr>
        <p:spPr>
          <a:xfrm rot="1528200">
            <a:off x="3843360" y="3425760"/>
            <a:ext cx="4564080" cy="990720"/>
          </a:xfrm>
          <a:prstGeom prst="pi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39"/>
          <p:cNvSpPr/>
          <p:nvPr/>
        </p:nvSpPr>
        <p:spPr>
          <a:xfrm rot="16803600">
            <a:off x="2198520" y="3875040"/>
            <a:ext cx="2171520" cy="1098360"/>
          </a:xfrm>
          <a:prstGeom prst="pi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40"/>
          <p:cNvSpPr/>
          <p:nvPr/>
        </p:nvSpPr>
        <p:spPr>
          <a:xfrm rot="20990400">
            <a:off x="3758760" y="2468160"/>
            <a:ext cx="2249640" cy="774720"/>
          </a:xfrm>
          <a:prstGeom prst="pi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3"/>
          <p:cNvSpPr/>
          <p:nvPr/>
        </p:nvSpPr>
        <p:spPr>
          <a:xfrm>
            <a:off x="3365280" y="30322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2"/>
          <p:cNvSpPr/>
          <p:nvPr/>
        </p:nvSpPr>
        <p:spPr>
          <a:xfrm>
            <a:off x="1521720" y="30067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7486560" y="471492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.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任意多边形 44"/>
          <p:cNvSpPr/>
          <p:nvPr/>
        </p:nvSpPr>
        <p:spPr>
          <a:xfrm rot="1063200">
            <a:off x="3943440" y="2814480"/>
            <a:ext cx="3230640" cy="1101960"/>
          </a:xfrm>
          <a:prstGeom prst="pi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8"/>
          <p:cNvSpPr/>
          <p:nvPr/>
        </p:nvSpPr>
        <p:spPr>
          <a:xfrm>
            <a:off x="3780000" y="3357720"/>
            <a:ext cx="120600" cy="120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21F5-A951-4838-9D9A-DFF0A27D8F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9:5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