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042-2595-4091-818B-A47E8341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F44-76B0-41F4-BA51-76B396E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2DC-EDC8-4A83-A74A-E4216A7E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D9E-092E-44A0-A933-0BC58C2F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E8C5-6C75-4043-A4B3-D4B92774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06D3-59BD-49A9-A00F-269BDDC2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B9CC-AE9C-46E1-A518-57D52D9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22B7-A57F-4D62-8941-0F68EE02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92AC-1A96-4AD2-98E1-98E758B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0B3-59A7-49C7-AA5F-AC2CE4A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6270-227B-4EEE-8E49-307385B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EE8-6724-4295-8B3F-138221F5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93F7-B783-4EC8-9C15-C800F0B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63DA-AD3C-4758-A93E-642F467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6019-0672-49F8-BDD1-8EEAA8C5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0A41-ECB1-48D0-9F23-065DDC90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502D-D4E7-4402-9854-EBA4C89E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CA3-B79D-4EA0-8AED-ADD7BBB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9A1-A5ED-4D75-86FD-E84277C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B0C-AD16-4C7C-A23D-983CF9DB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0F4-F795-4424-972B-A3A581B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175-0516-495A-AAFD-CF9E030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532-5827-48C6-9B1E-4059EC2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C08-BDAB-45EA-8534-69029E4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EA33-8B7B-4EB4-B863-36B36E94C0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5796-CE28-4E7B-93A7-749775A21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78E8-03B5-4325-AA74-ACC131486E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E95-933D-4A05-A17B-94D18308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b_1371793378715.jpg"/>
          <p:cNvPicPr/>
          <p:nvPr/>
        </p:nvPicPr>
        <p:blipFill>
          <a:blip r:embed="rId1"/>
          <a:stretch/>
        </p:blipFill>
        <p:spPr>
          <a:xfrm>
            <a:off x="4516560" y="657360"/>
            <a:ext cx="4627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