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BC3-D9A9-4827-8C70-AB2C79C3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904-82F9-4053-9132-7E782FE8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CA60-946F-423C-8ADB-22670713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F3C-37C3-4472-842D-5FA3EE65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2A2D-DB73-4A5F-A1DE-9654448F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5129-7B47-48D0-B90B-F7D9E3FA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9E09-C7C9-4447-867A-93543FEB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FD49-B594-4701-A25F-30D6E470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55BA-9337-4887-AE48-5F591ABF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2E16-FEBC-4288-B1D4-E04028E8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0C46-79FF-451C-9946-30E718B3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3D22-AF0A-4A59-9037-2854FA94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6F22-CDD7-436A-B720-3796EE23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0C7B-11F8-4052-A21B-0B0E68D3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9190-BB0E-41DA-8BF6-332AF1F1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FA98-4CB2-4E30-A5B6-CEAC4FFB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AE1D-4E83-4A54-8560-F9F696D8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6D5-6257-462D-B0CB-DDC9AA5F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3D52-EE2C-4B0C-B978-CCCA4446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EED0-DB67-4711-8BF0-167AFBA2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FB4A-61AC-49FE-95D9-F56D468C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188-FBEC-4411-AF0B-120C60B9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131-82A4-4CA1-9EAE-86F0CD71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A6C0-09BD-42E2-9D14-82BCF862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34CA-DBE3-4303-A544-3AFC6CA9BE0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650E-79AC-473A-BE25-23DFC76A2B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6B09-43AE-4BA5-B6A6-C2B46036E3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ECF6-09DD-4410-A669-A2CED1C3F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809720" y="4784760"/>
            <a:ext cx="5560920" cy="1420920"/>
            <a:chOff x="1809720" y="4784760"/>
            <a:chExt cx="5560920" cy="1420920"/>
          </a:xfrm>
        </p:grpSpPr>
        <p:pic>
          <p:nvPicPr>
            <p:cNvPr id="83" name="椭圆 10" descr=""/>
            <p:cNvPicPr/>
            <p:nvPr/>
          </p:nvPicPr>
          <p:blipFill>
            <a:blip r:embed="rId1"/>
            <a:stretch/>
          </p:blipFill>
          <p:spPr>
            <a:xfrm>
              <a:off x="1809720" y="4784760"/>
              <a:ext cx="55609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706480" y="5070600"/>
              <a:ext cx="369288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等腰三角形 6"/>
          <p:cNvSpPr/>
          <p:nvPr/>
        </p:nvSpPr>
        <p:spPr>
          <a:xfrm>
            <a:off x="3662280" y="1960560"/>
            <a:ext cx="1797120" cy="1468440"/>
          </a:xfrm>
          <a:custGeom>
            <a:avLst/>
            <a:gdLst/>
            <a:ahLst/>
            <a:rect l="l" t="t" r="r" b="b"/>
            <a:pathLst>
              <a:path w="1796802" h="1469072">
                <a:moveTo>
                  <a:pt x="898401" y="0"/>
                </a:moveTo>
                <a:lnTo>
                  <a:pt x="1796802" y="1469072"/>
                </a:lnTo>
                <a:lnTo>
                  <a:pt x="1015417" y="1469072"/>
                </a:lnTo>
                <a:lnTo>
                  <a:pt x="1015417" y="1372637"/>
                </a:lnTo>
                <a:lnTo>
                  <a:pt x="1154781" y="1372637"/>
                </a:lnTo>
                <a:lnTo>
                  <a:pt x="876052" y="1125318"/>
                </a:lnTo>
                <a:lnTo>
                  <a:pt x="597323" y="1372637"/>
                </a:lnTo>
                <a:lnTo>
                  <a:pt x="736688" y="1372637"/>
                </a:lnTo>
                <a:lnTo>
                  <a:pt x="736688" y="1469072"/>
                </a:lnTo>
                <a:lnTo>
                  <a:pt x="0" y="1469072"/>
                </a:lnTo>
                <a:lnTo>
                  <a:pt x="898401" y="0"/>
                </a:lnTo>
                <a:close/>
              </a:path>
            </a:pathLst>
          </a:custGeom>
          <a:gradFill rotWithShape="0">
            <a:gsLst>
              <a:gs pos="0">
                <a:srgbClr val="fa9496"/>
              </a:gs>
              <a:gs pos="100000">
                <a:srgbClr val="be1247"/>
              </a:gs>
            </a:gsLst>
            <a:lin ang="10800000"/>
          </a:gra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7"/>
          <p:cNvSpPr/>
          <p:nvPr/>
        </p:nvSpPr>
        <p:spPr>
          <a:xfrm>
            <a:off x="4656240" y="3621240"/>
            <a:ext cx="1765080" cy="1500120"/>
          </a:xfrm>
          <a:custGeom>
            <a:avLst/>
            <a:gdLst/>
            <a:ahLst/>
            <a:rect l="l" t="t" r="r" b="b"/>
            <a:pathLst>
              <a:path w="1765052" h="1500603">
                <a:moveTo>
                  <a:pt x="882526" y="0"/>
                </a:moveTo>
                <a:lnTo>
                  <a:pt x="1765052" y="1500603"/>
                </a:lnTo>
                <a:lnTo>
                  <a:pt x="0" y="1500603"/>
                </a:lnTo>
                <a:lnTo>
                  <a:pt x="375894" y="861452"/>
                </a:lnTo>
                <a:lnTo>
                  <a:pt x="464514" y="915388"/>
                </a:lnTo>
                <a:lnTo>
                  <a:pt x="392059" y="1034436"/>
                </a:lnTo>
                <a:lnTo>
                  <a:pt x="748236" y="924919"/>
                </a:lnTo>
                <a:lnTo>
                  <a:pt x="681880" y="558240"/>
                </a:lnTo>
                <a:lnTo>
                  <a:pt x="609424" y="677289"/>
                </a:lnTo>
                <a:lnTo>
                  <a:pt x="517210" y="621166"/>
                </a:lnTo>
                <a:lnTo>
                  <a:pt x="882526" y="0"/>
                </a:lnTo>
                <a:close/>
              </a:path>
            </a:pathLst>
          </a:custGeom>
          <a:gradFill rotWithShape="0">
            <a:gsLst>
              <a:gs pos="0">
                <a:srgbClr val="119707"/>
              </a:gs>
              <a:gs pos="100000">
                <a:srgbClr val="bceb6f"/>
              </a:gs>
            </a:gsLst>
            <a:lin ang="5400000"/>
          </a:gra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等腰三角形 6"/>
          <p:cNvSpPr/>
          <p:nvPr/>
        </p:nvSpPr>
        <p:spPr>
          <a:xfrm rot="10800000">
            <a:off x="3627000" y="3517920"/>
            <a:ext cx="1822680" cy="1550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6a96"/>
              </a:gs>
              <a:gs pos="100000">
                <a:srgbClr val="00b8ff"/>
              </a:gs>
            </a:gsLst>
            <a:lin ang="162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等腰三角形 11"/>
          <p:cNvSpPr/>
          <p:nvPr/>
        </p:nvSpPr>
        <p:spPr>
          <a:xfrm>
            <a:off x="2693880" y="3621240"/>
            <a:ext cx="1765440" cy="1500120"/>
          </a:xfrm>
          <a:custGeom>
            <a:avLst/>
            <a:gdLst/>
            <a:ahLst/>
            <a:rect l="l" t="t" r="r" b="b"/>
            <a:pathLst>
              <a:path w="1765052" h="1500603">
                <a:moveTo>
                  <a:pt x="882526" y="0"/>
                </a:moveTo>
                <a:lnTo>
                  <a:pt x="1236032" y="601083"/>
                </a:lnTo>
                <a:lnTo>
                  <a:pt x="1121186" y="667974"/>
                </a:lnTo>
                <a:lnTo>
                  <a:pt x="1051045" y="547547"/>
                </a:lnTo>
                <a:lnTo>
                  <a:pt x="977616" y="912876"/>
                </a:lnTo>
                <a:lnTo>
                  <a:pt x="1331611" y="1029255"/>
                </a:lnTo>
                <a:lnTo>
                  <a:pt x="1261469" y="908828"/>
                </a:lnTo>
                <a:lnTo>
                  <a:pt x="1377332" y="841344"/>
                </a:lnTo>
                <a:lnTo>
                  <a:pt x="1765052" y="1500603"/>
                </a:lnTo>
                <a:lnTo>
                  <a:pt x="0" y="1500603"/>
                </a:lnTo>
                <a:lnTo>
                  <a:pt x="882526" y="0"/>
                </a:lnTo>
                <a:close/>
              </a:path>
            </a:pathLst>
          </a:custGeom>
          <a:gradFill rotWithShape="0">
            <a:gsLst>
              <a:gs pos="0">
                <a:srgbClr val="fece02"/>
              </a:gs>
              <a:gs pos="100000">
                <a:srgbClr val="c73e01"/>
              </a:gs>
            </a:gsLst>
            <a:lin ang="10800000"/>
          </a:gra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extBox 8" descr=""/>
          <p:cNvPicPr/>
          <p:nvPr/>
        </p:nvPicPr>
        <p:blipFill>
          <a:blip r:embed="rId2"/>
          <a:stretch/>
        </p:blipFill>
        <p:spPr>
          <a:xfrm>
            <a:off x="4145040" y="3693960"/>
            <a:ext cx="750960" cy="76860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9" descr=""/>
          <p:cNvPicPr/>
          <p:nvPr/>
        </p:nvPicPr>
        <p:blipFill>
          <a:blip r:embed="rId3"/>
          <a:stretch/>
        </p:blipFill>
        <p:spPr>
          <a:xfrm>
            <a:off x="5211720" y="4194000"/>
            <a:ext cx="787320" cy="96372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10" descr=""/>
          <p:cNvPicPr/>
          <p:nvPr/>
        </p:nvPicPr>
        <p:blipFill>
          <a:blip r:embed="rId4"/>
          <a:stretch/>
        </p:blipFill>
        <p:spPr>
          <a:xfrm>
            <a:off x="4145040" y="2389320"/>
            <a:ext cx="787320" cy="96336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11" descr=""/>
          <p:cNvPicPr/>
          <p:nvPr/>
        </p:nvPicPr>
        <p:blipFill>
          <a:blip r:embed="rId5"/>
          <a:stretch/>
        </p:blipFill>
        <p:spPr>
          <a:xfrm>
            <a:off x="3090960" y="4194000"/>
            <a:ext cx="785880" cy="963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1"/>
          <p:cNvSpPr/>
          <p:nvPr/>
        </p:nvSpPr>
        <p:spPr>
          <a:xfrm flipH="1">
            <a:off x="888120" y="413856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 flipH="1">
            <a:off x="1287360" y="450864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 flipH="1">
            <a:off x="1287360" y="478476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 flipH="1">
            <a:off x="6155640" y="413856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 flipH="1">
            <a:off x="6554160" y="450864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 flipH="1">
            <a:off x="6554160" y="47847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 flipH="1">
            <a:off x="3498120" y="102240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 flipH="1">
            <a:off x="3898080" y="1390680"/>
            <a:ext cx="12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 flipH="1">
            <a:off x="3898080" y="1668600"/>
            <a:ext cx="12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1"/>
          <p:cNvSpPr/>
          <p:nvPr/>
        </p:nvSpPr>
        <p:spPr>
          <a:xfrm>
            <a:off x="5667840" y="260280"/>
            <a:ext cx="24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三角形叠加扩散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0:0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