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35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764ED-4E05-4817-B5D9-2A227B395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02EF2-8268-4B63-B594-70A5B9045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101C-92EE-481F-8E54-5E1A58789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2966-3CE9-4D61-97B6-3B53F4BE8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2870D-7DE3-4903-BA5D-1C377BA44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5B06-6E34-4B4D-B742-A42FCCD64A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1B0DC-B9B6-4500-9B30-334FFAEBC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4D35-CF20-4E1A-BD0A-BDB0FFF9F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3D69-A300-4885-B482-443390222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D33F-CF9E-4DB5-82C3-1AFAA36A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EC598-8E58-4F7B-9438-D5949CE9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72DEB-4888-40A6-B5D3-CF18CFAEF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D804D-37EA-475A-80B8-E3B1CDA03C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g.blog.163.com/photo/0y_LSP9aodnrA5UHz1uRHg==/425027214834449676.jpg" TargetMode="External"/><Relationship Id="rId2" Type="http://schemas.openxmlformats.org/officeDocument/2006/relationships/image" Target="../media/image1.jpeg"/><Relationship Id="rId3" Type="http://schemas.openxmlformats.org/officeDocument/2006/relationships/hyperlink" Target="http://img.blog.163.com/photo/1ab0qekcAN6okXNNK6Oz7A==/424464264881027870.jpg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g.blog.163.com/photo/FsLVDdk0vTJz25T6a2pD6Q==/445574888134328211.jpg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g.blog.163.com/photo/aAxq9V6Z5nCF2rXQHD4MnA==/424464264881027873.jpg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img.blog.163.com/photo/BPyF22R4vK35oepfVKnHnQ==/437975063763132476.jpg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g.blog.163.com/photo/5eFQd-dppbxPt0T_ucTeZA==/425027214834449681.jpg" TargetMode="External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img.blog.163.com/photo/Tae-LetXKqsuAf0i3hQ2vQ==/424464264881027878.jp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img.blog.163.com/photo/Wb8gGsAnTA8AknXD8b_BeA==/446419313064450679.jpg" TargetMode="External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img.blog.163.com/photo/fvBCY-xsZp7IRxlJMDmevw==/2867104112774900549.jpg" TargetMode="External"/><Relationship Id="rId2" Type="http://schemas.openxmlformats.org/officeDocument/2006/relationships/hyperlink" Target="http://img.blog.163.com/photo/fvBCY-xsZp7IRxlJMDmevw==/2867104112774900549.jpg" TargetMode="External"/><Relationship Id="rId3" Type="http://schemas.openxmlformats.org/officeDocument/2006/relationships/image" Target="../media/image9.jpeg"/><Relationship Id="rId4" Type="http://schemas.openxmlformats.org/officeDocument/2006/relationships/hyperlink" Target="http://img.blog.163.com/photo/bkQUxsOcfCWd_HUxdTzexw==/445574888134328222.jpg" TargetMode="External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img.blog.163.com/photo/GxKB0if_BJcuzZufejSShw==/5713097602296347285.jpg" TargetMode="External"/><Relationship Id="rId2" Type="http://schemas.openxmlformats.org/officeDocument/2006/relationships/image" Target="../media/image11.jpeg"/><Relationship Id="rId3" Type="http://schemas.openxmlformats.org/officeDocument/2006/relationships/hyperlink" Target="http://img.blog.163.com/photo/mNCcRiNUYrggu9u3cp1Ecg==/445574888134328224.jpg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img.blog.163.com/photo/wg4SaguOao0rmqbb54S87w==/424464264881027883.jpg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img.blog.163.com/photo/HQIk7EOTZv4XRqRtGQ_Ebg==/424464264881027884.jpg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42502721483444967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89000"/>
            <a:ext cx="4562640" cy="63356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7" descr="42446426488102787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14760" y="189000"/>
            <a:ext cx="466560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5" descr="11.jpg"/>
          <p:cNvPicPr/>
          <p:nvPr/>
        </p:nvPicPr>
        <p:blipFill>
          <a:blip r:embed="rId1"/>
          <a:stretch/>
        </p:blipFill>
        <p:spPr>
          <a:xfrm>
            <a:off x="0" y="144360"/>
            <a:ext cx="4511520" cy="6524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7" descr="12.jpg"/>
          <p:cNvPicPr/>
          <p:nvPr/>
        </p:nvPicPr>
        <p:blipFill>
          <a:blip r:embed="rId2"/>
          <a:stretch/>
        </p:blipFill>
        <p:spPr>
          <a:xfrm>
            <a:off x="4572000" y="115920"/>
            <a:ext cx="456264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5" descr="13.jpg"/>
          <p:cNvPicPr/>
          <p:nvPr/>
        </p:nvPicPr>
        <p:blipFill>
          <a:blip r:embed="rId1"/>
          <a:stretch/>
        </p:blipFill>
        <p:spPr>
          <a:xfrm>
            <a:off x="0" y="260280"/>
            <a:ext cx="4430880" cy="64087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14.jpg"/>
          <p:cNvPicPr/>
          <p:nvPr/>
        </p:nvPicPr>
        <p:blipFill>
          <a:blip r:embed="rId2"/>
          <a:stretch/>
        </p:blipFill>
        <p:spPr>
          <a:xfrm>
            <a:off x="4749840" y="260280"/>
            <a:ext cx="443052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21.jpg"/>
          <p:cNvPicPr/>
          <p:nvPr/>
        </p:nvPicPr>
        <p:blipFill>
          <a:blip r:embed="rId1"/>
          <a:stretch/>
        </p:blipFill>
        <p:spPr>
          <a:xfrm>
            <a:off x="0" y="189000"/>
            <a:ext cx="4481640" cy="6480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7" descr="22.jpg"/>
          <p:cNvPicPr/>
          <p:nvPr/>
        </p:nvPicPr>
        <p:blipFill>
          <a:blip r:embed="rId2"/>
          <a:stretch/>
        </p:blipFill>
        <p:spPr>
          <a:xfrm>
            <a:off x="4627440" y="189000"/>
            <a:ext cx="448164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5" descr="lanbo00009"/>
          <p:cNvPicPr/>
          <p:nvPr/>
        </p:nvPicPr>
        <p:blipFill>
          <a:blip r:embed="rId1"/>
          <a:stretch/>
        </p:blipFill>
        <p:spPr>
          <a:xfrm>
            <a:off x="0" y="189000"/>
            <a:ext cx="4578480" cy="64087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lanbo00010"/>
          <p:cNvPicPr/>
          <p:nvPr/>
        </p:nvPicPr>
        <p:blipFill>
          <a:blip r:embed="rId2"/>
          <a:stretch/>
        </p:blipFill>
        <p:spPr>
          <a:xfrm>
            <a:off x="4643280" y="189000"/>
            <a:ext cx="452628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lanbo00011"/>
          <p:cNvPicPr/>
          <p:nvPr/>
        </p:nvPicPr>
        <p:blipFill>
          <a:blip r:embed="rId1"/>
          <a:stretch/>
        </p:blipFill>
        <p:spPr>
          <a:xfrm>
            <a:off x="0" y="260280"/>
            <a:ext cx="4525920" cy="633744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lanbo00012"/>
          <p:cNvPicPr/>
          <p:nvPr/>
        </p:nvPicPr>
        <p:blipFill>
          <a:blip r:embed="rId2"/>
          <a:stretch/>
        </p:blipFill>
        <p:spPr>
          <a:xfrm>
            <a:off x="4643280" y="260280"/>
            <a:ext cx="452628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点击查看下一张"/>
          <p:cNvPicPr/>
          <p:nvPr/>
        </p:nvPicPr>
        <p:blipFill>
          <a:blip r:embed="rId1"/>
          <a:stretch/>
        </p:blipFill>
        <p:spPr>
          <a:xfrm>
            <a:off x="0" y="287280"/>
            <a:ext cx="4079880" cy="61660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7" descr="点击查看下一张"/>
          <p:cNvPicPr/>
          <p:nvPr/>
        </p:nvPicPr>
        <p:blipFill>
          <a:blip r:embed="rId2"/>
          <a:stretch/>
        </p:blipFill>
        <p:spPr>
          <a:xfrm>
            <a:off x="4067280" y="720720"/>
            <a:ext cx="505908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5" descr="点击查看下一张"/>
          <p:cNvPicPr/>
          <p:nvPr/>
        </p:nvPicPr>
        <p:blipFill>
          <a:blip r:embed="rId1"/>
          <a:stretch/>
        </p:blipFill>
        <p:spPr>
          <a:xfrm>
            <a:off x="0" y="0"/>
            <a:ext cx="4795920" cy="6453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点击查看下一张"/>
          <p:cNvPicPr/>
          <p:nvPr/>
        </p:nvPicPr>
        <p:blipFill>
          <a:blip r:embed="rId2"/>
          <a:stretch/>
        </p:blipFill>
        <p:spPr>
          <a:xfrm>
            <a:off x="4813200" y="0"/>
            <a:ext cx="429732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点击查看下一张"/>
          <p:cNvPicPr/>
          <p:nvPr/>
        </p:nvPicPr>
        <p:blipFill>
          <a:blip r:embed="rId1"/>
          <a:stretch/>
        </p:blipFill>
        <p:spPr>
          <a:xfrm>
            <a:off x="0" y="260280"/>
            <a:ext cx="4343400" cy="6408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点击查看下一张"/>
          <p:cNvPicPr/>
          <p:nvPr/>
        </p:nvPicPr>
        <p:blipFill>
          <a:blip r:embed="rId2"/>
          <a:stretch/>
        </p:blipFill>
        <p:spPr>
          <a:xfrm>
            <a:off x="4754520" y="260280"/>
            <a:ext cx="438948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4" descr="b_large_Zb6F_24fb0003d2585c43"/>
          <p:cNvPicPr/>
          <p:nvPr/>
        </p:nvPicPr>
        <p:blipFill>
          <a:blip r:embed="rId1"/>
          <a:stretch/>
        </p:blipFill>
        <p:spPr>
          <a:xfrm>
            <a:off x="34920" y="44280"/>
            <a:ext cx="9144000" cy="684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439D-67C0-4240-82CE-D7811A52518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44557488813432821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448160" cy="6381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424464264881027873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541760" y="0"/>
            <a:ext cx="461664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5" descr="43797506376313247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60280"/>
            <a:ext cx="4533840" cy="64087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42502721483444968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46520" y="260280"/>
            <a:ext cx="453384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424464264881027878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60280"/>
            <a:ext cx="4549680" cy="64087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446419313064450679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33920" y="260280"/>
            <a:ext cx="455148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AutoShape 5">
            <a:hlinkClick r:id="rId1"/>
          </p:cNvPr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7" descr="286710411277490054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189000"/>
            <a:ext cx="4683240" cy="6408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445574888134328222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643280" y="189000"/>
            <a:ext cx="4562640" cy="64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571309760229634728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260280"/>
            <a:ext cx="4670280" cy="63374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7" descr="44557488813432822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08440" y="260280"/>
            <a:ext cx="447192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5" descr="42446426488102788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89000"/>
            <a:ext cx="4492800" cy="63356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42446426488102788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26000" y="189000"/>
            <a:ext cx="4483080" cy="633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5" descr="ftfxiong0000008"/>
          <p:cNvPicPr/>
          <p:nvPr/>
        </p:nvPicPr>
        <p:blipFill>
          <a:blip r:embed="rId1"/>
          <a:stretch/>
        </p:blipFill>
        <p:spPr>
          <a:xfrm>
            <a:off x="0" y="260280"/>
            <a:ext cx="4514760" cy="63374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ftfxiong0000009"/>
          <p:cNvPicPr/>
          <p:nvPr/>
        </p:nvPicPr>
        <p:blipFill>
          <a:blip r:embed="rId2"/>
          <a:stretch/>
        </p:blipFill>
        <p:spPr>
          <a:xfrm>
            <a:off x="4665600" y="260280"/>
            <a:ext cx="4514760" cy="633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01.jpg"/>
          <p:cNvPicPr/>
          <p:nvPr/>
        </p:nvPicPr>
        <p:blipFill>
          <a:blip r:embed="rId1"/>
          <a:stretch/>
        </p:blipFill>
        <p:spPr>
          <a:xfrm>
            <a:off x="0" y="260280"/>
            <a:ext cx="4454640" cy="6264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02.jpg"/>
          <p:cNvPicPr/>
          <p:nvPr/>
        </p:nvPicPr>
        <p:blipFill>
          <a:blip r:embed="rId2"/>
          <a:stretch/>
        </p:blipFill>
        <p:spPr>
          <a:xfrm>
            <a:off x="4654440" y="260280"/>
            <a:ext cx="4454640" cy="62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8T02:02:49Z</dcterms:created>
  <dc:creator>Mr.Z</dc:creator>
  <dc:description/>
  <dc:language>en-US</dc:language>
  <cp:lastModifiedBy>a</cp:lastModifiedBy>
  <dcterms:modified xsi:type="dcterms:W3CDTF">2015-06-13T11:14:09Z</dcterms:modified>
  <cp:revision>6</cp:revision>
  <dc:subject/>
  <dc:title>世界三大著名平面设计师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