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75B-4F57-4019-A380-011CB724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4C4-76EB-4734-96BF-7C37DA92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7A7-26E4-4C21-B334-9F705EEE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256-2873-4A46-833C-F03155C9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FDA6-78E9-4773-A939-99BE9823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BBB6-2AE9-4518-A563-014BCE36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22F9-0B21-4BD6-AAC4-9A4FF021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97D7-0721-45B7-8257-6576EE82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1E95-CCF7-4F49-B9A2-CED30B6E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25A7-C5E7-4BAF-AAC2-283E1B75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6292-C699-4F5D-8617-D4C04FB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AA2-5CA6-4FDA-B574-5B4CDC07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53F4-EEE5-4393-A1A9-0B3473CD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03D9-09B8-48EB-B10D-4FD68DA6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4940-27E4-4F25-9B14-59C09E20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54C7-7313-4B13-B0F4-BCD157DE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72E8-A13C-42BE-9DEC-7649E48A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4AB-756F-47EE-A0D7-8EBCE8D1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97D-493C-4044-96FF-56BB3F7E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A0A-8B4D-481A-B10B-C2FBD951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592-4D15-44EF-909F-040F912A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E72-1EF0-47E1-BFE2-1A41A2E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30E-41A3-47DE-B911-65A3D5D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4B5-F478-4838-B6A9-B76B1CE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05C7-4B59-41E6-8C41-2199F546EF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4894-247E-416C-9A60-73CF313EBE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2184-8DD6-45E5-91E7-42C878D196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8A4F-B9F7-424B-9706-F2F626885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b_1371793288702.jpg"/>
          <p:cNvPicPr/>
          <p:nvPr/>
        </p:nvPicPr>
        <p:blipFill>
          <a:blip r:embed="rId1"/>
          <a:stretch/>
        </p:blipFill>
        <p:spPr>
          <a:xfrm>
            <a:off x="0" y="1638360"/>
            <a:ext cx="4237200" cy="520380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4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