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83EF-471F-4F0B-B2FA-1F6FCE4FB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95ED-40AE-43CC-B315-252BF64C1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705E-DE3B-469F-8E1D-4A26AFE23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DCB6-E734-4A67-9D6B-2502603EB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28DF-4B50-4108-84F5-BEEC9F8D3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7310-1E87-4100-BAF8-D772FDC37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E034-B414-4C43-9F63-41E2B3C46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374F-FC9E-4C60-9AE9-F4ADD7259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0236-BEC3-4652-9744-CCA307604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6EA5-E11B-4749-95CA-1228F746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1B31-D08D-486B-9B7D-C761C34F0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E382-95A1-45F6-B261-21A0B2769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EBFB3-988D-4643-9631-391AB83C18C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7F889-7858-47D0-8280-F15574CF924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3" descr=""/>
          <p:cNvPicPr/>
          <p:nvPr/>
        </p:nvPicPr>
        <p:blipFill>
          <a:blip r:embed="rId1"/>
          <a:srcRect l="0" t="0" r="0" b="8844"/>
          <a:stretch/>
        </p:blipFill>
        <p:spPr>
          <a:xfrm>
            <a:off x="0" y="0"/>
            <a:ext cx="9144000" cy="6251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6251400"/>
            <a:ext cx="9144000" cy="6858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5943600"/>
            <a:ext cx="762120" cy="6858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5638680"/>
            <a:ext cx="762120" cy="6858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05120" y="5943600"/>
            <a:ext cx="76176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05120" y="5257800"/>
            <a:ext cx="609480" cy="4572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90920" y="5410080"/>
            <a:ext cx="609480" cy="4572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FEF4-A050-4133-857F-901F9E40BEF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00:55:46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