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B92A-EA1A-45E4-A598-A876D443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42B-B3A4-48F1-9829-A457BB3C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225-A514-4C85-BD74-FB9F1258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D42-2EB9-4D14-B7A0-861B3F7C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8E71-5DFB-4080-B176-2F54A253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A141-AF36-415D-8BCF-42A84369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7B6-E336-4A6C-A8CE-D3A48676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6EBE-82E0-46C3-BF7A-0A26DBF1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921-18BA-4005-B01C-D4977602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D7D0-BC3A-4646-8C27-13DC535B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A1A9-836B-4E1D-9BCD-02593690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8F4-55C3-475E-A522-80AF177E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D359-72AE-4342-B806-B2607A6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A48B-8844-49FC-B84E-41552CF4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FFA-CAFA-459B-B622-9C0BC5DB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5E00-875F-4E62-AAEB-E2CB9DA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F48F-EB2D-4BDA-A22D-032AC8BA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309-8DE0-4472-BFB9-D6808C19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773C-35DF-41C3-981A-A0845880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342A-7C82-469F-B78C-A1A6C222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642-5B2E-4FE7-BB14-AE2ABA82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505-76C3-45C0-A3FB-0CE10800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451-B17B-4DFD-B2DF-B31002FA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A97-9384-426A-8714-AB081B1B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24A2-8EEE-433C-BE2C-943CFFC917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A3D6-ACE7-482A-B6D2-2EDE38B706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09E-02DB-4DA6-9C87-B2965BF57D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5AE5-F941-45B4-A668-5A45DF24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泪滴形 4"/>
          <p:cNvSpPr/>
          <p:nvPr/>
        </p:nvSpPr>
        <p:spPr>
          <a:xfrm rot="216000">
            <a:off x="2766960" y="2079720"/>
            <a:ext cx="1589040" cy="16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泪滴形 3"/>
          <p:cNvSpPr/>
          <p:nvPr/>
        </p:nvSpPr>
        <p:spPr>
          <a:xfrm rot="16200000">
            <a:off x="1276920" y="1330560"/>
            <a:ext cx="2311560" cy="2563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5"/>
          <p:cNvGrpSpPr/>
          <p:nvPr/>
        </p:nvGrpSpPr>
        <p:grpSpPr>
          <a:xfrm>
            <a:off x="928800" y="4473720"/>
            <a:ext cx="2154240" cy="582480"/>
            <a:chOff x="928800" y="4473720"/>
            <a:chExt cx="2154240" cy="582480"/>
          </a:xfrm>
        </p:grpSpPr>
        <p:grpSp>
          <p:nvGrpSpPr>
            <p:cNvPr id="85" name="组合 11"/>
            <p:cNvGrpSpPr/>
            <p:nvPr/>
          </p:nvGrpSpPr>
          <p:grpSpPr>
            <a:xfrm>
              <a:off x="928800" y="4473720"/>
              <a:ext cx="2154240" cy="582480"/>
              <a:chOff x="928800" y="4473720"/>
              <a:chExt cx="2154240" cy="582480"/>
            </a:xfrm>
          </p:grpSpPr>
          <p:sp>
            <p:nvSpPr>
              <p:cNvPr id="86" name="Rectangle 3"/>
              <p:cNvSpPr/>
              <p:nvPr/>
            </p:nvSpPr>
            <p:spPr>
              <a:xfrm>
                <a:off x="928800" y="4473720"/>
                <a:ext cx="2154240" cy="58248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圆角矩形 9"/>
              <p:cNvSpPr/>
              <p:nvPr/>
            </p:nvSpPr>
            <p:spPr>
              <a:xfrm>
                <a:off x="1083240" y="4588200"/>
                <a:ext cx="1802520" cy="308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39"/>
            <p:cNvSpPr/>
            <p:nvPr/>
          </p:nvSpPr>
          <p:spPr>
            <a:xfrm>
              <a:off x="953280" y="458172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弦形 10"/>
          <p:cNvSpPr/>
          <p:nvPr/>
        </p:nvSpPr>
        <p:spPr>
          <a:xfrm rot="11703600">
            <a:off x="1332000" y="1666440"/>
            <a:ext cx="2179440" cy="18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1233360" y="16812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1763640" y="2090880"/>
            <a:ext cx="164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泪滴形 13"/>
          <p:cNvSpPr/>
          <p:nvPr/>
        </p:nvSpPr>
        <p:spPr>
          <a:xfrm rot="216000">
            <a:off x="6337440" y="2103480"/>
            <a:ext cx="1589040" cy="167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184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泪滴形 14"/>
          <p:cNvSpPr/>
          <p:nvPr/>
        </p:nvSpPr>
        <p:spPr>
          <a:xfrm rot="16200000">
            <a:off x="4847400" y="1352880"/>
            <a:ext cx="2313000" cy="25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弦形 15"/>
          <p:cNvSpPr/>
          <p:nvPr/>
        </p:nvSpPr>
        <p:spPr>
          <a:xfrm rot="11703600">
            <a:off x="4915080" y="1715400"/>
            <a:ext cx="2180880" cy="1841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803840" y="170352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9"/>
          <p:cNvSpPr/>
          <p:nvPr/>
        </p:nvSpPr>
        <p:spPr>
          <a:xfrm>
            <a:off x="5424480" y="2127240"/>
            <a:ext cx="16477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8"/>
          <p:cNvGrpSpPr/>
          <p:nvPr/>
        </p:nvGrpSpPr>
        <p:grpSpPr>
          <a:xfrm>
            <a:off x="3492360" y="4473720"/>
            <a:ext cx="2154240" cy="582480"/>
            <a:chOff x="3492360" y="4473720"/>
            <a:chExt cx="2154240" cy="582480"/>
          </a:xfrm>
        </p:grpSpPr>
        <p:grpSp>
          <p:nvGrpSpPr>
            <p:cNvPr id="98" name="组合 11"/>
            <p:cNvGrpSpPr/>
            <p:nvPr/>
          </p:nvGrpSpPr>
          <p:grpSpPr>
            <a:xfrm>
              <a:off x="3492360" y="4473720"/>
              <a:ext cx="2154240" cy="582480"/>
              <a:chOff x="3492360" y="4473720"/>
              <a:chExt cx="2154240" cy="582480"/>
            </a:xfrm>
          </p:grpSpPr>
          <p:sp>
            <p:nvSpPr>
              <p:cNvPr id="99" name="Rectangle 3"/>
              <p:cNvSpPr/>
              <p:nvPr/>
            </p:nvSpPr>
            <p:spPr>
              <a:xfrm>
                <a:off x="3492360" y="4473720"/>
                <a:ext cx="2154240" cy="58248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圆角矩形 22"/>
              <p:cNvSpPr/>
              <p:nvPr/>
            </p:nvSpPr>
            <p:spPr>
              <a:xfrm>
                <a:off x="3646800" y="4588200"/>
                <a:ext cx="1802520" cy="308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Text Box 39"/>
            <p:cNvSpPr/>
            <p:nvPr/>
          </p:nvSpPr>
          <p:spPr>
            <a:xfrm>
              <a:off x="3516840" y="458172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23"/>
          <p:cNvGrpSpPr/>
          <p:nvPr/>
        </p:nvGrpSpPr>
        <p:grpSpPr>
          <a:xfrm>
            <a:off x="6000840" y="4473720"/>
            <a:ext cx="2154240" cy="582480"/>
            <a:chOff x="6000840" y="4473720"/>
            <a:chExt cx="2154240" cy="582480"/>
          </a:xfrm>
        </p:grpSpPr>
        <p:grpSp>
          <p:nvGrpSpPr>
            <p:cNvPr id="103" name="组合 11"/>
            <p:cNvGrpSpPr/>
            <p:nvPr/>
          </p:nvGrpSpPr>
          <p:grpSpPr>
            <a:xfrm>
              <a:off x="6000840" y="4473720"/>
              <a:ext cx="2154240" cy="582480"/>
              <a:chOff x="6000840" y="4473720"/>
              <a:chExt cx="2154240" cy="58248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6000840" y="4473720"/>
                <a:ext cx="2154240" cy="582480"/>
              </a:xfrm>
              <a:prstGeom prst="roundRect">
                <a:avLst>
                  <a:gd name="adj" fmla="val 25611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lvl="2" algn="ctr">
                  <a:lnSpc>
                    <a:spcPct val="100000"/>
                  </a:lnSpc>
                  <a:buClr>
                    <a:srgbClr val="ff0000"/>
                  </a:buClr>
                  <a:buSzPct val="70000"/>
                  <a:buFont typeface="Wingdings" charset="2"/>
                  <a:buChar char=""/>
                  <a:tabLst>
                    <a:tab algn="l" pos="1364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圆角矩形 27"/>
              <p:cNvSpPr/>
              <p:nvPr/>
            </p:nvSpPr>
            <p:spPr>
              <a:xfrm>
                <a:off x="6155280" y="4588200"/>
                <a:ext cx="1802520" cy="308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39"/>
            <p:cNvSpPr/>
            <p:nvPr/>
          </p:nvSpPr>
          <p:spPr>
            <a:xfrm>
              <a:off x="6025320" y="4581720"/>
              <a:ext cx="20984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39"/>
          <p:cNvSpPr/>
          <p:nvPr/>
        </p:nvSpPr>
        <p:spPr>
          <a:xfrm>
            <a:off x="1004760" y="519120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1012680" y="555624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9"/>
          <p:cNvSpPr/>
          <p:nvPr/>
        </p:nvSpPr>
        <p:spPr>
          <a:xfrm>
            <a:off x="3552840" y="519912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9"/>
          <p:cNvSpPr/>
          <p:nvPr/>
        </p:nvSpPr>
        <p:spPr>
          <a:xfrm>
            <a:off x="3560760" y="556416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9"/>
          <p:cNvSpPr/>
          <p:nvPr/>
        </p:nvSpPr>
        <p:spPr>
          <a:xfrm>
            <a:off x="6118200" y="519912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9"/>
          <p:cNvSpPr/>
          <p:nvPr/>
        </p:nvSpPr>
        <p:spPr>
          <a:xfrm>
            <a:off x="6126120" y="5564160"/>
            <a:ext cx="262260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4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明并列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