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3E5-3C0B-48C2-A18F-C2381199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DC9-2CCF-44E2-87B2-991FFD9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64C-BFEE-4723-AFFC-32C407C3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D38-E177-4191-B97A-C7ACA6DF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F4B-E433-4564-A4FE-CEC4C09A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18C-1B05-40A3-8C4B-AF2ECBCF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FC5-5E49-4A31-87A8-2995B05E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DD0-A0BA-49B9-B213-32D0C21F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5B0-F0EE-4799-8B4E-EFE04AA1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1C8-D37F-46DD-B849-DE21333D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2FB-B5D0-438D-B91D-A1408F19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B8E-6CF5-4244-BF50-3AB5459C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D7FF-BB5E-4469-A7FA-EA1E16E3B6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3203-B1FD-4ACC-9344-82D0A11D8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84240" y="5175360"/>
            <a:ext cx="5559480" cy="1420560"/>
            <a:chOff x="1884240" y="5175360"/>
            <a:chExt cx="5559480" cy="1420560"/>
          </a:xfrm>
        </p:grpSpPr>
        <p:pic>
          <p:nvPicPr>
            <p:cNvPr id="42" name="椭圆 10" descr=""/>
            <p:cNvPicPr/>
            <p:nvPr/>
          </p:nvPicPr>
          <p:blipFill>
            <a:blip r:embed="rId1"/>
            <a:stretch/>
          </p:blipFill>
          <p:spPr>
            <a:xfrm>
              <a:off x="1884240" y="5175360"/>
              <a:ext cx="555948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78120" y="5459040"/>
              <a:ext cx="36925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圆角矩形 4"/>
          <p:cNvSpPr/>
          <p:nvPr/>
        </p:nvSpPr>
        <p:spPr>
          <a:xfrm>
            <a:off x="4606920" y="1268280"/>
            <a:ext cx="66600" cy="3949920"/>
          </a:xfrm>
          <a:custGeom>
            <a:avLst/>
            <a:gdLst>
              <a:gd name="textAreaLeft" fmla="*/ 3240 w 66600"/>
              <a:gd name="textAreaRight" fmla="*/ 63360 w 66600"/>
              <a:gd name="textAreaTop" fmla="*/ 3240 h 3949920"/>
              <a:gd name="textAreaBottom" fmla="*/ 3946680 h 3949920"/>
            </a:gdLst>
            <a:ahLst/>
            <a:rect l="textAreaLeft" t="textAreaTop" r="textAreaRight" b="textAreaBottom"/>
            <a:pathLst>
              <a:path w="21600" h="1274284">
                <a:moveTo>
                  <a:pt x="3600" y="0"/>
                </a:moveTo>
                <a:arcTo wR="3600" hR="3600" stAng="16200000" swAng="-5400000"/>
                <a:lnTo>
                  <a:pt x="0" y="1270684"/>
                </a:lnTo>
                <a:arcTo wR="3600" hR="3600" stAng="10800000" swAng="-5400000"/>
                <a:lnTo>
                  <a:pt x="18000" y="1274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5"/>
          <p:cNvSpPr/>
          <p:nvPr/>
        </p:nvSpPr>
        <p:spPr>
          <a:xfrm>
            <a:off x="4570560" y="5207040"/>
            <a:ext cx="153720" cy="628560"/>
          </a:xfrm>
          <a:custGeom>
            <a:avLst/>
            <a:gdLst>
              <a:gd name="textAreaLeft" fmla="*/ 7200 w 153720"/>
              <a:gd name="textAreaRight" fmla="*/ 146520 w 153720"/>
              <a:gd name="textAreaTop" fmla="*/ 7200 h 628560"/>
              <a:gd name="textAreaBottom" fmla="*/ 621360 h 628560"/>
            </a:gdLst>
            <a:ahLst/>
            <a:rect l="textAreaLeft" t="textAreaTop" r="textAreaRight" b="textAreaBottom"/>
            <a:pathLst>
              <a:path w="21600" h="88166">
                <a:moveTo>
                  <a:pt x="3600" y="0"/>
                </a:moveTo>
                <a:arcTo wR="3600" hR="3600" stAng="16200000" swAng="-5400000"/>
                <a:lnTo>
                  <a:pt x="0" y="84566"/>
                </a:lnTo>
                <a:arcTo wR="3600" hR="3600" stAng="10800000" swAng="-5400000"/>
                <a:lnTo>
                  <a:pt x="18000" y="88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a6a6a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322280" y="1557360"/>
            <a:ext cx="6505560" cy="1573200"/>
            <a:chOff x="1322280" y="1557360"/>
            <a:chExt cx="6505560" cy="1573200"/>
          </a:xfrm>
        </p:grpSpPr>
        <p:sp>
          <p:nvSpPr>
            <p:cNvPr id="47" name="任意多边形 7"/>
            <p:cNvSpPr/>
            <p:nvPr/>
          </p:nvSpPr>
          <p:spPr>
            <a:xfrm>
              <a:off x="3889440" y="2420640"/>
              <a:ext cx="1933560" cy="589680"/>
            </a:xfrm>
            <a:custGeom>
              <a:avLst/>
              <a:gdLst/>
              <a:ahLst/>
              <a:rect l="l" t="t" r="r" b="b"/>
              <a:pathLst>
                <a:path w="1477872" h="450850">
                  <a:moveTo>
                    <a:pt x="0" y="450850"/>
                  </a:moveTo>
                  <a:cubicBezTo>
                    <a:pt x="427567" y="246592"/>
                    <a:pt x="1211300" y="359490"/>
                    <a:pt x="1477872" y="423590"/>
                  </a:cubicBezTo>
                  <a:lnTo>
                    <a:pt x="930275" y="0"/>
                  </a:lnTo>
                  <a:lnTo>
                    <a:pt x="12700" y="190500"/>
                  </a:lnTo>
                  <a:lnTo>
                    <a:pt x="0" y="450850"/>
                  </a:ln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8"/>
            <p:cNvSpPr/>
            <p:nvPr/>
          </p:nvSpPr>
          <p:spPr>
            <a:xfrm>
              <a:off x="4538520" y="1557360"/>
              <a:ext cx="209520" cy="13752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9"/>
            <p:cNvSpPr/>
            <p:nvPr/>
          </p:nvSpPr>
          <p:spPr>
            <a:xfrm>
              <a:off x="1779120" y="2611800"/>
              <a:ext cx="818280" cy="377640"/>
            </a:xfrm>
            <a:custGeom>
              <a:avLst/>
              <a:gdLst/>
              <a:ahLst/>
              <a:rect l="l" t="t" r="r" b="b"/>
              <a:pathLst>
                <a:path w="625475" h="288925">
                  <a:moveTo>
                    <a:pt x="307975" y="288925"/>
                  </a:moveTo>
                  <a:lnTo>
                    <a:pt x="457200" y="123825"/>
                  </a:lnTo>
                  <a:lnTo>
                    <a:pt x="625475" y="0"/>
                  </a:lnTo>
                  <a:lnTo>
                    <a:pt x="107950" y="57150"/>
                  </a:lnTo>
                  <a:lnTo>
                    <a:pt x="0" y="212725"/>
                  </a:lnTo>
                  <a:cubicBezTo>
                    <a:pt x="169333" y="187325"/>
                    <a:pt x="233892" y="225425"/>
                    <a:pt x="307975" y="288925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>
              <a:off x="2127960" y="2698920"/>
              <a:ext cx="589680" cy="348840"/>
            </a:xfrm>
            <a:custGeom>
              <a:avLst/>
              <a:gdLst/>
              <a:ahLst/>
              <a:rect l="l" t="t" r="r" b="b"/>
              <a:pathLst>
                <a:path w="450850" h="266700">
                  <a:moveTo>
                    <a:pt x="0" y="266700"/>
                  </a:moveTo>
                  <a:lnTo>
                    <a:pt x="247650" y="0"/>
                  </a:lnTo>
                  <a:lnTo>
                    <a:pt x="450850" y="57150"/>
                  </a:lnTo>
                  <a:lnTo>
                    <a:pt x="403225" y="152400"/>
                  </a:lnTo>
                  <a:cubicBezTo>
                    <a:pt x="339725" y="158750"/>
                    <a:pt x="152400" y="165100"/>
                    <a:pt x="0" y="2667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11"/>
            <p:cNvSpPr/>
            <p:nvPr/>
          </p:nvSpPr>
          <p:spPr>
            <a:xfrm>
              <a:off x="3104280" y="2773440"/>
              <a:ext cx="793440" cy="232560"/>
            </a:xfrm>
            <a:custGeom>
              <a:avLst/>
              <a:gdLst/>
              <a:ahLst/>
              <a:rect l="l" t="t" r="r" b="b"/>
              <a:pathLst>
                <a:path w="606425" h="177800">
                  <a:moveTo>
                    <a:pt x="600075" y="177800"/>
                  </a:moveTo>
                  <a:lnTo>
                    <a:pt x="606425" y="0"/>
                  </a:lnTo>
                  <a:lnTo>
                    <a:pt x="0" y="73025"/>
                  </a:lnTo>
                  <a:cubicBezTo>
                    <a:pt x="228600" y="92075"/>
                    <a:pt x="479425" y="69850"/>
                    <a:pt x="600075" y="177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2"/>
            <p:cNvSpPr/>
            <p:nvPr/>
          </p:nvSpPr>
          <p:spPr>
            <a:xfrm>
              <a:off x="5950080" y="2499480"/>
              <a:ext cx="1387440" cy="631080"/>
            </a:xfrm>
            <a:custGeom>
              <a:avLst/>
              <a:gdLst/>
              <a:ahLst/>
              <a:rect l="l" t="t" r="r" b="b"/>
              <a:pathLst>
                <a:path w="1060450" h="482600">
                  <a:moveTo>
                    <a:pt x="1060450" y="482600"/>
                  </a:moveTo>
                  <a:cubicBezTo>
                    <a:pt x="684742" y="317500"/>
                    <a:pt x="232833" y="384175"/>
                    <a:pt x="0" y="349250"/>
                  </a:cubicBezTo>
                  <a:lnTo>
                    <a:pt x="577850" y="0"/>
                  </a:lnTo>
                  <a:cubicBezTo>
                    <a:pt x="738717" y="160867"/>
                    <a:pt x="909108" y="277283"/>
                    <a:pt x="1060450" y="4826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3"/>
            <p:cNvSpPr/>
            <p:nvPr/>
          </p:nvSpPr>
          <p:spPr>
            <a:xfrm>
              <a:off x="6984720" y="2740320"/>
              <a:ext cx="465120" cy="373680"/>
            </a:xfrm>
            <a:custGeom>
              <a:avLst/>
              <a:gdLst/>
              <a:ahLst/>
              <a:rect l="l" t="t" r="r" b="b"/>
              <a:pathLst>
                <a:path w="355600" h="285750">
                  <a:moveTo>
                    <a:pt x="266700" y="285750"/>
                  </a:moveTo>
                  <a:cubicBezTo>
                    <a:pt x="251883" y="200025"/>
                    <a:pt x="319617" y="152400"/>
                    <a:pt x="355600" y="142875"/>
                  </a:cubicBezTo>
                  <a:lnTo>
                    <a:pt x="120650" y="50800"/>
                  </a:lnTo>
                  <a:lnTo>
                    <a:pt x="0" y="0"/>
                  </a:lnTo>
                  <a:lnTo>
                    <a:pt x="266700" y="285750"/>
                  </a:ln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4"/>
            <p:cNvSpPr/>
            <p:nvPr/>
          </p:nvSpPr>
          <p:spPr>
            <a:xfrm>
              <a:off x="1322280" y="1581840"/>
              <a:ext cx="3215520" cy="1415880"/>
            </a:xfrm>
            <a:custGeom>
              <a:avLst/>
              <a:gdLst/>
              <a:ahLst/>
              <a:rect l="l" t="t" r="r" b="b"/>
              <a:pathLst>
                <a:path w="2457450" h="1082675">
                  <a:moveTo>
                    <a:pt x="0" y="1082675"/>
                  </a:moveTo>
                  <a:cubicBezTo>
                    <a:pt x="425450" y="784225"/>
                    <a:pt x="812800" y="415925"/>
                    <a:pt x="1285875" y="193675"/>
                  </a:cubicBezTo>
                  <a:cubicBezTo>
                    <a:pt x="1603375" y="68792"/>
                    <a:pt x="2054225" y="13758"/>
                    <a:pt x="2457450" y="0"/>
                  </a:cubicBezTo>
                  <a:cubicBezTo>
                    <a:pt x="1524000" y="88371"/>
                    <a:pt x="1205003" y="776999"/>
                    <a:pt x="1060450" y="1050925"/>
                  </a:cubicBezTo>
                  <a:cubicBezTo>
                    <a:pt x="920750" y="886883"/>
                    <a:pt x="193675" y="992717"/>
                    <a:pt x="0" y="1082675"/>
                  </a:cubicBez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5"/>
            <p:cNvSpPr/>
            <p:nvPr/>
          </p:nvSpPr>
          <p:spPr>
            <a:xfrm>
              <a:off x="4688640" y="1605600"/>
              <a:ext cx="3139200" cy="1475280"/>
            </a:xfrm>
            <a:custGeom>
              <a:avLst/>
              <a:gdLst/>
              <a:ahLst/>
              <a:rect l="l" t="t" r="r" b="b"/>
              <a:pathLst>
                <a:path w="2399248" h="1127948">
                  <a:moveTo>
                    <a:pt x="916523" y="1058098"/>
                  </a:moveTo>
                  <a:cubicBezTo>
                    <a:pt x="1304931" y="989306"/>
                    <a:pt x="1887015" y="942740"/>
                    <a:pt x="2399248" y="1127948"/>
                  </a:cubicBezTo>
                  <a:cubicBezTo>
                    <a:pt x="2009781" y="846431"/>
                    <a:pt x="1595967" y="-52613"/>
                    <a:pt x="0" y="2420"/>
                  </a:cubicBezTo>
                  <a:cubicBezTo>
                    <a:pt x="738115" y="84946"/>
                    <a:pt x="778940" y="895115"/>
                    <a:pt x="916523" y="105809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6"/>
            <p:cNvSpPr/>
            <p:nvPr/>
          </p:nvSpPr>
          <p:spPr>
            <a:xfrm>
              <a:off x="2709720" y="1585800"/>
              <a:ext cx="3182040" cy="1403640"/>
            </a:xfrm>
            <a:custGeom>
              <a:avLst/>
              <a:gdLst/>
              <a:ahLst/>
              <a:rect l="l" t="t" r="r" b="b"/>
              <a:pathLst>
                <a:path w="2432050" h="1073150">
                  <a:moveTo>
                    <a:pt x="0" y="1047750"/>
                  </a:moveTo>
                  <a:cubicBezTo>
                    <a:pt x="17553" y="983886"/>
                    <a:pt x="445996" y="25400"/>
                    <a:pt x="1409700" y="0"/>
                  </a:cubicBezTo>
                  <a:cubicBezTo>
                    <a:pt x="2258444" y="41308"/>
                    <a:pt x="2326217" y="893233"/>
                    <a:pt x="2432050" y="1073150"/>
                  </a:cubicBezTo>
                  <a:cubicBezTo>
                    <a:pt x="1519767" y="842433"/>
                    <a:pt x="804333" y="948267"/>
                    <a:pt x="0" y="104775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7"/>
          <p:cNvSpPr/>
          <p:nvPr/>
        </p:nvSpPr>
        <p:spPr>
          <a:xfrm>
            <a:off x="3862440" y="220500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 flipH="1">
            <a:off x="5723640" y="4253040"/>
            <a:ext cx="18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H="1">
            <a:off x="5724360" y="3798720"/>
            <a:ext cx="147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 flipH="1">
            <a:off x="5724360" y="5199120"/>
            <a:ext cx="14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 flipH="1">
            <a:off x="5723640" y="4746600"/>
            <a:ext cx="16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 flipH="1">
            <a:off x="2402640" y="4253040"/>
            <a:ext cx="18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 flipH="1">
            <a:off x="2403360" y="3798720"/>
            <a:ext cx="147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 flipH="1">
            <a:off x="2403360" y="5199120"/>
            <a:ext cx="14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 flipH="1">
            <a:off x="2402640" y="4746600"/>
            <a:ext cx="163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6219720" y="26028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伞型具象场景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926-026F-4CC0-AC04-AC480DDBC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3:1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