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4918-F479-471D-8CCD-EA502570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98-AD15-4B9A-ADB8-EF8AA8D3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DFDB-E59F-412E-A826-66AB20D79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49B8-19AE-4166-9019-6709E77D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8559-0DF9-435F-A7D1-8340A83D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7E73-BEF5-4D0D-9DE5-072A6245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D33-AB45-48C8-A3B7-7385F3D8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458-E9AF-4253-B86A-4338EC7F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28B-09B6-412B-93A5-8884D66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326C-2F54-4BCC-B442-1FD5AE05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36BD-39EB-4120-916B-61A4D47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C475-B82E-4B2D-97DD-8B393E71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A2F9-3946-43AB-A264-7E30790E14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393D-2A7D-4976-91A2-A266B371B2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"/>
          <p:cNvGrpSpPr/>
          <p:nvPr/>
        </p:nvGrpSpPr>
        <p:grpSpPr>
          <a:xfrm>
            <a:off x="4673520" y="1623960"/>
            <a:ext cx="1709640" cy="1709640"/>
            <a:chOff x="4673520" y="1623960"/>
            <a:chExt cx="1709640" cy="1709640"/>
          </a:xfrm>
        </p:grpSpPr>
        <p:sp>
          <p:nvSpPr>
            <p:cNvPr id="42" name="矩形 1"/>
            <p:cNvSpPr/>
            <p:nvPr/>
          </p:nvSpPr>
          <p:spPr>
            <a:xfrm>
              <a:off x="4673520" y="1623960"/>
              <a:ext cx="1709640" cy="170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Text Box 19"/>
            <p:cNvSpPr/>
            <p:nvPr/>
          </p:nvSpPr>
          <p:spPr>
            <a:xfrm>
              <a:off x="4821840" y="2849760"/>
              <a:ext cx="701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4"/>
          <p:cNvGrpSpPr/>
          <p:nvPr/>
        </p:nvGrpSpPr>
        <p:grpSpPr>
          <a:xfrm>
            <a:off x="4667400" y="3505320"/>
            <a:ext cx="1709640" cy="1711080"/>
            <a:chOff x="4667400" y="3505320"/>
            <a:chExt cx="1709640" cy="1711080"/>
          </a:xfrm>
        </p:grpSpPr>
        <p:sp>
          <p:nvSpPr>
            <p:cNvPr id="45" name="矩形 16"/>
            <p:cNvSpPr/>
            <p:nvPr/>
          </p:nvSpPr>
          <p:spPr>
            <a:xfrm>
              <a:off x="4667400" y="3505320"/>
              <a:ext cx="1709640" cy="1711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Text Box 19"/>
            <p:cNvSpPr/>
            <p:nvPr/>
          </p:nvSpPr>
          <p:spPr>
            <a:xfrm>
              <a:off x="4825080" y="3700440"/>
              <a:ext cx="701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7"/>
          <p:cNvGrpSpPr/>
          <p:nvPr/>
        </p:nvGrpSpPr>
        <p:grpSpPr>
          <a:xfrm>
            <a:off x="2749680" y="3517920"/>
            <a:ext cx="1709640" cy="1709640"/>
            <a:chOff x="2749680" y="3517920"/>
            <a:chExt cx="1709640" cy="1709640"/>
          </a:xfrm>
        </p:grpSpPr>
        <p:sp>
          <p:nvSpPr>
            <p:cNvPr id="48" name="矩形 17"/>
            <p:cNvSpPr/>
            <p:nvPr/>
          </p:nvSpPr>
          <p:spPr>
            <a:xfrm>
              <a:off x="2749680" y="3517920"/>
              <a:ext cx="1709640" cy="1709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9"/>
            <p:cNvSpPr/>
            <p:nvPr/>
          </p:nvSpPr>
          <p:spPr>
            <a:xfrm>
              <a:off x="3569400" y="3701880"/>
              <a:ext cx="701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文本</a:t>
              </a:r>
              <a:r>
                <a:rPr b="0" lang="en-US" sz="2000" spc="-1" strike="noStrike">
                  <a:solidFill>
                    <a:srgbClr val="7d7d7d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0"/>
          <p:cNvGrpSpPr/>
          <p:nvPr/>
        </p:nvGrpSpPr>
        <p:grpSpPr>
          <a:xfrm>
            <a:off x="2079360" y="955800"/>
            <a:ext cx="2376360" cy="2377800"/>
            <a:chOff x="2079360" y="955800"/>
            <a:chExt cx="2376360" cy="2377800"/>
          </a:xfrm>
        </p:grpSpPr>
        <p:sp>
          <p:nvSpPr>
            <p:cNvPr id="51" name="Freeform 35"/>
            <p:cNvSpPr/>
            <p:nvPr/>
          </p:nvSpPr>
          <p:spPr>
            <a:xfrm flipH="1">
              <a:off x="2079000" y="955800"/>
              <a:ext cx="2376360" cy="237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9"/>
            <p:cNvSpPr/>
            <p:nvPr/>
          </p:nvSpPr>
          <p:spPr>
            <a:xfrm>
              <a:off x="3567960" y="2850480"/>
              <a:ext cx="701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1"/>
          <p:cNvGrpSpPr/>
          <p:nvPr/>
        </p:nvGrpSpPr>
        <p:grpSpPr>
          <a:xfrm>
            <a:off x="2749680" y="949320"/>
            <a:ext cx="4298760" cy="4294080"/>
            <a:chOff x="2749680" y="949320"/>
            <a:chExt cx="4298760" cy="4294080"/>
          </a:xfrm>
        </p:grpSpPr>
        <p:grpSp>
          <p:nvGrpSpPr>
            <p:cNvPr id="54" name="组合 2"/>
            <p:cNvGrpSpPr/>
            <p:nvPr/>
          </p:nvGrpSpPr>
          <p:grpSpPr>
            <a:xfrm>
              <a:off x="4671000" y="949320"/>
              <a:ext cx="2377440" cy="2376360"/>
              <a:chOff x="4671000" y="949320"/>
              <a:chExt cx="2377440" cy="2376360"/>
            </a:xfrm>
          </p:grpSpPr>
          <p:sp>
            <p:nvSpPr>
              <p:cNvPr id="55" name="Freeform 35"/>
              <p:cNvSpPr/>
              <p:nvPr/>
            </p:nvSpPr>
            <p:spPr>
              <a:xfrm>
                <a:off x="4671000" y="949320"/>
                <a:ext cx="2377440" cy="237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9"/>
              <p:cNvSpPr/>
              <p:nvPr/>
            </p:nvSpPr>
            <p:spPr>
              <a:xfrm>
                <a:off x="4821120" y="2849400"/>
                <a:ext cx="7020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组合 3"/>
            <p:cNvGrpSpPr/>
            <p:nvPr/>
          </p:nvGrpSpPr>
          <p:grpSpPr>
            <a:xfrm>
              <a:off x="4669560" y="3533760"/>
              <a:ext cx="1710360" cy="1709640"/>
              <a:chOff x="4669560" y="3533760"/>
              <a:chExt cx="1710360" cy="1709640"/>
            </a:xfrm>
          </p:grpSpPr>
          <p:sp>
            <p:nvSpPr>
              <p:cNvPr id="58" name="矩形 24"/>
              <p:cNvSpPr/>
              <p:nvPr/>
            </p:nvSpPr>
            <p:spPr>
              <a:xfrm>
                <a:off x="4669560" y="3533760"/>
                <a:ext cx="171036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9"/>
              <p:cNvSpPr/>
              <p:nvPr/>
            </p:nvSpPr>
            <p:spPr>
              <a:xfrm>
                <a:off x="4826160" y="3700440"/>
                <a:ext cx="7020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组合 4"/>
            <p:cNvGrpSpPr/>
            <p:nvPr/>
          </p:nvGrpSpPr>
          <p:grpSpPr>
            <a:xfrm>
              <a:off x="2749680" y="3522600"/>
              <a:ext cx="1710360" cy="1709640"/>
              <a:chOff x="2749680" y="3522600"/>
              <a:chExt cx="1710360" cy="1709640"/>
            </a:xfrm>
          </p:grpSpPr>
          <p:sp>
            <p:nvSpPr>
              <p:cNvPr id="61" name="矩形 23"/>
              <p:cNvSpPr/>
              <p:nvPr/>
            </p:nvSpPr>
            <p:spPr>
              <a:xfrm>
                <a:off x="2749680" y="3522600"/>
                <a:ext cx="171036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Text Box 19"/>
              <p:cNvSpPr/>
              <p:nvPr/>
            </p:nvSpPr>
            <p:spPr>
              <a:xfrm>
                <a:off x="3568320" y="3700440"/>
                <a:ext cx="7020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组合 5"/>
            <p:cNvGrpSpPr/>
            <p:nvPr/>
          </p:nvGrpSpPr>
          <p:grpSpPr>
            <a:xfrm>
              <a:off x="2749680" y="1618200"/>
              <a:ext cx="1710360" cy="1709640"/>
              <a:chOff x="2749680" y="1618200"/>
              <a:chExt cx="1710360" cy="1709640"/>
            </a:xfrm>
          </p:grpSpPr>
          <p:sp>
            <p:nvSpPr>
              <p:cNvPr id="64" name="矩形 22"/>
              <p:cNvSpPr/>
              <p:nvPr/>
            </p:nvSpPr>
            <p:spPr>
              <a:xfrm>
                <a:off x="2749680" y="1618200"/>
                <a:ext cx="171036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19"/>
              <p:cNvSpPr/>
              <p:nvPr/>
            </p:nvSpPr>
            <p:spPr>
              <a:xfrm>
                <a:off x="3568320" y="2849400"/>
                <a:ext cx="7020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1"/>
          <p:cNvGrpSpPr/>
          <p:nvPr/>
        </p:nvGrpSpPr>
        <p:grpSpPr>
          <a:xfrm>
            <a:off x="2743200" y="1617840"/>
            <a:ext cx="4302000" cy="4270320"/>
            <a:chOff x="2743200" y="1617840"/>
            <a:chExt cx="4302000" cy="4270320"/>
          </a:xfrm>
        </p:grpSpPr>
        <p:grpSp>
          <p:nvGrpSpPr>
            <p:cNvPr id="67" name="组合 2"/>
            <p:cNvGrpSpPr/>
            <p:nvPr/>
          </p:nvGrpSpPr>
          <p:grpSpPr>
            <a:xfrm>
              <a:off x="4667040" y="1617840"/>
              <a:ext cx="1709640" cy="1709640"/>
              <a:chOff x="4667040" y="1617840"/>
              <a:chExt cx="1709640" cy="1709640"/>
            </a:xfrm>
          </p:grpSpPr>
          <p:sp>
            <p:nvSpPr>
              <p:cNvPr id="68" name="矩形 20"/>
              <p:cNvSpPr/>
              <p:nvPr/>
            </p:nvSpPr>
            <p:spPr>
              <a:xfrm>
                <a:off x="4667040" y="1617840"/>
                <a:ext cx="170964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 Box 19"/>
              <p:cNvSpPr/>
              <p:nvPr/>
            </p:nvSpPr>
            <p:spPr>
              <a:xfrm>
                <a:off x="4807440" y="2794320"/>
                <a:ext cx="7016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组合 3"/>
            <p:cNvGrpSpPr/>
            <p:nvPr/>
          </p:nvGrpSpPr>
          <p:grpSpPr>
            <a:xfrm>
              <a:off x="4668840" y="3511800"/>
              <a:ext cx="2376360" cy="2376360"/>
              <a:chOff x="4668840" y="3511800"/>
              <a:chExt cx="2376360" cy="2376360"/>
            </a:xfrm>
          </p:grpSpPr>
          <p:sp>
            <p:nvSpPr>
              <p:cNvPr id="71" name="矩形 22"/>
              <p:cNvSpPr/>
              <p:nvPr/>
            </p:nvSpPr>
            <p:spPr>
              <a:xfrm>
                <a:off x="4668840" y="3511800"/>
                <a:ext cx="2376360" cy="237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19"/>
              <p:cNvSpPr/>
              <p:nvPr/>
            </p:nvSpPr>
            <p:spPr>
              <a:xfrm>
                <a:off x="4812480" y="3709080"/>
                <a:ext cx="7016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" name="组合 4"/>
            <p:cNvGrpSpPr/>
            <p:nvPr/>
          </p:nvGrpSpPr>
          <p:grpSpPr>
            <a:xfrm>
              <a:off x="2743200" y="3497400"/>
              <a:ext cx="1709640" cy="1709640"/>
              <a:chOff x="2743200" y="3497400"/>
              <a:chExt cx="1709640" cy="1709640"/>
            </a:xfrm>
          </p:grpSpPr>
          <p:sp>
            <p:nvSpPr>
              <p:cNvPr id="74" name="矩形 21"/>
              <p:cNvSpPr/>
              <p:nvPr/>
            </p:nvSpPr>
            <p:spPr>
              <a:xfrm>
                <a:off x="2743200" y="3497400"/>
                <a:ext cx="170964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 Box 19"/>
              <p:cNvSpPr/>
              <p:nvPr/>
            </p:nvSpPr>
            <p:spPr>
              <a:xfrm>
                <a:off x="3555000" y="3709080"/>
                <a:ext cx="7016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组合 5"/>
            <p:cNvGrpSpPr/>
            <p:nvPr/>
          </p:nvGrpSpPr>
          <p:grpSpPr>
            <a:xfrm>
              <a:off x="2747520" y="1627920"/>
              <a:ext cx="1709640" cy="1709640"/>
              <a:chOff x="2747520" y="1627920"/>
              <a:chExt cx="1709640" cy="1709640"/>
            </a:xfrm>
          </p:grpSpPr>
          <p:sp>
            <p:nvSpPr>
              <p:cNvPr id="77" name="Freeform 37"/>
              <p:cNvSpPr/>
              <p:nvPr/>
            </p:nvSpPr>
            <p:spPr>
              <a:xfrm flipV="1" rot="10800000">
                <a:off x="2747520" y="1627560"/>
                <a:ext cx="1709640" cy="1709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3240">
                <a:solidFill>
                  <a:srgbClr val="d7d7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 Box 19"/>
              <p:cNvSpPr/>
              <p:nvPr/>
            </p:nvSpPr>
            <p:spPr>
              <a:xfrm>
                <a:off x="3555000" y="2793960"/>
                <a:ext cx="70164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2000" spc="-1" strike="noStrike">
                    <a:solidFill>
                      <a:srgbClr val="7d7d7d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37"/>
          <p:cNvSpPr/>
          <p:nvPr/>
        </p:nvSpPr>
        <p:spPr>
          <a:xfrm flipH="1" flipV="1" rot="10800000">
            <a:off x="4695840" y="1641960"/>
            <a:ext cx="1711440" cy="17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2733840" y="1622520"/>
            <a:ext cx="1711080" cy="17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6"/>
          <p:cNvSpPr/>
          <p:nvPr/>
        </p:nvSpPr>
        <p:spPr>
          <a:xfrm>
            <a:off x="2066760" y="3516480"/>
            <a:ext cx="2374920" cy="237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7"/>
          <p:cNvSpPr/>
          <p:nvPr/>
        </p:nvSpPr>
        <p:spPr>
          <a:xfrm>
            <a:off x="4657680" y="3502080"/>
            <a:ext cx="1711440" cy="17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d7d7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821120" y="2849400"/>
            <a:ext cx="701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文本</a:t>
            </a:r>
            <a:r>
              <a:rPr b="0" lang="en-US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826160" y="3701880"/>
            <a:ext cx="701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文本</a:t>
            </a:r>
            <a:r>
              <a:rPr b="0" lang="en-US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3568680" y="3701880"/>
            <a:ext cx="701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>
            <a:off x="3568680" y="2849400"/>
            <a:ext cx="70164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文本</a:t>
            </a:r>
            <a:r>
              <a:rPr b="0" lang="en-US" sz="2000" spc="-1" strike="noStrike">
                <a:solidFill>
                  <a:srgbClr val="7d7d7d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0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