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8078-F4DF-4E06-990B-E4DFF10F0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C3A1-D6F4-41C1-BBF7-B0D3CC86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E741-4741-408D-89F8-1531D8F30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6304-E1F3-4EEC-9FCB-B7E6BFABC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8BB9-4A12-4DA5-946F-B64DC0DDC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B95E-D7B8-4BF1-B163-8651F33C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FC09-54A4-49EF-A6BC-95EAE572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56B2-30E2-4752-9FD2-5139904F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276F-6472-426C-95A7-F8E2E330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E265-BF01-4DC0-A352-148276E4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0EEE-15C3-41AC-8BC9-AAE87E68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1CC7-9240-4AC4-8B35-61906DBA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B1C8-DA65-4039-B7FB-7F322407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B37C-2878-4368-9CBB-4773820A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982C-9FDE-4D75-A518-E4D19FAC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0AA5-E652-4917-8314-D038B1DA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7B18-5591-4634-9503-DDACECA22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8D0F-089F-4357-9C3B-42C3BD13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B750-8D5F-4D0A-85F7-BF2468F2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3B83-A654-4799-95D7-C59CB44A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172C-E2CF-4B88-B64A-EA7A28C3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35AA-7BA2-4DFE-9D90-1C172E8D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0087-3063-46E6-92F6-56450405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149D-2BC6-4CBD-BB38-715ECCED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119A-1EDF-43EB-858D-9F7E40DECB3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6620-35B3-4634-A2A3-79CA5C91D4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F499-E1BE-4931-BE61-A4327045688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47BE-3465-4D92-8D1C-ADDFD097B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http://www.rapidppt.com/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689120" y="3432240"/>
            <a:ext cx="5791320" cy="2822400"/>
            <a:chOff x="1689120" y="3432240"/>
            <a:chExt cx="5791320" cy="2822400"/>
          </a:xfrm>
        </p:grpSpPr>
        <p:pic>
          <p:nvPicPr>
            <p:cNvPr id="83" name="椭圆 10" descr=""/>
            <p:cNvPicPr/>
            <p:nvPr/>
          </p:nvPicPr>
          <p:blipFill>
            <a:blip r:embed="rId1"/>
            <a:stretch/>
          </p:blipFill>
          <p:spPr>
            <a:xfrm>
              <a:off x="1689120" y="3432240"/>
              <a:ext cx="579132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2617920" y="3924360"/>
              <a:ext cx="3857400" cy="17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任意多边形 4"/>
          <p:cNvSpPr/>
          <p:nvPr/>
        </p:nvSpPr>
        <p:spPr>
          <a:xfrm>
            <a:off x="5721480" y="3676680"/>
            <a:ext cx="952200" cy="1208160"/>
          </a:xfrm>
          <a:custGeom>
            <a:avLst/>
            <a:gdLst/>
            <a:ahLst/>
            <a:rect l="l" t="t" r="r" b="b"/>
            <a:pathLst>
              <a:path w="952089" h="1208690">
                <a:moveTo>
                  <a:pt x="0" y="633002"/>
                </a:moveTo>
                <a:lnTo>
                  <a:pt x="16669" y="1208690"/>
                </a:lnTo>
                <a:lnTo>
                  <a:pt x="952089" y="336331"/>
                </a:lnTo>
                <a:lnTo>
                  <a:pt x="952089" y="0"/>
                </a:lnTo>
                <a:lnTo>
                  <a:pt x="0" y="633002"/>
                </a:lnTo>
                <a:close/>
              </a:path>
            </a:pathLst>
          </a:custGeom>
          <a:gradFill rotWithShape="0">
            <a:gsLst>
              <a:gs pos="0">
                <a:srgbClr val="fece02"/>
              </a:gs>
              <a:gs pos="100000">
                <a:srgbClr val="c73e01"/>
              </a:gs>
            </a:gsLst>
            <a:lin ang="10800000"/>
          </a:gra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任意多边形 5"/>
          <p:cNvSpPr/>
          <p:nvPr/>
        </p:nvSpPr>
        <p:spPr>
          <a:xfrm>
            <a:off x="3454560" y="4368960"/>
            <a:ext cx="1149120" cy="1568160"/>
          </a:xfrm>
          <a:custGeom>
            <a:avLst/>
            <a:gdLst/>
            <a:ahLst/>
            <a:rect l="l" t="t" r="r" b="b"/>
            <a:pathLst>
              <a:path w="1145628" h="1568011">
                <a:moveTo>
                  <a:pt x="1011" y="0"/>
                </a:moveTo>
                <a:lnTo>
                  <a:pt x="1145628" y="685142"/>
                </a:lnTo>
                <a:lnTo>
                  <a:pt x="1145628" y="1568011"/>
                </a:lnTo>
                <a:lnTo>
                  <a:pt x="0" y="580039"/>
                </a:lnTo>
                <a:lnTo>
                  <a:pt x="1011" y="0"/>
                </a:lnTo>
                <a:close/>
              </a:path>
            </a:pathLst>
          </a:custGeom>
          <a:gradFill rotWithShape="0">
            <a:gsLst>
              <a:gs pos="0">
                <a:srgbClr val="fa9496"/>
              </a:gs>
              <a:gs pos="100000">
                <a:srgbClr val="be1247"/>
              </a:gs>
            </a:gsLst>
            <a:lin ang="10800000"/>
          </a:gradFill>
          <a:ln w="324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任意多边形 6"/>
          <p:cNvSpPr/>
          <p:nvPr/>
        </p:nvSpPr>
        <p:spPr>
          <a:xfrm>
            <a:off x="4602240" y="4329000"/>
            <a:ext cx="1104840" cy="1611360"/>
          </a:xfrm>
          <a:custGeom>
            <a:avLst/>
            <a:gdLst/>
            <a:ahLst/>
            <a:rect l="l" t="t" r="r" b="b"/>
            <a:pathLst>
              <a:path w="1072056" h="1611448">
                <a:moveTo>
                  <a:pt x="0" y="725214"/>
                </a:moveTo>
                <a:cubicBezTo>
                  <a:pt x="1541" y="1019038"/>
                  <a:pt x="771" y="1317624"/>
                  <a:pt x="2312" y="1611448"/>
                </a:cubicBezTo>
                <a:lnTo>
                  <a:pt x="1072056" y="588580"/>
                </a:lnTo>
                <a:lnTo>
                  <a:pt x="1072056" y="0"/>
                </a:lnTo>
                <a:lnTo>
                  <a:pt x="0" y="725214"/>
                </a:lnTo>
                <a:close/>
              </a:path>
            </a:pathLst>
          </a:custGeom>
          <a:gradFill rotWithShape="0">
            <a:gsLst>
              <a:gs pos="0">
                <a:srgbClr val="fa9496"/>
              </a:gs>
              <a:gs pos="100000">
                <a:srgbClr val="be1247"/>
              </a:gs>
            </a:gsLst>
            <a:lin ang="10800000"/>
          </a:gradFill>
          <a:ln w="324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任意多边形 7"/>
          <p:cNvSpPr/>
          <p:nvPr/>
        </p:nvSpPr>
        <p:spPr>
          <a:xfrm>
            <a:off x="3454560" y="3730680"/>
            <a:ext cx="2252520" cy="1339920"/>
          </a:xfrm>
          <a:custGeom>
            <a:avLst/>
            <a:gdLst/>
            <a:ahLst/>
            <a:rect l="l" t="t" r="r" b="b"/>
            <a:pathLst>
              <a:path w="2753711" h="1639613">
                <a:moveTo>
                  <a:pt x="1397876" y="1639613"/>
                </a:moveTo>
                <a:lnTo>
                  <a:pt x="0" y="777765"/>
                </a:lnTo>
                <a:lnTo>
                  <a:pt x="1366345" y="0"/>
                </a:lnTo>
                <a:lnTo>
                  <a:pt x="2753711" y="735724"/>
                </a:lnTo>
                <a:lnTo>
                  <a:pt x="1397876" y="1639613"/>
                </a:lnTo>
                <a:close/>
              </a:path>
            </a:pathLst>
          </a:custGeom>
          <a:gradFill rotWithShape="0">
            <a:gsLst>
              <a:gs pos="0">
                <a:srgbClr val="be1247"/>
              </a:gs>
              <a:gs pos="100000">
                <a:srgbClr val="fa9496"/>
              </a:gs>
            </a:gsLst>
            <a:lin ang="5400000"/>
          </a:gradFill>
          <a:ln w="324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任意多边形 8"/>
          <p:cNvSpPr/>
          <p:nvPr/>
        </p:nvSpPr>
        <p:spPr>
          <a:xfrm>
            <a:off x="4602240" y="3193920"/>
            <a:ext cx="2079720" cy="1117800"/>
          </a:xfrm>
          <a:custGeom>
            <a:avLst/>
            <a:gdLst/>
            <a:ahLst/>
            <a:rect l="l" t="t" r="r" b="b"/>
            <a:pathLst>
              <a:path w="2543503" h="1366345">
                <a:moveTo>
                  <a:pt x="1366345" y="1366345"/>
                </a:moveTo>
                <a:lnTo>
                  <a:pt x="0" y="630621"/>
                </a:lnTo>
                <a:lnTo>
                  <a:pt x="1187669" y="0"/>
                </a:lnTo>
                <a:lnTo>
                  <a:pt x="2543503" y="609600"/>
                </a:lnTo>
                <a:lnTo>
                  <a:pt x="1366345" y="1366345"/>
                </a:lnTo>
                <a:close/>
              </a:path>
            </a:pathLst>
          </a:custGeom>
          <a:gradFill rotWithShape="0">
            <a:gsLst>
              <a:gs pos="0">
                <a:srgbClr val="c73e01"/>
              </a:gs>
              <a:gs pos="100000">
                <a:srgbClr val="fece02"/>
              </a:gs>
            </a:gsLst>
            <a:lin ang="5400000"/>
          </a:gra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任意多边形 9"/>
          <p:cNvSpPr/>
          <p:nvPr/>
        </p:nvSpPr>
        <p:spPr>
          <a:xfrm>
            <a:off x="2441520" y="3211560"/>
            <a:ext cx="2104920" cy="1133280"/>
          </a:xfrm>
          <a:custGeom>
            <a:avLst/>
            <a:gdLst/>
            <a:ahLst/>
            <a:rect l="l" t="t" r="r" b="b"/>
            <a:pathLst>
              <a:path w="2575034" h="1387365">
                <a:moveTo>
                  <a:pt x="1215654" y="1387365"/>
                </a:moveTo>
                <a:lnTo>
                  <a:pt x="2575034" y="609600"/>
                </a:lnTo>
                <a:lnTo>
                  <a:pt x="1387365" y="0"/>
                </a:lnTo>
                <a:lnTo>
                  <a:pt x="0" y="651641"/>
                </a:lnTo>
                <a:lnTo>
                  <a:pt x="1215654" y="1387365"/>
                </a:lnTo>
                <a:close/>
              </a:path>
            </a:pathLst>
          </a:custGeom>
          <a:gradFill rotWithShape="0">
            <a:gsLst>
              <a:gs pos="0">
                <a:srgbClr val="119707"/>
              </a:gs>
              <a:gs pos="100000">
                <a:srgbClr val="bceb6f"/>
              </a:gs>
            </a:gsLst>
            <a:lin ang="5400000"/>
          </a:gra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任意多边形 10"/>
          <p:cNvSpPr/>
          <p:nvPr/>
        </p:nvSpPr>
        <p:spPr>
          <a:xfrm>
            <a:off x="3608280" y="2744640"/>
            <a:ext cx="1932120" cy="962280"/>
          </a:xfrm>
          <a:custGeom>
            <a:avLst/>
            <a:gdLst/>
            <a:ahLst/>
            <a:rect l="l" t="t" r="r" b="b"/>
            <a:pathLst>
              <a:path w="2364828" h="1177159">
                <a:moveTo>
                  <a:pt x="1187669" y="1177159"/>
                </a:moveTo>
                <a:lnTo>
                  <a:pt x="2364828" y="536028"/>
                </a:lnTo>
                <a:lnTo>
                  <a:pt x="1177159" y="0"/>
                </a:lnTo>
                <a:lnTo>
                  <a:pt x="0" y="557049"/>
                </a:lnTo>
                <a:lnTo>
                  <a:pt x="1187669" y="1177159"/>
                </a:lnTo>
                <a:close/>
              </a:path>
            </a:pathLst>
          </a:custGeom>
          <a:gradFill rotWithShape="0">
            <a:gsLst>
              <a:gs pos="0">
                <a:srgbClr val="006a96"/>
              </a:gs>
              <a:gs pos="100000">
                <a:srgbClr val="00b8ff"/>
              </a:gs>
            </a:gsLst>
            <a:lin ang="5400000"/>
          </a:gra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任意多边形 11"/>
          <p:cNvSpPr/>
          <p:nvPr/>
        </p:nvSpPr>
        <p:spPr>
          <a:xfrm>
            <a:off x="2441520" y="3749760"/>
            <a:ext cx="995400" cy="1189080"/>
          </a:xfrm>
          <a:custGeom>
            <a:avLst/>
            <a:gdLst/>
            <a:ahLst/>
            <a:rect l="l" t="t" r="r" b="b"/>
            <a:pathLst>
              <a:path w="966952" h="1187669">
                <a:moveTo>
                  <a:pt x="962324" y="590550"/>
                </a:moveTo>
                <a:cubicBezTo>
                  <a:pt x="963867" y="789590"/>
                  <a:pt x="965409" y="988629"/>
                  <a:pt x="966952" y="1187669"/>
                </a:cubicBezTo>
                <a:lnTo>
                  <a:pt x="0" y="304800"/>
                </a:lnTo>
                <a:lnTo>
                  <a:pt x="0" y="0"/>
                </a:lnTo>
                <a:lnTo>
                  <a:pt x="962324" y="590550"/>
                </a:lnTo>
                <a:close/>
              </a:path>
            </a:pathLst>
          </a:custGeom>
          <a:gradFill rotWithShape="0">
            <a:gsLst>
              <a:gs pos="0">
                <a:srgbClr val="bceb6f"/>
              </a:gs>
              <a:gs pos="100000">
                <a:srgbClr val="119707"/>
              </a:gs>
            </a:gsLst>
            <a:lin ang="10800000"/>
          </a:gra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390760" y="3749760"/>
            <a:ext cx="4346640" cy="2063520"/>
            <a:chOff x="2390760" y="3749760"/>
            <a:chExt cx="4346640" cy="2063520"/>
          </a:xfrm>
        </p:grpSpPr>
        <p:grpSp>
          <p:nvGrpSpPr>
            <p:cNvPr id="94" name=""/>
            <p:cNvGrpSpPr/>
            <p:nvPr/>
          </p:nvGrpSpPr>
          <p:grpSpPr>
            <a:xfrm>
              <a:off x="2390760" y="3749760"/>
              <a:ext cx="4346640" cy="2003760"/>
              <a:chOff x="2390760" y="3749760"/>
              <a:chExt cx="4346640" cy="2003760"/>
            </a:xfrm>
          </p:grpSpPr>
          <p:pic>
            <p:nvPicPr>
              <p:cNvPr id="95" name="任意多边形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2390760" y="3792240"/>
                <a:ext cx="2228040" cy="1949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任意多边形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4600440" y="3749760"/>
                <a:ext cx="2136960" cy="2003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7" name=""/>
            <p:cNvGrpSpPr/>
            <p:nvPr/>
          </p:nvGrpSpPr>
          <p:grpSpPr>
            <a:xfrm>
              <a:off x="2411280" y="3754800"/>
              <a:ext cx="4321080" cy="2058480"/>
              <a:chOff x="2411280" y="3754800"/>
              <a:chExt cx="4321080" cy="2058480"/>
            </a:xfrm>
          </p:grpSpPr>
          <p:pic>
            <p:nvPicPr>
              <p:cNvPr id="98" name="任意多边形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2411280" y="3803040"/>
                <a:ext cx="2194200" cy="199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任意多边形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4599360" y="3754800"/>
                <a:ext cx="2133000" cy="2058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" name="TextBox 11"/>
          <p:cNvSpPr/>
          <p:nvPr/>
        </p:nvSpPr>
        <p:spPr>
          <a:xfrm flipH="1" rot="19374600">
            <a:off x="4861800" y="4606920"/>
            <a:ext cx="145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"/>
          <p:cNvSpPr/>
          <p:nvPr/>
        </p:nvSpPr>
        <p:spPr>
          <a:xfrm flipH="1">
            <a:off x="3843360" y="422748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"/>
          <p:cNvSpPr/>
          <p:nvPr/>
        </p:nvSpPr>
        <p:spPr>
          <a:xfrm flipH="1">
            <a:off x="2784600" y="358308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 flipH="1">
            <a:off x="4894200" y="358308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 flipH="1">
            <a:off x="7669080" y="6453360"/>
            <a:ext cx="14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03360" y="1344600"/>
            <a:ext cx="1241280" cy="936000"/>
            <a:chOff x="603360" y="1344600"/>
            <a:chExt cx="1241280" cy="936000"/>
          </a:xfrm>
        </p:grpSpPr>
        <p:sp>
          <p:nvSpPr>
            <p:cNvPr id="106" name="TextBox 11"/>
            <p:cNvSpPr/>
            <p:nvPr/>
          </p:nvSpPr>
          <p:spPr>
            <a:xfrm flipH="1">
              <a:off x="603360" y="1821600"/>
              <a:ext cx="1226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11"/>
            <p:cNvSpPr/>
            <p:nvPr/>
          </p:nvSpPr>
          <p:spPr>
            <a:xfrm flipH="1">
              <a:off x="618480" y="1344600"/>
              <a:ext cx="1226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03360" y="2355840"/>
            <a:ext cx="1241280" cy="936360"/>
            <a:chOff x="603360" y="2355840"/>
            <a:chExt cx="1241280" cy="936360"/>
          </a:xfrm>
        </p:grpSpPr>
        <p:sp>
          <p:nvSpPr>
            <p:cNvPr id="109" name="TextBox 11"/>
            <p:cNvSpPr/>
            <p:nvPr/>
          </p:nvSpPr>
          <p:spPr>
            <a:xfrm flipH="1">
              <a:off x="603360" y="2833200"/>
              <a:ext cx="1226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11"/>
            <p:cNvSpPr/>
            <p:nvPr/>
          </p:nvSpPr>
          <p:spPr>
            <a:xfrm flipH="1">
              <a:off x="618480" y="2355840"/>
              <a:ext cx="1226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7724880" y="1344600"/>
            <a:ext cx="1241280" cy="936000"/>
            <a:chOff x="7724880" y="1344600"/>
            <a:chExt cx="1241280" cy="936000"/>
          </a:xfrm>
        </p:grpSpPr>
        <p:sp>
          <p:nvSpPr>
            <p:cNvPr id="112" name="TextBox 11"/>
            <p:cNvSpPr/>
            <p:nvPr/>
          </p:nvSpPr>
          <p:spPr>
            <a:xfrm flipH="1">
              <a:off x="7724880" y="1821600"/>
              <a:ext cx="1226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11"/>
            <p:cNvSpPr/>
            <p:nvPr/>
          </p:nvSpPr>
          <p:spPr>
            <a:xfrm flipH="1">
              <a:off x="7740000" y="1344600"/>
              <a:ext cx="1226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7724880" y="2363760"/>
            <a:ext cx="1241280" cy="936000"/>
            <a:chOff x="7724880" y="2363760"/>
            <a:chExt cx="1241280" cy="936000"/>
          </a:xfrm>
        </p:grpSpPr>
        <p:sp>
          <p:nvSpPr>
            <p:cNvPr id="115" name="TextBox 11"/>
            <p:cNvSpPr/>
            <p:nvPr/>
          </p:nvSpPr>
          <p:spPr>
            <a:xfrm flipH="1">
              <a:off x="7724880" y="2840760"/>
              <a:ext cx="1226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11"/>
            <p:cNvSpPr/>
            <p:nvPr/>
          </p:nvSpPr>
          <p:spPr>
            <a:xfrm flipH="1">
              <a:off x="7740000" y="2363760"/>
              <a:ext cx="1226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矩形 36"/>
          <p:cNvSpPr/>
          <p:nvPr/>
        </p:nvSpPr>
        <p:spPr>
          <a:xfrm>
            <a:off x="1870200" y="1344600"/>
            <a:ext cx="46080" cy="898560"/>
          </a:xfrm>
          <a:prstGeom prst="rect">
            <a:avLst/>
          </a:prstGeom>
          <a:solidFill>
            <a:srgbClr val="005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7"/>
          <p:cNvSpPr/>
          <p:nvPr/>
        </p:nvSpPr>
        <p:spPr>
          <a:xfrm>
            <a:off x="7510320" y="1344600"/>
            <a:ext cx="46080" cy="898560"/>
          </a:xfrm>
          <a:prstGeom prst="rect">
            <a:avLst/>
          </a:prstGeom>
          <a:solidFill>
            <a:srgbClr val="c77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38"/>
          <p:cNvSpPr/>
          <p:nvPr/>
        </p:nvSpPr>
        <p:spPr>
          <a:xfrm>
            <a:off x="1870200" y="2400480"/>
            <a:ext cx="46080" cy="898200"/>
          </a:xfrm>
          <a:prstGeom prst="rect">
            <a:avLst/>
          </a:prstGeom>
          <a:solidFill>
            <a:srgbClr val="119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39"/>
          <p:cNvSpPr/>
          <p:nvPr/>
        </p:nvSpPr>
        <p:spPr>
          <a:xfrm>
            <a:off x="7510320" y="2408400"/>
            <a:ext cx="46080" cy="898200"/>
          </a:xfrm>
          <a:prstGeom prst="rect">
            <a:avLst/>
          </a:prstGeom>
          <a:solidFill>
            <a:srgbClr val="be12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"/>
          <p:cNvSpPr/>
          <p:nvPr/>
        </p:nvSpPr>
        <p:spPr>
          <a:xfrm>
            <a:off x="5990040" y="255600"/>
            <a:ext cx="221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四元素打包并列关系</a:t>
            </a:r>
            <a:r>
              <a:rPr b="0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任意多边形 41"/>
          <p:cNvSpPr/>
          <p:nvPr/>
        </p:nvSpPr>
        <p:spPr>
          <a:xfrm>
            <a:off x="4108320" y="1757520"/>
            <a:ext cx="368280" cy="1199880"/>
          </a:xfrm>
          <a:custGeom>
            <a:avLst/>
            <a:gdLst/>
            <a:ahLst/>
            <a:rect l="l" t="t" r="r" b="b"/>
            <a:pathLst>
              <a:path w="368135" h="1199408">
                <a:moveTo>
                  <a:pt x="368135" y="1199408"/>
                </a:moveTo>
                <a:lnTo>
                  <a:pt x="368135" y="0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6a96"/>
            </a:solidFill>
            <a:prstDash val="sysDot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任意多边形 42"/>
          <p:cNvSpPr/>
          <p:nvPr/>
        </p:nvSpPr>
        <p:spPr>
          <a:xfrm>
            <a:off x="3068640" y="2763720"/>
            <a:ext cx="368280" cy="798480"/>
          </a:xfrm>
          <a:custGeom>
            <a:avLst/>
            <a:gdLst/>
            <a:ahLst/>
            <a:rect l="l" t="t" r="r" b="b"/>
            <a:pathLst>
              <a:path w="368135" h="1199408">
                <a:moveTo>
                  <a:pt x="368135" y="1199408"/>
                </a:moveTo>
                <a:lnTo>
                  <a:pt x="368135" y="0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119707"/>
            </a:solidFill>
            <a:prstDash val="sysDot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任意多边形 43"/>
          <p:cNvSpPr/>
          <p:nvPr/>
        </p:nvSpPr>
        <p:spPr>
          <a:xfrm flipH="1">
            <a:off x="5826240" y="1820880"/>
            <a:ext cx="242640" cy="1636560"/>
          </a:xfrm>
          <a:custGeom>
            <a:avLst/>
            <a:gdLst/>
            <a:ahLst/>
            <a:rect l="l" t="t" r="r" b="b"/>
            <a:pathLst>
              <a:path w="368135" h="1199408">
                <a:moveTo>
                  <a:pt x="368135" y="1199408"/>
                </a:moveTo>
                <a:lnTo>
                  <a:pt x="368135" y="0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c73e01"/>
            </a:solidFill>
            <a:prstDash val="sysDot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任意多边形 44"/>
          <p:cNvSpPr/>
          <p:nvPr/>
        </p:nvSpPr>
        <p:spPr>
          <a:xfrm flipH="1">
            <a:off x="5031720" y="2833560"/>
            <a:ext cx="243000" cy="1290600"/>
          </a:xfrm>
          <a:custGeom>
            <a:avLst/>
            <a:gdLst/>
            <a:ahLst/>
            <a:rect l="l" t="t" r="r" b="b"/>
            <a:pathLst>
              <a:path w="368135" h="1199408">
                <a:moveTo>
                  <a:pt x="368135" y="1199408"/>
                </a:moveTo>
                <a:lnTo>
                  <a:pt x="368135" y="0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be1247"/>
            </a:solidFill>
            <a:prstDash val="sysDot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5">
            <a:hlinkClick r:id="rId6"/>
          </p:cNvPr>
          <p:cNvSpPr/>
          <p:nvPr/>
        </p:nvSpPr>
        <p:spPr>
          <a:xfrm>
            <a:off x="3773520" y="6391440"/>
            <a:ext cx="30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51400" y="32464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32:49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