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BCC-B121-4C5B-BF16-4C7BB090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8AF-8C6E-4A63-B333-44DE38FF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2AC-5E45-4811-9B67-79459575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613C-4C4E-4266-B789-D6AE31E4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27C-6009-471F-BCA1-E49B46D1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BA6-AFCA-4A8E-A947-E3D062BF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0D01-C875-491F-92AA-F95D7AE3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23A-09B3-499C-80D8-4BE39AEB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CB8-A63B-4758-B8B2-FDC97C09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F63A-1F21-42CD-B585-0F1D4352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770-14AD-436D-9CB3-2303F016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F8C-F29A-4475-838E-9FD2B9A8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B962-0635-4113-AB17-210C603E71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ADBB-24C8-4085-8D4B-DF968120FC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34666-1310240P55647-1.jpg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240498-1305060G61445.jpg"/>
          <p:cNvPicPr/>
          <p:nvPr/>
        </p:nvPicPr>
        <p:blipFill>
          <a:blip r:embed="rId1"/>
          <a:stretch/>
        </p:blipFill>
        <p:spPr>
          <a:xfrm>
            <a:off x="577800" y="0"/>
            <a:ext cx="7261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240469-130ZPQ92126.jpg"/>
          <p:cNvPicPr/>
          <p:nvPr/>
        </p:nvPicPr>
        <p:blipFill>
          <a:blip r:embed="rId1"/>
          <a:srcRect l="0" t="9804" r="0" b="4193"/>
          <a:stretch/>
        </p:blipFill>
        <p:spPr>
          <a:xfrm>
            <a:off x="0" y="209520"/>
            <a:ext cx="9180360" cy="6423120"/>
          </a:xfrm>
          <a:prstGeom prst="rect">
            <a:avLst/>
          </a:prstGeom>
          <a:ln w="0">
            <a:noFill/>
          </a:ln>
        </p:spPr>
      </p:pic>
      <p:sp>
        <p:nvSpPr>
          <p:cNvPr id="5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8:4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