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4F1-16CC-4194-8734-97C01196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01A-B974-4C4F-A5FD-82AA1A5F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55C-1D8D-44F2-9887-76F604AC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058-B7FE-471D-9901-DC218137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0AF-2E0A-448A-B397-BF58B1F2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45F-C569-46E3-BED1-BA4AF83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179-C29E-46D1-897F-786CFFB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470-2E2A-4938-816A-342CE35B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034-266F-4E79-BA87-9F18F754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DCA-580F-4372-B50C-CC6A603A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E04-A18C-4B9E-9DB2-CE96ADED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F32-6DBA-4C0B-AD13-E9E7097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1F61-950F-466E-92A8-A72C5DDCC3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262D-FDCF-47D5-85A7-3B62CAE522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2276640"/>
            <a:ext cx="2590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ANKS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1197000"/>
            <a:ext cx="3962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Thanks!</a:t>
            </a:r>
            <a:endParaRPr b="0" lang="en-US" sz="72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55640" y="907920"/>
            <a:ext cx="439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s!</a:t>
            </a:r>
            <a:endParaRPr b="0" lang="en-US" sz="18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64000" y="549360"/>
            <a:ext cx="28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Thanks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05264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00"/>
                </a:solidFill>
                <a:latin typeface="Times New Roman"/>
              </a:rPr>
              <a:t>Thanks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5C7-868D-4FDC-B153-F877B92DA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9:3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