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C6B-8118-4166-B6AD-965CC3A1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500-9C29-4E74-85FB-97B411E2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2E2-C146-4FBA-A4A2-0A7600E0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65D-A34C-4F05-9E61-8FEAB22B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3D8B-D826-4C4D-8660-111BF7C1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2671-4C13-46EF-AD63-ED5A590D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9C6B-3A3F-411E-B47D-EB98F459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F075-7096-42F7-996C-5604DBA2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ED85-20E8-4048-BD0F-504FE678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FA05-D357-47A9-AE43-AFEEA239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DB68-6D5A-4163-91B2-1B3BB808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325-4F5B-4323-9680-BDD3061E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2A87-711B-4379-8EBF-D65612C1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5962-62A4-45BA-B0C2-6DB6EAF6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245D-ED76-4FC9-8BD2-BF45D79B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0B4C-6EC8-42DD-B4B0-DE97A5AD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2F62-7FF2-45C3-A84B-16175C67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9FE-9A7C-4154-928B-D8974175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616-AA2B-4241-B92D-8ADA5749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6E2-AEF9-4E1D-9132-BB24C701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0EA-F0E7-4470-A7E7-D302A2A1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F98-770F-4E6E-B90D-1D5D3D23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812-A5FD-4243-9146-DA9F4B88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82D-D068-4506-9165-F32D8BC6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C83B-38F4-4005-BD3A-45CCDCAEAD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C0D2-BD49-4B83-852B-ADB4E6414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9A86-4678-4DC2-95D2-2389D0999D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4C9C-F015-4D90-8FAA-116386180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群組 54"/>
          <p:cNvGrpSpPr/>
          <p:nvPr/>
        </p:nvGrpSpPr>
        <p:grpSpPr>
          <a:xfrm>
            <a:off x="3911760" y="2529000"/>
            <a:ext cx="1095120" cy="1430280"/>
            <a:chOff x="3911760" y="2529000"/>
            <a:chExt cx="1095120" cy="1430280"/>
          </a:xfrm>
        </p:grpSpPr>
        <p:sp>
          <p:nvSpPr>
            <p:cNvPr id="83" name="手繪多邊形 3"/>
            <p:cNvSpPr/>
            <p:nvPr/>
          </p:nvSpPr>
          <p:spPr>
            <a:xfrm flipH="1">
              <a:off x="4014720" y="2529000"/>
              <a:ext cx="992160" cy="14302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手繪多邊形 4"/>
            <p:cNvSpPr/>
            <p:nvPr/>
          </p:nvSpPr>
          <p:spPr>
            <a:xfrm flipH="1">
              <a:off x="3911760" y="2772720"/>
              <a:ext cx="240480" cy="4492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任意多边形 6"/>
          <p:cNvSpPr/>
          <p:nvPr/>
        </p:nvSpPr>
        <p:spPr>
          <a:xfrm>
            <a:off x="336600" y="4170240"/>
            <a:ext cx="2965320" cy="83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96"/>
          <p:cNvGrpSpPr/>
          <p:nvPr/>
        </p:nvGrpSpPr>
        <p:grpSpPr>
          <a:xfrm>
            <a:off x="1601640" y="3116160"/>
            <a:ext cx="2452680" cy="2441520"/>
            <a:chOff x="1601640" y="3116160"/>
            <a:chExt cx="2452680" cy="2441520"/>
          </a:xfrm>
        </p:grpSpPr>
        <p:sp>
          <p:nvSpPr>
            <p:cNvPr id="87" name="椭圆 97"/>
            <p:cNvSpPr/>
            <p:nvPr/>
          </p:nvSpPr>
          <p:spPr>
            <a:xfrm>
              <a:off x="1621800" y="3116160"/>
              <a:ext cx="2432520" cy="243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102"/>
            <p:cNvSpPr/>
            <p:nvPr/>
          </p:nvSpPr>
          <p:spPr>
            <a:xfrm>
              <a:off x="1601640" y="3125520"/>
              <a:ext cx="2432520" cy="2432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103"/>
            <p:cNvSpPr/>
            <p:nvPr/>
          </p:nvSpPr>
          <p:spPr>
            <a:xfrm>
              <a:off x="2331360" y="3204720"/>
              <a:ext cx="1013400" cy="50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椭圆 35"/>
          <p:cNvSpPr/>
          <p:nvPr/>
        </p:nvSpPr>
        <p:spPr>
          <a:xfrm>
            <a:off x="3206880" y="4130640"/>
            <a:ext cx="249120" cy="32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顶部logo"/>
          <p:cNvGrpSpPr/>
          <p:nvPr/>
        </p:nvGrpSpPr>
        <p:grpSpPr>
          <a:xfrm>
            <a:off x="0" y="181080"/>
            <a:ext cx="9144000" cy="637920"/>
            <a:chOff x="0" y="181080"/>
            <a:chExt cx="9144000" cy="637920"/>
          </a:xfrm>
        </p:grpSpPr>
        <p:sp>
          <p:nvSpPr>
            <p:cNvPr id="92" name="矩形 98"/>
            <p:cNvSpPr/>
            <p:nvPr/>
          </p:nvSpPr>
          <p:spPr>
            <a:xfrm>
              <a:off x="0" y="711360"/>
              <a:ext cx="9144000" cy="107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99"/>
            <p:cNvSpPr/>
            <p:nvPr/>
          </p:nvSpPr>
          <p:spPr>
            <a:xfrm>
              <a:off x="5767920" y="299160"/>
              <a:ext cx="179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突破递进关系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图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" descr="I:\盘古老人.png"/>
            <p:cNvPicPr/>
            <p:nvPr/>
          </p:nvPicPr>
          <p:blipFill>
            <a:blip r:embed="rId3"/>
            <a:stretch/>
          </p:blipFill>
          <p:spPr>
            <a:xfrm>
              <a:off x="1247040" y="320040"/>
              <a:ext cx="80460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" descr="I:\盘古老人印.png"/>
            <p:cNvPicPr/>
            <p:nvPr/>
          </p:nvPicPr>
          <p:blipFill>
            <a:blip r:embed="rId4"/>
            <a:stretch/>
          </p:blipFill>
          <p:spPr>
            <a:xfrm>
              <a:off x="830880" y="181080"/>
              <a:ext cx="36000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椭圆 79"/>
          <p:cNvSpPr/>
          <p:nvPr/>
        </p:nvSpPr>
        <p:spPr>
          <a:xfrm>
            <a:off x="1227240" y="5394240"/>
            <a:ext cx="3503520" cy="70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>
            <a:off x="1896480" y="39592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1858320" y="43164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 rot="21077400">
            <a:off x="3238200" y="4219200"/>
            <a:ext cx="285840" cy="70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右箭头 1"/>
          <p:cNvSpPr/>
          <p:nvPr/>
        </p:nvSpPr>
        <p:spPr>
          <a:xfrm rot="20832600">
            <a:off x="3188880" y="3833280"/>
            <a:ext cx="2129040" cy="455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32"/>
          <p:cNvSpPr/>
          <p:nvPr/>
        </p:nvSpPr>
        <p:spPr>
          <a:xfrm rot="20832600">
            <a:off x="3295800" y="4276440"/>
            <a:ext cx="1449360" cy="139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33"/>
          <p:cNvSpPr/>
          <p:nvPr/>
        </p:nvSpPr>
        <p:spPr>
          <a:xfrm rot="20832600">
            <a:off x="4481280" y="3914280"/>
            <a:ext cx="861840" cy="297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 rot="20856000">
            <a:off x="3361680" y="392724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1978920" y="47196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 flipH="1">
            <a:off x="2083680" y="36036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5516640" y="1954080"/>
            <a:ext cx="2879640" cy="3792240"/>
            <a:chOff x="5516640" y="1954080"/>
            <a:chExt cx="2879640" cy="3792240"/>
          </a:xfrm>
        </p:grpSpPr>
        <p:sp>
          <p:nvSpPr>
            <p:cNvPr id="107" name="AutoShape 4"/>
            <p:cNvSpPr/>
            <p:nvPr/>
          </p:nvSpPr>
          <p:spPr>
            <a:xfrm>
              <a:off x="5516640" y="5587200"/>
              <a:ext cx="2879640" cy="15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5"/>
            <p:cNvSpPr/>
            <p:nvPr/>
          </p:nvSpPr>
          <p:spPr>
            <a:xfrm>
              <a:off x="5516640" y="1954080"/>
              <a:ext cx="2868120" cy="3633120"/>
            </a:xfrm>
            <a:custGeom>
              <a:avLst/>
              <a:gdLst>
                <a:gd name="textAreaLeft" fmla="*/ 10800 w 2868120"/>
                <a:gd name="textAreaRight" fmla="*/ 2857320 w 2868120"/>
                <a:gd name="textAreaTop" fmla="*/ 10800 h 3633120"/>
                <a:gd name="textAreaBottom" fmla="*/ 3622320 h 3633120"/>
              </a:gdLst>
              <a:ahLst/>
              <a:rect l="textAreaLeft" t="textAreaTop" r="textAreaRight" b="textAreaBottom"/>
              <a:pathLst>
                <a:path w="21600" h="27361">
                  <a:moveTo>
                    <a:pt x="285" y="0"/>
                  </a:moveTo>
                  <a:arcTo wR="285" hR="285" stAng="16200000" swAng="-5400000"/>
                  <a:lnTo>
                    <a:pt x="0" y="27076"/>
                  </a:lnTo>
                  <a:arcTo wR="285" hR="285" stAng="10800000" swAng="-5400000"/>
                  <a:lnTo>
                    <a:pt x="21315" y="27361"/>
                  </a:lnTo>
                  <a:arcTo wR="285" hR="285" stAng="5400000" swAng="-5400000"/>
                  <a:lnTo>
                    <a:pt x="21600" y="285"/>
                  </a:lnTo>
                  <a:arcTo wR="285" hR="285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28"/>
          <p:cNvSpPr/>
          <p:nvPr/>
        </p:nvSpPr>
        <p:spPr>
          <a:xfrm>
            <a:off x="5937120" y="229716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46464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5651640" y="2833560"/>
            <a:ext cx="2395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