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37A7-9F25-4036-BC2C-21976E1BC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9335-46D8-4073-8B96-893B586F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D201-6EE1-4979-A74F-7B4CF631F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42D3-3FD4-451F-9B02-F052CE470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11D5-590E-492A-A34A-DD58956C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0F6F-2058-4761-9837-CB269A20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DE10-BF09-407B-A408-86D12684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868C-7B88-4306-A0B6-6F5CC3AC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80FC-6DC8-4E64-80CD-AFDBA91E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D8D1-5487-4BD4-83F8-D8A91DAC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CCF4-97FD-46DE-B533-C2429D28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6588-9200-462F-B053-37F190EE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7AA7-C97B-4294-A19B-56074A8DE73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F47B-2D9B-4D15-90C4-A9FF807A94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46"/>
            </a:gs>
            <a:gs pos="50000">
              <a:srgbClr val="ff6699"/>
            </a:gs>
            <a:gs pos="100000">
              <a:srgbClr val="75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030400" y="765000"/>
            <a:ext cx="4923000" cy="547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85800" y="2925720"/>
            <a:ext cx="695520" cy="6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?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411280" y="2925720"/>
            <a:ext cx="695520" cy="6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?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924360" y="2682720"/>
            <a:ext cx="503280" cy="88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?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14760" y="2682720"/>
            <a:ext cx="273240" cy="88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?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897440" y="2925720"/>
            <a:ext cx="695160" cy="6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?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724360" y="2925720"/>
            <a:ext cx="695520" cy="6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?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535800" y="2682720"/>
            <a:ext cx="272880" cy="88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?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948360" y="2925720"/>
            <a:ext cx="695520" cy="6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?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36040" y="2925720"/>
            <a:ext cx="695160" cy="90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?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174840" y="2925720"/>
            <a:ext cx="695520" cy="6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?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1560" y="2664000"/>
            <a:ext cx="825480" cy="91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?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/>
          <p:nvPr/>
        </p:nvSpPr>
        <p:spPr>
          <a:xfrm>
            <a:off x="276840" y="6019920"/>
            <a:ext cx="192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87 -0.07331 C 0.02604 -0.01364 0.03055 0.04186 0.07691 0.07563 C 0.12326 0.10939 0.25312 0.11818 0.29948 0.12928 E">
                                      <p:cBhvr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1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7037E-007 C -0.0132 -0.02523 -0.02466 -0.0537 -0.0283 -0.08449 C -0.03195 -0.11528 -0.02309 -0.16366 -0.02171 -0.18449 E">
                                      <p:cBhvr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1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896 -0.11309 C 0.05174 -0.07632 0.05608 -0.04348 0.06736 -0.02174 C 0.07865 1.96115000000024E-006 0.10677 0.00971 0.11702 0.01781 E">
                                      <p:cBhvr>
                                        <p:cTn id="19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2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9019E-007 C 0.00104 -0.04718 0.00225 -0.08649 0.0283 -0.09991 C 0.05434 -0.11355 0.12986 -0.08488 0.15659 -0.08094 E">
                                      <p:cBhvr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2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7037E-007 C -0.00781 -0.0662 -0.01302 -0.13287 -0.03837 -0.18426 C -0.06371 -0.23565 -0.1283 -0.2831 -0.15191 -0.30903 E">
                                      <p:cBhvr>
                                        <p:cTn id="29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3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1.11111E-006 C -0.03906 -0.07732 -0.07794 -0.1544 -0.08992 -0.2044 C -0.1019 -0.2544 -0.0868 -0.27732 -0.07169 -0.3 E">
                                      <p:cBhvr>
                                        <p:cTn id="34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3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13506E-006 C -0.0165 -0.05966 -0.03177 -0.11956 -0.0408 -0.15818 C -0.05 -0.19704 -0.05191 -0.21762 -0.05469 -0.23311 E">
                                      <p:cBhvr>
                                        <p:cTn id="39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4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0023 C -0.03941 -0.16042 -0.07709 -0.3206 -0.125 -0.37546 C -0.17292 -0.43032 -0.25382 -0.33866 -0.28785 -0.32894 E">
                                      <p:cBhvr>
                                        <p:cTn id="44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4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0.03815 C -0.00018 -0.05551 2.2222200000005E-006 -0.14524 -0.02743 -0.17993 C -0.05486 -0.21439 -0.1382 -0.1716 -0.16736 -0.16952 E">
                                      <p:cBhvr>
                                        <p:cTn id="49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5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3.7037E-007 C 0.01598 -0.05185 0.03229 -0.1037 0.02483 -0.14884 C 0.01736 -0.19398 -0.01406 -0.23264 -0.04531 -0.27107 E">
                                      <p:cBhvr>
                                        <p:cTn id="54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5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0.00024 C -0.00816 0.06783 -0.01528 0.13542 0.02413 0.20255 C 0.06354 0.26968 0.17639 0.37037 0.23576 0.40255 C 0.29514 0.43473 0.33784 0.41528 0.38073 0.39584 E">
                                      <p:cBhvr>
                                        <p:cTn id="59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0022-73E8-4F94-AC7F-4B6E2DF9DF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5:09:56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