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71E-822C-4F5C-8362-29C88EBD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42D-473C-4210-848C-D6C1D248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928-2BB8-475C-AEE1-44041DF2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8FA-285B-48DB-A926-A17D3D5C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CD2-BA5B-4A00-B6EC-2C234FC4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60F2-4C1B-4A8B-BEDA-7A857A9F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CE03-EEF4-44FF-AA37-C121D18A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F025-873A-4B81-88F5-4279EC0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C4E-0992-4555-A041-145D9E6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3CF-9D73-40F0-82DC-8E4498D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47D-C410-48CC-9E40-5E1622B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9F4-79AC-4B6C-9B3B-4F0825B2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917-46C0-4EC6-A8C3-12FD81C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2FD-727B-402B-8658-EC35F46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A719-7068-4DE4-9D5A-1AC892B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88E0-2E80-4DE5-A92D-C67E4EDB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90E4-7714-4DC8-8DA7-12895AF4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6B1-9351-472F-9D94-092C989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48E-3972-4A6B-BC3B-74A30AED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BEE-2F67-4E92-A58C-864C737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423-B30C-4D5F-ACC7-719943A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9C8-E4B3-4DD3-BA13-1CAD103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EBE-D415-457C-BA6E-DD89545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F0D-851C-44D6-BE06-60D21A6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1A15-1C62-4EF3-84C5-7F4FD06037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E3A-C3C6-4E37-8752-6B3CA1D99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951-D53A-403B-BE74-9EA26348D6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414F-650A-4E92-A8BC-8DC36B370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image63.png"/>
          <p:cNvPicPr/>
          <p:nvPr/>
        </p:nvPicPr>
        <p:blipFill>
          <a:blip r:embed="rId1"/>
          <a:stretch/>
        </p:blipFill>
        <p:spPr>
          <a:xfrm>
            <a:off x="-9360" y="744480"/>
            <a:ext cx="5022720" cy="582624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