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5A9-04F3-4DA2-A3D7-34BF1D8B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554-7C41-476A-AD04-3643099D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2ECA-DF56-427E-A2D2-145DF5FC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C6E-CBDB-4684-9424-5E828525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5E84-06AD-44BB-94A6-B961FB42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F730-A473-46ED-8F54-6AEACC74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78B1-6248-40CC-9E1B-D3CF7789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5AC7-6A0A-4845-BA7C-4E2F85D6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8C45-D9E7-4028-8FB5-912B3D20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0CD2-8815-482A-96C2-4C8E2463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DEA9-9667-4C30-B8A9-9646144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8B4-6C27-4A91-BA13-B24E7A84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3E20-1759-4A93-AAFE-19C67454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A817-A242-4E37-BBF5-B8A20BE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3E3A-335C-443D-A55D-A6F872A2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C065-09CE-4A31-9634-AD9EDA6A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F5C4-40DB-4692-B3B1-EE4A00E3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F3A-405C-4872-B831-F8B91576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F63-429D-463F-BE36-190D5323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400-0873-4CCB-A71B-1B10FFB2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C7E4-57B8-4665-86BC-190D1B91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C26-C82E-4017-AC98-9000C08A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ABC-AC37-4152-8730-DEB3724D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61B-6854-4072-9C5D-CAF4679D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A0C9-8DA6-4BF0-98B3-EA58C7B4E8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69F2-F2A2-494B-B14E-3A74B4A156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354F-13A4-4E43-BC4B-DC4540EF47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921C-F794-449F-85D5-FB35B5984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0ef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6756-11021H0232998.jpg"/>
          <p:cNvPicPr/>
          <p:nvPr/>
        </p:nvPicPr>
        <p:blipFill>
          <a:blip r:embed="rId1"/>
          <a:srcRect l="0" t="8933" r="0" b="4195"/>
          <a:stretch/>
        </p:blipFill>
        <p:spPr>
          <a:xfrm>
            <a:off x="-9360" y="298440"/>
            <a:ext cx="9192960" cy="639612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5:2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