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358F-27E8-4D29-8864-83A26EEF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9D78-9C89-47AA-B55D-CA8C5FF5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6491-79A3-4F44-8367-146F06C6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3C14-D9F3-48D3-B744-2AE3476C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FE9D-16A8-4316-9329-932F9A63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1901-0DD9-4C05-A239-829AB1D3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599A-FE27-4A0C-AF82-FCDD1ED5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119B-C96A-44B7-BFE2-DCD9ACA0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A22D-7389-4620-801E-203EF610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5DAB-A50D-46CB-B320-8B89FAEC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5D09-8AC7-470E-B338-351B646D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A774-D47B-4958-BC0D-56619546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3528-6355-49F8-A4DF-7ECB95A1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1049-8505-45B2-923C-663233E1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BE0E-1A84-44C6-B71E-609D8ADB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C15E-9C72-4FFA-8FCB-9A930E7F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2C35-4C23-419D-81CF-11C141EB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486-DF3D-4157-8277-2487777A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D686-1395-4EC4-BC4A-CBB73086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DAEA-42F8-4CC7-AAA7-FA8142F7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43FD-D664-4280-9ABD-5B2DDBC7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F027-6E2C-486C-876F-064F5D2F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C787-42AB-4748-85E3-F57F178E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2408-189F-4CCB-83CD-68D5A908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FD39-F4F0-4BE2-9928-E0D1A33BACB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D9AE-1C15-45A9-94F6-27471D3994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7704-BB11-4B65-A7D5-399AA8F57C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0568-2A68-4541-A0C0-206FCA974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234666-1310240Q23654.jpg"/>
          <p:cNvPicPr/>
          <p:nvPr/>
        </p:nvPicPr>
        <p:blipFill>
          <a:blip r:embed="rId1"/>
          <a:stretch/>
        </p:blipFill>
        <p:spPr>
          <a:xfrm>
            <a:off x="15238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2:0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