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1AC-5539-4580-80A6-DC24DAA5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13C-3550-4269-A51C-F90E2587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42E-4F93-4A37-81DD-8736B926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E57-9279-40D0-ACF7-006B4E68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48B6-91E0-4075-B25D-FDF15BFB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0B04-A2E1-40FC-B030-60650057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1970-130B-432A-AD0F-8F2C4474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C303-C01D-4BB6-899B-61EE4B1F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5745-6B73-488F-9D82-66384DE8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C5AB-F54F-4759-BA9E-DEEAD4C4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4E27-36B4-4128-A727-A743D479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1EB-BB4F-4FF3-B50D-F437562A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4F16-BBCC-468C-8063-2848757C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66F2-A3C8-4144-9DDA-4F2C203B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F63A-F48A-42D5-8FFF-B06C56B5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5CCF-93BF-49A5-96EC-2ED90A10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389C-91D3-4716-B146-C95DE39D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F01-1F78-4481-87E1-A15373DE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907-EB0F-4786-8B84-F5727DEA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982-D62C-419D-9D4D-04B15564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2AF5-DD39-42E4-BBFA-C1465F26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E88-0193-470B-8D9B-4A196739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044-B31D-41F1-8E2B-C7C8045E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0C7-60E3-4BE3-94F2-6BFE3AED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BB8E-098B-4B2A-935B-473C23269C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2173-1A66-42E8-848C-760F2A4814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CEA4-A437-4E3E-B8E7-AAB7B0B061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08A7-C4EC-45E3-960C-39370DBCD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rapidppt.com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190600" y="2270160"/>
            <a:ext cx="4710240" cy="2757600"/>
            <a:chOff x="2190600" y="2270160"/>
            <a:chExt cx="4710240" cy="2757600"/>
          </a:xfrm>
        </p:grpSpPr>
        <p:grpSp>
          <p:nvGrpSpPr>
            <p:cNvPr id="83" name=""/>
            <p:cNvGrpSpPr/>
            <p:nvPr/>
          </p:nvGrpSpPr>
          <p:grpSpPr>
            <a:xfrm>
              <a:off x="2383200" y="2486520"/>
              <a:ext cx="4407120" cy="2018160"/>
              <a:chOff x="2383200" y="2486520"/>
              <a:chExt cx="4407120" cy="2018160"/>
            </a:xfrm>
          </p:grpSpPr>
          <p:pic>
            <p:nvPicPr>
              <p:cNvPr id="84" name="椭圆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383200" y="2486520"/>
                <a:ext cx="4407120" cy="20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108240" y="2862000"/>
                <a:ext cx="2880360" cy="11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161600" y="2270160"/>
              <a:ext cx="859680" cy="862200"/>
              <a:chOff x="4161600" y="2270160"/>
              <a:chExt cx="859680" cy="862200"/>
            </a:xfrm>
          </p:grpSpPr>
          <p:sp>
            <p:nvSpPr>
              <p:cNvPr id="87" name="任意多边形 30"/>
              <p:cNvSpPr/>
              <p:nvPr/>
            </p:nvSpPr>
            <p:spPr>
              <a:xfrm>
                <a:off x="4163760" y="2523240"/>
                <a:ext cx="856080" cy="217440"/>
              </a:xfrm>
              <a:custGeom>
                <a:avLst/>
                <a:gdLst/>
                <a:ahLst/>
                <a:rect l="l" t="t" r="r" b="b"/>
                <a:pathLst>
                  <a:path w="1097280" h="279699">
                    <a:moveTo>
                      <a:pt x="0" y="10758"/>
                    </a:moveTo>
                    <a:lnTo>
                      <a:pt x="0" y="279699"/>
                    </a:lnTo>
                    <a:lnTo>
                      <a:pt x="1097280" y="279699"/>
                    </a:lnTo>
                    <a:lnTo>
                      <a:pt x="1097280" y="0"/>
                    </a:lnTo>
                    <a:lnTo>
                      <a:pt x="0" y="10758"/>
                    </a:lnTo>
                    <a:close/>
                  </a:path>
                </a:pathLst>
              </a:custGeom>
              <a:solidFill>
                <a:srgbClr val="d9d9d9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" name="任意多边形 31" descr=""/>
              <p:cNvPicPr/>
              <p:nvPr/>
            </p:nvPicPr>
            <p:blipFill>
              <a:blip r:embed="rId2"/>
              <a:stretch/>
            </p:blipFill>
            <p:spPr>
              <a:xfrm>
                <a:off x="4161600" y="2270160"/>
                <a:ext cx="859680" cy="66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矩形 32"/>
              <p:cNvSpPr/>
              <p:nvPr/>
            </p:nvSpPr>
            <p:spPr>
              <a:xfrm>
                <a:off x="4321080" y="2918160"/>
                <a:ext cx="516240" cy="214200"/>
              </a:xfrm>
              <a:prstGeom prst="rect">
                <a:avLst/>
              </a:prstGeom>
              <a:solidFill>
                <a:srgbClr val="7f7f7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865040" y="2704680"/>
              <a:ext cx="1800000" cy="720000"/>
              <a:chOff x="4865040" y="2704680"/>
              <a:chExt cx="1800000" cy="720000"/>
            </a:xfrm>
          </p:grpSpPr>
          <p:sp>
            <p:nvSpPr>
              <p:cNvPr id="91" name="任意多边形 25"/>
              <p:cNvSpPr/>
              <p:nvPr/>
            </p:nvSpPr>
            <p:spPr>
              <a:xfrm flipH="1">
                <a:off x="5671080" y="2705760"/>
                <a:ext cx="578880" cy="718920"/>
              </a:xfrm>
              <a:custGeom>
                <a:avLst/>
                <a:gdLst/>
                <a:ahLst/>
                <a:rect l="l" t="t" r="r" b="b"/>
                <a:pathLst>
                  <a:path w="739896" h="921381">
                    <a:moveTo>
                      <a:pt x="0" y="600294"/>
                    </a:moveTo>
                    <a:lnTo>
                      <a:pt x="41880" y="921381"/>
                    </a:lnTo>
                    <a:lnTo>
                      <a:pt x="739896" y="293167"/>
                    </a:lnTo>
                    <a:lnTo>
                      <a:pt x="704995" y="0"/>
                    </a:lnTo>
                    <a:lnTo>
                      <a:pt x="0" y="600294"/>
                    </a:lnTo>
                    <a:close/>
                  </a:path>
                </a:pathLst>
              </a:custGeom>
              <a:solidFill>
                <a:srgbClr val="119707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任意多边形 26"/>
              <p:cNvSpPr/>
              <p:nvPr/>
            </p:nvSpPr>
            <p:spPr>
              <a:xfrm flipH="1">
                <a:off x="6218640" y="2787840"/>
                <a:ext cx="446040" cy="630000"/>
              </a:xfrm>
              <a:custGeom>
                <a:avLst/>
                <a:gdLst/>
                <a:ahLst/>
                <a:rect l="l" t="t" r="r" b="b"/>
                <a:pathLst>
                  <a:path w="570016" h="807523">
                    <a:moveTo>
                      <a:pt x="0" y="0"/>
                    </a:moveTo>
                    <a:lnTo>
                      <a:pt x="47502" y="308759"/>
                    </a:lnTo>
                    <a:lnTo>
                      <a:pt x="570016" y="807523"/>
                    </a:lnTo>
                    <a:lnTo>
                      <a:pt x="534390" y="510639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ceb6f"/>
                  </a:gs>
                  <a:gs pos="100000">
                    <a:srgbClr val="119707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任意多边形 27"/>
              <p:cNvSpPr/>
              <p:nvPr/>
            </p:nvSpPr>
            <p:spPr>
              <a:xfrm flipH="1">
                <a:off x="4880880" y="2704680"/>
                <a:ext cx="1784160" cy="472320"/>
              </a:xfrm>
              <a:custGeom>
                <a:avLst/>
                <a:gdLst/>
                <a:ahLst/>
                <a:rect l="l" t="t" r="r" b="b"/>
                <a:pathLst>
                  <a:path w="2280063" h="605641">
                    <a:moveTo>
                      <a:pt x="1995055" y="605641"/>
                    </a:moveTo>
                    <a:lnTo>
                      <a:pt x="760021" y="403761"/>
                    </a:lnTo>
                    <a:lnTo>
                      <a:pt x="534390" y="605641"/>
                    </a:lnTo>
                    <a:lnTo>
                      <a:pt x="0" y="106877"/>
                    </a:lnTo>
                    <a:lnTo>
                      <a:pt x="1246909" y="0"/>
                    </a:lnTo>
                    <a:lnTo>
                      <a:pt x="1092530" y="118753"/>
                    </a:lnTo>
                    <a:lnTo>
                      <a:pt x="2280063" y="308758"/>
                    </a:lnTo>
                    <a:lnTo>
                      <a:pt x="1995055" y="60564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ceb6f"/>
                  </a:gs>
                  <a:gs pos="100000">
                    <a:srgbClr val="119707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任意多边形 28"/>
              <p:cNvSpPr/>
              <p:nvPr/>
            </p:nvSpPr>
            <p:spPr>
              <a:xfrm flipH="1">
                <a:off x="5075640" y="3015720"/>
                <a:ext cx="993960" cy="386640"/>
              </a:xfrm>
              <a:custGeom>
                <a:avLst/>
                <a:gdLst/>
                <a:ahLst/>
                <a:rect l="l" t="t" r="r" b="b"/>
                <a:pathLst>
                  <a:path w="1270388" h="495591">
                    <a:moveTo>
                      <a:pt x="0" y="0"/>
                    </a:moveTo>
                    <a:lnTo>
                      <a:pt x="27921" y="314107"/>
                    </a:lnTo>
                    <a:lnTo>
                      <a:pt x="1270388" y="495591"/>
                    </a:lnTo>
                    <a:lnTo>
                      <a:pt x="1242467" y="2024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ceb6f"/>
                  </a:gs>
                  <a:gs pos="100000">
                    <a:srgbClr val="119707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任意多边形 29"/>
              <p:cNvSpPr/>
              <p:nvPr/>
            </p:nvSpPr>
            <p:spPr>
              <a:xfrm flipH="1">
                <a:off x="4865040" y="2940840"/>
                <a:ext cx="245520" cy="478440"/>
              </a:xfrm>
              <a:custGeom>
                <a:avLst/>
                <a:gdLst/>
                <a:ahLst/>
                <a:rect l="l" t="t" r="r" b="b"/>
                <a:pathLst>
                  <a:path w="314107" h="579353">
                    <a:moveTo>
                      <a:pt x="0" y="286187"/>
                    </a:moveTo>
                    <a:lnTo>
                      <a:pt x="34901" y="579353"/>
                    </a:lnTo>
                    <a:lnTo>
                      <a:pt x="314107" y="286187"/>
                    </a:lnTo>
                    <a:lnTo>
                      <a:pt x="293167" y="0"/>
                    </a:lnTo>
                    <a:lnTo>
                      <a:pt x="0" y="286187"/>
                    </a:lnTo>
                    <a:close/>
                  </a:path>
                </a:pathLst>
              </a:custGeom>
              <a:solidFill>
                <a:srgbClr val="be1247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508840" y="2702160"/>
              <a:ext cx="1794240" cy="720000"/>
              <a:chOff x="2508840" y="2702160"/>
              <a:chExt cx="1794240" cy="720000"/>
            </a:xfrm>
          </p:grpSpPr>
          <p:sp>
            <p:nvSpPr>
              <p:cNvPr id="97" name="任意多边形 20"/>
              <p:cNvSpPr/>
              <p:nvPr/>
            </p:nvSpPr>
            <p:spPr>
              <a:xfrm>
                <a:off x="2922480" y="2703240"/>
                <a:ext cx="577080" cy="718920"/>
              </a:xfrm>
              <a:custGeom>
                <a:avLst/>
                <a:gdLst/>
                <a:ahLst/>
                <a:rect l="l" t="t" r="r" b="b"/>
                <a:pathLst>
                  <a:path w="739896" h="921381">
                    <a:moveTo>
                      <a:pt x="0" y="600294"/>
                    </a:moveTo>
                    <a:lnTo>
                      <a:pt x="41880" y="921381"/>
                    </a:lnTo>
                    <a:lnTo>
                      <a:pt x="739896" y="293167"/>
                    </a:lnTo>
                    <a:lnTo>
                      <a:pt x="704995" y="0"/>
                    </a:lnTo>
                    <a:lnTo>
                      <a:pt x="0" y="6002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b8ff"/>
                  </a:gs>
                  <a:gs pos="100000">
                    <a:srgbClr val="006a96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任意多边形 21"/>
              <p:cNvSpPr/>
              <p:nvPr/>
            </p:nvSpPr>
            <p:spPr>
              <a:xfrm>
                <a:off x="2508840" y="2785320"/>
                <a:ext cx="444600" cy="630000"/>
              </a:xfrm>
              <a:custGeom>
                <a:avLst/>
                <a:gdLst/>
                <a:ahLst/>
                <a:rect l="l" t="t" r="r" b="b"/>
                <a:pathLst>
                  <a:path w="570016" h="807523">
                    <a:moveTo>
                      <a:pt x="0" y="0"/>
                    </a:moveTo>
                    <a:lnTo>
                      <a:pt x="47502" y="308759"/>
                    </a:lnTo>
                    <a:lnTo>
                      <a:pt x="570016" y="807523"/>
                    </a:lnTo>
                    <a:lnTo>
                      <a:pt x="534390" y="510639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b8ff"/>
                  </a:gs>
                  <a:gs pos="100000">
                    <a:srgbClr val="006a96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任意多边形 22"/>
              <p:cNvSpPr/>
              <p:nvPr/>
            </p:nvSpPr>
            <p:spPr>
              <a:xfrm>
                <a:off x="2508840" y="2702160"/>
                <a:ext cx="1778400" cy="472320"/>
              </a:xfrm>
              <a:custGeom>
                <a:avLst/>
                <a:gdLst/>
                <a:ahLst/>
                <a:rect l="l" t="t" r="r" b="b"/>
                <a:pathLst>
                  <a:path w="2280063" h="605641">
                    <a:moveTo>
                      <a:pt x="1995055" y="605641"/>
                    </a:moveTo>
                    <a:lnTo>
                      <a:pt x="760021" y="403761"/>
                    </a:lnTo>
                    <a:lnTo>
                      <a:pt x="534390" y="605641"/>
                    </a:lnTo>
                    <a:lnTo>
                      <a:pt x="0" y="106877"/>
                    </a:lnTo>
                    <a:lnTo>
                      <a:pt x="1246909" y="0"/>
                    </a:lnTo>
                    <a:lnTo>
                      <a:pt x="1092530" y="118753"/>
                    </a:lnTo>
                    <a:lnTo>
                      <a:pt x="2280063" y="308758"/>
                    </a:lnTo>
                    <a:lnTo>
                      <a:pt x="1995055" y="60564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b8ff"/>
                  </a:gs>
                  <a:gs pos="100000">
                    <a:srgbClr val="006a96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任意多边形 23"/>
              <p:cNvSpPr/>
              <p:nvPr/>
            </p:nvSpPr>
            <p:spPr>
              <a:xfrm>
                <a:off x="3102120" y="3013200"/>
                <a:ext cx="990720" cy="386640"/>
              </a:xfrm>
              <a:custGeom>
                <a:avLst/>
                <a:gdLst/>
                <a:ahLst/>
                <a:rect l="l" t="t" r="r" b="b"/>
                <a:pathLst>
                  <a:path w="1270388" h="495591">
                    <a:moveTo>
                      <a:pt x="0" y="0"/>
                    </a:moveTo>
                    <a:lnTo>
                      <a:pt x="27921" y="314107"/>
                    </a:lnTo>
                    <a:lnTo>
                      <a:pt x="1270388" y="495591"/>
                    </a:lnTo>
                    <a:lnTo>
                      <a:pt x="1242467" y="2024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b8ff"/>
                  </a:gs>
                  <a:gs pos="100000">
                    <a:srgbClr val="006a96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任意多边形 24"/>
              <p:cNvSpPr/>
              <p:nvPr/>
            </p:nvSpPr>
            <p:spPr>
              <a:xfrm>
                <a:off x="4058280" y="2938320"/>
                <a:ext cx="244800" cy="478440"/>
              </a:xfrm>
              <a:custGeom>
                <a:avLst/>
                <a:gdLst/>
                <a:ahLst/>
                <a:rect l="l" t="t" r="r" b="b"/>
                <a:pathLst>
                  <a:path w="314107" h="579353">
                    <a:moveTo>
                      <a:pt x="0" y="286187"/>
                    </a:moveTo>
                    <a:lnTo>
                      <a:pt x="34901" y="579353"/>
                    </a:lnTo>
                    <a:lnTo>
                      <a:pt x="314107" y="286187"/>
                    </a:lnTo>
                    <a:lnTo>
                      <a:pt x="293167" y="0"/>
                    </a:lnTo>
                    <a:lnTo>
                      <a:pt x="0" y="286187"/>
                    </a:lnTo>
                    <a:close/>
                  </a:path>
                </a:pathLst>
              </a:custGeom>
              <a:solidFill>
                <a:srgbClr val="d9d9d9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椭圆 8" descr=""/>
            <p:cNvPicPr/>
            <p:nvPr/>
          </p:nvPicPr>
          <p:blipFill>
            <a:blip r:embed="rId3"/>
            <a:stretch/>
          </p:blipFill>
          <p:spPr>
            <a:xfrm>
              <a:off x="3907080" y="3151440"/>
              <a:ext cx="1316520" cy="62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"/>
            <p:cNvGrpSpPr/>
            <p:nvPr/>
          </p:nvGrpSpPr>
          <p:grpSpPr>
            <a:xfrm>
              <a:off x="2190600" y="3290760"/>
              <a:ext cx="2232000" cy="1723320"/>
              <a:chOff x="2190600" y="3290760"/>
              <a:chExt cx="2232000" cy="1723320"/>
            </a:xfrm>
          </p:grpSpPr>
          <p:sp>
            <p:nvSpPr>
              <p:cNvPr id="104" name="任意多边形 17"/>
              <p:cNvSpPr/>
              <p:nvPr/>
            </p:nvSpPr>
            <p:spPr>
              <a:xfrm>
                <a:off x="3552120" y="3494520"/>
                <a:ext cx="870480" cy="935640"/>
              </a:xfrm>
              <a:custGeom>
                <a:avLst/>
                <a:gdLst/>
                <a:ahLst/>
                <a:rect l="l" t="t" r="r" b="b"/>
                <a:pathLst>
                  <a:path w="1116281" h="1199408">
                    <a:moveTo>
                      <a:pt x="1104405" y="0"/>
                    </a:moveTo>
                    <a:lnTo>
                      <a:pt x="1116281" y="332509"/>
                    </a:lnTo>
                    <a:lnTo>
                      <a:pt x="166255" y="1104405"/>
                    </a:lnTo>
                    <a:lnTo>
                      <a:pt x="47502" y="1199408"/>
                    </a:lnTo>
                    <a:lnTo>
                      <a:pt x="0" y="831273"/>
                    </a:lnTo>
                    <a:lnTo>
                      <a:pt x="110440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9496"/>
                  </a:gs>
                  <a:gs pos="100000">
                    <a:srgbClr val="be1247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任意多边形 18"/>
              <p:cNvSpPr/>
              <p:nvPr/>
            </p:nvSpPr>
            <p:spPr>
              <a:xfrm>
                <a:off x="2190600" y="4272840"/>
                <a:ext cx="1620720" cy="741240"/>
              </a:xfrm>
              <a:custGeom>
                <a:avLst/>
                <a:gdLst/>
                <a:ahLst/>
                <a:rect l="l" t="t" r="r" b="b"/>
                <a:pathLst>
                  <a:path w="2078182" h="950026">
                    <a:moveTo>
                      <a:pt x="0" y="558140"/>
                    </a:moveTo>
                    <a:lnTo>
                      <a:pt x="118754" y="950026"/>
                    </a:lnTo>
                    <a:lnTo>
                      <a:pt x="2078182" y="356259"/>
                    </a:lnTo>
                    <a:lnTo>
                      <a:pt x="2066307" y="0"/>
                    </a:lnTo>
                    <a:lnTo>
                      <a:pt x="0" y="558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9496"/>
                  </a:gs>
                  <a:gs pos="100000">
                    <a:srgbClr val="be1247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任意多边形 19"/>
              <p:cNvSpPr/>
              <p:nvPr/>
            </p:nvSpPr>
            <p:spPr>
              <a:xfrm>
                <a:off x="2199600" y="3290760"/>
                <a:ext cx="2223000" cy="1427040"/>
              </a:xfrm>
              <a:custGeom>
                <a:avLst/>
                <a:gdLst/>
                <a:ahLst/>
                <a:rect l="l" t="t" r="r" b="b"/>
                <a:pathLst>
                  <a:path w="2850078" h="1828800">
                    <a:moveTo>
                      <a:pt x="0" y="1828800"/>
                    </a:moveTo>
                    <a:lnTo>
                      <a:pt x="843149" y="581891"/>
                    </a:lnTo>
                    <a:lnTo>
                      <a:pt x="1092530" y="748145"/>
                    </a:lnTo>
                    <a:lnTo>
                      <a:pt x="2280063" y="0"/>
                    </a:lnTo>
                    <a:lnTo>
                      <a:pt x="2850078" y="261257"/>
                    </a:lnTo>
                    <a:lnTo>
                      <a:pt x="1733798" y="1092530"/>
                    </a:lnTo>
                    <a:lnTo>
                      <a:pt x="2054432" y="1258784"/>
                    </a:lnTo>
                    <a:lnTo>
                      <a:pt x="0" y="1828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9496"/>
                  </a:gs>
                  <a:gs pos="100000">
                    <a:srgbClr val="be1247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668840" y="3304440"/>
              <a:ext cx="2232000" cy="1723320"/>
              <a:chOff x="4668840" y="3304440"/>
              <a:chExt cx="2232000" cy="1723320"/>
            </a:xfrm>
          </p:grpSpPr>
          <p:sp>
            <p:nvSpPr>
              <p:cNvPr id="108" name="任意多边形 14"/>
              <p:cNvSpPr/>
              <p:nvPr/>
            </p:nvSpPr>
            <p:spPr>
              <a:xfrm flipH="1">
                <a:off x="4668840" y="3508200"/>
                <a:ext cx="870480" cy="935640"/>
              </a:xfrm>
              <a:custGeom>
                <a:avLst/>
                <a:gdLst/>
                <a:ahLst/>
                <a:rect l="l" t="t" r="r" b="b"/>
                <a:pathLst>
                  <a:path w="1116281" h="1199408">
                    <a:moveTo>
                      <a:pt x="1104405" y="0"/>
                    </a:moveTo>
                    <a:lnTo>
                      <a:pt x="1116281" y="332509"/>
                    </a:lnTo>
                    <a:lnTo>
                      <a:pt x="166255" y="1104405"/>
                    </a:lnTo>
                    <a:lnTo>
                      <a:pt x="47502" y="1199408"/>
                    </a:lnTo>
                    <a:lnTo>
                      <a:pt x="0" y="831273"/>
                    </a:lnTo>
                    <a:lnTo>
                      <a:pt x="110440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ce02"/>
                  </a:gs>
                  <a:gs pos="100000">
                    <a:srgbClr val="c73e01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任意多边形 15"/>
              <p:cNvSpPr/>
              <p:nvPr/>
            </p:nvSpPr>
            <p:spPr>
              <a:xfrm flipH="1">
                <a:off x="5280120" y="4286520"/>
                <a:ext cx="1620720" cy="741240"/>
              </a:xfrm>
              <a:custGeom>
                <a:avLst/>
                <a:gdLst/>
                <a:ahLst/>
                <a:rect l="l" t="t" r="r" b="b"/>
                <a:pathLst>
                  <a:path w="2078182" h="950026">
                    <a:moveTo>
                      <a:pt x="0" y="558140"/>
                    </a:moveTo>
                    <a:lnTo>
                      <a:pt x="118754" y="950026"/>
                    </a:lnTo>
                    <a:lnTo>
                      <a:pt x="2078182" y="356259"/>
                    </a:lnTo>
                    <a:lnTo>
                      <a:pt x="2066307" y="0"/>
                    </a:lnTo>
                    <a:lnTo>
                      <a:pt x="0" y="558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ce02"/>
                  </a:gs>
                  <a:gs pos="100000">
                    <a:srgbClr val="c73e01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任意多边形 16"/>
              <p:cNvSpPr/>
              <p:nvPr/>
            </p:nvSpPr>
            <p:spPr>
              <a:xfrm flipH="1">
                <a:off x="4668480" y="3304440"/>
                <a:ext cx="2223000" cy="1427040"/>
              </a:xfrm>
              <a:custGeom>
                <a:avLst/>
                <a:gdLst/>
                <a:ahLst/>
                <a:rect l="l" t="t" r="r" b="b"/>
                <a:pathLst>
                  <a:path w="2850078" h="1828800">
                    <a:moveTo>
                      <a:pt x="0" y="1828800"/>
                    </a:moveTo>
                    <a:lnTo>
                      <a:pt x="843149" y="581891"/>
                    </a:lnTo>
                    <a:lnTo>
                      <a:pt x="1092530" y="748145"/>
                    </a:lnTo>
                    <a:lnTo>
                      <a:pt x="2280063" y="0"/>
                    </a:lnTo>
                    <a:lnTo>
                      <a:pt x="2850078" y="261257"/>
                    </a:lnTo>
                    <a:lnTo>
                      <a:pt x="1733798" y="1092530"/>
                    </a:lnTo>
                    <a:lnTo>
                      <a:pt x="2054432" y="1258784"/>
                    </a:lnTo>
                    <a:lnTo>
                      <a:pt x="0" y="1828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ce02"/>
                  </a:gs>
                  <a:gs pos="100000">
                    <a:srgbClr val="c73e01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1" name="椭圆 11" descr=""/>
            <p:cNvPicPr/>
            <p:nvPr/>
          </p:nvPicPr>
          <p:blipFill>
            <a:blip r:embed="rId4"/>
            <a:stretch/>
          </p:blipFill>
          <p:spPr>
            <a:xfrm>
              <a:off x="3907080" y="2871000"/>
              <a:ext cx="1322640" cy="6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11"/>
            <p:cNvSpPr/>
            <p:nvPr/>
          </p:nvSpPr>
          <p:spPr>
            <a:xfrm flipH="1">
              <a:off x="3996000" y="2982600"/>
              <a:ext cx="113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标题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椭圆 13" descr=""/>
            <p:cNvPicPr/>
            <p:nvPr/>
          </p:nvPicPr>
          <p:blipFill>
            <a:blip r:embed="rId5"/>
            <a:stretch/>
          </p:blipFill>
          <p:spPr>
            <a:xfrm>
              <a:off x="4041360" y="2919600"/>
              <a:ext cx="1036080" cy="49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extBox 11"/>
          <p:cNvSpPr/>
          <p:nvPr/>
        </p:nvSpPr>
        <p:spPr>
          <a:xfrm flipH="1" rot="20625600">
            <a:off x="2421720" y="417348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 flipH="1" rot="895800">
            <a:off x="5266080" y="418572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 flipH="1" rot="21097800">
            <a:off x="4903200" y="2819520"/>
            <a:ext cx="14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 flipH="1" rot="519000">
            <a:off x="2778120" y="281304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 flipH="1">
            <a:off x="4362120" y="2271600"/>
            <a:ext cx="5151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标题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5990040" y="255600"/>
            <a:ext cx="22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五元素反向扩散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9">
            <a:hlinkClick r:id="rId6"/>
          </p:cNvPr>
          <p:cNvSpPr/>
          <p:nvPr/>
        </p:nvSpPr>
        <p:spPr>
          <a:xfrm>
            <a:off x="3780000" y="6381720"/>
            <a:ext cx="30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1:4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