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A5B-20D1-42E0-9E4D-E89B6223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EF6-DECF-441E-BFF7-EA882C8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213-800C-416F-8B45-2D46E495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8FC-10D0-490F-B4CF-452B63F4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A731-A94D-44B2-BCF9-3AFFF772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2A82-347E-4EFC-B3F8-F5AD2552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A271-A942-4ED9-980D-3F603423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7EA0-EAE5-4A2F-BF2A-E623170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10EE-AD84-453C-A3F3-F17712AA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89FB-0F4E-4D84-9218-7315451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D1DF-9061-412F-84FD-DF5B5635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B38-7538-4714-8CE0-E4DF1F8C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4880-24CB-48E3-A901-F3526292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CE00-092D-403E-8CF5-2B275211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6DC6-5945-4FEB-B6DE-84D94764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04C6-901E-4375-AC38-E5C128A8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87BE-38D1-453E-8D00-7E8F1F9E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F19-D6E5-469C-91A4-AA9781EA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FE0-516A-4B25-842F-76D79C70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473-B1C7-467D-B186-8C118DB0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CA1-9281-414D-9818-EEC2EC6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032-4E1A-44FC-9C35-FF5AC92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4EB-4B8F-4829-9C9B-04E28C2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982-933B-4C99-99E6-49838C8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922B-17B3-4A33-96EF-43A4DA473C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CFFA-452A-4E77-97B1-63763D56EA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804-DC21-47EF-A900-05292E6085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6A6-2C83-4754-95E0-E004BC487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85960" y="4784760"/>
            <a:ext cx="5559480" cy="1420920"/>
            <a:chOff x="1785960" y="4784760"/>
            <a:chExt cx="5559480" cy="142092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785960" y="4784760"/>
              <a:ext cx="555948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678040" y="5070600"/>
              <a:ext cx="36943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38360" y="1354680"/>
            <a:ext cx="2844720" cy="3358080"/>
            <a:chOff x="2538360" y="1354680"/>
            <a:chExt cx="2844720" cy="3358080"/>
          </a:xfrm>
        </p:grpSpPr>
        <p:grpSp>
          <p:nvGrpSpPr>
            <p:cNvPr id="86" name=""/>
            <p:cNvGrpSpPr/>
            <p:nvPr/>
          </p:nvGrpSpPr>
          <p:grpSpPr>
            <a:xfrm>
              <a:off x="2538360" y="1354680"/>
              <a:ext cx="2844720" cy="3358080"/>
              <a:chOff x="2538360" y="1354680"/>
              <a:chExt cx="2844720" cy="335808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2661120" y="1738440"/>
                <a:ext cx="2230200" cy="2948760"/>
                <a:chOff x="2661120" y="1738440"/>
                <a:chExt cx="2230200" cy="2948760"/>
              </a:xfrm>
            </p:grpSpPr>
            <p:pic>
              <p:nvPicPr>
                <p:cNvPr id="88" name="空心弧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20840" y="1960200"/>
                  <a:ext cx="1035360" cy="27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7578200">
                  <a:off x="2449800" y="2563920"/>
                  <a:ext cx="2652480" cy="12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538360" y="1354680"/>
                <a:ext cx="2693880" cy="3358080"/>
                <a:chOff x="2538360" y="1354680"/>
                <a:chExt cx="2693880" cy="3358080"/>
              </a:xfrm>
            </p:grpSpPr>
            <p:pic>
              <p:nvPicPr>
                <p:cNvPr id="91" name="空心弧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62440" y="1619280"/>
                  <a:ext cx="2209320" cy="305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 rot="17578200">
                  <a:off x="2418120" y="2192400"/>
                  <a:ext cx="2934000" cy="168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343040" y="1584360"/>
                <a:ext cx="1040040" cy="545040"/>
                <a:chOff x="4343040" y="1584360"/>
                <a:chExt cx="1040040" cy="545040"/>
              </a:xfrm>
            </p:grpSpPr>
            <p:pic>
              <p:nvPicPr>
                <p:cNvPr id="94" name="平行四边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3040" y="1584360"/>
                  <a:ext cx="1040040" cy="54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4758120" y="1801080"/>
                  <a:ext cx="203040" cy="1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313880" y="2123280"/>
                <a:ext cx="1069200" cy="562680"/>
                <a:chOff x="4313880" y="2123280"/>
                <a:chExt cx="1069200" cy="562680"/>
              </a:xfrm>
            </p:grpSpPr>
            <p:pic>
              <p:nvPicPr>
                <p:cNvPr id="97" name="平行四边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13880" y="2123280"/>
                  <a:ext cx="1069200" cy="56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>
                  <a:off x="4745520" y="2350080"/>
                  <a:ext cx="200160" cy="1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TextBox 6"/>
            <p:cNvSpPr/>
            <p:nvPr/>
          </p:nvSpPr>
          <p:spPr>
            <a:xfrm>
              <a:off x="4276800" y="184644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Dotum"/>
                  <a:ea typeface="Dotum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35360" y="2172600"/>
            <a:ext cx="2847240" cy="3381480"/>
            <a:chOff x="3735360" y="2172600"/>
            <a:chExt cx="2847240" cy="3381480"/>
          </a:xfrm>
        </p:grpSpPr>
        <p:grpSp>
          <p:nvGrpSpPr>
            <p:cNvPr id="101" name=""/>
            <p:cNvGrpSpPr/>
            <p:nvPr/>
          </p:nvGrpSpPr>
          <p:grpSpPr>
            <a:xfrm>
              <a:off x="4242600" y="2280960"/>
              <a:ext cx="2183760" cy="2883600"/>
              <a:chOff x="4242600" y="2280960"/>
              <a:chExt cx="2183760" cy="2883600"/>
            </a:xfrm>
          </p:grpSpPr>
          <p:pic>
            <p:nvPicPr>
              <p:cNvPr id="102" name="空心弧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9720" y="2303280"/>
                <a:ext cx="1307880" cy="25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6778200">
                <a:off x="4038120" y="3086280"/>
                <a:ext cx="2592360" cy="12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875400" y="2172600"/>
              <a:ext cx="2707200" cy="3381480"/>
              <a:chOff x="3875400" y="2172600"/>
              <a:chExt cx="2707200" cy="3381480"/>
            </a:xfrm>
          </p:grpSpPr>
          <p:pic>
            <p:nvPicPr>
              <p:cNvPr id="105" name="空心弧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2273400"/>
                <a:ext cx="2215080" cy="30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6778200">
                <a:off x="3750120" y="3019680"/>
                <a:ext cx="2957760" cy="16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735360" y="4779720"/>
              <a:ext cx="1042560" cy="550080"/>
              <a:chOff x="3735360" y="4779720"/>
              <a:chExt cx="1042560" cy="550080"/>
            </a:xfrm>
          </p:grpSpPr>
          <p:pic>
            <p:nvPicPr>
              <p:cNvPr id="108" name="平行四边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3735360" y="4779720"/>
                <a:ext cx="1042560" cy="55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10800000">
                <a:off x="4151160" y="5000760"/>
                <a:ext cx="2034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735360" y="4217400"/>
              <a:ext cx="1072080" cy="568080"/>
              <a:chOff x="3735360" y="4217400"/>
              <a:chExt cx="1072080" cy="568080"/>
            </a:xfrm>
          </p:grpSpPr>
          <p:pic>
            <p:nvPicPr>
              <p:cNvPr id="111" name="平行四边形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3735360" y="4217400"/>
                <a:ext cx="10720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10800000">
                <a:off x="4167000" y="4446000"/>
                <a:ext cx="20088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16"/>
            <p:cNvSpPr/>
            <p:nvPr/>
          </p:nvSpPr>
          <p:spPr>
            <a:xfrm>
              <a:off x="4371840" y="4427280"/>
              <a:ext cx="47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Dotum"/>
                  <a:ea typeface="Dotum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1"/>
          <p:cNvSpPr/>
          <p:nvPr/>
        </p:nvSpPr>
        <p:spPr>
          <a:xfrm flipH="1">
            <a:off x="3934800" y="33559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3764880" y="293544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>
            <a:off x="3934800" y="35845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flipH="1">
            <a:off x="545400" y="1719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flipH="1">
            <a:off x="867600" y="133344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 flipH="1">
            <a:off x="545400" y="1946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 flipH="1">
            <a:off x="545400" y="2189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65120" y="1131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1247"/>
                </a:solidFill>
                <a:latin typeface="Dotum"/>
                <a:ea typeface="Dotum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546120" y="1635120"/>
            <a:ext cx="2297160" cy="4428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 flipH="1">
            <a:off x="1663560" y="17193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 flipH="1">
            <a:off x="1663560" y="1946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 flipH="1">
            <a:off x="1663560" y="2189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 flipH="1">
            <a:off x="6189120" y="49957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flipH="1">
            <a:off x="6511320" y="461160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 flipH="1">
            <a:off x="6189120" y="5224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 flipH="1">
            <a:off x="6189120" y="5467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6109200" y="44100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3e01"/>
                </a:solidFill>
                <a:latin typeface="Dotum"/>
                <a:ea typeface="Dotum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4"/>
          <p:cNvSpPr/>
          <p:nvPr/>
        </p:nvSpPr>
        <p:spPr>
          <a:xfrm>
            <a:off x="6189840" y="4911840"/>
            <a:ext cx="2298600" cy="4608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 flipH="1">
            <a:off x="7308720" y="49957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 flipH="1">
            <a:off x="7308720" y="52243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 flipH="1">
            <a:off x="7308720" y="54673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6357240" y="255600"/>
            <a:ext cx="19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二元素循环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