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F5E-88B1-456B-A735-4941C69D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064-095A-48DF-BE21-28D89960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A7C-01B7-43E2-B136-47DD2615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BE12-051E-4ABB-9404-4041D041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CDA-7B0A-450C-B491-78160CAE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0CF-5DBF-4509-8641-62C88A8F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501-96EB-4309-AA05-48FB0090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425-4EF7-4DE5-B1D5-61E79FE7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A6A-5801-43A5-85AF-6571CE2A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016-4E41-42B3-ADCD-C17288F3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D3D-15BE-40EF-97AA-DA5052CB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9F6-8933-4DD5-BFCD-9DF2D8E7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0BE6-09F6-4DCD-85DD-7667DB593A5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678D-EA98-4873-A1C1-B3652AE268A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tubiao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1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8537400" y="539640"/>
            <a:ext cx="432000" cy="889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8" descr="1-3.png"/>
          <p:cNvPicPr/>
          <p:nvPr/>
        </p:nvPicPr>
        <p:blipFill>
          <a:blip r:embed="rId2"/>
          <a:srcRect l="0" t="0" r="80435" b="88009"/>
          <a:stretch/>
        </p:blipFill>
        <p:spPr>
          <a:xfrm>
            <a:off x="0" y="0"/>
            <a:ext cx="1789200" cy="822240"/>
          </a:xfrm>
          <a:prstGeom prst="rect">
            <a:avLst/>
          </a:prstGeom>
          <a:ln w="0">
            <a:noFill/>
          </a:ln>
        </p:spPr>
      </p:pic>
      <p:sp>
        <p:nvSpPr>
          <p:cNvPr id="44" name="空心弧 2"/>
          <p:cNvSpPr/>
          <p:nvPr/>
        </p:nvSpPr>
        <p:spPr>
          <a:xfrm flipH="1">
            <a:off x="1871640" y="2013120"/>
            <a:ext cx="4967280" cy="4968720"/>
          </a:xfrm>
          <a:prstGeom prst="blockArc">
            <a:avLst>
              <a:gd name="adj1" fmla="val 14773980"/>
              <a:gd name="adj2" fmla="val 6826020"/>
              <a:gd name="adj3" fmla="val 137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空心弧 3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20583987"/>
              <a:gd name="adj2" fmla="val 1016013"/>
              <a:gd name="adj3" fmla="val 186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饼形 4"/>
          <p:cNvSpPr/>
          <p:nvPr/>
        </p:nvSpPr>
        <p:spPr>
          <a:xfrm>
            <a:off x="3454560" y="3597120"/>
            <a:ext cx="1800000" cy="1800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空心弧 6"/>
          <p:cNvSpPr/>
          <p:nvPr/>
        </p:nvSpPr>
        <p:spPr>
          <a:xfrm>
            <a:off x="1871640" y="2013120"/>
            <a:ext cx="4967280" cy="4968720"/>
          </a:xfrm>
          <a:prstGeom prst="blockArc">
            <a:avLst>
              <a:gd name="adj1" fmla="val 17701956"/>
              <a:gd name="adj2" fmla="val 3898044"/>
              <a:gd name="adj3" fmla="val 137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400000"/>
          </a:gradFill>
          <a:ln w="1908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空心弧 7"/>
          <p:cNvSpPr/>
          <p:nvPr/>
        </p:nvSpPr>
        <p:spPr>
          <a:xfrm>
            <a:off x="2681280" y="2822400"/>
            <a:ext cx="3348000" cy="3348360"/>
          </a:xfrm>
          <a:prstGeom prst="blockArc">
            <a:avLst>
              <a:gd name="adj1" fmla="val 20584592"/>
              <a:gd name="adj2" fmla="val 1015408"/>
              <a:gd name="adj3" fmla="val 186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空心弧 8"/>
          <p:cNvSpPr/>
          <p:nvPr/>
        </p:nvSpPr>
        <p:spPr>
          <a:xfrm>
            <a:off x="2681280" y="2822400"/>
            <a:ext cx="3348000" cy="3348360"/>
          </a:xfrm>
          <a:prstGeom prst="blockArc">
            <a:avLst>
              <a:gd name="adj1" fmla="val 19502848"/>
              <a:gd name="adj2" fmla="val 2097152"/>
              <a:gd name="adj3" fmla="val 1873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800000"/>
          </a:gradFill>
          <a:ln w="1908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空心弧 9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9508684"/>
              <a:gd name="adj2" fmla="val 2091316"/>
              <a:gd name="adj3" fmla="val 18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800000"/>
          </a:gra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空心弧 10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8422064"/>
              <a:gd name="adj2" fmla="val 3177936"/>
              <a:gd name="adj3" fmla="val 1881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空心弧 11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7349555"/>
              <a:gd name="adj2" fmla="val 4250445"/>
              <a:gd name="adj3" fmla="val 188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600000"/>
          </a:gra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空心弧 12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6262870"/>
              <a:gd name="adj2" fmla="val 5337130"/>
              <a:gd name="adj3" fmla="val 18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空心弧 13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5179897"/>
              <a:gd name="adj2" fmla="val 6420103"/>
              <a:gd name="adj3" fmla="val 188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空心弧 14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4101612"/>
              <a:gd name="adj2" fmla="val 7498388"/>
              <a:gd name="adj3" fmla="val 1870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1908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空心弧 15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3021930"/>
              <a:gd name="adj2" fmla="val 8578070"/>
              <a:gd name="adj3" fmla="val 1874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1908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46"/>
          <p:cNvSpPr/>
          <p:nvPr/>
        </p:nvSpPr>
        <p:spPr>
          <a:xfrm rot="19320000">
            <a:off x="1950840" y="2693880"/>
            <a:ext cx="21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6"/>
          <p:cNvSpPr/>
          <p:nvPr/>
        </p:nvSpPr>
        <p:spPr>
          <a:xfrm rot="3600000">
            <a:off x="4997520" y="3219480"/>
            <a:ext cx="22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6"/>
          <p:cNvSpPr/>
          <p:nvPr/>
        </p:nvSpPr>
        <p:spPr>
          <a:xfrm>
            <a:off x="3784680" y="3778200"/>
            <a:ext cx="114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0"/>
          <p:cNvSpPr/>
          <p:nvPr/>
        </p:nvSpPr>
        <p:spPr>
          <a:xfrm>
            <a:off x="5486400" y="257040"/>
            <a:ext cx="29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细珊瑚简体"/>
                <a:ea typeface="方正细珊瑚简体"/>
              </a:rPr>
              <a:t>饼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50"/>
          <p:cNvGrpSpPr/>
          <p:nvPr/>
        </p:nvGrpSpPr>
        <p:grpSpPr>
          <a:xfrm>
            <a:off x="3481560" y="1571760"/>
            <a:ext cx="671400" cy="1330200"/>
            <a:chOff x="3481560" y="1571760"/>
            <a:chExt cx="671400" cy="1330200"/>
          </a:xfrm>
        </p:grpSpPr>
        <p:sp>
          <p:nvSpPr>
            <p:cNvPr id="62" name="椭圆 47"/>
            <p:cNvSpPr/>
            <p:nvPr/>
          </p:nvSpPr>
          <p:spPr>
            <a:xfrm>
              <a:off x="4027680" y="277668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49"/>
            <p:cNvSpPr/>
            <p:nvPr/>
          </p:nvSpPr>
          <p:spPr>
            <a:xfrm>
              <a:off x="3481560" y="1571760"/>
              <a:ext cx="595440" cy="1204920"/>
            </a:xfrm>
            <a:prstGeom prst="pie">
              <a:avLst/>
            </a:pr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146"/>
          <p:cNvSpPr/>
          <p:nvPr/>
        </p:nvSpPr>
        <p:spPr>
          <a:xfrm>
            <a:off x="1698480" y="1427040"/>
            <a:ext cx="180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55"/>
          <p:cNvGrpSpPr/>
          <p:nvPr/>
        </p:nvGrpSpPr>
        <p:grpSpPr>
          <a:xfrm>
            <a:off x="5780160" y="3308400"/>
            <a:ext cx="1270080" cy="482400"/>
            <a:chOff x="5780160" y="3308400"/>
            <a:chExt cx="1270080" cy="482400"/>
          </a:xfrm>
        </p:grpSpPr>
        <p:sp>
          <p:nvSpPr>
            <p:cNvPr id="66" name="椭圆 53"/>
            <p:cNvSpPr/>
            <p:nvPr/>
          </p:nvSpPr>
          <p:spPr>
            <a:xfrm flipH="1">
              <a:off x="5780160" y="366552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任意多边形 54"/>
            <p:cNvSpPr/>
            <p:nvPr/>
          </p:nvSpPr>
          <p:spPr>
            <a:xfrm flipH="1">
              <a:off x="5898960" y="3308400"/>
              <a:ext cx="1151280" cy="395280"/>
            </a:xfrm>
            <a:prstGeom prst="pie">
              <a:avLst/>
            </a:prstGeom>
            <a:noFill/>
            <a:ln w="255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46"/>
          <p:cNvSpPr/>
          <p:nvPr/>
        </p:nvSpPr>
        <p:spPr>
          <a:xfrm>
            <a:off x="7024680" y="3151080"/>
            <a:ext cx="153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58"/>
          <p:cNvSpPr/>
          <p:nvPr/>
        </p:nvSpPr>
        <p:spPr>
          <a:xfrm>
            <a:off x="792000" y="5194440"/>
            <a:ext cx="7560000" cy="0"/>
          </a:xfrm>
          <a:prstGeom prst="line">
            <a:avLst/>
          </a:prstGeom>
          <a:ln cap="rnd"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6"/>
          <p:cNvSpPr/>
          <p:nvPr/>
        </p:nvSpPr>
        <p:spPr>
          <a:xfrm>
            <a:off x="757080" y="5230800"/>
            <a:ext cx="46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 …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6"/>
          <p:cNvSpPr/>
          <p:nvPr/>
        </p:nvSpPr>
        <p:spPr>
          <a:xfrm>
            <a:off x="757080" y="48531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720" y="6151680"/>
            <a:ext cx="5524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6" descr="1-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7" descr="标志.png"/>
          <p:cNvPicPr/>
          <p:nvPr/>
        </p:nvPicPr>
        <p:blipFill>
          <a:blip r:embed="rId2"/>
          <a:stretch/>
        </p:blipFill>
        <p:spPr>
          <a:xfrm>
            <a:off x="185760" y="162000"/>
            <a:ext cx="1328760" cy="466560"/>
          </a:xfrm>
          <a:prstGeom prst="rect">
            <a:avLst/>
          </a:prstGeom>
          <a:ln w="0">
            <a:noFill/>
          </a:ln>
        </p:spPr>
      </p:pic>
      <p:sp>
        <p:nvSpPr>
          <p:cNvPr id="75" name="矩形 3"/>
          <p:cNvSpPr/>
          <p:nvPr/>
        </p:nvSpPr>
        <p:spPr>
          <a:xfrm>
            <a:off x="8513640" y="539640"/>
            <a:ext cx="432000" cy="88920"/>
          </a:xfrm>
          <a:prstGeom prst="rect">
            <a:avLst/>
          </a:prstGeom>
          <a:solidFill>
            <a:srgbClr val="ffffff"/>
          </a:solidFill>
          <a:ln w="158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空心弧 2"/>
          <p:cNvSpPr/>
          <p:nvPr/>
        </p:nvSpPr>
        <p:spPr>
          <a:xfrm flipH="1">
            <a:off x="1871640" y="2013120"/>
            <a:ext cx="4967280" cy="4968720"/>
          </a:xfrm>
          <a:prstGeom prst="blockArc">
            <a:avLst>
              <a:gd name="adj1" fmla="val 14773980"/>
              <a:gd name="adj2" fmla="val 6826020"/>
              <a:gd name="adj3" fmla="val 137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1908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空心弧 3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20583987"/>
              <a:gd name="adj2" fmla="val 1016013"/>
              <a:gd name="adj3" fmla="val 186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饼形 4"/>
          <p:cNvSpPr/>
          <p:nvPr/>
        </p:nvSpPr>
        <p:spPr>
          <a:xfrm>
            <a:off x="3454560" y="3597120"/>
            <a:ext cx="1800000" cy="1800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空心弧 6"/>
          <p:cNvSpPr/>
          <p:nvPr/>
        </p:nvSpPr>
        <p:spPr>
          <a:xfrm>
            <a:off x="1871640" y="2013120"/>
            <a:ext cx="4967280" cy="4968720"/>
          </a:xfrm>
          <a:prstGeom prst="blockArc">
            <a:avLst>
              <a:gd name="adj1" fmla="val 17701956"/>
              <a:gd name="adj2" fmla="val 3898044"/>
              <a:gd name="adj3" fmla="val 137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4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空心弧 7"/>
          <p:cNvSpPr/>
          <p:nvPr/>
        </p:nvSpPr>
        <p:spPr>
          <a:xfrm>
            <a:off x="2681280" y="2822400"/>
            <a:ext cx="3348000" cy="3348360"/>
          </a:xfrm>
          <a:prstGeom prst="blockArc">
            <a:avLst>
              <a:gd name="adj1" fmla="val 20584592"/>
              <a:gd name="adj2" fmla="val 1015408"/>
              <a:gd name="adj3" fmla="val 186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空心弧 8"/>
          <p:cNvSpPr/>
          <p:nvPr/>
        </p:nvSpPr>
        <p:spPr>
          <a:xfrm>
            <a:off x="2681280" y="2822400"/>
            <a:ext cx="3348000" cy="3348360"/>
          </a:xfrm>
          <a:prstGeom prst="blockArc">
            <a:avLst>
              <a:gd name="adj1" fmla="val 19502848"/>
              <a:gd name="adj2" fmla="val 2097152"/>
              <a:gd name="adj3" fmla="val 1873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8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空心弧 9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9508684"/>
              <a:gd name="adj2" fmla="val 2091316"/>
              <a:gd name="adj3" fmla="val 18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800000"/>
          </a:gradFill>
          <a:ln w="1908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空心弧 10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8422064"/>
              <a:gd name="adj2" fmla="val 3177936"/>
              <a:gd name="adj3" fmla="val 1881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1908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空心弧 11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7349555"/>
              <a:gd name="adj2" fmla="val 4250445"/>
              <a:gd name="adj3" fmla="val 188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600000"/>
          </a:gradFill>
          <a:ln w="1908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空心弧 12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6262870"/>
              <a:gd name="adj2" fmla="val 5337130"/>
              <a:gd name="adj3" fmla="val 18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空心弧 13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5179897"/>
              <a:gd name="adj2" fmla="val 6420103"/>
              <a:gd name="adj3" fmla="val 188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空心弧 14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4101612"/>
              <a:gd name="adj2" fmla="val 7498388"/>
              <a:gd name="adj3" fmla="val 1870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空心弧 15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3021930"/>
              <a:gd name="adj2" fmla="val 8578070"/>
              <a:gd name="adj3" fmla="val 1874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6"/>
          <p:cNvSpPr/>
          <p:nvPr/>
        </p:nvSpPr>
        <p:spPr>
          <a:xfrm rot="19320000">
            <a:off x="1950840" y="2693880"/>
            <a:ext cx="21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6"/>
          <p:cNvSpPr/>
          <p:nvPr/>
        </p:nvSpPr>
        <p:spPr>
          <a:xfrm rot="3600000">
            <a:off x="4997520" y="3219480"/>
            <a:ext cx="22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6"/>
          <p:cNvSpPr/>
          <p:nvPr/>
        </p:nvSpPr>
        <p:spPr>
          <a:xfrm>
            <a:off x="3784680" y="3778200"/>
            <a:ext cx="114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5486400" y="257040"/>
            <a:ext cx="29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细珊瑚简体"/>
                <a:ea typeface="方正细珊瑚简体"/>
              </a:rPr>
              <a:t>饼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0"/>
          <p:cNvGrpSpPr/>
          <p:nvPr/>
        </p:nvGrpSpPr>
        <p:grpSpPr>
          <a:xfrm>
            <a:off x="3481560" y="1571760"/>
            <a:ext cx="671400" cy="1330200"/>
            <a:chOff x="3481560" y="1571760"/>
            <a:chExt cx="671400" cy="1330200"/>
          </a:xfrm>
        </p:grpSpPr>
        <p:sp>
          <p:nvSpPr>
            <p:cNvPr id="94" name="椭圆 47"/>
            <p:cNvSpPr/>
            <p:nvPr/>
          </p:nvSpPr>
          <p:spPr>
            <a:xfrm>
              <a:off x="4027680" y="277668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49"/>
            <p:cNvSpPr/>
            <p:nvPr/>
          </p:nvSpPr>
          <p:spPr>
            <a:xfrm>
              <a:off x="3481560" y="1571760"/>
              <a:ext cx="595440" cy="1204920"/>
            </a:xfrm>
            <a:prstGeom prst="pie">
              <a:avLst/>
            </a:prstGeom>
            <a:noFill/>
            <a:ln w="25560">
              <a:solidFill>
                <a:srgbClr val="ff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Box 146"/>
          <p:cNvSpPr/>
          <p:nvPr/>
        </p:nvSpPr>
        <p:spPr>
          <a:xfrm>
            <a:off x="1698480" y="1427040"/>
            <a:ext cx="180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55"/>
          <p:cNvGrpSpPr/>
          <p:nvPr/>
        </p:nvGrpSpPr>
        <p:grpSpPr>
          <a:xfrm>
            <a:off x="5780160" y="3308400"/>
            <a:ext cx="1270080" cy="482400"/>
            <a:chOff x="5780160" y="3308400"/>
            <a:chExt cx="1270080" cy="482400"/>
          </a:xfrm>
        </p:grpSpPr>
        <p:sp>
          <p:nvSpPr>
            <p:cNvPr id="98" name="椭圆 53"/>
            <p:cNvSpPr/>
            <p:nvPr/>
          </p:nvSpPr>
          <p:spPr>
            <a:xfrm flipH="1">
              <a:off x="5780160" y="3665520"/>
              <a:ext cx="125280" cy="125280"/>
            </a:xfrm>
            <a:prstGeom prst="ellipse">
              <a:avLst/>
            </a:prstGeom>
            <a:solidFill>
              <a:srgbClr val="64646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54"/>
            <p:cNvSpPr/>
            <p:nvPr/>
          </p:nvSpPr>
          <p:spPr>
            <a:xfrm flipH="1">
              <a:off x="5898960" y="3308400"/>
              <a:ext cx="1151280" cy="3952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46"/>
          <p:cNvSpPr/>
          <p:nvPr/>
        </p:nvSpPr>
        <p:spPr>
          <a:xfrm>
            <a:off x="7024680" y="3151080"/>
            <a:ext cx="153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58"/>
          <p:cNvSpPr/>
          <p:nvPr/>
        </p:nvSpPr>
        <p:spPr>
          <a:xfrm>
            <a:off x="792000" y="5194440"/>
            <a:ext cx="7560000" cy="0"/>
          </a:xfrm>
          <a:prstGeom prst="line">
            <a:avLst/>
          </a:prstGeom>
          <a:ln cap="rnd" w="381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6"/>
          <p:cNvSpPr/>
          <p:nvPr/>
        </p:nvSpPr>
        <p:spPr>
          <a:xfrm>
            <a:off x="757080" y="5230800"/>
            <a:ext cx="46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…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6"/>
          <p:cNvSpPr/>
          <p:nvPr/>
        </p:nvSpPr>
        <p:spPr>
          <a:xfrm>
            <a:off x="757080" y="48531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AF7-B43D-49C2-8724-2C87215731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03:16:00Z</dcterms:created>
  <dc:creator>微软用户</dc:creator>
  <dc:description/>
  <dc:language>en-US</dc:language>
  <cp:lastModifiedBy>雨林木风</cp:lastModifiedBy>
  <dcterms:modified xsi:type="dcterms:W3CDTF">2015-06-13T11:57:55Z</dcterms:modified>
  <cp:revision>30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