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CE9-3CFE-46F9-B77C-DD38D541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338-5F66-459B-A0DA-23F0ED82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9EB-EEE6-4851-B102-CAF50D6E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E7A-B573-4269-B813-CBC138BE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A2CA-8785-4970-9226-54E8BA99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258-0095-4D91-8686-AF31F318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2EF6-716E-4930-89DD-A01D41E2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80B7-D52D-46A9-9A44-0C7498CB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B628-6BD1-4B72-8B23-A41F46E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B9F0-40D2-461E-962C-9AE185A2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F87B-1D6E-482F-BE7B-EF90EE3D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462-EF41-4515-812B-AC4177F7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E6C9-DDE6-4CAB-87B2-38A3A93C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C946-3D22-41AA-9D02-8A4557D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6474-9D6C-4289-AFB6-2A899E16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673A-3E4C-48F6-871F-F1371093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852C-A265-4CD1-AC11-D939F5E7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C20-95C4-4205-AA42-1755E210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9C6-E294-43FC-BB2E-E6F0C2D7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F88-AACF-4E30-AD55-B1D481B4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768-390E-465F-AC4C-5AB86212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849-F2AF-40BC-A67B-25E737D0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340-D7B2-4D37-AEF8-B19144AC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8EF-692F-4642-A549-48851BD9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AF73-E5F6-44CA-A3B1-D27A2A70A4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4631-DFAF-4E00-B18B-C93768F8DE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BCC1-373C-4840-8227-14054B6580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EA04-765E-4973-88B7-966F81AA1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7"/>
          <p:cNvSpPr/>
          <p:nvPr/>
        </p:nvSpPr>
        <p:spPr>
          <a:xfrm>
            <a:off x="851040" y="2003400"/>
            <a:ext cx="7797600" cy="26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1979640" y="1384200"/>
            <a:ext cx="122400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1979640" y="4508640"/>
            <a:ext cx="122400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3530520" y="4508640"/>
            <a:ext cx="122400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3530520" y="1384200"/>
            <a:ext cx="122400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076720" y="1384200"/>
            <a:ext cx="122400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5076720" y="4508640"/>
            <a:ext cx="122400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3"/>
          <p:cNvSpPr/>
          <p:nvPr/>
        </p:nvSpPr>
        <p:spPr>
          <a:xfrm>
            <a:off x="2089080" y="1512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3"/>
          <p:cNvSpPr/>
          <p:nvPr/>
        </p:nvSpPr>
        <p:spPr>
          <a:xfrm>
            <a:off x="3639960" y="1512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3"/>
          <p:cNvSpPr/>
          <p:nvPr/>
        </p:nvSpPr>
        <p:spPr>
          <a:xfrm>
            <a:off x="5186520" y="151272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3"/>
          <p:cNvSpPr/>
          <p:nvPr/>
        </p:nvSpPr>
        <p:spPr>
          <a:xfrm>
            <a:off x="5186520" y="463716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3"/>
          <p:cNvSpPr/>
          <p:nvPr/>
        </p:nvSpPr>
        <p:spPr>
          <a:xfrm>
            <a:off x="3639960" y="463716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3"/>
          <p:cNvSpPr/>
          <p:nvPr/>
        </p:nvSpPr>
        <p:spPr>
          <a:xfrm>
            <a:off x="2089080" y="463716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3:1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