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894-951F-4904-83DC-0A28F893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1D0-1801-4B4F-9FA0-BEC44C4A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407-C8AF-46E9-9B83-D0003043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4F1-7459-48ED-AF02-961D3871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E73-EC93-4AE1-8EAE-35DE6278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307-F9E6-45F7-B41D-E40E880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875E-9AE4-461D-99B3-CD08FCC5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E38-B7E5-47AE-A9B5-4443F18E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30F-6107-4590-9FE6-879392B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98EA-4D95-4CB3-922A-A129AB6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0DFA-44D6-4148-BC31-607F670F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EEF-F624-4127-93A7-7EB13514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276-A203-48F3-A78D-04A9A39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E74A-FA1C-460F-B1BE-9ED2C90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74F3-A935-4E2C-B6E9-CC195CF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0FA-C89E-49E1-8920-83F17299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A86-3A3F-46B2-8B8F-15AA6913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0BB-B716-442F-A13F-FC6B4789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264-92C1-44E5-8BCB-BB4973A4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149-C302-493D-9111-D69CFF0E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954-1A08-4B74-BE5C-4ACEE39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665-D143-4875-9F93-ECC50CF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AC6-A61D-4827-BA6C-9048D162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347-C731-4240-9F79-52CCF69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468-DA35-4039-92B8-FC273BAB60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CCD-7D8A-4793-867E-A834FE407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C30-4199-4CED-B010-A8BFCA2A54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751-2866-43E6-8AA4-1C2445E4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员工文化程度大幅提高。由五年前的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30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，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员工本科占比为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50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118520" y="70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员工文化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3"/>
          <p:cNvGrpSpPr/>
          <p:nvPr/>
        </p:nvGrpSpPr>
        <p:grpSpPr>
          <a:xfrm>
            <a:off x="1962000" y="3406680"/>
            <a:ext cx="227160" cy="567000"/>
            <a:chOff x="1962000" y="3406680"/>
            <a:chExt cx="227160" cy="567000"/>
          </a:xfrm>
        </p:grpSpPr>
        <p:sp>
          <p:nvSpPr>
            <p:cNvPr id="85" name="Freeform 24"/>
            <p:cNvSpPr/>
            <p:nvPr/>
          </p:nvSpPr>
          <p:spPr>
            <a:xfrm>
              <a:off x="2017080" y="3406680"/>
              <a:ext cx="10620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1962000" y="3534480"/>
              <a:ext cx="22716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3"/>
          <p:cNvGrpSpPr/>
          <p:nvPr/>
        </p:nvGrpSpPr>
        <p:grpSpPr>
          <a:xfrm>
            <a:off x="2343240" y="4110120"/>
            <a:ext cx="226800" cy="566640"/>
            <a:chOff x="2343240" y="4110120"/>
            <a:chExt cx="226800" cy="566640"/>
          </a:xfrm>
        </p:grpSpPr>
        <p:sp>
          <p:nvSpPr>
            <p:cNvPr id="88" name="Freeform 24"/>
            <p:cNvSpPr/>
            <p:nvPr/>
          </p:nvSpPr>
          <p:spPr>
            <a:xfrm>
              <a:off x="2398320" y="4110120"/>
              <a:ext cx="10584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5"/>
            <p:cNvSpPr/>
            <p:nvPr/>
          </p:nvSpPr>
          <p:spPr>
            <a:xfrm>
              <a:off x="2343240" y="4237920"/>
              <a:ext cx="22680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2733840" y="4110120"/>
            <a:ext cx="226800" cy="566640"/>
            <a:chOff x="2733840" y="4110120"/>
            <a:chExt cx="226800" cy="566640"/>
          </a:xfrm>
        </p:grpSpPr>
        <p:sp>
          <p:nvSpPr>
            <p:cNvPr id="91" name="Freeform 24"/>
            <p:cNvSpPr/>
            <p:nvPr/>
          </p:nvSpPr>
          <p:spPr>
            <a:xfrm>
              <a:off x="2788920" y="4110120"/>
              <a:ext cx="10584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>
              <a:off x="2733840" y="4237920"/>
              <a:ext cx="22680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3"/>
          <p:cNvGrpSpPr/>
          <p:nvPr/>
        </p:nvGrpSpPr>
        <p:grpSpPr>
          <a:xfrm>
            <a:off x="3121200" y="3406680"/>
            <a:ext cx="225360" cy="567000"/>
            <a:chOff x="3121200" y="3406680"/>
            <a:chExt cx="225360" cy="567000"/>
          </a:xfrm>
        </p:grpSpPr>
        <p:sp>
          <p:nvSpPr>
            <p:cNvPr id="94" name="Freeform 24"/>
            <p:cNvSpPr/>
            <p:nvPr/>
          </p:nvSpPr>
          <p:spPr>
            <a:xfrm>
              <a:off x="3175920" y="3406680"/>
              <a:ext cx="10548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3121200" y="3534480"/>
              <a:ext cx="225360" cy="43920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3"/>
          <p:cNvGrpSpPr/>
          <p:nvPr/>
        </p:nvGrpSpPr>
        <p:grpSpPr>
          <a:xfrm>
            <a:off x="2733840" y="3406680"/>
            <a:ext cx="226800" cy="567000"/>
            <a:chOff x="2733840" y="3406680"/>
            <a:chExt cx="226800" cy="567000"/>
          </a:xfrm>
        </p:grpSpPr>
        <p:sp>
          <p:nvSpPr>
            <p:cNvPr id="97" name="Freeform 24"/>
            <p:cNvSpPr/>
            <p:nvPr/>
          </p:nvSpPr>
          <p:spPr>
            <a:xfrm>
              <a:off x="2788920" y="3406680"/>
              <a:ext cx="10584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2733840" y="3534480"/>
              <a:ext cx="22680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2347920" y="3406680"/>
            <a:ext cx="227160" cy="567000"/>
            <a:chOff x="2347920" y="3406680"/>
            <a:chExt cx="227160" cy="567000"/>
          </a:xfrm>
        </p:grpSpPr>
        <p:sp>
          <p:nvSpPr>
            <p:cNvPr id="100" name="Freeform 24"/>
            <p:cNvSpPr/>
            <p:nvPr/>
          </p:nvSpPr>
          <p:spPr>
            <a:xfrm>
              <a:off x="2403000" y="3406680"/>
              <a:ext cx="10620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2347920" y="3534480"/>
              <a:ext cx="22716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3"/>
          <p:cNvGrpSpPr/>
          <p:nvPr/>
        </p:nvGrpSpPr>
        <p:grpSpPr>
          <a:xfrm>
            <a:off x="3114720" y="4110120"/>
            <a:ext cx="226800" cy="566640"/>
            <a:chOff x="3114720" y="4110120"/>
            <a:chExt cx="226800" cy="566640"/>
          </a:xfrm>
        </p:grpSpPr>
        <p:sp>
          <p:nvSpPr>
            <p:cNvPr id="103" name="Freeform 24"/>
            <p:cNvSpPr/>
            <p:nvPr/>
          </p:nvSpPr>
          <p:spPr>
            <a:xfrm>
              <a:off x="3169800" y="4110120"/>
              <a:ext cx="10584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3114720" y="4237920"/>
              <a:ext cx="22680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1962000" y="4110120"/>
            <a:ext cx="227160" cy="566640"/>
            <a:chOff x="1962000" y="4110120"/>
            <a:chExt cx="227160" cy="566640"/>
          </a:xfrm>
        </p:grpSpPr>
        <p:sp>
          <p:nvSpPr>
            <p:cNvPr id="106" name="Freeform 24"/>
            <p:cNvSpPr/>
            <p:nvPr/>
          </p:nvSpPr>
          <p:spPr>
            <a:xfrm>
              <a:off x="2017080" y="4110120"/>
              <a:ext cx="10620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1962000" y="4237920"/>
              <a:ext cx="22716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506760" y="3406680"/>
            <a:ext cx="227160" cy="567000"/>
            <a:chOff x="3506760" y="3406680"/>
            <a:chExt cx="227160" cy="567000"/>
          </a:xfrm>
        </p:grpSpPr>
        <p:sp>
          <p:nvSpPr>
            <p:cNvPr id="109" name="Freeform 24"/>
            <p:cNvSpPr/>
            <p:nvPr/>
          </p:nvSpPr>
          <p:spPr>
            <a:xfrm>
              <a:off x="3561840" y="3406680"/>
              <a:ext cx="10620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3506760" y="3534480"/>
              <a:ext cx="227160" cy="43920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3506760" y="4110120"/>
            <a:ext cx="227160" cy="566640"/>
            <a:chOff x="3506760" y="4110120"/>
            <a:chExt cx="227160" cy="566640"/>
          </a:xfrm>
        </p:grpSpPr>
        <p:sp>
          <p:nvSpPr>
            <p:cNvPr id="112" name="Freeform 24"/>
            <p:cNvSpPr/>
            <p:nvPr/>
          </p:nvSpPr>
          <p:spPr>
            <a:xfrm>
              <a:off x="3561840" y="4110120"/>
              <a:ext cx="10620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506760" y="4237920"/>
              <a:ext cx="22716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5229360" y="3406680"/>
            <a:ext cx="225360" cy="567000"/>
            <a:chOff x="5229360" y="3406680"/>
            <a:chExt cx="225360" cy="567000"/>
          </a:xfrm>
        </p:grpSpPr>
        <p:sp>
          <p:nvSpPr>
            <p:cNvPr id="115" name="Freeform 24"/>
            <p:cNvSpPr/>
            <p:nvPr/>
          </p:nvSpPr>
          <p:spPr>
            <a:xfrm>
              <a:off x="5284080" y="3406680"/>
              <a:ext cx="10548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>
              <a:off x="5229360" y="3534480"/>
              <a:ext cx="22536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3"/>
          <p:cNvGrpSpPr/>
          <p:nvPr/>
        </p:nvGrpSpPr>
        <p:grpSpPr>
          <a:xfrm>
            <a:off x="5610240" y="4110120"/>
            <a:ext cx="225360" cy="566640"/>
            <a:chOff x="5610240" y="4110120"/>
            <a:chExt cx="225360" cy="566640"/>
          </a:xfrm>
        </p:grpSpPr>
        <p:sp>
          <p:nvSpPr>
            <p:cNvPr id="118" name="Freeform 24"/>
            <p:cNvSpPr/>
            <p:nvPr/>
          </p:nvSpPr>
          <p:spPr>
            <a:xfrm>
              <a:off x="5664960" y="4110120"/>
              <a:ext cx="10548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5"/>
            <p:cNvSpPr/>
            <p:nvPr/>
          </p:nvSpPr>
          <p:spPr>
            <a:xfrm>
              <a:off x="5610240" y="4237920"/>
              <a:ext cx="22536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6000840" y="4110120"/>
            <a:ext cx="226800" cy="566640"/>
            <a:chOff x="6000840" y="4110120"/>
            <a:chExt cx="226800" cy="566640"/>
          </a:xfrm>
        </p:grpSpPr>
        <p:sp>
          <p:nvSpPr>
            <p:cNvPr id="121" name="Freeform 24"/>
            <p:cNvSpPr/>
            <p:nvPr/>
          </p:nvSpPr>
          <p:spPr>
            <a:xfrm>
              <a:off x="6055920" y="4110120"/>
              <a:ext cx="10584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5"/>
            <p:cNvSpPr/>
            <p:nvPr/>
          </p:nvSpPr>
          <p:spPr>
            <a:xfrm>
              <a:off x="6000840" y="4237920"/>
              <a:ext cx="22680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6386400" y="3406680"/>
            <a:ext cx="227160" cy="567000"/>
            <a:chOff x="6386400" y="3406680"/>
            <a:chExt cx="227160" cy="567000"/>
          </a:xfrm>
        </p:grpSpPr>
        <p:sp>
          <p:nvSpPr>
            <p:cNvPr id="124" name="Freeform 24"/>
            <p:cNvSpPr/>
            <p:nvPr/>
          </p:nvSpPr>
          <p:spPr>
            <a:xfrm>
              <a:off x="6441480" y="3406680"/>
              <a:ext cx="10620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6386400" y="3534480"/>
              <a:ext cx="22716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6000840" y="3406680"/>
            <a:ext cx="226800" cy="567000"/>
            <a:chOff x="6000840" y="3406680"/>
            <a:chExt cx="226800" cy="567000"/>
          </a:xfrm>
        </p:grpSpPr>
        <p:sp>
          <p:nvSpPr>
            <p:cNvPr id="127" name="Freeform 24"/>
            <p:cNvSpPr/>
            <p:nvPr/>
          </p:nvSpPr>
          <p:spPr>
            <a:xfrm>
              <a:off x="6055920" y="3406680"/>
              <a:ext cx="10584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6000840" y="3534480"/>
              <a:ext cx="22680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3"/>
          <p:cNvGrpSpPr/>
          <p:nvPr/>
        </p:nvGrpSpPr>
        <p:grpSpPr>
          <a:xfrm>
            <a:off x="5614920" y="3406680"/>
            <a:ext cx="227160" cy="567000"/>
            <a:chOff x="5614920" y="3406680"/>
            <a:chExt cx="227160" cy="567000"/>
          </a:xfrm>
        </p:grpSpPr>
        <p:sp>
          <p:nvSpPr>
            <p:cNvPr id="130" name="Freeform 24"/>
            <p:cNvSpPr/>
            <p:nvPr/>
          </p:nvSpPr>
          <p:spPr>
            <a:xfrm>
              <a:off x="5670000" y="3406680"/>
              <a:ext cx="10620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5614920" y="3534480"/>
              <a:ext cx="22716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6381720" y="4110120"/>
            <a:ext cx="227160" cy="566640"/>
            <a:chOff x="6381720" y="4110120"/>
            <a:chExt cx="227160" cy="566640"/>
          </a:xfrm>
        </p:grpSpPr>
        <p:sp>
          <p:nvSpPr>
            <p:cNvPr id="133" name="Freeform 24"/>
            <p:cNvSpPr/>
            <p:nvPr/>
          </p:nvSpPr>
          <p:spPr>
            <a:xfrm>
              <a:off x="6436800" y="4110120"/>
              <a:ext cx="10620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6381720" y="4237920"/>
              <a:ext cx="22716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3"/>
          <p:cNvGrpSpPr/>
          <p:nvPr/>
        </p:nvGrpSpPr>
        <p:grpSpPr>
          <a:xfrm>
            <a:off x="5229360" y="4110120"/>
            <a:ext cx="225360" cy="566640"/>
            <a:chOff x="5229360" y="4110120"/>
            <a:chExt cx="225360" cy="566640"/>
          </a:xfrm>
        </p:grpSpPr>
        <p:sp>
          <p:nvSpPr>
            <p:cNvPr id="136" name="Freeform 24"/>
            <p:cNvSpPr/>
            <p:nvPr/>
          </p:nvSpPr>
          <p:spPr>
            <a:xfrm>
              <a:off x="5284080" y="4110120"/>
              <a:ext cx="10548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5229360" y="4237920"/>
              <a:ext cx="22536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3"/>
          <p:cNvGrpSpPr/>
          <p:nvPr/>
        </p:nvGrpSpPr>
        <p:grpSpPr>
          <a:xfrm>
            <a:off x="6772320" y="3406680"/>
            <a:ext cx="226800" cy="567000"/>
            <a:chOff x="6772320" y="3406680"/>
            <a:chExt cx="226800" cy="567000"/>
          </a:xfrm>
        </p:grpSpPr>
        <p:sp>
          <p:nvSpPr>
            <p:cNvPr id="139" name="Freeform 24"/>
            <p:cNvSpPr/>
            <p:nvPr/>
          </p:nvSpPr>
          <p:spPr>
            <a:xfrm>
              <a:off x="6827400" y="3406680"/>
              <a:ext cx="105840" cy="11556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6772320" y="3534480"/>
              <a:ext cx="226800" cy="439200"/>
            </a:xfrm>
            <a:prstGeom prst="pie">
              <a:avLst/>
            </a:pr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6772320" y="4110120"/>
            <a:ext cx="226800" cy="566640"/>
            <a:chOff x="6772320" y="4110120"/>
            <a:chExt cx="226800" cy="566640"/>
          </a:xfrm>
        </p:grpSpPr>
        <p:sp>
          <p:nvSpPr>
            <p:cNvPr id="142" name="Freeform 24"/>
            <p:cNvSpPr/>
            <p:nvPr/>
          </p:nvSpPr>
          <p:spPr>
            <a:xfrm>
              <a:off x="6827400" y="4110120"/>
              <a:ext cx="105840" cy="115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6772320" y="4237920"/>
              <a:ext cx="226800" cy="4388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67"/>
          <p:cNvSpPr/>
          <p:nvPr/>
        </p:nvSpPr>
        <p:spPr>
          <a:xfrm>
            <a:off x="2472120" y="4754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5858640" y="47545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2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