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D85-5ED3-43B1-83CF-BBFC8993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BC1-C90B-4732-ADB5-D948DAB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87D-F387-425A-BD7C-A8F54C7A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48B-BA1B-408B-8AD3-A7E1033B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8903-13AE-4447-A04D-64FE4072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40AD-972E-4AA7-A49C-D0DEDAC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0BF4-9C47-4388-A65A-FA5EDDA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BB54-9B4F-411C-9478-360CB8F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803-05BA-475D-BBAE-BD1257AB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4593-1967-4AF5-989B-BF26B0A4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311B-ED9A-4C70-A891-71089CB2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5A2-DEED-420F-8074-47CB78F5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2D7F-86B4-4283-9656-AD16E16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A55D-56A4-420C-811A-A6DC1D9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6FAE-5BB0-4E24-BC78-B838C5BF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3E6A-C4BF-47CB-934F-86886219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73C-AF21-489D-8B09-0B9B1B0D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8BA-0A0B-484A-91C1-CDAE8EC7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C52-246A-45F9-ABE1-5938DB4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EAA-53F0-4209-AEA5-75A8DA1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073-1800-4A42-8126-55C0225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213-DBCD-4B2F-8EB3-E84BC49A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1B0-4BA6-49DA-9F04-12A194A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B26-4886-4B9A-B0E5-A2754FA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770-04FF-421B-A103-6B42F3F16D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E21C-33A0-4B8D-9D62-468D16830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28C-D821-4758-B779-F5A1F6FDDC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2128-73FE-4D93-AF7C-5ECD71A8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50920" y="1906560"/>
            <a:ext cx="3972600" cy="4876200"/>
            <a:chOff x="250920" y="1906560"/>
            <a:chExt cx="3972600" cy="4876200"/>
          </a:xfrm>
        </p:grpSpPr>
        <p:sp>
          <p:nvSpPr>
            <p:cNvPr id="83" name="Freeform 29"/>
            <p:cNvSpPr/>
            <p:nvPr/>
          </p:nvSpPr>
          <p:spPr>
            <a:xfrm>
              <a:off x="2504520" y="1906560"/>
              <a:ext cx="159120" cy="136440"/>
            </a:xfrm>
            <a:custGeom>
              <a:avLst/>
              <a:gdLst/>
              <a:ahLst/>
              <a:rect l="l" t="t" r="r" b="b"/>
              <a:pathLst>
                <a:path w="154" h="132">
                  <a:moveTo>
                    <a:pt x="0" y="85"/>
                  </a:moveTo>
                  <a:lnTo>
                    <a:pt x="6" y="18"/>
                  </a:lnTo>
                  <a:lnTo>
                    <a:pt x="41" y="0"/>
                  </a:lnTo>
                  <a:lnTo>
                    <a:pt x="73" y="14"/>
                  </a:lnTo>
                  <a:lnTo>
                    <a:pt x="90" y="43"/>
                  </a:lnTo>
                  <a:lnTo>
                    <a:pt x="68" y="71"/>
                  </a:lnTo>
                  <a:lnTo>
                    <a:pt x="84" y="75"/>
                  </a:lnTo>
                  <a:lnTo>
                    <a:pt x="114" y="59"/>
                  </a:lnTo>
                  <a:lnTo>
                    <a:pt x="115" y="61"/>
                  </a:lnTo>
                  <a:lnTo>
                    <a:pt x="120" y="66"/>
                  </a:lnTo>
                  <a:lnTo>
                    <a:pt x="126" y="74"/>
                  </a:lnTo>
                  <a:lnTo>
                    <a:pt x="133" y="83"/>
                  </a:lnTo>
                  <a:lnTo>
                    <a:pt x="140" y="92"/>
                  </a:lnTo>
                  <a:lnTo>
                    <a:pt x="146" y="100"/>
                  </a:lnTo>
                  <a:lnTo>
                    <a:pt x="151" y="107"/>
                  </a:lnTo>
                  <a:lnTo>
                    <a:pt x="154" y="111"/>
                  </a:lnTo>
                  <a:lnTo>
                    <a:pt x="152" y="115"/>
                  </a:lnTo>
                  <a:lnTo>
                    <a:pt x="148" y="120"/>
                  </a:lnTo>
                  <a:lnTo>
                    <a:pt x="140" y="126"/>
                  </a:lnTo>
                  <a:lnTo>
                    <a:pt x="133" y="130"/>
                  </a:lnTo>
                  <a:lnTo>
                    <a:pt x="125" y="132"/>
                  </a:lnTo>
                  <a:lnTo>
                    <a:pt x="120" y="132"/>
                  </a:lnTo>
                  <a:lnTo>
                    <a:pt x="112" y="127"/>
                  </a:lnTo>
                  <a:lnTo>
                    <a:pt x="104" y="120"/>
                  </a:lnTo>
                  <a:lnTo>
                    <a:pt x="96" y="112"/>
                  </a:lnTo>
                  <a:lnTo>
                    <a:pt x="86" y="109"/>
                  </a:lnTo>
                  <a:lnTo>
                    <a:pt x="76" y="110"/>
                  </a:lnTo>
                  <a:lnTo>
                    <a:pt x="64" y="115"/>
                  </a:lnTo>
                  <a:lnTo>
                    <a:pt x="52" y="116"/>
                  </a:lnTo>
                  <a:lnTo>
                    <a:pt x="43" y="115"/>
                  </a:lnTo>
                  <a:lnTo>
                    <a:pt x="38" y="112"/>
                  </a:lnTo>
                  <a:lnTo>
                    <a:pt x="38" y="108"/>
                  </a:lnTo>
                  <a:lnTo>
                    <a:pt x="38" y="101"/>
                  </a:lnTo>
                  <a:lnTo>
                    <a:pt x="39" y="93"/>
                  </a:lnTo>
                  <a:lnTo>
                    <a:pt x="41" y="84"/>
                  </a:lnTo>
                  <a:lnTo>
                    <a:pt x="42" y="75"/>
                  </a:lnTo>
                  <a:lnTo>
                    <a:pt x="42" y="69"/>
                  </a:lnTo>
                  <a:lnTo>
                    <a:pt x="41" y="64"/>
                  </a:lnTo>
                  <a:lnTo>
                    <a:pt x="39" y="63"/>
                  </a:lnTo>
                  <a:lnTo>
                    <a:pt x="34" y="68"/>
                  </a:lnTo>
                  <a:lnTo>
                    <a:pt x="30" y="75"/>
                  </a:lnTo>
                  <a:lnTo>
                    <a:pt x="27" y="84"/>
                  </a:lnTo>
                  <a:lnTo>
                    <a:pt x="23" y="93"/>
                  </a:lnTo>
                  <a:lnTo>
                    <a:pt x="19" y="97"/>
                  </a:lnTo>
                  <a:lnTo>
                    <a:pt x="15" y="98"/>
                  </a:lnTo>
                  <a:lnTo>
                    <a:pt x="10" y="95"/>
                  </a:lnTo>
                  <a:lnTo>
                    <a:pt x="6" y="92"/>
                  </a:lnTo>
                  <a:lnTo>
                    <a:pt x="4" y="89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2485800" y="2024280"/>
              <a:ext cx="70200" cy="8712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1" y="12"/>
                  </a:moveTo>
                  <a:lnTo>
                    <a:pt x="4" y="21"/>
                  </a:lnTo>
                  <a:lnTo>
                    <a:pt x="11" y="31"/>
                  </a:lnTo>
                  <a:lnTo>
                    <a:pt x="18" y="42"/>
                  </a:lnTo>
                  <a:lnTo>
                    <a:pt x="26" y="56"/>
                  </a:lnTo>
                  <a:lnTo>
                    <a:pt x="33" y="68"/>
                  </a:lnTo>
                  <a:lnTo>
                    <a:pt x="40" y="77"/>
                  </a:lnTo>
                  <a:lnTo>
                    <a:pt x="48" y="84"/>
                  </a:lnTo>
                  <a:lnTo>
                    <a:pt x="56" y="85"/>
                  </a:lnTo>
                  <a:lnTo>
                    <a:pt x="63" y="82"/>
                  </a:lnTo>
                  <a:lnTo>
                    <a:pt x="66" y="73"/>
                  </a:lnTo>
                  <a:lnTo>
                    <a:pt x="68" y="62"/>
                  </a:lnTo>
                  <a:lnTo>
                    <a:pt x="68" y="50"/>
                  </a:lnTo>
                  <a:lnTo>
                    <a:pt x="63" y="37"/>
                  </a:lnTo>
                  <a:lnTo>
                    <a:pt x="58" y="26"/>
                  </a:lnTo>
                  <a:lnTo>
                    <a:pt x="50" y="18"/>
                  </a:lnTo>
                  <a:lnTo>
                    <a:pt x="37" y="9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>
              <a:off x="1688040" y="2165040"/>
              <a:ext cx="2535480" cy="4617720"/>
            </a:xfrm>
            <a:custGeom>
              <a:avLst/>
              <a:gdLst/>
              <a:ahLst/>
              <a:rect l="l" t="t" r="r" b="b"/>
              <a:pathLst>
                <a:path w="2448" h="4459">
                  <a:moveTo>
                    <a:pt x="881" y="6"/>
                  </a:moveTo>
                  <a:lnTo>
                    <a:pt x="869" y="4"/>
                  </a:lnTo>
                  <a:lnTo>
                    <a:pt x="855" y="4"/>
                  </a:lnTo>
                  <a:lnTo>
                    <a:pt x="840" y="5"/>
                  </a:lnTo>
                  <a:lnTo>
                    <a:pt x="826" y="3"/>
                  </a:lnTo>
                  <a:lnTo>
                    <a:pt x="814" y="0"/>
                  </a:lnTo>
                  <a:lnTo>
                    <a:pt x="804" y="0"/>
                  </a:lnTo>
                  <a:lnTo>
                    <a:pt x="796" y="4"/>
                  </a:lnTo>
                  <a:lnTo>
                    <a:pt x="789" y="11"/>
                  </a:lnTo>
                  <a:lnTo>
                    <a:pt x="784" y="18"/>
                  </a:lnTo>
                  <a:lnTo>
                    <a:pt x="778" y="23"/>
                  </a:lnTo>
                  <a:lnTo>
                    <a:pt x="772" y="25"/>
                  </a:lnTo>
                  <a:lnTo>
                    <a:pt x="761" y="28"/>
                  </a:lnTo>
                  <a:lnTo>
                    <a:pt x="745" y="27"/>
                  </a:lnTo>
                  <a:lnTo>
                    <a:pt x="731" y="25"/>
                  </a:lnTo>
                  <a:lnTo>
                    <a:pt x="723" y="24"/>
                  </a:lnTo>
                  <a:lnTo>
                    <a:pt x="716" y="24"/>
                  </a:lnTo>
                  <a:lnTo>
                    <a:pt x="710" y="25"/>
                  </a:lnTo>
                  <a:lnTo>
                    <a:pt x="702" y="29"/>
                  </a:lnTo>
                  <a:lnTo>
                    <a:pt x="692" y="35"/>
                  </a:lnTo>
                  <a:lnTo>
                    <a:pt x="681" y="42"/>
                  </a:lnTo>
                  <a:lnTo>
                    <a:pt x="673" y="47"/>
                  </a:lnTo>
                  <a:lnTo>
                    <a:pt x="667" y="50"/>
                  </a:lnTo>
                  <a:lnTo>
                    <a:pt x="659" y="52"/>
                  </a:lnTo>
                  <a:lnTo>
                    <a:pt x="650" y="52"/>
                  </a:lnTo>
                  <a:lnTo>
                    <a:pt x="638" y="51"/>
                  </a:lnTo>
                  <a:lnTo>
                    <a:pt x="622" y="50"/>
                  </a:lnTo>
                  <a:lnTo>
                    <a:pt x="610" y="47"/>
                  </a:lnTo>
                  <a:lnTo>
                    <a:pt x="600" y="48"/>
                  </a:lnTo>
                  <a:lnTo>
                    <a:pt x="591" y="52"/>
                  </a:lnTo>
                  <a:lnTo>
                    <a:pt x="580" y="58"/>
                  </a:lnTo>
                  <a:lnTo>
                    <a:pt x="572" y="64"/>
                  </a:lnTo>
                  <a:lnTo>
                    <a:pt x="563" y="66"/>
                  </a:lnTo>
                  <a:lnTo>
                    <a:pt x="555" y="65"/>
                  </a:lnTo>
                  <a:lnTo>
                    <a:pt x="549" y="64"/>
                  </a:lnTo>
                  <a:lnTo>
                    <a:pt x="542" y="63"/>
                  </a:lnTo>
                  <a:lnTo>
                    <a:pt x="535" y="65"/>
                  </a:lnTo>
                  <a:lnTo>
                    <a:pt x="520" y="75"/>
                  </a:lnTo>
                  <a:lnTo>
                    <a:pt x="510" y="84"/>
                  </a:lnTo>
                  <a:lnTo>
                    <a:pt x="507" y="84"/>
                  </a:lnTo>
                  <a:lnTo>
                    <a:pt x="506" y="79"/>
                  </a:lnTo>
                  <a:lnTo>
                    <a:pt x="506" y="74"/>
                  </a:lnTo>
                  <a:lnTo>
                    <a:pt x="506" y="67"/>
                  </a:lnTo>
                  <a:lnTo>
                    <a:pt x="506" y="62"/>
                  </a:lnTo>
                  <a:lnTo>
                    <a:pt x="506" y="59"/>
                  </a:lnTo>
                  <a:lnTo>
                    <a:pt x="482" y="48"/>
                  </a:lnTo>
                  <a:lnTo>
                    <a:pt x="425" y="106"/>
                  </a:lnTo>
                  <a:lnTo>
                    <a:pt x="442" y="57"/>
                  </a:lnTo>
                  <a:lnTo>
                    <a:pt x="418" y="43"/>
                  </a:lnTo>
                  <a:lnTo>
                    <a:pt x="408" y="63"/>
                  </a:lnTo>
                  <a:lnTo>
                    <a:pt x="387" y="36"/>
                  </a:lnTo>
                  <a:lnTo>
                    <a:pt x="355" y="24"/>
                  </a:lnTo>
                  <a:lnTo>
                    <a:pt x="349" y="69"/>
                  </a:lnTo>
                  <a:lnTo>
                    <a:pt x="326" y="85"/>
                  </a:lnTo>
                  <a:lnTo>
                    <a:pt x="331" y="120"/>
                  </a:lnTo>
                  <a:lnTo>
                    <a:pt x="334" y="144"/>
                  </a:lnTo>
                  <a:lnTo>
                    <a:pt x="311" y="134"/>
                  </a:lnTo>
                  <a:lnTo>
                    <a:pt x="314" y="173"/>
                  </a:lnTo>
                  <a:lnTo>
                    <a:pt x="332" y="215"/>
                  </a:lnTo>
                  <a:lnTo>
                    <a:pt x="294" y="215"/>
                  </a:lnTo>
                  <a:lnTo>
                    <a:pt x="252" y="208"/>
                  </a:lnTo>
                  <a:lnTo>
                    <a:pt x="260" y="239"/>
                  </a:lnTo>
                  <a:lnTo>
                    <a:pt x="285" y="270"/>
                  </a:lnTo>
                  <a:lnTo>
                    <a:pt x="278" y="301"/>
                  </a:lnTo>
                  <a:lnTo>
                    <a:pt x="255" y="316"/>
                  </a:lnTo>
                  <a:lnTo>
                    <a:pt x="232" y="291"/>
                  </a:lnTo>
                  <a:lnTo>
                    <a:pt x="234" y="320"/>
                  </a:lnTo>
                  <a:lnTo>
                    <a:pt x="274" y="354"/>
                  </a:lnTo>
                  <a:lnTo>
                    <a:pt x="309" y="401"/>
                  </a:lnTo>
                  <a:lnTo>
                    <a:pt x="244" y="381"/>
                  </a:lnTo>
                  <a:lnTo>
                    <a:pt x="232" y="403"/>
                  </a:lnTo>
                  <a:lnTo>
                    <a:pt x="209" y="409"/>
                  </a:lnTo>
                  <a:lnTo>
                    <a:pt x="185" y="381"/>
                  </a:lnTo>
                  <a:lnTo>
                    <a:pt x="174" y="404"/>
                  </a:lnTo>
                  <a:lnTo>
                    <a:pt x="196" y="441"/>
                  </a:lnTo>
                  <a:lnTo>
                    <a:pt x="175" y="463"/>
                  </a:lnTo>
                  <a:lnTo>
                    <a:pt x="161" y="412"/>
                  </a:lnTo>
                  <a:lnTo>
                    <a:pt x="159" y="412"/>
                  </a:lnTo>
                  <a:lnTo>
                    <a:pt x="153" y="412"/>
                  </a:lnTo>
                  <a:lnTo>
                    <a:pt x="146" y="413"/>
                  </a:lnTo>
                  <a:lnTo>
                    <a:pt x="138" y="415"/>
                  </a:lnTo>
                  <a:lnTo>
                    <a:pt x="132" y="418"/>
                  </a:lnTo>
                  <a:lnTo>
                    <a:pt x="128" y="425"/>
                  </a:lnTo>
                  <a:lnTo>
                    <a:pt x="127" y="434"/>
                  </a:lnTo>
                  <a:lnTo>
                    <a:pt x="133" y="450"/>
                  </a:lnTo>
                  <a:lnTo>
                    <a:pt x="139" y="463"/>
                  </a:lnTo>
                  <a:lnTo>
                    <a:pt x="147" y="474"/>
                  </a:lnTo>
                  <a:lnTo>
                    <a:pt x="156" y="483"/>
                  </a:lnTo>
                  <a:lnTo>
                    <a:pt x="160" y="491"/>
                  </a:lnTo>
                  <a:lnTo>
                    <a:pt x="161" y="497"/>
                  </a:lnTo>
                  <a:lnTo>
                    <a:pt x="161" y="502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3" y="503"/>
                  </a:lnTo>
                  <a:lnTo>
                    <a:pt x="147" y="503"/>
                  </a:lnTo>
                  <a:lnTo>
                    <a:pt x="140" y="503"/>
                  </a:lnTo>
                  <a:lnTo>
                    <a:pt x="134" y="504"/>
                  </a:lnTo>
                  <a:lnTo>
                    <a:pt x="129" y="506"/>
                  </a:lnTo>
                  <a:lnTo>
                    <a:pt x="127" y="510"/>
                  </a:lnTo>
                  <a:lnTo>
                    <a:pt x="129" y="518"/>
                  </a:lnTo>
                  <a:lnTo>
                    <a:pt x="137" y="531"/>
                  </a:lnTo>
                  <a:lnTo>
                    <a:pt x="145" y="543"/>
                  </a:lnTo>
                  <a:lnTo>
                    <a:pt x="152" y="553"/>
                  </a:lnTo>
                  <a:lnTo>
                    <a:pt x="158" y="560"/>
                  </a:lnTo>
                  <a:lnTo>
                    <a:pt x="162" y="564"/>
                  </a:lnTo>
                  <a:lnTo>
                    <a:pt x="168" y="566"/>
                  </a:lnTo>
                  <a:lnTo>
                    <a:pt x="175" y="568"/>
                  </a:lnTo>
                  <a:lnTo>
                    <a:pt x="186" y="569"/>
                  </a:lnTo>
                  <a:lnTo>
                    <a:pt x="196" y="572"/>
                  </a:lnTo>
                  <a:lnTo>
                    <a:pt x="206" y="573"/>
                  </a:lnTo>
                  <a:lnTo>
                    <a:pt x="213" y="574"/>
                  </a:lnTo>
                  <a:lnTo>
                    <a:pt x="216" y="575"/>
                  </a:lnTo>
                  <a:lnTo>
                    <a:pt x="154" y="582"/>
                  </a:lnTo>
                  <a:lnTo>
                    <a:pt x="153" y="580"/>
                  </a:lnTo>
                  <a:lnTo>
                    <a:pt x="150" y="578"/>
                  </a:lnTo>
                  <a:lnTo>
                    <a:pt x="145" y="574"/>
                  </a:lnTo>
                  <a:lnTo>
                    <a:pt x="139" y="569"/>
                  </a:lnTo>
                  <a:lnTo>
                    <a:pt x="134" y="565"/>
                  </a:lnTo>
                  <a:lnTo>
                    <a:pt x="128" y="563"/>
                  </a:lnTo>
                  <a:lnTo>
                    <a:pt x="123" y="563"/>
                  </a:lnTo>
                  <a:lnTo>
                    <a:pt x="119" y="565"/>
                  </a:lnTo>
                  <a:lnTo>
                    <a:pt x="118" y="571"/>
                  </a:lnTo>
                  <a:lnTo>
                    <a:pt x="117" y="587"/>
                  </a:lnTo>
                  <a:lnTo>
                    <a:pt x="117" y="604"/>
                  </a:lnTo>
                  <a:lnTo>
                    <a:pt x="118" y="621"/>
                  </a:lnTo>
                  <a:lnTo>
                    <a:pt x="118" y="636"/>
                  </a:lnTo>
                  <a:lnTo>
                    <a:pt x="119" y="647"/>
                  </a:lnTo>
                  <a:lnTo>
                    <a:pt x="123" y="654"/>
                  </a:lnTo>
                  <a:lnTo>
                    <a:pt x="128" y="661"/>
                  </a:lnTo>
                  <a:lnTo>
                    <a:pt x="135" y="668"/>
                  </a:lnTo>
                  <a:lnTo>
                    <a:pt x="144" y="671"/>
                  </a:lnTo>
                  <a:lnTo>
                    <a:pt x="152" y="671"/>
                  </a:lnTo>
                  <a:lnTo>
                    <a:pt x="160" y="667"/>
                  </a:lnTo>
                  <a:lnTo>
                    <a:pt x="168" y="659"/>
                  </a:lnTo>
                  <a:lnTo>
                    <a:pt x="174" y="657"/>
                  </a:lnTo>
                  <a:lnTo>
                    <a:pt x="180" y="657"/>
                  </a:lnTo>
                  <a:lnTo>
                    <a:pt x="185" y="659"/>
                  </a:lnTo>
                  <a:lnTo>
                    <a:pt x="191" y="663"/>
                  </a:lnTo>
                  <a:lnTo>
                    <a:pt x="195" y="665"/>
                  </a:lnTo>
                  <a:lnTo>
                    <a:pt x="199" y="666"/>
                  </a:lnTo>
                  <a:lnTo>
                    <a:pt x="203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7" y="667"/>
                  </a:lnTo>
                  <a:lnTo>
                    <a:pt x="205" y="668"/>
                  </a:lnTo>
                  <a:lnTo>
                    <a:pt x="197" y="668"/>
                  </a:lnTo>
                  <a:lnTo>
                    <a:pt x="188" y="670"/>
                  </a:lnTo>
                  <a:lnTo>
                    <a:pt x="179" y="672"/>
                  </a:lnTo>
                  <a:lnTo>
                    <a:pt x="169" y="676"/>
                  </a:lnTo>
                  <a:lnTo>
                    <a:pt x="161" y="680"/>
                  </a:lnTo>
                  <a:lnTo>
                    <a:pt x="158" y="685"/>
                  </a:lnTo>
                  <a:lnTo>
                    <a:pt x="159" y="698"/>
                  </a:lnTo>
                  <a:lnTo>
                    <a:pt x="165" y="706"/>
                  </a:lnTo>
                  <a:lnTo>
                    <a:pt x="174" y="713"/>
                  </a:lnTo>
                  <a:lnTo>
                    <a:pt x="186" y="715"/>
                  </a:lnTo>
                  <a:lnTo>
                    <a:pt x="198" y="714"/>
                  </a:lnTo>
                  <a:lnTo>
                    <a:pt x="208" y="714"/>
                  </a:lnTo>
                  <a:lnTo>
                    <a:pt x="216" y="715"/>
                  </a:lnTo>
                  <a:lnTo>
                    <a:pt x="218" y="715"/>
                  </a:lnTo>
                  <a:lnTo>
                    <a:pt x="236" y="745"/>
                  </a:lnTo>
                  <a:lnTo>
                    <a:pt x="234" y="742"/>
                  </a:lnTo>
                  <a:lnTo>
                    <a:pt x="229" y="738"/>
                  </a:lnTo>
                  <a:lnTo>
                    <a:pt x="221" y="733"/>
                  </a:lnTo>
                  <a:lnTo>
                    <a:pt x="211" y="728"/>
                  </a:lnTo>
                  <a:lnTo>
                    <a:pt x="202" y="726"/>
                  </a:lnTo>
                  <a:lnTo>
                    <a:pt x="192" y="728"/>
                  </a:lnTo>
                  <a:lnTo>
                    <a:pt x="182" y="735"/>
                  </a:lnTo>
                  <a:lnTo>
                    <a:pt x="173" y="744"/>
                  </a:lnTo>
                  <a:lnTo>
                    <a:pt x="165" y="752"/>
                  </a:lnTo>
                  <a:lnTo>
                    <a:pt x="160" y="762"/>
                  </a:lnTo>
                  <a:lnTo>
                    <a:pt x="158" y="770"/>
                  </a:lnTo>
                  <a:lnTo>
                    <a:pt x="159" y="775"/>
                  </a:lnTo>
                  <a:lnTo>
                    <a:pt x="163" y="779"/>
                  </a:lnTo>
                  <a:lnTo>
                    <a:pt x="171" y="783"/>
                  </a:lnTo>
                  <a:lnTo>
                    <a:pt x="180" y="787"/>
                  </a:lnTo>
                  <a:lnTo>
                    <a:pt x="188" y="791"/>
                  </a:lnTo>
                  <a:lnTo>
                    <a:pt x="197" y="794"/>
                  </a:lnTo>
                  <a:lnTo>
                    <a:pt x="203" y="796"/>
                  </a:lnTo>
                  <a:lnTo>
                    <a:pt x="205" y="797"/>
                  </a:lnTo>
                  <a:lnTo>
                    <a:pt x="203" y="797"/>
                  </a:lnTo>
                  <a:lnTo>
                    <a:pt x="195" y="796"/>
                  </a:lnTo>
                  <a:lnTo>
                    <a:pt x="184" y="796"/>
                  </a:lnTo>
                  <a:lnTo>
                    <a:pt x="171" y="796"/>
                  </a:lnTo>
                  <a:lnTo>
                    <a:pt x="159" y="798"/>
                  </a:lnTo>
                  <a:lnTo>
                    <a:pt x="148" y="803"/>
                  </a:lnTo>
                  <a:lnTo>
                    <a:pt x="140" y="808"/>
                  </a:lnTo>
                  <a:lnTo>
                    <a:pt x="136" y="816"/>
                  </a:lnTo>
                  <a:lnTo>
                    <a:pt x="135" y="822"/>
                  </a:lnTo>
                  <a:lnTo>
                    <a:pt x="137" y="827"/>
                  </a:lnTo>
                  <a:lnTo>
                    <a:pt x="140" y="831"/>
                  </a:lnTo>
                  <a:lnTo>
                    <a:pt x="146" y="833"/>
                  </a:lnTo>
                  <a:lnTo>
                    <a:pt x="152" y="835"/>
                  </a:lnTo>
                  <a:lnTo>
                    <a:pt x="159" y="839"/>
                  </a:lnTo>
                  <a:lnTo>
                    <a:pt x="167" y="843"/>
                  </a:lnTo>
                  <a:lnTo>
                    <a:pt x="173" y="850"/>
                  </a:lnTo>
                  <a:lnTo>
                    <a:pt x="177" y="855"/>
                  </a:lnTo>
                  <a:lnTo>
                    <a:pt x="182" y="860"/>
                  </a:lnTo>
                  <a:lnTo>
                    <a:pt x="183" y="862"/>
                  </a:lnTo>
                  <a:lnTo>
                    <a:pt x="181" y="861"/>
                  </a:lnTo>
                  <a:lnTo>
                    <a:pt x="173" y="857"/>
                  </a:lnTo>
                  <a:lnTo>
                    <a:pt x="163" y="855"/>
                  </a:lnTo>
                  <a:lnTo>
                    <a:pt x="151" y="853"/>
                  </a:lnTo>
                  <a:lnTo>
                    <a:pt x="139" y="852"/>
                  </a:lnTo>
                  <a:lnTo>
                    <a:pt x="128" y="853"/>
                  </a:lnTo>
                  <a:lnTo>
                    <a:pt x="119" y="858"/>
                  </a:lnTo>
                  <a:lnTo>
                    <a:pt x="114" y="865"/>
                  </a:lnTo>
                  <a:lnTo>
                    <a:pt x="107" y="873"/>
                  </a:lnTo>
                  <a:lnTo>
                    <a:pt x="102" y="881"/>
                  </a:lnTo>
                  <a:lnTo>
                    <a:pt x="96" y="889"/>
                  </a:lnTo>
                  <a:lnTo>
                    <a:pt x="93" y="896"/>
                  </a:lnTo>
                  <a:lnTo>
                    <a:pt x="93" y="902"/>
                  </a:lnTo>
                  <a:lnTo>
                    <a:pt x="94" y="907"/>
                  </a:lnTo>
                  <a:lnTo>
                    <a:pt x="101" y="910"/>
                  </a:lnTo>
                  <a:lnTo>
                    <a:pt x="112" y="910"/>
                  </a:lnTo>
                  <a:lnTo>
                    <a:pt x="122" y="908"/>
                  </a:lnTo>
                  <a:lnTo>
                    <a:pt x="129" y="907"/>
                  </a:lnTo>
                  <a:lnTo>
                    <a:pt x="135" y="905"/>
                  </a:lnTo>
                  <a:lnTo>
                    <a:pt x="138" y="910"/>
                  </a:lnTo>
                  <a:lnTo>
                    <a:pt x="144" y="919"/>
                  </a:lnTo>
                  <a:lnTo>
                    <a:pt x="147" y="925"/>
                  </a:lnTo>
                  <a:lnTo>
                    <a:pt x="149" y="927"/>
                  </a:lnTo>
                  <a:lnTo>
                    <a:pt x="146" y="927"/>
                  </a:lnTo>
                  <a:lnTo>
                    <a:pt x="139" y="930"/>
                  </a:lnTo>
                  <a:lnTo>
                    <a:pt x="129" y="934"/>
                  </a:lnTo>
                  <a:lnTo>
                    <a:pt x="119" y="938"/>
                  </a:lnTo>
                  <a:lnTo>
                    <a:pt x="112" y="944"/>
                  </a:lnTo>
                  <a:lnTo>
                    <a:pt x="107" y="950"/>
                  </a:lnTo>
                  <a:lnTo>
                    <a:pt x="107" y="955"/>
                  </a:lnTo>
                  <a:lnTo>
                    <a:pt x="109" y="958"/>
                  </a:lnTo>
                  <a:lnTo>
                    <a:pt x="110" y="961"/>
                  </a:lnTo>
                  <a:lnTo>
                    <a:pt x="112" y="964"/>
                  </a:lnTo>
                  <a:lnTo>
                    <a:pt x="113" y="965"/>
                  </a:lnTo>
                  <a:lnTo>
                    <a:pt x="115" y="966"/>
                  </a:lnTo>
                  <a:lnTo>
                    <a:pt x="117" y="967"/>
                  </a:lnTo>
                  <a:lnTo>
                    <a:pt x="118" y="967"/>
                  </a:lnTo>
                  <a:lnTo>
                    <a:pt x="119" y="967"/>
                  </a:lnTo>
                  <a:lnTo>
                    <a:pt x="116" y="967"/>
                  </a:lnTo>
                  <a:lnTo>
                    <a:pt x="110" y="966"/>
                  </a:lnTo>
                  <a:lnTo>
                    <a:pt x="99" y="965"/>
                  </a:lnTo>
                  <a:lnTo>
                    <a:pt x="87" y="964"/>
                  </a:lnTo>
                  <a:lnTo>
                    <a:pt x="73" y="962"/>
                  </a:lnTo>
                  <a:lnTo>
                    <a:pt x="60" y="964"/>
                  </a:lnTo>
                  <a:lnTo>
                    <a:pt x="48" y="965"/>
                  </a:lnTo>
                  <a:lnTo>
                    <a:pt x="37" y="968"/>
                  </a:lnTo>
                  <a:lnTo>
                    <a:pt x="26" y="972"/>
                  </a:lnTo>
                  <a:lnTo>
                    <a:pt x="15" y="979"/>
                  </a:lnTo>
                  <a:lnTo>
                    <a:pt x="8" y="986"/>
                  </a:lnTo>
                  <a:lnTo>
                    <a:pt x="2" y="993"/>
                  </a:lnTo>
                  <a:lnTo>
                    <a:pt x="0" y="1000"/>
                  </a:lnTo>
                  <a:lnTo>
                    <a:pt x="3" y="1005"/>
                  </a:lnTo>
                  <a:lnTo>
                    <a:pt x="11" y="1009"/>
                  </a:lnTo>
                  <a:lnTo>
                    <a:pt x="22" y="1012"/>
                  </a:lnTo>
                  <a:lnTo>
                    <a:pt x="34" y="1013"/>
                  </a:lnTo>
                  <a:lnTo>
                    <a:pt x="47" y="1013"/>
                  </a:lnTo>
                  <a:lnTo>
                    <a:pt x="58" y="1012"/>
                  </a:lnTo>
                  <a:lnTo>
                    <a:pt x="67" y="1012"/>
                  </a:lnTo>
                  <a:lnTo>
                    <a:pt x="76" y="1012"/>
                  </a:lnTo>
                  <a:lnTo>
                    <a:pt x="87" y="1013"/>
                  </a:lnTo>
                  <a:lnTo>
                    <a:pt x="96" y="1014"/>
                  </a:lnTo>
                  <a:lnTo>
                    <a:pt x="106" y="1014"/>
                  </a:lnTo>
                  <a:lnTo>
                    <a:pt x="114" y="1012"/>
                  </a:lnTo>
                  <a:lnTo>
                    <a:pt x="118" y="1009"/>
                  </a:lnTo>
                  <a:lnTo>
                    <a:pt x="121" y="1008"/>
                  </a:lnTo>
                  <a:lnTo>
                    <a:pt x="123" y="1008"/>
                  </a:lnTo>
                  <a:lnTo>
                    <a:pt x="124" y="1007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05" y="1032"/>
                  </a:lnTo>
                  <a:lnTo>
                    <a:pt x="103" y="1031"/>
                  </a:lnTo>
                  <a:lnTo>
                    <a:pt x="96" y="1030"/>
                  </a:lnTo>
                  <a:lnTo>
                    <a:pt x="89" y="1030"/>
                  </a:lnTo>
                  <a:lnTo>
                    <a:pt x="80" y="1029"/>
                  </a:lnTo>
                  <a:lnTo>
                    <a:pt x="71" y="1030"/>
                  </a:lnTo>
                  <a:lnTo>
                    <a:pt x="66" y="1032"/>
                  </a:lnTo>
                  <a:lnTo>
                    <a:pt x="64" y="1036"/>
                  </a:lnTo>
                  <a:lnTo>
                    <a:pt x="66" y="1042"/>
                  </a:lnTo>
                  <a:lnTo>
                    <a:pt x="71" y="1050"/>
                  </a:lnTo>
                  <a:lnTo>
                    <a:pt x="79" y="1059"/>
                  </a:lnTo>
                  <a:lnTo>
                    <a:pt x="89" y="1067"/>
                  </a:lnTo>
                  <a:lnTo>
                    <a:pt x="99" y="1074"/>
                  </a:lnTo>
                  <a:lnTo>
                    <a:pt x="107" y="1080"/>
                  </a:lnTo>
                  <a:lnTo>
                    <a:pt x="119" y="1083"/>
                  </a:lnTo>
                  <a:lnTo>
                    <a:pt x="127" y="1084"/>
                  </a:lnTo>
                  <a:lnTo>
                    <a:pt x="133" y="1084"/>
                  </a:lnTo>
                  <a:lnTo>
                    <a:pt x="134" y="1083"/>
                  </a:lnTo>
                  <a:lnTo>
                    <a:pt x="134" y="1084"/>
                  </a:lnTo>
                  <a:lnTo>
                    <a:pt x="134" y="1087"/>
                  </a:lnTo>
                  <a:lnTo>
                    <a:pt x="135" y="1092"/>
                  </a:lnTo>
                  <a:lnTo>
                    <a:pt x="137" y="1095"/>
                  </a:lnTo>
                  <a:lnTo>
                    <a:pt x="142" y="1099"/>
                  </a:lnTo>
                  <a:lnTo>
                    <a:pt x="152" y="1100"/>
                  </a:lnTo>
                  <a:lnTo>
                    <a:pt x="167" y="1098"/>
                  </a:lnTo>
                  <a:lnTo>
                    <a:pt x="180" y="1090"/>
                  </a:lnTo>
                  <a:lnTo>
                    <a:pt x="193" y="1080"/>
                  </a:lnTo>
                  <a:lnTo>
                    <a:pt x="204" y="1066"/>
                  </a:lnTo>
                  <a:lnTo>
                    <a:pt x="214" y="1055"/>
                  </a:lnTo>
                  <a:lnTo>
                    <a:pt x="221" y="1047"/>
                  </a:lnTo>
                  <a:lnTo>
                    <a:pt x="230" y="1037"/>
                  </a:lnTo>
                  <a:lnTo>
                    <a:pt x="240" y="1027"/>
                  </a:lnTo>
                  <a:lnTo>
                    <a:pt x="251" y="1017"/>
                  </a:lnTo>
                  <a:lnTo>
                    <a:pt x="260" y="1008"/>
                  </a:lnTo>
                  <a:lnTo>
                    <a:pt x="268" y="1002"/>
                  </a:lnTo>
                  <a:lnTo>
                    <a:pt x="274" y="999"/>
                  </a:lnTo>
                  <a:lnTo>
                    <a:pt x="277" y="999"/>
                  </a:lnTo>
                  <a:lnTo>
                    <a:pt x="280" y="1000"/>
                  </a:lnTo>
                  <a:lnTo>
                    <a:pt x="283" y="1001"/>
                  </a:lnTo>
                  <a:lnTo>
                    <a:pt x="285" y="1003"/>
                  </a:lnTo>
                  <a:lnTo>
                    <a:pt x="287" y="1006"/>
                  </a:lnTo>
                  <a:lnTo>
                    <a:pt x="288" y="1008"/>
                  </a:lnTo>
                  <a:lnTo>
                    <a:pt x="289" y="1011"/>
                  </a:lnTo>
                  <a:lnTo>
                    <a:pt x="289" y="1012"/>
                  </a:lnTo>
                  <a:lnTo>
                    <a:pt x="290" y="1013"/>
                  </a:lnTo>
                  <a:lnTo>
                    <a:pt x="288" y="1014"/>
                  </a:lnTo>
                  <a:lnTo>
                    <a:pt x="283" y="1016"/>
                  </a:lnTo>
                  <a:lnTo>
                    <a:pt x="275" y="1019"/>
                  </a:lnTo>
                  <a:lnTo>
                    <a:pt x="267" y="1025"/>
                  </a:lnTo>
                  <a:lnTo>
                    <a:pt x="261" y="1031"/>
                  </a:lnTo>
                  <a:lnTo>
                    <a:pt x="255" y="1038"/>
                  </a:lnTo>
                  <a:lnTo>
                    <a:pt x="252" y="1044"/>
                  </a:lnTo>
                  <a:lnTo>
                    <a:pt x="246" y="1053"/>
                  </a:lnTo>
                  <a:lnTo>
                    <a:pt x="242" y="1062"/>
                  </a:lnTo>
                  <a:lnTo>
                    <a:pt x="238" y="1071"/>
                  </a:lnTo>
                  <a:lnTo>
                    <a:pt x="233" y="1080"/>
                  </a:lnTo>
                  <a:lnTo>
                    <a:pt x="232" y="1086"/>
                  </a:lnTo>
                  <a:lnTo>
                    <a:pt x="233" y="1089"/>
                  </a:lnTo>
                  <a:lnTo>
                    <a:pt x="233" y="1093"/>
                  </a:lnTo>
                  <a:lnTo>
                    <a:pt x="232" y="1098"/>
                  </a:lnTo>
                  <a:lnTo>
                    <a:pt x="229" y="1104"/>
                  </a:lnTo>
                  <a:lnTo>
                    <a:pt x="226" y="1109"/>
                  </a:lnTo>
                  <a:lnTo>
                    <a:pt x="223" y="1116"/>
                  </a:lnTo>
                  <a:lnTo>
                    <a:pt x="225" y="1120"/>
                  </a:lnTo>
                  <a:lnTo>
                    <a:pt x="229" y="1124"/>
                  </a:lnTo>
                  <a:lnTo>
                    <a:pt x="239" y="1127"/>
                  </a:lnTo>
                  <a:lnTo>
                    <a:pt x="251" y="1128"/>
                  </a:lnTo>
                  <a:lnTo>
                    <a:pt x="264" y="1128"/>
                  </a:lnTo>
                  <a:lnTo>
                    <a:pt x="276" y="1127"/>
                  </a:lnTo>
                  <a:lnTo>
                    <a:pt x="285" y="1127"/>
                  </a:lnTo>
                  <a:lnTo>
                    <a:pt x="288" y="1125"/>
                  </a:lnTo>
                  <a:lnTo>
                    <a:pt x="285" y="1125"/>
                  </a:lnTo>
                  <a:lnTo>
                    <a:pt x="276" y="1127"/>
                  </a:lnTo>
                  <a:lnTo>
                    <a:pt x="263" y="1129"/>
                  </a:lnTo>
                  <a:lnTo>
                    <a:pt x="250" y="1131"/>
                  </a:lnTo>
                  <a:lnTo>
                    <a:pt x="236" y="1134"/>
                  </a:lnTo>
                  <a:lnTo>
                    <a:pt x="223" y="1139"/>
                  </a:lnTo>
                  <a:lnTo>
                    <a:pt x="217" y="1144"/>
                  </a:lnTo>
                  <a:lnTo>
                    <a:pt x="210" y="1153"/>
                  </a:lnTo>
                  <a:lnTo>
                    <a:pt x="205" y="1161"/>
                  </a:lnTo>
                  <a:lnTo>
                    <a:pt x="200" y="1169"/>
                  </a:lnTo>
                  <a:lnTo>
                    <a:pt x="197" y="1177"/>
                  </a:lnTo>
                  <a:lnTo>
                    <a:pt x="196" y="1182"/>
                  </a:lnTo>
                  <a:lnTo>
                    <a:pt x="198" y="1186"/>
                  </a:lnTo>
                  <a:lnTo>
                    <a:pt x="198" y="1189"/>
                  </a:lnTo>
                  <a:lnTo>
                    <a:pt x="195" y="1194"/>
                  </a:lnTo>
                  <a:lnTo>
                    <a:pt x="190" y="1202"/>
                  </a:lnTo>
                  <a:lnTo>
                    <a:pt x="183" y="1210"/>
                  </a:lnTo>
                  <a:lnTo>
                    <a:pt x="177" y="1217"/>
                  </a:lnTo>
                  <a:lnTo>
                    <a:pt x="173" y="1225"/>
                  </a:lnTo>
                  <a:lnTo>
                    <a:pt x="172" y="1231"/>
                  </a:lnTo>
                  <a:lnTo>
                    <a:pt x="175" y="1235"/>
                  </a:lnTo>
                  <a:lnTo>
                    <a:pt x="181" y="1237"/>
                  </a:lnTo>
                  <a:lnTo>
                    <a:pt x="187" y="1238"/>
                  </a:lnTo>
                  <a:lnTo>
                    <a:pt x="194" y="1238"/>
                  </a:lnTo>
                  <a:lnTo>
                    <a:pt x="198" y="1238"/>
                  </a:lnTo>
                  <a:lnTo>
                    <a:pt x="200" y="1238"/>
                  </a:lnTo>
                  <a:lnTo>
                    <a:pt x="198" y="1239"/>
                  </a:lnTo>
                  <a:lnTo>
                    <a:pt x="194" y="1242"/>
                  </a:lnTo>
                  <a:lnTo>
                    <a:pt x="187" y="1246"/>
                  </a:lnTo>
                  <a:lnTo>
                    <a:pt x="180" y="1251"/>
                  </a:lnTo>
                  <a:lnTo>
                    <a:pt x="174" y="1257"/>
                  </a:lnTo>
                  <a:lnTo>
                    <a:pt x="172" y="1263"/>
                  </a:lnTo>
                  <a:lnTo>
                    <a:pt x="174" y="1270"/>
                  </a:lnTo>
                  <a:lnTo>
                    <a:pt x="179" y="1278"/>
                  </a:lnTo>
                  <a:lnTo>
                    <a:pt x="184" y="1287"/>
                  </a:lnTo>
                  <a:lnTo>
                    <a:pt x="190" y="1297"/>
                  </a:lnTo>
                  <a:lnTo>
                    <a:pt x="192" y="1306"/>
                  </a:lnTo>
                  <a:lnTo>
                    <a:pt x="193" y="1314"/>
                  </a:lnTo>
                  <a:lnTo>
                    <a:pt x="191" y="1318"/>
                  </a:lnTo>
                  <a:lnTo>
                    <a:pt x="185" y="1321"/>
                  </a:lnTo>
                  <a:lnTo>
                    <a:pt x="179" y="1328"/>
                  </a:lnTo>
                  <a:lnTo>
                    <a:pt x="169" y="1338"/>
                  </a:lnTo>
                  <a:lnTo>
                    <a:pt x="160" y="1348"/>
                  </a:lnTo>
                  <a:lnTo>
                    <a:pt x="151" y="1359"/>
                  </a:lnTo>
                  <a:lnTo>
                    <a:pt x="145" y="1370"/>
                  </a:lnTo>
                  <a:lnTo>
                    <a:pt x="140" y="1378"/>
                  </a:lnTo>
                  <a:lnTo>
                    <a:pt x="140" y="1386"/>
                  </a:lnTo>
                  <a:lnTo>
                    <a:pt x="144" y="1395"/>
                  </a:lnTo>
                  <a:lnTo>
                    <a:pt x="145" y="1401"/>
                  </a:lnTo>
                  <a:lnTo>
                    <a:pt x="145" y="1408"/>
                  </a:lnTo>
                  <a:lnTo>
                    <a:pt x="147" y="1411"/>
                  </a:lnTo>
                  <a:lnTo>
                    <a:pt x="150" y="1412"/>
                  </a:lnTo>
                  <a:lnTo>
                    <a:pt x="156" y="1411"/>
                  </a:lnTo>
                  <a:lnTo>
                    <a:pt x="162" y="1410"/>
                  </a:lnTo>
                  <a:lnTo>
                    <a:pt x="169" y="1408"/>
                  </a:lnTo>
                  <a:lnTo>
                    <a:pt x="174" y="1406"/>
                  </a:lnTo>
                  <a:lnTo>
                    <a:pt x="176" y="1405"/>
                  </a:lnTo>
                  <a:lnTo>
                    <a:pt x="174" y="1407"/>
                  </a:lnTo>
                  <a:lnTo>
                    <a:pt x="170" y="1413"/>
                  </a:lnTo>
                  <a:lnTo>
                    <a:pt x="164" y="1421"/>
                  </a:lnTo>
                  <a:lnTo>
                    <a:pt x="158" y="1431"/>
                  </a:lnTo>
                  <a:lnTo>
                    <a:pt x="152" y="1442"/>
                  </a:lnTo>
                  <a:lnTo>
                    <a:pt x="150" y="1452"/>
                  </a:lnTo>
                  <a:lnTo>
                    <a:pt x="151" y="1460"/>
                  </a:lnTo>
                  <a:lnTo>
                    <a:pt x="157" y="1467"/>
                  </a:lnTo>
                  <a:lnTo>
                    <a:pt x="164" y="1470"/>
                  </a:lnTo>
                  <a:lnTo>
                    <a:pt x="172" y="1472"/>
                  </a:lnTo>
                  <a:lnTo>
                    <a:pt x="179" y="1474"/>
                  </a:lnTo>
                  <a:lnTo>
                    <a:pt x="184" y="1474"/>
                  </a:lnTo>
                  <a:lnTo>
                    <a:pt x="186" y="1472"/>
                  </a:lnTo>
                  <a:lnTo>
                    <a:pt x="198" y="1463"/>
                  </a:lnTo>
                  <a:lnTo>
                    <a:pt x="197" y="1465"/>
                  </a:lnTo>
                  <a:lnTo>
                    <a:pt x="193" y="1470"/>
                  </a:lnTo>
                  <a:lnTo>
                    <a:pt x="186" y="1479"/>
                  </a:lnTo>
                  <a:lnTo>
                    <a:pt x="179" y="1489"/>
                  </a:lnTo>
                  <a:lnTo>
                    <a:pt x="171" y="1501"/>
                  </a:lnTo>
                  <a:lnTo>
                    <a:pt x="162" y="1512"/>
                  </a:lnTo>
                  <a:lnTo>
                    <a:pt x="156" y="1524"/>
                  </a:lnTo>
                  <a:lnTo>
                    <a:pt x="150" y="1534"/>
                  </a:lnTo>
                  <a:lnTo>
                    <a:pt x="148" y="1543"/>
                  </a:lnTo>
                  <a:lnTo>
                    <a:pt x="146" y="1555"/>
                  </a:lnTo>
                  <a:lnTo>
                    <a:pt x="145" y="1572"/>
                  </a:lnTo>
                  <a:lnTo>
                    <a:pt x="142" y="1592"/>
                  </a:lnTo>
                  <a:lnTo>
                    <a:pt x="140" y="1613"/>
                  </a:lnTo>
                  <a:lnTo>
                    <a:pt x="138" y="1631"/>
                  </a:lnTo>
                  <a:lnTo>
                    <a:pt x="136" y="1646"/>
                  </a:lnTo>
                  <a:lnTo>
                    <a:pt x="133" y="1655"/>
                  </a:lnTo>
                  <a:lnTo>
                    <a:pt x="129" y="1661"/>
                  </a:lnTo>
                  <a:lnTo>
                    <a:pt x="124" y="1669"/>
                  </a:lnTo>
                  <a:lnTo>
                    <a:pt x="118" y="1678"/>
                  </a:lnTo>
                  <a:lnTo>
                    <a:pt x="114" y="1689"/>
                  </a:lnTo>
                  <a:lnTo>
                    <a:pt x="111" y="1699"/>
                  </a:lnTo>
                  <a:lnTo>
                    <a:pt x="110" y="1708"/>
                  </a:lnTo>
                  <a:lnTo>
                    <a:pt x="112" y="1714"/>
                  </a:lnTo>
                  <a:lnTo>
                    <a:pt x="118" y="1719"/>
                  </a:lnTo>
                  <a:lnTo>
                    <a:pt x="128" y="1723"/>
                  </a:lnTo>
                  <a:lnTo>
                    <a:pt x="141" y="1725"/>
                  </a:lnTo>
                  <a:lnTo>
                    <a:pt x="154" y="1725"/>
                  </a:lnTo>
                  <a:lnTo>
                    <a:pt x="168" y="1724"/>
                  </a:lnTo>
                  <a:lnTo>
                    <a:pt x="177" y="1720"/>
                  </a:lnTo>
                  <a:lnTo>
                    <a:pt x="184" y="1714"/>
                  </a:lnTo>
                  <a:lnTo>
                    <a:pt x="187" y="1706"/>
                  </a:lnTo>
                  <a:lnTo>
                    <a:pt x="188" y="1695"/>
                  </a:lnTo>
                  <a:lnTo>
                    <a:pt x="187" y="1683"/>
                  </a:lnTo>
                  <a:lnTo>
                    <a:pt x="187" y="1672"/>
                  </a:lnTo>
                  <a:lnTo>
                    <a:pt x="185" y="1662"/>
                  </a:lnTo>
                  <a:lnTo>
                    <a:pt x="184" y="1655"/>
                  </a:lnTo>
                  <a:lnTo>
                    <a:pt x="184" y="1653"/>
                  </a:lnTo>
                  <a:lnTo>
                    <a:pt x="185" y="1650"/>
                  </a:lnTo>
                  <a:lnTo>
                    <a:pt x="188" y="1643"/>
                  </a:lnTo>
                  <a:lnTo>
                    <a:pt x="192" y="1632"/>
                  </a:lnTo>
                  <a:lnTo>
                    <a:pt x="197" y="1619"/>
                  </a:lnTo>
                  <a:lnTo>
                    <a:pt x="202" y="1606"/>
                  </a:lnTo>
                  <a:lnTo>
                    <a:pt x="205" y="1592"/>
                  </a:lnTo>
                  <a:lnTo>
                    <a:pt x="207" y="1580"/>
                  </a:lnTo>
                  <a:lnTo>
                    <a:pt x="209" y="1563"/>
                  </a:lnTo>
                  <a:lnTo>
                    <a:pt x="211" y="1546"/>
                  </a:lnTo>
                  <a:lnTo>
                    <a:pt x="214" y="1530"/>
                  </a:lnTo>
                  <a:lnTo>
                    <a:pt x="217" y="1516"/>
                  </a:lnTo>
                  <a:lnTo>
                    <a:pt x="221" y="1505"/>
                  </a:lnTo>
                  <a:lnTo>
                    <a:pt x="228" y="1498"/>
                  </a:lnTo>
                  <a:lnTo>
                    <a:pt x="237" y="1491"/>
                  </a:lnTo>
                  <a:lnTo>
                    <a:pt x="245" y="1484"/>
                  </a:lnTo>
                  <a:lnTo>
                    <a:pt x="252" y="1478"/>
                  </a:lnTo>
                  <a:lnTo>
                    <a:pt x="253" y="1470"/>
                  </a:lnTo>
                  <a:lnTo>
                    <a:pt x="250" y="1460"/>
                  </a:lnTo>
                  <a:lnTo>
                    <a:pt x="243" y="1448"/>
                  </a:lnTo>
                  <a:lnTo>
                    <a:pt x="236" y="1436"/>
                  </a:lnTo>
                  <a:lnTo>
                    <a:pt x="228" y="1422"/>
                  </a:lnTo>
                  <a:lnTo>
                    <a:pt x="223" y="1410"/>
                  </a:lnTo>
                  <a:lnTo>
                    <a:pt x="222" y="1396"/>
                  </a:lnTo>
                  <a:lnTo>
                    <a:pt x="222" y="1382"/>
                  </a:lnTo>
                  <a:lnTo>
                    <a:pt x="222" y="1368"/>
                  </a:lnTo>
                  <a:lnTo>
                    <a:pt x="222" y="1359"/>
                  </a:lnTo>
                  <a:lnTo>
                    <a:pt x="223" y="1355"/>
                  </a:lnTo>
                  <a:lnTo>
                    <a:pt x="226" y="1356"/>
                  </a:lnTo>
                  <a:lnTo>
                    <a:pt x="231" y="1359"/>
                  </a:lnTo>
                  <a:lnTo>
                    <a:pt x="238" y="1359"/>
                  </a:lnTo>
                  <a:lnTo>
                    <a:pt x="246" y="1354"/>
                  </a:lnTo>
                  <a:lnTo>
                    <a:pt x="252" y="1347"/>
                  </a:lnTo>
                  <a:lnTo>
                    <a:pt x="257" y="1336"/>
                  </a:lnTo>
                  <a:lnTo>
                    <a:pt x="263" y="1325"/>
                  </a:lnTo>
                  <a:lnTo>
                    <a:pt x="268" y="1315"/>
                  </a:lnTo>
                  <a:lnTo>
                    <a:pt x="274" y="1309"/>
                  </a:lnTo>
                  <a:lnTo>
                    <a:pt x="279" y="1306"/>
                  </a:lnTo>
                  <a:lnTo>
                    <a:pt x="287" y="1302"/>
                  </a:lnTo>
                  <a:lnTo>
                    <a:pt x="295" y="1296"/>
                  </a:lnTo>
                  <a:lnTo>
                    <a:pt x="302" y="1292"/>
                  </a:lnTo>
                  <a:lnTo>
                    <a:pt x="310" y="1287"/>
                  </a:lnTo>
                  <a:lnTo>
                    <a:pt x="314" y="1284"/>
                  </a:lnTo>
                  <a:lnTo>
                    <a:pt x="317" y="1283"/>
                  </a:lnTo>
                  <a:lnTo>
                    <a:pt x="315" y="1284"/>
                  </a:lnTo>
                  <a:lnTo>
                    <a:pt x="310" y="1291"/>
                  </a:lnTo>
                  <a:lnTo>
                    <a:pt x="303" y="1298"/>
                  </a:lnTo>
                  <a:lnTo>
                    <a:pt x="295" y="1309"/>
                  </a:lnTo>
                  <a:lnTo>
                    <a:pt x="285" y="1321"/>
                  </a:lnTo>
                  <a:lnTo>
                    <a:pt x="276" y="1332"/>
                  </a:lnTo>
                  <a:lnTo>
                    <a:pt x="267" y="1344"/>
                  </a:lnTo>
                  <a:lnTo>
                    <a:pt x="261" y="1354"/>
                  </a:lnTo>
                  <a:lnTo>
                    <a:pt x="255" y="1362"/>
                  </a:lnTo>
                  <a:lnTo>
                    <a:pt x="251" y="1373"/>
                  </a:lnTo>
                  <a:lnTo>
                    <a:pt x="248" y="1386"/>
                  </a:lnTo>
                  <a:lnTo>
                    <a:pt x="246" y="1400"/>
                  </a:lnTo>
                  <a:lnTo>
                    <a:pt x="248" y="1414"/>
                  </a:lnTo>
                  <a:lnTo>
                    <a:pt x="251" y="1426"/>
                  </a:lnTo>
                  <a:lnTo>
                    <a:pt x="256" y="1436"/>
                  </a:lnTo>
                  <a:lnTo>
                    <a:pt x="267" y="1446"/>
                  </a:lnTo>
                  <a:lnTo>
                    <a:pt x="276" y="1451"/>
                  </a:lnTo>
                  <a:lnTo>
                    <a:pt x="284" y="1452"/>
                  </a:lnTo>
                  <a:lnTo>
                    <a:pt x="286" y="1453"/>
                  </a:lnTo>
                  <a:lnTo>
                    <a:pt x="286" y="1451"/>
                  </a:lnTo>
                  <a:lnTo>
                    <a:pt x="285" y="1444"/>
                  </a:lnTo>
                  <a:lnTo>
                    <a:pt x="284" y="1435"/>
                  </a:lnTo>
                  <a:lnTo>
                    <a:pt x="284" y="1424"/>
                  </a:lnTo>
                  <a:lnTo>
                    <a:pt x="285" y="1414"/>
                  </a:lnTo>
                  <a:lnTo>
                    <a:pt x="288" y="1405"/>
                  </a:lnTo>
                  <a:lnTo>
                    <a:pt x="292" y="1397"/>
                  </a:lnTo>
                  <a:lnTo>
                    <a:pt x="298" y="1388"/>
                  </a:lnTo>
                  <a:lnTo>
                    <a:pt x="304" y="1381"/>
                  </a:lnTo>
                  <a:lnTo>
                    <a:pt x="310" y="1374"/>
                  </a:lnTo>
                  <a:lnTo>
                    <a:pt x="315" y="1372"/>
                  </a:lnTo>
                  <a:lnTo>
                    <a:pt x="320" y="1373"/>
                  </a:lnTo>
                  <a:lnTo>
                    <a:pt x="322" y="1377"/>
                  </a:lnTo>
                  <a:lnTo>
                    <a:pt x="323" y="1386"/>
                  </a:lnTo>
                  <a:lnTo>
                    <a:pt x="325" y="1396"/>
                  </a:lnTo>
                  <a:lnTo>
                    <a:pt x="327" y="1407"/>
                  </a:lnTo>
                  <a:lnTo>
                    <a:pt x="330" y="1417"/>
                  </a:lnTo>
                  <a:lnTo>
                    <a:pt x="333" y="1425"/>
                  </a:lnTo>
                  <a:lnTo>
                    <a:pt x="338" y="1429"/>
                  </a:lnTo>
                  <a:lnTo>
                    <a:pt x="345" y="1429"/>
                  </a:lnTo>
                  <a:lnTo>
                    <a:pt x="353" y="1422"/>
                  </a:lnTo>
                  <a:lnTo>
                    <a:pt x="357" y="1413"/>
                  </a:lnTo>
                  <a:lnTo>
                    <a:pt x="359" y="1404"/>
                  </a:lnTo>
                  <a:lnTo>
                    <a:pt x="361" y="1393"/>
                  </a:lnTo>
                  <a:lnTo>
                    <a:pt x="361" y="1383"/>
                  </a:lnTo>
                  <a:lnTo>
                    <a:pt x="364" y="1374"/>
                  </a:lnTo>
                  <a:lnTo>
                    <a:pt x="367" y="1363"/>
                  </a:lnTo>
                  <a:lnTo>
                    <a:pt x="371" y="1351"/>
                  </a:lnTo>
                  <a:lnTo>
                    <a:pt x="376" y="1338"/>
                  </a:lnTo>
                  <a:lnTo>
                    <a:pt x="380" y="1325"/>
                  </a:lnTo>
                  <a:lnTo>
                    <a:pt x="381" y="1314"/>
                  </a:lnTo>
                  <a:lnTo>
                    <a:pt x="382" y="1305"/>
                  </a:lnTo>
                  <a:lnTo>
                    <a:pt x="385" y="1296"/>
                  </a:lnTo>
                  <a:lnTo>
                    <a:pt x="390" y="1290"/>
                  </a:lnTo>
                  <a:lnTo>
                    <a:pt x="394" y="1286"/>
                  </a:lnTo>
                  <a:lnTo>
                    <a:pt x="395" y="1284"/>
                  </a:lnTo>
                  <a:lnTo>
                    <a:pt x="395" y="1287"/>
                  </a:lnTo>
                  <a:lnTo>
                    <a:pt x="394" y="1297"/>
                  </a:lnTo>
                  <a:lnTo>
                    <a:pt x="394" y="1309"/>
                  </a:lnTo>
                  <a:lnTo>
                    <a:pt x="394" y="1324"/>
                  </a:lnTo>
                  <a:lnTo>
                    <a:pt x="395" y="1337"/>
                  </a:lnTo>
                  <a:lnTo>
                    <a:pt x="400" y="1347"/>
                  </a:lnTo>
                  <a:lnTo>
                    <a:pt x="407" y="1356"/>
                  </a:lnTo>
                  <a:lnTo>
                    <a:pt x="421" y="1366"/>
                  </a:lnTo>
                  <a:lnTo>
                    <a:pt x="435" y="1375"/>
                  </a:lnTo>
                  <a:lnTo>
                    <a:pt x="448" y="1384"/>
                  </a:lnTo>
                  <a:lnTo>
                    <a:pt x="457" y="1391"/>
                  </a:lnTo>
                  <a:lnTo>
                    <a:pt x="465" y="1399"/>
                  </a:lnTo>
                  <a:lnTo>
                    <a:pt x="474" y="1406"/>
                  </a:lnTo>
                  <a:lnTo>
                    <a:pt x="481" y="1409"/>
                  </a:lnTo>
                  <a:lnTo>
                    <a:pt x="484" y="1411"/>
                  </a:lnTo>
                  <a:lnTo>
                    <a:pt x="481" y="1410"/>
                  </a:lnTo>
                  <a:lnTo>
                    <a:pt x="474" y="1407"/>
                  </a:lnTo>
                  <a:lnTo>
                    <a:pt x="463" y="1404"/>
                  </a:lnTo>
                  <a:lnTo>
                    <a:pt x="450" y="1399"/>
                  </a:lnTo>
                  <a:lnTo>
                    <a:pt x="436" y="1396"/>
                  </a:lnTo>
                  <a:lnTo>
                    <a:pt x="422" y="1394"/>
                  </a:lnTo>
                  <a:lnTo>
                    <a:pt x="408" y="1393"/>
                  </a:lnTo>
                  <a:lnTo>
                    <a:pt x="398" y="1394"/>
                  </a:lnTo>
                  <a:lnTo>
                    <a:pt x="391" y="1398"/>
                  </a:lnTo>
                  <a:lnTo>
                    <a:pt x="385" y="1408"/>
                  </a:lnTo>
                  <a:lnTo>
                    <a:pt x="383" y="1420"/>
                  </a:lnTo>
                  <a:lnTo>
                    <a:pt x="382" y="1433"/>
                  </a:lnTo>
                  <a:lnTo>
                    <a:pt x="383" y="1447"/>
                  </a:lnTo>
                  <a:lnTo>
                    <a:pt x="383" y="1462"/>
                  </a:lnTo>
                  <a:lnTo>
                    <a:pt x="382" y="1474"/>
                  </a:lnTo>
                  <a:lnTo>
                    <a:pt x="380" y="1484"/>
                  </a:lnTo>
                  <a:lnTo>
                    <a:pt x="378" y="1494"/>
                  </a:lnTo>
                  <a:lnTo>
                    <a:pt x="375" y="1502"/>
                  </a:lnTo>
                  <a:lnTo>
                    <a:pt x="375" y="1511"/>
                  </a:lnTo>
                  <a:lnTo>
                    <a:pt x="376" y="1520"/>
                  </a:lnTo>
                  <a:lnTo>
                    <a:pt x="381" y="1532"/>
                  </a:lnTo>
                  <a:lnTo>
                    <a:pt x="389" y="1541"/>
                  </a:lnTo>
                  <a:lnTo>
                    <a:pt x="398" y="1548"/>
                  </a:lnTo>
                  <a:lnTo>
                    <a:pt x="406" y="1552"/>
                  </a:lnTo>
                  <a:lnTo>
                    <a:pt x="414" y="1558"/>
                  </a:lnTo>
                  <a:lnTo>
                    <a:pt x="423" y="1564"/>
                  </a:lnTo>
                  <a:lnTo>
                    <a:pt x="429" y="1574"/>
                  </a:lnTo>
                  <a:lnTo>
                    <a:pt x="435" y="1584"/>
                  </a:lnTo>
                  <a:lnTo>
                    <a:pt x="440" y="1591"/>
                  </a:lnTo>
                  <a:lnTo>
                    <a:pt x="446" y="1596"/>
                  </a:lnTo>
                  <a:lnTo>
                    <a:pt x="449" y="1601"/>
                  </a:lnTo>
                  <a:lnTo>
                    <a:pt x="450" y="1606"/>
                  </a:lnTo>
                  <a:lnTo>
                    <a:pt x="450" y="1616"/>
                  </a:lnTo>
                  <a:lnTo>
                    <a:pt x="446" y="1629"/>
                  </a:lnTo>
                  <a:lnTo>
                    <a:pt x="437" y="1640"/>
                  </a:lnTo>
                  <a:lnTo>
                    <a:pt x="426" y="1651"/>
                  </a:lnTo>
                  <a:lnTo>
                    <a:pt x="416" y="1662"/>
                  </a:lnTo>
                  <a:lnTo>
                    <a:pt x="408" y="1674"/>
                  </a:lnTo>
                  <a:lnTo>
                    <a:pt x="404" y="1689"/>
                  </a:lnTo>
                  <a:lnTo>
                    <a:pt x="401" y="1707"/>
                  </a:lnTo>
                  <a:lnTo>
                    <a:pt x="398" y="1724"/>
                  </a:lnTo>
                  <a:lnTo>
                    <a:pt x="392" y="1743"/>
                  </a:lnTo>
                  <a:lnTo>
                    <a:pt x="382" y="1759"/>
                  </a:lnTo>
                  <a:lnTo>
                    <a:pt x="373" y="1770"/>
                  </a:lnTo>
                  <a:lnTo>
                    <a:pt x="364" y="1783"/>
                  </a:lnTo>
                  <a:lnTo>
                    <a:pt x="353" y="1798"/>
                  </a:lnTo>
                  <a:lnTo>
                    <a:pt x="343" y="1812"/>
                  </a:lnTo>
                  <a:lnTo>
                    <a:pt x="334" y="1826"/>
                  </a:lnTo>
                  <a:lnTo>
                    <a:pt x="329" y="1839"/>
                  </a:lnTo>
                  <a:lnTo>
                    <a:pt x="327" y="1850"/>
                  </a:lnTo>
                  <a:lnTo>
                    <a:pt x="330" y="1865"/>
                  </a:lnTo>
                  <a:lnTo>
                    <a:pt x="330" y="1880"/>
                  </a:lnTo>
                  <a:lnTo>
                    <a:pt x="331" y="1892"/>
                  </a:lnTo>
                  <a:lnTo>
                    <a:pt x="331" y="1900"/>
                  </a:lnTo>
                  <a:lnTo>
                    <a:pt x="331" y="1904"/>
                  </a:lnTo>
                  <a:lnTo>
                    <a:pt x="330" y="1902"/>
                  </a:lnTo>
                  <a:lnTo>
                    <a:pt x="327" y="1896"/>
                  </a:lnTo>
                  <a:lnTo>
                    <a:pt x="324" y="1888"/>
                  </a:lnTo>
                  <a:lnTo>
                    <a:pt x="321" y="1881"/>
                  </a:lnTo>
                  <a:lnTo>
                    <a:pt x="315" y="1873"/>
                  </a:lnTo>
                  <a:lnTo>
                    <a:pt x="311" y="1869"/>
                  </a:lnTo>
                  <a:lnTo>
                    <a:pt x="306" y="1868"/>
                  </a:lnTo>
                  <a:lnTo>
                    <a:pt x="300" y="1872"/>
                  </a:lnTo>
                  <a:lnTo>
                    <a:pt x="294" y="1885"/>
                  </a:lnTo>
                  <a:lnTo>
                    <a:pt x="289" y="1902"/>
                  </a:lnTo>
                  <a:lnTo>
                    <a:pt x="289" y="1920"/>
                  </a:lnTo>
                  <a:lnTo>
                    <a:pt x="292" y="1937"/>
                  </a:lnTo>
                  <a:lnTo>
                    <a:pt x="298" y="1952"/>
                  </a:lnTo>
                  <a:lnTo>
                    <a:pt x="307" y="1963"/>
                  </a:lnTo>
                  <a:lnTo>
                    <a:pt x="318" y="1973"/>
                  </a:lnTo>
                  <a:lnTo>
                    <a:pt x="329" y="1984"/>
                  </a:lnTo>
                  <a:lnTo>
                    <a:pt x="340" y="1995"/>
                  </a:lnTo>
                  <a:lnTo>
                    <a:pt x="348" y="2005"/>
                  </a:lnTo>
                  <a:lnTo>
                    <a:pt x="352" y="2018"/>
                  </a:lnTo>
                  <a:lnTo>
                    <a:pt x="354" y="2031"/>
                  </a:lnTo>
                  <a:lnTo>
                    <a:pt x="357" y="2043"/>
                  </a:lnTo>
                  <a:lnTo>
                    <a:pt x="360" y="2054"/>
                  </a:lnTo>
                  <a:lnTo>
                    <a:pt x="365" y="2061"/>
                  </a:lnTo>
                  <a:lnTo>
                    <a:pt x="369" y="2066"/>
                  </a:lnTo>
                  <a:lnTo>
                    <a:pt x="376" y="2065"/>
                  </a:lnTo>
                  <a:lnTo>
                    <a:pt x="378" y="2061"/>
                  </a:lnTo>
                  <a:lnTo>
                    <a:pt x="377" y="2054"/>
                  </a:lnTo>
                  <a:lnTo>
                    <a:pt x="375" y="2043"/>
                  </a:lnTo>
                  <a:lnTo>
                    <a:pt x="371" y="2031"/>
                  </a:lnTo>
                  <a:lnTo>
                    <a:pt x="367" y="2019"/>
                  </a:lnTo>
                  <a:lnTo>
                    <a:pt x="364" y="2005"/>
                  </a:lnTo>
                  <a:lnTo>
                    <a:pt x="361" y="1993"/>
                  </a:lnTo>
                  <a:lnTo>
                    <a:pt x="360" y="1983"/>
                  </a:lnTo>
                  <a:lnTo>
                    <a:pt x="364" y="1974"/>
                  </a:lnTo>
                  <a:lnTo>
                    <a:pt x="371" y="1963"/>
                  </a:lnTo>
                  <a:lnTo>
                    <a:pt x="382" y="1955"/>
                  </a:lnTo>
                  <a:lnTo>
                    <a:pt x="395" y="1952"/>
                  </a:lnTo>
                  <a:lnTo>
                    <a:pt x="408" y="1954"/>
                  </a:lnTo>
                  <a:lnTo>
                    <a:pt x="422" y="1963"/>
                  </a:lnTo>
                  <a:lnTo>
                    <a:pt x="438" y="1977"/>
                  </a:lnTo>
                  <a:lnTo>
                    <a:pt x="452" y="1988"/>
                  </a:lnTo>
                  <a:lnTo>
                    <a:pt x="468" y="2000"/>
                  </a:lnTo>
                  <a:lnTo>
                    <a:pt x="482" y="2014"/>
                  </a:lnTo>
                  <a:lnTo>
                    <a:pt x="492" y="2024"/>
                  </a:lnTo>
                  <a:lnTo>
                    <a:pt x="500" y="2033"/>
                  </a:lnTo>
                  <a:lnTo>
                    <a:pt x="508" y="2041"/>
                  </a:lnTo>
                  <a:lnTo>
                    <a:pt x="516" y="2045"/>
                  </a:lnTo>
                  <a:lnTo>
                    <a:pt x="522" y="2045"/>
                  </a:lnTo>
                  <a:lnTo>
                    <a:pt x="528" y="2041"/>
                  </a:lnTo>
                  <a:lnTo>
                    <a:pt x="532" y="2030"/>
                  </a:lnTo>
                  <a:lnTo>
                    <a:pt x="533" y="2016"/>
                  </a:lnTo>
                  <a:lnTo>
                    <a:pt x="534" y="2001"/>
                  </a:lnTo>
                  <a:lnTo>
                    <a:pt x="533" y="1988"/>
                  </a:lnTo>
                  <a:lnTo>
                    <a:pt x="531" y="1979"/>
                  </a:lnTo>
                  <a:lnTo>
                    <a:pt x="529" y="1972"/>
                  </a:lnTo>
                  <a:lnTo>
                    <a:pt x="525" y="1963"/>
                  </a:lnTo>
                  <a:lnTo>
                    <a:pt x="520" y="1953"/>
                  </a:lnTo>
                  <a:lnTo>
                    <a:pt x="518" y="1944"/>
                  </a:lnTo>
                  <a:lnTo>
                    <a:pt x="517" y="1937"/>
                  </a:lnTo>
                  <a:lnTo>
                    <a:pt x="520" y="1931"/>
                  </a:lnTo>
                  <a:lnTo>
                    <a:pt x="526" y="1931"/>
                  </a:lnTo>
                  <a:lnTo>
                    <a:pt x="534" y="1934"/>
                  </a:lnTo>
                  <a:lnTo>
                    <a:pt x="544" y="1941"/>
                  </a:lnTo>
                  <a:lnTo>
                    <a:pt x="554" y="1949"/>
                  </a:lnTo>
                  <a:lnTo>
                    <a:pt x="563" y="1958"/>
                  </a:lnTo>
                  <a:lnTo>
                    <a:pt x="570" y="1968"/>
                  </a:lnTo>
                  <a:lnTo>
                    <a:pt x="579" y="1979"/>
                  </a:lnTo>
                  <a:lnTo>
                    <a:pt x="588" y="1989"/>
                  </a:lnTo>
                  <a:lnTo>
                    <a:pt x="596" y="1997"/>
                  </a:lnTo>
                  <a:lnTo>
                    <a:pt x="603" y="1999"/>
                  </a:lnTo>
                  <a:lnTo>
                    <a:pt x="610" y="1997"/>
                  </a:lnTo>
                  <a:lnTo>
                    <a:pt x="615" y="1991"/>
                  </a:lnTo>
                  <a:lnTo>
                    <a:pt x="618" y="1983"/>
                  </a:lnTo>
                  <a:lnTo>
                    <a:pt x="619" y="1975"/>
                  </a:lnTo>
                  <a:lnTo>
                    <a:pt x="620" y="1969"/>
                  </a:lnTo>
                  <a:lnTo>
                    <a:pt x="620" y="1966"/>
                  </a:lnTo>
                  <a:lnTo>
                    <a:pt x="620" y="1968"/>
                  </a:lnTo>
                  <a:lnTo>
                    <a:pt x="620" y="1973"/>
                  </a:lnTo>
                  <a:lnTo>
                    <a:pt x="620" y="1978"/>
                  </a:lnTo>
                  <a:lnTo>
                    <a:pt x="621" y="1985"/>
                  </a:lnTo>
                  <a:lnTo>
                    <a:pt x="624" y="1990"/>
                  </a:lnTo>
                  <a:lnTo>
                    <a:pt x="628" y="1995"/>
                  </a:lnTo>
                  <a:lnTo>
                    <a:pt x="635" y="1997"/>
                  </a:lnTo>
                  <a:lnTo>
                    <a:pt x="644" y="1995"/>
                  </a:lnTo>
                  <a:lnTo>
                    <a:pt x="658" y="1988"/>
                  </a:lnTo>
                  <a:lnTo>
                    <a:pt x="670" y="1981"/>
                  </a:lnTo>
                  <a:lnTo>
                    <a:pt x="678" y="1976"/>
                  </a:lnTo>
                  <a:lnTo>
                    <a:pt x="683" y="1972"/>
                  </a:lnTo>
                  <a:lnTo>
                    <a:pt x="685" y="1970"/>
                  </a:lnTo>
                  <a:lnTo>
                    <a:pt x="683" y="1944"/>
                  </a:lnTo>
                  <a:lnTo>
                    <a:pt x="685" y="1945"/>
                  </a:lnTo>
                  <a:lnTo>
                    <a:pt x="690" y="1949"/>
                  </a:lnTo>
                  <a:lnTo>
                    <a:pt x="697" y="1952"/>
                  </a:lnTo>
                  <a:lnTo>
                    <a:pt x="706" y="1953"/>
                  </a:lnTo>
                  <a:lnTo>
                    <a:pt x="717" y="1951"/>
                  </a:lnTo>
                  <a:lnTo>
                    <a:pt x="727" y="1947"/>
                  </a:lnTo>
                  <a:lnTo>
                    <a:pt x="737" y="1946"/>
                  </a:lnTo>
                  <a:lnTo>
                    <a:pt x="747" y="1946"/>
                  </a:lnTo>
                  <a:lnTo>
                    <a:pt x="754" y="1946"/>
                  </a:lnTo>
                  <a:lnTo>
                    <a:pt x="761" y="1946"/>
                  </a:lnTo>
                  <a:lnTo>
                    <a:pt x="763" y="1943"/>
                  </a:lnTo>
                  <a:lnTo>
                    <a:pt x="763" y="1938"/>
                  </a:lnTo>
                  <a:lnTo>
                    <a:pt x="763" y="1929"/>
                  </a:lnTo>
                  <a:lnTo>
                    <a:pt x="763" y="1917"/>
                  </a:lnTo>
                  <a:lnTo>
                    <a:pt x="763" y="1906"/>
                  </a:lnTo>
                  <a:lnTo>
                    <a:pt x="762" y="1895"/>
                  </a:lnTo>
                  <a:lnTo>
                    <a:pt x="762" y="1887"/>
                  </a:lnTo>
                  <a:lnTo>
                    <a:pt x="762" y="1885"/>
                  </a:lnTo>
                  <a:lnTo>
                    <a:pt x="766" y="1885"/>
                  </a:lnTo>
                  <a:lnTo>
                    <a:pt x="776" y="1885"/>
                  </a:lnTo>
                  <a:lnTo>
                    <a:pt x="791" y="1885"/>
                  </a:lnTo>
                  <a:lnTo>
                    <a:pt x="807" y="1886"/>
                  </a:lnTo>
                  <a:lnTo>
                    <a:pt x="824" y="1887"/>
                  </a:lnTo>
                  <a:lnTo>
                    <a:pt x="838" y="1888"/>
                  </a:lnTo>
                  <a:lnTo>
                    <a:pt x="853" y="1889"/>
                  </a:lnTo>
                  <a:lnTo>
                    <a:pt x="869" y="1891"/>
                  </a:lnTo>
                  <a:lnTo>
                    <a:pt x="884" y="1891"/>
                  </a:lnTo>
                  <a:lnTo>
                    <a:pt x="896" y="1892"/>
                  </a:lnTo>
                  <a:lnTo>
                    <a:pt x="904" y="1892"/>
                  </a:lnTo>
                  <a:lnTo>
                    <a:pt x="907" y="1892"/>
                  </a:lnTo>
                  <a:lnTo>
                    <a:pt x="907" y="1892"/>
                  </a:lnTo>
                  <a:lnTo>
                    <a:pt x="908" y="1893"/>
                  </a:lnTo>
                  <a:lnTo>
                    <a:pt x="907" y="1895"/>
                  </a:lnTo>
                  <a:lnTo>
                    <a:pt x="907" y="1897"/>
                  </a:lnTo>
                  <a:lnTo>
                    <a:pt x="907" y="1899"/>
                  </a:lnTo>
                  <a:lnTo>
                    <a:pt x="905" y="1902"/>
                  </a:lnTo>
                  <a:lnTo>
                    <a:pt x="903" y="1904"/>
                  </a:lnTo>
                  <a:lnTo>
                    <a:pt x="901" y="1906"/>
                  </a:lnTo>
                  <a:lnTo>
                    <a:pt x="899" y="1907"/>
                  </a:lnTo>
                  <a:lnTo>
                    <a:pt x="895" y="1908"/>
                  </a:lnTo>
                  <a:lnTo>
                    <a:pt x="887" y="1909"/>
                  </a:lnTo>
                  <a:lnTo>
                    <a:pt x="876" y="1909"/>
                  </a:lnTo>
                  <a:lnTo>
                    <a:pt x="864" y="1911"/>
                  </a:lnTo>
                  <a:lnTo>
                    <a:pt x="854" y="1914"/>
                  </a:lnTo>
                  <a:lnTo>
                    <a:pt x="846" y="1917"/>
                  </a:lnTo>
                  <a:lnTo>
                    <a:pt x="844" y="1921"/>
                  </a:lnTo>
                  <a:lnTo>
                    <a:pt x="844" y="1926"/>
                  </a:lnTo>
                  <a:lnTo>
                    <a:pt x="844" y="1928"/>
                  </a:lnTo>
                  <a:lnTo>
                    <a:pt x="844" y="1930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3" y="1930"/>
                  </a:lnTo>
                  <a:lnTo>
                    <a:pt x="840" y="1928"/>
                  </a:lnTo>
                  <a:lnTo>
                    <a:pt x="835" y="1924"/>
                  </a:lnTo>
                  <a:lnTo>
                    <a:pt x="830" y="1923"/>
                  </a:lnTo>
                  <a:lnTo>
                    <a:pt x="824" y="1926"/>
                  </a:lnTo>
                  <a:lnTo>
                    <a:pt x="819" y="1931"/>
                  </a:lnTo>
                  <a:lnTo>
                    <a:pt x="815" y="1942"/>
                  </a:lnTo>
                  <a:lnTo>
                    <a:pt x="814" y="1955"/>
                  </a:lnTo>
                  <a:lnTo>
                    <a:pt x="812" y="1969"/>
                  </a:lnTo>
                  <a:lnTo>
                    <a:pt x="811" y="1984"/>
                  </a:lnTo>
                  <a:lnTo>
                    <a:pt x="809" y="1996"/>
                  </a:lnTo>
                  <a:lnTo>
                    <a:pt x="803" y="2007"/>
                  </a:lnTo>
                  <a:lnTo>
                    <a:pt x="796" y="2013"/>
                  </a:lnTo>
                  <a:lnTo>
                    <a:pt x="787" y="2019"/>
                  </a:lnTo>
                  <a:lnTo>
                    <a:pt x="777" y="2024"/>
                  </a:lnTo>
                  <a:lnTo>
                    <a:pt x="770" y="2030"/>
                  </a:lnTo>
                  <a:lnTo>
                    <a:pt x="763" y="2035"/>
                  </a:lnTo>
                  <a:lnTo>
                    <a:pt x="759" y="2042"/>
                  </a:lnTo>
                  <a:lnTo>
                    <a:pt x="759" y="2049"/>
                  </a:lnTo>
                  <a:lnTo>
                    <a:pt x="759" y="2062"/>
                  </a:lnTo>
                  <a:lnTo>
                    <a:pt x="755" y="2077"/>
                  </a:lnTo>
                  <a:lnTo>
                    <a:pt x="751" y="2091"/>
                  </a:lnTo>
                  <a:lnTo>
                    <a:pt x="748" y="2106"/>
                  </a:lnTo>
                  <a:lnTo>
                    <a:pt x="750" y="2120"/>
                  </a:lnTo>
                  <a:lnTo>
                    <a:pt x="754" y="2130"/>
                  </a:lnTo>
                  <a:lnTo>
                    <a:pt x="762" y="2142"/>
                  </a:lnTo>
                  <a:lnTo>
                    <a:pt x="771" y="2155"/>
                  </a:lnTo>
                  <a:lnTo>
                    <a:pt x="781" y="2167"/>
                  </a:lnTo>
                  <a:lnTo>
                    <a:pt x="789" y="2181"/>
                  </a:lnTo>
                  <a:lnTo>
                    <a:pt x="798" y="2192"/>
                  </a:lnTo>
                  <a:lnTo>
                    <a:pt x="805" y="2201"/>
                  </a:lnTo>
                  <a:lnTo>
                    <a:pt x="809" y="2208"/>
                  </a:lnTo>
                  <a:lnTo>
                    <a:pt x="814" y="2221"/>
                  </a:lnTo>
                  <a:lnTo>
                    <a:pt x="820" y="2238"/>
                  </a:lnTo>
                  <a:lnTo>
                    <a:pt x="828" y="2255"/>
                  </a:lnTo>
                  <a:lnTo>
                    <a:pt x="840" y="2271"/>
                  </a:lnTo>
                  <a:lnTo>
                    <a:pt x="846" y="2278"/>
                  </a:lnTo>
                  <a:lnTo>
                    <a:pt x="853" y="2279"/>
                  </a:lnTo>
                  <a:lnTo>
                    <a:pt x="859" y="2276"/>
                  </a:lnTo>
                  <a:lnTo>
                    <a:pt x="865" y="2271"/>
                  </a:lnTo>
                  <a:lnTo>
                    <a:pt x="869" y="2266"/>
                  </a:lnTo>
                  <a:lnTo>
                    <a:pt x="873" y="2262"/>
                  </a:lnTo>
                  <a:lnTo>
                    <a:pt x="874" y="2259"/>
                  </a:lnTo>
                  <a:lnTo>
                    <a:pt x="873" y="2263"/>
                  </a:lnTo>
                  <a:lnTo>
                    <a:pt x="870" y="2269"/>
                  </a:lnTo>
                  <a:lnTo>
                    <a:pt x="868" y="2279"/>
                  </a:lnTo>
                  <a:lnTo>
                    <a:pt x="866" y="2291"/>
                  </a:lnTo>
                  <a:lnTo>
                    <a:pt x="864" y="2303"/>
                  </a:lnTo>
                  <a:lnTo>
                    <a:pt x="864" y="2314"/>
                  </a:lnTo>
                  <a:lnTo>
                    <a:pt x="865" y="2325"/>
                  </a:lnTo>
                  <a:lnTo>
                    <a:pt x="867" y="2335"/>
                  </a:lnTo>
                  <a:lnTo>
                    <a:pt x="869" y="2344"/>
                  </a:lnTo>
                  <a:lnTo>
                    <a:pt x="873" y="2350"/>
                  </a:lnTo>
                  <a:lnTo>
                    <a:pt x="877" y="2354"/>
                  </a:lnTo>
                  <a:lnTo>
                    <a:pt x="884" y="2351"/>
                  </a:lnTo>
                  <a:lnTo>
                    <a:pt x="892" y="2344"/>
                  </a:lnTo>
                  <a:lnTo>
                    <a:pt x="900" y="2335"/>
                  </a:lnTo>
                  <a:lnTo>
                    <a:pt x="909" y="2324"/>
                  </a:lnTo>
                  <a:lnTo>
                    <a:pt x="917" y="2314"/>
                  </a:lnTo>
                  <a:lnTo>
                    <a:pt x="923" y="2304"/>
                  </a:lnTo>
                  <a:lnTo>
                    <a:pt x="927" y="2297"/>
                  </a:lnTo>
                  <a:lnTo>
                    <a:pt x="932" y="2293"/>
                  </a:lnTo>
                  <a:lnTo>
                    <a:pt x="936" y="2294"/>
                  </a:lnTo>
                  <a:lnTo>
                    <a:pt x="942" y="2297"/>
                  </a:lnTo>
                  <a:lnTo>
                    <a:pt x="949" y="2299"/>
                  </a:lnTo>
                  <a:lnTo>
                    <a:pt x="959" y="2299"/>
                  </a:lnTo>
                  <a:lnTo>
                    <a:pt x="971" y="2294"/>
                  </a:lnTo>
                  <a:lnTo>
                    <a:pt x="980" y="2290"/>
                  </a:lnTo>
                  <a:lnTo>
                    <a:pt x="985" y="2285"/>
                  </a:lnTo>
                  <a:lnTo>
                    <a:pt x="988" y="2284"/>
                  </a:lnTo>
                  <a:lnTo>
                    <a:pt x="988" y="2285"/>
                  </a:lnTo>
                  <a:lnTo>
                    <a:pt x="988" y="2290"/>
                  </a:lnTo>
                  <a:lnTo>
                    <a:pt x="990" y="2299"/>
                  </a:lnTo>
                  <a:lnTo>
                    <a:pt x="993" y="2312"/>
                  </a:lnTo>
                  <a:lnTo>
                    <a:pt x="993" y="2322"/>
                  </a:lnTo>
                  <a:lnTo>
                    <a:pt x="988" y="2332"/>
                  </a:lnTo>
                  <a:lnTo>
                    <a:pt x="980" y="2342"/>
                  </a:lnTo>
                  <a:lnTo>
                    <a:pt x="971" y="2350"/>
                  </a:lnTo>
                  <a:lnTo>
                    <a:pt x="965" y="2358"/>
                  </a:lnTo>
                  <a:lnTo>
                    <a:pt x="962" y="2364"/>
                  </a:lnTo>
                  <a:lnTo>
                    <a:pt x="967" y="2371"/>
                  </a:lnTo>
                  <a:lnTo>
                    <a:pt x="973" y="2377"/>
                  </a:lnTo>
                  <a:lnTo>
                    <a:pt x="981" y="2381"/>
                  </a:lnTo>
                  <a:lnTo>
                    <a:pt x="989" y="2384"/>
                  </a:lnTo>
                  <a:lnTo>
                    <a:pt x="995" y="2386"/>
                  </a:lnTo>
                  <a:lnTo>
                    <a:pt x="997" y="2387"/>
                  </a:lnTo>
                  <a:lnTo>
                    <a:pt x="995" y="2389"/>
                  </a:lnTo>
                  <a:lnTo>
                    <a:pt x="991" y="2393"/>
                  </a:lnTo>
                  <a:lnTo>
                    <a:pt x="984" y="2398"/>
                  </a:lnTo>
                  <a:lnTo>
                    <a:pt x="977" y="2405"/>
                  </a:lnTo>
                  <a:lnTo>
                    <a:pt x="967" y="2412"/>
                  </a:lnTo>
                  <a:lnTo>
                    <a:pt x="958" y="2418"/>
                  </a:lnTo>
                  <a:lnTo>
                    <a:pt x="948" y="2423"/>
                  </a:lnTo>
                  <a:lnTo>
                    <a:pt x="940" y="2425"/>
                  </a:lnTo>
                  <a:lnTo>
                    <a:pt x="933" y="2427"/>
                  </a:lnTo>
                  <a:lnTo>
                    <a:pt x="927" y="2431"/>
                  </a:lnTo>
                  <a:lnTo>
                    <a:pt x="924" y="2439"/>
                  </a:lnTo>
                  <a:lnTo>
                    <a:pt x="923" y="2445"/>
                  </a:lnTo>
                  <a:lnTo>
                    <a:pt x="923" y="2450"/>
                  </a:lnTo>
                  <a:lnTo>
                    <a:pt x="923" y="2452"/>
                  </a:lnTo>
                  <a:lnTo>
                    <a:pt x="923" y="2455"/>
                  </a:lnTo>
                  <a:lnTo>
                    <a:pt x="924" y="2465"/>
                  </a:lnTo>
                  <a:lnTo>
                    <a:pt x="925" y="2478"/>
                  </a:lnTo>
                  <a:lnTo>
                    <a:pt x="927" y="2493"/>
                  </a:lnTo>
                  <a:lnTo>
                    <a:pt x="930" y="2505"/>
                  </a:lnTo>
                  <a:lnTo>
                    <a:pt x="934" y="2513"/>
                  </a:lnTo>
                  <a:lnTo>
                    <a:pt x="940" y="2520"/>
                  </a:lnTo>
                  <a:lnTo>
                    <a:pt x="946" y="2526"/>
                  </a:lnTo>
                  <a:lnTo>
                    <a:pt x="951" y="2533"/>
                  </a:lnTo>
                  <a:lnTo>
                    <a:pt x="953" y="2541"/>
                  </a:lnTo>
                  <a:lnTo>
                    <a:pt x="949" y="2549"/>
                  </a:lnTo>
                  <a:lnTo>
                    <a:pt x="940" y="2560"/>
                  </a:lnTo>
                  <a:lnTo>
                    <a:pt x="932" y="2574"/>
                  </a:lnTo>
                  <a:lnTo>
                    <a:pt x="922" y="2589"/>
                  </a:lnTo>
                  <a:lnTo>
                    <a:pt x="914" y="2603"/>
                  </a:lnTo>
                  <a:lnTo>
                    <a:pt x="911" y="2616"/>
                  </a:lnTo>
                  <a:lnTo>
                    <a:pt x="912" y="2627"/>
                  </a:lnTo>
                  <a:lnTo>
                    <a:pt x="917" y="2636"/>
                  </a:lnTo>
                  <a:lnTo>
                    <a:pt x="925" y="2645"/>
                  </a:lnTo>
                  <a:lnTo>
                    <a:pt x="933" y="2652"/>
                  </a:lnTo>
                  <a:lnTo>
                    <a:pt x="939" y="2661"/>
                  </a:lnTo>
                  <a:lnTo>
                    <a:pt x="939" y="2667"/>
                  </a:lnTo>
                  <a:lnTo>
                    <a:pt x="935" y="2672"/>
                  </a:lnTo>
                  <a:lnTo>
                    <a:pt x="926" y="2678"/>
                  </a:lnTo>
                  <a:lnTo>
                    <a:pt x="915" y="2682"/>
                  </a:lnTo>
                  <a:lnTo>
                    <a:pt x="905" y="2686"/>
                  </a:lnTo>
                  <a:lnTo>
                    <a:pt x="897" y="2690"/>
                  </a:lnTo>
                  <a:lnTo>
                    <a:pt x="892" y="2694"/>
                  </a:lnTo>
                  <a:lnTo>
                    <a:pt x="892" y="2701"/>
                  </a:lnTo>
                  <a:lnTo>
                    <a:pt x="896" y="2709"/>
                  </a:lnTo>
                  <a:lnTo>
                    <a:pt x="900" y="2719"/>
                  </a:lnTo>
                  <a:lnTo>
                    <a:pt x="905" y="2730"/>
                  </a:lnTo>
                  <a:lnTo>
                    <a:pt x="911" y="2740"/>
                  </a:lnTo>
                  <a:lnTo>
                    <a:pt x="915" y="2749"/>
                  </a:lnTo>
                  <a:lnTo>
                    <a:pt x="917" y="2754"/>
                  </a:lnTo>
                  <a:lnTo>
                    <a:pt x="916" y="2757"/>
                  </a:lnTo>
                  <a:lnTo>
                    <a:pt x="916" y="2761"/>
                  </a:lnTo>
                  <a:lnTo>
                    <a:pt x="914" y="2764"/>
                  </a:lnTo>
                  <a:lnTo>
                    <a:pt x="913" y="2766"/>
                  </a:lnTo>
                  <a:lnTo>
                    <a:pt x="912" y="2768"/>
                  </a:lnTo>
                  <a:lnTo>
                    <a:pt x="911" y="2769"/>
                  </a:lnTo>
                  <a:lnTo>
                    <a:pt x="911" y="2771"/>
                  </a:lnTo>
                  <a:lnTo>
                    <a:pt x="909" y="2768"/>
                  </a:lnTo>
                  <a:lnTo>
                    <a:pt x="904" y="2764"/>
                  </a:lnTo>
                  <a:lnTo>
                    <a:pt x="898" y="2757"/>
                  </a:lnTo>
                  <a:lnTo>
                    <a:pt x="890" y="2751"/>
                  </a:lnTo>
                  <a:lnTo>
                    <a:pt x="880" y="2742"/>
                  </a:lnTo>
                  <a:lnTo>
                    <a:pt x="872" y="2736"/>
                  </a:lnTo>
                  <a:lnTo>
                    <a:pt x="862" y="2729"/>
                  </a:lnTo>
                  <a:lnTo>
                    <a:pt x="853" y="2725"/>
                  </a:lnTo>
                  <a:lnTo>
                    <a:pt x="845" y="2724"/>
                  </a:lnTo>
                  <a:lnTo>
                    <a:pt x="834" y="2727"/>
                  </a:lnTo>
                  <a:lnTo>
                    <a:pt x="822" y="2733"/>
                  </a:lnTo>
                  <a:lnTo>
                    <a:pt x="809" y="2741"/>
                  </a:lnTo>
                  <a:lnTo>
                    <a:pt x="794" y="2749"/>
                  </a:lnTo>
                  <a:lnTo>
                    <a:pt x="780" y="2755"/>
                  </a:lnTo>
                  <a:lnTo>
                    <a:pt x="765" y="2760"/>
                  </a:lnTo>
                  <a:lnTo>
                    <a:pt x="753" y="2759"/>
                  </a:lnTo>
                  <a:lnTo>
                    <a:pt x="740" y="2753"/>
                  </a:lnTo>
                  <a:lnTo>
                    <a:pt x="728" y="2746"/>
                  </a:lnTo>
                  <a:lnTo>
                    <a:pt x="717" y="2740"/>
                  </a:lnTo>
                  <a:lnTo>
                    <a:pt x="707" y="2736"/>
                  </a:lnTo>
                  <a:lnTo>
                    <a:pt x="700" y="2733"/>
                  </a:lnTo>
                  <a:lnTo>
                    <a:pt x="694" y="2736"/>
                  </a:lnTo>
                  <a:lnTo>
                    <a:pt x="689" y="2741"/>
                  </a:lnTo>
                  <a:lnTo>
                    <a:pt x="680" y="2749"/>
                  </a:lnTo>
                  <a:lnTo>
                    <a:pt x="668" y="2757"/>
                  </a:lnTo>
                  <a:lnTo>
                    <a:pt x="655" y="2766"/>
                  </a:lnTo>
                  <a:lnTo>
                    <a:pt x="641" y="2775"/>
                  </a:lnTo>
                  <a:lnTo>
                    <a:pt x="627" y="2784"/>
                  </a:lnTo>
                  <a:lnTo>
                    <a:pt x="615" y="2789"/>
                  </a:lnTo>
                  <a:lnTo>
                    <a:pt x="607" y="2794"/>
                  </a:lnTo>
                  <a:lnTo>
                    <a:pt x="593" y="2799"/>
                  </a:lnTo>
                  <a:lnTo>
                    <a:pt x="578" y="2809"/>
                  </a:lnTo>
                  <a:lnTo>
                    <a:pt x="563" y="2820"/>
                  </a:lnTo>
                  <a:lnTo>
                    <a:pt x="551" y="2833"/>
                  </a:lnTo>
                  <a:lnTo>
                    <a:pt x="543" y="2847"/>
                  </a:lnTo>
                  <a:lnTo>
                    <a:pt x="540" y="2859"/>
                  </a:lnTo>
                  <a:lnTo>
                    <a:pt x="538" y="2871"/>
                  </a:lnTo>
                  <a:lnTo>
                    <a:pt x="535" y="2882"/>
                  </a:lnTo>
                  <a:lnTo>
                    <a:pt x="531" y="2893"/>
                  </a:lnTo>
                  <a:lnTo>
                    <a:pt x="523" y="2903"/>
                  </a:lnTo>
                  <a:lnTo>
                    <a:pt x="512" y="2913"/>
                  </a:lnTo>
                  <a:lnTo>
                    <a:pt x="498" y="2921"/>
                  </a:lnTo>
                  <a:lnTo>
                    <a:pt x="483" y="2928"/>
                  </a:lnTo>
                  <a:lnTo>
                    <a:pt x="468" y="2937"/>
                  </a:lnTo>
                  <a:lnTo>
                    <a:pt x="452" y="2947"/>
                  </a:lnTo>
                  <a:lnTo>
                    <a:pt x="440" y="2959"/>
                  </a:lnTo>
                  <a:lnTo>
                    <a:pt x="430" y="2973"/>
                  </a:lnTo>
                  <a:lnTo>
                    <a:pt x="424" y="2987"/>
                  </a:lnTo>
                  <a:lnTo>
                    <a:pt x="417" y="2998"/>
                  </a:lnTo>
                  <a:lnTo>
                    <a:pt x="412" y="3006"/>
                  </a:lnTo>
                  <a:lnTo>
                    <a:pt x="410" y="3012"/>
                  </a:lnTo>
                  <a:lnTo>
                    <a:pt x="411" y="3016"/>
                  </a:lnTo>
                  <a:lnTo>
                    <a:pt x="417" y="3017"/>
                  </a:lnTo>
                  <a:lnTo>
                    <a:pt x="426" y="3016"/>
                  </a:lnTo>
                  <a:lnTo>
                    <a:pt x="436" y="3014"/>
                  </a:lnTo>
                  <a:lnTo>
                    <a:pt x="446" y="3010"/>
                  </a:lnTo>
                  <a:lnTo>
                    <a:pt x="454" y="3008"/>
                  </a:lnTo>
                  <a:lnTo>
                    <a:pt x="462" y="3007"/>
                  </a:lnTo>
                  <a:lnTo>
                    <a:pt x="466" y="3008"/>
                  </a:lnTo>
                  <a:lnTo>
                    <a:pt x="470" y="3011"/>
                  </a:lnTo>
                  <a:lnTo>
                    <a:pt x="473" y="3016"/>
                  </a:lnTo>
                  <a:lnTo>
                    <a:pt x="477" y="3020"/>
                  </a:lnTo>
                  <a:lnTo>
                    <a:pt x="483" y="3022"/>
                  </a:lnTo>
                  <a:lnTo>
                    <a:pt x="487" y="3020"/>
                  </a:lnTo>
                  <a:lnTo>
                    <a:pt x="493" y="3012"/>
                  </a:lnTo>
                  <a:lnTo>
                    <a:pt x="500" y="2999"/>
                  </a:lnTo>
                  <a:lnTo>
                    <a:pt x="508" y="2986"/>
                  </a:lnTo>
                  <a:lnTo>
                    <a:pt x="517" y="2974"/>
                  </a:lnTo>
                  <a:lnTo>
                    <a:pt x="528" y="2964"/>
                  </a:lnTo>
                  <a:lnTo>
                    <a:pt x="541" y="2960"/>
                  </a:lnTo>
                  <a:lnTo>
                    <a:pt x="558" y="2958"/>
                  </a:lnTo>
                  <a:lnTo>
                    <a:pt x="576" y="2957"/>
                  </a:lnTo>
                  <a:lnTo>
                    <a:pt x="592" y="2956"/>
                  </a:lnTo>
                  <a:lnTo>
                    <a:pt x="606" y="2954"/>
                  </a:lnTo>
                  <a:lnTo>
                    <a:pt x="610" y="2954"/>
                  </a:lnTo>
                  <a:lnTo>
                    <a:pt x="612" y="2957"/>
                  </a:lnTo>
                  <a:lnTo>
                    <a:pt x="612" y="2961"/>
                  </a:lnTo>
                  <a:lnTo>
                    <a:pt x="610" y="2968"/>
                  </a:lnTo>
                  <a:lnTo>
                    <a:pt x="609" y="2974"/>
                  </a:lnTo>
                  <a:lnTo>
                    <a:pt x="608" y="2981"/>
                  </a:lnTo>
                  <a:lnTo>
                    <a:pt x="609" y="2986"/>
                  </a:lnTo>
                  <a:lnTo>
                    <a:pt x="611" y="2994"/>
                  </a:lnTo>
                  <a:lnTo>
                    <a:pt x="610" y="3000"/>
                  </a:lnTo>
                  <a:lnTo>
                    <a:pt x="608" y="3007"/>
                  </a:lnTo>
                  <a:lnTo>
                    <a:pt x="607" y="3016"/>
                  </a:lnTo>
                  <a:lnTo>
                    <a:pt x="608" y="3027"/>
                  </a:lnTo>
                  <a:lnTo>
                    <a:pt x="612" y="3037"/>
                  </a:lnTo>
                  <a:lnTo>
                    <a:pt x="620" y="3043"/>
                  </a:lnTo>
                  <a:lnTo>
                    <a:pt x="627" y="3045"/>
                  </a:lnTo>
                  <a:lnTo>
                    <a:pt x="636" y="3044"/>
                  </a:lnTo>
                  <a:lnTo>
                    <a:pt x="643" y="3041"/>
                  </a:lnTo>
                  <a:lnTo>
                    <a:pt x="643" y="3040"/>
                  </a:lnTo>
                  <a:lnTo>
                    <a:pt x="641" y="3042"/>
                  </a:lnTo>
                  <a:lnTo>
                    <a:pt x="635" y="3049"/>
                  </a:lnTo>
                  <a:lnTo>
                    <a:pt x="628" y="3056"/>
                  </a:lnTo>
                  <a:lnTo>
                    <a:pt x="622" y="3065"/>
                  </a:lnTo>
                  <a:lnTo>
                    <a:pt x="615" y="3076"/>
                  </a:lnTo>
                  <a:lnTo>
                    <a:pt x="610" y="3086"/>
                  </a:lnTo>
                  <a:lnTo>
                    <a:pt x="607" y="3096"/>
                  </a:lnTo>
                  <a:lnTo>
                    <a:pt x="608" y="3104"/>
                  </a:lnTo>
                  <a:lnTo>
                    <a:pt x="610" y="3116"/>
                  </a:lnTo>
                  <a:lnTo>
                    <a:pt x="611" y="3127"/>
                  </a:lnTo>
                  <a:lnTo>
                    <a:pt x="612" y="3137"/>
                  </a:lnTo>
                  <a:lnTo>
                    <a:pt x="614" y="3145"/>
                  </a:lnTo>
                  <a:lnTo>
                    <a:pt x="619" y="3149"/>
                  </a:lnTo>
                  <a:lnTo>
                    <a:pt x="625" y="3150"/>
                  </a:lnTo>
                  <a:lnTo>
                    <a:pt x="635" y="3149"/>
                  </a:lnTo>
                  <a:lnTo>
                    <a:pt x="645" y="3146"/>
                  </a:lnTo>
                  <a:lnTo>
                    <a:pt x="654" y="3142"/>
                  </a:lnTo>
                  <a:lnTo>
                    <a:pt x="660" y="3139"/>
                  </a:lnTo>
                  <a:lnTo>
                    <a:pt x="662" y="3138"/>
                  </a:lnTo>
                  <a:lnTo>
                    <a:pt x="660" y="3139"/>
                  </a:lnTo>
                  <a:lnTo>
                    <a:pt x="655" y="3145"/>
                  </a:lnTo>
                  <a:lnTo>
                    <a:pt x="646" y="3155"/>
                  </a:lnTo>
                  <a:lnTo>
                    <a:pt x="634" y="3169"/>
                  </a:lnTo>
                  <a:lnTo>
                    <a:pt x="621" y="3190"/>
                  </a:lnTo>
                  <a:lnTo>
                    <a:pt x="613" y="3206"/>
                  </a:lnTo>
                  <a:lnTo>
                    <a:pt x="609" y="3223"/>
                  </a:lnTo>
                  <a:lnTo>
                    <a:pt x="604" y="3238"/>
                  </a:lnTo>
                  <a:lnTo>
                    <a:pt x="601" y="3252"/>
                  </a:lnTo>
                  <a:lnTo>
                    <a:pt x="597" y="3264"/>
                  </a:lnTo>
                  <a:lnTo>
                    <a:pt x="588" y="3276"/>
                  </a:lnTo>
                  <a:lnTo>
                    <a:pt x="576" y="3286"/>
                  </a:lnTo>
                  <a:lnTo>
                    <a:pt x="551" y="3301"/>
                  </a:lnTo>
                  <a:lnTo>
                    <a:pt x="529" y="3315"/>
                  </a:lnTo>
                  <a:lnTo>
                    <a:pt x="511" y="3328"/>
                  </a:lnTo>
                  <a:lnTo>
                    <a:pt x="498" y="3340"/>
                  </a:lnTo>
                  <a:lnTo>
                    <a:pt x="491" y="3346"/>
                  </a:lnTo>
                  <a:lnTo>
                    <a:pt x="481" y="3350"/>
                  </a:lnTo>
                  <a:lnTo>
                    <a:pt x="469" y="3351"/>
                  </a:lnTo>
                  <a:lnTo>
                    <a:pt x="458" y="3351"/>
                  </a:lnTo>
                  <a:lnTo>
                    <a:pt x="446" y="3352"/>
                  </a:lnTo>
                  <a:lnTo>
                    <a:pt x="436" y="3354"/>
                  </a:lnTo>
                  <a:lnTo>
                    <a:pt x="427" y="3358"/>
                  </a:lnTo>
                  <a:lnTo>
                    <a:pt x="415" y="3368"/>
                  </a:lnTo>
                  <a:lnTo>
                    <a:pt x="402" y="3380"/>
                  </a:lnTo>
                  <a:lnTo>
                    <a:pt x="390" y="3391"/>
                  </a:lnTo>
                  <a:lnTo>
                    <a:pt x="379" y="3399"/>
                  </a:lnTo>
                  <a:lnTo>
                    <a:pt x="369" y="3401"/>
                  </a:lnTo>
                  <a:lnTo>
                    <a:pt x="357" y="3402"/>
                  </a:lnTo>
                  <a:lnTo>
                    <a:pt x="343" y="3401"/>
                  </a:lnTo>
                  <a:lnTo>
                    <a:pt x="330" y="3400"/>
                  </a:lnTo>
                  <a:lnTo>
                    <a:pt x="319" y="3401"/>
                  </a:lnTo>
                  <a:lnTo>
                    <a:pt x="313" y="3403"/>
                  </a:lnTo>
                  <a:lnTo>
                    <a:pt x="310" y="3409"/>
                  </a:lnTo>
                  <a:lnTo>
                    <a:pt x="308" y="3416"/>
                  </a:lnTo>
                  <a:lnTo>
                    <a:pt x="306" y="3425"/>
                  </a:lnTo>
                  <a:lnTo>
                    <a:pt x="303" y="3434"/>
                  </a:lnTo>
                  <a:lnTo>
                    <a:pt x="299" y="3442"/>
                  </a:lnTo>
                  <a:lnTo>
                    <a:pt x="291" y="3447"/>
                  </a:lnTo>
                  <a:lnTo>
                    <a:pt x="280" y="3451"/>
                  </a:lnTo>
                  <a:lnTo>
                    <a:pt x="267" y="3455"/>
                  </a:lnTo>
                  <a:lnTo>
                    <a:pt x="255" y="3457"/>
                  </a:lnTo>
                  <a:lnTo>
                    <a:pt x="244" y="3460"/>
                  </a:lnTo>
                  <a:lnTo>
                    <a:pt x="237" y="3464"/>
                  </a:lnTo>
                  <a:lnTo>
                    <a:pt x="234" y="3470"/>
                  </a:lnTo>
                  <a:lnTo>
                    <a:pt x="237" y="3474"/>
                  </a:lnTo>
                  <a:lnTo>
                    <a:pt x="242" y="3477"/>
                  </a:lnTo>
                  <a:lnTo>
                    <a:pt x="251" y="3478"/>
                  </a:lnTo>
                  <a:lnTo>
                    <a:pt x="260" y="3479"/>
                  </a:lnTo>
                  <a:lnTo>
                    <a:pt x="269" y="3481"/>
                  </a:lnTo>
                  <a:lnTo>
                    <a:pt x="278" y="3484"/>
                  </a:lnTo>
                  <a:lnTo>
                    <a:pt x="285" y="3491"/>
                  </a:lnTo>
                  <a:lnTo>
                    <a:pt x="291" y="3501"/>
                  </a:lnTo>
                  <a:lnTo>
                    <a:pt x="296" y="3510"/>
                  </a:lnTo>
                  <a:lnTo>
                    <a:pt x="299" y="3519"/>
                  </a:lnTo>
                  <a:lnTo>
                    <a:pt x="300" y="3528"/>
                  </a:lnTo>
                  <a:lnTo>
                    <a:pt x="297" y="3537"/>
                  </a:lnTo>
                  <a:lnTo>
                    <a:pt x="290" y="3543"/>
                  </a:lnTo>
                  <a:lnTo>
                    <a:pt x="280" y="3550"/>
                  </a:lnTo>
                  <a:lnTo>
                    <a:pt x="272" y="3556"/>
                  </a:lnTo>
                  <a:lnTo>
                    <a:pt x="266" y="3562"/>
                  </a:lnTo>
                  <a:lnTo>
                    <a:pt x="262" y="3567"/>
                  </a:lnTo>
                  <a:lnTo>
                    <a:pt x="262" y="3572"/>
                  </a:lnTo>
                  <a:lnTo>
                    <a:pt x="266" y="3575"/>
                  </a:lnTo>
                  <a:lnTo>
                    <a:pt x="277" y="3576"/>
                  </a:lnTo>
                  <a:lnTo>
                    <a:pt x="290" y="3574"/>
                  </a:lnTo>
                  <a:lnTo>
                    <a:pt x="303" y="3571"/>
                  </a:lnTo>
                  <a:lnTo>
                    <a:pt x="319" y="3568"/>
                  </a:lnTo>
                  <a:lnTo>
                    <a:pt x="331" y="3567"/>
                  </a:lnTo>
                  <a:lnTo>
                    <a:pt x="343" y="3566"/>
                  </a:lnTo>
                  <a:lnTo>
                    <a:pt x="353" y="3565"/>
                  </a:lnTo>
                  <a:lnTo>
                    <a:pt x="359" y="3562"/>
                  </a:lnTo>
                  <a:lnTo>
                    <a:pt x="362" y="3559"/>
                  </a:lnTo>
                  <a:lnTo>
                    <a:pt x="360" y="3558"/>
                  </a:lnTo>
                  <a:lnTo>
                    <a:pt x="355" y="3559"/>
                  </a:lnTo>
                  <a:lnTo>
                    <a:pt x="347" y="3563"/>
                  </a:lnTo>
                  <a:lnTo>
                    <a:pt x="338" y="3568"/>
                  </a:lnTo>
                  <a:lnTo>
                    <a:pt x="331" y="3576"/>
                  </a:lnTo>
                  <a:lnTo>
                    <a:pt x="324" y="3583"/>
                  </a:lnTo>
                  <a:lnTo>
                    <a:pt x="320" y="3590"/>
                  </a:lnTo>
                  <a:lnTo>
                    <a:pt x="321" y="3596"/>
                  </a:lnTo>
                  <a:lnTo>
                    <a:pt x="327" y="3605"/>
                  </a:lnTo>
                  <a:lnTo>
                    <a:pt x="335" y="3612"/>
                  </a:lnTo>
                  <a:lnTo>
                    <a:pt x="343" y="3618"/>
                  </a:lnTo>
                  <a:lnTo>
                    <a:pt x="353" y="3619"/>
                  </a:lnTo>
                  <a:lnTo>
                    <a:pt x="364" y="3614"/>
                  </a:lnTo>
                  <a:lnTo>
                    <a:pt x="380" y="3608"/>
                  </a:lnTo>
                  <a:lnTo>
                    <a:pt x="398" y="3602"/>
                  </a:lnTo>
                  <a:lnTo>
                    <a:pt x="413" y="3599"/>
                  </a:lnTo>
                  <a:lnTo>
                    <a:pt x="424" y="3598"/>
                  </a:lnTo>
                  <a:lnTo>
                    <a:pt x="427" y="3597"/>
                  </a:lnTo>
                  <a:lnTo>
                    <a:pt x="429" y="3591"/>
                  </a:lnTo>
                  <a:lnTo>
                    <a:pt x="430" y="3585"/>
                  </a:lnTo>
                  <a:lnTo>
                    <a:pt x="433" y="3577"/>
                  </a:lnTo>
                  <a:lnTo>
                    <a:pt x="438" y="3570"/>
                  </a:lnTo>
                  <a:lnTo>
                    <a:pt x="449" y="3563"/>
                  </a:lnTo>
                  <a:lnTo>
                    <a:pt x="462" y="3559"/>
                  </a:lnTo>
                  <a:lnTo>
                    <a:pt x="476" y="3555"/>
                  </a:lnTo>
                  <a:lnTo>
                    <a:pt x="491" y="3554"/>
                  </a:lnTo>
                  <a:lnTo>
                    <a:pt x="503" y="3552"/>
                  </a:lnTo>
                  <a:lnTo>
                    <a:pt x="515" y="3550"/>
                  </a:lnTo>
                  <a:lnTo>
                    <a:pt x="522" y="3545"/>
                  </a:lnTo>
                  <a:lnTo>
                    <a:pt x="528" y="3543"/>
                  </a:lnTo>
                  <a:lnTo>
                    <a:pt x="530" y="3544"/>
                  </a:lnTo>
                  <a:lnTo>
                    <a:pt x="531" y="3549"/>
                  </a:lnTo>
                  <a:lnTo>
                    <a:pt x="532" y="3554"/>
                  </a:lnTo>
                  <a:lnTo>
                    <a:pt x="533" y="3561"/>
                  </a:lnTo>
                  <a:lnTo>
                    <a:pt x="538" y="3567"/>
                  </a:lnTo>
                  <a:lnTo>
                    <a:pt x="545" y="3572"/>
                  </a:lnTo>
                  <a:lnTo>
                    <a:pt x="560" y="3577"/>
                  </a:lnTo>
                  <a:lnTo>
                    <a:pt x="573" y="3581"/>
                  </a:lnTo>
                  <a:lnTo>
                    <a:pt x="585" y="3582"/>
                  </a:lnTo>
                  <a:lnTo>
                    <a:pt x="598" y="3582"/>
                  </a:lnTo>
                  <a:lnTo>
                    <a:pt x="608" y="3582"/>
                  </a:lnTo>
                  <a:lnTo>
                    <a:pt x="618" y="3583"/>
                  </a:lnTo>
                  <a:lnTo>
                    <a:pt x="626" y="3585"/>
                  </a:lnTo>
                  <a:lnTo>
                    <a:pt x="632" y="3588"/>
                  </a:lnTo>
                  <a:lnTo>
                    <a:pt x="633" y="3593"/>
                  </a:lnTo>
                  <a:lnTo>
                    <a:pt x="627" y="3597"/>
                  </a:lnTo>
                  <a:lnTo>
                    <a:pt x="620" y="3601"/>
                  </a:lnTo>
                  <a:lnTo>
                    <a:pt x="608" y="3607"/>
                  </a:lnTo>
                  <a:lnTo>
                    <a:pt x="596" y="3612"/>
                  </a:lnTo>
                  <a:lnTo>
                    <a:pt x="584" y="3618"/>
                  </a:lnTo>
                  <a:lnTo>
                    <a:pt x="573" y="3624"/>
                  </a:lnTo>
                  <a:lnTo>
                    <a:pt x="565" y="3630"/>
                  </a:lnTo>
                  <a:lnTo>
                    <a:pt x="562" y="3636"/>
                  </a:lnTo>
                  <a:lnTo>
                    <a:pt x="565" y="3642"/>
                  </a:lnTo>
                  <a:lnTo>
                    <a:pt x="576" y="3649"/>
                  </a:lnTo>
                  <a:lnTo>
                    <a:pt x="589" y="3653"/>
                  </a:lnTo>
                  <a:lnTo>
                    <a:pt x="606" y="3652"/>
                  </a:lnTo>
                  <a:lnTo>
                    <a:pt x="626" y="3649"/>
                  </a:lnTo>
                  <a:lnTo>
                    <a:pt x="638" y="3646"/>
                  </a:lnTo>
                  <a:lnTo>
                    <a:pt x="646" y="3643"/>
                  </a:lnTo>
                  <a:lnTo>
                    <a:pt x="651" y="3639"/>
                  </a:lnTo>
                  <a:lnTo>
                    <a:pt x="656" y="3632"/>
                  </a:lnTo>
                  <a:lnTo>
                    <a:pt x="661" y="3625"/>
                  </a:lnTo>
                  <a:lnTo>
                    <a:pt x="669" y="3618"/>
                  </a:lnTo>
                  <a:lnTo>
                    <a:pt x="681" y="3610"/>
                  </a:lnTo>
                  <a:lnTo>
                    <a:pt x="692" y="3608"/>
                  </a:lnTo>
                  <a:lnTo>
                    <a:pt x="703" y="3610"/>
                  </a:lnTo>
                  <a:lnTo>
                    <a:pt x="712" y="3618"/>
                  </a:lnTo>
                  <a:lnTo>
                    <a:pt x="717" y="3630"/>
                  </a:lnTo>
                  <a:lnTo>
                    <a:pt x="722" y="3644"/>
                  </a:lnTo>
                  <a:lnTo>
                    <a:pt x="724" y="3656"/>
                  </a:lnTo>
                  <a:lnTo>
                    <a:pt x="727" y="3668"/>
                  </a:lnTo>
                  <a:lnTo>
                    <a:pt x="734" y="3679"/>
                  </a:lnTo>
                  <a:lnTo>
                    <a:pt x="746" y="3688"/>
                  </a:lnTo>
                  <a:lnTo>
                    <a:pt x="765" y="3700"/>
                  </a:lnTo>
                  <a:lnTo>
                    <a:pt x="788" y="3712"/>
                  </a:lnTo>
                  <a:lnTo>
                    <a:pt x="812" y="3723"/>
                  </a:lnTo>
                  <a:lnTo>
                    <a:pt x="838" y="3729"/>
                  </a:lnTo>
                  <a:lnTo>
                    <a:pt x="852" y="3732"/>
                  </a:lnTo>
                  <a:lnTo>
                    <a:pt x="867" y="3733"/>
                  </a:lnTo>
                  <a:lnTo>
                    <a:pt x="881" y="3733"/>
                  </a:lnTo>
                  <a:lnTo>
                    <a:pt x="895" y="3730"/>
                  </a:lnTo>
                  <a:lnTo>
                    <a:pt x="905" y="3727"/>
                  </a:lnTo>
                  <a:lnTo>
                    <a:pt x="914" y="3722"/>
                  </a:lnTo>
                  <a:lnTo>
                    <a:pt x="920" y="3712"/>
                  </a:lnTo>
                  <a:lnTo>
                    <a:pt x="926" y="3698"/>
                  </a:lnTo>
                  <a:lnTo>
                    <a:pt x="935" y="3682"/>
                  </a:lnTo>
                  <a:lnTo>
                    <a:pt x="945" y="3667"/>
                  </a:lnTo>
                  <a:lnTo>
                    <a:pt x="957" y="3655"/>
                  </a:lnTo>
                  <a:lnTo>
                    <a:pt x="971" y="3645"/>
                  </a:lnTo>
                  <a:lnTo>
                    <a:pt x="983" y="3642"/>
                  </a:lnTo>
                  <a:lnTo>
                    <a:pt x="994" y="3642"/>
                  </a:lnTo>
                  <a:lnTo>
                    <a:pt x="1005" y="3643"/>
                  </a:lnTo>
                  <a:lnTo>
                    <a:pt x="1016" y="3644"/>
                  </a:lnTo>
                  <a:lnTo>
                    <a:pt x="1027" y="3643"/>
                  </a:lnTo>
                  <a:lnTo>
                    <a:pt x="1040" y="3639"/>
                  </a:lnTo>
                  <a:lnTo>
                    <a:pt x="1049" y="3632"/>
                  </a:lnTo>
                  <a:lnTo>
                    <a:pt x="1060" y="3623"/>
                  </a:lnTo>
                  <a:lnTo>
                    <a:pt x="1071" y="3614"/>
                  </a:lnTo>
                  <a:lnTo>
                    <a:pt x="1081" y="3605"/>
                  </a:lnTo>
                  <a:lnTo>
                    <a:pt x="1092" y="3595"/>
                  </a:lnTo>
                  <a:lnTo>
                    <a:pt x="1100" y="3586"/>
                  </a:lnTo>
                  <a:lnTo>
                    <a:pt x="1107" y="3578"/>
                  </a:lnTo>
                  <a:lnTo>
                    <a:pt x="1111" y="3574"/>
                  </a:lnTo>
                  <a:lnTo>
                    <a:pt x="1113" y="3572"/>
                  </a:lnTo>
                  <a:lnTo>
                    <a:pt x="1111" y="3574"/>
                  </a:lnTo>
                  <a:lnTo>
                    <a:pt x="1108" y="3579"/>
                  </a:lnTo>
                  <a:lnTo>
                    <a:pt x="1102" y="3587"/>
                  </a:lnTo>
                  <a:lnTo>
                    <a:pt x="1097" y="3597"/>
                  </a:lnTo>
                  <a:lnTo>
                    <a:pt x="1089" y="3608"/>
                  </a:lnTo>
                  <a:lnTo>
                    <a:pt x="1084" y="3618"/>
                  </a:lnTo>
                  <a:lnTo>
                    <a:pt x="1077" y="3628"/>
                  </a:lnTo>
                  <a:lnTo>
                    <a:pt x="1073" y="3636"/>
                  </a:lnTo>
                  <a:lnTo>
                    <a:pt x="1066" y="3646"/>
                  </a:lnTo>
                  <a:lnTo>
                    <a:pt x="1055" y="3657"/>
                  </a:lnTo>
                  <a:lnTo>
                    <a:pt x="1043" y="3667"/>
                  </a:lnTo>
                  <a:lnTo>
                    <a:pt x="1031" y="3677"/>
                  </a:lnTo>
                  <a:lnTo>
                    <a:pt x="1021" y="3686"/>
                  </a:lnTo>
                  <a:lnTo>
                    <a:pt x="1014" y="3693"/>
                  </a:lnTo>
                  <a:lnTo>
                    <a:pt x="1007" y="3700"/>
                  </a:lnTo>
                  <a:lnTo>
                    <a:pt x="999" y="3709"/>
                  </a:lnTo>
                  <a:lnTo>
                    <a:pt x="991" y="3718"/>
                  </a:lnTo>
                  <a:lnTo>
                    <a:pt x="983" y="3730"/>
                  </a:lnTo>
                  <a:lnTo>
                    <a:pt x="978" y="3745"/>
                  </a:lnTo>
                  <a:lnTo>
                    <a:pt x="977" y="3761"/>
                  </a:lnTo>
                  <a:lnTo>
                    <a:pt x="977" y="3781"/>
                  </a:lnTo>
                  <a:lnTo>
                    <a:pt x="974" y="3796"/>
                  </a:lnTo>
                  <a:lnTo>
                    <a:pt x="972" y="3807"/>
                  </a:lnTo>
                  <a:lnTo>
                    <a:pt x="969" y="3814"/>
                  </a:lnTo>
                  <a:lnTo>
                    <a:pt x="968" y="3816"/>
                  </a:lnTo>
                  <a:lnTo>
                    <a:pt x="966" y="3816"/>
                  </a:lnTo>
                  <a:lnTo>
                    <a:pt x="957" y="3816"/>
                  </a:lnTo>
                  <a:lnTo>
                    <a:pt x="945" y="3815"/>
                  </a:lnTo>
                  <a:lnTo>
                    <a:pt x="932" y="3816"/>
                  </a:lnTo>
                  <a:lnTo>
                    <a:pt x="917" y="3819"/>
                  </a:lnTo>
                  <a:lnTo>
                    <a:pt x="907" y="3824"/>
                  </a:lnTo>
                  <a:lnTo>
                    <a:pt x="896" y="3831"/>
                  </a:lnTo>
                  <a:lnTo>
                    <a:pt x="886" y="3837"/>
                  </a:lnTo>
                  <a:lnTo>
                    <a:pt x="878" y="3840"/>
                  </a:lnTo>
                  <a:lnTo>
                    <a:pt x="868" y="3840"/>
                  </a:lnTo>
                  <a:lnTo>
                    <a:pt x="858" y="3836"/>
                  </a:lnTo>
                  <a:lnTo>
                    <a:pt x="845" y="3830"/>
                  </a:lnTo>
                  <a:lnTo>
                    <a:pt x="830" y="3824"/>
                  </a:lnTo>
                  <a:lnTo>
                    <a:pt x="812" y="3817"/>
                  </a:lnTo>
                  <a:lnTo>
                    <a:pt x="794" y="3813"/>
                  </a:lnTo>
                  <a:lnTo>
                    <a:pt x="776" y="3809"/>
                  </a:lnTo>
                  <a:lnTo>
                    <a:pt x="761" y="3810"/>
                  </a:lnTo>
                  <a:lnTo>
                    <a:pt x="750" y="3810"/>
                  </a:lnTo>
                  <a:lnTo>
                    <a:pt x="735" y="3810"/>
                  </a:lnTo>
                  <a:lnTo>
                    <a:pt x="719" y="3810"/>
                  </a:lnTo>
                  <a:lnTo>
                    <a:pt x="702" y="3810"/>
                  </a:lnTo>
                  <a:lnTo>
                    <a:pt x="687" y="3810"/>
                  </a:lnTo>
                  <a:lnTo>
                    <a:pt x="672" y="3811"/>
                  </a:lnTo>
                  <a:lnTo>
                    <a:pt x="661" y="3814"/>
                  </a:lnTo>
                  <a:lnTo>
                    <a:pt x="655" y="3818"/>
                  </a:lnTo>
                  <a:lnTo>
                    <a:pt x="647" y="3822"/>
                  </a:lnTo>
                  <a:lnTo>
                    <a:pt x="637" y="3824"/>
                  </a:lnTo>
                  <a:lnTo>
                    <a:pt x="625" y="3824"/>
                  </a:lnTo>
                  <a:lnTo>
                    <a:pt x="612" y="3822"/>
                  </a:lnTo>
                  <a:lnTo>
                    <a:pt x="599" y="3822"/>
                  </a:lnTo>
                  <a:lnTo>
                    <a:pt x="588" y="3824"/>
                  </a:lnTo>
                  <a:lnTo>
                    <a:pt x="579" y="3829"/>
                  </a:lnTo>
                  <a:lnTo>
                    <a:pt x="574" y="3838"/>
                  </a:lnTo>
                  <a:lnTo>
                    <a:pt x="573" y="3846"/>
                  </a:lnTo>
                  <a:lnTo>
                    <a:pt x="575" y="3855"/>
                  </a:lnTo>
                  <a:lnTo>
                    <a:pt x="577" y="3865"/>
                  </a:lnTo>
                  <a:lnTo>
                    <a:pt x="579" y="3874"/>
                  </a:lnTo>
                  <a:lnTo>
                    <a:pt x="579" y="3884"/>
                  </a:lnTo>
                  <a:lnTo>
                    <a:pt x="575" y="3896"/>
                  </a:lnTo>
                  <a:lnTo>
                    <a:pt x="567" y="3907"/>
                  </a:lnTo>
                  <a:lnTo>
                    <a:pt x="558" y="3917"/>
                  </a:lnTo>
                  <a:lnTo>
                    <a:pt x="551" y="3923"/>
                  </a:lnTo>
                  <a:lnTo>
                    <a:pt x="545" y="3926"/>
                  </a:lnTo>
                  <a:lnTo>
                    <a:pt x="541" y="3926"/>
                  </a:lnTo>
                  <a:lnTo>
                    <a:pt x="534" y="3925"/>
                  </a:lnTo>
                  <a:lnTo>
                    <a:pt x="526" y="3922"/>
                  </a:lnTo>
                  <a:lnTo>
                    <a:pt x="516" y="3920"/>
                  </a:lnTo>
                  <a:lnTo>
                    <a:pt x="505" y="3917"/>
                  </a:lnTo>
                  <a:lnTo>
                    <a:pt x="495" y="3915"/>
                  </a:lnTo>
                  <a:lnTo>
                    <a:pt x="487" y="3915"/>
                  </a:lnTo>
                  <a:lnTo>
                    <a:pt x="481" y="3918"/>
                  </a:lnTo>
                  <a:lnTo>
                    <a:pt x="477" y="3923"/>
                  </a:lnTo>
                  <a:lnTo>
                    <a:pt x="476" y="3934"/>
                  </a:lnTo>
                  <a:lnTo>
                    <a:pt x="475" y="3948"/>
                  </a:lnTo>
                  <a:lnTo>
                    <a:pt x="476" y="3965"/>
                  </a:lnTo>
                  <a:lnTo>
                    <a:pt x="476" y="3982"/>
                  </a:lnTo>
                  <a:lnTo>
                    <a:pt x="476" y="3999"/>
                  </a:lnTo>
                  <a:lnTo>
                    <a:pt x="476" y="4014"/>
                  </a:lnTo>
                  <a:lnTo>
                    <a:pt x="475" y="4026"/>
                  </a:lnTo>
                  <a:lnTo>
                    <a:pt x="473" y="4034"/>
                  </a:lnTo>
                  <a:lnTo>
                    <a:pt x="465" y="4041"/>
                  </a:lnTo>
                  <a:lnTo>
                    <a:pt x="454" y="4051"/>
                  </a:lnTo>
                  <a:lnTo>
                    <a:pt x="441" y="4062"/>
                  </a:lnTo>
                  <a:lnTo>
                    <a:pt x="428" y="4073"/>
                  </a:lnTo>
                  <a:lnTo>
                    <a:pt x="417" y="4086"/>
                  </a:lnTo>
                  <a:lnTo>
                    <a:pt x="412" y="4096"/>
                  </a:lnTo>
                  <a:lnTo>
                    <a:pt x="410" y="4106"/>
                  </a:lnTo>
                  <a:lnTo>
                    <a:pt x="410" y="4117"/>
                  </a:lnTo>
                  <a:lnTo>
                    <a:pt x="411" y="4126"/>
                  </a:lnTo>
                  <a:lnTo>
                    <a:pt x="411" y="4133"/>
                  </a:lnTo>
                  <a:lnTo>
                    <a:pt x="410" y="4140"/>
                  </a:lnTo>
                  <a:lnTo>
                    <a:pt x="405" y="4144"/>
                  </a:lnTo>
                  <a:lnTo>
                    <a:pt x="396" y="4145"/>
                  </a:lnTo>
                  <a:lnTo>
                    <a:pt x="388" y="4144"/>
                  </a:lnTo>
                  <a:lnTo>
                    <a:pt x="378" y="4142"/>
                  </a:lnTo>
                  <a:lnTo>
                    <a:pt x="368" y="4141"/>
                  </a:lnTo>
                  <a:lnTo>
                    <a:pt x="358" y="4142"/>
                  </a:lnTo>
                  <a:lnTo>
                    <a:pt x="350" y="4149"/>
                  </a:lnTo>
                  <a:lnTo>
                    <a:pt x="337" y="4163"/>
                  </a:lnTo>
                  <a:lnTo>
                    <a:pt x="325" y="4177"/>
                  </a:lnTo>
                  <a:lnTo>
                    <a:pt x="314" y="4191"/>
                  </a:lnTo>
                  <a:lnTo>
                    <a:pt x="309" y="4204"/>
                  </a:lnTo>
                  <a:lnTo>
                    <a:pt x="309" y="4213"/>
                  </a:lnTo>
                  <a:lnTo>
                    <a:pt x="308" y="4221"/>
                  </a:lnTo>
                  <a:lnTo>
                    <a:pt x="306" y="4228"/>
                  </a:lnTo>
                  <a:lnTo>
                    <a:pt x="302" y="4236"/>
                  </a:lnTo>
                  <a:lnTo>
                    <a:pt x="297" y="4242"/>
                  </a:lnTo>
                  <a:lnTo>
                    <a:pt x="286" y="4246"/>
                  </a:lnTo>
                  <a:lnTo>
                    <a:pt x="278" y="4250"/>
                  </a:lnTo>
                  <a:lnTo>
                    <a:pt x="274" y="4256"/>
                  </a:lnTo>
                  <a:lnTo>
                    <a:pt x="272" y="4262"/>
                  </a:lnTo>
                  <a:lnTo>
                    <a:pt x="271" y="4270"/>
                  </a:lnTo>
                  <a:lnTo>
                    <a:pt x="269" y="4278"/>
                  </a:lnTo>
                  <a:lnTo>
                    <a:pt x="266" y="4284"/>
                  </a:lnTo>
                  <a:lnTo>
                    <a:pt x="260" y="4290"/>
                  </a:lnTo>
                  <a:lnTo>
                    <a:pt x="251" y="4294"/>
                  </a:lnTo>
                  <a:lnTo>
                    <a:pt x="241" y="4301"/>
                  </a:lnTo>
                  <a:lnTo>
                    <a:pt x="230" y="4307"/>
                  </a:lnTo>
                  <a:lnTo>
                    <a:pt x="218" y="4315"/>
                  </a:lnTo>
                  <a:lnTo>
                    <a:pt x="207" y="4322"/>
                  </a:lnTo>
                  <a:lnTo>
                    <a:pt x="197" y="4328"/>
                  </a:lnTo>
                  <a:lnTo>
                    <a:pt x="190" y="4334"/>
                  </a:lnTo>
                  <a:lnTo>
                    <a:pt x="184" y="4338"/>
                  </a:lnTo>
                  <a:lnTo>
                    <a:pt x="182" y="4339"/>
                  </a:lnTo>
                  <a:lnTo>
                    <a:pt x="181" y="4337"/>
                  </a:lnTo>
                  <a:lnTo>
                    <a:pt x="175" y="4332"/>
                  </a:lnTo>
                  <a:lnTo>
                    <a:pt x="169" y="4329"/>
                  </a:lnTo>
                  <a:lnTo>
                    <a:pt x="160" y="4327"/>
                  </a:lnTo>
                  <a:lnTo>
                    <a:pt x="150" y="4329"/>
                  </a:lnTo>
                  <a:lnTo>
                    <a:pt x="141" y="4332"/>
                  </a:lnTo>
                  <a:lnTo>
                    <a:pt x="130" y="4337"/>
                  </a:lnTo>
                  <a:lnTo>
                    <a:pt x="119" y="4341"/>
                  </a:lnTo>
                  <a:lnTo>
                    <a:pt x="107" y="4347"/>
                  </a:lnTo>
                  <a:lnTo>
                    <a:pt x="99" y="4353"/>
                  </a:lnTo>
                  <a:lnTo>
                    <a:pt x="92" y="4361"/>
                  </a:lnTo>
                  <a:lnTo>
                    <a:pt x="90" y="4370"/>
                  </a:lnTo>
                  <a:lnTo>
                    <a:pt x="90" y="4376"/>
                  </a:lnTo>
                  <a:lnTo>
                    <a:pt x="87" y="4384"/>
                  </a:lnTo>
                  <a:lnTo>
                    <a:pt x="83" y="4392"/>
                  </a:lnTo>
                  <a:lnTo>
                    <a:pt x="80" y="4398"/>
                  </a:lnTo>
                  <a:lnTo>
                    <a:pt x="78" y="4405"/>
                  </a:lnTo>
                  <a:lnTo>
                    <a:pt x="77" y="4410"/>
                  </a:lnTo>
                  <a:lnTo>
                    <a:pt x="80" y="4415"/>
                  </a:lnTo>
                  <a:lnTo>
                    <a:pt x="88" y="4418"/>
                  </a:lnTo>
                  <a:lnTo>
                    <a:pt x="100" y="4419"/>
                  </a:lnTo>
                  <a:lnTo>
                    <a:pt x="116" y="4418"/>
                  </a:lnTo>
                  <a:lnTo>
                    <a:pt x="129" y="4416"/>
                  </a:lnTo>
                  <a:lnTo>
                    <a:pt x="139" y="4412"/>
                  </a:lnTo>
                  <a:lnTo>
                    <a:pt x="146" y="4407"/>
                  </a:lnTo>
                  <a:lnTo>
                    <a:pt x="150" y="4403"/>
                  </a:lnTo>
                  <a:lnTo>
                    <a:pt x="153" y="4397"/>
                  </a:lnTo>
                  <a:lnTo>
                    <a:pt x="157" y="4392"/>
                  </a:lnTo>
                  <a:lnTo>
                    <a:pt x="162" y="4386"/>
                  </a:lnTo>
                  <a:lnTo>
                    <a:pt x="169" y="4382"/>
                  </a:lnTo>
                  <a:lnTo>
                    <a:pt x="177" y="4381"/>
                  </a:lnTo>
                  <a:lnTo>
                    <a:pt x="186" y="4384"/>
                  </a:lnTo>
                  <a:lnTo>
                    <a:pt x="197" y="4390"/>
                  </a:lnTo>
                  <a:lnTo>
                    <a:pt x="206" y="4400"/>
                  </a:lnTo>
                  <a:lnTo>
                    <a:pt x="215" y="4413"/>
                  </a:lnTo>
                  <a:lnTo>
                    <a:pt x="223" y="4428"/>
                  </a:lnTo>
                  <a:lnTo>
                    <a:pt x="232" y="4441"/>
                  </a:lnTo>
                  <a:lnTo>
                    <a:pt x="242" y="4451"/>
                  </a:lnTo>
                  <a:lnTo>
                    <a:pt x="252" y="4457"/>
                  </a:lnTo>
                  <a:lnTo>
                    <a:pt x="267" y="4459"/>
                  </a:lnTo>
                  <a:lnTo>
                    <a:pt x="281" y="4454"/>
                  </a:lnTo>
                  <a:lnTo>
                    <a:pt x="292" y="4443"/>
                  </a:lnTo>
                  <a:lnTo>
                    <a:pt x="300" y="4427"/>
                  </a:lnTo>
                  <a:lnTo>
                    <a:pt x="301" y="4417"/>
                  </a:lnTo>
                  <a:lnTo>
                    <a:pt x="299" y="4408"/>
                  </a:lnTo>
                  <a:lnTo>
                    <a:pt x="297" y="4400"/>
                  </a:lnTo>
                  <a:lnTo>
                    <a:pt x="295" y="4393"/>
                  </a:lnTo>
                  <a:lnTo>
                    <a:pt x="295" y="4385"/>
                  </a:lnTo>
                  <a:lnTo>
                    <a:pt x="299" y="4377"/>
                  </a:lnTo>
                  <a:lnTo>
                    <a:pt x="311" y="4365"/>
                  </a:lnTo>
                  <a:lnTo>
                    <a:pt x="325" y="4355"/>
                  </a:lnTo>
                  <a:lnTo>
                    <a:pt x="343" y="4346"/>
                  </a:lnTo>
                  <a:lnTo>
                    <a:pt x="362" y="4335"/>
                  </a:lnTo>
                  <a:lnTo>
                    <a:pt x="375" y="4329"/>
                  </a:lnTo>
                  <a:lnTo>
                    <a:pt x="383" y="4328"/>
                  </a:lnTo>
                  <a:lnTo>
                    <a:pt x="391" y="4327"/>
                  </a:lnTo>
                  <a:lnTo>
                    <a:pt x="395" y="4327"/>
                  </a:lnTo>
                  <a:lnTo>
                    <a:pt x="398" y="4326"/>
                  </a:lnTo>
                  <a:lnTo>
                    <a:pt x="400" y="4322"/>
                  </a:lnTo>
                  <a:lnTo>
                    <a:pt x="400" y="4313"/>
                  </a:lnTo>
                  <a:lnTo>
                    <a:pt x="401" y="4303"/>
                  </a:lnTo>
                  <a:lnTo>
                    <a:pt x="402" y="4293"/>
                  </a:lnTo>
                  <a:lnTo>
                    <a:pt x="404" y="4284"/>
                  </a:lnTo>
                  <a:lnTo>
                    <a:pt x="406" y="4278"/>
                  </a:lnTo>
                  <a:lnTo>
                    <a:pt x="412" y="4274"/>
                  </a:lnTo>
                  <a:lnTo>
                    <a:pt x="419" y="4274"/>
                  </a:lnTo>
                  <a:lnTo>
                    <a:pt x="431" y="4276"/>
                  </a:lnTo>
                  <a:lnTo>
                    <a:pt x="447" y="4278"/>
                  </a:lnTo>
                  <a:lnTo>
                    <a:pt x="463" y="4279"/>
                  </a:lnTo>
                  <a:lnTo>
                    <a:pt x="479" y="4280"/>
                  </a:lnTo>
                  <a:lnTo>
                    <a:pt x="492" y="4279"/>
                  </a:lnTo>
                  <a:lnTo>
                    <a:pt x="500" y="4277"/>
                  </a:lnTo>
                  <a:lnTo>
                    <a:pt x="509" y="4272"/>
                  </a:lnTo>
                  <a:lnTo>
                    <a:pt x="520" y="4267"/>
                  </a:lnTo>
                  <a:lnTo>
                    <a:pt x="532" y="4262"/>
                  </a:lnTo>
                  <a:lnTo>
                    <a:pt x="543" y="4259"/>
                  </a:lnTo>
                  <a:lnTo>
                    <a:pt x="554" y="4259"/>
                  </a:lnTo>
                  <a:lnTo>
                    <a:pt x="562" y="4261"/>
                  </a:lnTo>
                  <a:lnTo>
                    <a:pt x="570" y="4267"/>
                  </a:lnTo>
                  <a:lnTo>
                    <a:pt x="583" y="4269"/>
                  </a:lnTo>
                  <a:lnTo>
                    <a:pt x="593" y="4270"/>
                  </a:lnTo>
                  <a:lnTo>
                    <a:pt x="603" y="4268"/>
                  </a:lnTo>
                  <a:lnTo>
                    <a:pt x="611" y="4265"/>
                  </a:lnTo>
                  <a:lnTo>
                    <a:pt x="615" y="4264"/>
                  </a:lnTo>
                  <a:lnTo>
                    <a:pt x="621" y="4268"/>
                  </a:lnTo>
                  <a:lnTo>
                    <a:pt x="625" y="4276"/>
                  </a:lnTo>
                  <a:lnTo>
                    <a:pt x="631" y="4283"/>
                  </a:lnTo>
                  <a:lnTo>
                    <a:pt x="637" y="4291"/>
                  </a:lnTo>
                  <a:lnTo>
                    <a:pt x="644" y="4295"/>
                  </a:lnTo>
                  <a:lnTo>
                    <a:pt x="654" y="4296"/>
                  </a:lnTo>
                  <a:lnTo>
                    <a:pt x="664" y="4294"/>
                  </a:lnTo>
                  <a:lnTo>
                    <a:pt x="671" y="4292"/>
                  </a:lnTo>
                  <a:lnTo>
                    <a:pt x="679" y="4290"/>
                  </a:lnTo>
                  <a:lnTo>
                    <a:pt x="682" y="4290"/>
                  </a:lnTo>
                  <a:lnTo>
                    <a:pt x="685" y="4293"/>
                  </a:lnTo>
                  <a:lnTo>
                    <a:pt x="689" y="4300"/>
                  </a:lnTo>
                  <a:lnTo>
                    <a:pt x="695" y="4308"/>
                  </a:lnTo>
                  <a:lnTo>
                    <a:pt x="702" y="4318"/>
                  </a:lnTo>
                  <a:lnTo>
                    <a:pt x="710" y="4326"/>
                  </a:lnTo>
                  <a:lnTo>
                    <a:pt x="718" y="4332"/>
                  </a:lnTo>
                  <a:lnTo>
                    <a:pt x="728" y="4335"/>
                  </a:lnTo>
                  <a:lnTo>
                    <a:pt x="741" y="4334"/>
                  </a:lnTo>
                  <a:lnTo>
                    <a:pt x="753" y="4332"/>
                  </a:lnTo>
                  <a:lnTo>
                    <a:pt x="763" y="4330"/>
                  </a:lnTo>
                  <a:lnTo>
                    <a:pt x="771" y="4325"/>
                  </a:lnTo>
                  <a:lnTo>
                    <a:pt x="775" y="4316"/>
                  </a:lnTo>
                  <a:lnTo>
                    <a:pt x="776" y="4306"/>
                  </a:lnTo>
                  <a:lnTo>
                    <a:pt x="776" y="4296"/>
                  </a:lnTo>
                  <a:lnTo>
                    <a:pt x="776" y="4288"/>
                  </a:lnTo>
                  <a:lnTo>
                    <a:pt x="780" y="4280"/>
                  </a:lnTo>
                  <a:lnTo>
                    <a:pt x="787" y="4273"/>
                  </a:lnTo>
                  <a:lnTo>
                    <a:pt x="799" y="4265"/>
                  </a:lnTo>
                  <a:lnTo>
                    <a:pt x="809" y="4254"/>
                  </a:lnTo>
                  <a:lnTo>
                    <a:pt x="816" y="4241"/>
                  </a:lnTo>
                  <a:lnTo>
                    <a:pt x="819" y="4225"/>
                  </a:lnTo>
                  <a:lnTo>
                    <a:pt x="819" y="4212"/>
                  </a:lnTo>
                  <a:lnTo>
                    <a:pt x="818" y="4199"/>
                  </a:lnTo>
                  <a:lnTo>
                    <a:pt x="817" y="4186"/>
                  </a:lnTo>
                  <a:lnTo>
                    <a:pt x="818" y="4173"/>
                  </a:lnTo>
                  <a:lnTo>
                    <a:pt x="823" y="4160"/>
                  </a:lnTo>
                  <a:lnTo>
                    <a:pt x="835" y="4146"/>
                  </a:lnTo>
                  <a:lnTo>
                    <a:pt x="850" y="4134"/>
                  </a:lnTo>
                  <a:lnTo>
                    <a:pt x="867" y="4124"/>
                  </a:lnTo>
                  <a:lnTo>
                    <a:pt x="885" y="4115"/>
                  </a:lnTo>
                  <a:lnTo>
                    <a:pt x="904" y="4104"/>
                  </a:lnTo>
                  <a:lnTo>
                    <a:pt x="928" y="4093"/>
                  </a:lnTo>
                  <a:lnTo>
                    <a:pt x="954" y="4083"/>
                  </a:lnTo>
                  <a:lnTo>
                    <a:pt x="980" y="4075"/>
                  </a:lnTo>
                  <a:lnTo>
                    <a:pt x="1000" y="4071"/>
                  </a:lnTo>
                  <a:lnTo>
                    <a:pt x="1018" y="4068"/>
                  </a:lnTo>
                  <a:lnTo>
                    <a:pt x="1035" y="4066"/>
                  </a:lnTo>
                  <a:lnTo>
                    <a:pt x="1048" y="4068"/>
                  </a:lnTo>
                  <a:lnTo>
                    <a:pt x="1058" y="4071"/>
                  </a:lnTo>
                  <a:lnTo>
                    <a:pt x="1071" y="4077"/>
                  </a:lnTo>
                  <a:lnTo>
                    <a:pt x="1087" y="4084"/>
                  </a:lnTo>
                  <a:lnTo>
                    <a:pt x="1106" y="4092"/>
                  </a:lnTo>
                  <a:lnTo>
                    <a:pt x="1120" y="4100"/>
                  </a:lnTo>
                  <a:lnTo>
                    <a:pt x="1127" y="4106"/>
                  </a:lnTo>
                  <a:lnTo>
                    <a:pt x="1130" y="4111"/>
                  </a:lnTo>
                  <a:lnTo>
                    <a:pt x="1133" y="4117"/>
                  </a:lnTo>
                  <a:lnTo>
                    <a:pt x="1135" y="4122"/>
                  </a:lnTo>
                  <a:lnTo>
                    <a:pt x="1140" y="4127"/>
                  </a:lnTo>
                  <a:lnTo>
                    <a:pt x="1146" y="4130"/>
                  </a:lnTo>
                  <a:lnTo>
                    <a:pt x="1156" y="4132"/>
                  </a:lnTo>
                  <a:lnTo>
                    <a:pt x="1166" y="4131"/>
                  </a:lnTo>
                  <a:lnTo>
                    <a:pt x="1175" y="4128"/>
                  </a:lnTo>
                  <a:lnTo>
                    <a:pt x="1181" y="4123"/>
                  </a:lnTo>
                  <a:lnTo>
                    <a:pt x="1187" y="4118"/>
                  </a:lnTo>
                  <a:lnTo>
                    <a:pt x="1193" y="4114"/>
                  </a:lnTo>
                  <a:lnTo>
                    <a:pt x="1200" y="4110"/>
                  </a:lnTo>
                  <a:lnTo>
                    <a:pt x="1208" y="4109"/>
                  </a:lnTo>
                  <a:lnTo>
                    <a:pt x="1225" y="4110"/>
                  </a:lnTo>
                  <a:lnTo>
                    <a:pt x="1244" y="4115"/>
                  </a:lnTo>
                  <a:lnTo>
                    <a:pt x="1263" y="4119"/>
                  </a:lnTo>
                  <a:lnTo>
                    <a:pt x="1282" y="4121"/>
                  </a:lnTo>
                  <a:lnTo>
                    <a:pt x="1296" y="4122"/>
                  </a:lnTo>
                  <a:lnTo>
                    <a:pt x="1308" y="4122"/>
                  </a:lnTo>
                  <a:lnTo>
                    <a:pt x="1318" y="4119"/>
                  </a:lnTo>
                  <a:lnTo>
                    <a:pt x="1326" y="4114"/>
                  </a:lnTo>
                  <a:lnTo>
                    <a:pt x="1330" y="4104"/>
                  </a:lnTo>
                  <a:lnTo>
                    <a:pt x="1330" y="4095"/>
                  </a:lnTo>
                  <a:lnTo>
                    <a:pt x="1328" y="4088"/>
                  </a:lnTo>
                  <a:lnTo>
                    <a:pt x="1326" y="4082"/>
                  </a:lnTo>
                  <a:lnTo>
                    <a:pt x="1324" y="4075"/>
                  </a:lnTo>
                  <a:lnTo>
                    <a:pt x="1326" y="4070"/>
                  </a:lnTo>
                  <a:lnTo>
                    <a:pt x="1332" y="4063"/>
                  </a:lnTo>
                  <a:lnTo>
                    <a:pt x="1348" y="4053"/>
                  </a:lnTo>
                  <a:lnTo>
                    <a:pt x="1364" y="4047"/>
                  </a:lnTo>
                  <a:lnTo>
                    <a:pt x="1383" y="4042"/>
                  </a:lnTo>
                  <a:lnTo>
                    <a:pt x="1402" y="4044"/>
                  </a:lnTo>
                  <a:lnTo>
                    <a:pt x="1418" y="4048"/>
                  </a:lnTo>
                  <a:lnTo>
                    <a:pt x="1432" y="4052"/>
                  </a:lnTo>
                  <a:lnTo>
                    <a:pt x="1443" y="4056"/>
                  </a:lnTo>
                  <a:lnTo>
                    <a:pt x="1453" y="4057"/>
                  </a:lnTo>
                  <a:lnTo>
                    <a:pt x="1459" y="4053"/>
                  </a:lnTo>
                  <a:lnTo>
                    <a:pt x="1464" y="4047"/>
                  </a:lnTo>
                  <a:lnTo>
                    <a:pt x="1469" y="4040"/>
                  </a:lnTo>
                  <a:lnTo>
                    <a:pt x="1476" y="4034"/>
                  </a:lnTo>
                  <a:lnTo>
                    <a:pt x="1485" y="4026"/>
                  </a:lnTo>
                  <a:lnTo>
                    <a:pt x="1498" y="4018"/>
                  </a:lnTo>
                  <a:lnTo>
                    <a:pt x="1514" y="4012"/>
                  </a:lnTo>
                  <a:lnTo>
                    <a:pt x="1528" y="4007"/>
                  </a:lnTo>
                  <a:lnTo>
                    <a:pt x="1538" y="4004"/>
                  </a:lnTo>
                  <a:lnTo>
                    <a:pt x="1545" y="4002"/>
                  </a:lnTo>
                  <a:lnTo>
                    <a:pt x="1551" y="4002"/>
                  </a:lnTo>
                  <a:lnTo>
                    <a:pt x="1557" y="4003"/>
                  </a:lnTo>
                  <a:lnTo>
                    <a:pt x="1564" y="4005"/>
                  </a:lnTo>
                  <a:lnTo>
                    <a:pt x="1575" y="4008"/>
                  </a:lnTo>
                  <a:lnTo>
                    <a:pt x="1592" y="4013"/>
                  </a:lnTo>
                  <a:lnTo>
                    <a:pt x="1605" y="4014"/>
                  </a:lnTo>
                  <a:lnTo>
                    <a:pt x="1616" y="4012"/>
                  </a:lnTo>
                  <a:lnTo>
                    <a:pt x="1626" y="4007"/>
                  </a:lnTo>
                  <a:lnTo>
                    <a:pt x="1633" y="4001"/>
                  </a:lnTo>
                  <a:lnTo>
                    <a:pt x="1641" y="3996"/>
                  </a:lnTo>
                  <a:lnTo>
                    <a:pt x="1649" y="3999"/>
                  </a:lnTo>
                  <a:lnTo>
                    <a:pt x="1656" y="4004"/>
                  </a:lnTo>
                  <a:lnTo>
                    <a:pt x="1666" y="4012"/>
                  </a:lnTo>
                  <a:lnTo>
                    <a:pt x="1677" y="4019"/>
                  </a:lnTo>
                  <a:lnTo>
                    <a:pt x="1687" y="4024"/>
                  </a:lnTo>
                  <a:lnTo>
                    <a:pt x="1697" y="4023"/>
                  </a:lnTo>
                  <a:lnTo>
                    <a:pt x="1706" y="4019"/>
                  </a:lnTo>
                  <a:lnTo>
                    <a:pt x="1716" y="4014"/>
                  </a:lnTo>
                  <a:lnTo>
                    <a:pt x="1726" y="4007"/>
                  </a:lnTo>
                  <a:lnTo>
                    <a:pt x="1740" y="4000"/>
                  </a:lnTo>
                  <a:lnTo>
                    <a:pt x="1754" y="3994"/>
                  </a:lnTo>
                  <a:lnTo>
                    <a:pt x="1767" y="3990"/>
                  </a:lnTo>
                  <a:lnTo>
                    <a:pt x="1780" y="3988"/>
                  </a:lnTo>
                  <a:lnTo>
                    <a:pt x="1795" y="3987"/>
                  </a:lnTo>
                  <a:lnTo>
                    <a:pt x="1813" y="3987"/>
                  </a:lnTo>
                  <a:lnTo>
                    <a:pt x="1835" y="3985"/>
                  </a:lnTo>
                  <a:lnTo>
                    <a:pt x="1852" y="3983"/>
                  </a:lnTo>
                  <a:lnTo>
                    <a:pt x="1868" y="3980"/>
                  </a:lnTo>
                  <a:lnTo>
                    <a:pt x="1880" y="3976"/>
                  </a:lnTo>
                  <a:lnTo>
                    <a:pt x="1890" y="3973"/>
                  </a:lnTo>
                  <a:lnTo>
                    <a:pt x="1899" y="3972"/>
                  </a:lnTo>
                  <a:lnTo>
                    <a:pt x="1911" y="3973"/>
                  </a:lnTo>
                  <a:lnTo>
                    <a:pt x="1925" y="3980"/>
                  </a:lnTo>
                  <a:lnTo>
                    <a:pt x="1944" y="3989"/>
                  </a:lnTo>
                  <a:lnTo>
                    <a:pt x="1963" y="3994"/>
                  </a:lnTo>
                  <a:lnTo>
                    <a:pt x="1980" y="3998"/>
                  </a:lnTo>
                  <a:lnTo>
                    <a:pt x="1998" y="3999"/>
                  </a:lnTo>
                  <a:lnTo>
                    <a:pt x="2015" y="3999"/>
                  </a:lnTo>
                  <a:lnTo>
                    <a:pt x="2028" y="3998"/>
                  </a:lnTo>
                  <a:lnTo>
                    <a:pt x="2036" y="3995"/>
                  </a:lnTo>
                  <a:lnTo>
                    <a:pt x="2044" y="3991"/>
                  </a:lnTo>
                  <a:lnTo>
                    <a:pt x="2050" y="3985"/>
                  </a:lnTo>
                  <a:lnTo>
                    <a:pt x="2059" y="3979"/>
                  </a:lnTo>
                  <a:lnTo>
                    <a:pt x="2072" y="3970"/>
                  </a:lnTo>
                  <a:lnTo>
                    <a:pt x="2093" y="3960"/>
                  </a:lnTo>
                  <a:lnTo>
                    <a:pt x="2113" y="3955"/>
                  </a:lnTo>
                  <a:lnTo>
                    <a:pt x="2129" y="3953"/>
                  </a:lnTo>
                  <a:lnTo>
                    <a:pt x="2144" y="3950"/>
                  </a:lnTo>
                  <a:lnTo>
                    <a:pt x="2152" y="3945"/>
                  </a:lnTo>
                  <a:lnTo>
                    <a:pt x="2159" y="3937"/>
                  </a:lnTo>
                  <a:lnTo>
                    <a:pt x="2167" y="3927"/>
                  </a:lnTo>
                  <a:lnTo>
                    <a:pt x="2176" y="3918"/>
                  </a:lnTo>
                  <a:lnTo>
                    <a:pt x="2188" y="3908"/>
                  </a:lnTo>
                  <a:lnTo>
                    <a:pt x="2204" y="3903"/>
                  </a:lnTo>
                  <a:lnTo>
                    <a:pt x="2218" y="3903"/>
                  </a:lnTo>
                  <a:lnTo>
                    <a:pt x="2232" y="3903"/>
                  </a:lnTo>
                  <a:lnTo>
                    <a:pt x="2245" y="3903"/>
                  </a:lnTo>
                  <a:lnTo>
                    <a:pt x="2257" y="3900"/>
                  </a:lnTo>
                  <a:lnTo>
                    <a:pt x="2262" y="3896"/>
                  </a:lnTo>
                  <a:lnTo>
                    <a:pt x="2263" y="3891"/>
                  </a:lnTo>
                  <a:lnTo>
                    <a:pt x="2262" y="3887"/>
                  </a:lnTo>
                  <a:lnTo>
                    <a:pt x="2260" y="3883"/>
                  </a:lnTo>
                  <a:lnTo>
                    <a:pt x="2258" y="3877"/>
                  </a:lnTo>
                  <a:lnTo>
                    <a:pt x="2258" y="3871"/>
                  </a:lnTo>
                  <a:lnTo>
                    <a:pt x="2263" y="3862"/>
                  </a:lnTo>
                  <a:lnTo>
                    <a:pt x="2272" y="3853"/>
                  </a:lnTo>
                  <a:lnTo>
                    <a:pt x="2289" y="3837"/>
                  </a:lnTo>
                  <a:lnTo>
                    <a:pt x="2304" y="3824"/>
                  </a:lnTo>
                  <a:lnTo>
                    <a:pt x="2319" y="3811"/>
                  </a:lnTo>
                  <a:lnTo>
                    <a:pt x="2334" y="3802"/>
                  </a:lnTo>
                  <a:lnTo>
                    <a:pt x="2350" y="3793"/>
                  </a:lnTo>
                  <a:lnTo>
                    <a:pt x="2364" y="3787"/>
                  </a:lnTo>
                  <a:lnTo>
                    <a:pt x="2373" y="3784"/>
                  </a:lnTo>
                  <a:lnTo>
                    <a:pt x="2380" y="3780"/>
                  </a:lnTo>
                  <a:lnTo>
                    <a:pt x="2383" y="3775"/>
                  </a:lnTo>
                  <a:lnTo>
                    <a:pt x="2384" y="3768"/>
                  </a:lnTo>
                  <a:lnTo>
                    <a:pt x="2384" y="3758"/>
                  </a:lnTo>
                  <a:lnTo>
                    <a:pt x="2383" y="3746"/>
                  </a:lnTo>
                  <a:lnTo>
                    <a:pt x="2379" y="3735"/>
                  </a:lnTo>
                  <a:lnTo>
                    <a:pt x="2375" y="3725"/>
                  </a:lnTo>
                  <a:lnTo>
                    <a:pt x="2372" y="3714"/>
                  </a:lnTo>
                  <a:lnTo>
                    <a:pt x="2373" y="3702"/>
                  </a:lnTo>
                  <a:lnTo>
                    <a:pt x="2379" y="3690"/>
                  </a:lnTo>
                  <a:lnTo>
                    <a:pt x="2388" y="3678"/>
                  </a:lnTo>
                  <a:lnTo>
                    <a:pt x="2393" y="3667"/>
                  </a:lnTo>
                  <a:lnTo>
                    <a:pt x="2398" y="3658"/>
                  </a:lnTo>
                  <a:lnTo>
                    <a:pt x="2399" y="3652"/>
                  </a:lnTo>
                  <a:lnTo>
                    <a:pt x="2395" y="3647"/>
                  </a:lnTo>
                  <a:lnTo>
                    <a:pt x="2389" y="3645"/>
                  </a:lnTo>
                  <a:lnTo>
                    <a:pt x="2379" y="3646"/>
                  </a:lnTo>
                  <a:lnTo>
                    <a:pt x="2366" y="3647"/>
                  </a:lnTo>
                  <a:lnTo>
                    <a:pt x="2349" y="3651"/>
                  </a:lnTo>
                  <a:lnTo>
                    <a:pt x="2332" y="3654"/>
                  </a:lnTo>
                  <a:lnTo>
                    <a:pt x="2313" y="3657"/>
                  </a:lnTo>
                  <a:lnTo>
                    <a:pt x="2297" y="3660"/>
                  </a:lnTo>
                  <a:lnTo>
                    <a:pt x="2283" y="3664"/>
                  </a:lnTo>
                  <a:lnTo>
                    <a:pt x="2272" y="3667"/>
                  </a:lnTo>
                  <a:lnTo>
                    <a:pt x="2257" y="3671"/>
                  </a:lnTo>
                  <a:lnTo>
                    <a:pt x="2242" y="3676"/>
                  </a:lnTo>
                  <a:lnTo>
                    <a:pt x="2227" y="3679"/>
                  </a:lnTo>
                  <a:lnTo>
                    <a:pt x="2211" y="3680"/>
                  </a:lnTo>
                  <a:lnTo>
                    <a:pt x="2198" y="3678"/>
                  </a:lnTo>
                  <a:lnTo>
                    <a:pt x="2184" y="3675"/>
                  </a:lnTo>
                  <a:lnTo>
                    <a:pt x="2169" y="3671"/>
                  </a:lnTo>
                  <a:lnTo>
                    <a:pt x="2154" y="3668"/>
                  </a:lnTo>
                  <a:lnTo>
                    <a:pt x="2142" y="3667"/>
                  </a:lnTo>
                  <a:lnTo>
                    <a:pt x="2134" y="3666"/>
                  </a:lnTo>
                  <a:lnTo>
                    <a:pt x="2132" y="3665"/>
                  </a:lnTo>
                  <a:lnTo>
                    <a:pt x="2132" y="3660"/>
                  </a:lnTo>
                  <a:lnTo>
                    <a:pt x="2134" y="3654"/>
                  </a:lnTo>
                  <a:lnTo>
                    <a:pt x="2138" y="3647"/>
                  </a:lnTo>
                  <a:lnTo>
                    <a:pt x="2144" y="3641"/>
                  </a:lnTo>
                  <a:lnTo>
                    <a:pt x="2150" y="3635"/>
                  </a:lnTo>
                  <a:lnTo>
                    <a:pt x="2152" y="3631"/>
                  </a:lnTo>
                  <a:lnTo>
                    <a:pt x="2149" y="3626"/>
                  </a:lnTo>
                  <a:lnTo>
                    <a:pt x="2142" y="3622"/>
                  </a:lnTo>
                  <a:lnTo>
                    <a:pt x="2133" y="3618"/>
                  </a:lnTo>
                  <a:lnTo>
                    <a:pt x="2123" y="3614"/>
                  </a:lnTo>
                  <a:lnTo>
                    <a:pt x="2114" y="3613"/>
                  </a:lnTo>
                  <a:lnTo>
                    <a:pt x="2107" y="3614"/>
                  </a:lnTo>
                  <a:lnTo>
                    <a:pt x="2102" y="3614"/>
                  </a:lnTo>
                  <a:lnTo>
                    <a:pt x="2098" y="3613"/>
                  </a:lnTo>
                  <a:lnTo>
                    <a:pt x="2094" y="3610"/>
                  </a:lnTo>
                  <a:lnTo>
                    <a:pt x="2094" y="3607"/>
                  </a:lnTo>
                  <a:lnTo>
                    <a:pt x="2098" y="3601"/>
                  </a:lnTo>
                  <a:lnTo>
                    <a:pt x="2105" y="3597"/>
                  </a:lnTo>
                  <a:lnTo>
                    <a:pt x="2118" y="3593"/>
                  </a:lnTo>
                  <a:lnTo>
                    <a:pt x="2132" y="3591"/>
                  </a:lnTo>
                  <a:lnTo>
                    <a:pt x="2144" y="3593"/>
                  </a:lnTo>
                  <a:lnTo>
                    <a:pt x="2154" y="3596"/>
                  </a:lnTo>
                  <a:lnTo>
                    <a:pt x="2163" y="3599"/>
                  </a:lnTo>
                  <a:lnTo>
                    <a:pt x="2172" y="3602"/>
                  </a:lnTo>
                  <a:lnTo>
                    <a:pt x="2180" y="3602"/>
                  </a:lnTo>
                  <a:lnTo>
                    <a:pt x="2187" y="3598"/>
                  </a:lnTo>
                  <a:lnTo>
                    <a:pt x="2195" y="3589"/>
                  </a:lnTo>
                  <a:lnTo>
                    <a:pt x="2205" y="3574"/>
                  </a:lnTo>
                  <a:lnTo>
                    <a:pt x="2214" y="3562"/>
                  </a:lnTo>
                  <a:lnTo>
                    <a:pt x="2221" y="3550"/>
                  </a:lnTo>
                  <a:lnTo>
                    <a:pt x="2227" y="3540"/>
                  </a:lnTo>
                  <a:lnTo>
                    <a:pt x="2228" y="3530"/>
                  </a:lnTo>
                  <a:lnTo>
                    <a:pt x="2223" y="3519"/>
                  </a:lnTo>
                  <a:lnTo>
                    <a:pt x="2217" y="3514"/>
                  </a:lnTo>
                  <a:lnTo>
                    <a:pt x="2208" y="3510"/>
                  </a:lnTo>
                  <a:lnTo>
                    <a:pt x="2197" y="3508"/>
                  </a:lnTo>
                  <a:lnTo>
                    <a:pt x="2185" y="3508"/>
                  </a:lnTo>
                  <a:lnTo>
                    <a:pt x="2174" y="3508"/>
                  </a:lnTo>
                  <a:lnTo>
                    <a:pt x="2164" y="3508"/>
                  </a:lnTo>
                  <a:lnTo>
                    <a:pt x="2157" y="3507"/>
                  </a:lnTo>
                  <a:lnTo>
                    <a:pt x="2152" y="3504"/>
                  </a:lnTo>
                  <a:lnTo>
                    <a:pt x="2152" y="3500"/>
                  </a:lnTo>
                  <a:lnTo>
                    <a:pt x="2157" y="3492"/>
                  </a:lnTo>
                  <a:lnTo>
                    <a:pt x="2163" y="3486"/>
                  </a:lnTo>
                  <a:lnTo>
                    <a:pt x="2171" y="3482"/>
                  </a:lnTo>
                  <a:lnTo>
                    <a:pt x="2181" y="3478"/>
                  </a:lnTo>
                  <a:lnTo>
                    <a:pt x="2194" y="3471"/>
                  </a:lnTo>
                  <a:lnTo>
                    <a:pt x="2208" y="3462"/>
                  </a:lnTo>
                  <a:lnTo>
                    <a:pt x="2219" y="3456"/>
                  </a:lnTo>
                  <a:lnTo>
                    <a:pt x="2229" y="3454"/>
                  </a:lnTo>
                  <a:lnTo>
                    <a:pt x="2237" y="3454"/>
                  </a:lnTo>
                  <a:lnTo>
                    <a:pt x="2242" y="3456"/>
                  </a:lnTo>
                  <a:lnTo>
                    <a:pt x="2249" y="3458"/>
                  </a:lnTo>
                  <a:lnTo>
                    <a:pt x="2254" y="3461"/>
                  </a:lnTo>
                  <a:lnTo>
                    <a:pt x="2261" y="3463"/>
                  </a:lnTo>
                  <a:lnTo>
                    <a:pt x="2267" y="3463"/>
                  </a:lnTo>
                  <a:lnTo>
                    <a:pt x="2275" y="3461"/>
                  </a:lnTo>
                  <a:lnTo>
                    <a:pt x="2285" y="3455"/>
                  </a:lnTo>
                  <a:lnTo>
                    <a:pt x="2295" y="3446"/>
                  </a:lnTo>
                  <a:lnTo>
                    <a:pt x="2304" y="3437"/>
                  </a:lnTo>
                  <a:lnTo>
                    <a:pt x="2313" y="3426"/>
                  </a:lnTo>
                  <a:lnTo>
                    <a:pt x="2321" y="3417"/>
                  </a:lnTo>
                  <a:lnTo>
                    <a:pt x="2325" y="3411"/>
                  </a:lnTo>
                  <a:lnTo>
                    <a:pt x="2326" y="3406"/>
                  </a:lnTo>
                  <a:lnTo>
                    <a:pt x="2324" y="3402"/>
                  </a:lnTo>
                  <a:lnTo>
                    <a:pt x="2320" y="3397"/>
                  </a:lnTo>
                  <a:lnTo>
                    <a:pt x="2317" y="3391"/>
                  </a:lnTo>
                  <a:lnTo>
                    <a:pt x="2314" y="3385"/>
                  </a:lnTo>
                  <a:lnTo>
                    <a:pt x="2314" y="3379"/>
                  </a:lnTo>
                  <a:lnTo>
                    <a:pt x="2320" y="3374"/>
                  </a:lnTo>
                  <a:lnTo>
                    <a:pt x="2327" y="3369"/>
                  </a:lnTo>
                  <a:lnTo>
                    <a:pt x="2335" y="3365"/>
                  </a:lnTo>
                  <a:lnTo>
                    <a:pt x="2343" y="3361"/>
                  </a:lnTo>
                  <a:lnTo>
                    <a:pt x="2350" y="3354"/>
                  </a:lnTo>
                  <a:lnTo>
                    <a:pt x="2359" y="3344"/>
                  </a:lnTo>
                  <a:lnTo>
                    <a:pt x="2367" y="3330"/>
                  </a:lnTo>
                  <a:lnTo>
                    <a:pt x="2373" y="3321"/>
                  </a:lnTo>
                  <a:lnTo>
                    <a:pt x="2379" y="3315"/>
                  </a:lnTo>
                  <a:lnTo>
                    <a:pt x="2385" y="3312"/>
                  </a:lnTo>
                  <a:lnTo>
                    <a:pt x="2392" y="3310"/>
                  </a:lnTo>
                  <a:lnTo>
                    <a:pt x="2399" y="3308"/>
                  </a:lnTo>
                  <a:lnTo>
                    <a:pt x="2404" y="3306"/>
                  </a:lnTo>
                  <a:lnTo>
                    <a:pt x="2408" y="3300"/>
                  </a:lnTo>
                  <a:lnTo>
                    <a:pt x="2413" y="3293"/>
                  </a:lnTo>
                  <a:lnTo>
                    <a:pt x="2415" y="3280"/>
                  </a:lnTo>
                  <a:lnTo>
                    <a:pt x="2417" y="3259"/>
                  </a:lnTo>
                  <a:lnTo>
                    <a:pt x="2419" y="3237"/>
                  </a:lnTo>
                  <a:lnTo>
                    <a:pt x="2420" y="3214"/>
                  </a:lnTo>
                  <a:lnTo>
                    <a:pt x="2422" y="3191"/>
                  </a:lnTo>
                  <a:lnTo>
                    <a:pt x="2423" y="3171"/>
                  </a:lnTo>
                  <a:lnTo>
                    <a:pt x="2426" y="3155"/>
                  </a:lnTo>
                  <a:lnTo>
                    <a:pt x="2430" y="3144"/>
                  </a:lnTo>
                  <a:lnTo>
                    <a:pt x="2438" y="3131"/>
                  </a:lnTo>
                  <a:lnTo>
                    <a:pt x="2443" y="3116"/>
                  </a:lnTo>
                  <a:lnTo>
                    <a:pt x="2448" y="3101"/>
                  </a:lnTo>
                  <a:lnTo>
                    <a:pt x="2448" y="3085"/>
                  </a:lnTo>
                  <a:lnTo>
                    <a:pt x="2443" y="3065"/>
                  </a:lnTo>
                  <a:lnTo>
                    <a:pt x="2440" y="3052"/>
                  </a:lnTo>
                  <a:lnTo>
                    <a:pt x="2439" y="3040"/>
                  </a:lnTo>
                  <a:lnTo>
                    <a:pt x="2441" y="3028"/>
                  </a:lnTo>
                  <a:lnTo>
                    <a:pt x="2442" y="3016"/>
                  </a:lnTo>
                  <a:lnTo>
                    <a:pt x="2443" y="3005"/>
                  </a:lnTo>
                  <a:lnTo>
                    <a:pt x="2440" y="2993"/>
                  </a:lnTo>
                  <a:lnTo>
                    <a:pt x="2433" y="2981"/>
                  </a:lnTo>
                  <a:lnTo>
                    <a:pt x="2423" y="2969"/>
                  </a:lnTo>
                  <a:lnTo>
                    <a:pt x="2411" y="2956"/>
                  </a:lnTo>
                  <a:lnTo>
                    <a:pt x="2396" y="2942"/>
                  </a:lnTo>
                  <a:lnTo>
                    <a:pt x="2382" y="2928"/>
                  </a:lnTo>
                  <a:lnTo>
                    <a:pt x="2367" y="2915"/>
                  </a:lnTo>
                  <a:lnTo>
                    <a:pt x="2354" y="2904"/>
                  </a:lnTo>
                  <a:lnTo>
                    <a:pt x="2342" y="2894"/>
                  </a:lnTo>
                  <a:lnTo>
                    <a:pt x="2333" y="2888"/>
                  </a:lnTo>
                  <a:lnTo>
                    <a:pt x="2324" y="2883"/>
                  </a:lnTo>
                  <a:lnTo>
                    <a:pt x="2310" y="2878"/>
                  </a:lnTo>
                  <a:lnTo>
                    <a:pt x="2292" y="2873"/>
                  </a:lnTo>
                  <a:lnTo>
                    <a:pt x="2272" y="2868"/>
                  </a:lnTo>
                  <a:lnTo>
                    <a:pt x="2250" y="2864"/>
                  </a:lnTo>
                  <a:lnTo>
                    <a:pt x="2227" y="2859"/>
                  </a:lnTo>
                  <a:lnTo>
                    <a:pt x="2206" y="2856"/>
                  </a:lnTo>
                  <a:lnTo>
                    <a:pt x="2186" y="2854"/>
                  </a:lnTo>
                  <a:lnTo>
                    <a:pt x="2170" y="2853"/>
                  </a:lnTo>
                  <a:lnTo>
                    <a:pt x="2158" y="2853"/>
                  </a:lnTo>
                  <a:lnTo>
                    <a:pt x="2144" y="2854"/>
                  </a:lnTo>
                  <a:lnTo>
                    <a:pt x="2126" y="2855"/>
                  </a:lnTo>
                  <a:lnTo>
                    <a:pt x="2107" y="2856"/>
                  </a:lnTo>
                  <a:lnTo>
                    <a:pt x="2090" y="2857"/>
                  </a:lnTo>
                  <a:lnTo>
                    <a:pt x="2073" y="2858"/>
                  </a:lnTo>
                  <a:lnTo>
                    <a:pt x="2059" y="2859"/>
                  </a:lnTo>
                  <a:lnTo>
                    <a:pt x="2049" y="2863"/>
                  </a:lnTo>
                  <a:lnTo>
                    <a:pt x="2042" y="2869"/>
                  </a:lnTo>
                  <a:lnTo>
                    <a:pt x="2034" y="2881"/>
                  </a:lnTo>
                  <a:lnTo>
                    <a:pt x="2026" y="2895"/>
                  </a:lnTo>
                  <a:lnTo>
                    <a:pt x="2020" y="2911"/>
                  </a:lnTo>
                  <a:lnTo>
                    <a:pt x="2014" y="2925"/>
                  </a:lnTo>
                  <a:lnTo>
                    <a:pt x="2011" y="2936"/>
                  </a:lnTo>
                  <a:lnTo>
                    <a:pt x="2007" y="2946"/>
                  </a:lnTo>
                  <a:lnTo>
                    <a:pt x="2001" y="2952"/>
                  </a:lnTo>
                  <a:lnTo>
                    <a:pt x="1992" y="2954"/>
                  </a:lnTo>
                  <a:lnTo>
                    <a:pt x="1980" y="2954"/>
                  </a:lnTo>
                  <a:lnTo>
                    <a:pt x="1968" y="2951"/>
                  </a:lnTo>
                  <a:lnTo>
                    <a:pt x="1959" y="2945"/>
                  </a:lnTo>
                  <a:lnTo>
                    <a:pt x="1949" y="2937"/>
                  </a:lnTo>
                  <a:lnTo>
                    <a:pt x="1940" y="2928"/>
                  </a:lnTo>
                  <a:lnTo>
                    <a:pt x="1931" y="2921"/>
                  </a:lnTo>
                  <a:lnTo>
                    <a:pt x="1920" y="2915"/>
                  </a:lnTo>
                  <a:lnTo>
                    <a:pt x="1909" y="2910"/>
                  </a:lnTo>
                  <a:lnTo>
                    <a:pt x="1899" y="2906"/>
                  </a:lnTo>
                  <a:lnTo>
                    <a:pt x="1893" y="2904"/>
                  </a:lnTo>
                  <a:lnTo>
                    <a:pt x="1890" y="2903"/>
                  </a:lnTo>
                  <a:lnTo>
                    <a:pt x="1892" y="2901"/>
                  </a:lnTo>
                  <a:lnTo>
                    <a:pt x="1895" y="2893"/>
                  </a:lnTo>
                  <a:lnTo>
                    <a:pt x="1902" y="2882"/>
                  </a:lnTo>
                  <a:lnTo>
                    <a:pt x="1910" y="2870"/>
                  </a:lnTo>
                  <a:lnTo>
                    <a:pt x="1920" y="2857"/>
                  </a:lnTo>
                  <a:lnTo>
                    <a:pt x="1932" y="2844"/>
                  </a:lnTo>
                  <a:lnTo>
                    <a:pt x="1944" y="2834"/>
                  </a:lnTo>
                  <a:lnTo>
                    <a:pt x="1955" y="2825"/>
                  </a:lnTo>
                  <a:lnTo>
                    <a:pt x="1966" y="2818"/>
                  </a:lnTo>
                  <a:lnTo>
                    <a:pt x="1975" y="2810"/>
                  </a:lnTo>
                  <a:lnTo>
                    <a:pt x="1983" y="2801"/>
                  </a:lnTo>
                  <a:lnTo>
                    <a:pt x="1987" y="2791"/>
                  </a:lnTo>
                  <a:lnTo>
                    <a:pt x="1988" y="2778"/>
                  </a:lnTo>
                  <a:lnTo>
                    <a:pt x="1986" y="2759"/>
                  </a:lnTo>
                  <a:lnTo>
                    <a:pt x="1980" y="2737"/>
                  </a:lnTo>
                  <a:lnTo>
                    <a:pt x="1972" y="2715"/>
                  </a:lnTo>
                  <a:lnTo>
                    <a:pt x="1963" y="2693"/>
                  </a:lnTo>
                  <a:lnTo>
                    <a:pt x="1952" y="2673"/>
                  </a:lnTo>
                  <a:lnTo>
                    <a:pt x="1939" y="2650"/>
                  </a:lnTo>
                  <a:lnTo>
                    <a:pt x="1925" y="2630"/>
                  </a:lnTo>
                  <a:lnTo>
                    <a:pt x="1910" y="2615"/>
                  </a:lnTo>
                  <a:lnTo>
                    <a:pt x="1897" y="2606"/>
                  </a:lnTo>
                  <a:lnTo>
                    <a:pt x="1886" y="2599"/>
                  </a:lnTo>
                  <a:lnTo>
                    <a:pt x="1874" y="2589"/>
                  </a:lnTo>
                  <a:lnTo>
                    <a:pt x="1861" y="2578"/>
                  </a:lnTo>
                  <a:lnTo>
                    <a:pt x="1849" y="2568"/>
                  </a:lnTo>
                  <a:lnTo>
                    <a:pt x="1837" y="2563"/>
                  </a:lnTo>
                  <a:lnTo>
                    <a:pt x="1824" y="2558"/>
                  </a:lnTo>
                  <a:lnTo>
                    <a:pt x="1812" y="2553"/>
                  </a:lnTo>
                  <a:lnTo>
                    <a:pt x="1801" y="2545"/>
                  </a:lnTo>
                  <a:lnTo>
                    <a:pt x="1790" y="2533"/>
                  </a:lnTo>
                  <a:lnTo>
                    <a:pt x="1782" y="2523"/>
                  </a:lnTo>
                  <a:lnTo>
                    <a:pt x="1775" y="2513"/>
                  </a:lnTo>
                  <a:lnTo>
                    <a:pt x="1767" y="2506"/>
                  </a:lnTo>
                  <a:lnTo>
                    <a:pt x="1760" y="2499"/>
                  </a:lnTo>
                  <a:lnTo>
                    <a:pt x="1755" y="2495"/>
                  </a:lnTo>
                  <a:lnTo>
                    <a:pt x="1754" y="2493"/>
                  </a:lnTo>
                  <a:lnTo>
                    <a:pt x="1756" y="2494"/>
                  </a:lnTo>
                  <a:lnTo>
                    <a:pt x="1764" y="2496"/>
                  </a:lnTo>
                  <a:lnTo>
                    <a:pt x="1775" y="2499"/>
                  </a:lnTo>
                  <a:lnTo>
                    <a:pt x="1787" y="2505"/>
                  </a:lnTo>
                  <a:lnTo>
                    <a:pt x="1800" y="2510"/>
                  </a:lnTo>
                  <a:lnTo>
                    <a:pt x="1813" y="2518"/>
                  </a:lnTo>
                  <a:lnTo>
                    <a:pt x="1823" y="2524"/>
                  </a:lnTo>
                  <a:lnTo>
                    <a:pt x="1830" y="2529"/>
                  </a:lnTo>
                  <a:lnTo>
                    <a:pt x="1837" y="2532"/>
                  </a:lnTo>
                  <a:lnTo>
                    <a:pt x="1844" y="2534"/>
                  </a:lnTo>
                  <a:lnTo>
                    <a:pt x="1851" y="2534"/>
                  </a:lnTo>
                  <a:lnTo>
                    <a:pt x="1863" y="2535"/>
                  </a:lnTo>
                  <a:lnTo>
                    <a:pt x="1878" y="2535"/>
                  </a:lnTo>
                  <a:lnTo>
                    <a:pt x="1888" y="2534"/>
                  </a:lnTo>
                  <a:lnTo>
                    <a:pt x="1896" y="2532"/>
                  </a:lnTo>
                  <a:lnTo>
                    <a:pt x="1899" y="2531"/>
                  </a:lnTo>
                  <a:lnTo>
                    <a:pt x="1902" y="2530"/>
                  </a:lnTo>
                  <a:lnTo>
                    <a:pt x="1899" y="2528"/>
                  </a:lnTo>
                  <a:lnTo>
                    <a:pt x="1895" y="2523"/>
                  </a:lnTo>
                  <a:lnTo>
                    <a:pt x="1888" y="2516"/>
                  </a:lnTo>
                  <a:lnTo>
                    <a:pt x="1881" y="2506"/>
                  </a:lnTo>
                  <a:lnTo>
                    <a:pt x="1872" y="2495"/>
                  </a:lnTo>
                  <a:lnTo>
                    <a:pt x="1863" y="2483"/>
                  </a:lnTo>
                  <a:lnTo>
                    <a:pt x="1855" y="2471"/>
                  </a:lnTo>
                  <a:lnTo>
                    <a:pt x="1848" y="2461"/>
                  </a:lnTo>
                  <a:lnTo>
                    <a:pt x="1843" y="2451"/>
                  </a:lnTo>
                  <a:lnTo>
                    <a:pt x="1836" y="2440"/>
                  </a:lnTo>
                  <a:lnTo>
                    <a:pt x="1825" y="2429"/>
                  </a:lnTo>
                  <a:lnTo>
                    <a:pt x="1813" y="2417"/>
                  </a:lnTo>
                  <a:lnTo>
                    <a:pt x="1802" y="2406"/>
                  </a:lnTo>
                  <a:lnTo>
                    <a:pt x="1792" y="2395"/>
                  </a:lnTo>
                  <a:lnTo>
                    <a:pt x="1786" y="2386"/>
                  </a:lnTo>
                  <a:lnTo>
                    <a:pt x="1784" y="2378"/>
                  </a:lnTo>
                  <a:lnTo>
                    <a:pt x="1784" y="2369"/>
                  </a:lnTo>
                  <a:lnTo>
                    <a:pt x="1783" y="2360"/>
                  </a:lnTo>
                  <a:lnTo>
                    <a:pt x="1780" y="2351"/>
                  </a:lnTo>
                  <a:lnTo>
                    <a:pt x="1779" y="2342"/>
                  </a:lnTo>
                  <a:lnTo>
                    <a:pt x="1779" y="2332"/>
                  </a:lnTo>
                  <a:lnTo>
                    <a:pt x="1784" y="2321"/>
                  </a:lnTo>
                  <a:lnTo>
                    <a:pt x="1792" y="2313"/>
                  </a:lnTo>
                  <a:lnTo>
                    <a:pt x="1800" y="2310"/>
                  </a:lnTo>
                  <a:lnTo>
                    <a:pt x="1807" y="2308"/>
                  </a:lnTo>
                  <a:lnTo>
                    <a:pt x="1813" y="2306"/>
                  </a:lnTo>
                  <a:lnTo>
                    <a:pt x="1817" y="2304"/>
                  </a:lnTo>
                  <a:lnTo>
                    <a:pt x="1818" y="2299"/>
                  </a:lnTo>
                  <a:lnTo>
                    <a:pt x="1815" y="2292"/>
                  </a:lnTo>
                  <a:lnTo>
                    <a:pt x="1809" y="2287"/>
                  </a:lnTo>
                  <a:lnTo>
                    <a:pt x="1798" y="2280"/>
                  </a:lnTo>
                  <a:lnTo>
                    <a:pt x="1787" y="2275"/>
                  </a:lnTo>
                  <a:lnTo>
                    <a:pt x="1776" y="2268"/>
                  </a:lnTo>
                  <a:lnTo>
                    <a:pt x="1767" y="2261"/>
                  </a:lnTo>
                  <a:lnTo>
                    <a:pt x="1764" y="2253"/>
                  </a:lnTo>
                  <a:lnTo>
                    <a:pt x="1760" y="2245"/>
                  </a:lnTo>
                  <a:lnTo>
                    <a:pt x="1755" y="2240"/>
                  </a:lnTo>
                  <a:lnTo>
                    <a:pt x="1747" y="2236"/>
                  </a:lnTo>
                  <a:lnTo>
                    <a:pt x="1737" y="2234"/>
                  </a:lnTo>
                  <a:lnTo>
                    <a:pt x="1730" y="2232"/>
                  </a:lnTo>
                  <a:lnTo>
                    <a:pt x="1723" y="2231"/>
                  </a:lnTo>
                  <a:lnTo>
                    <a:pt x="1720" y="2229"/>
                  </a:lnTo>
                  <a:lnTo>
                    <a:pt x="1719" y="2224"/>
                  </a:lnTo>
                  <a:lnTo>
                    <a:pt x="1716" y="2215"/>
                  </a:lnTo>
                  <a:lnTo>
                    <a:pt x="1712" y="2201"/>
                  </a:lnTo>
                  <a:lnTo>
                    <a:pt x="1707" y="2187"/>
                  </a:lnTo>
                  <a:lnTo>
                    <a:pt x="1701" y="2172"/>
                  </a:lnTo>
                  <a:lnTo>
                    <a:pt x="1695" y="2158"/>
                  </a:lnTo>
                  <a:lnTo>
                    <a:pt x="1688" y="2147"/>
                  </a:lnTo>
                  <a:lnTo>
                    <a:pt x="1678" y="2136"/>
                  </a:lnTo>
                  <a:lnTo>
                    <a:pt x="1667" y="2124"/>
                  </a:lnTo>
                  <a:lnTo>
                    <a:pt x="1654" y="2112"/>
                  </a:lnTo>
                  <a:lnTo>
                    <a:pt x="1641" y="2100"/>
                  </a:lnTo>
                  <a:lnTo>
                    <a:pt x="1628" y="2090"/>
                  </a:lnTo>
                  <a:lnTo>
                    <a:pt x="1615" y="2081"/>
                  </a:lnTo>
                  <a:lnTo>
                    <a:pt x="1604" y="2077"/>
                  </a:lnTo>
                  <a:lnTo>
                    <a:pt x="1591" y="2073"/>
                  </a:lnTo>
                  <a:lnTo>
                    <a:pt x="1575" y="2069"/>
                  </a:lnTo>
                  <a:lnTo>
                    <a:pt x="1558" y="2065"/>
                  </a:lnTo>
                  <a:lnTo>
                    <a:pt x="1543" y="2060"/>
                  </a:lnTo>
                  <a:lnTo>
                    <a:pt x="1529" y="2057"/>
                  </a:lnTo>
                  <a:lnTo>
                    <a:pt x="1522" y="2055"/>
                  </a:lnTo>
                  <a:lnTo>
                    <a:pt x="1514" y="2053"/>
                  </a:lnTo>
                  <a:lnTo>
                    <a:pt x="1505" y="2050"/>
                  </a:lnTo>
                  <a:lnTo>
                    <a:pt x="1497" y="2046"/>
                  </a:lnTo>
                  <a:lnTo>
                    <a:pt x="1488" y="2043"/>
                  </a:lnTo>
                  <a:lnTo>
                    <a:pt x="1482" y="2041"/>
                  </a:lnTo>
                  <a:lnTo>
                    <a:pt x="1480" y="2039"/>
                  </a:lnTo>
                  <a:lnTo>
                    <a:pt x="1479" y="2035"/>
                  </a:lnTo>
                  <a:lnTo>
                    <a:pt x="1478" y="2026"/>
                  </a:lnTo>
                  <a:lnTo>
                    <a:pt x="1475" y="2015"/>
                  </a:lnTo>
                  <a:lnTo>
                    <a:pt x="1470" y="2003"/>
                  </a:lnTo>
                  <a:lnTo>
                    <a:pt x="1464" y="1993"/>
                  </a:lnTo>
                  <a:lnTo>
                    <a:pt x="1457" y="1987"/>
                  </a:lnTo>
                  <a:lnTo>
                    <a:pt x="1451" y="1983"/>
                  </a:lnTo>
                  <a:lnTo>
                    <a:pt x="1445" y="1977"/>
                  </a:lnTo>
                  <a:lnTo>
                    <a:pt x="1441" y="1972"/>
                  </a:lnTo>
                  <a:lnTo>
                    <a:pt x="1437" y="1962"/>
                  </a:lnTo>
                  <a:lnTo>
                    <a:pt x="1436" y="1952"/>
                  </a:lnTo>
                  <a:lnTo>
                    <a:pt x="1434" y="1944"/>
                  </a:lnTo>
                  <a:lnTo>
                    <a:pt x="1431" y="1937"/>
                  </a:lnTo>
                  <a:lnTo>
                    <a:pt x="1428" y="1927"/>
                  </a:lnTo>
                  <a:lnTo>
                    <a:pt x="1422" y="1914"/>
                  </a:lnTo>
                  <a:lnTo>
                    <a:pt x="1417" y="1899"/>
                  </a:lnTo>
                  <a:lnTo>
                    <a:pt x="1413" y="1886"/>
                  </a:lnTo>
                  <a:lnTo>
                    <a:pt x="1409" y="1873"/>
                  </a:lnTo>
                  <a:lnTo>
                    <a:pt x="1404" y="1860"/>
                  </a:lnTo>
                  <a:lnTo>
                    <a:pt x="1396" y="1845"/>
                  </a:lnTo>
                  <a:lnTo>
                    <a:pt x="1389" y="1831"/>
                  </a:lnTo>
                  <a:lnTo>
                    <a:pt x="1383" y="1815"/>
                  </a:lnTo>
                  <a:lnTo>
                    <a:pt x="1375" y="1795"/>
                  </a:lnTo>
                  <a:lnTo>
                    <a:pt x="1367" y="1776"/>
                  </a:lnTo>
                  <a:lnTo>
                    <a:pt x="1360" y="1755"/>
                  </a:lnTo>
                  <a:lnTo>
                    <a:pt x="1353" y="1737"/>
                  </a:lnTo>
                  <a:lnTo>
                    <a:pt x="1348" y="1721"/>
                  </a:lnTo>
                  <a:lnTo>
                    <a:pt x="1343" y="1710"/>
                  </a:lnTo>
                  <a:lnTo>
                    <a:pt x="1339" y="1694"/>
                  </a:lnTo>
                  <a:lnTo>
                    <a:pt x="1337" y="1674"/>
                  </a:lnTo>
                  <a:lnTo>
                    <a:pt x="1337" y="1655"/>
                  </a:lnTo>
                  <a:lnTo>
                    <a:pt x="1337" y="1638"/>
                  </a:lnTo>
                  <a:lnTo>
                    <a:pt x="1338" y="1624"/>
                  </a:lnTo>
                  <a:lnTo>
                    <a:pt x="1338" y="1607"/>
                  </a:lnTo>
                  <a:lnTo>
                    <a:pt x="1333" y="1591"/>
                  </a:lnTo>
                  <a:lnTo>
                    <a:pt x="1327" y="1575"/>
                  </a:lnTo>
                  <a:lnTo>
                    <a:pt x="1316" y="1562"/>
                  </a:lnTo>
                  <a:lnTo>
                    <a:pt x="1308" y="1557"/>
                  </a:lnTo>
                  <a:lnTo>
                    <a:pt x="1301" y="1555"/>
                  </a:lnTo>
                  <a:lnTo>
                    <a:pt x="1292" y="1555"/>
                  </a:lnTo>
                  <a:lnTo>
                    <a:pt x="1285" y="1556"/>
                  </a:lnTo>
                  <a:lnTo>
                    <a:pt x="1279" y="1555"/>
                  </a:lnTo>
                  <a:lnTo>
                    <a:pt x="1274" y="1551"/>
                  </a:lnTo>
                  <a:lnTo>
                    <a:pt x="1270" y="1545"/>
                  </a:lnTo>
                  <a:lnTo>
                    <a:pt x="1262" y="1535"/>
                  </a:lnTo>
                  <a:lnTo>
                    <a:pt x="1252" y="1523"/>
                  </a:lnTo>
                  <a:lnTo>
                    <a:pt x="1242" y="1509"/>
                  </a:lnTo>
                  <a:lnTo>
                    <a:pt x="1229" y="1493"/>
                  </a:lnTo>
                  <a:lnTo>
                    <a:pt x="1220" y="1479"/>
                  </a:lnTo>
                  <a:lnTo>
                    <a:pt x="1210" y="1465"/>
                  </a:lnTo>
                  <a:lnTo>
                    <a:pt x="1204" y="1453"/>
                  </a:lnTo>
                  <a:lnTo>
                    <a:pt x="1194" y="1432"/>
                  </a:lnTo>
                  <a:lnTo>
                    <a:pt x="1182" y="1414"/>
                  </a:lnTo>
                  <a:lnTo>
                    <a:pt x="1171" y="1402"/>
                  </a:lnTo>
                  <a:lnTo>
                    <a:pt x="1161" y="1395"/>
                  </a:lnTo>
                  <a:lnTo>
                    <a:pt x="1152" y="1393"/>
                  </a:lnTo>
                  <a:lnTo>
                    <a:pt x="1142" y="1393"/>
                  </a:lnTo>
                  <a:lnTo>
                    <a:pt x="1131" y="1393"/>
                  </a:lnTo>
                  <a:lnTo>
                    <a:pt x="1119" y="1391"/>
                  </a:lnTo>
                  <a:lnTo>
                    <a:pt x="1108" y="1386"/>
                  </a:lnTo>
                  <a:lnTo>
                    <a:pt x="1095" y="1377"/>
                  </a:lnTo>
                  <a:lnTo>
                    <a:pt x="1084" y="1370"/>
                  </a:lnTo>
                  <a:lnTo>
                    <a:pt x="1072" y="1364"/>
                  </a:lnTo>
                  <a:lnTo>
                    <a:pt x="1055" y="1362"/>
                  </a:lnTo>
                  <a:lnTo>
                    <a:pt x="1044" y="1358"/>
                  </a:lnTo>
                  <a:lnTo>
                    <a:pt x="1035" y="1350"/>
                  </a:lnTo>
                  <a:lnTo>
                    <a:pt x="1026" y="1340"/>
                  </a:lnTo>
                  <a:lnTo>
                    <a:pt x="1018" y="1330"/>
                  </a:lnTo>
                  <a:lnTo>
                    <a:pt x="1011" y="1323"/>
                  </a:lnTo>
                  <a:lnTo>
                    <a:pt x="1003" y="1319"/>
                  </a:lnTo>
                  <a:lnTo>
                    <a:pt x="992" y="1323"/>
                  </a:lnTo>
                  <a:lnTo>
                    <a:pt x="979" y="1329"/>
                  </a:lnTo>
                  <a:lnTo>
                    <a:pt x="966" y="1339"/>
                  </a:lnTo>
                  <a:lnTo>
                    <a:pt x="955" y="1349"/>
                  </a:lnTo>
                  <a:lnTo>
                    <a:pt x="945" y="1359"/>
                  </a:lnTo>
                  <a:lnTo>
                    <a:pt x="933" y="1370"/>
                  </a:lnTo>
                  <a:lnTo>
                    <a:pt x="917" y="1378"/>
                  </a:lnTo>
                  <a:lnTo>
                    <a:pt x="901" y="1383"/>
                  </a:lnTo>
                  <a:lnTo>
                    <a:pt x="884" y="1384"/>
                  </a:lnTo>
                  <a:lnTo>
                    <a:pt x="869" y="1382"/>
                  </a:lnTo>
                  <a:lnTo>
                    <a:pt x="852" y="1378"/>
                  </a:lnTo>
                  <a:lnTo>
                    <a:pt x="834" y="1374"/>
                  </a:lnTo>
                  <a:lnTo>
                    <a:pt x="820" y="1370"/>
                  </a:lnTo>
                  <a:lnTo>
                    <a:pt x="809" y="1365"/>
                  </a:lnTo>
                  <a:lnTo>
                    <a:pt x="801" y="1363"/>
                  </a:lnTo>
                  <a:lnTo>
                    <a:pt x="789" y="1362"/>
                  </a:lnTo>
                  <a:lnTo>
                    <a:pt x="775" y="1362"/>
                  </a:lnTo>
                  <a:lnTo>
                    <a:pt x="761" y="1361"/>
                  </a:lnTo>
                  <a:lnTo>
                    <a:pt x="749" y="1359"/>
                  </a:lnTo>
                  <a:lnTo>
                    <a:pt x="740" y="1354"/>
                  </a:lnTo>
                  <a:lnTo>
                    <a:pt x="732" y="1348"/>
                  </a:lnTo>
                  <a:lnTo>
                    <a:pt x="725" y="1341"/>
                  </a:lnTo>
                  <a:lnTo>
                    <a:pt x="719" y="1336"/>
                  </a:lnTo>
                  <a:lnTo>
                    <a:pt x="715" y="1332"/>
                  </a:lnTo>
                  <a:lnTo>
                    <a:pt x="714" y="1331"/>
                  </a:lnTo>
                  <a:lnTo>
                    <a:pt x="717" y="1331"/>
                  </a:lnTo>
                  <a:lnTo>
                    <a:pt x="725" y="1335"/>
                  </a:lnTo>
                  <a:lnTo>
                    <a:pt x="737" y="1337"/>
                  </a:lnTo>
                  <a:lnTo>
                    <a:pt x="751" y="1341"/>
                  </a:lnTo>
                  <a:lnTo>
                    <a:pt x="765" y="1344"/>
                  </a:lnTo>
                  <a:lnTo>
                    <a:pt x="780" y="1348"/>
                  </a:lnTo>
                  <a:lnTo>
                    <a:pt x="792" y="1350"/>
                  </a:lnTo>
                  <a:lnTo>
                    <a:pt x="801" y="1350"/>
                  </a:lnTo>
                  <a:lnTo>
                    <a:pt x="816" y="1348"/>
                  </a:lnTo>
                  <a:lnTo>
                    <a:pt x="832" y="1340"/>
                  </a:lnTo>
                  <a:lnTo>
                    <a:pt x="849" y="1330"/>
                  </a:lnTo>
                  <a:lnTo>
                    <a:pt x="866" y="1316"/>
                  </a:lnTo>
                  <a:lnTo>
                    <a:pt x="881" y="1301"/>
                  </a:lnTo>
                  <a:lnTo>
                    <a:pt x="891" y="1287"/>
                  </a:lnTo>
                  <a:lnTo>
                    <a:pt x="900" y="1275"/>
                  </a:lnTo>
                  <a:lnTo>
                    <a:pt x="911" y="1267"/>
                  </a:lnTo>
                  <a:lnTo>
                    <a:pt x="924" y="1262"/>
                  </a:lnTo>
                  <a:lnTo>
                    <a:pt x="938" y="1260"/>
                  </a:lnTo>
                  <a:lnTo>
                    <a:pt x="955" y="1259"/>
                  </a:lnTo>
                  <a:lnTo>
                    <a:pt x="970" y="1257"/>
                  </a:lnTo>
                  <a:lnTo>
                    <a:pt x="980" y="1254"/>
                  </a:lnTo>
                  <a:lnTo>
                    <a:pt x="992" y="1250"/>
                  </a:lnTo>
                  <a:lnTo>
                    <a:pt x="1003" y="1245"/>
                  </a:lnTo>
                  <a:lnTo>
                    <a:pt x="1014" y="1239"/>
                  </a:lnTo>
                  <a:lnTo>
                    <a:pt x="1023" y="1232"/>
                  </a:lnTo>
                  <a:lnTo>
                    <a:pt x="1028" y="1223"/>
                  </a:lnTo>
                  <a:lnTo>
                    <a:pt x="1030" y="1212"/>
                  </a:lnTo>
                  <a:lnTo>
                    <a:pt x="1029" y="1204"/>
                  </a:lnTo>
                  <a:lnTo>
                    <a:pt x="1024" y="1199"/>
                  </a:lnTo>
                  <a:lnTo>
                    <a:pt x="1017" y="1196"/>
                  </a:lnTo>
                  <a:lnTo>
                    <a:pt x="1008" y="1193"/>
                  </a:lnTo>
                  <a:lnTo>
                    <a:pt x="1000" y="1191"/>
                  </a:lnTo>
                  <a:lnTo>
                    <a:pt x="990" y="1190"/>
                  </a:lnTo>
                  <a:lnTo>
                    <a:pt x="982" y="1188"/>
                  </a:lnTo>
                  <a:lnTo>
                    <a:pt x="976" y="1185"/>
                  </a:lnTo>
                  <a:lnTo>
                    <a:pt x="972" y="1179"/>
                  </a:lnTo>
                  <a:lnTo>
                    <a:pt x="970" y="1170"/>
                  </a:lnTo>
                  <a:lnTo>
                    <a:pt x="970" y="1164"/>
                  </a:lnTo>
                  <a:lnTo>
                    <a:pt x="971" y="1158"/>
                  </a:lnTo>
                  <a:lnTo>
                    <a:pt x="972" y="1153"/>
                  </a:lnTo>
                  <a:lnTo>
                    <a:pt x="971" y="1146"/>
                  </a:lnTo>
                  <a:lnTo>
                    <a:pt x="967" y="1135"/>
                  </a:lnTo>
                  <a:lnTo>
                    <a:pt x="960" y="1129"/>
                  </a:lnTo>
                  <a:lnTo>
                    <a:pt x="950" y="1127"/>
                  </a:lnTo>
                  <a:lnTo>
                    <a:pt x="944" y="1127"/>
                  </a:lnTo>
                  <a:lnTo>
                    <a:pt x="934" y="1129"/>
                  </a:lnTo>
                  <a:lnTo>
                    <a:pt x="923" y="1131"/>
                  </a:lnTo>
                  <a:lnTo>
                    <a:pt x="912" y="1134"/>
                  </a:lnTo>
                  <a:lnTo>
                    <a:pt x="903" y="1136"/>
                  </a:lnTo>
                  <a:lnTo>
                    <a:pt x="897" y="1139"/>
                  </a:lnTo>
                  <a:lnTo>
                    <a:pt x="895" y="1140"/>
                  </a:lnTo>
                  <a:lnTo>
                    <a:pt x="896" y="1138"/>
                  </a:lnTo>
                  <a:lnTo>
                    <a:pt x="901" y="1134"/>
                  </a:lnTo>
                  <a:lnTo>
                    <a:pt x="910" y="1129"/>
                  </a:lnTo>
                  <a:lnTo>
                    <a:pt x="922" y="1123"/>
                  </a:lnTo>
                  <a:lnTo>
                    <a:pt x="935" y="1118"/>
                  </a:lnTo>
                  <a:lnTo>
                    <a:pt x="951" y="1116"/>
                  </a:lnTo>
                  <a:lnTo>
                    <a:pt x="971" y="1113"/>
                  </a:lnTo>
                  <a:lnTo>
                    <a:pt x="986" y="1111"/>
                  </a:lnTo>
                  <a:lnTo>
                    <a:pt x="1000" y="1107"/>
                  </a:lnTo>
                  <a:lnTo>
                    <a:pt x="1008" y="1100"/>
                  </a:lnTo>
                  <a:lnTo>
                    <a:pt x="1015" y="1090"/>
                  </a:lnTo>
                  <a:lnTo>
                    <a:pt x="1017" y="1082"/>
                  </a:lnTo>
                  <a:lnTo>
                    <a:pt x="1019" y="1075"/>
                  </a:lnTo>
                  <a:lnTo>
                    <a:pt x="1021" y="1069"/>
                  </a:lnTo>
                  <a:lnTo>
                    <a:pt x="1024" y="1062"/>
                  </a:lnTo>
                  <a:lnTo>
                    <a:pt x="1029" y="1054"/>
                  </a:lnTo>
                  <a:lnTo>
                    <a:pt x="1038" y="1044"/>
                  </a:lnTo>
                  <a:lnTo>
                    <a:pt x="1050" y="1028"/>
                  </a:lnTo>
                  <a:lnTo>
                    <a:pt x="1060" y="1009"/>
                  </a:lnTo>
                  <a:lnTo>
                    <a:pt x="1070" y="992"/>
                  </a:lnTo>
                  <a:lnTo>
                    <a:pt x="1077" y="976"/>
                  </a:lnTo>
                  <a:lnTo>
                    <a:pt x="1085" y="965"/>
                  </a:lnTo>
                  <a:lnTo>
                    <a:pt x="1094" y="954"/>
                  </a:lnTo>
                  <a:lnTo>
                    <a:pt x="1105" y="939"/>
                  </a:lnTo>
                  <a:lnTo>
                    <a:pt x="1115" y="924"/>
                  </a:lnTo>
                  <a:lnTo>
                    <a:pt x="1124" y="908"/>
                  </a:lnTo>
                  <a:lnTo>
                    <a:pt x="1130" y="893"/>
                  </a:lnTo>
                  <a:lnTo>
                    <a:pt x="1131" y="886"/>
                  </a:lnTo>
                  <a:lnTo>
                    <a:pt x="1131" y="879"/>
                  </a:lnTo>
                  <a:lnTo>
                    <a:pt x="1130" y="873"/>
                  </a:lnTo>
                  <a:lnTo>
                    <a:pt x="1130" y="867"/>
                  </a:lnTo>
                  <a:lnTo>
                    <a:pt x="1131" y="861"/>
                  </a:lnTo>
                  <a:lnTo>
                    <a:pt x="1134" y="852"/>
                  </a:lnTo>
                  <a:lnTo>
                    <a:pt x="1141" y="841"/>
                  </a:lnTo>
                  <a:lnTo>
                    <a:pt x="1150" y="830"/>
                  </a:lnTo>
                  <a:lnTo>
                    <a:pt x="1158" y="822"/>
                  </a:lnTo>
                  <a:lnTo>
                    <a:pt x="1165" y="816"/>
                  </a:lnTo>
                  <a:lnTo>
                    <a:pt x="1170" y="809"/>
                  </a:lnTo>
                  <a:lnTo>
                    <a:pt x="1174" y="803"/>
                  </a:lnTo>
                  <a:lnTo>
                    <a:pt x="1175" y="794"/>
                  </a:lnTo>
                  <a:lnTo>
                    <a:pt x="1174" y="782"/>
                  </a:lnTo>
                  <a:lnTo>
                    <a:pt x="1170" y="761"/>
                  </a:lnTo>
                  <a:lnTo>
                    <a:pt x="1171" y="740"/>
                  </a:lnTo>
                  <a:lnTo>
                    <a:pt x="1174" y="721"/>
                  </a:lnTo>
                  <a:lnTo>
                    <a:pt x="1179" y="703"/>
                  </a:lnTo>
                  <a:lnTo>
                    <a:pt x="1185" y="690"/>
                  </a:lnTo>
                  <a:lnTo>
                    <a:pt x="1192" y="680"/>
                  </a:lnTo>
                  <a:lnTo>
                    <a:pt x="1203" y="669"/>
                  </a:lnTo>
                  <a:lnTo>
                    <a:pt x="1216" y="656"/>
                  </a:lnTo>
                  <a:lnTo>
                    <a:pt x="1229" y="644"/>
                  </a:lnTo>
                  <a:lnTo>
                    <a:pt x="1239" y="632"/>
                  </a:lnTo>
                  <a:lnTo>
                    <a:pt x="1245" y="620"/>
                  </a:lnTo>
                  <a:lnTo>
                    <a:pt x="1247" y="606"/>
                  </a:lnTo>
                  <a:lnTo>
                    <a:pt x="1248" y="589"/>
                  </a:lnTo>
                  <a:lnTo>
                    <a:pt x="1247" y="574"/>
                  </a:lnTo>
                  <a:lnTo>
                    <a:pt x="1245" y="559"/>
                  </a:lnTo>
                  <a:lnTo>
                    <a:pt x="1239" y="546"/>
                  </a:lnTo>
                  <a:lnTo>
                    <a:pt x="1233" y="538"/>
                  </a:lnTo>
                  <a:lnTo>
                    <a:pt x="1224" y="526"/>
                  </a:lnTo>
                  <a:lnTo>
                    <a:pt x="1213" y="514"/>
                  </a:lnTo>
                  <a:lnTo>
                    <a:pt x="1202" y="503"/>
                  </a:lnTo>
                  <a:lnTo>
                    <a:pt x="1189" y="493"/>
                  </a:lnTo>
                  <a:lnTo>
                    <a:pt x="1178" y="486"/>
                  </a:lnTo>
                  <a:lnTo>
                    <a:pt x="1167" y="483"/>
                  </a:lnTo>
                  <a:lnTo>
                    <a:pt x="1153" y="485"/>
                  </a:lnTo>
                  <a:lnTo>
                    <a:pt x="1136" y="488"/>
                  </a:lnTo>
                  <a:lnTo>
                    <a:pt x="1117" y="493"/>
                  </a:lnTo>
                  <a:lnTo>
                    <a:pt x="1098" y="496"/>
                  </a:lnTo>
                  <a:lnTo>
                    <a:pt x="1080" y="498"/>
                  </a:lnTo>
                  <a:lnTo>
                    <a:pt x="1063" y="498"/>
                  </a:lnTo>
                  <a:lnTo>
                    <a:pt x="1044" y="496"/>
                  </a:lnTo>
                  <a:lnTo>
                    <a:pt x="1025" y="495"/>
                  </a:lnTo>
                  <a:lnTo>
                    <a:pt x="1006" y="493"/>
                  </a:lnTo>
                  <a:lnTo>
                    <a:pt x="990" y="492"/>
                  </a:lnTo>
                  <a:lnTo>
                    <a:pt x="977" y="491"/>
                  </a:lnTo>
                  <a:lnTo>
                    <a:pt x="965" y="491"/>
                  </a:lnTo>
                  <a:lnTo>
                    <a:pt x="950" y="492"/>
                  </a:lnTo>
                  <a:lnTo>
                    <a:pt x="936" y="493"/>
                  </a:lnTo>
                  <a:lnTo>
                    <a:pt x="922" y="496"/>
                  </a:lnTo>
                  <a:lnTo>
                    <a:pt x="911" y="501"/>
                  </a:lnTo>
                  <a:lnTo>
                    <a:pt x="901" y="503"/>
                  </a:lnTo>
                  <a:lnTo>
                    <a:pt x="887" y="504"/>
                  </a:lnTo>
                  <a:lnTo>
                    <a:pt x="870" y="504"/>
                  </a:lnTo>
                  <a:lnTo>
                    <a:pt x="854" y="502"/>
                  </a:lnTo>
                  <a:lnTo>
                    <a:pt x="839" y="499"/>
                  </a:lnTo>
                  <a:lnTo>
                    <a:pt x="826" y="497"/>
                  </a:lnTo>
                  <a:lnTo>
                    <a:pt x="819" y="494"/>
                  </a:lnTo>
                  <a:lnTo>
                    <a:pt x="812" y="488"/>
                  </a:lnTo>
                  <a:lnTo>
                    <a:pt x="804" y="484"/>
                  </a:lnTo>
                  <a:lnTo>
                    <a:pt x="795" y="481"/>
                  </a:lnTo>
                  <a:lnTo>
                    <a:pt x="786" y="480"/>
                  </a:lnTo>
                  <a:lnTo>
                    <a:pt x="778" y="483"/>
                  </a:lnTo>
                  <a:lnTo>
                    <a:pt x="773" y="488"/>
                  </a:lnTo>
                  <a:lnTo>
                    <a:pt x="765" y="496"/>
                  </a:lnTo>
                  <a:lnTo>
                    <a:pt x="758" y="505"/>
                  </a:lnTo>
                  <a:lnTo>
                    <a:pt x="749" y="513"/>
                  </a:lnTo>
                  <a:lnTo>
                    <a:pt x="741" y="519"/>
                  </a:lnTo>
                  <a:lnTo>
                    <a:pt x="735" y="520"/>
                  </a:lnTo>
                  <a:lnTo>
                    <a:pt x="729" y="520"/>
                  </a:lnTo>
                  <a:lnTo>
                    <a:pt x="726" y="518"/>
                  </a:lnTo>
                  <a:lnTo>
                    <a:pt x="722" y="517"/>
                  </a:lnTo>
                  <a:lnTo>
                    <a:pt x="717" y="517"/>
                  </a:lnTo>
                  <a:lnTo>
                    <a:pt x="712" y="518"/>
                  </a:lnTo>
                  <a:lnTo>
                    <a:pt x="705" y="521"/>
                  </a:lnTo>
                  <a:lnTo>
                    <a:pt x="696" y="528"/>
                  </a:lnTo>
                  <a:lnTo>
                    <a:pt x="688" y="534"/>
                  </a:lnTo>
                  <a:lnTo>
                    <a:pt x="680" y="539"/>
                  </a:lnTo>
                  <a:lnTo>
                    <a:pt x="673" y="542"/>
                  </a:lnTo>
                  <a:lnTo>
                    <a:pt x="667" y="544"/>
                  </a:lnTo>
                  <a:lnTo>
                    <a:pt x="659" y="548"/>
                  </a:lnTo>
                  <a:lnTo>
                    <a:pt x="651" y="553"/>
                  </a:lnTo>
                  <a:lnTo>
                    <a:pt x="642" y="562"/>
                  </a:lnTo>
                  <a:lnTo>
                    <a:pt x="627" y="573"/>
                  </a:lnTo>
                  <a:lnTo>
                    <a:pt x="614" y="578"/>
                  </a:lnTo>
                  <a:lnTo>
                    <a:pt x="603" y="582"/>
                  </a:lnTo>
                  <a:lnTo>
                    <a:pt x="595" y="582"/>
                  </a:lnTo>
                  <a:lnTo>
                    <a:pt x="587" y="582"/>
                  </a:lnTo>
                  <a:lnTo>
                    <a:pt x="585" y="582"/>
                  </a:lnTo>
                  <a:lnTo>
                    <a:pt x="581" y="583"/>
                  </a:lnTo>
                  <a:lnTo>
                    <a:pt x="579" y="583"/>
                  </a:lnTo>
                  <a:lnTo>
                    <a:pt x="576" y="583"/>
                  </a:lnTo>
                  <a:lnTo>
                    <a:pt x="574" y="583"/>
                  </a:lnTo>
                  <a:lnTo>
                    <a:pt x="572" y="583"/>
                  </a:lnTo>
                  <a:lnTo>
                    <a:pt x="569" y="583"/>
                  </a:lnTo>
                  <a:lnTo>
                    <a:pt x="567" y="582"/>
                  </a:lnTo>
                  <a:lnTo>
                    <a:pt x="566" y="582"/>
                  </a:lnTo>
                  <a:lnTo>
                    <a:pt x="565" y="580"/>
                  </a:lnTo>
                  <a:lnTo>
                    <a:pt x="565" y="579"/>
                  </a:lnTo>
                  <a:lnTo>
                    <a:pt x="566" y="577"/>
                  </a:lnTo>
                  <a:lnTo>
                    <a:pt x="568" y="575"/>
                  </a:lnTo>
                  <a:lnTo>
                    <a:pt x="572" y="572"/>
                  </a:lnTo>
                  <a:lnTo>
                    <a:pt x="576" y="568"/>
                  </a:lnTo>
                  <a:lnTo>
                    <a:pt x="592" y="553"/>
                  </a:lnTo>
                  <a:lnTo>
                    <a:pt x="606" y="537"/>
                  </a:lnTo>
                  <a:lnTo>
                    <a:pt x="616" y="520"/>
                  </a:lnTo>
                  <a:lnTo>
                    <a:pt x="625" y="507"/>
                  </a:lnTo>
                  <a:lnTo>
                    <a:pt x="630" y="498"/>
                  </a:lnTo>
                  <a:lnTo>
                    <a:pt x="637" y="488"/>
                  </a:lnTo>
                  <a:lnTo>
                    <a:pt x="646" y="476"/>
                  </a:lnTo>
                  <a:lnTo>
                    <a:pt x="656" y="463"/>
                  </a:lnTo>
                  <a:lnTo>
                    <a:pt x="665" y="451"/>
                  </a:lnTo>
                  <a:lnTo>
                    <a:pt x="672" y="439"/>
                  </a:lnTo>
                  <a:lnTo>
                    <a:pt x="678" y="430"/>
                  </a:lnTo>
                  <a:lnTo>
                    <a:pt x="681" y="425"/>
                  </a:lnTo>
                  <a:lnTo>
                    <a:pt x="680" y="422"/>
                  </a:lnTo>
                  <a:lnTo>
                    <a:pt x="676" y="421"/>
                  </a:lnTo>
                  <a:lnTo>
                    <a:pt x="668" y="421"/>
                  </a:lnTo>
                  <a:lnTo>
                    <a:pt x="659" y="422"/>
                  </a:lnTo>
                  <a:lnTo>
                    <a:pt x="649" y="423"/>
                  </a:lnTo>
                  <a:lnTo>
                    <a:pt x="639" y="423"/>
                  </a:lnTo>
                  <a:lnTo>
                    <a:pt x="631" y="422"/>
                  </a:lnTo>
                  <a:lnTo>
                    <a:pt x="622" y="418"/>
                  </a:lnTo>
                  <a:lnTo>
                    <a:pt x="613" y="415"/>
                  </a:lnTo>
                  <a:lnTo>
                    <a:pt x="608" y="412"/>
                  </a:lnTo>
                  <a:lnTo>
                    <a:pt x="604" y="407"/>
                  </a:lnTo>
                  <a:lnTo>
                    <a:pt x="604" y="402"/>
                  </a:lnTo>
                  <a:lnTo>
                    <a:pt x="609" y="395"/>
                  </a:lnTo>
                  <a:lnTo>
                    <a:pt x="616" y="387"/>
                  </a:lnTo>
                  <a:lnTo>
                    <a:pt x="621" y="379"/>
                  </a:lnTo>
                  <a:lnTo>
                    <a:pt x="626" y="371"/>
                  </a:lnTo>
                  <a:lnTo>
                    <a:pt x="634" y="364"/>
                  </a:lnTo>
                  <a:lnTo>
                    <a:pt x="646" y="356"/>
                  </a:lnTo>
                  <a:lnTo>
                    <a:pt x="657" y="349"/>
                  </a:lnTo>
                  <a:lnTo>
                    <a:pt x="666" y="343"/>
                  </a:lnTo>
                  <a:lnTo>
                    <a:pt x="673" y="336"/>
                  </a:lnTo>
                  <a:lnTo>
                    <a:pt x="682" y="328"/>
                  </a:lnTo>
                  <a:lnTo>
                    <a:pt x="693" y="318"/>
                  </a:lnTo>
                  <a:lnTo>
                    <a:pt x="707" y="306"/>
                  </a:lnTo>
                  <a:lnTo>
                    <a:pt x="726" y="289"/>
                  </a:lnTo>
                  <a:lnTo>
                    <a:pt x="742" y="268"/>
                  </a:lnTo>
                  <a:lnTo>
                    <a:pt x="758" y="248"/>
                  </a:lnTo>
                  <a:lnTo>
                    <a:pt x="771" y="230"/>
                  </a:lnTo>
                  <a:lnTo>
                    <a:pt x="784" y="217"/>
                  </a:lnTo>
                  <a:lnTo>
                    <a:pt x="803" y="204"/>
                  </a:lnTo>
                  <a:lnTo>
                    <a:pt x="821" y="192"/>
                  </a:lnTo>
                  <a:lnTo>
                    <a:pt x="840" y="180"/>
                  </a:lnTo>
                  <a:lnTo>
                    <a:pt x="851" y="170"/>
                  </a:lnTo>
                  <a:lnTo>
                    <a:pt x="857" y="160"/>
                  </a:lnTo>
                  <a:lnTo>
                    <a:pt x="862" y="148"/>
                  </a:lnTo>
                  <a:lnTo>
                    <a:pt x="865" y="134"/>
                  </a:lnTo>
                  <a:lnTo>
                    <a:pt x="866" y="124"/>
                  </a:lnTo>
                  <a:lnTo>
                    <a:pt x="865" y="116"/>
                  </a:lnTo>
                  <a:lnTo>
                    <a:pt x="863" y="110"/>
                  </a:lnTo>
                  <a:lnTo>
                    <a:pt x="861" y="103"/>
                  </a:lnTo>
                  <a:lnTo>
                    <a:pt x="858" y="96"/>
                  </a:lnTo>
                  <a:lnTo>
                    <a:pt x="858" y="87"/>
                  </a:lnTo>
                  <a:lnTo>
                    <a:pt x="862" y="70"/>
                  </a:lnTo>
                  <a:lnTo>
                    <a:pt x="870" y="55"/>
                  </a:lnTo>
                  <a:lnTo>
                    <a:pt x="878" y="40"/>
                  </a:lnTo>
                  <a:lnTo>
                    <a:pt x="882" y="24"/>
                  </a:lnTo>
                  <a:lnTo>
                    <a:pt x="884" y="13"/>
                  </a:lnTo>
                  <a:lnTo>
                    <a:pt x="884" y="8"/>
                  </a:lnTo>
                  <a:lnTo>
                    <a:pt x="882" y="6"/>
                  </a:lnTo>
                  <a:lnTo>
                    <a:pt x="881" y="6"/>
                  </a:lnTo>
                  <a:lnTo>
                    <a:pt x="881" y="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>
              <a:off x="1456200" y="2246040"/>
              <a:ext cx="273600" cy="391320"/>
            </a:xfrm>
            <a:custGeom>
              <a:avLst/>
              <a:gdLst/>
              <a:ahLst/>
              <a:rect l="l" t="t" r="r" b="b"/>
              <a:pathLst>
                <a:path w="263" h="378">
                  <a:moveTo>
                    <a:pt x="242" y="0"/>
                  </a:moveTo>
                  <a:lnTo>
                    <a:pt x="240" y="1"/>
                  </a:lnTo>
                  <a:lnTo>
                    <a:pt x="235" y="6"/>
                  </a:lnTo>
                  <a:lnTo>
                    <a:pt x="228" y="12"/>
                  </a:lnTo>
                  <a:lnTo>
                    <a:pt x="219" y="19"/>
                  </a:lnTo>
                  <a:lnTo>
                    <a:pt x="210" y="27"/>
                  </a:lnTo>
                  <a:lnTo>
                    <a:pt x="200" y="35"/>
                  </a:lnTo>
                  <a:lnTo>
                    <a:pt x="191" y="43"/>
                  </a:lnTo>
                  <a:lnTo>
                    <a:pt x="185" y="48"/>
                  </a:lnTo>
                  <a:lnTo>
                    <a:pt x="174" y="57"/>
                  </a:lnTo>
                  <a:lnTo>
                    <a:pt x="165" y="62"/>
                  </a:lnTo>
                  <a:lnTo>
                    <a:pt x="157" y="68"/>
                  </a:lnTo>
                  <a:lnTo>
                    <a:pt x="155" y="73"/>
                  </a:lnTo>
                  <a:lnTo>
                    <a:pt x="153" y="77"/>
                  </a:lnTo>
                  <a:lnTo>
                    <a:pt x="147" y="79"/>
                  </a:lnTo>
                  <a:lnTo>
                    <a:pt x="138" y="81"/>
                  </a:lnTo>
                  <a:lnTo>
                    <a:pt x="127" y="83"/>
                  </a:lnTo>
                  <a:lnTo>
                    <a:pt x="117" y="83"/>
                  </a:lnTo>
                  <a:lnTo>
                    <a:pt x="108" y="84"/>
                  </a:lnTo>
                  <a:lnTo>
                    <a:pt x="101" y="86"/>
                  </a:lnTo>
                  <a:lnTo>
                    <a:pt x="94" y="90"/>
                  </a:lnTo>
                  <a:lnTo>
                    <a:pt x="91" y="96"/>
                  </a:lnTo>
                  <a:lnTo>
                    <a:pt x="90" y="105"/>
                  </a:lnTo>
                  <a:lnTo>
                    <a:pt x="92" y="118"/>
                  </a:lnTo>
                  <a:lnTo>
                    <a:pt x="95" y="134"/>
                  </a:lnTo>
                  <a:lnTo>
                    <a:pt x="96" y="145"/>
                  </a:lnTo>
                  <a:lnTo>
                    <a:pt x="97" y="151"/>
                  </a:lnTo>
                  <a:lnTo>
                    <a:pt x="97" y="153"/>
                  </a:lnTo>
                  <a:lnTo>
                    <a:pt x="95" y="152"/>
                  </a:lnTo>
                  <a:lnTo>
                    <a:pt x="92" y="150"/>
                  </a:lnTo>
                  <a:lnTo>
                    <a:pt x="86" y="149"/>
                  </a:lnTo>
                  <a:lnTo>
                    <a:pt x="81" y="149"/>
                  </a:lnTo>
                  <a:lnTo>
                    <a:pt x="74" y="154"/>
                  </a:lnTo>
                  <a:lnTo>
                    <a:pt x="69" y="164"/>
                  </a:lnTo>
                  <a:lnTo>
                    <a:pt x="67" y="175"/>
                  </a:lnTo>
                  <a:lnTo>
                    <a:pt x="66" y="183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4" y="176"/>
                  </a:lnTo>
                  <a:lnTo>
                    <a:pt x="62" y="167"/>
                  </a:lnTo>
                  <a:lnTo>
                    <a:pt x="58" y="158"/>
                  </a:lnTo>
                  <a:lnTo>
                    <a:pt x="53" y="148"/>
                  </a:lnTo>
                  <a:lnTo>
                    <a:pt x="46" y="142"/>
                  </a:lnTo>
                  <a:lnTo>
                    <a:pt x="37" y="139"/>
                  </a:lnTo>
                  <a:lnTo>
                    <a:pt x="29" y="142"/>
                  </a:lnTo>
                  <a:lnTo>
                    <a:pt x="24" y="149"/>
                  </a:lnTo>
                  <a:lnTo>
                    <a:pt x="18" y="159"/>
                  </a:lnTo>
                  <a:lnTo>
                    <a:pt x="13" y="172"/>
                  </a:lnTo>
                  <a:lnTo>
                    <a:pt x="10" y="182"/>
                  </a:lnTo>
                  <a:lnTo>
                    <a:pt x="7" y="193"/>
                  </a:lnTo>
                  <a:lnTo>
                    <a:pt x="5" y="203"/>
                  </a:lnTo>
                  <a:lnTo>
                    <a:pt x="5" y="212"/>
                  </a:lnTo>
                  <a:lnTo>
                    <a:pt x="6" y="220"/>
                  </a:lnTo>
                  <a:lnTo>
                    <a:pt x="11" y="227"/>
                  </a:lnTo>
                  <a:lnTo>
                    <a:pt x="18" y="230"/>
                  </a:lnTo>
                  <a:lnTo>
                    <a:pt x="30" y="232"/>
                  </a:lnTo>
                  <a:lnTo>
                    <a:pt x="38" y="233"/>
                  </a:lnTo>
                  <a:lnTo>
                    <a:pt x="44" y="233"/>
                  </a:lnTo>
                  <a:lnTo>
                    <a:pt x="46" y="233"/>
                  </a:lnTo>
                  <a:lnTo>
                    <a:pt x="47" y="233"/>
                  </a:lnTo>
                  <a:lnTo>
                    <a:pt x="45" y="233"/>
                  </a:lnTo>
                  <a:lnTo>
                    <a:pt x="38" y="234"/>
                  </a:lnTo>
                  <a:lnTo>
                    <a:pt x="30" y="236"/>
                  </a:lnTo>
                  <a:lnTo>
                    <a:pt x="22" y="240"/>
                  </a:lnTo>
                  <a:lnTo>
                    <a:pt x="14" y="244"/>
                  </a:lnTo>
                  <a:lnTo>
                    <a:pt x="10" y="248"/>
                  </a:lnTo>
                  <a:lnTo>
                    <a:pt x="9" y="254"/>
                  </a:lnTo>
                  <a:lnTo>
                    <a:pt x="14" y="261"/>
                  </a:lnTo>
                  <a:lnTo>
                    <a:pt x="26" y="270"/>
                  </a:lnTo>
                  <a:lnTo>
                    <a:pt x="38" y="278"/>
                  </a:lnTo>
                  <a:lnTo>
                    <a:pt x="49" y="286"/>
                  </a:lnTo>
                  <a:lnTo>
                    <a:pt x="59" y="291"/>
                  </a:lnTo>
                  <a:lnTo>
                    <a:pt x="64" y="296"/>
                  </a:lnTo>
                  <a:lnTo>
                    <a:pt x="68" y="297"/>
                  </a:lnTo>
                  <a:lnTo>
                    <a:pt x="66" y="298"/>
                  </a:lnTo>
                  <a:lnTo>
                    <a:pt x="60" y="302"/>
                  </a:lnTo>
                  <a:lnTo>
                    <a:pt x="52" y="306"/>
                  </a:lnTo>
                  <a:lnTo>
                    <a:pt x="44" y="313"/>
                  </a:lnTo>
                  <a:lnTo>
                    <a:pt x="36" y="319"/>
                  </a:lnTo>
                  <a:lnTo>
                    <a:pt x="29" y="324"/>
                  </a:lnTo>
                  <a:lnTo>
                    <a:pt x="24" y="328"/>
                  </a:lnTo>
                  <a:lnTo>
                    <a:pt x="16" y="334"/>
                  </a:lnTo>
                  <a:lnTo>
                    <a:pt x="9" y="340"/>
                  </a:lnTo>
                  <a:lnTo>
                    <a:pt x="2" y="347"/>
                  </a:lnTo>
                  <a:lnTo>
                    <a:pt x="0" y="354"/>
                  </a:lnTo>
                  <a:lnTo>
                    <a:pt x="2" y="360"/>
                  </a:lnTo>
                  <a:lnTo>
                    <a:pt x="12" y="368"/>
                  </a:lnTo>
                  <a:lnTo>
                    <a:pt x="28" y="374"/>
                  </a:lnTo>
                  <a:lnTo>
                    <a:pt x="43" y="378"/>
                  </a:lnTo>
                  <a:lnTo>
                    <a:pt x="53" y="377"/>
                  </a:lnTo>
                  <a:lnTo>
                    <a:pt x="63" y="372"/>
                  </a:lnTo>
                  <a:lnTo>
                    <a:pt x="73" y="363"/>
                  </a:lnTo>
                  <a:lnTo>
                    <a:pt x="85" y="351"/>
                  </a:lnTo>
                  <a:lnTo>
                    <a:pt x="97" y="338"/>
                  </a:lnTo>
                  <a:lnTo>
                    <a:pt x="109" y="326"/>
                  </a:lnTo>
                  <a:lnTo>
                    <a:pt x="117" y="314"/>
                  </a:lnTo>
                  <a:lnTo>
                    <a:pt x="120" y="306"/>
                  </a:lnTo>
                  <a:lnTo>
                    <a:pt x="120" y="297"/>
                  </a:lnTo>
                  <a:lnTo>
                    <a:pt x="119" y="287"/>
                  </a:lnTo>
                  <a:lnTo>
                    <a:pt x="117" y="278"/>
                  </a:lnTo>
                  <a:lnTo>
                    <a:pt x="116" y="271"/>
                  </a:lnTo>
                  <a:lnTo>
                    <a:pt x="115" y="269"/>
                  </a:lnTo>
                  <a:lnTo>
                    <a:pt x="116" y="271"/>
                  </a:lnTo>
                  <a:lnTo>
                    <a:pt x="121" y="277"/>
                  </a:lnTo>
                  <a:lnTo>
                    <a:pt x="128" y="285"/>
                  </a:lnTo>
                  <a:lnTo>
                    <a:pt x="136" y="292"/>
                  </a:lnTo>
                  <a:lnTo>
                    <a:pt x="144" y="299"/>
                  </a:lnTo>
                  <a:lnTo>
                    <a:pt x="153" y="303"/>
                  </a:lnTo>
                  <a:lnTo>
                    <a:pt x="160" y="302"/>
                  </a:lnTo>
                  <a:lnTo>
                    <a:pt x="168" y="297"/>
                  </a:lnTo>
                  <a:lnTo>
                    <a:pt x="177" y="287"/>
                  </a:lnTo>
                  <a:lnTo>
                    <a:pt x="185" y="275"/>
                  </a:lnTo>
                  <a:lnTo>
                    <a:pt x="191" y="261"/>
                  </a:lnTo>
                  <a:lnTo>
                    <a:pt x="197" y="247"/>
                  </a:lnTo>
                  <a:lnTo>
                    <a:pt x="201" y="234"/>
                  </a:lnTo>
                  <a:lnTo>
                    <a:pt x="201" y="224"/>
                  </a:lnTo>
                  <a:lnTo>
                    <a:pt x="197" y="218"/>
                  </a:lnTo>
                  <a:lnTo>
                    <a:pt x="190" y="212"/>
                  </a:lnTo>
                  <a:lnTo>
                    <a:pt x="183" y="209"/>
                  </a:lnTo>
                  <a:lnTo>
                    <a:pt x="175" y="208"/>
                  </a:lnTo>
                  <a:lnTo>
                    <a:pt x="168" y="208"/>
                  </a:lnTo>
                  <a:lnTo>
                    <a:pt x="167" y="207"/>
                  </a:lnTo>
                  <a:lnTo>
                    <a:pt x="171" y="205"/>
                  </a:lnTo>
                  <a:lnTo>
                    <a:pt x="176" y="201"/>
                  </a:lnTo>
                  <a:lnTo>
                    <a:pt x="184" y="197"/>
                  </a:lnTo>
                  <a:lnTo>
                    <a:pt x="192" y="193"/>
                  </a:lnTo>
                  <a:lnTo>
                    <a:pt x="200" y="188"/>
                  </a:lnTo>
                  <a:lnTo>
                    <a:pt x="208" y="184"/>
                  </a:lnTo>
                  <a:lnTo>
                    <a:pt x="213" y="181"/>
                  </a:lnTo>
                  <a:lnTo>
                    <a:pt x="214" y="180"/>
                  </a:lnTo>
                  <a:lnTo>
                    <a:pt x="213" y="175"/>
                  </a:lnTo>
                  <a:lnTo>
                    <a:pt x="211" y="169"/>
                  </a:lnTo>
                  <a:lnTo>
                    <a:pt x="210" y="159"/>
                  </a:lnTo>
                  <a:lnTo>
                    <a:pt x="211" y="148"/>
                  </a:lnTo>
                  <a:lnTo>
                    <a:pt x="219" y="136"/>
                  </a:lnTo>
                  <a:lnTo>
                    <a:pt x="226" y="128"/>
                  </a:lnTo>
                  <a:lnTo>
                    <a:pt x="235" y="122"/>
                  </a:lnTo>
                  <a:lnTo>
                    <a:pt x="244" y="116"/>
                  </a:lnTo>
                  <a:lnTo>
                    <a:pt x="252" y="111"/>
                  </a:lnTo>
                  <a:lnTo>
                    <a:pt x="257" y="104"/>
                  </a:lnTo>
                  <a:lnTo>
                    <a:pt x="261" y="95"/>
                  </a:lnTo>
                  <a:lnTo>
                    <a:pt x="263" y="84"/>
                  </a:lnTo>
                  <a:lnTo>
                    <a:pt x="261" y="69"/>
                  </a:lnTo>
                  <a:lnTo>
                    <a:pt x="261" y="53"/>
                  </a:lnTo>
                  <a:lnTo>
                    <a:pt x="261" y="38"/>
                  </a:lnTo>
                  <a:lnTo>
                    <a:pt x="261" y="25"/>
                  </a:lnTo>
                  <a:lnTo>
                    <a:pt x="261" y="15"/>
                  </a:lnTo>
                  <a:lnTo>
                    <a:pt x="259" y="10"/>
                  </a:lnTo>
                  <a:lnTo>
                    <a:pt x="255" y="6"/>
                  </a:lnTo>
                  <a:lnTo>
                    <a:pt x="248" y="2"/>
                  </a:lnTo>
                  <a:lnTo>
                    <a:pt x="244" y="1"/>
                  </a:lnTo>
                  <a:lnTo>
                    <a:pt x="242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3"/>
            <p:cNvSpPr/>
            <p:nvPr/>
          </p:nvSpPr>
          <p:spPr>
            <a:xfrm>
              <a:off x="1334160" y="2672640"/>
              <a:ext cx="132840" cy="8856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0" y="46"/>
                  </a:moveTo>
                  <a:lnTo>
                    <a:pt x="0" y="42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1"/>
                  </a:lnTo>
                  <a:lnTo>
                    <a:pt x="71" y="7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5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8" y="29"/>
                  </a:lnTo>
                  <a:lnTo>
                    <a:pt x="128" y="37"/>
                  </a:lnTo>
                  <a:lnTo>
                    <a:pt x="124" y="42"/>
                  </a:lnTo>
                  <a:lnTo>
                    <a:pt x="118" y="47"/>
                  </a:lnTo>
                  <a:lnTo>
                    <a:pt x="109" y="50"/>
                  </a:lnTo>
                  <a:lnTo>
                    <a:pt x="104" y="57"/>
                  </a:lnTo>
                  <a:lnTo>
                    <a:pt x="101" y="62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99" y="71"/>
                  </a:lnTo>
                  <a:lnTo>
                    <a:pt x="99" y="75"/>
                  </a:lnTo>
                  <a:lnTo>
                    <a:pt x="97" y="80"/>
                  </a:lnTo>
                  <a:lnTo>
                    <a:pt x="94" y="84"/>
                  </a:lnTo>
                  <a:lnTo>
                    <a:pt x="87" y="85"/>
                  </a:lnTo>
                  <a:lnTo>
                    <a:pt x="78" y="84"/>
                  </a:lnTo>
                  <a:lnTo>
                    <a:pt x="64" y="78"/>
                  </a:lnTo>
                  <a:lnTo>
                    <a:pt x="52" y="75"/>
                  </a:lnTo>
                  <a:lnTo>
                    <a:pt x="40" y="71"/>
                  </a:lnTo>
                  <a:lnTo>
                    <a:pt x="29" y="65"/>
                  </a:lnTo>
                  <a:lnTo>
                    <a:pt x="20" y="60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1" y="47"/>
                  </a:lnTo>
                  <a:lnTo>
                    <a:pt x="0" y="4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4"/>
            <p:cNvSpPr/>
            <p:nvPr/>
          </p:nvSpPr>
          <p:spPr>
            <a:xfrm>
              <a:off x="1348560" y="2786400"/>
              <a:ext cx="74520" cy="196560"/>
            </a:xfrm>
            <a:custGeom>
              <a:avLst/>
              <a:gdLst/>
              <a:ahLst/>
              <a:rect l="l" t="t" r="r" b="b"/>
              <a:pathLst>
                <a:path w="71" h="192">
                  <a:moveTo>
                    <a:pt x="13" y="8"/>
                  </a:moveTo>
                  <a:lnTo>
                    <a:pt x="13" y="11"/>
                  </a:lnTo>
                  <a:lnTo>
                    <a:pt x="13" y="19"/>
                  </a:lnTo>
                  <a:lnTo>
                    <a:pt x="13" y="30"/>
                  </a:lnTo>
                  <a:lnTo>
                    <a:pt x="12" y="42"/>
                  </a:lnTo>
                  <a:lnTo>
                    <a:pt x="12" y="53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9" y="78"/>
                  </a:lnTo>
                  <a:lnTo>
                    <a:pt x="4" y="86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1" y="123"/>
                  </a:lnTo>
                  <a:lnTo>
                    <a:pt x="3" y="136"/>
                  </a:lnTo>
                  <a:lnTo>
                    <a:pt x="5" y="149"/>
                  </a:lnTo>
                  <a:lnTo>
                    <a:pt x="8" y="162"/>
                  </a:lnTo>
                  <a:lnTo>
                    <a:pt x="10" y="174"/>
                  </a:lnTo>
                  <a:lnTo>
                    <a:pt x="14" y="183"/>
                  </a:lnTo>
                  <a:lnTo>
                    <a:pt x="20" y="189"/>
                  </a:lnTo>
                  <a:lnTo>
                    <a:pt x="26" y="190"/>
                  </a:lnTo>
                  <a:lnTo>
                    <a:pt x="34" y="190"/>
                  </a:lnTo>
                  <a:lnTo>
                    <a:pt x="40" y="192"/>
                  </a:lnTo>
                  <a:lnTo>
                    <a:pt x="48" y="192"/>
                  </a:lnTo>
                  <a:lnTo>
                    <a:pt x="55" y="190"/>
                  </a:lnTo>
                  <a:lnTo>
                    <a:pt x="59" y="188"/>
                  </a:lnTo>
                  <a:lnTo>
                    <a:pt x="62" y="184"/>
                  </a:lnTo>
                  <a:lnTo>
                    <a:pt x="64" y="176"/>
                  </a:lnTo>
                  <a:lnTo>
                    <a:pt x="63" y="165"/>
                  </a:lnTo>
                  <a:lnTo>
                    <a:pt x="61" y="148"/>
                  </a:lnTo>
                  <a:lnTo>
                    <a:pt x="60" y="135"/>
                  </a:lnTo>
                  <a:lnTo>
                    <a:pt x="61" y="123"/>
                  </a:lnTo>
                  <a:lnTo>
                    <a:pt x="63" y="111"/>
                  </a:lnTo>
                  <a:lnTo>
                    <a:pt x="67" y="96"/>
                  </a:lnTo>
                  <a:lnTo>
                    <a:pt x="70" y="78"/>
                  </a:lnTo>
                  <a:lnTo>
                    <a:pt x="71" y="62"/>
                  </a:lnTo>
                  <a:lnTo>
                    <a:pt x="70" y="49"/>
                  </a:lnTo>
                  <a:lnTo>
                    <a:pt x="68" y="36"/>
                  </a:lnTo>
                  <a:lnTo>
                    <a:pt x="63" y="23"/>
                  </a:lnTo>
                  <a:lnTo>
                    <a:pt x="59" y="14"/>
                  </a:lnTo>
                  <a:lnTo>
                    <a:pt x="53" y="7"/>
                  </a:lnTo>
                  <a:lnTo>
                    <a:pt x="44" y="1"/>
                  </a:lnTo>
                  <a:lnTo>
                    <a:pt x="34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3" y="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1547280" y="2678760"/>
              <a:ext cx="308880" cy="364320"/>
            </a:xfrm>
            <a:custGeom>
              <a:avLst/>
              <a:gdLst/>
              <a:ahLst/>
              <a:rect l="l" t="t" r="r" b="b"/>
              <a:pathLst>
                <a:path w="298" h="352">
                  <a:moveTo>
                    <a:pt x="129" y="0"/>
                  </a:moveTo>
                  <a:lnTo>
                    <a:pt x="127" y="0"/>
                  </a:lnTo>
                  <a:lnTo>
                    <a:pt x="122" y="2"/>
                  </a:lnTo>
                  <a:lnTo>
                    <a:pt x="115" y="6"/>
                  </a:lnTo>
                  <a:lnTo>
                    <a:pt x="109" y="10"/>
                  </a:lnTo>
                  <a:lnTo>
                    <a:pt x="102" y="14"/>
                  </a:lnTo>
                  <a:lnTo>
                    <a:pt x="100" y="20"/>
                  </a:lnTo>
                  <a:lnTo>
                    <a:pt x="101" y="27"/>
                  </a:lnTo>
                  <a:lnTo>
                    <a:pt x="103" y="36"/>
                  </a:lnTo>
                  <a:lnTo>
                    <a:pt x="108" y="45"/>
                  </a:lnTo>
                  <a:lnTo>
                    <a:pt x="112" y="53"/>
                  </a:lnTo>
                  <a:lnTo>
                    <a:pt x="114" y="59"/>
                  </a:lnTo>
                  <a:lnTo>
                    <a:pt x="116" y="61"/>
                  </a:lnTo>
                  <a:lnTo>
                    <a:pt x="114" y="61"/>
                  </a:lnTo>
                  <a:lnTo>
                    <a:pt x="111" y="65"/>
                  </a:lnTo>
                  <a:lnTo>
                    <a:pt x="106" y="69"/>
                  </a:lnTo>
                  <a:lnTo>
                    <a:pt x="105" y="74"/>
                  </a:lnTo>
                  <a:lnTo>
                    <a:pt x="108" y="80"/>
                  </a:lnTo>
                  <a:lnTo>
                    <a:pt x="109" y="85"/>
                  </a:lnTo>
                  <a:lnTo>
                    <a:pt x="105" y="88"/>
                  </a:lnTo>
                  <a:lnTo>
                    <a:pt x="100" y="90"/>
                  </a:lnTo>
                  <a:lnTo>
                    <a:pt x="94" y="91"/>
                  </a:lnTo>
                  <a:lnTo>
                    <a:pt x="89" y="91"/>
                  </a:lnTo>
                  <a:lnTo>
                    <a:pt x="87" y="91"/>
                  </a:lnTo>
                  <a:lnTo>
                    <a:pt x="86" y="90"/>
                  </a:lnTo>
                  <a:lnTo>
                    <a:pt x="81" y="87"/>
                  </a:lnTo>
                  <a:lnTo>
                    <a:pt x="75" y="82"/>
                  </a:lnTo>
                  <a:lnTo>
                    <a:pt x="68" y="76"/>
                  </a:lnTo>
                  <a:lnTo>
                    <a:pt x="63" y="69"/>
                  </a:lnTo>
                  <a:lnTo>
                    <a:pt x="58" y="61"/>
                  </a:lnTo>
                  <a:lnTo>
                    <a:pt x="54" y="56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3" y="67"/>
                  </a:lnTo>
                  <a:lnTo>
                    <a:pt x="35" y="69"/>
                  </a:lnTo>
                  <a:lnTo>
                    <a:pt x="39" y="74"/>
                  </a:lnTo>
                  <a:lnTo>
                    <a:pt x="43" y="81"/>
                  </a:lnTo>
                  <a:lnTo>
                    <a:pt x="47" y="88"/>
                  </a:lnTo>
                  <a:lnTo>
                    <a:pt x="50" y="94"/>
                  </a:lnTo>
                  <a:lnTo>
                    <a:pt x="50" y="100"/>
                  </a:lnTo>
                  <a:lnTo>
                    <a:pt x="46" y="106"/>
                  </a:lnTo>
                  <a:lnTo>
                    <a:pt x="41" y="113"/>
                  </a:lnTo>
                  <a:lnTo>
                    <a:pt x="36" y="117"/>
                  </a:lnTo>
                  <a:lnTo>
                    <a:pt x="34" y="118"/>
                  </a:lnTo>
                  <a:lnTo>
                    <a:pt x="12" y="87"/>
                  </a:lnTo>
                  <a:lnTo>
                    <a:pt x="11" y="89"/>
                  </a:lnTo>
                  <a:lnTo>
                    <a:pt x="8" y="93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6"/>
                  </a:lnTo>
                  <a:lnTo>
                    <a:pt x="7" y="148"/>
                  </a:lnTo>
                  <a:lnTo>
                    <a:pt x="12" y="159"/>
                  </a:lnTo>
                  <a:lnTo>
                    <a:pt x="21" y="169"/>
                  </a:lnTo>
                  <a:lnTo>
                    <a:pt x="31" y="175"/>
                  </a:lnTo>
                  <a:lnTo>
                    <a:pt x="39" y="180"/>
                  </a:lnTo>
                  <a:lnTo>
                    <a:pt x="46" y="182"/>
                  </a:lnTo>
                  <a:lnTo>
                    <a:pt x="52" y="181"/>
                  </a:lnTo>
                  <a:lnTo>
                    <a:pt x="55" y="175"/>
                  </a:lnTo>
                  <a:lnTo>
                    <a:pt x="56" y="169"/>
                  </a:lnTo>
                  <a:lnTo>
                    <a:pt x="57" y="161"/>
                  </a:lnTo>
                  <a:lnTo>
                    <a:pt x="57" y="154"/>
                  </a:lnTo>
                  <a:lnTo>
                    <a:pt x="58" y="149"/>
                  </a:lnTo>
                  <a:lnTo>
                    <a:pt x="62" y="147"/>
                  </a:lnTo>
                  <a:lnTo>
                    <a:pt x="67" y="148"/>
                  </a:lnTo>
                  <a:lnTo>
                    <a:pt x="76" y="154"/>
                  </a:lnTo>
                  <a:lnTo>
                    <a:pt x="81" y="163"/>
                  </a:lnTo>
                  <a:lnTo>
                    <a:pt x="86" y="173"/>
                  </a:lnTo>
                  <a:lnTo>
                    <a:pt x="88" y="180"/>
                  </a:lnTo>
                  <a:lnTo>
                    <a:pt x="89" y="183"/>
                  </a:lnTo>
                  <a:lnTo>
                    <a:pt x="87" y="184"/>
                  </a:lnTo>
                  <a:lnTo>
                    <a:pt x="82" y="188"/>
                  </a:lnTo>
                  <a:lnTo>
                    <a:pt x="77" y="194"/>
                  </a:lnTo>
                  <a:lnTo>
                    <a:pt x="73" y="200"/>
                  </a:lnTo>
                  <a:lnTo>
                    <a:pt x="71" y="208"/>
                  </a:lnTo>
                  <a:lnTo>
                    <a:pt x="74" y="213"/>
                  </a:lnTo>
                  <a:lnTo>
                    <a:pt x="87" y="226"/>
                  </a:lnTo>
                  <a:lnTo>
                    <a:pt x="102" y="239"/>
                  </a:lnTo>
                  <a:lnTo>
                    <a:pt x="116" y="254"/>
                  </a:lnTo>
                  <a:lnTo>
                    <a:pt x="127" y="264"/>
                  </a:lnTo>
                  <a:lnTo>
                    <a:pt x="139" y="269"/>
                  </a:lnTo>
                  <a:lnTo>
                    <a:pt x="151" y="271"/>
                  </a:lnTo>
                  <a:lnTo>
                    <a:pt x="162" y="269"/>
                  </a:lnTo>
                  <a:lnTo>
                    <a:pt x="170" y="268"/>
                  </a:lnTo>
                  <a:lnTo>
                    <a:pt x="177" y="270"/>
                  </a:lnTo>
                  <a:lnTo>
                    <a:pt x="182" y="275"/>
                  </a:lnTo>
                  <a:lnTo>
                    <a:pt x="185" y="279"/>
                  </a:lnTo>
                  <a:lnTo>
                    <a:pt x="188" y="281"/>
                  </a:lnTo>
                  <a:lnTo>
                    <a:pt x="188" y="280"/>
                  </a:lnTo>
                  <a:lnTo>
                    <a:pt x="189" y="277"/>
                  </a:lnTo>
                  <a:lnTo>
                    <a:pt x="191" y="274"/>
                  </a:lnTo>
                  <a:lnTo>
                    <a:pt x="195" y="270"/>
                  </a:lnTo>
                  <a:lnTo>
                    <a:pt x="201" y="268"/>
                  </a:lnTo>
                  <a:lnTo>
                    <a:pt x="209" y="268"/>
                  </a:lnTo>
                  <a:lnTo>
                    <a:pt x="227" y="269"/>
                  </a:lnTo>
                  <a:lnTo>
                    <a:pt x="238" y="270"/>
                  </a:lnTo>
                  <a:lnTo>
                    <a:pt x="242" y="270"/>
                  </a:lnTo>
                  <a:lnTo>
                    <a:pt x="240" y="271"/>
                  </a:lnTo>
                  <a:lnTo>
                    <a:pt x="235" y="275"/>
                  </a:lnTo>
                  <a:lnTo>
                    <a:pt x="228" y="279"/>
                  </a:lnTo>
                  <a:lnTo>
                    <a:pt x="220" y="286"/>
                  </a:lnTo>
                  <a:lnTo>
                    <a:pt x="214" y="292"/>
                  </a:lnTo>
                  <a:lnTo>
                    <a:pt x="208" y="300"/>
                  </a:lnTo>
                  <a:lnTo>
                    <a:pt x="206" y="308"/>
                  </a:lnTo>
                  <a:lnTo>
                    <a:pt x="205" y="314"/>
                  </a:lnTo>
                  <a:lnTo>
                    <a:pt x="204" y="323"/>
                  </a:lnTo>
                  <a:lnTo>
                    <a:pt x="203" y="331"/>
                  </a:lnTo>
                  <a:lnTo>
                    <a:pt x="202" y="339"/>
                  </a:lnTo>
                  <a:lnTo>
                    <a:pt x="201" y="346"/>
                  </a:lnTo>
                  <a:lnTo>
                    <a:pt x="202" y="350"/>
                  </a:lnTo>
                  <a:lnTo>
                    <a:pt x="205" y="352"/>
                  </a:lnTo>
                  <a:lnTo>
                    <a:pt x="210" y="350"/>
                  </a:lnTo>
                  <a:lnTo>
                    <a:pt x="218" y="345"/>
                  </a:lnTo>
                  <a:lnTo>
                    <a:pt x="233" y="329"/>
                  </a:lnTo>
                  <a:lnTo>
                    <a:pt x="248" y="315"/>
                  </a:lnTo>
                  <a:lnTo>
                    <a:pt x="261" y="300"/>
                  </a:lnTo>
                  <a:lnTo>
                    <a:pt x="271" y="287"/>
                  </a:lnTo>
                  <a:lnTo>
                    <a:pt x="277" y="276"/>
                  </a:lnTo>
                  <a:lnTo>
                    <a:pt x="284" y="267"/>
                  </a:lnTo>
                  <a:lnTo>
                    <a:pt x="290" y="258"/>
                  </a:lnTo>
                  <a:lnTo>
                    <a:pt x="296" y="251"/>
                  </a:lnTo>
                  <a:lnTo>
                    <a:pt x="298" y="242"/>
                  </a:lnTo>
                  <a:lnTo>
                    <a:pt x="295" y="234"/>
                  </a:lnTo>
                  <a:lnTo>
                    <a:pt x="286" y="228"/>
                  </a:lnTo>
                  <a:lnTo>
                    <a:pt x="275" y="224"/>
                  </a:lnTo>
                  <a:lnTo>
                    <a:pt x="262" y="222"/>
                  </a:lnTo>
                  <a:lnTo>
                    <a:pt x="248" y="220"/>
                  </a:lnTo>
                  <a:lnTo>
                    <a:pt x="233" y="217"/>
                  </a:lnTo>
                  <a:lnTo>
                    <a:pt x="221" y="213"/>
                  </a:lnTo>
                  <a:lnTo>
                    <a:pt x="213" y="208"/>
                  </a:lnTo>
                  <a:lnTo>
                    <a:pt x="207" y="200"/>
                  </a:lnTo>
                  <a:lnTo>
                    <a:pt x="204" y="197"/>
                  </a:lnTo>
                  <a:lnTo>
                    <a:pt x="201" y="196"/>
                  </a:lnTo>
                  <a:lnTo>
                    <a:pt x="196" y="196"/>
                  </a:lnTo>
                  <a:lnTo>
                    <a:pt x="192" y="197"/>
                  </a:lnTo>
                  <a:lnTo>
                    <a:pt x="188" y="197"/>
                  </a:lnTo>
                  <a:lnTo>
                    <a:pt x="184" y="195"/>
                  </a:lnTo>
                  <a:lnTo>
                    <a:pt x="180" y="189"/>
                  </a:lnTo>
                  <a:lnTo>
                    <a:pt x="178" y="178"/>
                  </a:lnTo>
                  <a:lnTo>
                    <a:pt x="177" y="158"/>
                  </a:lnTo>
                  <a:lnTo>
                    <a:pt x="178" y="137"/>
                  </a:lnTo>
                  <a:lnTo>
                    <a:pt x="180" y="116"/>
                  </a:lnTo>
                  <a:lnTo>
                    <a:pt x="181" y="97"/>
                  </a:lnTo>
                  <a:lnTo>
                    <a:pt x="179" y="80"/>
                  </a:lnTo>
                  <a:lnTo>
                    <a:pt x="174" y="61"/>
                  </a:lnTo>
                  <a:lnTo>
                    <a:pt x="168" y="49"/>
                  </a:lnTo>
                  <a:lnTo>
                    <a:pt x="160" y="38"/>
                  </a:lnTo>
                  <a:lnTo>
                    <a:pt x="151" y="27"/>
                  </a:lnTo>
                  <a:lnTo>
                    <a:pt x="142" y="16"/>
                  </a:lnTo>
                  <a:lnTo>
                    <a:pt x="135" y="8"/>
                  </a:lnTo>
                  <a:lnTo>
                    <a:pt x="132" y="2"/>
                  </a:lnTo>
                  <a:lnTo>
                    <a:pt x="129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6"/>
            <p:cNvSpPr/>
            <p:nvPr/>
          </p:nvSpPr>
          <p:spPr>
            <a:xfrm>
              <a:off x="1647000" y="3235680"/>
              <a:ext cx="215280" cy="192240"/>
            </a:xfrm>
            <a:custGeom>
              <a:avLst/>
              <a:gdLst/>
              <a:ahLst/>
              <a:rect l="l" t="t" r="r" b="b"/>
              <a:pathLst>
                <a:path w="208" h="186">
                  <a:moveTo>
                    <a:pt x="14" y="46"/>
                  </a:moveTo>
                  <a:lnTo>
                    <a:pt x="18" y="35"/>
                  </a:lnTo>
                  <a:lnTo>
                    <a:pt x="23" y="26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6" y="15"/>
                  </a:lnTo>
                  <a:lnTo>
                    <a:pt x="43" y="10"/>
                  </a:lnTo>
                  <a:lnTo>
                    <a:pt x="51" y="6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3" y="1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7" y="16"/>
                  </a:lnTo>
                  <a:lnTo>
                    <a:pt x="101" y="25"/>
                  </a:lnTo>
                  <a:lnTo>
                    <a:pt x="106" y="36"/>
                  </a:lnTo>
                  <a:lnTo>
                    <a:pt x="111" y="47"/>
                  </a:lnTo>
                  <a:lnTo>
                    <a:pt x="119" y="56"/>
                  </a:lnTo>
                  <a:lnTo>
                    <a:pt x="129" y="62"/>
                  </a:lnTo>
                  <a:lnTo>
                    <a:pt x="141" y="64"/>
                  </a:lnTo>
                  <a:lnTo>
                    <a:pt x="153" y="65"/>
                  </a:lnTo>
                  <a:lnTo>
                    <a:pt x="165" y="69"/>
                  </a:lnTo>
                  <a:lnTo>
                    <a:pt x="175" y="74"/>
                  </a:lnTo>
                  <a:lnTo>
                    <a:pt x="181" y="79"/>
                  </a:lnTo>
                  <a:lnTo>
                    <a:pt x="189" y="85"/>
                  </a:lnTo>
                  <a:lnTo>
                    <a:pt x="196" y="89"/>
                  </a:lnTo>
                  <a:lnTo>
                    <a:pt x="202" y="95"/>
                  </a:lnTo>
                  <a:lnTo>
                    <a:pt x="207" y="100"/>
                  </a:lnTo>
                  <a:lnTo>
                    <a:pt x="208" y="107"/>
                  </a:lnTo>
                  <a:lnTo>
                    <a:pt x="204" y="114"/>
                  </a:lnTo>
                  <a:lnTo>
                    <a:pt x="198" y="123"/>
                  </a:lnTo>
                  <a:lnTo>
                    <a:pt x="189" y="133"/>
                  </a:lnTo>
                  <a:lnTo>
                    <a:pt x="179" y="143"/>
                  </a:lnTo>
                  <a:lnTo>
                    <a:pt x="168" y="153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2" y="168"/>
                  </a:lnTo>
                  <a:lnTo>
                    <a:pt x="136" y="167"/>
                  </a:lnTo>
                  <a:lnTo>
                    <a:pt x="133" y="165"/>
                  </a:lnTo>
                  <a:lnTo>
                    <a:pt x="131" y="162"/>
                  </a:lnTo>
                  <a:lnTo>
                    <a:pt x="129" y="158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1" y="162"/>
                  </a:lnTo>
                  <a:lnTo>
                    <a:pt x="99" y="167"/>
                  </a:lnTo>
                  <a:lnTo>
                    <a:pt x="84" y="174"/>
                  </a:lnTo>
                  <a:lnTo>
                    <a:pt x="69" y="180"/>
                  </a:lnTo>
                  <a:lnTo>
                    <a:pt x="54" y="185"/>
                  </a:lnTo>
                  <a:lnTo>
                    <a:pt x="43" y="186"/>
                  </a:lnTo>
                  <a:lnTo>
                    <a:pt x="32" y="185"/>
                  </a:lnTo>
                  <a:lnTo>
                    <a:pt x="23" y="185"/>
                  </a:lnTo>
                  <a:lnTo>
                    <a:pt x="13" y="183"/>
                  </a:lnTo>
                  <a:lnTo>
                    <a:pt x="6" y="181"/>
                  </a:lnTo>
                  <a:lnTo>
                    <a:pt x="2" y="177"/>
                  </a:lnTo>
                  <a:lnTo>
                    <a:pt x="1" y="171"/>
                  </a:lnTo>
                  <a:lnTo>
                    <a:pt x="2" y="166"/>
                  </a:lnTo>
                  <a:lnTo>
                    <a:pt x="1" y="160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3" y="151"/>
                  </a:lnTo>
                  <a:lnTo>
                    <a:pt x="8" y="151"/>
                  </a:lnTo>
                  <a:lnTo>
                    <a:pt x="19" y="153"/>
                  </a:lnTo>
                  <a:lnTo>
                    <a:pt x="38" y="156"/>
                  </a:lnTo>
                  <a:lnTo>
                    <a:pt x="52" y="156"/>
                  </a:lnTo>
                  <a:lnTo>
                    <a:pt x="63" y="154"/>
                  </a:lnTo>
                  <a:lnTo>
                    <a:pt x="72" y="150"/>
                  </a:lnTo>
                  <a:lnTo>
                    <a:pt x="77" y="145"/>
                  </a:lnTo>
                  <a:lnTo>
                    <a:pt x="77" y="142"/>
                  </a:lnTo>
                  <a:lnTo>
                    <a:pt x="74" y="140"/>
                  </a:lnTo>
                  <a:lnTo>
                    <a:pt x="68" y="136"/>
                  </a:lnTo>
                  <a:lnTo>
                    <a:pt x="60" y="135"/>
                  </a:lnTo>
                  <a:lnTo>
                    <a:pt x="54" y="134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51" y="131"/>
                  </a:lnTo>
                  <a:lnTo>
                    <a:pt x="51" y="128"/>
                  </a:lnTo>
                  <a:lnTo>
                    <a:pt x="54" y="122"/>
                  </a:lnTo>
                  <a:lnTo>
                    <a:pt x="60" y="114"/>
                  </a:lnTo>
                  <a:lnTo>
                    <a:pt x="68" y="106"/>
                  </a:lnTo>
                  <a:lnTo>
                    <a:pt x="76" y="99"/>
                  </a:lnTo>
                  <a:lnTo>
                    <a:pt x="84" y="95"/>
                  </a:lnTo>
                  <a:lnTo>
                    <a:pt x="89" y="91"/>
                  </a:lnTo>
                  <a:lnTo>
                    <a:pt x="92" y="90"/>
                  </a:lnTo>
                  <a:lnTo>
                    <a:pt x="92" y="89"/>
                  </a:lnTo>
                  <a:lnTo>
                    <a:pt x="94" y="85"/>
                  </a:lnTo>
                  <a:lnTo>
                    <a:pt x="96" y="81"/>
                  </a:lnTo>
                  <a:lnTo>
                    <a:pt x="96" y="75"/>
                  </a:lnTo>
                  <a:lnTo>
                    <a:pt x="93" y="72"/>
                  </a:lnTo>
                  <a:lnTo>
                    <a:pt x="88" y="71"/>
                  </a:lnTo>
                  <a:lnTo>
                    <a:pt x="81" y="71"/>
                  </a:lnTo>
                  <a:lnTo>
                    <a:pt x="73" y="73"/>
                  </a:lnTo>
                  <a:lnTo>
                    <a:pt x="65" y="75"/>
                  </a:lnTo>
                  <a:lnTo>
                    <a:pt x="60" y="77"/>
                  </a:lnTo>
                  <a:lnTo>
                    <a:pt x="58" y="78"/>
                  </a:lnTo>
                  <a:lnTo>
                    <a:pt x="57" y="76"/>
                  </a:lnTo>
                  <a:lnTo>
                    <a:pt x="51" y="72"/>
                  </a:lnTo>
                  <a:lnTo>
                    <a:pt x="46" y="66"/>
                  </a:lnTo>
                  <a:lnTo>
                    <a:pt x="40" y="61"/>
                  </a:lnTo>
                  <a:lnTo>
                    <a:pt x="36" y="56"/>
                  </a:lnTo>
                  <a:lnTo>
                    <a:pt x="30" y="52"/>
                  </a:lnTo>
                  <a:lnTo>
                    <a:pt x="23" y="49"/>
                  </a:lnTo>
                  <a:lnTo>
                    <a:pt x="17" y="47"/>
                  </a:lnTo>
                  <a:lnTo>
                    <a:pt x="14" y="4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1595160" y="3604320"/>
              <a:ext cx="146880" cy="202680"/>
            </a:xfrm>
            <a:custGeom>
              <a:avLst/>
              <a:gdLst/>
              <a:ahLst/>
              <a:rect l="l" t="t" r="r" b="b"/>
              <a:pathLst>
                <a:path w="144" h="196">
                  <a:moveTo>
                    <a:pt x="0" y="133"/>
                  </a:moveTo>
                  <a:lnTo>
                    <a:pt x="0" y="126"/>
                  </a:lnTo>
                  <a:lnTo>
                    <a:pt x="1" y="122"/>
                  </a:lnTo>
                  <a:lnTo>
                    <a:pt x="5" y="115"/>
                  </a:lnTo>
                  <a:lnTo>
                    <a:pt x="9" y="106"/>
                  </a:lnTo>
                  <a:lnTo>
                    <a:pt x="15" y="93"/>
                  </a:lnTo>
                  <a:lnTo>
                    <a:pt x="18" y="80"/>
                  </a:lnTo>
                  <a:lnTo>
                    <a:pt x="19" y="69"/>
                  </a:lnTo>
                  <a:lnTo>
                    <a:pt x="19" y="60"/>
                  </a:lnTo>
                  <a:lnTo>
                    <a:pt x="19" y="53"/>
                  </a:lnTo>
                  <a:lnTo>
                    <a:pt x="22" y="48"/>
                  </a:lnTo>
                  <a:lnTo>
                    <a:pt x="30" y="45"/>
                  </a:lnTo>
                  <a:lnTo>
                    <a:pt x="43" y="43"/>
                  </a:lnTo>
                  <a:lnTo>
                    <a:pt x="52" y="42"/>
                  </a:lnTo>
                  <a:lnTo>
                    <a:pt x="57" y="43"/>
                  </a:lnTo>
                  <a:lnTo>
                    <a:pt x="58" y="46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7" y="37"/>
                  </a:lnTo>
                  <a:lnTo>
                    <a:pt x="78" y="28"/>
                  </a:lnTo>
                  <a:lnTo>
                    <a:pt x="86" y="21"/>
                  </a:lnTo>
                  <a:lnTo>
                    <a:pt x="92" y="15"/>
                  </a:lnTo>
                  <a:lnTo>
                    <a:pt x="99" y="8"/>
                  </a:lnTo>
                  <a:lnTo>
                    <a:pt x="104" y="2"/>
                  </a:lnTo>
                  <a:lnTo>
                    <a:pt x="110" y="0"/>
                  </a:lnTo>
                  <a:lnTo>
                    <a:pt x="113" y="2"/>
                  </a:lnTo>
                  <a:lnTo>
                    <a:pt x="115" y="9"/>
                  </a:lnTo>
                  <a:lnTo>
                    <a:pt x="116" y="20"/>
                  </a:lnTo>
                  <a:lnTo>
                    <a:pt x="115" y="33"/>
                  </a:lnTo>
                  <a:lnTo>
                    <a:pt x="114" y="47"/>
                  </a:lnTo>
                  <a:lnTo>
                    <a:pt x="113" y="60"/>
                  </a:lnTo>
                  <a:lnTo>
                    <a:pt x="114" y="73"/>
                  </a:lnTo>
                  <a:lnTo>
                    <a:pt x="117" y="82"/>
                  </a:lnTo>
                  <a:lnTo>
                    <a:pt x="124" y="91"/>
                  </a:lnTo>
                  <a:lnTo>
                    <a:pt x="132" y="100"/>
                  </a:lnTo>
                  <a:lnTo>
                    <a:pt x="139" y="109"/>
                  </a:lnTo>
                  <a:lnTo>
                    <a:pt x="144" y="117"/>
                  </a:lnTo>
                  <a:lnTo>
                    <a:pt x="144" y="127"/>
                  </a:lnTo>
                  <a:lnTo>
                    <a:pt x="138" y="137"/>
                  </a:lnTo>
                  <a:lnTo>
                    <a:pt x="127" y="146"/>
                  </a:lnTo>
                  <a:lnTo>
                    <a:pt x="113" y="155"/>
                  </a:lnTo>
                  <a:lnTo>
                    <a:pt x="99" y="162"/>
                  </a:lnTo>
                  <a:lnTo>
                    <a:pt x="88" y="169"/>
                  </a:lnTo>
                  <a:lnTo>
                    <a:pt x="80" y="176"/>
                  </a:lnTo>
                  <a:lnTo>
                    <a:pt x="75" y="184"/>
                  </a:lnTo>
                  <a:lnTo>
                    <a:pt x="70" y="191"/>
                  </a:lnTo>
                  <a:lnTo>
                    <a:pt x="67" y="196"/>
                  </a:lnTo>
                  <a:lnTo>
                    <a:pt x="64" y="196"/>
                  </a:lnTo>
                  <a:lnTo>
                    <a:pt x="59" y="192"/>
                  </a:lnTo>
                  <a:lnTo>
                    <a:pt x="56" y="183"/>
                  </a:lnTo>
                  <a:lnTo>
                    <a:pt x="56" y="176"/>
                  </a:lnTo>
                  <a:lnTo>
                    <a:pt x="57" y="170"/>
                  </a:lnTo>
                  <a:lnTo>
                    <a:pt x="60" y="162"/>
                  </a:lnTo>
                  <a:lnTo>
                    <a:pt x="64" y="150"/>
                  </a:lnTo>
                  <a:lnTo>
                    <a:pt x="67" y="137"/>
                  </a:lnTo>
                  <a:lnTo>
                    <a:pt x="68" y="128"/>
                  </a:lnTo>
                  <a:lnTo>
                    <a:pt x="68" y="121"/>
                  </a:lnTo>
                  <a:lnTo>
                    <a:pt x="66" y="115"/>
                  </a:lnTo>
                  <a:lnTo>
                    <a:pt x="63" y="109"/>
                  </a:lnTo>
                  <a:lnTo>
                    <a:pt x="59" y="101"/>
                  </a:lnTo>
                  <a:lnTo>
                    <a:pt x="58" y="95"/>
                  </a:lnTo>
                  <a:lnTo>
                    <a:pt x="59" y="92"/>
                  </a:lnTo>
                  <a:lnTo>
                    <a:pt x="60" y="91"/>
                  </a:lnTo>
                  <a:lnTo>
                    <a:pt x="58" y="92"/>
                  </a:lnTo>
                  <a:lnTo>
                    <a:pt x="53" y="95"/>
                  </a:lnTo>
                  <a:lnTo>
                    <a:pt x="45" y="101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9" y="123"/>
                  </a:lnTo>
                  <a:lnTo>
                    <a:pt x="11" y="131"/>
                  </a:lnTo>
                  <a:lnTo>
                    <a:pt x="6" y="134"/>
                  </a:lnTo>
                  <a:lnTo>
                    <a:pt x="2" y="135"/>
                  </a:lnTo>
                  <a:lnTo>
                    <a:pt x="0" y="134"/>
                  </a:lnTo>
                  <a:lnTo>
                    <a:pt x="0" y="13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1721520" y="3498840"/>
              <a:ext cx="111600" cy="18000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7" y="176"/>
                  </a:moveTo>
                  <a:lnTo>
                    <a:pt x="5" y="173"/>
                  </a:lnTo>
                  <a:lnTo>
                    <a:pt x="4" y="166"/>
                  </a:lnTo>
                  <a:lnTo>
                    <a:pt x="2" y="156"/>
                  </a:lnTo>
                  <a:lnTo>
                    <a:pt x="1" y="145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12" y="111"/>
                  </a:lnTo>
                  <a:lnTo>
                    <a:pt x="22" y="106"/>
                  </a:lnTo>
                  <a:lnTo>
                    <a:pt x="32" y="101"/>
                  </a:lnTo>
                  <a:lnTo>
                    <a:pt x="39" y="97"/>
                  </a:lnTo>
                  <a:lnTo>
                    <a:pt x="44" y="91"/>
                  </a:lnTo>
                  <a:lnTo>
                    <a:pt x="43" y="85"/>
                  </a:lnTo>
                  <a:lnTo>
                    <a:pt x="38" y="79"/>
                  </a:lnTo>
                  <a:lnTo>
                    <a:pt x="33" y="75"/>
                  </a:lnTo>
                  <a:lnTo>
                    <a:pt x="28" y="72"/>
                  </a:lnTo>
                  <a:lnTo>
                    <a:pt x="26" y="71"/>
                  </a:lnTo>
                  <a:lnTo>
                    <a:pt x="28" y="69"/>
                  </a:lnTo>
                  <a:lnTo>
                    <a:pt x="33" y="65"/>
                  </a:lnTo>
                  <a:lnTo>
                    <a:pt x="40" y="58"/>
                  </a:lnTo>
                  <a:lnTo>
                    <a:pt x="49" y="51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8" y="26"/>
                  </a:lnTo>
                  <a:lnTo>
                    <a:pt x="76" y="16"/>
                  </a:lnTo>
                  <a:lnTo>
                    <a:pt x="82" y="8"/>
                  </a:lnTo>
                  <a:lnTo>
                    <a:pt x="90" y="2"/>
                  </a:lnTo>
                  <a:lnTo>
                    <a:pt x="96" y="0"/>
                  </a:lnTo>
                  <a:lnTo>
                    <a:pt x="103" y="4"/>
                  </a:lnTo>
                  <a:lnTo>
                    <a:pt x="106" y="13"/>
                  </a:lnTo>
                  <a:lnTo>
                    <a:pt x="105" y="22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5" y="56"/>
                  </a:lnTo>
                  <a:lnTo>
                    <a:pt x="78" y="69"/>
                  </a:lnTo>
                  <a:lnTo>
                    <a:pt x="72" y="81"/>
                  </a:lnTo>
                  <a:lnTo>
                    <a:pt x="67" y="101"/>
                  </a:lnTo>
                  <a:lnTo>
                    <a:pt x="61" y="120"/>
                  </a:lnTo>
                  <a:lnTo>
                    <a:pt x="56" y="138"/>
                  </a:lnTo>
                  <a:lnTo>
                    <a:pt x="50" y="154"/>
                  </a:lnTo>
                  <a:lnTo>
                    <a:pt x="44" y="164"/>
                  </a:lnTo>
                  <a:lnTo>
                    <a:pt x="36" y="169"/>
                  </a:lnTo>
                  <a:lnTo>
                    <a:pt x="26" y="173"/>
                  </a:lnTo>
                  <a:lnTo>
                    <a:pt x="16" y="175"/>
                  </a:lnTo>
                  <a:lnTo>
                    <a:pt x="9" y="176"/>
                  </a:lnTo>
                  <a:lnTo>
                    <a:pt x="7" y="17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1928880" y="3735000"/>
              <a:ext cx="97200" cy="156960"/>
            </a:xfrm>
            <a:custGeom>
              <a:avLst/>
              <a:gdLst/>
              <a:ahLst/>
              <a:rect l="l" t="t" r="r" b="b"/>
              <a:pathLst>
                <a:path w="94" h="152">
                  <a:moveTo>
                    <a:pt x="0" y="43"/>
                  </a:moveTo>
                  <a:lnTo>
                    <a:pt x="0" y="38"/>
                  </a:lnTo>
                  <a:lnTo>
                    <a:pt x="1" y="32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2" y="7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45" y="6"/>
                  </a:lnTo>
                  <a:lnTo>
                    <a:pt x="59" y="14"/>
                  </a:lnTo>
                  <a:lnTo>
                    <a:pt x="70" y="26"/>
                  </a:lnTo>
                  <a:lnTo>
                    <a:pt x="75" y="38"/>
                  </a:lnTo>
                  <a:lnTo>
                    <a:pt x="78" y="56"/>
                  </a:lnTo>
                  <a:lnTo>
                    <a:pt x="85" y="75"/>
                  </a:lnTo>
                  <a:lnTo>
                    <a:pt x="91" y="89"/>
                  </a:lnTo>
                  <a:lnTo>
                    <a:pt x="92" y="96"/>
                  </a:lnTo>
                  <a:lnTo>
                    <a:pt x="90" y="104"/>
                  </a:lnTo>
                  <a:lnTo>
                    <a:pt x="88" y="113"/>
                  </a:lnTo>
                  <a:lnTo>
                    <a:pt x="86" y="124"/>
                  </a:lnTo>
                  <a:lnTo>
                    <a:pt x="87" y="130"/>
                  </a:lnTo>
                  <a:lnTo>
                    <a:pt x="89" y="136"/>
                  </a:lnTo>
                  <a:lnTo>
                    <a:pt x="92" y="141"/>
                  </a:lnTo>
                  <a:lnTo>
                    <a:pt x="93" y="146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5" y="152"/>
                  </a:lnTo>
                  <a:lnTo>
                    <a:pt x="72" y="152"/>
                  </a:lnTo>
                  <a:lnTo>
                    <a:pt x="57" y="152"/>
                  </a:lnTo>
                  <a:lnTo>
                    <a:pt x="43" y="152"/>
                  </a:lnTo>
                  <a:lnTo>
                    <a:pt x="32" y="150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1" y="136"/>
                  </a:lnTo>
                  <a:lnTo>
                    <a:pt x="9" y="124"/>
                  </a:lnTo>
                  <a:lnTo>
                    <a:pt x="9" y="110"/>
                  </a:lnTo>
                  <a:lnTo>
                    <a:pt x="8" y="94"/>
                  </a:lnTo>
                  <a:lnTo>
                    <a:pt x="6" y="79"/>
                  </a:lnTo>
                  <a:lnTo>
                    <a:pt x="4" y="65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4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109240" y="4420080"/>
              <a:ext cx="153000" cy="186120"/>
            </a:xfrm>
            <a:custGeom>
              <a:avLst/>
              <a:gdLst/>
              <a:ahLst/>
              <a:rect l="l" t="t" r="r" b="b"/>
              <a:pathLst>
                <a:path w="149" h="180">
                  <a:moveTo>
                    <a:pt x="0" y="180"/>
                  </a:moveTo>
                  <a:lnTo>
                    <a:pt x="1" y="178"/>
                  </a:lnTo>
                  <a:lnTo>
                    <a:pt x="3" y="172"/>
                  </a:lnTo>
                  <a:lnTo>
                    <a:pt x="8" y="164"/>
                  </a:lnTo>
                  <a:lnTo>
                    <a:pt x="11" y="153"/>
                  </a:lnTo>
                  <a:lnTo>
                    <a:pt x="16" y="139"/>
                  </a:lnTo>
                  <a:lnTo>
                    <a:pt x="19" y="125"/>
                  </a:lnTo>
                  <a:lnTo>
                    <a:pt x="20" y="116"/>
                  </a:lnTo>
                  <a:lnTo>
                    <a:pt x="21" y="110"/>
                  </a:lnTo>
                  <a:lnTo>
                    <a:pt x="22" y="106"/>
                  </a:lnTo>
                  <a:lnTo>
                    <a:pt x="23" y="102"/>
                  </a:lnTo>
                  <a:lnTo>
                    <a:pt x="26" y="99"/>
                  </a:lnTo>
                  <a:lnTo>
                    <a:pt x="30" y="95"/>
                  </a:lnTo>
                  <a:lnTo>
                    <a:pt x="35" y="88"/>
                  </a:lnTo>
                  <a:lnTo>
                    <a:pt x="43" y="78"/>
                  </a:lnTo>
                  <a:lnTo>
                    <a:pt x="53" y="63"/>
                  </a:lnTo>
                  <a:lnTo>
                    <a:pt x="59" y="49"/>
                  </a:lnTo>
                  <a:lnTo>
                    <a:pt x="65" y="37"/>
                  </a:lnTo>
                  <a:lnTo>
                    <a:pt x="70" y="26"/>
                  </a:lnTo>
                  <a:lnTo>
                    <a:pt x="78" y="18"/>
                  </a:lnTo>
                  <a:lnTo>
                    <a:pt x="89" y="14"/>
                  </a:lnTo>
                  <a:lnTo>
                    <a:pt x="102" y="9"/>
                  </a:lnTo>
                  <a:lnTo>
                    <a:pt x="112" y="6"/>
                  </a:lnTo>
                  <a:lnTo>
                    <a:pt x="120" y="3"/>
                  </a:lnTo>
                  <a:lnTo>
                    <a:pt x="126" y="0"/>
                  </a:lnTo>
                  <a:lnTo>
                    <a:pt x="129" y="2"/>
                  </a:lnTo>
                  <a:lnTo>
                    <a:pt x="129" y="5"/>
                  </a:lnTo>
                  <a:lnTo>
                    <a:pt x="128" y="14"/>
                  </a:lnTo>
                  <a:lnTo>
                    <a:pt x="126" y="25"/>
                  </a:lnTo>
                  <a:lnTo>
                    <a:pt x="126" y="35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9" y="54"/>
                  </a:lnTo>
                  <a:lnTo>
                    <a:pt x="144" y="55"/>
                  </a:lnTo>
                  <a:lnTo>
                    <a:pt x="147" y="57"/>
                  </a:lnTo>
                  <a:lnTo>
                    <a:pt x="149" y="61"/>
                  </a:lnTo>
                  <a:lnTo>
                    <a:pt x="149" y="64"/>
                  </a:lnTo>
                  <a:lnTo>
                    <a:pt x="146" y="72"/>
                  </a:lnTo>
                  <a:lnTo>
                    <a:pt x="140" y="81"/>
                  </a:lnTo>
                  <a:lnTo>
                    <a:pt x="132" y="95"/>
                  </a:lnTo>
                  <a:lnTo>
                    <a:pt x="125" y="107"/>
                  </a:lnTo>
                  <a:lnTo>
                    <a:pt x="120" y="116"/>
                  </a:lnTo>
                  <a:lnTo>
                    <a:pt x="113" y="125"/>
                  </a:lnTo>
                  <a:lnTo>
                    <a:pt x="103" y="135"/>
                  </a:lnTo>
                  <a:lnTo>
                    <a:pt x="90" y="147"/>
                  </a:lnTo>
                  <a:lnTo>
                    <a:pt x="72" y="160"/>
                  </a:lnTo>
                  <a:lnTo>
                    <a:pt x="57" y="169"/>
                  </a:lnTo>
                  <a:lnTo>
                    <a:pt x="45" y="174"/>
                  </a:lnTo>
                  <a:lnTo>
                    <a:pt x="35" y="177"/>
                  </a:lnTo>
                  <a:lnTo>
                    <a:pt x="26" y="179"/>
                  </a:lnTo>
                  <a:lnTo>
                    <a:pt x="18" y="180"/>
                  </a:lnTo>
                  <a:lnTo>
                    <a:pt x="9" y="180"/>
                  </a:lnTo>
                  <a:lnTo>
                    <a:pt x="2" y="180"/>
                  </a:lnTo>
                  <a:lnTo>
                    <a:pt x="0" y="18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148120" y="4944240"/>
              <a:ext cx="199080" cy="15948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30" y="13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18" y="23"/>
                  </a:lnTo>
                  <a:lnTo>
                    <a:pt x="11" y="30"/>
                  </a:lnTo>
                  <a:lnTo>
                    <a:pt x="5" y="38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5" y="71"/>
                  </a:lnTo>
                  <a:lnTo>
                    <a:pt x="16" y="86"/>
                  </a:lnTo>
                  <a:lnTo>
                    <a:pt x="25" y="100"/>
                  </a:lnTo>
                  <a:lnTo>
                    <a:pt x="34" y="111"/>
                  </a:lnTo>
                  <a:lnTo>
                    <a:pt x="45" y="119"/>
                  </a:lnTo>
                  <a:lnTo>
                    <a:pt x="57" y="126"/>
                  </a:lnTo>
                  <a:lnTo>
                    <a:pt x="64" y="131"/>
                  </a:lnTo>
                  <a:lnTo>
                    <a:pt x="67" y="137"/>
                  </a:lnTo>
                  <a:lnTo>
                    <a:pt x="68" y="142"/>
                  </a:lnTo>
                  <a:lnTo>
                    <a:pt x="68" y="148"/>
                  </a:lnTo>
                  <a:lnTo>
                    <a:pt x="68" y="152"/>
                  </a:lnTo>
                  <a:lnTo>
                    <a:pt x="69" y="155"/>
                  </a:lnTo>
                  <a:lnTo>
                    <a:pt x="74" y="155"/>
                  </a:lnTo>
                  <a:lnTo>
                    <a:pt x="80" y="153"/>
                  </a:lnTo>
                  <a:lnTo>
                    <a:pt x="100" y="143"/>
                  </a:lnTo>
                  <a:lnTo>
                    <a:pt x="120" y="129"/>
                  </a:lnTo>
                  <a:lnTo>
                    <a:pt x="140" y="114"/>
                  </a:lnTo>
                  <a:lnTo>
                    <a:pt x="155" y="97"/>
                  </a:lnTo>
                  <a:lnTo>
                    <a:pt x="163" y="90"/>
                  </a:lnTo>
                  <a:lnTo>
                    <a:pt x="171" y="84"/>
                  </a:lnTo>
                  <a:lnTo>
                    <a:pt x="180" y="79"/>
                  </a:lnTo>
                  <a:lnTo>
                    <a:pt x="187" y="74"/>
                  </a:lnTo>
                  <a:lnTo>
                    <a:pt x="192" y="70"/>
                  </a:lnTo>
                  <a:lnTo>
                    <a:pt x="193" y="67"/>
                  </a:lnTo>
                  <a:lnTo>
                    <a:pt x="190" y="62"/>
                  </a:lnTo>
                  <a:lnTo>
                    <a:pt x="182" y="58"/>
                  </a:lnTo>
                  <a:lnTo>
                    <a:pt x="169" y="53"/>
                  </a:lnTo>
                  <a:lnTo>
                    <a:pt x="155" y="49"/>
                  </a:lnTo>
                  <a:lnTo>
                    <a:pt x="143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7" y="33"/>
                  </a:lnTo>
                  <a:lnTo>
                    <a:pt x="114" y="24"/>
                  </a:lnTo>
                  <a:lnTo>
                    <a:pt x="111" y="14"/>
                  </a:lnTo>
                  <a:lnTo>
                    <a:pt x="104" y="7"/>
                  </a:lnTo>
                  <a:lnTo>
                    <a:pt x="95" y="2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7"/>
                  </a:lnTo>
                  <a:lnTo>
                    <a:pt x="40" y="10"/>
                  </a:lnTo>
                  <a:lnTo>
                    <a:pt x="33" y="12"/>
                  </a:lnTo>
                  <a:lnTo>
                    <a:pt x="30" y="1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3198600" y="6335640"/>
              <a:ext cx="165600" cy="105480"/>
            </a:xfrm>
            <a:custGeom>
              <a:avLst/>
              <a:gdLst/>
              <a:ahLst/>
              <a:rect l="l" t="t" r="r" b="b"/>
              <a:pathLst>
                <a:path w="160" h="103">
                  <a:moveTo>
                    <a:pt x="0" y="64"/>
                  </a:moveTo>
                  <a:lnTo>
                    <a:pt x="1" y="60"/>
                  </a:lnTo>
                  <a:lnTo>
                    <a:pt x="2" y="54"/>
                  </a:lnTo>
                  <a:lnTo>
                    <a:pt x="7" y="45"/>
                  </a:lnTo>
                  <a:lnTo>
                    <a:pt x="13" y="35"/>
                  </a:lnTo>
                  <a:lnTo>
                    <a:pt x="23" y="26"/>
                  </a:lnTo>
                  <a:lnTo>
                    <a:pt x="37" y="19"/>
                  </a:lnTo>
                  <a:lnTo>
                    <a:pt x="51" y="13"/>
                  </a:lnTo>
                  <a:lnTo>
                    <a:pt x="64" y="8"/>
                  </a:lnTo>
                  <a:lnTo>
                    <a:pt x="75" y="3"/>
                  </a:lnTo>
                  <a:lnTo>
                    <a:pt x="87" y="0"/>
                  </a:lnTo>
                  <a:lnTo>
                    <a:pt x="98" y="1"/>
                  </a:lnTo>
                  <a:lnTo>
                    <a:pt x="109" y="6"/>
                  </a:lnTo>
                  <a:lnTo>
                    <a:pt x="121" y="14"/>
                  </a:lnTo>
                  <a:lnTo>
                    <a:pt x="131" y="23"/>
                  </a:lnTo>
                  <a:lnTo>
                    <a:pt x="139" y="27"/>
                  </a:lnTo>
                  <a:lnTo>
                    <a:pt x="147" y="31"/>
                  </a:lnTo>
                  <a:lnTo>
                    <a:pt x="154" y="33"/>
                  </a:lnTo>
                  <a:lnTo>
                    <a:pt x="158" y="34"/>
                  </a:lnTo>
                  <a:lnTo>
                    <a:pt x="160" y="36"/>
                  </a:lnTo>
                  <a:lnTo>
                    <a:pt x="160" y="39"/>
                  </a:lnTo>
                  <a:lnTo>
                    <a:pt x="157" y="46"/>
                  </a:lnTo>
                  <a:lnTo>
                    <a:pt x="150" y="56"/>
                  </a:lnTo>
                  <a:lnTo>
                    <a:pt x="144" y="66"/>
                  </a:lnTo>
                  <a:lnTo>
                    <a:pt x="140" y="76"/>
                  </a:lnTo>
                  <a:lnTo>
                    <a:pt x="138" y="83"/>
                  </a:lnTo>
                  <a:lnTo>
                    <a:pt x="138" y="91"/>
                  </a:lnTo>
                  <a:lnTo>
                    <a:pt x="137" y="96"/>
                  </a:lnTo>
                  <a:lnTo>
                    <a:pt x="136" y="101"/>
                  </a:lnTo>
                  <a:lnTo>
                    <a:pt x="133" y="103"/>
                  </a:lnTo>
                  <a:lnTo>
                    <a:pt x="127" y="103"/>
                  </a:lnTo>
                  <a:lnTo>
                    <a:pt x="118" y="101"/>
                  </a:lnTo>
                  <a:lnTo>
                    <a:pt x="106" y="96"/>
                  </a:lnTo>
                  <a:lnTo>
                    <a:pt x="85" y="89"/>
                  </a:lnTo>
                  <a:lnTo>
                    <a:pt x="64" y="81"/>
                  </a:lnTo>
                  <a:lnTo>
                    <a:pt x="44" y="75"/>
                  </a:lnTo>
                  <a:lnTo>
                    <a:pt x="27" y="70"/>
                  </a:lnTo>
                  <a:lnTo>
                    <a:pt x="12" y="66"/>
                  </a:lnTo>
                  <a:lnTo>
                    <a:pt x="4" y="64"/>
                  </a:lnTo>
                  <a:lnTo>
                    <a:pt x="0" y="6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250920" y="3890520"/>
              <a:ext cx="1462320" cy="2043360"/>
            </a:xfrm>
            <a:custGeom>
              <a:avLst/>
              <a:gdLst/>
              <a:ahLst/>
              <a:rect l="l" t="t" r="r" b="b"/>
              <a:pathLst>
                <a:path w="1412" h="1975">
                  <a:moveTo>
                    <a:pt x="1074" y="159"/>
                  </a:moveTo>
                  <a:lnTo>
                    <a:pt x="1075" y="157"/>
                  </a:lnTo>
                  <a:lnTo>
                    <a:pt x="1077" y="151"/>
                  </a:lnTo>
                  <a:lnTo>
                    <a:pt x="1083" y="142"/>
                  </a:lnTo>
                  <a:lnTo>
                    <a:pt x="1091" y="134"/>
                  </a:lnTo>
                  <a:lnTo>
                    <a:pt x="1101" y="125"/>
                  </a:lnTo>
                  <a:lnTo>
                    <a:pt x="1111" y="118"/>
                  </a:lnTo>
                  <a:lnTo>
                    <a:pt x="1123" y="112"/>
                  </a:lnTo>
                  <a:lnTo>
                    <a:pt x="1137" y="103"/>
                  </a:lnTo>
                  <a:lnTo>
                    <a:pt x="1150" y="97"/>
                  </a:lnTo>
                  <a:lnTo>
                    <a:pt x="1158" y="91"/>
                  </a:lnTo>
                  <a:lnTo>
                    <a:pt x="1164" y="88"/>
                  </a:lnTo>
                  <a:lnTo>
                    <a:pt x="1168" y="84"/>
                  </a:lnTo>
                  <a:lnTo>
                    <a:pt x="1169" y="81"/>
                  </a:lnTo>
                  <a:lnTo>
                    <a:pt x="1166" y="78"/>
                  </a:lnTo>
                  <a:lnTo>
                    <a:pt x="1158" y="75"/>
                  </a:lnTo>
                  <a:lnTo>
                    <a:pt x="1146" y="70"/>
                  </a:lnTo>
                  <a:lnTo>
                    <a:pt x="1134" y="65"/>
                  </a:lnTo>
                  <a:lnTo>
                    <a:pt x="1122" y="58"/>
                  </a:lnTo>
                  <a:lnTo>
                    <a:pt x="1114" y="51"/>
                  </a:lnTo>
                  <a:lnTo>
                    <a:pt x="1101" y="34"/>
                  </a:lnTo>
                  <a:lnTo>
                    <a:pt x="1087" y="23"/>
                  </a:lnTo>
                  <a:lnTo>
                    <a:pt x="1071" y="13"/>
                  </a:lnTo>
                  <a:lnTo>
                    <a:pt x="1058" y="6"/>
                  </a:lnTo>
                  <a:lnTo>
                    <a:pt x="1047" y="2"/>
                  </a:lnTo>
                  <a:lnTo>
                    <a:pt x="1039" y="0"/>
                  </a:lnTo>
                  <a:lnTo>
                    <a:pt x="1037" y="0"/>
                  </a:lnTo>
                  <a:lnTo>
                    <a:pt x="1038" y="2"/>
                  </a:lnTo>
                  <a:lnTo>
                    <a:pt x="1040" y="8"/>
                  </a:lnTo>
                  <a:lnTo>
                    <a:pt x="1044" y="16"/>
                  </a:lnTo>
                  <a:lnTo>
                    <a:pt x="1050" y="23"/>
                  </a:lnTo>
                  <a:lnTo>
                    <a:pt x="1054" y="31"/>
                  </a:lnTo>
                  <a:lnTo>
                    <a:pt x="1060" y="36"/>
                  </a:lnTo>
                  <a:lnTo>
                    <a:pt x="1064" y="42"/>
                  </a:lnTo>
                  <a:lnTo>
                    <a:pt x="1066" y="48"/>
                  </a:lnTo>
                  <a:lnTo>
                    <a:pt x="1066" y="54"/>
                  </a:lnTo>
                  <a:lnTo>
                    <a:pt x="1066" y="56"/>
                  </a:lnTo>
                  <a:lnTo>
                    <a:pt x="1065" y="55"/>
                  </a:lnTo>
                  <a:lnTo>
                    <a:pt x="1062" y="52"/>
                  </a:lnTo>
                  <a:lnTo>
                    <a:pt x="1056" y="48"/>
                  </a:lnTo>
                  <a:lnTo>
                    <a:pt x="1049" y="45"/>
                  </a:lnTo>
                  <a:lnTo>
                    <a:pt x="1039" y="44"/>
                  </a:lnTo>
                  <a:lnTo>
                    <a:pt x="1026" y="46"/>
                  </a:lnTo>
                  <a:lnTo>
                    <a:pt x="1010" y="49"/>
                  </a:lnTo>
                  <a:lnTo>
                    <a:pt x="1000" y="53"/>
                  </a:lnTo>
                  <a:lnTo>
                    <a:pt x="991" y="56"/>
                  </a:lnTo>
                  <a:lnTo>
                    <a:pt x="986" y="63"/>
                  </a:lnTo>
                  <a:lnTo>
                    <a:pt x="984" y="72"/>
                  </a:lnTo>
                  <a:lnTo>
                    <a:pt x="986" y="84"/>
                  </a:lnTo>
                  <a:lnTo>
                    <a:pt x="991" y="94"/>
                  </a:lnTo>
                  <a:lnTo>
                    <a:pt x="997" y="104"/>
                  </a:lnTo>
                  <a:lnTo>
                    <a:pt x="1004" y="115"/>
                  </a:lnTo>
                  <a:lnTo>
                    <a:pt x="1008" y="126"/>
                  </a:lnTo>
                  <a:lnTo>
                    <a:pt x="1009" y="137"/>
                  </a:lnTo>
                  <a:lnTo>
                    <a:pt x="1006" y="147"/>
                  </a:lnTo>
                  <a:lnTo>
                    <a:pt x="1002" y="156"/>
                  </a:lnTo>
                  <a:lnTo>
                    <a:pt x="997" y="163"/>
                  </a:lnTo>
                  <a:lnTo>
                    <a:pt x="993" y="169"/>
                  </a:lnTo>
                  <a:lnTo>
                    <a:pt x="992" y="171"/>
                  </a:lnTo>
                  <a:lnTo>
                    <a:pt x="992" y="168"/>
                  </a:lnTo>
                  <a:lnTo>
                    <a:pt x="993" y="160"/>
                  </a:lnTo>
                  <a:lnTo>
                    <a:pt x="993" y="148"/>
                  </a:lnTo>
                  <a:lnTo>
                    <a:pt x="992" y="136"/>
                  </a:lnTo>
                  <a:lnTo>
                    <a:pt x="989" y="125"/>
                  </a:lnTo>
                  <a:lnTo>
                    <a:pt x="984" y="116"/>
                  </a:lnTo>
                  <a:lnTo>
                    <a:pt x="977" y="107"/>
                  </a:lnTo>
                  <a:lnTo>
                    <a:pt x="969" y="99"/>
                  </a:lnTo>
                  <a:lnTo>
                    <a:pt x="962" y="90"/>
                  </a:lnTo>
                  <a:lnTo>
                    <a:pt x="959" y="81"/>
                  </a:lnTo>
                  <a:lnTo>
                    <a:pt x="959" y="72"/>
                  </a:lnTo>
                  <a:lnTo>
                    <a:pt x="960" y="66"/>
                  </a:lnTo>
                  <a:lnTo>
                    <a:pt x="958" y="61"/>
                  </a:lnTo>
                  <a:lnTo>
                    <a:pt x="954" y="58"/>
                  </a:lnTo>
                  <a:lnTo>
                    <a:pt x="948" y="56"/>
                  </a:lnTo>
                  <a:lnTo>
                    <a:pt x="943" y="55"/>
                  </a:lnTo>
                  <a:lnTo>
                    <a:pt x="938" y="55"/>
                  </a:lnTo>
                  <a:lnTo>
                    <a:pt x="937" y="55"/>
                  </a:lnTo>
                  <a:lnTo>
                    <a:pt x="893" y="78"/>
                  </a:lnTo>
                  <a:lnTo>
                    <a:pt x="891" y="117"/>
                  </a:lnTo>
                  <a:lnTo>
                    <a:pt x="890" y="115"/>
                  </a:lnTo>
                  <a:lnTo>
                    <a:pt x="887" y="110"/>
                  </a:lnTo>
                  <a:lnTo>
                    <a:pt x="881" y="102"/>
                  </a:lnTo>
                  <a:lnTo>
                    <a:pt x="876" y="93"/>
                  </a:lnTo>
                  <a:lnTo>
                    <a:pt x="869" y="86"/>
                  </a:lnTo>
                  <a:lnTo>
                    <a:pt x="864" y="78"/>
                  </a:lnTo>
                  <a:lnTo>
                    <a:pt x="859" y="74"/>
                  </a:lnTo>
                  <a:lnTo>
                    <a:pt x="857" y="72"/>
                  </a:lnTo>
                  <a:lnTo>
                    <a:pt x="855" y="76"/>
                  </a:lnTo>
                  <a:lnTo>
                    <a:pt x="851" y="83"/>
                  </a:lnTo>
                  <a:lnTo>
                    <a:pt x="846" y="92"/>
                  </a:lnTo>
                  <a:lnTo>
                    <a:pt x="840" y="101"/>
                  </a:lnTo>
                  <a:lnTo>
                    <a:pt x="832" y="109"/>
                  </a:lnTo>
                  <a:lnTo>
                    <a:pt x="823" y="112"/>
                  </a:lnTo>
                  <a:lnTo>
                    <a:pt x="813" y="111"/>
                  </a:lnTo>
                  <a:lnTo>
                    <a:pt x="801" y="110"/>
                  </a:lnTo>
                  <a:lnTo>
                    <a:pt x="788" y="107"/>
                  </a:lnTo>
                  <a:lnTo>
                    <a:pt x="777" y="105"/>
                  </a:lnTo>
                  <a:lnTo>
                    <a:pt x="770" y="104"/>
                  </a:lnTo>
                  <a:lnTo>
                    <a:pt x="766" y="103"/>
                  </a:lnTo>
                  <a:lnTo>
                    <a:pt x="766" y="106"/>
                  </a:lnTo>
                  <a:lnTo>
                    <a:pt x="765" y="114"/>
                  </a:lnTo>
                  <a:lnTo>
                    <a:pt x="765" y="125"/>
                  </a:lnTo>
                  <a:lnTo>
                    <a:pt x="764" y="137"/>
                  </a:lnTo>
                  <a:lnTo>
                    <a:pt x="762" y="149"/>
                  </a:lnTo>
                  <a:lnTo>
                    <a:pt x="760" y="159"/>
                  </a:lnTo>
                  <a:lnTo>
                    <a:pt x="757" y="165"/>
                  </a:lnTo>
                  <a:lnTo>
                    <a:pt x="752" y="168"/>
                  </a:lnTo>
                  <a:lnTo>
                    <a:pt x="746" y="167"/>
                  </a:lnTo>
                  <a:lnTo>
                    <a:pt x="738" y="165"/>
                  </a:lnTo>
                  <a:lnTo>
                    <a:pt x="731" y="162"/>
                  </a:lnTo>
                  <a:lnTo>
                    <a:pt x="726" y="160"/>
                  </a:lnTo>
                  <a:lnTo>
                    <a:pt x="725" y="160"/>
                  </a:lnTo>
                  <a:lnTo>
                    <a:pt x="723" y="161"/>
                  </a:lnTo>
                  <a:lnTo>
                    <a:pt x="719" y="167"/>
                  </a:lnTo>
                  <a:lnTo>
                    <a:pt x="716" y="178"/>
                  </a:lnTo>
                  <a:lnTo>
                    <a:pt x="714" y="192"/>
                  </a:lnTo>
                  <a:lnTo>
                    <a:pt x="716" y="204"/>
                  </a:lnTo>
                  <a:lnTo>
                    <a:pt x="721" y="215"/>
                  </a:lnTo>
                  <a:lnTo>
                    <a:pt x="728" y="225"/>
                  </a:lnTo>
                  <a:lnTo>
                    <a:pt x="736" y="232"/>
                  </a:lnTo>
                  <a:lnTo>
                    <a:pt x="742" y="239"/>
                  </a:lnTo>
                  <a:lnTo>
                    <a:pt x="746" y="242"/>
                  </a:lnTo>
                  <a:lnTo>
                    <a:pt x="748" y="248"/>
                  </a:lnTo>
                  <a:lnTo>
                    <a:pt x="749" y="255"/>
                  </a:lnTo>
                  <a:lnTo>
                    <a:pt x="748" y="263"/>
                  </a:lnTo>
                  <a:lnTo>
                    <a:pt x="744" y="269"/>
                  </a:lnTo>
                  <a:lnTo>
                    <a:pt x="739" y="271"/>
                  </a:lnTo>
                  <a:lnTo>
                    <a:pt x="729" y="272"/>
                  </a:lnTo>
                  <a:lnTo>
                    <a:pt x="718" y="271"/>
                  </a:lnTo>
                  <a:lnTo>
                    <a:pt x="706" y="269"/>
                  </a:lnTo>
                  <a:lnTo>
                    <a:pt x="698" y="268"/>
                  </a:lnTo>
                  <a:lnTo>
                    <a:pt x="695" y="268"/>
                  </a:lnTo>
                  <a:lnTo>
                    <a:pt x="714" y="300"/>
                  </a:lnTo>
                  <a:lnTo>
                    <a:pt x="711" y="300"/>
                  </a:lnTo>
                  <a:lnTo>
                    <a:pt x="704" y="298"/>
                  </a:lnTo>
                  <a:lnTo>
                    <a:pt x="693" y="296"/>
                  </a:lnTo>
                  <a:lnTo>
                    <a:pt x="681" y="294"/>
                  </a:lnTo>
                  <a:lnTo>
                    <a:pt x="668" y="294"/>
                  </a:lnTo>
                  <a:lnTo>
                    <a:pt x="656" y="294"/>
                  </a:lnTo>
                  <a:lnTo>
                    <a:pt x="645" y="297"/>
                  </a:lnTo>
                  <a:lnTo>
                    <a:pt x="638" y="303"/>
                  </a:lnTo>
                  <a:lnTo>
                    <a:pt x="632" y="311"/>
                  </a:lnTo>
                  <a:lnTo>
                    <a:pt x="625" y="318"/>
                  </a:lnTo>
                  <a:lnTo>
                    <a:pt x="619" y="323"/>
                  </a:lnTo>
                  <a:lnTo>
                    <a:pt x="613" y="327"/>
                  </a:lnTo>
                  <a:lnTo>
                    <a:pt x="610" y="332"/>
                  </a:lnTo>
                  <a:lnTo>
                    <a:pt x="610" y="337"/>
                  </a:lnTo>
                  <a:lnTo>
                    <a:pt x="612" y="344"/>
                  </a:lnTo>
                  <a:lnTo>
                    <a:pt x="626" y="361"/>
                  </a:lnTo>
                  <a:lnTo>
                    <a:pt x="643" y="372"/>
                  </a:lnTo>
                  <a:lnTo>
                    <a:pt x="662" y="378"/>
                  </a:lnTo>
                  <a:lnTo>
                    <a:pt x="676" y="378"/>
                  </a:lnTo>
                  <a:lnTo>
                    <a:pt x="691" y="377"/>
                  </a:lnTo>
                  <a:lnTo>
                    <a:pt x="707" y="376"/>
                  </a:lnTo>
                  <a:lnTo>
                    <a:pt x="721" y="377"/>
                  </a:lnTo>
                  <a:lnTo>
                    <a:pt x="732" y="379"/>
                  </a:lnTo>
                  <a:lnTo>
                    <a:pt x="740" y="380"/>
                  </a:lnTo>
                  <a:lnTo>
                    <a:pt x="750" y="379"/>
                  </a:lnTo>
                  <a:lnTo>
                    <a:pt x="762" y="377"/>
                  </a:lnTo>
                  <a:lnTo>
                    <a:pt x="774" y="375"/>
                  </a:lnTo>
                  <a:lnTo>
                    <a:pt x="786" y="372"/>
                  </a:lnTo>
                  <a:lnTo>
                    <a:pt x="795" y="371"/>
                  </a:lnTo>
                  <a:lnTo>
                    <a:pt x="801" y="372"/>
                  </a:lnTo>
                  <a:lnTo>
                    <a:pt x="805" y="375"/>
                  </a:lnTo>
                  <a:lnTo>
                    <a:pt x="802" y="382"/>
                  </a:lnTo>
                  <a:lnTo>
                    <a:pt x="797" y="392"/>
                  </a:lnTo>
                  <a:lnTo>
                    <a:pt x="789" y="403"/>
                  </a:lnTo>
                  <a:lnTo>
                    <a:pt x="781" y="414"/>
                  </a:lnTo>
                  <a:lnTo>
                    <a:pt x="773" y="423"/>
                  </a:lnTo>
                  <a:lnTo>
                    <a:pt x="766" y="428"/>
                  </a:lnTo>
                  <a:lnTo>
                    <a:pt x="763" y="430"/>
                  </a:lnTo>
                  <a:lnTo>
                    <a:pt x="762" y="433"/>
                  </a:lnTo>
                  <a:lnTo>
                    <a:pt x="762" y="435"/>
                  </a:lnTo>
                  <a:lnTo>
                    <a:pt x="763" y="437"/>
                  </a:lnTo>
                  <a:lnTo>
                    <a:pt x="764" y="439"/>
                  </a:lnTo>
                  <a:lnTo>
                    <a:pt x="765" y="441"/>
                  </a:lnTo>
                  <a:lnTo>
                    <a:pt x="766" y="442"/>
                  </a:lnTo>
                  <a:lnTo>
                    <a:pt x="767" y="443"/>
                  </a:lnTo>
                  <a:lnTo>
                    <a:pt x="769" y="443"/>
                  </a:lnTo>
                  <a:lnTo>
                    <a:pt x="766" y="442"/>
                  </a:lnTo>
                  <a:lnTo>
                    <a:pt x="763" y="441"/>
                  </a:lnTo>
                  <a:lnTo>
                    <a:pt x="755" y="440"/>
                  </a:lnTo>
                  <a:lnTo>
                    <a:pt x="746" y="441"/>
                  </a:lnTo>
                  <a:lnTo>
                    <a:pt x="734" y="443"/>
                  </a:lnTo>
                  <a:lnTo>
                    <a:pt x="719" y="450"/>
                  </a:lnTo>
                  <a:lnTo>
                    <a:pt x="702" y="461"/>
                  </a:lnTo>
                  <a:lnTo>
                    <a:pt x="689" y="472"/>
                  </a:lnTo>
                  <a:lnTo>
                    <a:pt x="679" y="483"/>
                  </a:lnTo>
                  <a:lnTo>
                    <a:pt x="670" y="491"/>
                  </a:lnTo>
                  <a:lnTo>
                    <a:pt x="662" y="496"/>
                  </a:lnTo>
                  <a:lnTo>
                    <a:pt x="655" y="499"/>
                  </a:lnTo>
                  <a:lnTo>
                    <a:pt x="648" y="506"/>
                  </a:lnTo>
                  <a:lnTo>
                    <a:pt x="643" y="511"/>
                  </a:lnTo>
                  <a:lnTo>
                    <a:pt x="639" y="516"/>
                  </a:lnTo>
                  <a:lnTo>
                    <a:pt x="638" y="518"/>
                  </a:lnTo>
                  <a:lnTo>
                    <a:pt x="640" y="518"/>
                  </a:lnTo>
                  <a:lnTo>
                    <a:pt x="645" y="518"/>
                  </a:lnTo>
                  <a:lnTo>
                    <a:pt x="651" y="518"/>
                  </a:lnTo>
                  <a:lnTo>
                    <a:pt x="659" y="519"/>
                  </a:lnTo>
                  <a:lnTo>
                    <a:pt x="666" y="521"/>
                  </a:lnTo>
                  <a:lnTo>
                    <a:pt x="671" y="526"/>
                  </a:lnTo>
                  <a:lnTo>
                    <a:pt x="672" y="531"/>
                  </a:lnTo>
                  <a:lnTo>
                    <a:pt x="670" y="539"/>
                  </a:lnTo>
                  <a:lnTo>
                    <a:pt x="666" y="544"/>
                  </a:lnTo>
                  <a:lnTo>
                    <a:pt x="659" y="550"/>
                  </a:lnTo>
                  <a:lnTo>
                    <a:pt x="653" y="554"/>
                  </a:lnTo>
                  <a:lnTo>
                    <a:pt x="647" y="556"/>
                  </a:lnTo>
                  <a:lnTo>
                    <a:pt x="646" y="557"/>
                  </a:lnTo>
                  <a:lnTo>
                    <a:pt x="642" y="556"/>
                  </a:lnTo>
                  <a:lnTo>
                    <a:pt x="632" y="556"/>
                  </a:lnTo>
                  <a:lnTo>
                    <a:pt x="615" y="554"/>
                  </a:lnTo>
                  <a:lnTo>
                    <a:pt x="595" y="551"/>
                  </a:lnTo>
                  <a:lnTo>
                    <a:pt x="580" y="546"/>
                  </a:lnTo>
                  <a:lnTo>
                    <a:pt x="567" y="540"/>
                  </a:lnTo>
                  <a:lnTo>
                    <a:pt x="557" y="534"/>
                  </a:lnTo>
                  <a:lnTo>
                    <a:pt x="546" y="531"/>
                  </a:lnTo>
                  <a:lnTo>
                    <a:pt x="536" y="529"/>
                  </a:lnTo>
                  <a:lnTo>
                    <a:pt x="527" y="532"/>
                  </a:lnTo>
                  <a:lnTo>
                    <a:pt x="518" y="538"/>
                  </a:lnTo>
                  <a:lnTo>
                    <a:pt x="509" y="546"/>
                  </a:lnTo>
                  <a:lnTo>
                    <a:pt x="501" y="556"/>
                  </a:lnTo>
                  <a:lnTo>
                    <a:pt x="495" y="566"/>
                  </a:lnTo>
                  <a:lnTo>
                    <a:pt x="489" y="575"/>
                  </a:lnTo>
                  <a:lnTo>
                    <a:pt x="486" y="581"/>
                  </a:lnTo>
                  <a:lnTo>
                    <a:pt x="485" y="584"/>
                  </a:lnTo>
                  <a:lnTo>
                    <a:pt x="484" y="581"/>
                  </a:lnTo>
                  <a:lnTo>
                    <a:pt x="482" y="576"/>
                  </a:lnTo>
                  <a:lnTo>
                    <a:pt x="477" y="567"/>
                  </a:lnTo>
                  <a:lnTo>
                    <a:pt x="470" y="556"/>
                  </a:lnTo>
                  <a:lnTo>
                    <a:pt x="459" y="541"/>
                  </a:lnTo>
                  <a:lnTo>
                    <a:pt x="447" y="530"/>
                  </a:lnTo>
                  <a:lnTo>
                    <a:pt x="434" y="523"/>
                  </a:lnTo>
                  <a:lnTo>
                    <a:pt x="419" y="519"/>
                  </a:lnTo>
                  <a:lnTo>
                    <a:pt x="404" y="517"/>
                  </a:lnTo>
                  <a:lnTo>
                    <a:pt x="390" y="517"/>
                  </a:lnTo>
                  <a:lnTo>
                    <a:pt x="378" y="516"/>
                  </a:lnTo>
                  <a:lnTo>
                    <a:pt x="354" y="511"/>
                  </a:lnTo>
                  <a:lnTo>
                    <a:pt x="332" y="505"/>
                  </a:lnTo>
                  <a:lnTo>
                    <a:pt x="310" y="499"/>
                  </a:lnTo>
                  <a:lnTo>
                    <a:pt x="298" y="499"/>
                  </a:lnTo>
                  <a:lnTo>
                    <a:pt x="290" y="501"/>
                  </a:lnTo>
                  <a:lnTo>
                    <a:pt x="285" y="506"/>
                  </a:lnTo>
                  <a:lnTo>
                    <a:pt x="283" y="511"/>
                  </a:lnTo>
                  <a:lnTo>
                    <a:pt x="281" y="517"/>
                  </a:lnTo>
                  <a:lnTo>
                    <a:pt x="283" y="520"/>
                  </a:lnTo>
                  <a:lnTo>
                    <a:pt x="283" y="524"/>
                  </a:lnTo>
                  <a:lnTo>
                    <a:pt x="283" y="529"/>
                  </a:lnTo>
                  <a:lnTo>
                    <a:pt x="281" y="533"/>
                  </a:lnTo>
                  <a:lnTo>
                    <a:pt x="279" y="535"/>
                  </a:lnTo>
                  <a:lnTo>
                    <a:pt x="275" y="535"/>
                  </a:lnTo>
                  <a:lnTo>
                    <a:pt x="268" y="533"/>
                  </a:lnTo>
                  <a:lnTo>
                    <a:pt x="258" y="528"/>
                  </a:lnTo>
                  <a:lnTo>
                    <a:pt x="242" y="518"/>
                  </a:lnTo>
                  <a:lnTo>
                    <a:pt x="230" y="512"/>
                  </a:lnTo>
                  <a:lnTo>
                    <a:pt x="220" y="510"/>
                  </a:lnTo>
                  <a:lnTo>
                    <a:pt x="214" y="515"/>
                  </a:lnTo>
                  <a:lnTo>
                    <a:pt x="207" y="523"/>
                  </a:lnTo>
                  <a:lnTo>
                    <a:pt x="203" y="538"/>
                  </a:lnTo>
                  <a:lnTo>
                    <a:pt x="199" y="553"/>
                  </a:lnTo>
                  <a:lnTo>
                    <a:pt x="197" y="568"/>
                  </a:lnTo>
                  <a:lnTo>
                    <a:pt x="196" y="581"/>
                  </a:lnTo>
                  <a:lnTo>
                    <a:pt x="196" y="590"/>
                  </a:lnTo>
                  <a:lnTo>
                    <a:pt x="198" y="592"/>
                  </a:lnTo>
                  <a:lnTo>
                    <a:pt x="202" y="591"/>
                  </a:lnTo>
                  <a:lnTo>
                    <a:pt x="206" y="587"/>
                  </a:lnTo>
                  <a:lnTo>
                    <a:pt x="212" y="581"/>
                  </a:lnTo>
                  <a:lnTo>
                    <a:pt x="218" y="576"/>
                  </a:lnTo>
                  <a:lnTo>
                    <a:pt x="223" y="570"/>
                  </a:lnTo>
                  <a:lnTo>
                    <a:pt x="229" y="566"/>
                  </a:lnTo>
                  <a:lnTo>
                    <a:pt x="235" y="565"/>
                  </a:lnTo>
                  <a:lnTo>
                    <a:pt x="241" y="569"/>
                  </a:lnTo>
                  <a:lnTo>
                    <a:pt x="245" y="577"/>
                  </a:lnTo>
                  <a:lnTo>
                    <a:pt x="247" y="586"/>
                  </a:lnTo>
                  <a:lnTo>
                    <a:pt x="247" y="595"/>
                  </a:lnTo>
                  <a:lnTo>
                    <a:pt x="245" y="603"/>
                  </a:lnTo>
                  <a:lnTo>
                    <a:pt x="242" y="610"/>
                  </a:lnTo>
                  <a:lnTo>
                    <a:pt x="240" y="618"/>
                  </a:lnTo>
                  <a:lnTo>
                    <a:pt x="240" y="622"/>
                  </a:lnTo>
                  <a:lnTo>
                    <a:pt x="244" y="624"/>
                  </a:lnTo>
                  <a:lnTo>
                    <a:pt x="249" y="627"/>
                  </a:lnTo>
                  <a:lnTo>
                    <a:pt x="251" y="633"/>
                  </a:lnTo>
                  <a:lnTo>
                    <a:pt x="252" y="640"/>
                  </a:lnTo>
                  <a:lnTo>
                    <a:pt x="254" y="649"/>
                  </a:lnTo>
                  <a:lnTo>
                    <a:pt x="258" y="660"/>
                  </a:lnTo>
                  <a:lnTo>
                    <a:pt x="263" y="668"/>
                  </a:lnTo>
                  <a:lnTo>
                    <a:pt x="265" y="676"/>
                  </a:lnTo>
                  <a:lnTo>
                    <a:pt x="265" y="682"/>
                  </a:lnTo>
                  <a:lnTo>
                    <a:pt x="264" y="688"/>
                  </a:lnTo>
                  <a:lnTo>
                    <a:pt x="261" y="691"/>
                  </a:lnTo>
                  <a:lnTo>
                    <a:pt x="256" y="691"/>
                  </a:lnTo>
                  <a:lnTo>
                    <a:pt x="250" y="686"/>
                  </a:lnTo>
                  <a:lnTo>
                    <a:pt x="243" y="679"/>
                  </a:lnTo>
                  <a:lnTo>
                    <a:pt x="235" y="670"/>
                  </a:lnTo>
                  <a:lnTo>
                    <a:pt x="227" y="661"/>
                  </a:lnTo>
                  <a:lnTo>
                    <a:pt x="219" y="654"/>
                  </a:lnTo>
                  <a:lnTo>
                    <a:pt x="212" y="648"/>
                  </a:lnTo>
                  <a:lnTo>
                    <a:pt x="206" y="646"/>
                  </a:lnTo>
                  <a:lnTo>
                    <a:pt x="200" y="648"/>
                  </a:lnTo>
                  <a:lnTo>
                    <a:pt x="194" y="653"/>
                  </a:lnTo>
                  <a:lnTo>
                    <a:pt x="185" y="655"/>
                  </a:lnTo>
                  <a:lnTo>
                    <a:pt x="175" y="657"/>
                  </a:lnTo>
                  <a:lnTo>
                    <a:pt x="165" y="658"/>
                  </a:lnTo>
                  <a:lnTo>
                    <a:pt x="157" y="660"/>
                  </a:lnTo>
                  <a:lnTo>
                    <a:pt x="149" y="662"/>
                  </a:lnTo>
                  <a:lnTo>
                    <a:pt x="146" y="665"/>
                  </a:lnTo>
                  <a:lnTo>
                    <a:pt x="146" y="669"/>
                  </a:lnTo>
                  <a:lnTo>
                    <a:pt x="150" y="674"/>
                  </a:lnTo>
                  <a:lnTo>
                    <a:pt x="158" y="677"/>
                  </a:lnTo>
                  <a:lnTo>
                    <a:pt x="168" y="679"/>
                  </a:lnTo>
                  <a:lnTo>
                    <a:pt x="177" y="680"/>
                  </a:lnTo>
                  <a:lnTo>
                    <a:pt x="187" y="684"/>
                  </a:lnTo>
                  <a:lnTo>
                    <a:pt x="195" y="691"/>
                  </a:lnTo>
                  <a:lnTo>
                    <a:pt x="202" y="698"/>
                  </a:lnTo>
                  <a:lnTo>
                    <a:pt x="208" y="707"/>
                  </a:lnTo>
                  <a:lnTo>
                    <a:pt x="214" y="715"/>
                  </a:lnTo>
                  <a:lnTo>
                    <a:pt x="220" y="721"/>
                  </a:lnTo>
                  <a:lnTo>
                    <a:pt x="229" y="726"/>
                  </a:lnTo>
                  <a:lnTo>
                    <a:pt x="240" y="729"/>
                  </a:lnTo>
                  <a:lnTo>
                    <a:pt x="254" y="729"/>
                  </a:lnTo>
                  <a:lnTo>
                    <a:pt x="267" y="728"/>
                  </a:lnTo>
                  <a:lnTo>
                    <a:pt x="281" y="725"/>
                  </a:lnTo>
                  <a:lnTo>
                    <a:pt x="295" y="723"/>
                  </a:lnTo>
                  <a:lnTo>
                    <a:pt x="307" y="721"/>
                  </a:lnTo>
                  <a:lnTo>
                    <a:pt x="318" y="725"/>
                  </a:lnTo>
                  <a:lnTo>
                    <a:pt x="331" y="734"/>
                  </a:lnTo>
                  <a:lnTo>
                    <a:pt x="338" y="743"/>
                  </a:lnTo>
                  <a:lnTo>
                    <a:pt x="342" y="753"/>
                  </a:lnTo>
                  <a:lnTo>
                    <a:pt x="341" y="762"/>
                  </a:lnTo>
                  <a:lnTo>
                    <a:pt x="335" y="765"/>
                  </a:lnTo>
                  <a:lnTo>
                    <a:pt x="324" y="770"/>
                  </a:lnTo>
                  <a:lnTo>
                    <a:pt x="310" y="773"/>
                  </a:lnTo>
                  <a:lnTo>
                    <a:pt x="293" y="776"/>
                  </a:lnTo>
                  <a:lnTo>
                    <a:pt x="277" y="781"/>
                  </a:lnTo>
                  <a:lnTo>
                    <a:pt x="263" y="786"/>
                  </a:lnTo>
                  <a:lnTo>
                    <a:pt x="253" y="792"/>
                  </a:lnTo>
                  <a:lnTo>
                    <a:pt x="243" y="801"/>
                  </a:lnTo>
                  <a:lnTo>
                    <a:pt x="238" y="811"/>
                  </a:lnTo>
                  <a:lnTo>
                    <a:pt x="234" y="821"/>
                  </a:lnTo>
                  <a:lnTo>
                    <a:pt x="234" y="831"/>
                  </a:lnTo>
                  <a:lnTo>
                    <a:pt x="238" y="839"/>
                  </a:lnTo>
                  <a:lnTo>
                    <a:pt x="244" y="848"/>
                  </a:lnTo>
                  <a:lnTo>
                    <a:pt x="246" y="856"/>
                  </a:lnTo>
                  <a:lnTo>
                    <a:pt x="247" y="863"/>
                  </a:lnTo>
                  <a:lnTo>
                    <a:pt x="247" y="865"/>
                  </a:lnTo>
                  <a:lnTo>
                    <a:pt x="207" y="867"/>
                  </a:lnTo>
                  <a:lnTo>
                    <a:pt x="204" y="867"/>
                  </a:lnTo>
                  <a:lnTo>
                    <a:pt x="197" y="868"/>
                  </a:lnTo>
                  <a:lnTo>
                    <a:pt x="187" y="870"/>
                  </a:lnTo>
                  <a:lnTo>
                    <a:pt x="177" y="873"/>
                  </a:lnTo>
                  <a:lnTo>
                    <a:pt x="168" y="877"/>
                  </a:lnTo>
                  <a:lnTo>
                    <a:pt x="160" y="882"/>
                  </a:lnTo>
                  <a:lnTo>
                    <a:pt x="156" y="889"/>
                  </a:lnTo>
                  <a:lnTo>
                    <a:pt x="157" y="897"/>
                  </a:lnTo>
                  <a:lnTo>
                    <a:pt x="161" y="903"/>
                  </a:lnTo>
                  <a:lnTo>
                    <a:pt x="168" y="908"/>
                  </a:lnTo>
                  <a:lnTo>
                    <a:pt x="174" y="913"/>
                  </a:lnTo>
                  <a:lnTo>
                    <a:pt x="180" y="920"/>
                  </a:lnTo>
                  <a:lnTo>
                    <a:pt x="182" y="927"/>
                  </a:lnTo>
                  <a:lnTo>
                    <a:pt x="179" y="934"/>
                  </a:lnTo>
                  <a:lnTo>
                    <a:pt x="173" y="938"/>
                  </a:lnTo>
                  <a:lnTo>
                    <a:pt x="166" y="943"/>
                  </a:lnTo>
                  <a:lnTo>
                    <a:pt x="160" y="946"/>
                  </a:lnTo>
                  <a:lnTo>
                    <a:pt x="153" y="949"/>
                  </a:lnTo>
                  <a:lnTo>
                    <a:pt x="151" y="952"/>
                  </a:lnTo>
                  <a:lnTo>
                    <a:pt x="152" y="957"/>
                  </a:lnTo>
                  <a:lnTo>
                    <a:pt x="160" y="961"/>
                  </a:lnTo>
                  <a:lnTo>
                    <a:pt x="169" y="962"/>
                  </a:lnTo>
                  <a:lnTo>
                    <a:pt x="177" y="963"/>
                  </a:lnTo>
                  <a:lnTo>
                    <a:pt x="186" y="966"/>
                  </a:lnTo>
                  <a:lnTo>
                    <a:pt x="193" y="971"/>
                  </a:lnTo>
                  <a:lnTo>
                    <a:pt x="198" y="978"/>
                  </a:lnTo>
                  <a:lnTo>
                    <a:pt x="204" y="982"/>
                  </a:lnTo>
                  <a:lnTo>
                    <a:pt x="209" y="984"/>
                  </a:lnTo>
                  <a:lnTo>
                    <a:pt x="218" y="985"/>
                  </a:lnTo>
                  <a:lnTo>
                    <a:pt x="230" y="984"/>
                  </a:lnTo>
                  <a:lnTo>
                    <a:pt x="235" y="983"/>
                  </a:lnTo>
                  <a:lnTo>
                    <a:pt x="239" y="985"/>
                  </a:lnTo>
                  <a:lnTo>
                    <a:pt x="238" y="990"/>
                  </a:lnTo>
                  <a:lnTo>
                    <a:pt x="237" y="994"/>
                  </a:lnTo>
                  <a:lnTo>
                    <a:pt x="234" y="999"/>
                  </a:lnTo>
                  <a:lnTo>
                    <a:pt x="233" y="1005"/>
                  </a:lnTo>
                  <a:lnTo>
                    <a:pt x="234" y="1009"/>
                  </a:lnTo>
                  <a:lnTo>
                    <a:pt x="239" y="1014"/>
                  </a:lnTo>
                  <a:lnTo>
                    <a:pt x="250" y="1017"/>
                  </a:lnTo>
                  <a:lnTo>
                    <a:pt x="261" y="1018"/>
                  </a:lnTo>
                  <a:lnTo>
                    <a:pt x="272" y="1017"/>
                  </a:lnTo>
                  <a:lnTo>
                    <a:pt x="280" y="1015"/>
                  </a:lnTo>
                  <a:lnTo>
                    <a:pt x="286" y="1010"/>
                  </a:lnTo>
                  <a:lnTo>
                    <a:pt x="290" y="1008"/>
                  </a:lnTo>
                  <a:lnTo>
                    <a:pt x="296" y="1008"/>
                  </a:lnTo>
                  <a:lnTo>
                    <a:pt x="304" y="1012"/>
                  </a:lnTo>
                  <a:lnTo>
                    <a:pt x="312" y="1017"/>
                  </a:lnTo>
                  <a:lnTo>
                    <a:pt x="320" y="1024"/>
                  </a:lnTo>
                  <a:lnTo>
                    <a:pt x="325" y="1033"/>
                  </a:lnTo>
                  <a:lnTo>
                    <a:pt x="331" y="1044"/>
                  </a:lnTo>
                  <a:lnTo>
                    <a:pt x="336" y="1055"/>
                  </a:lnTo>
                  <a:lnTo>
                    <a:pt x="342" y="1064"/>
                  </a:lnTo>
                  <a:lnTo>
                    <a:pt x="349" y="1070"/>
                  </a:lnTo>
                  <a:lnTo>
                    <a:pt x="359" y="1071"/>
                  </a:lnTo>
                  <a:lnTo>
                    <a:pt x="369" y="1070"/>
                  </a:lnTo>
                  <a:lnTo>
                    <a:pt x="383" y="1066"/>
                  </a:lnTo>
                  <a:lnTo>
                    <a:pt x="399" y="1063"/>
                  </a:lnTo>
                  <a:lnTo>
                    <a:pt x="415" y="1061"/>
                  </a:lnTo>
                  <a:lnTo>
                    <a:pt x="430" y="1059"/>
                  </a:lnTo>
                  <a:lnTo>
                    <a:pt x="443" y="1058"/>
                  </a:lnTo>
                  <a:lnTo>
                    <a:pt x="455" y="1059"/>
                  </a:lnTo>
                  <a:lnTo>
                    <a:pt x="468" y="1058"/>
                  </a:lnTo>
                  <a:lnTo>
                    <a:pt x="480" y="1058"/>
                  </a:lnTo>
                  <a:lnTo>
                    <a:pt x="491" y="1060"/>
                  </a:lnTo>
                  <a:lnTo>
                    <a:pt x="498" y="1063"/>
                  </a:lnTo>
                  <a:lnTo>
                    <a:pt x="505" y="1071"/>
                  </a:lnTo>
                  <a:lnTo>
                    <a:pt x="506" y="1079"/>
                  </a:lnTo>
                  <a:lnTo>
                    <a:pt x="504" y="1087"/>
                  </a:lnTo>
                  <a:lnTo>
                    <a:pt x="499" y="1094"/>
                  </a:lnTo>
                  <a:lnTo>
                    <a:pt x="492" y="1100"/>
                  </a:lnTo>
                  <a:lnTo>
                    <a:pt x="482" y="1106"/>
                  </a:lnTo>
                  <a:lnTo>
                    <a:pt x="473" y="1112"/>
                  </a:lnTo>
                  <a:lnTo>
                    <a:pt x="464" y="1120"/>
                  </a:lnTo>
                  <a:lnTo>
                    <a:pt x="459" y="1123"/>
                  </a:lnTo>
                  <a:lnTo>
                    <a:pt x="455" y="1125"/>
                  </a:lnTo>
                  <a:lnTo>
                    <a:pt x="454" y="1126"/>
                  </a:lnTo>
                  <a:lnTo>
                    <a:pt x="454" y="1126"/>
                  </a:lnTo>
                  <a:lnTo>
                    <a:pt x="452" y="1125"/>
                  </a:lnTo>
                  <a:lnTo>
                    <a:pt x="448" y="1122"/>
                  </a:lnTo>
                  <a:lnTo>
                    <a:pt x="441" y="1118"/>
                  </a:lnTo>
                  <a:lnTo>
                    <a:pt x="432" y="1113"/>
                  </a:lnTo>
                  <a:lnTo>
                    <a:pt x="424" y="1109"/>
                  </a:lnTo>
                  <a:lnTo>
                    <a:pt x="416" y="1107"/>
                  </a:lnTo>
                  <a:lnTo>
                    <a:pt x="408" y="1107"/>
                  </a:lnTo>
                  <a:lnTo>
                    <a:pt x="404" y="1111"/>
                  </a:lnTo>
                  <a:lnTo>
                    <a:pt x="401" y="1118"/>
                  </a:lnTo>
                  <a:lnTo>
                    <a:pt x="395" y="1126"/>
                  </a:lnTo>
                  <a:lnTo>
                    <a:pt x="388" y="1140"/>
                  </a:lnTo>
                  <a:lnTo>
                    <a:pt x="380" y="1153"/>
                  </a:lnTo>
                  <a:lnTo>
                    <a:pt x="371" y="1168"/>
                  </a:lnTo>
                  <a:lnTo>
                    <a:pt x="364" y="1182"/>
                  </a:lnTo>
                  <a:lnTo>
                    <a:pt x="356" y="1197"/>
                  </a:lnTo>
                  <a:lnTo>
                    <a:pt x="350" y="1207"/>
                  </a:lnTo>
                  <a:lnTo>
                    <a:pt x="347" y="1217"/>
                  </a:lnTo>
                  <a:lnTo>
                    <a:pt x="347" y="1223"/>
                  </a:lnTo>
                  <a:lnTo>
                    <a:pt x="350" y="1229"/>
                  </a:lnTo>
                  <a:lnTo>
                    <a:pt x="357" y="1234"/>
                  </a:lnTo>
                  <a:lnTo>
                    <a:pt x="365" y="1236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1" y="1239"/>
                  </a:lnTo>
                  <a:lnTo>
                    <a:pt x="368" y="1244"/>
                  </a:lnTo>
                  <a:lnTo>
                    <a:pt x="362" y="1250"/>
                  </a:lnTo>
                  <a:lnTo>
                    <a:pt x="356" y="1259"/>
                  </a:lnTo>
                  <a:lnTo>
                    <a:pt x="349" y="1268"/>
                  </a:lnTo>
                  <a:lnTo>
                    <a:pt x="342" y="1278"/>
                  </a:lnTo>
                  <a:lnTo>
                    <a:pt x="335" y="1288"/>
                  </a:lnTo>
                  <a:lnTo>
                    <a:pt x="330" y="1298"/>
                  </a:lnTo>
                  <a:lnTo>
                    <a:pt x="325" y="1308"/>
                  </a:lnTo>
                  <a:lnTo>
                    <a:pt x="323" y="1315"/>
                  </a:lnTo>
                  <a:lnTo>
                    <a:pt x="323" y="1317"/>
                  </a:lnTo>
                  <a:lnTo>
                    <a:pt x="323" y="1316"/>
                  </a:lnTo>
                  <a:lnTo>
                    <a:pt x="323" y="1314"/>
                  </a:lnTo>
                  <a:lnTo>
                    <a:pt x="323" y="1310"/>
                  </a:lnTo>
                  <a:lnTo>
                    <a:pt x="322" y="1308"/>
                  </a:lnTo>
                  <a:lnTo>
                    <a:pt x="319" y="1306"/>
                  </a:lnTo>
                  <a:lnTo>
                    <a:pt x="314" y="1306"/>
                  </a:lnTo>
                  <a:lnTo>
                    <a:pt x="308" y="1309"/>
                  </a:lnTo>
                  <a:lnTo>
                    <a:pt x="299" y="1316"/>
                  </a:lnTo>
                  <a:lnTo>
                    <a:pt x="281" y="1331"/>
                  </a:lnTo>
                  <a:lnTo>
                    <a:pt x="266" y="1348"/>
                  </a:lnTo>
                  <a:lnTo>
                    <a:pt x="251" y="1363"/>
                  </a:lnTo>
                  <a:lnTo>
                    <a:pt x="238" y="1375"/>
                  </a:lnTo>
                  <a:lnTo>
                    <a:pt x="226" y="1384"/>
                  </a:lnTo>
                  <a:lnTo>
                    <a:pt x="216" y="1388"/>
                  </a:lnTo>
                  <a:lnTo>
                    <a:pt x="206" y="1392"/>
                  </a:lnTo>
                  <a:lnTo>
                    <a:pt x="197" y="1397"/>
                  </a:lnTo>
                  <a:lnTo>
                    <a:pt x="189" y="1400"/>
                  </a:lnTo>
                  <a:lnTo>
                    <a:pt x="184" y="1403"/>
                  </a:lnTo>
                  <a:lnTo>
                    <a:pt x="183" y="1407"/>
                  </a:lnTo>
                  <a:lnTo>
                    <a:pt x="186" y="1409"/>
                  </a:lnTo>
                  <a:lnTo>
                    <a:pt x="195" y="1410"/>
                  </a:lnTo>
                  <a:lnTo>
                    <a:pt x="208" y="1410"/>
                  </a:lnTo>
                  <a:lnTo>
                    <a:pt x="223" y="1409"/>
                  </a:lnTo>
                  <a:lnTo>
                    <a:pt x="240" y="1407"/>
                  </a:lnTo>
                  <a:lnTo>
                    <a:pt x="254" y="1401"/>
                  </a:lnTo>
                  <a:lnTo>
                    <a:pt x="267" y="1395"/>
                  </a:lnTo>
                  <a:lnTo>
                    <a:pt x="278" y="1387"/>
                  </a:lnTo>
                  <a:lnTo>
                    <a:pt x="290" y="1379"/>
                  </a:lnTo>
                  <a:lnTo>
                    <a:pt x="301" y="1374"/>
                  </a:lnTo>
                  <a:lnTo>
                    <a:pt x="313" y="1369"/>
                  </a:lnTo>
                  <a:lnTo>
                    <a:pt x="323" y="1369"/>
                  </a:lnTo>
                  <a:lnTo>
                    <a:pt x="331" y="1373"/>
                  </a:lnTo>
                  <a:lnTo>
                    <a:pt x="342" y="1380"/>
                  </a:lnTo>
                  <a:lnTo>
                    <a:pt x="354" y="1387"/>
                  </a:lnTo>
                  <a:lnTo>
                    <a:pt x="365" y="1390"/>
                  </a:lnTo>
                  <a:lnTo>
                    <a:pt x="373" y="1390"/>
                  </a:lnTo>
                  <a:lnTo>
                    <a:pt x="381" y="1390"/>
                  </a:lnTo>
                  <a:lnTo>
                    <a:pt x="391" y="1391"/>
                  </a:lnTo>
                  <a:lnTo>
                    <a:pt x="404" y="1391"/>
                  </a:lnTo>
                  <a:lnTo>
                    <a:pt x="417" y="1387"/>
                  </a:lnTo>
                  <a:lnTo>
                    <a:pt x="432" y="1377"/>
                  </a:lnTo>
                  <a:lnTo>
                    <a:pt x="440" y="1368"/>
                  </a:lnTo>
                  <a:lnTo>
                    <a:pt x="449" y="1360"/>
                  </a:lnTo>
                  <a:lnTo>
                    <a:pt x="457" y="1350"/>
                  </a:lnTo>
                  <a:lnTo>
                    <a:pt x="464" y="1341"/>
                  </a:lnTo>
                  <a:lnTo>
                    <a:pt x="472" y="1333"/>
                  </a:lnTo>
                  <a:lnTo>
                    <a:pt x="477" y="1327"/>
                  </a:lnTo>
                  <a:lnTo>
                    <a:pt x="483" y="1325"/>
                  </a:lnTo>
                  <a:lnTo>
                    <a:pt x="486" y="1325"/>
                  </a:lnTo>
                  <a:lnTo>
                    <a:pt x="488" y="1329"/>
                  </a:lnTo>
                  <a:lnTo>
                    <a:pt x="489" y="1341"/>
                  </a:lnTo>
                  <a:lnTo>
                    <a:pt x="491" y="1353"/>
                  </a:lnTo>
                  <a:lnTo>
                    <a:pt x="493" y="1364"/>
                  </a:lnTo>
                  <a:lnTo>
                    <a:pt x="494" y="1371"/>
                  </a:lnTo>
                  <a:lnTo>
                    <a:pt x="494" y="1374"/>
                  </a:lnTo>
                  <a:lnTo>
                    <a:pt x="492" y="1375"/>
                  </a:lnTo>
                  <a:lnTo>
                    <a:pt x="484" y="1377"/>
                  </a:lnTo>
                  <a:lnTo>
                    <a:pt x="472" y="1380"/>
                  </a:lnTo>
                  <a:lnTo>
                    <a:pt x="459" y="1385"/>
                  </a:lnTo>
                  <a:lnTo>
                    <a:pt x="445" y="1390"/>
                  </a:lnTo>
                  <a:lnTo>
                    <a:pt x="430" y="1395"/>
                  </a:lnTo>
                  <a:lnTo>
                    <a:pt x="417" y="1399"/>
                  </a:lnTo>
                  <a:lnTo>
                    <a:pt x="402" y="1403"/>
                  </a:lnTo>
                  <a:lnTo>
                    <a:pt x="384" y="1408"/>
                  </a:lnTo>
                  <a:lnTo>
                    <a:pt x="366" y="1411"/>
                  </a:lnTo>
                  <a:lnTo>
                    <a:pt x="348" y="1414"/>
                  </a:lnTo>
                  <a:lnTo>
                    <a:pt x="332" y="1417"/>
                  </a:lnTo>
                  <a:lnTo>
                    <a:pt x="319" y="1417"/>
                  </a:lnTo>
                  <a:lnTo>
                    <a:pt x="309" y="1413"/>
                  </a:lnTo>
                  <a:lnTo>
                    <a:pt x="300" y="1410"/>
                  </a:lnTo>
                  <a:lnTo>
                    <a:pt x="292" y="1406"/>
                  </a:lnTo>
                  <a:lnTo>
                    <a:pt x="286" y="1403"/>
                  </a:lnTo>
                  <a:lnTo>
                    <a:pt x="281" y="1404"/>
                  </a:lnTo>
                  <a:lnTo>
                    <a:pt x="278" y="1410"/>
                  </a:lnTo>
                  <a:lnTo>
                    <a:pt x="276" y="1418"/>
                  </a:lnTo>
                  <a:lnTo>
                    <a:pt x="275" y="1425"/>
                  </a:lnTo>
                  <a:lnTo>
                    <a:pt x="273" y="1434"/>
                  </a:lnTo>
                  <a:lnTo>
                    <a:pt x="270" y="1442"/>
                  </a:lnTo>
                  <a:lnTo>
                    <a:pt x="266" y="1449"/>
                  </a:lnTo>
                  <a:lnTo>
                    <a:pt x="260" y="1455"/>
                  </a:lnTo>
                  <a:lnTo>
                    <a:pt x="250" y="1458"/>
                  </a:lnTo>
                  <a:lnTo>
                    <a:pt x="239" y="1459"/>
                  </a:lnTo>
                  <a:lnTo>
                    <a:pt x="227" y="1460"/>
                  </a:lnTo>
                  <a:lnTo>
                    <a:pt x="215" y="1461"/>
                  </a:lnTo>
                  <a:lnTo>
                    <a:pt x="204" y="1462"/>
                  </a:lnTo>
                  <a:lnTo>
                    <a:pt x="195" y="1464"/>
                  </a:lnTo>
                  <a:lnTo>
                    <a:pt x="188" y="1467"/>
                  </a:lnTo>
                  <a:lnTo>
                    <a:pt x="186" y="1470"/>
                  </a:lnTo>
                  <a:lnTo>
                    <a:pt x="188" y="1476"/>
                  </a:lnTo>
                  <a:lnTo>
                    <a:pt x="196" y="1484"/>
                  </a:lnTo>
                  <a:lnTo>
                    <a:pt x="204" y="1491"/>
                  </a:lnTo>
                  <a:lnTo>
                    <a:pt x="209" y="1498"/>
                  </a:lnTo>
                  <a:lnTo>
                    <a:pt x="212" y="1503"/>
                  </a:lnTo>
                  <a:lnTo>
                    <a:pt x="212" y="1511"/>
                  </a:lnTo>
                  <a:lnTo>
                    <a:pt x="208" y="1518"/>
                  </a:lnTo>
                  <a:lnTo>
                    <a:pt x="203" y="1526"/>
                  </a:lnTo>
                  <a:lnTo>
                    <a:pt x="197" y="1533"/>
                  </a:lnTo>
                  <a:lnTo>
                    <a:pt x="193" y="1539"/>
                  </a:lnTo>
                  <a:lnTo>
                    <a:pt x="192" y="1545"/>
                  </a:lnTo>
                  <a:lnTo>
                    <a:pt x="195" y="1547"/>
                  </a:lnTo>
                  <a:lnTo>
                    <a:pt x="199" y="1550"/>
                  </a:lnTo>
                  <a:lnTo>
                    <a:pt x="198" y="1554"/>
                  </a:lnTo>
                  <a:lnTo>
                    <a:pt x="196" y="1560"/>
                  </a:lnTo>
                  <a:lnTo>
                    <a:pt x="192" y="1565"/>
                  </a:lnTo>
                  <a:lnTo>
                    <a:pt x="188" y="1569"/>
                  </a:lnTo>
                  <a:lnTo>
                    <a:pt x="187" y="1570"/>
                  </a:lnTo>
                  <a:lnTo>
                    <a:pt x="185" y="1570"/>
                  </a:lnTo>
                  <a:lnTo>
                    <a:pt x="180" y="1570"/>
                  </a:lnTo>
                  <a:lnTo>
                    <a:pt x="171" y="1566"/>
                  </a:lnTo>
                  <a:lnTo>
                    <a:pt x="160" y="1560"/>
                  </a:lnTo>
                  <a:lnTo>
                    <a:pt x="147" y="1550"/>
                  </a:lnTo>
                  <a:lnTo>
                    <a:pt x="135" y="1540"/>
                  </a:lnTo>
                  <a:lnTo>
                    <a:pt x="124" y="1535"/>
                  </a:lnTo>
                  <a:lnTo>
                    <a:pt x="113" y="1534"/>
                  </a:lnTo>
                  <a:lnTo>
                    <a:pt x="103" y="1536"/>
                  </a:lnTo>
                  <a:lnTo>
                    <a:pt x="92" y="1539"/>
                  </a:lnTo>
                  <a:lnTo>
                    <a:pt x="85" y="1543"/>
                  </a:lnTo>
                  <a:lnTo>
                    <a:pt x="75" y="1549"/>
                  </a:lnTo>
                  <a:lnTo>
                    <a:pt x="62" y="1557"/>
                  </a:lnTo>
                  <a:lnTo>
                    <a:pt x="48" y="1565"/>
                  </a:lnTo>
                  <a:lnTo>
                    <a:pt x="35" y="1574"/>
                  </a:lnTo>
                  <a:lnTo>
                    <a:pt x="23" y="1584"/>
                  </a:lnTo>
                  <a:lnTo>
                    <a:pt x="12" y="1593"/>
                  </a:lnTo>
                  <a:lnTo>
                    <a:pt x="4" y="1601"/>
                  </a:lnTo>
                  <a:lnTo>
                    <a:pt x="0" y="1609"/>
                  </a:lnTo>
                  <a:lnTo>
                    <a:pt x="0" y="1614"/>
                  </a:lnTo>
                  <a:lnTo>
                    <a:pt x="6" y="1619"/>
                  </a:lnTo>
                  <a:lnTo>
                    <a:pt x="9" y="1622"/>
                  </a:lnTo>
                  <a:lnTo>
                    <a:pt x="14" y="1623"/>
                  </a:lnTo>
                  <a:lnTo>
                    <a:pt x="22" y="1623"/>
                  </a:lnTo>
                  <a:lnTo>
                    <a:pt x="34" y="1623"/>
                  </a:lnTo>
                  <a:lnTo>
                    <a:pt x="52" y="1623"/>
                  </a:lnTo>
                  <a:lnTo>
                    <a:pt x="80" y="1623"/>
                  </a:lnTo>
                  <a:lnTo>
                    <a:pt x="103" y="1622"/>
                  </a:lnTo>
                  <a:lnTo>
                    <a:pt x="123" y="1621"/>
                  </a:lnTo>
                  <a:lnTo>
                    <a:pt x="140" y="1619"/>
                  </a:lnTo>
                  <a:lnTo>
                    <a:pt x="150" y="1617"/>
                  </a:lnTo>
                  <a:lnTo>
                    <a:pt x="162" y="1614"/>
                  </a:lnTo>
                  <a:lnTo>
                    <a:pt x="174" y="1611"/>
                  </a:lnTo>
                  <a:lnTo>
                    <a:pt x="185" y="1609"/>
                  </a:lnTo>
                  <a:lnTo>
                    <a:pt x="196" y="1608"/>
                  </a:lnTo>
                  <a:lnTo>
                    <a:pt x="205" y="1608"/>
                  </a:lnTo>
                  <a:lnTo>
                    <a:pt x="210" y="1611"/>
                  </a:lnTo>
                  <a:lnTo>
                    <a:pt x="212" y="1616"/>
                  </a:lnTo>
                  <a:lnTo>
                    <a:pt x="208" y="1623"/>
                  </a:lnTo>
                  <a:lnTo>
                    <a:pt x="200" y="1631"/>
                  </a:lnTo>
                  <a:lnTo>
                    <a:pt x="187" y="1640"/>
                  </a:lnTo>
                  <a:lnTo>
                    <a:pt x="173" y="1649"/>
                  </a:lnTo>
                  <a:lnTo>
                    <a:pt x="159" y="1655"/>
                  </a:lnTo>
                  <a:lnTo>
                    <a:pt x="145" y="1662"/>
                  </a:lnTo>
                  <a:lnTo>
                    <a:pt x="134" y="1667"/>
                  </a:lnTo>
                  <a:lnTo>
                    <a:pt x="124" y="1670"/>
                  </a:lnTo>
                  <a:lnTo>
                    <a:pt x="112" y="1674"/>
                  </a:lnTo>
                  <a:lnTo>
                    <a:pt x="98" y="1676"/>
                  </a:lnTo>
                  <a:lnTo>
                    <a:pt x="82" y="1679"/>
                  </a:lnTo>
                  <a:lnTo>
                    <a:pt x="69" y="1684"/>
                  </a:lnTo>
                  <a:lnTo>
                    <a:pt x="58" y="1688"/>
                  </a:lnTo>
                  <a:lnTo>
                    <a:pt x="50" y="1693"/>
                  </a:lnTo>
                  <a:lnTo>
                    <a:pt x="48" y="1700"/>
                  </a:lnTo>
                  <a:lnTo>
                    <a:pt x="49" y="1714"/>
                  </a:lnTo>
                  <a:lnTo>
                    <a:pt x="49" y="1725"/>
                  </a:lnTo>
                  <a:lnTo>
                    <a:pt x="49" y="1732"/>
                  </a:lnTo>
                  <a:lnTo>
                    <a:pt x="48" y="1735"/>
                  </a:lnTo>
                  <a:lnTo>
                    <a:pt x="47" y="1736"/>
                  </a:lnTo>
                  <a:lnTo>
                    <a:pt x="42" y="1738"/>
                  </a:lnTo>
                  <a:lnTo>
                    <a:pt x="35" y="1743"/>
                  </a:lnTo>
                  <a:lnTo>
                    <a:pt x="29" y="1747"/>
                  </a:lnTo>
                  <a:lnTo>
                    <a:pt x="24" y="1753"/>
                  </a:lnTo>
                  <a:lnTo>
                    <a:pt x="23" y="1756"/>
                  </a:lnTo>
                  <a:lnTo>
                    <a:pt x="24" y="1761"/>
                  </a:lnTo>
                  <a:lnTo>
                    <a:pt x="27" y="1768"/>
                  </a:lnTo>
                  <a:lnTo>
                    <a:pt x="33" y="1776"/>
                  </a:lnTo>
                  <a:lnTo>
                    <a:pt x="39" y="1781"/>
                  </a:lnTo>
                  <a:lnTo>
                    <a:pt x="46" y="1783"/>
                  </a:lnTo>
                  <a:lnTo>
                    <a:pt x="53" y="1781"/>
                  </a:lnTo>
                  <a:lnTo>
                    <a:pt x="58" y="1774"/>
                  </a:lnTo>
                  <a:lnTo>
                    <a:pt x="62" y="1768"/>
                  </a:lnTo>
                  <a:lnTo>
                    <a:pt x="66" y="1762"/>
                  </a:lnTo>
                  <a:lnTo>
                    <a:pt x="70" y="1759"/>
                  </a:lnTo>
                  <a:lnTo>
                    <a:pt x="75" y="1758"/>
                  </a:lnTo>
                  <a:lnTo>
                    <a:pt x="81" y="1761"/>
                  </a:lnTo>
                  <a:lnTo>
                    <a:pt x="88" y="1770"/>
                  </a:lnTo>
                  <a:lnTo>
                    <a:pt x="89" y="1779"/>
                  </a:lnTo>
                  <a:lnTo>
                    <a:pt x="89" y="1788"/>
                  </a:lnTo>
                  <a:lnTo>
                    <a:pt x="87" y="1794"/>
                  </a:lnTo>
                  <a:lnTo>
                    <a:pt x="85" y="1796"/>
                  </a:lnTo>
                  <a:lnTo>
                    <a:pt x="85" y="1797"/>
                  </a:lnTo>
                  <a:lnTo>
                    <a:pt x="87" y="1801"/>
                  </a:lnTo>
                  <a:lnTo>
                    <a:pt x="88" y="1804"/>
                  </a:lnTo>
                  <a:lnTo>
                    <a:pt x="90" y="1806"/>
                  </a:lnTo>
                  <a:lnTo>
                    <a:pt x="94" y="1808"/>
                  </a:lnTo>
                  <a:lnTo>
                    <a:pt x="101" y="1808"/>
                  </a:lnTo>
                  <a:lnTo>
                    <a:pt x="111" y="1805"/>
                  </a:lnTo>
                  <a:lnTo>
                    <a:pt x="138" y="1796"/>
                  </a:lnTo>
                  <a:lnTo>
                    <a:pt x="165" y="1792"/>
                  </a:lnTo>
                  <a:lnTo>
                    <a:pt x="188" y="1789"/>
                  </a:lnTo>
                  <a:lnTo>
                    <a:pt x="198" y="1785"/>
                  </a:lnTo>
                  <a:lnTo>
                    <a:pt x="210" y="1782"/>
                  </a:lnTo>
                  <a:lnTo>
                    <a:pt x="223" y="1777"/>
                  </a:lnTo>
                  <a:lnTo>
                    <a:pt x="235" y="1771"/>
                  </a:lnTo>
                  <a:lnTo>
                    <a:pt x="247" y="1767"/>
                  </a:lnTo>
                  <a:lnTo>
                    <a:pt x="257" y="1762"/>
                  </a:lnTo>
                  <a:lnTo>
                    <a:pt x="264" y="1759"/>
                  </a:lnTo>
                  <a:lnTo>
                    <a:pt x="267" y="1758"/>
                  </a:lnTo>
                  <a:lnTo>
                    <a:pt x="264" y="1759"/>
                  </a:lnTo>
                  <a:lnTo>
                    <a:pt x="258" y="1762"/>
                  </a:lnTo>
                  <a:lnTo>
                    <a:pt x="249" y="1768"/>
                  </a:lnTo>
                  <a:lnTo>
                    <a:pt x="238" y="1773"/>
                  </a:lnTo>
                  <a:lnTo>
                    <a:pt x="226" y="1780"/>
                  </a:lnTo>
                  <a:lnTo>
                    <a:pt x="214" y="1788"/>
                  </a:lnTo>
                  <a:lnTo>
                    <a:pt x="204" y="1793"/>
                  </a:lnTo>
                  <a:lnTo>
                    <a:pt x="196" y="1798"/>
                  </a:lnTo>
                  <a:lnTo>
                    <a:pt x="188" y="1804"/>
                  </a:lnTo>
                  <a:lnTo>
                    <a:pt x="176" y="1811"/>
                  </a:lnTo>
                  <a:lnTo>
                    <a:pt x="162" y="1817"/>
                  </a:lnTo>
                  <a:lnTo>
                    <a:pt x="147" y="1825"/>
                  </a:lnTo>
                  <a:lnTo>
                    <a:pt x="133" y="1832"/>
                  </a:lnTo>
                  <a:lnTo>
                    <a:pt x="119" y="1840"/>
                  </a:lnTo>
                  <a:lnTo>
                    <a:pt x="108" y="1847"/>
                  </a:lnTo>
                  <a:lnTo>
                    <a:pt x="103" y="1852"/>
                  </a:lnTo>
                  <a:lnTo>
                    <a:pt x="99" y="1859"/>
                  </a:lnTo>
                  <a:lnTo>
                    <a:pt x="91" y="1865"/>
                  </a:lnTo>
                  <a:lnTo>
                    <a:pt x="81" y="1871"/>
                  </a:lnTo>
                  <a:lnTo>
                    <a:pt x="72" y="1876"/>
                  </a:lnTo>
                  <a:lnTo>
                    <a:pt x="64" y="1881"/>
                  </a:lnTo>
                  <a:lnTo>
                    <a:pt x="57" y="1883"/>
                  </a:lnTo>
                  <a:lnTo>
                    <a:pt x="55" y="1884"/>
                  </a:lnTo>
                  <a:lnTo>
                    <a:pt x="58" y="1885"/>
                  </a:lnTo>
                  <a:lnTo>
                    <a:pt x="66" y="1886"/>
                  </a:lnTo>
                  <a:lnTo>
                    <a:pt x="78" y="1888"/>
                  </a:lnTo>
                  <a:lnTo>
                    <a:pt x="93" y="1889"/>
                  </a:lnTo>
                  <a:lnTo>
                    <a:pt x="112" y="1888"/>
                  </a:lnTo>
                  <a:lnTo>
                    <a:pt x="134" y="1886"/>
                  </a:lnTo>
                  <a:lnTo>
                    <a:pt x="150" y="1882"/>
                  </a:lnTo>
                  <a:lnTo>
                    <a:pt x="162" y="1877"/>
                  </a:lnTo>
                  <a:lnTo>
                    <a:pt x="171" y="1873"/>
                  </a:lnTo>
                  <a:lnTo>
                    <a:pt x="180" y="1869"/>
                  </a:lnTo>
                  <a:lnTo>
                    <a:pt x="188" y="1865"/>
                  </a:lnTo>
                  <a:lnTo>
                    <a:pt x="199" y="1863"/>
                  </a:lnTo>
                  <a:lnTo>
                    <a:pt x="215" y="1863"/>
                  </a:lnTo>
                  <a:lnTo>
                    <a:pt x="233" y="1862"/>
                  </a:lnTo>
                  <a:lnTo>
                    <a:pt x="249" y="1859"/>
                  </a:lnTo>
                  <a:lnTo>
                    <a:pt x="261" y="1853"/>
                  </a:lnTo>
                  <a:lnTo>
                    <a:pt x="269" y="1848"/>
                  </a:lnTo>
                  <a:lnTo>
                    <a:pt x="276" y="1843"/>
                  </a:lnTo>
                  <a:lnTo>
                    <a:pt x="280" y="1839"/>
                  </a:lnTo>
                  <a:lnTo>
                    <a:pt x="285" y="1840"/>
                  </a:lnTo>
                  <a:lnTo>
                    <a:pt x="288" y="1844"/>
                  </a:lnTo>
                  <a:lnTo>
                    <a:pt x="291" y="1851"/>
                  </a:lnTo>
                  <a:lnTo>
                    <a:pt x="292" y="1857"/>
                  </a:lnTo>
                  <a:lnTo>
                    <a:pt x="292" y="1859"/>
                  </a:lnTo>
                  <a:lnTo>
                    <a:pt x="290" y="1860"/>
                  </a:lnTo>
                  <a:lnTo>
                    <a:pt x="284" y="1863"/>
                  </a:lnTo>
                  <a:lnTo>
                    <a:pt x="274" y="1867"/>
                  </a:lnTo>
                  <a:lnTo>
                    <a:pt x="262" y="1874"/>
                  </a:lnTo>
                  <a:lnTo>
                    <a:pt x="247" y="1881"/>
                  </a:lnTo>
                  <a:lnTo>
                    <a:pt x="233" y="1887"/>
                  </a:lnTo>
                  <a:lnTo>
                    <a:pt x="220" y="1894"/>
                  </a:lnTo>
                  <a:lnTo>
                    <a:pt x="208" y="1900"/>
                  </a:lnTo>
                  <a:lnTo>
                    <a:pt x="198" y="1907"/>
                  </a:lnTo>
                  <a:lnTo>
                    <a:pt x="192" y="1911"/>
                  </a:lnTo>
                  <a:lnTo>
                    <a:pt x="189" y="1915"/>
                  </a:lnTo>
                  <a:lnTo>
                    <a:pt x="189" y="1920"/>
                  </a:lnTo>
                  <a:lnTo>
                    <a:pt x="187" y="1927"/>
                  </a:lnTo>
                  <a:lnTo>
                    <a:pt x="184" y="1935"/>
                  </a:lnTo>
                  <a:lnTo>
                    <a:pt x="181" y="1943"/>
                  </a:lnTo>
                  <a:lnTo>
                    <a:pt x="179" y="1951"/>
                  </a:lnTo>
                  <a:lnTo>
                    <a:pt x="180" y="1957"/>
                  </a:lnTo>
                  <a:lnTo>
                    <a:pt x="183" y="1960"/>
                  </a:lnTo>
                  <a:lnTo>
                    <a:pt x="195" y="1960"/>
                  </a:lnTo>
                  <a:lnTo>
                    <a:pt x="209" y="1958"/>
                  </a:lnTo>
                  <a:lnTo>
                    <a:pt x="224" y="1955"/>
                  </a:lnTo>
                  <a:lnTo>
                    <a:pt x="243" y="1950"/>
                  </a:lnTo>
                  <a:lnTo>
                    <a:pt x="256" y="1947"/>
                  </a:lnTo>
                  <a:lnTo>
                    <a:pt x="269" y="1946"/>
                  </a:lnTo>
                  <a:lnTo>
                    <a:pt x="281" y="1945"/>
                  </a:lnTo>
                  <a:lnTo>
                    <a:pt x="293" y="1947"/>
                  </a:lnTo>
                  <a:lnTo>
                    <a:pt x="302" y="1951"/>
                  </a:lnTo>
                  <a:lnTo>
                    <a:pt x="308" y="1955"/>
                  </a:lnTo>
                  <a:lnTo>
                    <a:pt x="310" y="1960"/>
                  </a:lnTo>
                  <a:lnTo>
                    <a:pt x="312" y="1966"/>
                  </a:lnTo>
                  <a:lnTo>
                    <a:pt x="313" y="1969"/>
                  </a:lnTo>
                  <a:lnTo>
                    <a:pt x="315" y="1973"/>
                  </a:lnTo>
                  <a:lnTo>
                    <a:pt x="320" y="1975"/>
                  </a:lnTo>
                  <a:lnTo>
                    <a:pt x="327" y="1974"/>
                  </a:lnTo>
                  <a:lnTo>
                    <a:pt x="338" y="1971"/>
                  </a:lnTo>
                  <a:lnTo>
                    <a:pt x="359" y="1963"/>
                  </a:lnTo>
                  <a:lnTo>
                    <a:pt x="378" y="1954"/>
                  </a:lnTo>
                  <a:lnTo>
                    <a:pt x="396" y="1946"/>
                  </a:lnTo>
                  <a:lnTo>
                    <a:pt x="415" y="1943"/>
                  </a:lnTo>
                  <a:lnTo>
                    <a:pt x="426" y="1943"/>
                  </a:lnTo>
                  <a:lnTo>
                    <a:pt x="435" y="1944"/>
                  </a:lnTo>
                  <a:lnTo>
                    <a:pt x="441" y="1947"/>
                  </a:lnTo>
                  <a:lnTo>
                    <a:pt x="448" y="1950"/>
                  </a:lnTo>
                  <a:lnTo>
                    <a:pt x="455" y="1951"/>
                  </a:lnTo>
                  <a:lnTo>
                    <a:pt x="463" y="1948"/>
                  </a:lnTo>
                  <a:lnTo>
                    <a:pt x="473" y="1944"/>
                  </a:lnTo>
                  <a:lnTo>
                    <a:pt x="483" y="1936"/>
                  </a:lnTo>
                  <a:lnTo>
                    <a:pt x="492" y="1929"/>
                  </a:lnTo>
                  <a:lnTo>
                    <a:pt x="500" y="1922"/>
                  </a:lnTo>
                  <a:lnTo>
                    <a:pt x="508" y="1918"/>
                  </a:lnTo>
                  <a:lnTo>
                    <a:pt x="516" y="1918"/>
                  </a:lnTo>
                  <a:lnTo>
                    <a:pt x="524" y="1923"/>
                  </a:lnTo>
                  <a:lnTo>
                    <a:pt x="532" y="1929"/>
                  </a:lnTo>
                  <a:lnTo>
                    <a:pt x="540" y="1932"/>
                  </a:lnTo>
                  <a:lnTo>
                    <a:pt x="545" y="1933"/>
                  </a:lnTo>
                  <a:lnTo>
                    <a:pt x="550" y="1930"/>
                  </a:lnTo>
                  <a:lnTo>
                    <a:pt x="552" y="1923"/>
                  </a:lnTo>
                  <a:lnTo>
                    <a:pt x="552" y="1915"/>
                  </a:lnTo>
                  <a:lnTo>
                    <a:pt x="551" y="1907"/>
                  </a:lnTo>
                  <a:lnTo>
                    <a:pt x="551" y="1900"/>
                  </a:lnTo>
                  <a:lnTo>
                    <a:pt x="551" y="1896"/>
                  </a:lnTo>
                  <a:lnTo>
                    <a:pt x="553" y="1895"/>
                  </a:lnTo>
                  <a:lnTo>
                    <a:pt x="555" y="1898"/>
                  </a:lnTo>
                  <a:lnTo>
                    <a:pt x="558" y="1902"/>
                  </a:lnTo>
                  <a:lnTo>
                    <a:pt x="561" y="1908"/>
                  </a:lnTo>
                  <a:lnTo>
                    <a:pt x="564" y="1913"/>
                  </a:lnTo>
                  <a:lnTo>
                    <a:pt x="568" y="1917"/>
                  </a:lnTo>
                  <a:lnTo>
                    <a:pt x="574" y="1918"/>
                  </a:lnTo>
                  <a:lnTo>
                    <a:pt x="581" y="1916"/>
                  </a:lnTo>
                  <a:lnTo>
                    <a:pt x="590" y="1908"/>
                  </a:lnTo>
                  <a:lnTo>
                    <a:pt x="598" y="1899"/>
                  </a:lnTo>
                  <a:lnTo>
                    <a:pt x="602" y="1894"/>
                  </a:lnTo>
                  <a:lnTo>
                    <a:pt x="605" y="1889"/>
                  </a:lnTo>
                  <a:lnTo>
                    <a:pt x="607" y="1886"/>
                  </a:lnTo>
                  <a:lnTo>
                    <a:pt x="609" y="1883"/>
                  </a:lnTo>
                  <a:lnTo>
                    <a:pt x="612" y="1879"/>
                  </a:lnTo>
                  <a:lnTo>
                    <a:pt x="619" y="1875"/>
                  </a:lnTo>
                  <a:lnTo>
                    <a:pt x="628" y="1869"/>
                  </a:lnTo>
                  <a:lnTo>
                    <a:pt x="645" y="1859"/>
                  </a:lnTo>
                  <a:lnTo>
                    <a:pt x="658" y="1852"/>
                  </a:lnTo>
                  <a:lnTo>
                    <a:pt x="668" y="1846"/>
                  </a:lnTo>
                  <a:lnTo>
                    <a:pt x="674" y="1840"/>
                  </a:lnTo>
                  <a:lnTo>
                    <a:pt x="678" y="1835"/>
                  </a:lnTo>
                  <a:lnTo>
                    <a:pt x="677" y="1827"/>
                  </a:lnTo>
                  <a:lnTo>
                    <a:pt x="673" y="1821"/>
                  </a:lnTo>
                  <a:lnTo>
                    <a:pt x="668" y="1815"/>
                  </a:lnTo>
                  <a:lnTo>
                    <a:pt x="661" y="1808"/>
                  </a:lnTo>
                  <a:lnTo>
                    <a:pt x="654" y="1802"/>
                  </a:lnTo>
                  <a:lnTo>
                    <a:pt x="648" y="1795"/>
                  </a:lnTo>
                  <a:lnTo>
                    <a:pt x="643" y="1791"/>
                  </a:lnTo>
                  <a:lnTo>
                    <a:pt x="642" y="1786"/>
                  </a:lnTo>
                  <a:lnTo>
                    <a:pt x="644" y="1785"/>
                  </a:lnTo>
                  <a:lnTo>
                    <a:pt x="650" y="1785"/>
                  </a:lnTo>
                  <a:lnTo>
                    <a:pt x="667" y="1789"/>
                  </a:lnTo>
                  <a:lnTo>
                    <a:pt x="681" y="1791"/>
                  </a:lnTo>
                  <a:lnTo>
                    <a:pt x="692" y="1793"/>
                  </a:lnTo>
                  <a:lnTo>
                    <a:pt x="700" y="1794"/>
                  </a:lnTo>
                  <a:lnTo>
                    <a:pt x="702" y="1794"/>
                  </a:lnTo>
                  <a:lnTo>
                    <a:pt x="701" y="1795"/>
                  </a:lnTo>
                  <a:lnTo>
                    <a:pt x="698" y="1798"/>
                  </a:lnTo>
                  <a:lnTo>
                    <a:pt x="695" y="1803"/>
                  </a:lnTo>
                  <a:lnTo>
                    <a:pt x="691" y="1808"/>
                  </a:lnTo>
                  <a:lnTo>
                    <a:pt x="689" y="1814"/>
                  </a:lnTo>
                  <a:lnTo>
                    <a:pt x="686" y="1819"/>
                  </a:lnTo>
                  <a:lnTo>
                    <a:pt x="688" y="1823"/>
                  </a:lnTo>
                  <a:lnTo>
                    <a:pt x="691" y="1826"/>
                  </a:lnTo>
                  <a:lnTo>
                    <a:pt x="698" y="1826"/>
                  </a:lnTo>
                  <a:lnTo>
                    <a:pt x="714" y="1824"/>
                  </a:lnTo>
                  <a:lnTo>
                    <a:pt x="731" y="1820"/>
                  </a:lnTo>
                  <a:lnTo>
                    <a:pt x="748" y="1816"/>
                  </a:lnTo>
                  <a:lnTo>
                    <a:pt x="763" y="1811"/>
                  </a:lnTo>
                  <a:lnTo>
                    <a:pt x="775" y="1804"/>
                  </a:lnTo>
                  <a:lnTo>
                    <a:pt x="783" y="1796"/>
                  </a:lnTo>
                  <a:lnTo>
                    <a:pt x="786" y="1790"/>
                  </a:lnTo>
                  <a:lnTo>
                    <a:pt x="788" y="1782"/>
                  </a:lnTo>
                  <a:lnTo>
                    <a:pt x="789" y="1774"/>
                  </a:lnTo>
                  <a:lnTo>
                    <a:pt x="792" y="1768"/>
                  </a:lnTo>
                  <a:lnTo>
                    <a:pt x="796" y="1762"/>
                  </a:lnTo>
                  <a:lnTo>
                    <a:pt x="804" y="1759"/>
                  </a:lnTo>
                  <a:lnTo>
                    <a:pt x="816" y="1758"/>
                  </a:lnTo>
                  <a:lnTo>
                    <a:pt x="839" y="1758"/>
                  </a:lnTo>
                  <a:lnTo>
                    <a:pt x="857" y="1756"/>
                  </a:lnTo>
                  <a:lnTo>
                    <a:pt x="871" y="1750"/>
                  </a:lnTo>
                  <a:lnTo>
                    <a:pt x="882" y="1742"/>
                  </a:lnTo>
                  <a:lnTo>
                    <a:pt x="892" y="1731"/>
                  </a:lnTo>
                  <a:lnTo>
                    <a:pt x="903" y="1721"/>
                  </a:lnTo>
                  <a:lnTo>
                    <a:pt x="911" y="1712"/>
                  </a:lnTo>
                  <a:lnTo>
                    <a:pt x="915" y="1704"/>
                  </a:lnTo>
                  <a:lnTo>
                    <a:pt x="913" y="1701"/>
                  </a:lnTo>
                  <a:lnTo>
                    <a:pt x="909" y="1700"/>
                  </a:lnTo>
                  <a:lnTo>
                    <a:pt x="901" y="1698"/>
                  </a:lnTo>
                  <a:lnTo>
                    <a:pt x="893" y="1696"/>
                  </a:lnTo>
                  <a:lnTo>
                    <a:pt x="885" y="1695"/>
                  </a:lnTo>
                  <a:lnTo>
                    <a:pt x="878" y="1693"/>
                  </a:lnTo>
                  <a:lnTo>
                    <a:pt x="874" y="1691"/>
                  </a:lnTo>
                  <a:lnTo>
                    <a:pt x="871" y="1690"/>
                  </a:lnTo>
                  <a:lnTo>
                    <a:pt x="875" y="1688"/>
                  </a:lnTo>
                  <a:lnTo>
                    <a:pt x="885" y="1686"/>
                  </a:lnTo>
                  <a:lnTo>
                    <a:pt x="900" y="1684"/>
                  </a:lnTo>
                  <a:lnTo>
                    <a:pt x="932" y="1679"/>
                  </a:lnTo>
                  <a:lnTo>
                    <a:pt x="958" y="1676"/>
                  </a:lnTo>
                  <a:lnTo>
                    <a:pt x="979" y="1673"/>
                  </a:lnTo>
                  <a:lnTo>
                    <a:pt x="997" y="1669"/>
                  </a:lnTo>
                  <a:lnTo>
                    <a:pt x="1015" y="1667"/>
                  </a:lnTo>
                  <a:lnTo>
                    <a:pt x="1032" y="1665"/>
                  </a:lnTo>
                  <a:lnTo>
                    <a:pt x="1047" y="1665"/>
                  </a:lnTo>
                  <a:lnTo>
                    <a:pt x="1059" y="1667"/>
                  </a:lnTo>
                  <a:lnTo>
                    <a:pt x="1067" y="1672"/>
                  </a:lnTo>
                  <a:lnTo>
                    <a:pt x="1075" y="1675"/>
                  </a:lnTo>
                  <a:lnTo>
                    <a:pt x="1082" y="1676"/>
                  </a:lnTo>
                  <a:lnTo>
                    <a:pt x="1087" y="1674"/>
                  </a:lnTo>
                  <a:lnTo>
                    <a:pt x="1093" y="1668"/>
                  </a:lnTo>
                  <a:lnTo>
                    <a:pt x="1098" y="1656"/>
                  </a:lnTo>
                  <a:lnTo>
                    <a:pt x="1101" y="1646"/>
                  </a:lnTo>
                  <a:lnTo>
                    <a:pt x="1101" y="1638"/>
                  </a:lnTo>
                  <a:lnTo>
                    <a:pt x="1101" y="1631"/>
                  </a:lnTo>
                  <a:lnTo>
                    <a:pt x="1101" y="1624"/>
                  </a:lnTo>
                  <a:lnTo>
                    <a:pt x="1102" y="1621"/>
                  </a:lnTo>
                  <a:lnTo>
                    <a:pt x="1107" y="1621"/>
                  </a:lnTo>
                  <a:lnTo>
                    <a:pt x="1112" y="1623"/>
                  </a:lnTo>
                  <a:lnTo>
                    <a:pt x="1118" y="1628"/>
                  </a:lnTo>
                  <a:lnTo>
                    <a:pt x="1123" y="1632"/>
                  </a:lnTo>
                  <a:lnTo>
                    <a:pt x="1127" y="1639"/>
                  </a:lnTo>
                  <a:lnTo>
                    <a:pt x="1129" y="1645"/>
                  </a:lnTo>
                  <a:lnTo>
                    <a:pt x="1129" y="1653"/>
                  </a:lnTo>
                  <a:lnTo>
                    <a:pt x="1133" y="1658"/>
                  </a:lnTo>
                  <a:lnTo>
                    <a:pt x="1139" y="1659"/>
                  </a:lnTo>
                  <a:lnTo>
                    <a:pt x="1147" y="1656"/>
                  </a:lnTo>
                  <a:lnTo>
                    <a:pt x="1157" y="1650"/>
                  </a:lnTo>
                  <a:lnTo>
                    <a:pt x="1167" y="1643"/>
                  </a:lnTo>
                  <a:lnTo>
                    <a:pt x="1177" y="1638"/>
                  </a:lnTo>
                  <a:lnTo>
                    <a:pt x="1187" y="1635"/>
                  </a:lnTo>
                  <a:lnTo>
                    <a:pt x="1198" y="1637"/>
                  </a:lnTo>
                  <a:lnTo>
                    <a:pt x="1211" y="1643"/>
                  </a:lnTo>
                  <a:lnTo>
                    <a:pt x="1228" y="1650"/>
                  </a:lnTo>
                  <a:lnTo>
                    <a:pt x="1245" y="1651"/>
                  </a:lnTo>
                  <a:lnTo>
                    <a:pt x="1260" y="1649"/>
                  </a:lnTo>
                  <a:lnTo>
                    <a:pt x="1274" y="1645"/>
                  </a:lnTo>
                  <a:lnTo>
                    <a:pt x="1284" y="1643"/>
                  </a:lnTo>
                  <a:lnTo>
                    <a:pt x="1292" y="1641"/>
                  </a:lnTo>
                  <a:lnTo>
                    <a:pt x="1299" y="1639"/>
                  </a:lnTo>
                  <a:lnTo>
                    <a:pt x="1304" y="1635"/>
                  </a:lnTo>
                  <a:lnTo>
                    <a:pt x="1306" y="1630"/>
                  </a:lnTo>
                  <a:lnTo>
                    <a:pt x="1303" y="1623"/>
                  </a:lnTo>
                  <a:lnTo>
                    <a:pt x="1296" y="1616"/>
                  </a:lnTo>
                  <a:lnTo>
                    <a:pt x="1287" y="1606"/>
                  </a:lnTo>
                  <a:lnTo>
                    <a:pt x="1278" y="1597"/>
                  </a:lnTo>
                  <a:lnTo>
                    <a:pt x="1269" y="1587"/>
                  </a:lnTo>
                  <a:lnTo>
                    <a:pt x="1262" y="1578"/>
                  </a:lnTo>
                  <a:lnTo>
                    <a:pt x="1260" y="1571"/>
                  </a:lnTo>
                  <a:lnTo>
                    <a:pt x="1261" y="1565"/>
                  </a:lnTo>
                  <a:lnTo>
                    <a:pt x="1264" y="1562"/>
                  </a:lnTo>
                  <a:lnTo>
                    <a:pt x="1271" y="1559"/>
                  </a:lnTo>
                  <a:lnTo>
                    <a:pt x="1279" y="1554"/>
                  </a:lnTo>
                  <a:lnTo>
                    <a:pt x="1287" y="1548"/>
                  </a:lnTo>
                  <a:lnTo>
                    <a:pt x="1299" y="1537"/>
                  </a:lnTo>
                  <a:lnTo>
                    <a:pt x="1312" y="1524"/>
                  </a:lnTo>
                  <a:lnTo>
                    <a:pt x="1324" y="1512"/>
                  </a:lnTo>
                  <a:lnTo>
                    <a:pt x="1335" y="1500"/>
                  </a:lnTo>
                  <a:lnTo>
                    <a:pt x="1343" y="1489"/>
                  </a:lnTo>
                  <a:lnTo>
                    <a:pt x="1350" y="1478"/>
                  </a:lnTo>
                  <a:lnTo>
                    <a:pt x="1351" y="1466"/>
                  </a:lnTo>
                  <a:lnTo>
                    <a:pt x="1351" y="1449"/>
                  </a:lnTo>
                  <a:lnTo>
                    <a:pt x="1351" y="1431"/>
                  </a:lnTo>
                  <a:lnTo>
                    <a:pt x="1353" y="1412"/>
                  </a:lnTo>
                  <a:lnTo>
                    <a:pt x="1357" y="1396"/>
                  </a:lnTo>
                  <a:lnTo>
                    <a:pt x="1363" y="1383"/>
                  </a:lnTo>
                  <a:lnTo>
                    <a:pt x="1372" y="1366"/>
                  </a:lnTo>
                  <a:lnTo>
                    <a:pt x="1380" y="1346"/>
                  </a:lnTo>
                  <a:lnTo>
                    <a:pt x="1388" y="1325"/>
                  </a:lnTo>
                  <a:lnTo>
                    <a:pt x="1397" y="1302"/>
                  </a:lnTo>
                  <a:lnTo>
                    <a:pt x="1405" y="1281"/>
                  </a:lnTo>
                  <a:lnTo>
                    <a:pt x="1410" y="1262"/>
                  </a:lnTo>
                  <a:lnTo>
                    <a:pt x="1412" y="1245"/>
                  </a:lnTo>
                  <a:lnTo>
                    <a:pt x="1410" y="1227"/>
                  </a:lnTo>
                  <a:lnTo>
                    <a:pt x="1407" y="1215"/>
                  </a:lnTo>
                  <a:lnTo>
                    <a:pt x="1407" y="1203"/>
                  </a:lnTo>
                  <a:lnTo>
                    <a:pt x="1407" y="1192"/>
                  </a:lnTo>
                  <a:lnTo>
                    <a:pt x="1406" y="1179"/>
                  </a:lnTo>
                  <a:lnTo>
                    <a:pt x="1403" y="1166"/>
                  </a:lnTo>
                  <a:lnTo>
                    <a:pt x="1398" y="1151"/>
                  </a:lnTo>
                  <a:lnTo>
                    <a:pt x="1389" y="1131"/>
                  </a:lnTo>
                  <a:lnTo>
                    <a:pt x="1380" y="1112"/>
                  </a:lnTo>
                  <a:lnTo>
                    <a:pt x="1372" y="1095"/>
                  </a:lnTo>
                  <a:lnTo>
                    <a:pt x="1364" y="1080"/>
                  </a:lnTo>
                  <a:lnTo>
                    <a:pt x="1360" y="1071"/>
                  </a:lnTo>
                  <a:lnTo>
                    <a:pt x="1354" y="1062"/>
                  </a:lnTo>
                  <a:lnTo>
                    <a:pt x="1351" y="1053"/>
                  </a:lnTo>
                  <a:lnTo>
                    <a:pt x="1351" y="1044"/>
                  </a:lnTo>
                  <a:lnTo>
                    <a:pt x="1354" y="1038"/>
                  </a:lnTo>
                  <a:lnTo>
                    <a:pt x="1362" y="1032"/>
                  </a:lnTo>
                  <a:lnTo>
                    <a:pt x="1370" y="1025"/>
                  </a:lnTo>
                  <a:lnTo>
                    <a:pt x="1377" y="1016"/>
                  </a:lnTo>
                  <a:lnTo>
                    <a:pt x="1384" y="1005"/>
                  </a:lnTo>
                  <a:lnTo>
                    <a:pt x="1385" y="991"/>
                  </a:lnTo>
                  <a:lnTo>
                    <a:pt x="1387" y="980"/>
                  </a:lnTo>
                  <a:lnTo>
                    <a:pt x="1390" y="969"/>
                  </a:lnTo>
                  <a:lnTo>
                    <a:pt x="1395" y="959"/>
                  </a:lnTo>
                  <a:lnTo>
                    <a:pt x="1397" y="951"/>
                  </a:lnTo>
                  <a:lnTo>
                    <a:pt x="1397" y="944"/>
                  </a:lnTo>
                  <a:lnTo>
                    <a:pt x="1393" y="937"/>
                  </a:lnTo>
                  <a:lnTo>
                    <a:pt x="1386" y="933"/>
                  </a:lnTo>
                  <a:lnTo>
                    <a:pt x="1378" y="927"/>
                  </a:lnTo>
                  <a:lnTo>
                    <a:pt x="1371" y="922"/>
                  </a:lnTo>
                  <a:lnTo>
                    <a:pt x="1363" y="915"/>
                  </a:lnTo>
                  <a:lnTo>
                    <a:pt x="1356" y="908"/>
                  </a:lnTo>
                  <a:lnTo>
                    <a:pt x="1352" y="896"/>
                  </a:lnTo>
                  <a:lnTo>
                    <a:pt x="1349" y="881"/>
                  </a:lnTo>
                  <a:lnTo>
                    <a:pt x="1349" y="866"/>
                  </a:lnTo>
                  <a:lnTo>
                    <a:pt x="1350" y="854"/>
                  </a:lnTo>
                  <a:lnTo>
                    <a:pt x="1352" y="845"/>
                  </a:lnTo>
                  <a:lnTo>
                    <a:pt x="1353" y="839"/>
                  </a:lnTo>
                  <a:lnTo>
                    <a:pt x="1354" y="831"/>
                  </a:lnTo>
                  <a:lnTo>
                    <a:pt x="1354" y="821"/>
                  </a:lnTo>
                  <a:lnTo>
                    <a:pt x="1353" y="812"/>
                  </a:lnTo>
                  <a:lnTo>
                    <a:pt x="1352" y="806"/>
                  </a:lnTo>
                  <a:lnTo>
                    <a:pt x="1352" y="800"/>
                  </a:lnTo>
                  <a:lnTo>
                    <a:pt x="1351" y="796"/>
                  </a:lnTo>
                  <a:lnTo>
                    <a:pt x="1348" y="792"/>
                  </a:lnTo>
                  <a:lnTo>
                    <a:pt x="1342" y="785"/>
                  </a:lnTo>
                  <a:lnTo>
                    <a:pt x="1333" y="776"/>
                  </a:lnTo>
                  <a:lnTo>
                    <a:pt x="1324" y="766"/>
                  </a:lnTo>
                  <a:lnTo>
                    <a:pt x="1316" y="755"/>
                  </a:lnTo>
                  <a:lnTo>
                    <a:pt x="1309" y="746"/>
                  </a:lnTo>
                  <a:lnTo>
                    <a:pt x="1306" y="735"/>
                  </a:lnTo>
                  <a:lnTo>
                    <a:pt x="1307" y="727"/>
                  </a:lnTo>
                  <a:lnTo>
                    <a:pt x="1313" y="723"/>
                  </a:lnTo>
                  <a:lnTo>
                    <a:pt x="1319" y="721"/>
                  </a:lnTo>
                  <a:lnTo>
                    <a:pt x="1329" y="721"/>
                  </a:lnTo>
                  <a:lnTo>
                    <a:pt x="1339" y="724"/>
                  </a:lnTo>
                  <a:lnTo>
                    <a:pt x="1350" y="726"/>
                  </a:lnTo>
                  <a:lnTo>
                    <a:pt x="1360" y="728"/>
                  </a:lnTo>
                  <a:lnTo>
                    <a:pt x="1368" y="729"/>
                  </a:lnTo>
                  <a:lnTo>
                    <a:pt x="1374" y="729"/>
                  </a:lnTo>
                  <a:lnTo>
                    <a:pt x="1379" y="726"/>
                  </a:lnTo>
                  <a:lnTo>
                    <a:pt x="1383" y="720"/>
                  </a:lnTo>
                  <a:lnTo>
                    <a:pt x="1384" y="712"/>
                  </a:lnTo>
                  <a:lnTo>
                    <a:pt x="1382" y="703"/>
                  </a:lnTo>
                  <a:lnTo>
                    <a:pt x="1378" y="695"/>
                  </a:lnTo>
                  <a:lnTo>
                    <a:pt x="1373" y="688"/>
                  </a:lnTo>
                  <a:lnTo>
                    <a:pt x="1363" y="679"/>
                  </a:lnTo>
                  <a:lnTo>
                    <a:pt x="1356" y="671"/>
                  </a:lnTo>
                  <a:lnTo>
                    <a:pt x="1352" y="667"/>
                  </a:lnTo>
                  <a:lnTo>
                    <a:pt x="1351" y="665"/>
                  </a:lnTo>
                  <a:lnTo>
                    <a:pt x="1313" y="657"/>
                  </a:lnTo>
                  <a:lnTo>
                    <a:pt x="1299" y="680"/>
                  </a:lnTo>
                  <a:lnTo>
                    <a:pt x="1248" y="685"/>
                  </a:lnTo>
                  <a:lnTo>
                    <a:pt x="1227" y="670"/>
                  </a:lnTo>
                  <a:lnTo>
                    <a:pt x="1238" y="633"/>
                  </a:lnTo>
                  <a:lnTo>
                    <a:pt x="1220" y="610"/>
                  </a:lnTo>
                  <a:lnTo>
                    <a:pt x="1202" y="618"/>
                  </a:lnTo>
                  <a:lnTo>
                    <a:pt x="1168" y="566"/>
                  </a:lnTo>
                  <a:lnTo>
                    <a:pt x="1174" y="541"/>
                  </a:lnTo>
                  <a:lnTo>
                    <a:pt x="1123" y="496"/>
                  </a:lnTo>
                  <a:lnTo>
                    <a:pt x="1091" y="529"/>
                  </a:lnTo>
                  <a:lnTo>
                    <a:pt x="1076" y="532"/>
                  </a:lnTo>
                  <a:lnTo>
                    <a:pt x="1077" y="566"/>
                  </a:lnTo>
                  <a:lnTo>
                    <a:pt x="1088" y="576"/>
                  </a:lnTo>
                  <a:lnTo>
                    <a:pt x="1086" y="596"/>
                  </a:lnTo>
                  <a:lnTo>
                    <a:pt x="1060" y="595"/>
                  </a:lnTo>
                  <a:lnTo>
                    <a:pt x="1050" y="609"/>
                  </a:lnTo>
                  <a:lnTo>
                    <a:pt x="1054" y="630"/>
                  </a:lnTo>
                  <a:lnTo>
                    <a:pt x="1019" y="642"/>
                  </a:lnTo>
                  <a:lnTo>
                    <a:pt x="1000" y="626"/>
                  </a:lnTo>
                  <a:lnTo>
                    <a:pt x="977" y="640"/>
                  </a:lnTo>
                  <a:lnTo>
                    <a:pt x="952" y="628"/>
                  </a:lnTo>
                  <a:lnTo>
                    <a:pt x="914" y="593"/>
                  </a:lnTo>
                  <a:lnTo>
                    <a:pt x="871" y="592"/>
                  </a:lnTo>
                  <a:lnTo>
                    <a:pt x="868" y="557"/>
                  </a:lnTo>
                  <a:lnTo>
                    <a:pt x="821" y="508"/>
                  </a:lnTo>
                  <a:lnTo>
                    <a:pt x="789" y="458"/>
                  </a:lnTo>
                  <a:lnTo>
                    <a:pt x="816" y="441"/>
                  </a:lnTo>
                  <a:lnTo>
                    <a:pt x="838" y="419"/>
                  </a:lnTo>
                  <a:lnTo>
                    <a:pt x="879" y="425"/>
                  </a:lnTo>
                  <a:lnTo>
                    <a:pt x="922" y="388"/>
                  </a:lnTo>
                  <a:lnTo>
                    <a:pt x="891" y="373"/>
                  </a:lnTo>
                  <a:lnTo>
                    <a:pt x="868" y="349"/>
                  </a:lnTo>
                  <a:lnTo>
                    <a:pt x="892" y="330"/>
                  </a:lnTo>
                  <a:lnTo>
                    <a:pt x="915" y="342"/>
                  </a:lnTo>
                  <a:lnTo>
                    <a:pt x="951" y="320"/>
                  </a:lnTo>
                  <a:lnTo>
                    <a:pt x="982" y="323"/>
                  </a:lnTo>
                  <a:lnTo>
                    <a:pt x="979" y="294"/>
                  </a:lnTo>
                  <a:lnTo>
                    <a:pt x="1014" y="257"/>
                  </a:lnTo>
                  <a:lnTo>
                    <a:pt x="1013" y="221"/>
                  </a:lnTo>
                  <a:lnTo>
                    <a:pt x="1035" y="178"/>
                  </a:lnTo>
                  <a:lnTo>
                    <a:pt x="1074" y="15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069200" y="3977280"/>
              <a:ext cx="836280" cy="637560"/>
            </a:xfrm>
            <a:custGeom>
              <a:avLst/>
              <a:gdLst/>
              <a:ahLst/>
              <a:rect l="l" t="t" r="r" b="b"/>
              <a:pathLst>
                <a:path w="808" h="618">
                  <a:moveTo>
                    <a:pt x="339" y="95"/>
                  </a:moveTo>
                  <a:lnTo>
                    <a:pt x="284" y="76"/>
                  </a:lnTo>
                  <a:lnTo>
                    <a:pt x="245" y="95"/>
                  </a:lnTo>
                  <a:lnTo>
                    <a:pt x="223" y="138"/>
                  </a:lnTo>
                  <a:lnTo>
                    <a:pt x="224" y="174"/>
                  </a:lnTo>
                  <a:lnTo>
                    <a:pt x="190" y="209"/>
                  </a:lnTo>
                  <a:lnTo>
                    <a:pt x="192" y="240"/>
                  </a:lnTo>
                  <a:lnTo>
                    <a:pt x="161" y="238"/>
                  </a:lnTo>
                  <a:lnTo>
                    <a:pt x="125" y="259"/>
                  </a:lnTo>
                  <a:lnTo>
                    <a:pt x="102" y="247"/>
                  </a:lnTo>
                  <a:lnTo>
                    <a:pt x="78" y="266"/>
                  </a:lnTo>
                  <a:lnTo>
                    <a:pt x="101" y="289"/>
                  </a:lnTo>
                  <a:lnTo>
                    <a:pt x="132" y="305"/>
                  </a:lnTo>
                  <a:lnTo>
                    <a:pt x="89" y="342"/>
                  </a:lnTo>
                  <a:lnTo>
                    <a:pt x="48" y="337"/>
                  </a:lnTo>
                  <a:lnTo>
                    <a:pt x="27" y="357"/>
                  </a:lnTo>
                  <a:lnTo>
                    <a:pt x="0" y="375"/>
                  </a:lnTo>
                  <a:lnTo>
                    <a:pt x="31" y="425"/>
                  </a:lnTo>
                  <a:lnTo>
                    <a:pt x="78" y="474"/>
                  </a:lnTo>
                  <a:lnTo>
                    <a:pt x="81" y="508"/>
                  </a:lnTo>
                  <a:lnTo>
                    <a:pt x="124" y="512"/>
                  </a:lnTo>
                  <a:lnTo>
                    <a:pt x="162" y="544"/>
                  </a:lnTo>
                  <a:lnTo>
                    <a:pt x="185" y="556"/>
                  </a:lnTo>
                  <a:lnTo>
                    <a:pt x="208" y="544"/>
                  </a:lnTo>
                  <a:lnTo>
                    <a:pt x="229" y="557"/>
                  </a:lnTo>
                  <a:lnTo>
                    <a:pt x="264" y="547"/>
                  </a:lnTo>
                  <a:lnTo>
                    <a:pt x="260" y="526"/>
                  </a:lnTo>
                  <a:lnTo>
                    <a:pt x="269" y="513"/>
                  </a:lnTo>
                  <a:lnTo>
                    <a:pt x="296" y="513"/>
                  </a:lnTo>
                  <a:lnTo>
                    <a:pt x="297" y="495"/>
                  </a:lnTo>
                  <a:lnTo>
                    <a:pt x="287" y="483"/>
                  </a:lnTo>
                  <a:lnTo>
                    <a:pt x="287" y="450"/>
                  </a:lnTo>
                  <a:lnTo>
                    <a:pt x="301" y="445"/>
                  </a:lnTo>
                  <a:lnTo>
                    <a:pt x="333" y="413"/>
                  </a:lnTo>
                  <a:lnTo>
                    <a:pt x="385" y="458"/>
                  </a:lnTo>
                  <a:lnTo>
                    <a:pt x="378" y="483"/>
                  </a:lnTo>
                  <a:lnTo>
                    <a:pt x="412" y="533"/>
                  </a:lnTo>
                  <a:lnTo>
                    <a:pt x="431" y="528"/>
                  </a:lnTo>
                  <a:lnTo>
                    <a:pt x="448" y="550"/>
                  </a:lnTo>
                  <a:lnTo>
                    <a:pt x="437" y="587"/>
                  </a:lnTo>
                  <a:lnTo>
                    <a:pt x="457" y="602"/>
                  </a:lnTo>
                  <a:lnTo>
                    <a:pt x="508" y="597"/>
                  </a:lnTo>
                  <a:lnTo>
                    <a:pt x="523" y="574"/>
                  </a:lnTo>
                  <a:lnTo>
                    <a:pt x="560" y="580"/>
                  </a:lnTo>
                  <a:lnTo>
                    <a:pt x="562" y="580"/>
                  </a:lnTo>
                  <a:lnTo>
                    <a:pt x="567" y="582"/>
                  </a:lnTo>
                  <a:lnTo>
                    <a:pt x="574" y="583"/>
                  </a:lnTo>
                  <a:lnTo>
                    <a:pt x="581" y="586"/>
                  </a:lnTo>
                  <a:lnTo>
                    <a:pt x="585" y="590"/>
                  </a:lnTo>
                  <a:lnTo>
                    <a:pt x="593" y="598"/>
                  </a:lnTo>
                  <a:lnTo>
                    <a:pt x="600" y="606"/>
                  </a:lnTo>
                  <a:lnTo>
                    <a:pt x="609" y="613"/>
                  </a:lnTo>
                  <a:lnTo>
                    <a:pt x="616" y="618"/>
                  </a:lnTo>
                  <a:lnTo>
                    <a:pt x="621" y="618"/>
                  </a:lnTo>
                  <a:lnTo>
                    <a:pt x="628" y="614"/>
                  </a:lnTo>
                  <a:lnTo>
                    <a:pt x="636" y="608"/>
                  </a:lnTo>
                  <a:lnTo>
                    <a:pt x="646" y="601"/>
                  </a:lnTo>
                  <a:lnTo>
                    <a:pt x="655" y="594"/>
                  </a:lnTo>
                  <a:lnTo>
                    <a:pt x="663" y="587"/>
                  </a:lnTo>
                  <a:lnTo>
                    <a:pt x="670" y="579"/>
                  </a:lnTo>
                  <a:lnTo>
                    <a:pt x="675" y="570"/>
                  </a:lnTo>
                  <a:lnTo>
                    <a:pt x="676" y="555"/>
                  </a:lnTo>
                  <a:lnTo>
                    <a:pt x="677" y="544"/>
                  </a:lnTo>
                  <a:lnTo>
                    <a:pt x="678" y="535"/>
                  </a:lnTo>
                  <a:lnTo>
                    <a:pt x="680" y="527"/>
                  </a:lnTo>
                  <a:lnTo>
                    <a:pt x="685" y="521"/>
                  </a:lnTo>
                  <a:lnTo>
                    <a:pt x="692" y="518"/>
                  </a:lnTo>
                  <a:lnTo>
                    <a:pt x="704" y="517"/>
                  </a:lnTo>
                  <a:lnTo>
                    <a:pt x="716" y="517"/>
                  </a:lnTo>
                  <a:lnTo>
                    <a:pt x="725" y="518"/>
                  </a:lnTo>
                  <a:lnTo>
                    <a:pt x="730" y="519"/>
                  </a:lnTo>
                  <a:lnTo>
                    <a:pt x="737" y="520"/>
                  </a:lnTo>
                  <a:lnTo>
                    <a:pt x="745" y="520"/>
                  </a:lnTo>
                  <a:lnTo>
                    <a:pt x="754" y="520"/>
                  </a:lnTo>
                  <a:lnTo>
                    <a:pt x="762" y="517"/>
                  </a:lnTo>
                  <a:lnTo>
                    <a:pt x="769" y="512"/>
                  </a:lnTo>
                  <a:lnTo>
                    <a:pt x="773" y="504"/>
                  </a:lnTo>
                  <a:lnTo>
                    <a:pt x="778" y="489"/>
                  </a:lnTo>
                  <a:lnTo>
                    <a:pt x="779" y="474"/>
                  </a:lnTo>
                  <a:lnTo>
                    <a:pt x="778" y="462"/>
                  </a:lnTo>
                  <a:lnTo>
                    <a:pt x="773" y="452"/>
                  </a:lnTo>
                  <a:lnTo>
                    <a:pt x="768" y="448"/>
                  </a:lnTo>
                  <a:lnTo>
                    <a:pt x="760" y="447"/>
                  </a:lnTo>
                  <a:lnTo>
                    <a:pt x="754" y="446"/>
                  </a:lnTo>
                  <a:lnTo>
                    <a:pt x="747" y="444"/>
                  </a:lnTo>
                  <a:lnTo>
                    <a:pt x="743" y="440"/>
                  </a:lnTo>
                  <a:lnTo>
                    <a:pt x="740" y="435"/>
                  </a:lnTo>
                  <a:lnTo>
                    <a:pt x="743" y="427"/>
                  </a:lnTo>
                  <a:lnTo>
                    <a:pt x="745" y="417"/>
                  </a:lnTo>
                  <a:lnTo>
                    <a:pt x="748" y="408"/>
                  </a:lnTo>
                  <a:lnTo>
                    <a:pt x="750" y="398"/>
                  </a:lnTo>
                  <a:lnTo>
                    <a:pt x="749" y="390"/>
                  </a:lnTo>
                  <a:lnTo>
                    <a:pt x="745" y="383"/>
                  </a:lnTo>
                  <a:lnTo>
                    <a:pt x="740" y="376"/>
                  </a:lnTo>
                  <a:lnTo>
                    <a:pt x="736" y="369"/>
                  </a:lnTo>
                  <a:lnTo>
                    <a:pt x="734" y="363"/>
                  </a:lnTo>
                  <a:lnTo>
                    <a:pt x="735" y="358"/>
                  </a:lnTo>
                  <a:lnTo>
                    <a:pt x="739" y="356"/>
                  </a:lnTo>
                  <a:lnTo>
                    <a:pt x="747" y="356"/>
                  </a:lnTo>
                  <a:lnTo>
                    <a:pt x="756" y="358"/>
                  </a:lnTo>
                  <a:lnTo>
                    <a:pt x="765" y="363"/>
                  </a:lnTo>
                  <a:lnTo>
                    <a:pt x="769" y="368"/>
                  </a:lnTo>
                  <a:lnTo>
                    <a:pt x="771" y="376"/>
                  </a:lnTo>
                  <a:lnTo>
                    <a:pt x="773" y="388"/>
                  </a:lnTo>
                  <a:lnTo>
                    <a:pt x="775" y="400"/>
                  </a:lnTo>
                  <a:lnTo>
                    <a:pt x="777" y="412"/>
                  </a:lnTo>
                  <a:lnTo>
                    <a:pt x="780" y="420"/>
                  </a:lnTo>
                  <a:lnTo>
                    <a:pt x="783" y="427"/>
                  </a:lnTo>
                  <a:lnTo>
                    <a:pt x="786" y="435"/>
                  </a:lnTo>
                  <a:lnTo>
                    <a:pt x="791" y="441"/>
                  </a:lnTo>
                  <a:lnTo>
                    <a:pt x="795" y="445"/>
                  </a:lnTo>
                  <a:lnTo>
                    <a:pt x="798" y="441"/>
                  </a:lnTo>
                  <a:lnTo>
                    <a:pt x="803" y="433"/>
                  </a:lnTo>
                  <a:lnTo>
                    <a:pt x="806" y="421"/>
                  </a:lnTo>
                  <a:lnTo>
                    <a:pt x="808" y="406"/>
                  </a:lnTo>
                  <a:lnTo>
                    <a:pt x="806" y="394"/>
                  </a:lnTo>
                  <a:lnTo>
                    <a:pt x="798" y="378"/>
                  </a:lnTo>
                  <a:lnTo>
                    <a:pt x="791" y="363"/>
                  </a:lnTo>
                  <a:lnTo>
                    <a:pt x="788" y="347"/>
                  </a:lnTo>
                  <a:lnTo>
                    <a:pt x="785" y="337"/>
                  </a:lnTo>
                  <a:lnTo>
                    <a:pt x="781" y="324"/>
                  </a:lnTo>
                  <a:lnTo>
                    <a:pt x="775" y="311"/>
                  </a:lnTo>
                  <a:lnTo>
                    <a:pt x="768" y="299"/>
                  </a:lnTo>
                  <a:lnTo>
                    <a:pt x="760" y="290"/>
                  </a:lnTo>
                  <a:lnTo>
                    <a:pt x="751" y="289"/>
                  </a:lnTo>
                  <a:lnTo>
                    <a:pt x="738" y="292"/>
                  </a:lnTo>
                  <a:lnTo>
                    <a:pt x="724" y="294"/>
                  </a:lnTo>
                  <a:lnTo>
                    <a:pt x="711" y="296"/>
                  </a:lnTo>
                  <a:lnTo>
                    <a:pt x="703" y="298"/>
                  </a:lnTo>
                  <a:lnTo>
                    <a:pt x="700" y="301"/>
                  </a:lnTo>
                  <a:lnTo>
                    <a:pt x="693" y="307"/>
                  </a:lnTo>
                  <a:lnTo>
                    <a:pt x="686" y="312"/>
                  </a:lnTo>
                  <a:lnTo>
                    <a:pt x="678" y="318"/>
                  </a:lnTo>
                  <a:lnTo>
                    <a:pt x="673" y="322"/>
                  </a:lnTo>
                  <a:lnTo>
                    <a:pt x="667" y="322"/>
                  </a:lnTo>
                  <a:lnTo>
                    <a:pt x="664" y="320"/>
                  </a:lnTo>
                  <a:lnTo>
                    <a:pt x="661" y="317"/>
                  </a:lnTo>
                  <a:lnTo>
                    <a:pt x="658" y="312"/>
                  </a:lnTo>
                  <a:lnTo>
                    <a:pt x="658" y="307"/>
                  </a:lnTo>
                  <a:lnTo>
                    <a:pt x="663" y="300"/>
                  </a:lnTo>
                  <a:lnTo>
                    <a:pt x="673" y="293"/>
                  </a:lnTo>
                  <a:lnTo>
                    <a:pt x="687" y="285"/>
                  </a:lnTo>
                  <a:lnTo>
                    <a:pt x="700" y="281"/>
                  </a:lnTo>
                  <a:lnTo>
                    <a:pt x="710" y="275"/>
                  </a:lnTo>
                  <a:lnTo>
                    <a:pt x="717" y="270"/>
                  </a:lnTo>
                  <a:lnTo>
                    <a:pt x="723" y="262"/>
                  </a:lnTo>
                  <a:lnTo>
                    <a:pt x="727" y="253"/>
                  </a:lnTo>
                  <a:lnTo>
                    <a:pt x="734" y="247"/>
                  </a:lnTo>
                  <a:lnTo>
                    <a:pt x="739" y="239"/>
                  </a:lnTo>
                  <a:lnTo>
                    <a:pt x="742" y="232"/>
                  </a:lnTo>
                  <a:lnTo>
                    <a:pt x="740" y="226"/>
                  </a:lnTo>
                  <a:lnTo>
                    <a:pt x="732" y="220"/>
                  </a:lnTo>
                  <a:lnTo>
                    <a:pt x="716" y="211"/>
                  </a:lnTo>
                  <a:lnTo>
                    <a:pt x="701" y="198"/>
                  </a:lnTo>
                  <a:lnTo>
                    <a:pt x="687" y="184"/>
                  </a:lnTo>
                  <a:lnTo>
                    <a:pt x="675" y="169"/>
                  </a:lnTo>
                  <a:lnTo>
                    <a:pt x="666" y="155"/>
                  </a:lnTo>
                  <a:lnTo>
                    <a:pt x="663" y="145"/>
                  </a:lnTo>
                  <a:lnTo>
                    <a:pt x="662" y="134"/>
                  </a:lnTo>
                  <a:lnTo>
                    <a:pt x="662" y="124"/>
                  </a:lnTo>
                  <a:lnTo>
                    <a:pt x="661" y="114"/>
                  </a:lnTo>
                  <a:lnTo>
                    <a:pt x="656" y="107"/>
                  </a:lnTo>
                  <a:lnTo>
                    <a:pt x="649" y="101"/>
                  </a:lnTo>
                  <a:lnTo>
                    <a:pt x="641" y="97"/>
                  </a:lnTo>
                  <a:lnTo>
                    <a:pt x="638" y="90"/>
                  </a:lnTo>
                  <a:lnTo>
                    <a:pt x="638" y="82"/>
                  </a:lnTo>
                  <a:lnTo>
                    <a:pt x="639" y="75"/>
                  </a:lnTo>
                  <a:lnTo>
                    <a:pt x="639" y="66"/>
                  </a:lnTo>
                  <a:lnTo>
                    <a:pt x="639" y="58"/>
                  </a:lnTo>
                  <a:lnTo>
                    <a:pt x="635" y="51"/>
                  </a:lnTo>
                  <a:lnTo>
                    <a:pt x="624" y="40"/>
                  </a:lnTo>
                  <a:lnTo>
                    <a:pt x="610" y="29"/>
                  </a:lnTo>
                  <a:lnTo>
                    <a:pt x="595" y="21"/>
                  </a:lnTo>
                  <a:lnTo>
                    <a:pt x="576" y="15"/>
                  </a:lnTo>
                  <a:lnTo>
                    <a:pt x="552" y="9"/>
                  </a:lnTo>
                  <a:lnTo>
                    <a:pt x="529" y="3"/>
                  </a:lnTo>
                  <a:lnTo>
                    <a:pt x="506" y="0"/>
                  </a:lnTo>
                  <a:lnTo>
                    <a:pt x="494" y="1"/>
                  </a:lnTo>
                  <a:lnTo>
                    <a:pt x="480" y="7"/>
                  </a:lnTo>
                  <a:lnTo>
                    <a:pt x="466" y="14"/>
                  </a:lnTo>
                  <a:lnTo>
                    <a:pt x="453" y="20"/>
                  </a:lnTo>
                  <a:lnTo>
                    <a:pt x="441" y="27"/>
                  </a:lnTo>
                  <a:lnTo>
                    <a:pt x="433" y="31"/>
                  </a:lnTo>
                  <a:lnTo>
                    <a:pt x="426" y="32"/>
                  </a:lnTo>
                  <a:lnTo>
                    <a:pt x="421" y="32"/>
                  </a:lnTo>
                  <a:lnTo>
                    <a:pt x="415" y="31"/>
                  </a:lnTo>
                  <a:lnTo>
                    <a:pt x="410" y="31"/>
                  </a:lnTo>
                  <a:lnTo>
                    <a:pt x="404" y="32"/>
                  </a:lnTo>
                  <a:lnTo>
                    <a:pt x="396" y="38"/>
                  </a:lnTo>
                  <a:lnTo>
                    <a:pt x="386" y="46"/>
                  </a:lnTo>
                  <a:lnTo>
                    <a:pt x="375" y="54"/>
                  </a:lnTo>
                  <a:lnTo>
                    <a:pt x="365" y="63"/>
                  </a:lnTo>
                  <a:lnTo>
                    <a:pt x="357" y="69"/>
                  </a:lnTo>
                  <a:lnTo>
                    <a:pt x="354" y="75"/>
                  </a:lnTo>
                  <a:lnTo>
                    <a:pt x="352" y="80"/>
                  </a:lnTo>
                  <a:lnTo>
                    <a:pt x="347" y="86"/>
                  </a:lnTo>
                  <a:lnTo>
                    <a:pt x="343" y="91"/>
                  </a:lnTo>
                  <a:lnTo>
                    <a:pt x="340" y="93"/>
                  </a:lnTo>
                  <a:lnTo>
                    <a:pt x="339" y="9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8"/>
          <p:cNvSpPr/>
          <p:nvPr/>
        </p:nvSpPr>
        <p:spPr>
          <a:xfrm>
            <a:off x="512640" y="436680"/>
            <a:ext cx="65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英伦三岛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0" y="1908000"/>
            <a:ext cx="3973320" cy="4876200"/>
            <a:chOff x="4572000" y="1908000"/>
            <a:chExt cx="3973320" cy="4876200"/>
          </a:xfrm>
        </p:grpSpPr>
        <p:sp>
          <p:nvSpPr>
            <p:cNvPr id="101" name="Freeform 27"/>
            <p:cNvSpPr/>
            <p:nvPr/>
          </p:nvSpPr>
          <p:spPr>
            <a:xfrm>
              <a:off x="6825960" y="1908000"/>
              <a:ext cx="159120" cy="136440"/>
            </a:xfrm>
            <a:custGeom>
              <a:avLst/>
              <a:gdLst/>
              <a:ahLst/>
              <a:rect l="l" t="t" r="r" b="b"/>
              <a:pathLst>
                <a:path w="154" h="132">
                  <a:moveTo>
                    <a:pt x="0" y="85"/>
                  </a:moveTo>
                  <a:lnTo>
                    <a:pt x="6" y="18"/>
                  </a:lnTo>
                  <a:lnTo>
                    <a:pt x="41" y="0"/>
                  </a:lnTo>
                  <a:lnTo>
                    <a:pt x="73" y="14"/>
                  </a:lnTo>
                  <a:lnTo>
                    <a:pt x="90" y="43"/>
                  </a:lnTo>
                  <a:lnTo>
                    <a:pt x="68" y="71"/>
                  </a:lnTo>
                  <a:lnTo>
                    <a:pt x="84" y="75"/>
                  </a:lnTo>
                  <a:lnTo>
                    <a:pt x="114" y="59"/>
                  </a:lnTo>
                  <a:lnTo>
                    <a:pt x="115" y="61"/>
                  </a:lnTo>
                  <a:lnTo>
                    <a:pt x="120" y="66"/>
                  </a:lnTo>
                  <a:lnTo>
                    <a:pt x="126" y="74"/>
                  </a:lnTo>
                  <a:lnTo>
                    <a:pt x="133" y="83"/>
                  </a:lnTo>
                  <a:lnTo>
                    <a:pt x="140" y="92"/>
                  </a:lnTo>
                  <a:lnTo>
                    <a:pt x="146" y="100"/>
                  </a:lnTo>
                  <a:lnTo>
                    <a:pt x="151" y="107"/>
                  </a:lnTo>
                  <a:lnTo>
                    <a:pt x="154" y="111"/>
                  </a:lnTo>
                  <a:lnTo>
                    <a:pt x="152" y="115"/>
                  </a:lnTo>
                  <a:lnTo>
                    <a:pt x="148" y="120"/>
                  </a:lnTo>
                  <a:lnTo>
                    <a:pt x="140" y="126"/>
                  </a:lnTo>
                  <a:lnTo>
                    <a:pt x="133" y="130"/>
                  </a:lnTo>
                  <a:lnTo>
                    <a:pt x="125" y="132"/>
                  </a:lnTo>
                  <a:lnTo>
                    <a:pt x="120" y="132"/>
                  </a:lnTo>
                  <a:lnTo>
                    <a:pt x="112" y="127"/>
                  </a:lnTo>
                  <a:lnTo>
                    <a:pt x="104" y="120"/>
                  </a:lnTo>
                  <a:lnTo>
                    <a:pt x="96" y="112"/>
                  </a:lnTo>
                  <a:lnTo>
                    <a:pt x="86" y="109"/>
                  </a:lnTo>
                  <a:lnTo>
                    <a:pt x="76" y="110"/>
                  </a:lnTo>
                  <a:lnTo>
                    <a:pt x="64" y="115"/>
                  </a:lnTo>
                  <a:lnTo>
                    <a:pt x="52" y="116"/>
                  </a:lnTo>
                  <a:lnTo>
                    <a:pt x="43" y="115"/>
                  </a:lnTo>
                  <a:lnTo>
                    <a:pt x="38" y="112"/>
                  </a:lnTo>
                  <a:lnTo>
                    <a:pt x="38" y="108"/>
                  </a:lnTo>
                  <a:lnTo>
                    <a:pt x="38" y="101"/>
                  </a:lnTo>
                  <a:lnTo>
                    <a:pt x="39" y="93"/>
                  </a:lnTo>
                  <a:lnTo>
                    <a:pt x="41" y="84"/>
                  </a:lnTo>
                  <a:lnTo>
                    <a:pt x="42" y="75"/>
                  </a:lnTo>
                  <a:lnTo>
                    <a:pt x="42" y="69"/>
                  </a:lnTo>
                  <a:lnTo>
                    <a:pt x="41" y="64"/>
                  </a:lnTo>
                  <a:lnTo>
                    <a:pt x="39" y="63"/>
                  </a:lnTo>
                  <a:lnTo>
                    <a:pt x="34" y="68"/>
                  </a:lnTo>
                  <a:lnTo>
                    <a:pt x="30" y="75"/>
                  </a:lnTo>
                  <a:lnTo>
                    <a:pt x="27" y="84"/>
                  </a:lnTo>
                  <a:lnTo>
                    <a:pt x="23" y="93"/>
                  </a:lnTo>
                  <a:lnTo>
                    <a:pt x="19" y="97"/>
                  </a:lnTo>
                  <a:lnTo>
                    <a:pt x="15" y="98"/>
                  </a:lnTo>
                  <a:lnTo>
                    <a:pt x="10" y="95"/>
                  </a:lnTo>
                  <a:lnTo>
                    <a:pt x="6" y="92"/>
                  </a:lnTo>
                  <a:lnTo>
                    <a:pt x="4" y="89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6807240" y="2025720"/>
              <a:ext cx="70200" cy="8712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1" y="12"/>
                  </a:moveTo>
                  <a:lnTo>
                    <a:pt x="4" y="21"/>
                  </a:lnTo>
                  <a:lnTo>
                    <a:pt x="11" y="31"/>
                  </a:lnTo>
                  <a:lnTo>
                    <a:pt x="18" y="42"/>
                  </a:lnTo>
                  <a:lnTo>
                    <a:pt x="26" y="56"/>
                  </a:lnTo>
                  <a:lnTo>
                    <a:pt x="33" y="68"/>
                  </a:lnTo>
                  <a:lnTo>
                    <a:pt x="40" y="77"/>
                  </a:lnTo>
                  <a:lnTo>
                    <a:pt x="48" y="84"/>
                  </a:lnTo>
                  <a:lnTo>
                    <a:pt x="56" y="85"/>
                  </a:lnTo>
                  <a:lnTo>
                    <a:pt x="63" y="82"/>
                  </a:lnTo>
                  <a:lnTo>
                    <a:pt x="66" y="73"/>
                  </a:lnTo>
                  <a:lnTo>
                    <a:pt x="68" y="62"/>
                  </a:lnTo>
                  <a:lnTo>
                    <a:pt x="68" y="50"/>
                  </a:lnTo>
                  <a:lnTo>
                    <a:pt x="63" y="37"/>
                  </a:lnTo>
                  <a:lnTo>
                    <a:pt x="58" y="26"/>
                  </a:lnTo>
                  <a:lnTo>
                    <a:pt x="50" y="18"/>
                  </a:lnTo>
                  <a:lnTo>
                    <a:pt x="37" y="9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6009480" y="2166480"/>
              <a:ext cx="2535840" cy="4617720"/>
            </a:xfrm>
            <a:custGeom>
              <a:avLst/>
              <a:gdLst/>
              <a:ahLst/>
              <a:rect l="l" t="t" r="r" b="b"/>
              <a:pathLst>
                <a:path w="2448" h="4459">
                  <a:moveTo>
                    <a:pt x="881" y="6"/>
                  </a:moveTo>
                  <a:lnTo>
                    <a:pt x="869" y="4"/>
                  </a:lnTo>
                  <a:lnTo>
                    <a:pt x="855" y="4"/>
                  </a:lnTo>
                  <a:lnTo>
                    <a:pt x="840" y="5"/>
                  </a:lnTo>
                  <a:lnTo>
                    <a:pt x="826" y="3"/>
                  </a:lnTo>
                  <a:lnTo>
                    <a:pt x="814" y="0"/>
                  </a:lnTo>
                  <a:lnTo>
                    <a:pt x="804" y="0"/>
                  </a:lnTo>
                  <a:lnTo>
                    <a:pt x="796" y="4"/>
                  </a:lnTo>
                  <a:lnTo>
                    <a:pt x="789" y="11"/>
                  </a:lnTo>
                  <a:lnTo>
                    <a:pt x="784" y="18"/>
                  </a:lnTo>
                  <a:lnTo>
                    <a:pt x="778" y="23"/>
                  </a:lnTo>
                  <a:lnTo>
                    <a:pt x="772" y="25"/>
                  </a:lnTo>
                  <a:lnTo>
                    <a:pt x="761" y="28"/>
                  </a:lnTo>
                  <a:lnTo>
                    <a:pt x="745" y="27"/>
                  </a:lnTo>
                  <a:lnTo>
                    <a:pt x="731" y="25"/>
                  </a:lnTo>
                  <a:lnTo>
                    <a:pt x="723" y="24"/>
                  </a:lnTo>
                  <a:lnTo>
                    <a:pt x="716" y="24"/>
                  </a:lnTo>
                  <a:lnTo>
                    <a:pt x="710" y="25"/>
                  </a:lnTo>
                  <a:lnTo>
                    <a:pt x="702" y="29"/>
                  </a:lnTo>
                  <a:lnTo>
                    <a:pt x="692" y="35"/>
                  </a:lnTo>
                  <a:lnTo>
                    <a:pt x="681" y="42"/>
                  </a:lnTo>
                  <a:lnTo>
                    <a:pt x="673" y="47"/>
                  </a:lnTo>
                  <a:lnTo>
                    <a:pt x="667" y="50"/>
                  </a:lnTo>
                  <a:lnTo>
                    <a:pt x="659" y="52"/>
                  </a:lnTo>
                  <a:lnTo>
                    <a:pt x="650" y="52"/>
                  </a:lnTo>
                  <a:lnTo>
                    <a:pt x="638" y="51"/>
                  </a:lnTo>
                  <a:lnTo>
                    <a:pt x="622" y="50"/>
                  </a:lnTo>
                  <a:lnTo>
                    <a:pt x="610" y="47"/>
                  </a:lnTo>
                  <a:lnTo>
                    <a:pt x="600" y="48"/>
                  </a:lnTo>
                  <a:lnTo>
                    <a:pt x="591" y="52"/>
                  </a:lnTo>
                  <a:lnTo>
                    <a:pt x="580" y="58"/>
                  </a:lnTo>
                  <a:lnTo>
                    <a:pt x="572" y="64"/>
                  </a:lnTo>
                  <a:lnTo>
                    <a:pt x="563" y="66"/>
                  </a:lnTo>
                  <a:lnTo>
                    <a:pt x="555" y="65"/>
                  </a:lnTo>
                  <a:lnTo>
                    <a:pt x="549" y="64"/>
                  </a:lnTo>
                  <a:lnTo>
                    <a:pt x="542" y="63"/>
                  </a:lnTo>
                  <a:lnTo>
                    <a:pt x="535" y="65"/>
                  </a:lnTo>
                  <a:lnTo>
                    <a:pt x="520" y="75"/>
                  </a:lnTo>
                  <a:lnTo>
                    <a:pt x="510" y="84"/>
                  </a:lnTo>
                  <a:lnTo>
                    <a:pt x="507" y="84"/>
                  </a:lnTo>
                  <a:lnTo>
                    <a:pt x="506" y="79"/>
                  </a:lnTo>
                  <a:lnTo>
                    <a:pt x="506" y="74"/>
                  </a:lnTo>
                  <a:lnTo>
                    <a:pt x="506" y="67"/>
                  </a:lnTo>
                  <a:lnTo>
                    <a:pt x="506" y="62"/>
                  </a:lnTo>
                  <a:lnTo>
                    <a:pt x="506" y="59"/>
                  </a:lnTo>
                  <a:lnTo>
                    <a:pt x="482" y="48"/>
                  </a:lnTo>
                  <a:lnTo>
                    <a:pt x="425" y="106"/>
                  </a:lnTo>
                  <a:lnTo>
                    <a:pt x="442" y="57"/>
                  </a:lnTo>
                  <a:lnTo>
                    <a:pt x="418" y="43"/>
                  </a:lnTo>
                  <a:lnTo>
                    <a:pt x="408" y="63"/>
                  </a:lnTo>
                  <a:lnTo>
                    <a:pt x="387" y="36"/>
                  </a:lnTo>
                  <a:lnTo>
                    <a:pt x="355" y="24"/>
                  </a:lnTo>
                  <a:lnTo>
                    <a:pt x="349" y="69"/>
                  </a:lnTo>
                  <a:lnTo>
                    <a:pt x="326" y="85"/>
                  </a:lnTo>
                  <a:lnTo>
                    <a:pt x="331" y="120"/>
                  </a:lnTo>
                  <a:lnTo>
                    <a:pt x="334" y="144"/>
                  </a:lnTo>
                  <a:lnTo>
                    <a:pt x="311" y="134"/>
                  </a:lnTo>
                  <a:lnTo>
                    <a:pt x="314" y="173"/>
                  </a:lnTo>
                  <a:lnTo>
                    <a:pt x="332" y="215"/>
                  </a:lnTo>
                  <a:lnTo>
                    <a:pt x="294" y="215"/>
                  </a:lnTo>
                  <a:lnTo>
                    <a:pt x="252" y="208"/>
                  </a:lnTo>
                  <a:lnTo>
                    <a:pt x="260" y="239"/>
                  </a:lnTo>
                  <a:lnTo>
                    <a:pt x="285" y="270"/>
                  </a:lnTo>
                  <a:lnTo>
                    <a:pt x="278" y="301"/>
                  </a:lnTo>
                  <a:lnTo>
                    <a:pt x="255" y="316"/>
                  </a:lnTo>
                  <a:lnTo>
                    <a:pt x="232" y="291"/>
                  </a:lnTo>
                  <a:lnTo>
                    <a:pt x="234" y="320"/>
                  </a:lnTo>
                  <a:lnTo>
                    <a:pt x="274" y="354"/>
                  </a:lnTo>
                  <a:lnTo>
                    <a:pt x="309" y="401"/>
                  </a:lnTo>
                  <a:lnTo>
                    <a:pt x="244" y="381"/>
                  </a:lnTo>
                  <a:lnTo>
                    <a:pt x="232" y="403"/>
                  </a:lnTo>
                  <a:lnTo>
                    <a:pt x="209" y="409"/>
                  </a:lnTo>
                  <a:lnTo>
                    <a:pt x="185" y="381"/>
                  </a:lnTo>
                  <a:lnTo>
                    <a:pt x="174" y="404"/>
                  </a:lnTo>
                  <a:lnTo>
                    <a:pt x="196" y="441"/>
                  </a:lnTo>
                  <a:lnTo>
                    <a:pt x="175" y="463"/>
                  </a:lnTo>
                  <a:lnTo>
                    <a:pt x="161" y="412"/>
                  </a:lnTo>
                  <a:lnTo>
                    <a:pt x="159" y="412"/>
                  </a:lnTo>
                  <a:lnTo>
                    <a:pt x="153" y="412"/>
                  </a:lnTo>
                  <a:lnTo>
                    <a:pt x="146" y="413"/>
                  </a:lnTo>
                  <a:lnTo>
                    <a:pt x="138" y="415"/>
                  </a:lnTo>
                  <a:lnTo>
                    <a:pt x="132" y="418"/>
                  </a:lnTo>
                  <a:lnTo>
                    <a:pt x="128" y="425"/>
                  </a:lnTo>
                  <a:lnTo>
                    <a:pt x="127" y="434"/>
                  </a:lnTo>
                  <a:lnTo>
                    <a:pt x="133" y="450"/>
                  </a:lnTo>
                  <a:lnTo>
                    <a:pt x="139" y="463"/>
                  </a:lnTo>
                  <a:lnTo>
                    <a:pt x="147" y="474"/>
                  </a:lnTo>
                  <a:lnTo>
                    <a:pt x="156" y="483"/>
                  </a:lnTo>
                  <a:lnTo>
                    <a:pt x="160" y="491"/>
                  </a:lnTo>
                  <a:lnTo>
                    <a:pt x="161" y="497"/>
                  </a:lnTo>
                  <a:lnTo>
                    <a:pt x="161" y="502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3" y="503"/>
                  </a:lnTo>
                  <a:lnTo>
                    <a:pt x="147" y="503"/>
                  </a:lnTo>
                  <a:lnTo>
                    <a:pt x="140" y="503"/>
                  </a:lnTo>
                  <a:lnTo>
                    <a:pt x="134" y="504"/>
                  </a:lnTo>
                  <a:lnTo>
                    <a:pt x="129" y="506"/>
                  </a:lnTo>
                  <a:lnTo>
                    <a:pt x="127" y="510"/>
                  </a:lnTo>
                  <a:lnTo>
                    <a:pt x="129" y="518"/>
                  </a:lnTo>
                  <a:lnTo>
                    <a:pt x="137" y="531"/>
                  </a:lnTo>
                  <a:lnTo>
                    <a:pt x="145" y="543"/>
                  </a:lnTo>
                  <a:lnTo>
                    <a:pt x="152" y="553"/>
                  </a:lnTo>
                  <a:lnTo>
                    <a:pt x="158" y="560"/>
                  </a:lnTo>
                  <a:lnTo>
                    <a:pt x="162" y="564"/>
                  </a:lnTo>
                  <a:lnTo>
                    <a:pt x="168" y="566"/>
                  </a:lnTo>
                  <a:lnTo>
                    <a:pt x="175" y="568"/>
                  </a:lnTo>
                  <a:lnTo>
                    <a:pt x="186" y="569"/>
                  </a:lnTo>
                  <a:lnTo>
                    <a:pt x="196" y="572"/>
                  </a:lnTo>
                  <a:lnTo>
                    <a:pt x="206" y="573"/>
                  </a:lnTo>
                  <a:lnTo>
                    <a:pt x="213" y="574"/>
                  </a:lnTo>
                  <a:lnTo>
                    <a:pt x="216" y="575"/>
                  </a:lnTo>
                  <a:lnTo>
                    <a:pt x="154" y="582"/>
                  </a:lnTo>
                  <a:lnTo>
                    <a:pt x="153" y="580"/>
                  </a:lnTo>
                  <a:lnTo>
                    <a:pt x="150" y="578"/>
                  </a:lnTo>
                  <a:lnTo>
                    <a:pt x="145" y="574"/>
                  </a:lnTo>
                  <a:lnTo>
                    <a:pt x="139" y="569"/>
                  </a:lnTo>
                  <a:lnTo>
                    <a:pt x="134" y="565"/>
                  </a:lnTo>
                  <a:lnTo>
                    <a:pt x="128" y="563"/>
                  </a:lnTo>
                  <a:lnTo>
                    <a:pt x="123" y="563"/>
                  </a:lnTo>
                  <a:lnTo>
                    <a:pt x="119" y="565"/>
                  </a:lnTo>
                  <a:lnTo>
                    <a:pt x="118" y="571"/>
                  </a:lnTo>
                  <a:lnTo>
                    <a:pt x="117" y="587"/>
                  </a:lnTo>
                  <a:lnTo>
                    <a:pt x="117" y="604"/>
                  </a:lnTo>
                  <a:lnTo>
                    <a:pt x="118" y="621"/>
                  </a:lnTo>
                  <a:lnTo>
                    <a:pt x="118" y="636"/>
                  </a:lnTo>
                  <a:lnTo>
                    <a:pt x="119" y="647"/>
                  </a:lnTo>
                  <a:lnTo>
                    <a:pt x="123" y="654"/>
                  </a:lnTo>
                  <a:lnTo>
                    <a:pt x="128" y="661"/>
                  </a:lnTo>
                  <a:lnTo>
                    <a:pt x="135" y="668"/>
                  </a:lnTo>
                  <a:lnTo>
                    <a:pt x="144" y="671"/>
                  </a:lnTo>
                  <a:lnTo>
                    <a:pt x="152" y="671"/>
                  </a:lnTo>
                  <a:lnTo>
                    <a:pt x="160" y="667"/>
                  </a:lnTo>
                  <a:lnTo>
                    <a:pt x="168" y="659"/>
                  </a:lnTo>
                  <a:lnTo>
                    <a:pt x="174" y="657"/>
                  </a:lnTo>
                  <a:lnTo>
                    <a:pt x="180" y="657"/>
                  </a:lnTo>
                  <a:lnTo>
                    <a:pt x="185" y="659"/>
                  </a:lnTo>
                  <a:lnTo>
                    <a:pt x="191" y="663"/>
                  </a:lnTo>
                  <a:lnTo>
                    <a:pt x="195" y="665"/>
                  </a:lnTo>
                  <a:lnTo>
                    <a:pt x="199" y="666"/>
                  </a:lnTo>
                  <a:lnTo>
                    <a:pt x="203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7" y="667"/>
                  </a:lnTo>
                  <a:lnTo>
                    <a:pt x="205" y="668"/>
                  </a:lnTo>
                  <a:lnTo>
                    <a:pt x="197" y="668"/>
                  </a:lnTo>
                  <a:lnTo>
                    <a:pt x="188" y="670"/>
                  </a:lnTo>
                  <a:lnTo>
                    <a:pt x="179" y="672"/>
                  </a:lnTo>
                  <a:lnTo>
                    <a:pt x="169" y="676"/>
                  </a:lnTo>
                  <a:lnTo>
                    <a:pt x="161" y="680"/>
                  </a:lnTo>
                  <a:lnTo>
                    <a:pt x="158" y="685"/>
                  </a:lnTo>
                  <a:lnTo>
                    <a:pt x="159" y="698"/>
                  </a:lnTo>
                  <a:lnTo>
                    <a:pt x="165" y="706"/>
                  </a:lnTo>
                  <a:lnTo>
                    <a:pt x="174" y="713"/>
                  </a:lnTo>
                  <a:lnTo>
                    <a:pt x="186" y="715"/>
                  </a:lnTo>
                  <a:lnTo>
                    <a:pt x="198" y="714"/>
                  </a:lnTo>
                  <a:lnTo>
                    <a:pt x="208" y="714"/>
                  </a:lnTo>
                  <a:lnTo>
                    <a:pt x="216" y="715"/>
                  </a:lnTo>
                  <a:lnTo>
                    <a:pt x="218" y="715"/>
                  </a:lnTo>
                  <a:lnTo>
                    <a:pt x="236" y="745"/>
                  </a:lnTo>
                  <a:lnTo>
                    <a:pt x="234" y="742"/>
                  </a:lnTo>
                  <a:lnTo>
                    <a:pt x="229" y="738"/>
                  </a:lnTo>
                  <a:lnTo>
                    <a:pt x="221" y="733"/>
                  </a:lnTo>
                  <a:lnTo>
                    <a:pt x="211" y="728"/>
                  </a:lnTo>
                  <a:lnTo>
                    <a:pt x="202" y="726"/>
                  </a:lnTo>
                  <a:lnTo>
                    <a:pt x="192" y="728"/>
                  </a:lnTo>
                  <a:lnTo>
                    <a:pt x="182" y="735"/>
                  </a:lnTo>
                  <a:lnTo>
                    <a:pt x="173" y="744"/>
                  </a:lnTo>
                  <a:lnTo>
                    <a:pt x="165" y="752"/>
                  </a:lnTo>
                  <a:lnTo>
                    <a:pt x="160" y="762"/>
                  </a:lnTo>
                  <a:lnTo>
                    <a:pt x="158" y="770"/>
                  </a:lnTo>
                  <a:lnTo>
                    <a:pt x="159" y="775"/>
                  </a:lnTo>
                  <a:lnTo>
                    <a:pt x="163" y="779"/>
                  </a:lnTo>
                  <a:lnTo>
                    <a:pt x="171" y="783"/>
                  </a:lnTo>
                  <a:lnTo>
                    <a:pt x="180" y="787"/>
                  </a:lnTo>
                  <a:lnTo>
                    <a:pt x="188" y="791"/>
                  </a:lnTo>
                  <a:lnTo>
                    <a:pt x="197" y="794"/>
                  </a:lnTo>
                  <a:lnTo>
                    <a:pt x="203" y="796"/>
                  </a:lnTo>
                  <a:lnTo>
                    <a:pt x="205" y="797"/>
                  </a:lnTo>
                  <a:lnTo>
                    <a:pt x="203" y="797"/>
                  </a:lnTo>
                  <a:lnTo>
                    <a:pt x="195" y="796"/>
                  </a:lnTo>
                  <a:lnTo>
                    <a:pt x="184" y="796"/>
                  </a:lnTo>
                  <a:lnTo>
                    <a:pt x="171" y="796"/>
                  </a:lnTo>
                  <a:lnTo>
                    <a:pt x="159" y="798"/>
                  </a:lnTo>
                  <a:lnTo>
                    <a:pt x="148" y="803"/>
                  </a:lnTo>
                  <a:lnTo>
                    <a:pt x="140" y="808"/>
                  </a:lnTo>
                  <a:lnTo>
                    <a:pt x="136" y="816"/>
                  </a:lnTo>
                  <a:lnTo>
                    <a:pt x="135" y="822"/>
                  </a:lnTo>
                  <a:lnTo>
                    <a:pt x="137" y="827"/>
                  </a:lnTo>
                  <a:lnTo>
                    <a:pt x="140" y="831"/>
                  </a:lnTo>
                  <a:lnTo>
                    <a:pt x="146" y="833"/>
                  </a:lnTo>
                  <a:lnTo>
                    <a:pt x="152" y="835"/>
                  </a:lnTo>
                  <a:lnTo>
                    <a:pt x="159" y="839"/>
                  </a:lnTo>
                  <a:lnTo>
                    <a:pt x="167" y="843"/>
                  </a:lnTo>
                  <a:lnTo>
                    <a:pt x="173" y="850"/>
                  </a:lnTo>
                  <a:lnTo>
                    <a:pt x="177" y="855"/>
                  </a:lnTo>
                  <a:lnTo>
                    <a:pt x="182" y="860"/>
                  </a:lnTo>
                  <a:lnTo>
                    <a:pt x="183" y="862"/>
                  </a:lnTo>
                  <a:lnTo>
                    <a:pt x="181" y="861"/>
                  </a:lnTo>
                  <a:lnTo>
                    <a:pt x="173" y="857"/>
                  </a:lnTo>
                  <a:lnTo>
                    <a:pt x="163" y="855"/>
                  </a:lnTo>
                  <a:lnTo>
                    <a:pt x="151" y="853"/>
                  </a:lnTo>
                  <a:lnTo>
                    <a:pt x="139" y="852"/>
                  </a:lnTo>
                  <a:lnTo>
                    <a:pt x="128" y="853"/>
                  </a:lnTo>
                  <a:lnTo>
                    <a:pt x="119" y="858"/>
                  </a:lnTo>
                  <a:lnTo>
                    <a:pt x="114" y="865"/>
                  </a:lnTo>
                  <a:lnTo>
                    <a:pt x="107" y="873"/>
                  </a:lnTo>
                  <a:lnTo>
                    <a:pt x="102" y="881"/>
                  </a:lnTo>
                  <a:lnTo>
                    <a:pt x="96" y="889"/>
                  </a:lnTo>
                  <a:lnTo>
                    <a:pt x="93" y="896"/>
                  </a:lnTo>
                  <a:lnTo>
                    <a:pt x="93" y="902"/>
                  </a:lnTo>
                  <a:lnTo>
                    <a:pt x="94" y="907"/>
                  </a:lnTo>
                  <a:lnTo>
                    <a:pt x="101" y="910"/>
                  </a:lnTo>
                  <a:lnTo>
                    <a:pt x="112" y="910"/>
                  </a:lnTo>
                  <a:lnTo>
                    <a:pt x="122" y="908"/>
                  </a:lnTo>
                  <a:lnTo>
                    <a:pt x="129" y="907"/>
                  </a:lnTo>
                  <a:lnTo>
                    <a:pt x="135" y="905"/>
                  </a:lnTo>
                  <a:lnTo>
                    <a:pt x="138" y="910"/>
                  </a:lnTo>
                  <a:lnTo>
                    <a:pt x="144" y="919"/>
                  </a:lnTo>
                  <a:lnTo>
                    <a:pt x="147" y="925"/>
                  </a:lnTo>
                  <a:lnTo>
                    <a:pt x="149" y="927"/>
                  </a:lnTo>
                  <a:lnTo>
                    <a:pt x="146" y="927"/>
                  </a:lnTo>
                  <a:lnTo>
                    <a:pt x="139" y="930"/>
                  </a:lnTo>
                  <a:lnTo>
                    <a:pt x="129" y="934"/>
                  </a:lnTo>
                  <a:lnTo>
                    <a:pt x="119" y="938"/>
                  </a:lnTo>
                  <a:lnTo>
                    <a:pt x="112" y="944"/>
                  </a:lnTo>
                  <a:lnTo>
                    <a:pt x="107" y="950"/>
                  </a:lnTo>
                  <a:lnTo>
                    <a:pt x="107" y="955"/>
                  </a:lnTo>
                  <a:lnTo>
                    <a:pt x="109" y="958"/>
                  </a:lnTo>
                  <a:lnTo>
                    <a:pt x="110" y="961"/>
                  </a:lnTo>
                  <a:lnTo>
                    <a:pt x="112" y="964"/>
                  </a:lnTo>
                  <a:lnTo>
                    <a:pt x="113" y="965"/>
                  </a:lnTo>
                  <a:lnTo>
                    <a:pt x="115" y="966"/>
                  </a:lnTo>
                  <a:lnTo>
                    <a:pt x="117" y="967"/>
                  </a:lnTo>
                  <a:lnTo>
                    <a:pt x="118" y="967"/>
                  </a:lnTo>
                  <a:lnTo>
                    <a:pt x="119" y="967"/>
                  </a:lnTo>
                  <a:lnTo>
                    <a:pt x="116" y="967"/>
                  </a:lnTo>
                  <a:lnTo>
                    <a:pt x="110" y="966"/>
                  </a:lnTo>
                  <a:lnTo>
                    <a:pt x="99" y="965"/>
                  </a:lnTo>
                  <a:lnTo>
                    <a:pt x="87" y="964"/>
                  </a:lnTo>
                  <a:lnTo>
                    <a:pt x="73" y="962"/>
                  </a:lnTo>
                  <a:lnTo>
                    <a:pt x="60" y="964"/>
                  </a:lnTo>
                  <a:lnTo>
                    <a:pt x="48" y="965"/>
                  </a:lnTo>
                  <a:lnTo>
                    <a:pt x="37" y="968"/>
                  </a:lnTo>
                  <a:lnTo>
                    <a:pt x="26" y="972"/>
                  </a:lnTo>
                  <a:lnTo>
                    <a:pt x="15" y="979"/>
                  </a:lnTo>
                  <a:lnTo>
                    <a:pt x="8" y="986"/>
                  </a:lnTo>
                  <a:lnTo>
                    <a:pt x="2" y="993"/>
                  </a:lnTo>
                  <a:lnTo>
                    <a:pt x="0" y="1000"/>
                  </a:lnTo>
                  <a:lnTo>
                    <a:pt x="3" y="1005"/>
                  </a:lnTo>
                  <a:lnTo>
                    <a:pt x="11" y="1009"/>
                  </a:lnTo>
                  <a:lnTo>
                    <a:pt x="22" y="1012"/>
                  </a:lnTo>
                  <a:lnTo>
                    <a:pt x="34" y="1013"/>
                  </a:lnTo>
                  <a:lnTo>
                    <a:pt x="47" y="1013"/>
                  </a:lnTo>
                  <a:lnTo>
                    <a:pt x="58" y="1012"/>
                  </a:lnTo>
                  <a:lnTo>
                    <a:pt x="67" y="1012"/>
                  </a:lnTo>
                  <a:lnTo>
                    <a:pt x="76" y="1012"/>
                  </a:lnTo>
                  <a:lnTo>
                    <a:pt x="87" y="1013"/>
                  </a:lnTo>
                  <a:lnTo>
                    <a:pt x="96" y="1014"/>
                  </a:lnTo>
                  <a:lnTo>
                    <a:pt x="106" y="1014"/>
                  </a:lnTo>
                  <a:lnTo>
                    <a:pt x="114" y="1012"/>
                  </a:lnTo>
                  <a:lnTo>
                    <a:pt x="118" y="1009"/>
                  </a:lnTo>
                  <a:lnTo>
                    <a:pt x="121" y="1008"/>
                  </a:lnTo>
                  <a:lnTo>
                    <a:pt x="123" y="1008"/>
                  </a:lnTo>
                  <a:lnTo>
                    <a:pt x="124" y="1007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05" y="1032"/>
                  </a:lnTo>
                  <a:lnTo>
                    <a:pt x="103" y="1031"/>
                  </a:lnTo>
                  <a:lnTo>
                    <a:pt x="96" y="1030"/>
                  </a:lnTo>
                  <a:lnTo>
                    <a:pt x="89" y="1030"/>
                  </a:lnTo>
                  <a:lnTo>
                    <a:pt x="80" y="1029"/>
                  </a:lnTo>
                  <a:lnTo>
                    <a:pt x="71" y="1030"/>
                  </a:lnTo>
                  <a:lnTo>
                    <a:pt x="66" y="1032"/>
                  </a:lnTo>
                  <a:lnTo>
                    <a:pt x="64" y="1036"/>
                  </a:lnTo>
                  <a:lnTo>
                    <a:pt x="66" y="1042"/>
                  </a:lnTo>
                  <a:lnTo>
                    <a:pt x="71" y="1050"/>
                  </a:lnTo>
                  <a:lnTo>
                    <a:pt x="79" y="1059"/>
                  </a:lnTo>
                  <a:lnTo>
                    <a:pt x="89" y="1067"/>
                  </a:lnTo>
                  <a:lnTo>
                    <a:pt x="99" y="1074"/>
                  </a:lnTo>
                  <a:lnTo>
                    <a:pt x="107" y="1080"/>
                  </a:lnTo>
                  <a:lnTo>
                    <a:pt x="119" y="1083"/>
                  </a:lnTo>
                  <a:lnTo>
                    <a:pt x="127" y="1084"/>
                  </a:lnTo>
                  <a:lnTo>
                    <a:pt x="133" y="1084"/>
                  </a:lnTo>
                  <a:lnTo>
                    <a:pt x="134" y="1083"/>
                  </a:lnTo>
                  <a:lnTo>
                    <a:pt x="134" y="1084"/>
                  </a:lnTo>
                  <a:lnTo>
                    <a:pt x="134" y="1087"/>
                  </a:lnTo>
                  <a:lnTo>
                    <a:pt x="135" y="1092"/>
                  </a:lnTo>
                  <a:lnTo>
                    <a:pt x="137" y="1095"/>
                  </a:lnTo>
                  <a:lnTo>
                    <a:pt x="142" y="1099"/>
                  </a:lnTo>
                  <a:lnTo>
                    <a:pt x="152" y="1100"/>
                  </a:lnTo>
                  <a:lnTo>
                    <a:pt x="167" y="1098"/>
                  </a:lnTo>
                  <a:lnTo>
                    <a:pt x="180" y="1090"/>
                  </a:lnTo>
                  <a:lnTo>
                    <a:pt x="193" y="1080"/>
                  </a:lnTo>
                  <a:lnTo>
                    <a:pt x="204" y="1066"/>
                  </a:lnTo>
                  <a:lnTo>
                    <a:pt x="214" y="1055"/>
                  </a:lnTo>
                  <a:lnTo>
                    <a:pt x="221" y="1047"/>
                  </a:lnTo>
                  <a:lnTo>
                    <a:pt x="230" y="1037"/>
                  </a:lnTo>
                  <a:lnTo>
                    <a:pt x="240" y="1027"/>
                  </a:lnTo>
                  <a:lnTo>
                    <a:pt x="251" y="1017"/>
                  </a:lnTo>
                  <a:lnTo>
                    <a:pt x="260" y="1008"/>
                  </a:lnTo>
                  <a:lnTo>
                    <a:pt x="268" y="1002"/>
                  </a:lnTo>
                  <a:lnTo>
                    <a:pt x="274" y="999"/>
                  </a:lnTo>
                  <a:lnTo>
                    <a:pt x="277" y="999"/>
                  </a:lnTo>
                  <a:lnTo>
                    <a:pt x="280" y="1000"/>
                  </a:lnTo>
                  <a:lnTo>
                    <a:pt x="283" y="1001"/>
                  </a:lnTo>
                  <a:lnTo>
                    <a:pt x="285" y="1003"/>
                  </a:lnTo>
                  <a:lnTo>
                    <a:pt x="287" y="1006"/>
                  </a:lnTo>
                  <a:lnTo>
                    <a:pt x="288" y="1008"/>
                  </a:lnTo>
                  <a:lnTo>
                    <a:pt x="289" y="1011"/>
                  </a:lnTo>
                  <a:lnTo>
                    <a:pt x="289" y="1012"/>
                  </a:lnTo>
                  <a:lnTo>
                    <a:pt x="290" y="1013"/>
                  </a:lnTo>
                  <a:lnTo>
                    <a:pt x="288" y="1014"/>
                  </a:lnTo>
                  <a:lnTo>
                    <a:pt x="283" y="1016"/>
                  </a:lnTo>
                  <a:lnTo>
                    <a:pt x="275" y="1019"/>
                  </a:lnTo>
                  <a:lnTo>
                    <a:pt x="267" y="1025"/>
                  </a:lnTo>
                  <a:lnTo>
                    <a:pt x="261" y="1031"/>
                  </a:lnTo>
                  <a:lnTo>
                    <a:pt x="255" y="1038"/>
                  </a:lnTo>
                  <a:lnTo>
                    <a:pt x="252" y="1044"/>
                  </a:lnTo>
                  <a:lnTo>
                    <a:pt x="246" y="1053"/>
                  </a:lnTo>
                  <a:lnTo>
                    <a:pt x="242" y="1062"/>
                  </a:lnTo>
                  <a:lnTo>
                    <a:pt x="238" y="1071"/>
                  </a:lnTo>
                  <a:lnTo>
                    <a:pt x="233" y="1080"/>
                  </a:lnTo>
                  <a:lnTo>
                    <a:pt x="232" y="1086"/>
                  </a:lnTo>
                  <a:lnTo>
                    <a:pt x="233" y="1089"/>
                  </a:lnTo>
                  <a:lnTo>
                    <a:pt x="233" y="1093"/>
                  </a:lnTo>
                  <a:lnTo>
                    <a:pt x="232" y="1098"/>
                  </a:lnTo>
                  <a:lnTo>
                    <a:pt x="229" y="1104"/>
                  </a:lnTo>
                  <a:lnTo>
                    <a:pt x="226" y="1109"/>
                  </a:lnTo>
                  <a:lnTo>
                    <a:pt x="223" y="1116"/>
                  </a:lnTo>
                  <a:lnTo>
                    <a:pt x="225" y="1120"/>
                  </a:lnTo>
                  <a:lnTo>
                    <a:pt x="229" y="1124"/>
                  </a:lnTo>
                  <a:lnTo>
                    <a:pt x="239" y="1127"/>
                  </a:lnTo>
                  <a:lnTo>
                    <a:pt x="251" y="1128"/>
                  </a:lnTo>
                  <a:lnTo>
                    <a:pt x="264" y="1128"/>
                  </a:lnTo>
                  <a:lnTo>
                    <a:pt x="276" y="1127"/>
                  </a:lnTo>
                  <a:lnTo>
                    <a:pt x="285" y="1127"/>
                  </a:lnTo>
                  <a:lnTo>
                    <a:pt x="288" y="1125"/>
                  </a:lnTo>
                  <a:lnTo>
                    <a:pt x="285" y="1125"/>
                  </a:lnTo>
                  <a:lnTo>
                    <a:pt x="276" y="1127"/>
                  </a:lnTo>
                  <a:lnTo>
                    <a:pt x="263" y="1129"/>
                  </a:lnTo>
                  <a:lnTo>
                    <a:pt x="250" y="1131"/>
                  </a:lnTo>
                  <a:lnTo>
                    <a:pt x="236" y="1134"/>
                  </a:lnTo>
                  <a:lnTo>
                    <a:pt x="223" y="1139"/>
                  </a:lnTo>
                  <a:lnTo>
                    <a:pt x="217" y="1144"/>
                  </a:lnTo>
                  <a:lnTo>
                    <a:pt x="210" y="1153"/>
                  </a:lnTo>
                  <a:lnTo>
                    <a:pt x="205" y="1161"/>
                  </a:lnTo>
                  <a:lnTo>
                    <a:pt x="200" y="1169"/>
                  </a:lnTo>
                  <a:lnTo>
                    <a:pt x="197" y="1177"/>
                  </a:lnTo>
                  <a:lnTo>
                    <a:pt x="196" y="1182"/>
                  </a:lnTo>
                  <a:lnTo>
                    <a:pt x="198" y="1186"/>
                  </a:lnTo>
                  <a:lnTo>
                    <a:pt x="198" y="1189"/>
                  </a:lnTo>
                  <a:lnTo>
                    <a:pt x="195" y="1194"/>
                  </a:lnTo>
                  <a:lnTo>
                    <a:pt x="190" y="1202"/>
                  </a:lnTo>
                  <a:lnTo>
                    <a:pt x="183" y="1210"/>
                  </a:lnTo>
                  <a:lnTo>
                    <a:pt x="177" y="1217"/>
                  </a:lnTo>
                  <a:lnTo>
                    <a:pt x="173" y="1225"/>
                  </a:lnTo>
                  <a:lnTo>
                    <a:pt x="172" y="1231"/>
                  </a:lnTo>
                  <a:lnTo>
                    <a:pt x="175" y="1235"/>
                  </a:lnTo>
                  <a:lnTo>
                    <a:pt x="181" y="1237"/>
                  </a:lnTo>
                  <a:lnTo>
                    <a:pt x="187" y="1238"/>
                  </a:lnTo>
                  <a:lnTo>
                    <a:pt x="194" y="1238"/>
                  </a:lnTo>
                  <a:lnTo>
                    <a:pt x="198" y="1238"/>
                  </a:lnTo>
                  <a:lnTo>
                    <a:pt x="200" y="1238"/>
                  </a:lnTo>
                  <a:lnTo>
                    <a:pt x="198" y="1239"/>
                  </a:lnTo>
                  <a:lnTo>
                    <a:pt x="194" y="1242"/>
                  </a:lnTo>
                  <a:lnTo>
                    <a:pt x="187" y="1246"/>
                  </a:lnTo>
                  <a:lnTo>
                    <a:pt x="180" y="1251"/>
                  </a:lnTo>
                  <a:lnTo>
                    <a:pt x="174" y="1257"/>
                  </a:lnTo>
                  <a:lnTo>
                    <a:pt x="172" y="1263"/>
                  </a:lnTo>
                  <a:lnTo>
                    <a:pt x="174" y="1270"/>
                  </a:lnTo>
                  <a:lnTo>
                    <a:pt x="179" y="1278"/>
                  </a:lnTo>
                  <a:lnTo>
                    <a:pt x="184" y="1287"/>
                  </a:lnTo>
                  <a:lnTo>
                    <a:pt x="190" y="1297"/>
                  </a:lnTo>
                  <a:lnTo>
                    <a:pt x="192" y="1306"/>
                  </a:lnTo>
                  <a:lnTo>
                    <a:pt x="193" y="1314"/>
                  </a:lnTo>
                  <a:lnTo>
                    <a:pt x="191" y="1318"/>
                  </a:lnTo>
                  <a:lnTo>
                    <a:pt x="185" y="1321"/>
                  </a:lnTo>
                  <a:lnTo>
                    <a:pt x="179" y="1328"/>
                  </a:lnTo>
                  <a:lnTo>
                    <a:pt x="169" y="1338"/>
                  </a:lnTo>
                  <a:lnTo>
                    <a:pt x="160" y="1348"/>
                  </a:lnTo>
                  <a:lnTo>
                    <a:pt x="151" y="1359"/>
                  </a:lnTo>
                  <a:lnTo>
                    <a:pt x="145" y="1370"/>
                  </a:lnTo>
                  <a:lnTo>
                    <a:pt x="140" y="1378"/>
                  </a:lnTo>
                  <a:lnTo>
                    <a:pt x="140" y="1386"/>
                  </a:lnTo>
                  <a:lnTo>
                    <a:pt x="144" y="1395"/>
                  </a:lnTo>
                  <a:lnTo>
                    <a:pt x="145" y="1401"/>
                  </a:lnTo>
                  <a:lnTo>
                    <a:pt x="145" y="1408"/>
                  </a:lnTo>
                  <a:lnTo>
                    <a:pt x="147" y="1411"/>
                  </a:lnTo>
                  <a:lnTo>
                    <a:pt x="150" y="1412"/>
                  </a:lnTo>
                  <a:lnTo>
                    <a:pt x="156" y="1411"/>
                  </a:lnTo>
                  <a:lnTo>
                    <a:pt x="162" y="1410"/>
                  </a:lnTo>
                  <a:lnTo>
                    <a:pt x="169" y="1408"/>
                  </a:lnTo>
                  <a:lnTo>
                    <a:pt x="174" y="1406"/>
                  </a:lnTo>
                  <a:lnTo>
                    <a:pt x="176" y="1405"/>
                  </a:lnTo>
                  <a:lnTo>
                    <a:pt x="174" y="1407"/>
                  </a:lnTo>
                  <a:lnTo>
                    <a:pt x="170" y="1413"/>
                  </a:lnTo>
                  <a:lnTo>
                    <a:pt x="164" y="1421"/>
                  </a:lnTo>
                  <a:lnTo>
                    <a:pt x="158" y="1431"/>
                  </a:lnTo>
                  <a:lnTo>
                    <a:pt x="152" y="1442"/>
                  </a:lnTo>
                  <a:lnTo>
                    <a:pt x="150" y="1452"/>
                  </a:lnTo>
                  <a:lnTo>
                    <a:pt x="151" y="1460"/>
                  </a:lnTo>
                  <a:lnTo>
                    <a:pt x="157" y="1467"/>
                  </a:lnTo>
                  <a:lnTo>
                    <a:pt x="164" y="1470"/>
                  </a:lnTo>
                  <a:lnTo>
                    <a:pt x="172" y="1472"/>
                  </a:lnTo>
                  <a:lnTo>
                    <a:pt x="179" y="1474"/>
                  </a:lnTo>
                  <a:lnTo>
                    <a:pt x="184" y="1474"/>
                  </a:lnTo>
                  <a:lnTo>
                    <a:pt x="186" y="1472"/>
                  </a:lnTo>
                  <a:lnTo>
                    <a:pt x="198" y="1463"/>
                  </a:lnTo>
                  <a:lnTo>
                    <a:pt x="197" y="1465"/>
                  </a:lnTo>
                  <a:lnTo>
                    <a:pt x="193" y="1470"/>
                  </a:lnTo>
                  <a:lnTo>
                    <a:pt x="186" y="1479"/>
                  </a:lnTo>
                  <a:lnTo>
                    <a:pt x="179" y="1489"/>
                  </a:lnTo>
                  <a:lnTo>
                    <a:pt x="171" y="1501"/>
                  </a:lnTo>
                  <a:lnTo>
                    <a:pt x="162" y="1512"/>
                  </a:lnTo>
                  <a:lnTo>
                    <a:pt x="156" y="1524"/>
                  </a:lnTo>
                  <a:lnTo>
                    <a:pt x="150" y="1534"/>
                  </a:lnTo>
                  <a:lnTo>
                    <a:pt x="148" y="1543"/>
                  </a:lnTo>
                  <a:lnTo>
                    <a:pt x="146" y="1555"/>
                  </a:lnTo>
                  <a:lnTo>
                    <a:pt x="145" y="1572"/>
                  </a:lnTo>
                  <a:lnTo>
                    <a:pt x="142" y="1592"/>
                  </a:lnTo>
                  <a:lnTo>
                    <a:pt x="140" y="1613"/>
                  </a:lnTo>
                  <a:lnTo>
                    <a:pt x="138" y="1631"/>
                  </a:lnTo>
                  <a:lnTo>
                    <a:pt x="136" y="1646"/>
                  </a:lnTo>
                  <a:lnTo>
                    <a:pt x="133" y="1655"/>
                  </a:lnTo>
                  <a:lnTo>
                    <a:pt x="129" y="1661"/>
                  </a:lnTo>
                  <a:lnTo>
                    <a:pt x="124" y="1669"/>
                  </a:lnTo>
                  <a:lnTo>
                    <a:pt x="118" y="1678"/>
                  </a:lnTo>
                  <a:lnTo>
                    <a:pt x="114" y="1689"/>
                  </a:lnTo>
                  <a:lnTo>
                    <a:pt x="111" y="1699"/>
                  </a:lnTo>
                  <a:lnTo>
                    <a:pt x="110" y="1708"/>
                  </a:lnTo>
                  <a:lnTo>
                    <a:pt x="112" y="1714"/>
                  </a:lnTo>
                  <a:lnTo>
                    <a:pt x="118" y="1719"/>
                  </a:lnTo>
                  <a:lnTo>
                    <a:pt x="128" y="1723"/>
                  </a:lnTo>
                  <a:lnTo>
                    <a:pt x="141" y="1725"/>
                  </a:lnTo>
                  <a:lnTo>
                    <a:pt x="154" y="1725"/>
                  </a:lnTo>
                  <a:lnTo>
                    <a:pt x="168" y="1724"/>
                  </a:lnTo>
                  <a:lnTo>
                    <a:pt x="177" y="1720"/>
                  </a:lnTo>
                  <a:lnTo>
                    <a:pt x="184" y="1714"/>
                  </a:lnTo>
                  <a:lnTo>
                    <a:pt x="187" y="1706"/>
                  </a:lnTo>
                  <a:lnTo>
                    <a:pt x="188" y="1695"/>
                  </a:lnTo>
                  <a:lnTo>
                    <a:pt x="187" y="1683"/>
                  </a:lnTo>
                  <a:lnTo>
                    <a:pt x="187" y="1672"/>
                  </a:lnTo>
                  <a:lnTo>
                    <a:pt x="185" y="1662"/>
                  </a:lnTo>
                  <a:lnTo>
                    <a:pt x="184" y="1655"/>
                  </a:lnTo>
                  <a:lnTo>
                    <a:pt x="184" y="1653"/>
                  </a:lnTo>
                  <a:lnTo>
                    <a:pt x="185" y="1650"/>
                  </a:lnTo>
                  <a:lnTo>
                    <a:pt x="188" y="1643"/>
                  </a:lnTo>
                  <a:lnTo>
                    <a:pt x="192" y="1632"/>
                  </a:lnTo>
                  <a:lnTo>
                    <a:pt x="197" y="1619"/>
                  </a:lnTo>
                  <a:lnTo>
                    <a:pt x="202" y="1606"/>
                  </a:lnTo>
                  <a:lnTo>
                    <a:pt x="205" y="1592"/>
                  </a:lnTo>
                  <a:lnTo>
                    <a:pt x="207" y="1580"/>
                  </a:lnTo>
                  <a:lnTo>
                    <a:pt x="209" y="1563"/>
                  </a:lnTo>
                  <a:lnTo>
                    <a:pt x="211" y="1546"/>
                  </a:lnTo>
                  <a:lnTo>
                    <a:pt x="214" y="1530"/>
                  </a:lnTo>
                  <a:lnTo>
                    <a:pt x="217" y="1516"/>
                  </a:lnTo>
                  <a:lnTo>
                    <a:pt x="221" y="1505"/>
                  </a:lnTo>
                  <a:lnTo>
                    <a:pt x="228" y="1498"/>
                  </a:lnTo>
                  <a:lnTo>
                    <a:pt x="237" y="1491"/>
                  </a:lnTo>
                  <a:lnTo>
                    <a:pt x="245" y="1484"/>
                  </a:lnTo>
                  <a:lnTo>
                    <a:pt x="252" y="1478"/>
                  </a:lnTo>
                  <a:lnTo>
                    <a:pt x="253" y="1470"/>
                  </a:lnTo>
                  <a:lnTo>
                    <a:pt x="250" y="1460"/>
                  </a:lnTo>
                  <a:lnTo>
                    <a:pt x="243" y="1448"/>
                  </a:lnTo>
                  <a:lnTo>
                    <a:pt x="236" y="1436"/>
                  </a:lnTo>
                  <a:lnTo>
                    <a:pt x="228" y="1422"/>
                  </a:lnTo>
                  <a:lnTo>
                    <a:pt x="223" y="1410"/>
                  </a:lnTo>
                  <a:lnTo>
                    <a:pt x="222" y="1396"/>
                  </a:lnTo>
                  <a:lnTo>
                    <a:pt x="222" y="1382"/>
                  </a:lnTo>
                  <a:lnTo>
                    <a:pt x="222" y="1368"/>
                  </a:lnTo>
                  <a:lnTo>
                    <a:pt x="222" y="1359"/>
                  </a:lnTo>
                  <a:lnTo>
                    <a:pt x="223" y="1355"/>
                  </a:lnTo>
                  <a:lnTo>
                    <a:pt x="226" y="1356"/>
                  </a:lnTo>
                  <a:lnTo>
                    <a:pt x="231" y="1359"/>
                  </a:lnTo>
                  <a:lnTo>
                    <a:pt x="238" y="1359"/>
                  </a:lnTo>
                  <a:lnTo>
                    <a:pt x="246" y="1354"/>
                  </a:lnTo>
                  <a:lnTo>
                    <a:pt x="252" y="1347"/>
                  </a:lnTo>
                  <a:lnTo>
                    <a:pt x="257" y="1336"/>
                  </a:lnTo>
                  <a:lnTo>
                    <a:pt x="263" y="1325"/>
                  </a:lnTo>
                  <a:lnTo>
                    <a:pt x="268" y="1315"/>
                  </a:lnTo>
                  <a:lnTo>
                    <a:pt x="274" y="1309"/>
                  </a:lnTo>
                  <a:lnTo>
                    <a:pt x="279" y="1306"/>
                  </a:lnTo>
                  <a:lnTo>
                    <a:pt x="287" y="1302"/>
                  </a:lnTo>
                  <a:lnTo>
                    <a:pt x="295" y="1296"/>
                  </a:lnTo>
                  <a:lnTo>
                    <a:pt x="302" y="1292"/>
                  </a:lnTo>
                  <a:lnTo>
                    <a:pt x="310" y="1287"/>
                  </a:lnTo>
                  <a:lnTo>
                    <a:pt x="314" y="1284"/>
                  </a:lnTo>
                  <a:lnTo>
                    <a:pt x="317" y="1283"/>
                  </a:lnTo>
                  <a:lnTo>
                    <a:pt x="315" y="1284"/>
                  </a:lnTo>
                  <a:lnTo>
                    <a:pt x="310" y="1291"/>
                  </a:lnTo>
                  <a:lnTo>
                    <a:pt x="303" y="1298"/>
                  </a:lnTo>
                  <a:lnTo>
                    <a:pt x="295" y="1309"/>
                  </a:lnTo>
                  <a:lnTo>
                    <a:pt x="285" y="1321"/>
                  </a:lnTo>
                  <a:lnTo>
                    <a:pt x="276" y="1332"/>
                  </a:lnTo>
                  <a:lnTo>
                    <a:pt x="267" y="1344"/>
                  </a:lnTo>
                  <a:lnTo>
                    <a:pt x="261" y="1354"/>
                  </a:lnTo>
                  <a:lnTo>
                    <a:pt x="255" y="1362"/>
                  </a:lnTo>
                  <a:lnTo>
                    <a:pt x="251" y="1373"/>
                  </a:lnTo>
                  <a:lnTo>
                    <a:pt x="248" y="1386"/>
                  </a:lnTo>
                  <a:lnTo>
                    <a:pt x="246" y="1400"/>
                  </a:lnTo>
                  <a:lnTo>
                    <a:pt x="248" y="1414"/>
                  </a:lnTo>
                  <a:lnTo>
                    <a:pt x="251" y="1426"/>
                  </a:lnTo>
                  <a:lnTo>
                    <a:pt x="256" y="1436"/>
                  </a:lnTo>
                  <a:lnTo>
                    <a:pt x="267" y="1446"/>
                  </a:lnTo>
                  <a:lnTo>
                    <a:pt x="276" y="1451"/>
                  </a:lnTo>
                  <a:lnTo>
                    <a:pt x="284" y="1452"/>
                  </a:lnTo>
                  <a:lnTo>
                    <a:pt x="286" y="1453"/>
                  </a:lnTo>
                  <a:lnTo>
                    <a:pt x="286" y="1451"/>
                  </a:lnTo>
                  <a:lnTo>
                    <a:pt x="285" y="1444"/>
                  </a:lnTo>
                  <a:lnTo>
                    <a:pt x="284" y="1435"/>
                  </a:lnTo>
                  <a:lnTo>
                    <a:pt x="284" y="1424"/>
                  </a:lnTo>
                  <a:lnTo>
                    <a:pt x="285" y="1414"/>
                  </a:lnTo>
                  <a:lnTo>
                    <a:pt x="288" y="1405"/>
                  </a:lnTo>
                  <a:lnTo>
                    <a:pt x="292" y="1397"/>
                  </a:lnTo>
                  <a:lnTo>
                    <a:pt x="298" y="1388"/>
                  </a:lnTo>
                  <a:lnTo>
                    <a:pt x="304" y="1381"/>
                  </a:lnTo>
                  <a:lnTo>
                    <a:pt x="310" y="1374"/>
                  </a:lnTo>
                  <a:lnTo>
                    <a:pt x="315" y="1372"/>
                  </a:lnTo>
                  <a:lnTo>
                    <a:pt x="320" y="1373"/>
                  </a:lnTo>
                  <a:lnTo>
                    <a:pt x="322" y="1377"/>
                  </a:lnTo>
                  <a:lnTo>
                    <a:pt x="323" y="1386"/>
                  </a:lnTo>
                  <a:lnTo>
                    <a:pt x="325" y="1396"/>
                  </a:lnTo>
                  <a:lnTo>
                    <a:pt x="327" y="1407"/>
                  </a:lnTo>
                  <a:lnTo>
                    <a:pt x="330" y="1417"/>
                  </a:lnTo>
                  <a:lnTo>
                    <a:pt x="333" y="1425"/>
                  </a:lnTo>
                  <a:lnTo>
                    <a:pt x="338" y="1429"/>
                  </a:lnTo>
                  <a:lnTo>
                    <a:pt x="345" y="1429"/>
                  </a:lnTo>
                  <a:lnTo>
                    <a:pt x="353" y="1422"/>
                  </a:lnTo>
                  <a:lnTo>
                    <a:pt x="357" y="1413"/>
                  </a:lnTo>
                  <a:lnTo>
                    <a:pt x="359" y="1404"/>
                  </a:lnTo>
                  <a:lnTo>
                    <a:pt x="361" y="1393"/>
                  </a:lnTo>
                  <a:lnTo>
                    <a:pt x="361" y="1383"/>
                  </a:lnTo>
                  <a:lnTo>
                    <a:pt x="364" y="1374"/>
                  </a:lnTo>
                  <a:lnTo>
                    <a:pt x="367" y="1363"/>
                  </a:lnTo>
                  <a:lnTo>
                    <a:pt x="371" y="1351"/>
                  </a:lnTo>
                  <a:lnTo>
                    <a:pt x="376" y="1338"/>
                  </a:lnTo>
                  <a:lnTo>
                    <a:pt x="380" y="1325"/>
                  </a:lnTo>
                  <a:lnTo>
                    <a:pt x="381" y="1314"/>
                  </a:lnTo>
                  <a:lnTo>
                    <a:pt x="382" y="1305"/>
                  </a:lnTo>
                  <a:lnTo>
                    <a:pt x="385" y="1296"/>
                  </a:lnTo>
                  <a:lnTo>
                    <a:pt x="390" y="1290"/>
                  </a:lnTo>
                  <a:lnTo>
                    <a:pt x="394" y="1286"/>
                  </a:lnTo>
                  <a:lnTo>
                    <a:pt x="395" y="1284"/>
                  </a:lnTo>
                  <a:lnTo>
                    <a:pt x="395" y="1287"/>
                  </a:lnTo>
                  <a:lnTo>
                    <a:pt x="394" y="1297"/>
                  </a:lnTo>
                  <a:lnTo>
                    <a:pt x="394" y="1309"/>
                  </a:lnTo>
                  <a:lnTo>
                    <a:pt x="394" y="1324"/>
                  </a:lnTo>
                  <a:lnTo>
                    <a:pt x="395" y="1337"/>
                  </a:lnTo>
                  <a:lnTo>
                    <a:pt x="400" y="1347"/>
                  </a:lnTo>
                  <a:lnTo>
                    <a:pt x="407" y="1356"/>
                  </a:lnTo>
                  <a:lnTo>
                    <a:pt x="421" y="1366"/>
                  </a:lnTo>
                  <a:lnTo>
                    <a:pt x="435" y="1375"/>
                  </a:lnTo>
                  <a:lnTo>
                    <a:pt x="448" y="1384"/>
                  </a:lnTo>
                  <a:lnTo>
                    <a:pt x="457" y="1391"/>
                  </a:lnTo>
                  <a:lnTo>
                    <a:pt x="465" y="1399"/>
                  </a:lnTo>
                  <a:lnTo>
                    <a:pt x="474" y="1406"/>
                  </a:lnTo>
                  <a:lnTo>
                    <a:pt x="481" y="1409"/>
                  </a:lnTo>
                  <a:lnTo>
                    <a:pt x="484" y="1411"/>
                  </a:lnTo>
                  <a:lnTo>
                    <a:pt x="481" y="1410"/>
                  </a:lnTo>
                  <a:lnTo>
                    <a:pt x="474" y="1407"/>
                  </a:lnTo>
                  <a:lnTo>
                    <a:pt x="463" y="1404"/>
                  </a:lnTo>
                  <a:lnTo>
                    <a:pt x="450" y="1399"/>
                  </a:lnTo>
                  <a:lnTo>
                    <a:pt x="436" y="1396"/>
                  </a:lnTo>
                  <a:lnTo>
                    <a:pt x="422" y="1394"/>
                  </a:lnTo>
                  <a:lnTo>
                    <a:pt x="408" y="1393"/>
                  </a:lnTo>
                  <a:lnTo>
                    <a:pt x="398" y="1394"/>
                  </a:lnTo>
                  <a:lnTo>
                    <a:pt x="391" y="1398"/>
                  </a:lnTo>
                  <a:lnTo>
                    <a:pt x="385" y="1408"/>
                  </a:lnTo>
                  <a:lnTo>
                    <a:pt x="383" y="1420"/>
                  </a:lnTo>
                  <a:lnTo>
                    <a:pt x="382" y="1433"/>
                  </a:lnTo>
                  <a:lnTo>
                    <a:pt x="383" y="1447"/>
                  </a:lnTo>
                  <a:lnTo>
                    <a:pt x="383" y="1462"/>
                  </a:lnTo>
                  <a:lnTo>
                    <a:pt x="382" y="1474"/>
                  </a:lnTo>
                  <a:lnTo>
                    <a:pt x="380" y="1484"/>
                  </a:lnTo>
                  <a:lnTo>
                    <a:pt x="378" y="1494"/>
                  </a:lnTo>
                  <a:lnTo>
                    <a:pt x="375" y="1502"/>
                  </a:lnTo>
                  <a:lnTo>
                    <a:pt x="375" y="1511"/>
                  </a:lnTo>
                  <a:lnTo>
                    <a:pt x="376" y="1520"/>
                  </a:lnTo>
                  <a:lnTo>
                    <a:pt x="381" y="1532"/>
                  </a:lnTo>
                  <a:lnTo>
                    <a:pt x="389" y="1541"/>
                  </a:lnTo>
                  <a:lnTo>
                    <a:pt x="398" y="1548"/>
                  </a:lnTo>
                  <a:lnTo>
                    <a:pt x="406" y="1552"/>
                  </a:lnTo>
                  <a:lnTo>
                    <a:pt x="414" y="1558"/>
                  </a:lnTo>
                  <a:lnTo>
                    <a:pt x="423" y="1564"/>
                  </a:lnTo>
                  <a:lnTo>
                    <a:pt x="429" y="1574"/>
                  </a:lnTo>
                  <a:lnTo>
                    <a:pt x="435" y="1584"/>
                  </a:lnTo>
                  <a:lnTo>
                    <a:pt x="440" y="1591"/>
                  </a:lnTo>
                  <a:lnTo>
                    <a:pt x="446" y="1596"/>
                  </a:lnTo>
                  <a:lnTo>
                    <a:pt x="449" y="1601"/>
                  </a:lnTo>
                  <a:lnTo>
                    <a:pt x="450" y="1606"/>
                  </a:lnTo>
                  <a:lnTo>
                    <a:pt x="450" y="1616"/>
                  </a:lnTo>
                  <a:lnTo>
                    <a:pt x="446" y="1629"/>
                  </a:lnTo>
                  <a:lnTo>
                    <a:pt x="437" y="1640"/>
                  </a:lnTo>
                  <a:lnTo>
                    <a:pt x="426" y="1651"/>
                  </a:lnTo>
                  <a:lnTo>
                    <a:pt x="416" y="1662"/>
                  </a:lnTo>
                  <a:lnTo>
                    <a:pt x="408" y="1674"/>
                  </a:lnTo>
                  <a:lnTo>
                    <a:pt x="404" y="1689"/>
                  </a:lnTo>
                  <a:lnTo>
                    <a:pt x="401" y="1707"/>
                  </a:lnTo>
                  <a:lnTo>
                    <a:pt x="398" y="1724"/>
                  </a:lnTo>
                  <a:lnTo>
                    <a:pt x="392" y="1743"/>
                  </a:lnTo>
                  <a:lnTo>
                    <a:pt x="382" y="1759"/>
                  </a:lnTo>
                  <a:lnTo>
                    <a:pt x="373" y="1770"/>
                  </a:lnTo>
                  <a:lnTo>
                    <a:pt x="364" y="1783"/>
                  </a:lnTo>
                  <a:lnTo>
                    <a:pt x="353" y="1798"/>
                  </a:lnTo>
                  <a:lnTo>
                    <a:pt x="343" y="1812"/>
                  </a:lnTo>
                  <a:lnTo>
                    <a:pt x="334" y="1826"/>
                  </a:lnTo>
                  <a:lnTo>
                    <a:pt x="329" y="1839"/>
                  </a:lnTo>
                  <a:lnTo>
                    <a:pt x="327" y="1850"/>
                  </a:lnTo>
                  <a:lnTo>
                    <a:pt x="330" y="1865"/>
                  </a:lnTo>
                  <a:lnTo>
                    <a:pt x="330" y="1880"/>
                  </a:lnTo>
                  <a:lnTo>
                    <a:pt x="331" y="1892"/>
                  </a:lnTo>
                  <a:lnTo>
                    <a:pt x="331" y="1900"/>
                  </a:lnTo>
                  <a:lnTo>
                    <a:pt x="331" y="1904"/>
                  </a:lnTo>
                  <a:lnTo>
                    <a:pt x="330" y="1902"/>
                  </a:lnTo>
                  <a:lnTo>
                    <a:pt x="327" y="1896"/>
                  </a:lnTo>
                  <a:lnTo>
                    <a:pt x="324" y="1888"/>
                  </a:lnTo>
                  <a:lnTo>
                    <a:pt x="321" y="1881"/>
                  </a:lnTo>
                  <a:lnTo>
                    <a:pt x="315" y="1873"/>
                  </a:lnTo>
                  <a:lnTo>
                    <a:pt x="311" y="1869"/>
                  </a:lnTo>
                  <a:lnTo>
                    <a:pt x="306" y="1868"/>
                  </a:lnTo>
                  <a:lnTo>
                    <a:pt x="300" y="1872"/>
                  </a:lnTo>
                  <a:lnTo>
                    <a:pt x="294" y="1885"/>
                  </a:lnTo>
                  <a:lnTo>
                    <a:pt x="289" y="1902"/>
                  </a:lnTo>
                  <a:lnTo>
                    <a:pt x="289" y="1920"/>
                  </a:lnTo>
                  <a:lnTo>
                    <a:pt x="292" y="1937"/>
                  </a:lnTo>
                  <a:lnTo>
                    <a:pt x="298" y="1952"/>
                  </a:lnTo>
                  <a:lnTo>
                    <a:pt x="307" y="1963"/>
                  </a:lnTo>
                  <a:lnTo>
                    <a:pt x="318" y="1973"/>
                  </a:lnTo>
                  <a:lnTo>
                    <a:pt x="329" y="1984"/>
                  </a:lnTo>
                  <a:lnTo>
                    <a:pt x="340" y="1995"/>
                  </a:lnTo>
                  <a:lnTo>
                    <a:pt x="348" y="2005"/>
                  </a:lnTo>
                  <a:lnTo>
                    <a:pt x="352" y="2018"/>
                  </a:lnTo>
                  <a:lnTo>
                    <a:pt x="354" y="2031"/>
                  </a:lnTo>
                  <a:lnTo>
                    <a:pt x="357" y="2043"/>
                  </a:lnTo>
                  <a:lnTo>
                    <a:pt x="360" y="2054"/>
                  </a:lnTo>
                  <a:lnTo>
                    <a:pt x="365" y="2061"/>
                  </a:lnTo>
                  <a:lnTo>
                    <a:pt x="369" y="2066"/>
                  </a:lnTo>
                  <a:lnTo>
                    <a:pt x="376" y="2065"/>
                  </a:lnTo>
                  <a:lnTo>
                    <a:pt x="378" y="2061"/>
                  </a:lnTo>
                  <a:lnTo>
                    <a:pt x="377" y="2054"/>
                  </a:lnTo>
                  <a:lnTo>
                    <a:pt x="375" y="2043"/>
                  </a:lnTo>
                  <a:lnTo>
                    <a:pt x="371" y="2031"/>
                  </a:lnTo>
                  <a:lnTo>
                    <a:pt x="367" y="2019"/>
                  </a:lnTo>
                  <a:lnTo>
                    <a:pt x="364" y="2005"/>
                  </a:lnTo>
                  <a:lnTo>
                    <a:pt x="361" y="1993"/>
                  </a:lnTo>
                  <a:lnTo>
                    <a:pt x="360" y="1983"/>
                  </a:lnTo>
                  <a:lnTo>
                    <a:pt x="364" y="1974"/>
                  </a:lnTo>
                  <a:lnTo>
                    <a:pt x="371" y="1963"/>
                  </a:lnTo>
                  <a:lnTo>
                    <a:pt x="382" y="1955"/>
                  </a:lnTo>
                  <a:lnTo>
                    <a:pt x="395" y="1952"/>
                  </a:lnTo>
                  <a:lnTo>
                    <a:pt x="408" y="1954"/>
                  </a:lnTo>
                  <a:lnTo>
                    <a:pt x="422" y="1963"/>
                  </a:lnTo>
                  <a:lnTo>
                    <a:pt x="438" y="1977"/>
                  </a:lnTo>
                  <a:lnTo>
                    <a:pt x="452" y="1988"/>
                  </a:lnTo>
                  <a:lnTo>
                    <a:pt x="468" y="2000"/>
                  </a:lnTo>
                  <a:lnTo>
                    <a:pt x="482" y="2014"/>
                  </a:lnTo>
                  <a:lnTo>
                    <a:pt x="492" y="2024"/>
                  </a:lnTo>
                  <a:lnTo>
                    <a:pt x="500" y="2033"/>
                  </a:lnTo>
                  <a:lnTo>
                    <a:pt x="508" y="2041"/>
                  </a:lnTo>
                  <a:lnTo>
                    <a:pt x="516" y="2045"/>
                  </a:lnTo>
                  <a:lnTo>
                    <a:pt x="522" y="2045"/>
                  </a:lnTo>
                  <a:lnTo>
                    <a:pt x="528" y="2041"/>
                  </a:lnTo>
                  <a:lnTo>
                    <a:pt x="532" y="2030"/>
                  </a:lnTo>
                  <a:lnTo>
                    <a:pt x="533" y="2016"/>
                  </a:lnTo>
                  <a:lnTo>
                    <a:pt x="534" y="2001"/>
                  </a:lnTo>
                  <a:lnTo>
                    <a:pt x="533" y="1988"/>
                  </a:lnTo>
                  <a:lnTo>
                    <a:pt x="531" y="1979"/>
                  </a:lnTo>
                  <a:lnTo>
                    <a:pt x="529" y="1972"/>
                  </a:lnTo>
                  <a:lnTo>
                    <a:pt x="525" y="1963"/>
                  </a:lnTo>
                  <a:lnTo>
                    <a:pt x="520" y="1953"/>
                  </a:lnTo>
                  <a:lnTo>
                    <a:pt x="518" y="1944"/>
                  </a:lnTo>
                  <a:lnTo>
                    <a:pt x="517" y="1937"/>
                  </a:lnTo>
                  <a:lnTo>
                    <a:pt x="520" y="1931"/>
                  </a:lnTo>
                  <a:lnTo>
                    <a:pt x="526" y="1931"/>
                  </a:lnTo>
                  <a:lnTo>
                    <a:pt x="534" y="1934"/>
                  </a:lnTo>
                  <a:lnTo>
                    <a:pt x="544" y="1941"/>
                  </a:lnTo>
                  <a:lnTo>
                    <a:pt x="554" y="1949"/>
                  </a:lnTo>
                  <a:lnTo>
                    <a:pt x="563" y="1958"/>
                  </a:lnTo>
                  <a:lnTo>
                    <a:pt x="570" y="1968"/>
                  </a:lnTo>
                  <a:lnTo>
                    <a:pt x="579" y="1979"/>
                  </a:lnTo>
                  <a:lnTo>
                    <a:pt x="588" y="1989"/>
                  </a:lnTo>
                  <a:lnTo>
                    <a:pt x="596" y="1997"/>
                  </a:lnTo>
                  <a:lnTo>
                    <a:pt x="603" y="1999"/>
                  </a:lnTo>
                  <a:lnTo>
                    <a:pt x="610" y="1997"/>
                  </a:lnTo>
                  <a:lnTo>
                    <a:pt x="615" y="1991"/>
                  </a:lnTo>
                  <a:lnTo>
                    <a:pt x="618" y="1983"/>
                  </a:lnTo>
                  <a:lnTo>
                    <a:pt x="619" y="1975"/>
                  </a:lnTo>
                  <a:lnTo>
                    <a:pt x="620" y="1969"/>
                  </a:lnTo>
                  <a:lnTo>
                    <a:pt x="620" y="1966"/>
                  </a:lnTo>
                  <a:lnTo>
                    <a:pt x="620" y="1968"/>
                  </a:lnTo>
                  <a:lnTo>
                    <a:pt x="620" y="1973"/>
                  </a:lnTo>
                  <a:lnTo>
                    <a:pt x="620" y="1978"/>
                  </a:lnTo>
                  <a:lnTo>
                    <a:pt x="621" y="1985"/>
                  </a:lnTo>
                  <a:lnTo>
                    <a:pt x="624" y="1990"/>
                  </a:lnTo>
                  <a:lnTo>
                    <a:pt x="628" y="1995"/>
                  </a:lnTo>
                  <a:lnTo>
                    <a:pt x="635" y="1997"/>
                  </a:lnTo>
                  <a:lnTo>
                    <a:pt x="644" y="1995"/>
                  </a:lnTo>
                  <a:lnTo>
                    <a:pt x="658" y="1988"/>
                  </a:lnTo>
                  <a:lnTo>
                    <a:pt x="670" y="1981"/>
                  </a:lnTo>
                  <a:lnTo>
                    <a:pt x="678" y="1976"/>
                  </a:lnTo>
                  <a:lnTo>
                    <a:pt x="683" y="1972"/>
                  </a:lnTo>
                  <a:lnTo>
                    <a:pt x="685" y="1970"/>
                  </a:lnTo>
                  <a:lnTo>
                    <a:pt x="683" y="1944"/>
                  </a:lnTo>
                  <a:lnTo>
                    <a:pt x="685" y="1945"/>
                  </a:lnTo>
                  <a:lnTo>
                    <a:pt x="690" y="1949"/>
                  </a:lnTo>
                  <a:lnTo>
                    <a:pt x="697" y="1952"/>
                  </a:lnTo>
                  <a:lnTo>
                    <a:pt x="706" y="1953"/>
                  </a:lnTo>
                  <a:lnTo>
                    <a:pt x="717" y="1951"/>
                  </a:lnTo>
                  <a:lnTo>
                    <a:pt x="727" y="1947"/>
                  </a:lnTo>
                  <a:lnTo>
                    <a:pt x="737" y="1946"/>
                  </a:lnTo>
                  <a:lnTo>
                    <a:pt x="747" y="1946"/>
                  </a:lnTo>
                  <a:lnTo>
                    <a:pt x="754" y="1946"/>
                  </a:lnTo>
                  <a:lnTo>
                    <a:pt x="761" y="1946"/>
                  </a:lnTo>
                  <a:lnTo>
                    <a:pt x="763" y="1943"/>
                  </a:lnTo>
                  <a:lnTo>
                    <a:pt x="763" y="1938"/>
                  </a:lnTo>
                  <a:lnTo>
                    <a:pt x="763" y="1929"/>
                  </a:lnTo>
                  <a:lnTo>
                    <a:pt x="763" y="1917"/>
                  </a:lnTo>
                  <a:lnTo>
                    <a:pt x="763" y="1906"/>
                  </a:lnTo>
                  <a:lnTo>
                    <a:pt x="762" y="1895"/>
                  </a:lnTo>
                  <a:lnTo>
                    <a:pt x="762" y="1887"/>
                  </a:lnTo>
                  <a:lnTo>
                    <a:pt x="762" y="1885"/>
                  </a:lnTo>
                  <a:lnTo>
                    <a:pt x="766" y="1885"/>
                  </a:lnTo>
                  <a:lnTo>
                    <a:pt x="776" y="1885"/>
                  </a:lnTo>
                  <a:lnTo>
                    <a:pt x="791" y="1885"/>
                  </a:lnTo>
                  <a:lnTo>
                    <a:pt x="807" y="1886"/>
                  </a:lnTo>
                  <a:lnTo>
                    <a:pt x="824" y="1887"/>
                  </a:lnTo>
                  <a:lnTo>
                    <a:pt x="838" y="1888"/>
                  </a:lnTo>
                  <a:lnTo>
                    <a:pt x="853" y="1889"/>
                  </a:lnTo>
                  <a:lnTo>
                    <a:pt x="869" y="1891"/>
                  </a:lnTo>
                  <a:lnTo>
                    <a:pt x="884" y="1891"/>
                  </a:lnTo>
                  <a:lnTo>
                    <a:pt x="896" y="1892"/>
                  </a:lnTo>
                  <a:lnTo>
                    <a:pt x="904" y="1892"/>
                  </a:lnTo>
                  <a:lnTo>
                    <a:pt x="907" y="1892"/>
                  </a:lnTo>
                  <a:lnTo>
                    <a:pt x="907" y="1892"/>
                  </a:lnTo>
                  <a:lnTo>
                    <a:pt x="908" y="1893"/>
                  </a:lnTo>
                  <a:lnTo>
                    <a:pt x="907" y="1895"/>
                  </a:lnTo>
                  <a:lnTo>
                    <a:pt x="907" y="1897"/>
                  </a:lnTo>
                  <a:lnTo>
                    <a:pt x="907" y="1899"/>
                  </a:lnTo>
                  <a:lnTo>
                    <a:pt x="905" y="1902"/>
                  </a:lnTo>
                  <a:lnTo>
                    <a:pt x="903" y="1904"/>
                  </a:lnTo>
                  <a:lnTo>
                    <a:pt x="901" y="1906"/>
                  </a:lnTo>
                  <a:lnTo>
                    <a:pt x="899" y="1907"/>
                  </a:lnTo>
                  <a:lnTo>
                    <a:pt x="895" y="1908"/>
                  </a:lnTo>
                  <a:lnTo>
                    <a:pt x="887" y="1909"/>
                  </a:lnTo>
                  <a:lnTo>
                    <a:pt x="876" y="1909"/>
                  </a:lnTo>
                  <a:lnTo>
                    <a:pt x="864" y="1911"/>
                  </a:lnTo>
                  <a:lnTo>
                    <a:pt x="854" y="1914"/>
                  </a:lnTo>
                  <a:lnTo>
                    <a:pt x="846" y="1917"/>
                  </a:lnTo>
                  <a:lnTo>
                    <a:pt x="844" y="1921"/>
                  </a:lnTo>
                  <a:lnTo>
                    <a:pt x="844" y="1926"/>
                  </a:lnTo>
                  <a:lnTo>
                    <a:pt x="844" y="1928"/>
                  </a:lnTo>
                  <a:lnTo>
                    <a:pt x="844" y="1930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3" y="1930"/>
                  </a:lnTo>
                  <a:lnTo>
                    <a:pt x="840" y="1928"/>
                  </a:lnTo>
                  <a:lnTo>
                    <a:pt x="835" y="1924"/>
                  </a:lnTo>
                  <a:lnTo>
                    <a:pt x="830" y="1923"/>
                  </a:lnTo>
                  <a:lnTo>
                    <a:pt x="824" y="1926"/>
                  </a:lnTo>
                  <a:lnTo>
                    <a:pt x="819" y="1931"/>
                  </a:lnTo>
                  <a:lnTo>
                    <a:pt x="815" y="1942"/>
                  </a:lnTo>
                  <a:lnTo>
                    <a:pt x="814" y="1955"/>
                  </a:lnTo>
                  <a:lnTo>
                    <a:pt x="812" y="1969"/>
                  </a:lnTo>
                  <a:lnTo>
                    <a:pt x="811" y="1984"/>
                  </a:lnTo>
                  <a:lnTo>
                    <a:pt x="809" y="1996"/>
                  </a:lnTo>
                  <a:lnTo>
                    <a:pt x="803" y="2007"/>
                  </a:lnTo>
                  <a:lnTo>
                    <a:pt x="796" y="2013"/>
                  </a:lnTo>
                  <a:lnTo>
                    <a:pt x="787" y="2019"/>
                  </a:lnTo>
                  <a:lnTo>
                    <a:pt x="777" y="2024"/>
                  </a:lnTo>
                  <a:lnTo>
                    <a:pt x="770" y="2030"/>
                  </a:lnTo>
                  <a:lnTo>
                    <a:pt x="763" y="2035"/>
                  </a:lnTo>
                  <a:lnTo>
                    <a:pt x="759" y="2042"/>
                  </a:lnTo>
                  <a:lnTo>
                    <a:pt x="759" y="2049"/>
                  </a:lnTo>
                  <a:lnTo>
                    <a:pt x="759" y="2062"/>
                  </a:lnTo>
                  <a:lnTo>
                    <a:pt x="755" y="2077"/>
                  </a:lnTo>
                  <a:lnTo>
                    <a:pt x="751" y="2091"/>
                  </a:lnTo>
                  <a:lnTo>
                    <a:pt x="748" y="2106"/>
                  </a:lnTo>
                  <a:lnTo>
                    <a:pt x="750" y="2120"/>
                  </a:lnTo>
                  <a:lnTo>
                    <a:pt x="754" y="2130"/>
                  </a:lnTo>
                  <a:lnTo>
                    <a:pt x="762" y="2142"/>
                  </a:lnTo>
                  <a:lnTo>
                    <a:pt x="771" y="2155"/>
                  </a:lnTo>
                  <a:lnTo>
                    <a:pt x="781" y="2167"/>
                  </a:lnTo>
                  <a:lnTo>
                    <a:pt x="789" y="2181"/>
                  </a:lnTo>
                  <a:lnTo>
                    <a:pt x="798" y="2192"/>
                  </a:lnTo>
                  <a:lnTo>
                    <a:pt x="805" y="2201"/>
                  </a:lnTo>
                  <a:lnTo>
                    <a:pt x="809" y="2208"/>
                  </a:lnTo>
                  <a:lnTo>
                    <a:pt x="814" y="2221"/>
                  </a:lnTo>
                  <a:lnTo>
                    <a:pt x="820" y="2238"/>
                  </a:lnTo>
                  <a:lnTo>
                    <a:pt x="828" y="2255"/>
                  </a:lnTo>
                  <a:lnTo>
                    <a:pt x="840" y="2271"/>
                  </a:lnTo>
                  <a:lnTo>
                    <a:pt x="846" y="2278"/>
                  </a:lnTo>
                  <a:lnTo>
                    <a:pt x="853" y="2279"/>
                  </a:lnTo>
                  <a:lnTo>
                    <a:pt x="859" y="2276"/>
                  </a:lnTo>
                  <a:lnTo>
                    <a:pt x="865" y="2271"/>
                  </a:lnTo>
                  <a:lnTo>
                    <a:pt x="869" y="2266"/>
                  </a:lnTo>
                  <a:lnTo>
                    <a:pt x="873" y="2262"/>
                  </a:lnTo>
                  <a:lnTo>
                    <a:pt x="874" y="2259"/>
                  </a:lnTo>
                  <a:lnTo>
                    <a:pt x="873" y="2263"/>
                  </a:lnTo>
                  <a:lnTo>
                    <a:pt x="870" y="2269"/>
                  </a:lnTo>
                  <a:lnTo>
                    <a:pt x="868" y="2279"/>
                  </a:lnTo>
                  <a:lnTo>
                    <a:pt x="866" y="2291"/>
                  </a:lnTo>
                  <a:lnTo>
                    <a:pt x="864" y="2303"/>
                  </a:lnTo>
                  <a:lnTo>
                    <a:pt x="864" y="2314"/>
                  </a:lnTo>
                  <a:lnTo>
                    <a:pt x="865" y="2325"/>
                  </a:lnTo>
                  <a:lnTo>
                    <a:pt x="867" y="2335"/>
                  </a:lnTo>
                  <a:lnTo>
                    <a:pt x="869" y="2344"/>
                  </a:lnTo>
                  <a:lnTo>
                    <a:pt x="873" y="2350"/>
                  </a:lnTo>
                  <a:lnTo>
                    <a:pt x="877" y="2354"/>
                  </a:lnTo>
                  <a:lnTo>
                    <a:pt x="884" y="2351"/>
                  </a:lnTo>
                  <a:lnTo>
                    <a:pt x="892" y="2344"/>
                  </a:lnTo>
                  <a:lnTo>
                    <a:pt x="900" y="2335"/>
                  </a:lnTo>
                  <a:lnTo>
                    <a:pt x="909" y="2324"/>
                  </a:lnTo>
                  <a:lnTo>
                    <a:pt x="917" y="2314"/>
                  </a:lnTo>
                  <a:lnTo>
                    <a:pt x="923" y="2304"/>
                  </a:lnTo>
                  <a:lnTo>
                    <a:pt x="927" y="2297"/>
                  </a:lnTo>
                  <a:lnTo>
                    <a:pt x="932" y="2293"/>
                  </a:lnTo>
                  <a:lnTo>
                    <a:pt x="936" y="2294"/>
                  </a:lnTo>
                  <a:lnTo>
                    <a:pt x="942" y="2297"/>
                  </a:lnTo>
                  <a:lnTo>
                    <a:pt x="949" y="2299"/>
                  </a:lnTo>
                  <a:lnTo>
                    <a:pt x="959" y="2299"/>
                  </a:lnTo>
                  <a:lnTo>
                    <a:pt x="971" y="2294"/>
                  </a:lnTo>
                  <a:lnTo>
                    <a:pt x="980" y="2290"/>
                  </a:lnTo>
                  <a:lnTo>
                    <a:pt x="985" y="2285"/>
                  </a:lnTo>
                  <a:lnTo>
                    <a:pt x="988" y="2284"/>
                  </a:lnTo>
                  <a:lnTo>
                    <a:pt x="988" y="2285"/>
                  </a:lnTo>
                  <a:lnTo>
                    <a:pt x="988" y="2290"/>
                  </a:lnTo>
                  <a:lnTo>
                    <a:pt x="990" y="2299"/>
                  </a:lnTo>
                  <a:lnTo>
                    <a:pt x="993" y="2312"/>
                  </a:lnTo>
                  <a:lnTo>
                    <a:pt x="993" y="2322"/>
                  </a:lnTo>
                  <a:lnTo>
                    <a:pt x="988" y="2332"/>
                  </a:lnTo>
                  <a:lnTo>
                    <a:pt x="980" y="2342"/>
                  </a:lnTo>
                  <a:lnTo>
                    <a:pt x="971" y="2350"/>
                  </a:lnTo>
                  <a:lnTo>
                    <a:pt x="965" y="2358"/>
                  </a:lnTo>
                  <a:lnTo>
                    <a:pt x="962" y="2364"/>
                  </a:lnTo>
                  <a:lnTo>
                    <a:pt x="967" y="2371"/>
                  </a:lnTo>
                  <a:lnTo>
                    <a:pt x="973" y="2377"/>
                  </a:lnTo>
                  <a:lnTo>
                    <a:pt x="981" y="2381"/>
                  </a:lnTo>
                  <a:lnTo>
                    <a:pt x="989" y="2384"/>
                  </a:lnTo>
                  <a:lnTo>
                    <a:pt x="995" y="2386"/>
                  </a:lnTo>
                  <a:lnTo>
                    <a:pt x="997" y="2387"/>
                  </a:lnTo>
                  <a:lnTo>
                    <a:pt x="995" y="2389"/>
                  </a:lnTo>
                  <a:lnTo>
                    <a:pt x="991" y="2393"/>
                  </a:lnTo>
                  <a:lnTo>
                    <a:pt x="984" y="2398"/>
                  </a:lnTo>
                  <a:lnTo>
                    <a:pt x="977" y="2405"/>
                  </a:lnTo>
                  <a:lnTo>
                    <a:pt x="967" y="2412"/>
                  </a:lnTo>
                  <a:lnTo>
                    <a:pt x="958" y="2418"/>
                  </a:lnTo>
                  <a:lnTo>
                    <a:pt x="948" y="2423"/>
                  </a:lnTo>
                  <a:lnTo>
                    <a:pt x="940" y="2425"/>
                  </a:lnTo>
                  <a:lnTo>
                    <a:pt x="933" y="2427"/>
                  </a:lnTo>
                  <a:lnTo>
                    <a:pt x="927" y="2431"/>
                  </a:lnTo>
                  <a:lnTo>
                    <a:pt x="924" y="2439"/>
                  </a:lnTo>
                  <a:lnTo>
                    <a:pt x="923" y="2445"/>
                  </a:lnTo>
                  <a:lnTo>
                    <a:pt x="923" y="2450"/>
                  </a:lnTo>
                  <a:lnTo>
                    <a:pt x="923" y="2452"/>
                  </a:lnTo>
                  <a:lnTo>
                    <a:pt x="923" y="2455"/>
                  </a:lnTo>
                  <a:lnTo>
                    <a:pt x="924" y="2465"/>
                  </a:lnTo>
                  <a:lnTo>
                    <a:pt x="925" y="2478"/>
                  </a:lnTo>
                  <a:lnTo>
                    <a:pt x="927" y="2493"/>
                  </a:lnTo>
                  <a:lnTo>
                    <a:pt x="930" y="2505"/>
                  </a:lnTo>
                  <a:lnTo>
                    <a:pt x="934" y="2513"/>
                  </a:lnTo>
                  <a:lnTo>
                    <a:pt x="940" y="2520"/>
                  </a:lnTo>
                  <a:lnTo>
                    <a:pt x="946" y="2526"/>
                  </a:lnTo>
                  <a:lnTo>
                    <a:pt x="951" y="2533"/>
                  </a:lnTo>
                  <a:lnTo>
                    <a:pt x="953" y="2541"/>
                  </a:lnTo>
                  <a:lnTo>
                    <a:pt x="949" y="2549"/>
                  </a:lnTo>
                  <a:lnTo>
                    <a:pt x="940" y="2560"/>
                  </a:lnTo>
                  <a:lnTo>
                    <a:pt x="932" y="2574"/>
                  </a:lnTo>
                  <a:lnTo>
                    <a:pt x="922" y="2589"/>
                  </a:lnTo>
                  <a:lnTo>
                    <a:pt x="914" y="2603"/>
                  </a:lnTo>
                  <a:lnTo>
                    <a:pt x="911" y="2616"/>
                  </a:lnTo>
                  <a:lnTo>
                    <a:pt x="912" y="2627"/>
                  </a:lnTo>
                  <a:lnTo>
                    <a:pt x="917" y="2636"/>
                  </a:lnTo>
                  <a:lnTo>
                    <a:pt x="925" y="2645"/>
                  </a:lnTo>
                  <a:lnTo>
                    <a:pt x="933" y="2652"/>
                  </a:lnTo>
                  <a:lnTo>
                    <a:pt x="939" y="2661"/>
                  </a:lnTo>
                  <a:lnTo>
                    <a:pt x="939" y="2667"/>
                  </a:lnTo>
                  <a:lnTo>
                    <a:pt x="935" y="2672"/>
                  </a:lnTo>
                  <a:lnTo>
                    <a:pt x="926" y="2678"/>
                  </a:lnTo>
                  <a:lnTo>
                    <a:pt x="915" y="2682"/>
                  </a:lnTo>
                  <a:lnTo>
                    <a:pt x="905" y="2686"/>
                  </a:lnTo>
                  <a:lnTo>
                    <a:pt x="897" y="2690"/>
                  </a:lnTo>
                  <a:lnTo>
                    <a:pt x="892" y="2694"/>
                  </a:lnTo>
                  <a:lnTo>
                    <a:pt x="892" y="2701"/>
                  </a:lnTo>
                  <a:lnTo>
                    <a:pt x="896" y="2709"/>
                  </a:lnTo>
                  <a:lnTo>
                    <a:pt x="900" y="2719"/>
                  </a:lnTo>
                  <a:lnTo>
                    <a:pt x="905" y="2730"/>
                  </a:lnTo>
                  <a:lnTo>
                    <a:pt x="911" y="2740"/>
                  </a:lnTo>
                  <a:lnTo>
                    <a:pt x="915" y="2749"/>
                  </a:lnTo>
                  <a:lnTo>
                    <a:pt x="917" y="2754"/>
                  </a:lnTo>
                  <a:lnTo>
                    <a:pt x="916" y="2757"/>
                  </a:lnTo>
                  <a:lnTo>
                    <a:pt x="916" y="2761"/>
                  </a:lnTo>
                  <a:lnTo>
                    <a:pt x="914" y="2764"/>
                  </a:lnTo>
                  <a:lnTo>
                    <a:pt x="913" y="2766"/>
                  </a:lnTo>
                  <a:lnTo>
                    <a:pt x="912" y="2768"/>
                  </a:lnTo>
                  <a:lnTo>
                    <a:pt x="911" y="2769"/>
                  </a:lnTo>
                  <a:lnTo>
                    <a:pt x="911" y="2771"/>
                  </a:lnTo>
                  <a:lnTo>
                    <a:pt x="909" y="2768"/>
                  </a:lnTo>
                  <a:lnTo>
                    <a:pt x="904" y="2764"/>
                  </a:lnTo>
                  <a:lnTo>
                    <a:pt x="898" y="2757"/>
                  </a:lnTo>
                  <a:lnTo>
                    <a:pt x="890" y="2751"/>
                  </a:lnTo>
                  <a:lnTo>
                    <a:pt x="880" y="2742"/>
                  </a:lnTo>
                  <a:lnTo>
                    <a:pt x="872" y="2736"/>
                  </a:lnTo>
                  <a:lnTo>
                    <a:pt x="862" y="2729"/>
                  </a:lnTo>
                  <a:lnTo>
                    <a:pt x="853" y="2725"/>
                  </a:lnTo>
                  <a:lnTo>
                    <a:pt x="845" y="2724"/>
                  </a:lnTo>
                  <a:lnTo>
                    <a:pt x="834" y="2727"/>
                  </a:lnTo>
                  <a:lnTo>
                    <a:pt x="822" y="2733"/>
                  </a:lnTo>
                  <a:lnTo>
                    <a:pt x="809" y="2741"/>
                  </a:lnTo>
                  <a:lnTo>
                    <a:pt x="794" y="2749"/>
                  </a:lnTo>
                  <a:lnTo>
                    <a:pt x="780" y="2755"/>
                  </a:lnTo>
                  <a:lnTo>
                    <a:pt x="765" y="2760"/>
                  </a:lnTo>
                  <a:lnTo>
                    <a:pt x="753" y="2759"/>
                  </a:lnTo>
                  <a:lnTo>
                    <a:pt x="740" y="2753"/>
                  </a:lnTo>
                  <a:lnTo>
                    <a:pt x="728" y="2746"/>
                  </a:lnTo>
                  <a:lnTo>
                    <a:pt x="717" y="2740"/>
                  </a:lnTo>
                  <a:lnTo>
                    <a:pt x="707" y="2736"/>
                  </a:lnTo>
                  <a:lnTo>
                    <a:pt x="700" y="2733"/>
                  </a:lnTo>
                  <a:lnTo>
                    <a:pt x="694" y="2736"/>
                  </a:lnTo>
                  <a:lnTo>
                    <a:pt x="689" y="2741"/>
                  </a:lnTo>
                  <a:lnTo>
                    <a:pt x="680" y="2749"/>
                  </a:lnTo>
                  <a:lnTo>
                    <a:pt x="668" y="2757"/>
                  </a:lnTo>
                  <a:lnTo>
                    <a:pt x="655" y="2766"/>
                  </a:lnTo>
                  <a:lnTo>
                    <a:pt x="641" y="2775"/>
                  </a:lnTo>
                  <a:lnTo>
                    <a:pt x="627" y="2784"/>
                  </a:lnTo>
                  <a:lnTo>
                    <a:pt x="615" y="2789"/>
                  </a:lnTo>
                  <a:lnTo>
                    <a:pt x="607" y="2794"/>
                  </a:lnTo>
                  <a:lnTo>
                    <a:pt x="593" y="2799"/>
                  </a:lnTo>
                  <a:lnTo>
                    <a:pt x="578" y="2809"/>
                  </a:lnTo>
                  <a:lnTo>
                    <a:pt x="563" y="2820"/>
                  </a:lnTo>
                  <a:lnTo>
                    <a:pt x="551" y="2833"/>
                  </a:lnTo>
                  <a:lnTo>
                    <a:pt x="543" y="2847"/>
                  </a:lnTo>
                  <a:lnTo>
                    <a:pt x="540" y="2859"/>
                  </a:lnTo>
                  <a:lnTo>
                    <a:pt x="538" y="2871"/>
                  </a:lnTo>
                  <a:lnTo>
                    <a:pt x="535" y="2882"/>
                  </a:lnTo>
                  <a:lnTo>
                    <a:pt x="531" y="2893"/>
                  </a:lnTo>
                  <a:lnTo>
                    <a:pt x="523" y="2903"/>
                  </a:lnTo>
                  <a:lnTo>
                    <a:pt x="512" y="2913"/>
                  </a:lnTo>
                  <a:lnTo>
                    <a:pt x="498" y="2921"/>
                  </a:lnTo>
                  <a:lnTo>
                    <a:pt x="483" y="2928"/>
                  </a:lnTo>
                  <a:lnTo>
                    <a:pt x="468" y="2937"/>
                  </a:lnTo>
                  <a:lnTo>
                    <a:pt x="452" y="2947"/>
                  </a:lnTo>
                  <a:lnTo>
                    <a:pt x="440" y="2959"/>
                  </a:lnTo>
                  <a:lnTo>
                    <a:pt x="430" y="2973"/>
                  </a:lnTo>
                  <a:lnTo>
                    <a:pt x="424" y="2987"/>
                  </a:lnTo>
                  <a:lnTo>
                    <a:pt x="417" y="2998"/>
                  </a:lnTo>
                  <a:lnTo>
                    <a:pt x="412" y="3006"/>
                  </a:lnTo>
                  <a:lnTo>
                    <a:pt x="410" y="3012"/>
                  </a:lnTo>
                  <a:lnTo>
                    <a:pt x="411" y="3016"/>
                  </a:lnTo>
                  <a:lnTo>
                    <a:pt x="417" y="3017"/>
                  </a:lnTo>
                  <a:lnTo>
                    <a:pt x="426" y="3016"/>
                  </a:lnTo>
                  <a:lnTo>
                    <a:pt x="436" y="3014"/>
                  </a:lnTo>
                  <a:lnTo>
                    <a:pt x="446" y="3010"/>
                  </a:lnTo>
                  <a:lnTo>
                    <a:pt x="454" y="3008"/>
                  </a:lnTo>
                  <a:lnTo>
                    <a:pt x="462" y="3007"/>
                  </a:lnTo>
                  <a:lnTo>
                    <a:pt x="466" y="3008"/>
                  </a:lnTo>
                  <a:lnTo>
                    <a:pt x="470" y="3011"/>
                  </a:lnTo>
                  <a:lnTo>
                    <a:pt x="473" y="3016"/>
                  </a:lnTo>
                  <a:lnTo>
                    <a:pt x="477" y="3020"/>
                  </a:lnTo>
                  <a:lnTo>
                    <a:pt x="483" y="3022"/>
                  </a:lnTo>
                  <a:lnTo>
                    <a:pt x="487" y="3020"/>
                  </a:lnTo>
                  <a:lnTo>
                    <a:pt x="493" y="3012"/>
                  </a:lnTo>
                  <a:lnTo>
                    <a:pt x="500" y="2999"/>
                  </a:lnTo>
                  <a:lnTo>
                    <a:pt x="508" y="2986"/>
                  </a:lnTo>
                  <a:lnTo>
                    <a:pt x="517" y="2974"/>
                  </a:lnTo>
                  <a:lnTo>
                    <a:pt x="528" y="2964"/>
                  </a:lnTo>
                  <a:lnTo>
                    <a:pt x="541" y="2960"/>
                  </a:lnTo>
                  <a:lnTo>
                    <a:pt x="558" y="2958"/>
                  </a:lnTo>
                  <a:lnTo>
                    <a:pt x="576" y="2957"/>
                  </a:lnTo>
                  <a:lnTo>
                    <a:pt x="592" y="2956"/>
                  </a:lnTo>
                  <a:lnTo>
                    <a:pt x="606" y="2954"/>
                  </a:lnTo>
                  <a:lnTo>
                    <a:pt x="610" y="2954"/>
                  </a:lnTo>
                  <a:lnTo>
                    <a:pt x="612" y="2957"/>
                  </a:lnTo>
                  <a:lnTo>
                    <a:pt x="612" y="2961"/>
                  </a:lnTo>
                  <a:lnTo>
                    <a:pt x="610" y="2968"/>
                  </a:lnTo>
                  <a:lnTo>
                    <a:pt x="609" y="2974"/>
                  </a:lnTo>
                  <a:lnTo>
                    <a:pt x="608" y="2981"/>
                  </a:lnTo>
                  <a:lnTo>
                    <a:pt x="609" y="2986"/>
                  </a:lnTo>
                  <a:lnTo>
                    <a:pt x="611" y="2994"/>
                  </a:lnTo>
                  <a:lnTo>
                    <a:pt x="610" y="3000"/>
                  </a:lnTo>
                  <a:lnTo>
                    <a:pt x="608" y="3007"/>
                  </a:lnTo>
                  <a:lnTo>
                    <a:pt x="607" y="3016"/>
                  </a:lnTo>
                  <a:lnTo>
                    <a:pt x="608" y="3027"/>
                  </a:lnTo>
                  <a:lnTo>
                    <a:pt x="612" y="3037"/>
                  </a:lnTo>
                  <a:lnTo>
                    <a:pt x="620" y="3043"/>
                  </a:lnTo>
                  <a:lnTo>
                    <a:pt x="627" y="3045"/>
                  </a:lnTo>
                  <a:lnTo>
                    <a:pt x="636" y="3044"/>
                  </a:lnTo>
                  <a:lnTo>
                    <a:pt x="643" y="3041"/>
                  </a:lnTo>
                  <a:lnTo>
                    <a:pt x="643" y="3040"/>
                  </a:lnTo>
                  <a:lnTo>
                    <a:pt x="641" y="3042"/>
                  </a:lnTo>
                  <a:lnTo>
                    <a:pt x="635" y="3049"/>
                  </a:lnTo>
                  <a:lnTo>
                    <a:pt x="628" y="3056"/>
                  </a:lnTo>
                  <a:lnTo>
                    <a:pt x="622" y="3065"/>
                  </a:lnTo>
                  <a:lnTo>
                    <a:pt x="615" y="3076"/>
                  </a:lnTo>
                  <a:lnTo>
                    <a:pt x="610" y="3086"/>
                  </a:lnTo>
                  <a:lnTo>
                    <a:pt x="607" y="3096"/>
                  </a:lnTo>
                  <a:lnTo>
                    <a:pt x="608" y="3104"/>
                  </a:lnTo>
                  <a:lnTo>
                    <a:pt x="610" y="3116"/>
                  </a:lnTo>
                  <a:lnTo>
                    <a:pt x="611" y="3127"/>
                  </a:lnTo>
                  <a:lnTo>
                    <a:pt x="612" y="3137"/>
                  </a:lnTo>
                  <a:lnTo>
                    <a:pt x="614" y="3145"/>
                  </a:lnTo>
                  <a:lnTo>
                    <a:pt x="619" y="3149"/>
                  </a:lnTo>
                  <a:lnTo>
                    <a:pt x="625" y="3150"/>
                  </a:lnTo>
                  <a:lnTo>
                    <a:pt x="635" y="3149"/>
                  </a:lnTo>
                  <a:lnTo>
                    <a:pt x="645" y="3146"/>
                  </a:lnTo>
                  <a:lnTo>
                    <a:pt x="654" y="3142"/>
                  </a:lnTo>
                  <a:lnTo>
                    <a:pt x="660" y="3139"/>
                  </a:lnTo>
                  <a:lnTo>
                    <a:pt x="662" y="3138"/>
                  </a:lnTo>
                  <a:lnTo>
                    <a:pt x="660" y="3139"/>
                  </a:lnTo>
                  <a:lnTo>
                    <a:pt x="655" y="3145"/>
                  </a:lnTo>
                  <a:lnTo>
                    <a:pt x="646" y="3155"/>
                  </a:lnTo>
                  <a:lnTo>
                    <a:pt x="634" y="3169"/>
                  </a:lnTo>
                  <a:lnTo>
                    <a:pt x="621" y="3190"/>
                  </a:lnTo>
                  <a:lnTo>
                    <a:pt x="613" y="3206"/>
                  </a:lnTo>
                  <a:lnTo>
                    <a:pt x="609" y="3223"/>
                  </a:lnTo>
                  <a:lnTo>
                    <a:pt x="604" y="3238"/>
                  </a:lnTo>
                  <a:lnTo>
                    <a:pt x="601" y="3252"/>
                  </a:lnTo>
                  <a:lnTo>
                    <a:pt x="597" y="3264"/>
                  </a:lnTo>
                  <a:lnTo>
                    <a:pt x="588" y="3276"/>
                  </a:lnTo>
                  <a:lnTo>
                    <a:pt x="576" y="3286"/>
                  </a:lnTo>
                  <a:lnTo>
                    <a:pt x="551" y="3301"/>
                  </a:lnTo>
                  <a:lnTo>
                    <a:pt x="529" y="3315"/>
                  </a:lnTo>
                  <a:lnTo>
                    <a:pt x="511" y="3328"/>
                  </a:lnTo>
                  <a:lnTo>
                    <a:pt x="498" y="3340"/>
                  </a:lnTo>
                  <a:lnTo>
                    <a:pt x="491" y="3346"/>
                  </a:lnTo>
                  <a:lnTo>
                    <a:pt x="481" y="3350"/>
                  </a:lnTo>
                  <a:lnTo>
                    <a:pt x="469" y="3351"/>
                  </a:lnTo>
                  <a:lnTo>
                    <a:pt x="458" y="3351"/>
                  </a:lnTo>
                  <a:lnTo>
                    <a:pt x="446" y="3352"/>
                  </a:lnTo>
                  <a:lnTo>
                    <a:pt x="436" y="3354"/>
                  </a:lnTo>
                  <a:lnTo>
                    <a:pt x="427" y="3358"/>
                  </a:lnTo>
                  <a:lnTo>
                    <a:pt x="415" y="3368"/>
                  </a:lnTo>
                  <a:lnTo>
                    <a:pt x="402" y="3380"/>
                  </a:lnTo>
                  <a:lnTo>
                    <a:pt x="390" y="3391"/>
                  </a:lnTo>
                  <a:lnTo>
                    <a:pt x="379" y="3399"/>
                  </a:lnTo>
                  <a:lnTo>
                    <a:pt x="369" y="3401"/>
                  </a:lnTo>
                  <a:lnTo>
                    <a:pt x="357" y="3402"/>
                  </a:lnTo>
                  <a:lnTo>
                    <a:pt x="343" y="3401"/>
                  </a:lnTo>
                  <a:lnTo>
                    <a:pt x="330" y="3400"/>
                  </a:lnTo>
                  <a:lnTo>
                    <a:pt x="319" y="3401"/>
                  </a:lnTo>
                  <a:lnTo>
                    <a:pt x="313" y="3403"/>
                  </a:lnTo>
                  <a:lnTo>
                    <a:pt x="310" y="3409"/>
                  </a:lnTo>
                  <a:lnTo>
                    <a:pt x="308" y="3416"/>
                  </a:lnTo>
                  <a:lnTo>
                    <a:pt x="306" y="3425"/>
                  </a:lnTo>
                  <a:lnTo>
                    <a:pt x="303" y="3434"/>
                  </a:lnTo>
                  <a:lnTo>
                    <a:pt x="299" y="3442"/>
                  </a:lnTo>
                  <a:lnTo>
                    <a:pt x="291" y="3447"/>
                  </a:lnTo>
                  <a:lnTo>
                    <a:pt x="280" y="3451"/>
                  </a:lnTo>
                  <a:lnTo>
                    <a:pt x="267" y="3455"/>
                  </a:lnTo>
                  <a:lnTo>
                    <a:pt x="255" y="3457"/>
                  </a:lnTo>
                  <a:lnTo>
                    <a:pt x="244" y="3460"/>
                  </a:lnTo>
                  <a:lnTo>
                    <a:pt x="237" y="3464"/>
                  </a:lnTo>
                  <a:lnTo>
                    <a:pt x="234" y="3470"/>
                  </a:lnTo>
                  <a:lnTo>
                    <a:pt x="237" y="3474"/>
                  </a:lnTo>
                  <a:lnTo>
                    <a:pt x="242" y="3477"/>
                  </a:lnTo>
                  <a:lnTo>
                    <a:pt x="251" y="3478"/>
                  </a:lnTo>
                  <a:lnTo>
                    <a:pt x="260" y="3479"/>
                  </a:lnTo>
                  <a:lnTo>
                    <a:pt x="269" y="3481"/>
                  </a:lnTo>
                  <a:lnTo>
                    <a:pt x="278" y="3484"/>
                  </a:lnTo>
                  <a:lnTo>
                    <a:pt x="285" y="3491"/>
                  </a:lnTo>
                  <a:lnTo>
                    <a:pt x="291" y="3501"/>
                  </a:lnTo>
                  <a:lnTo>
                    <a:pt x="296" y="3510"/>
                  </a:lnTo>
                  <a:lnTo>
                    <a:pt x="299" y="3519"/>
                  </a:lnTo>
                  <a:lnTo>
                    <a:pt x="300" y="3528"/>
                  </a:lnTo>
                  <a:lnTo>
                    <a:pt x="297" y="3537"/>
                  </a:lnTo>
                  <a:lnTo>
                    <a:pt x="290" y="3543"/>
                  </a:lnTo>
                  <a:lnTo>
                    <a:pt x="280" y="3550"/>
                  </a:lnTo>
                  <a:lnTo>
                    <a:pt x="272" y="3556"/>
                  </a:lnTo>
                  <a:lnTo>
                    <a:pt x="266" y="3562"/>
                  </a:lnTo>
                  <a:lnTo>
                    <a:pt x="262" y="3567"/>
                  </a:lnTo>
                  <a:lnTo>
                    <a:pt x="262" y="3572"/>
                  </a:lnTo>
                  <a:lnTo>
                    <a:pt x="266" y="3575"/>
                  </a:lnTo>
                  <a:lnTo>
                    <a:pt x="277" y="3576"/>
                  </a:lnTo>
                  <a:lnTo>
                    <a:pt x="290" y="3574"/>
                  </a:lnTo>
                  <a:lnTo>
                    <a:pt x="303" y="3571"/>
                  </a:lnTo>
                  <a:lnTo>
                    <a:pt x="319" y="3568"/>
                  </a:lnTo>
                  <a:lnTo>
                    <a:pt x="331" y="3567"/>
                  </a:lnTo>
                  <a:lnTo>
                    <a:pt x="343" y="3566"/>
                  </a:lnTo>
                  <a:lnTo>
                    <a:pt x="353" y="3565"/>
                  </a:lnTo>
                  <a:lnTo>
                    <a:pt x="359" y="3562"/>
                  </a:lnTo>
                  <a:lnTo>
                    <a:pt x="362" y="3559"/>
                  </a:lnTo>
                  <a:lnTo>
                    <a:pt x="360" y="3558"/>
                  </a:lnTo>
                  <a:lnTo>
                    <a:pt x="355" y="3559"/>
                  </a:lnTo>
                  <a:lnTo>
                    <a:pt x="347" y="3563"/>
                  </a:lnTo>
                  <a:lnTo>
                    <a:pt x="338" y="3568"/>
                  </a:lnTo>
                  <a:lnTo>
                    <a:pt x="331" y="3576"/>
                  </a:lnTo>
                  <a:lnTo>
                    <a:pt x="324" y="3583"/>
                  </a:lnTo>
                  <a:lnTo>
                    <a:pt x="320" y="3590"/>
                  </a:lnTo>
                  <a:lnTo>
                    <a:pt x="321" y="3596"/>
                  </a:lnTo>
                  <a:lnTo>
                    <a:pt x="327" y="3605"/>
                  </a:lnTo>
                  <a:lnTo>
                    <a:pt x="335" y="3612"/>
                  </a:lnTo>
                  <a:lnTo>
                    <a:pt x="343" y="3618"/>
                  </a:lnTo>
                  <a:lnTo>
                    <a:pt x="353" y="3619"/>
                  </a:lnTo>
                  <a:lnTo>
                    <a:pt x="364" y="3614"/>
                  </a:lnTo>
                  <a:lnTo>
                    <a:pt x="380" y="3608"/>
                  </a:lnTo>
                  <a:lnTo>
                    <a:pt x="398" y="3602"/>
                  </a:lnTo>
                  <a:lnTo>
                    <a:pt x="413" y="3599"/>
                  </a:lnTo>
                  <a:lnTo>
                    <a:pt x="424" y="3598"/>
                  </a:lnTo>
                  <a:lnTo>
                    <a:pt x="427" y="3597"/>
                  </a:lnTo>
                  <a:lnTo>
                    <a:pt x="429" y="3591"/>
                  </a:lnTo>
                  <a:lnTo>
                    <a:pt x="430" y="3585"/>
                  </a:lnTo>
                  <a:lnTo>
                    <a:pt x="433" y="3577"/>
                  </a:lnTo>
                  <a:lnTo>
                    <a:pt x="438" y="3570"/>
                  </a:lnTo>
                  <a:lnTo>
                    <a:pt x="449" y="3563"/>
                  </a:lnTo>
                  <a:lnTo>
                    <a:pt x="462" y="3559"/>
                  </a:lnTo>
                  <a:lnTo>
                    <a:pt x="476" y="3555"/>
                  </a:lnTo>
                  <a:lnTo>
                    <a:pt x="491" y="3554"/>
                  </a:lnTo>
                  <a:lnTo>
                    <a:pt x="503" y="3552"/>
                  </a:lnTo>
                  <a:lnTo>
                    <a:pt x="515" y="3550"/>
                  </a:lnTo>
                  <a:lnTo>
                    <a:pt x="522" y="3545"/>
                  </a:lnTo>
                  <a:lnTo>
                    <a:pt x="528" y="3543"/>
                  </a:lnTo>
                  <a:lnTo>
                    <a:pt x="530" y="3544"/>
                  </a:lnTo>
                  <a:lnTo>
                    <a:pt x="531" y="3549"/>
                  </a:lnTo>
                  <a:lnTo>
                    <a:pt x="532" y="3554"/>
                  </a:lnTo>
                  <a:lnTo>
                    <a:pt x="533" y="3561"/>
                  </a:lnTo>
                  <a:lnTo>
                    <a:pt x="538" y="3567"/>
                  </a:lnTo>
                  <a:lnTo>
                    <a:pt x="545" y="3572"/>
                  </a:lnTo>
                  <a:lnTo>
                    <a:pt x="560" y="3577"/>
                  </a:lnTo>
                  <a:lnTo>
                    <a:pt x="573" y="3581"/>
                  </a:lnTo>
                  <a:lnTo>
                    <a:pt x="585" y="3582"/>
                  </a:lnTo>
                  <a:lnTo>
                    <a:pt x="598" y="3582"/>
                  </a:lnTo>
                  <a:lnTo>
                    <a:pt x="608" y="3582"/>
                  </a:lnTo>
                  <a:lnTo>
                    <a:pt x="618" y="3583"/>
                  </a:lnTo>
                  <a:lnTo>
                    <a:pt x="626" y="3585"/>
                  </a:lnTo>
                  <a:lnTo>
                    <a:pt x="632" y="3588"/>
                  </a:lnTo>
                  <a:lnTo>
                    <a:pt x="633" y="3593"/>
                  </a:lnTo>
                  <a:lnTo>
                    <a:pt x="627" y="3597"/>
                  </a:lnTo>
                  <a:lnTo>
                    <a:pt x="620" y="3601"/>
                  </a:lnTo>
                  <a:lnTo>
                    <a:pt x="608" y="3607"/>
                  </a:lnTo>
                  <a:lnTo>
                    <a:pt x="596" y="3612"/>
                  </a:lnTo>
                  <a:lnTo>
                    <a:pt x="584" y="3618"/>
                  </a:lnTo>
                  <a:lnTo>
                    <a:pt x="573" y="3624"/>
                  </a:lnTo>
                  <a:lnTo>
                    <a:pt x="565" y="3630"/>
                  </a:lnTo>
                  <a:lnTo>
                    <a:pt x="562" y="3636"/>
                  </a:lnTo>
                  <a:lnTo>
                    <a:pt x="565" y="3642"/>
                  </a:lnTo>
                  <a:lnTo>
                    <a:pt x="576" y="3649"/>
                  </a:lnTo>
                  <a:lnTo>
                    <a:pt x="589" y="3653"/>
                  </a:lnTo>
                  <a:lnTo>
                    <a:pt x="606" y="3652"/>
                  </a:lnTo>
                  <a:lnTo>
                    <a:pt x="626" y="3649"/>
                  </a:lnTo>
                  <a:lnTo>
                    <a:pt x="638" y="3646"/>
                  </a:lnTo>
                  <a:lnTo>
                    <a:pt x="646" y="3643"/>
                  </a:lnTo>
                  <a:lnTo>
                    <a:pt x="651" y="3639"/>
                  </a:lnTo>
                  <a:lnTo>
                    <a:pt x="656" y="3632"/>
                  </a:lnTo>
                  <a:lnTo>
                    <a:pt x="661" y="3625"/>
                  </a:lnTo>
                  <a:lnTo>
                    <a:pt x="669" y="3618"/>
                  </a:lnTo>
                  <a:lnTo>
                    <a:pt x="681" y="3610"/>
                  </a:lnTo>
                  <a:lnTo>
                    <a:pt x="692" y="3608"/>
                  </a:lnTo>
                  <a:lnTo>
                    <a:pt x="703" y="3610"/>
                  </a:lnTo>
                  <a:lnTo>
                    <a:pt x="712" y="3618"/>
                  </a:lnTo>
                  <a:lnTo>
                    <a:pt x="717" y="3630"/>
                  </a:lnTo>
                  <a:lnTo>
                    <a:pt x="722" y="3644"/>
                  </a:lnTo>
                  <a:lnTo>
                    <a:pt x="724" y="3656"/>
                  </a:lnTo>
                  <a:lnTo>
                    <a:pt x="727" y="3668"/>
                  </a:lnTo>
                  <a:lnTo>
                    <a:pt x="734" y="3679"/>
                  </a:lnTo>
                  <a:lnTo>
                    <a:pt x="746" y="3688"/>
                  </a:lnTo>
                  <a:lnTo>
                    <a:pt x="765" y="3700"/>
                  </a:lnTo>
                  <a:lnTo>
                    <a:pt x="788" y="3712"/>
                  </a:lnTo>
                  <a:lnTo>
                    <a:pt x="812" y="3723"/>
                  </a:lnTo>
                  <a:lnTo>
                    <a:pt x="838" y="3729"/>
                  </a:lnTo>
                  <a:lnTo>
                    <a:pt x="852" y="3732"/>
                  </a:lnTo>
                  <a:lnTo>
                    <a:pt x="867" y="3733"/>
                  </a:lnTo>
                  <a:lnTo>
                    <a:pt x="881" y="3733"/>
                  </a:lnTo>
                  <a:lnTo>
                    <a:pt x="895" y="3730"/>
                  </a:lnTo>
                  <a:lnTo>
                    <a:pt x="905" y="3727"/>
                  </a:lnTo>
                  <a:lnTo>
                    <a:pt x="914" y="3722"/>
                  </a:lnTo>
                  <a:lnTo>
                    <a:pt x="920" y="3712"/>
                  </a:lnTo>
                  <a:lnTo>
                    <a:pt x="926" y="3698"/>
                  </a:lnTo>
                  <a:lnTo>
                    <a:pt x="935" y="3682"/>
                  </a:lnTo>
                  <a:lnTo>
                    <a:pt x="945" y="3667"/>
                  </a:lnTo>
                  <a:lnTo>
                    <a:pt x="957" y="3655"/>
                  </a:lnTo>
                  <a:lnTo>
                    <a:pt x="971" y="3645"/>
                  </a:lnTo>
                  <a:lnTo>
                    <a:pt x="983" y="3642"/>
                  </a:lnTo>
                  <a:lnTo>
                    <a:pt x="994" y="3642"/>
                  </a:lnTo>
                  <a:lnTo>
                    <a:pt x="1005" y="3643"/>
                  </a:lnTo>
                  <a:lnTo>
                    <a:pt x="1016" y="3644"/>
                  </a:lnTo>
                  <a:lnTo>
                    <a:pt x="1027" y="3643"/>
                  </a:lnTo>
                  <a:lnTo>
                    <a:pt x="1040" y="3639"/>
                  </a:lnTo>
                  <a:lnTo>
                    <a:pt x="1049" y="3632"/>
                  </a:lnTo>
                  <a:lnTo>
                    <a:pt x="1060" y="3623"/>
                  </a:lnTo>
                  <a:lnTo>
                    <a:pt x="1071" y="3614"/>
                  </a:lnTo>
                  <a:lnTo>
                    <a:pt x="1081" y="3605"/>
                  </a:lnTo>
                  <a:lnTo>
                    <a:pt x="1092" y="3595"/>
                  </a:lnTo>
                  <a:lnTo>
                    <a:pt x="1100" y="3586"/>
                  </a:lnTo>
                  <a:lnTo>
                    <a:pt x="1107" y="3578"/>
                  </a:lnTo>
                  <a:lnTo>
                    <a:pt x="1111" y="3574"/>
                  </a:lnTo>
                  <a:lnTo>
                    <a:pt x="1113" y="3572"/>
                  </a:lnTo>
                  <a:lnTo>
                    <a:pt x="1111" y="3574"/>
                  </a:lnTo>
                  <a:lnTo>
                    <a:pt x="1108" y="3579"/>
                  </a:lnTo>
                  <a:lnTo>
                    <a:pt x="1102" y="3587"/>
                  </a:lnTo>
                  <a:lnTo>
                    <a:pt x="1097" y="3597"/>
                  </a:lnTo>
                  <a:lnTo>
                    <a:pt x="1089" y="3608"/>
                  </a:lnTo>
                  <a:lnTo>
                    <a:pt x="1084" y="3618"/>
                  </a:lnTo>
                  <a:lnTo>
                    <a:pt x="1077" y="3628"/>
                  </a:lnTo>
                  <a:lnTo>
                    <a:pt x="1073" y="3636"/>
                  </a:lnTo>
                  <a:lnTo>
                    <a:pt x="1066" y="3646"/>
                  </a:lnTo>
                  <a:lnTo>
                    <a:pt x="1055" y="3657"/>
                  </a:lnTo>
                  <a:lnTo>
                    <a:pt x="1043" y="3667"/>
                  </a:lnTo>
                  <a:lnTo>
                    <a:pt x="1031" y="3677"/>
                  </a:lnTo>
                  <a:lnTo>
                    <a:pt x="1021" y="3686"/>
                  </a:lnTo>
                  <a:lnTo>
                    <a:pt x="1014" y="3693"/>
                  </a:lnTo>
                  <a:lnTo>
                    <a:pt x="1007" y="3700"/>
                  </a:lnTo>
                  <a:lnTo>
                    <a:pt x="999" y="3709"/>
                  </a:lnTo>
                  <a:lnTo>
                    <a:pt x="991" y="3718"/>
                  </a:lnTo>
                  <a:lnTo>
                    <a:pt x="983" y="3730"/>
                  </a:lnTo>
                  <a:lnTo>
                    <a:pt x="978" y="3745"/>
                  </a:lnTo>
                  <a:lnTo>
                    <a:pt x="977" y="3761"/>
                  </a:lnTo>
                  <a:lnTo>
                    <a:pt x="977" y="3781"/>
                  </a:lnTo>
                  <a:lnTo>
                    <a:pt x="974" y="3796"/>
                  </a:lnTo>
                  <a:lnTo>
                    <a:pt x="972" y="3807"/>
                  </a:lnTo>
                  <a:lnTo>
                    <a:pt x="969" y="3814"/>
                  </a:lnTo>
                  <a:lnTo>
                    <a:pt x="968" y="3816"/>
                  </a:lnTo>
                  <a:lnTo>
                    <a:pt x="966" y="3816"/>
                  </a:lnTo>
                  <a:lnTo>
                    <a:pt x="957" y="3816"/>
                  </a:lnTo>
                  <a:lnTo>
                    <a:pt x="945" y="3815"/>
                  </a:lnTo>
                  <a:lnTo>
                    <a:pt x="932" y="3816"/>
                  </a:lnTo>
                  <a:lnTo>
                    <a:pt x="917" y="3819"/>
                  </a:lnTo>
                  <a:lnTo>
                    <a:pt x="907" y="3824"/>
                  </a:lnTo>
                  <a:lnTo>
                    <a:pt x="896" y="3831"/>
                  </a:lnTo>
                  <a:lnTo>
                    <a:pt x="886" y="3837"/>
                  </a:lnTo>
                  <a:lnTo>
                    <a:pt x="878" y="3840"/>
                  </a:lnTo>
                  <a:lnTo>
                    <a:pt x="868" y="3840"/>
                  </a:lnTo>
                  <a:lnTo>
                    <a:pt x="858" y="3836"/>
                  </a:lnTo>
                  <a:lnTo>
                    <a:pt x="845" y="3830"/>
                  </a:lnTo>
                  <a:lnTo>
                    <a:pt x="830" y="3824"/>
                  </a:lnTo>
                  <a:lnTo>
                    <a:pt x="812" y="3817"/>
                  </a:lnTo>
                  <a:lnTo>
                    <a:pt x="794" y="3813"/>
                  </a:lnTo>
                  <a:lnTo>
                    <a:pt x="776" y="3809"/>
                  </a:lnTo>
                  <a:lnTo>
                    <a:pt x="761" y="3810"/>
                  </a:lnTo>
                  <a:lnTo>
                    <a:pt x="750" y="3810"/>
                  </a:lnTo>
                  <a:lnTo>
                    <a:pt x="735" y="3810"/>
                  </a:lnTo>
                  <a:lnTo>
                    <a:pt x="719" y="3810"/>
                  </a:lnTo>
                  <a:lnTo>
                    <a:pt x="702" y="3810"/>
                  </a:lnTo>
                  <a:lnTo>
                    <a:pt x="687" y="3810"/>
                  </a:lnTo>
                  <a:lnTo>
                    <a:pt x="672" y="3811"/>
                  </a:lnTo>
                  <a:lnTo>
                    <a:pt x="661" y="3814"/>
                  </a:lnTo>
                  <a:lnTo>
                    <a:pt x="655" y="3818"/>
                  </a:lnTo>
                  <a:lnTo>
                    <a:pt x="647" y="3822"/>
                  </a:lnTo>
                  <a:lnTo>
                    <a:pt x="637" y="3824"/>
                  </a:lnTo>
                  <a:lnTo>
                    <a:pt x="625" y="3824"/>
                  </a:lnTo>
                  <a:lnTo>
                    <a:pt x="612" y="3822"/>
                  </a:lnTo>
                  <a:lnTo>
                    <a:pt x="599" y="3822"/>
                  </a:lnTo>
                  <a:lnTo>
                    <a:pt x="588" y="3824"/>
                  </a:lnTo>
                  <a:lnTo>
                    <a:pt x="579" y="3829"/>
                  </a:lnTo>
                  <a:lnTo>
                    <a:pt x="574" y="3838"/>
                  </a:lnTo>
                  <a:lnTo>
                    <a:pt x="573" y="3846"/>
                  </a:lnTo>
                  <a:lnTo>
                    <a:pt x="575" y="3855"/>
                  </a:lnTo>
                  <a:lnTo>
                    <a:pt x="577" y="3865"/>
                  </a:lnTo>
                  <a:lnTo>
                    <a:pt x="579" y="3874"/>
                  </a:lnTo>
                  <a:lnTo>
                    <a:pt x="579" y="3884"/>
                  </a:lnTo>
                  <a:lnTo>
                    <a:pt x="575" y="3896"/>
                  </a:lnTo>
                  <a:lnTo>
                    <a:pt x="567" y="3907"/>
                  </a:lnTo>
                  <a:lnTo>
                    <a:pt x="558" y="3917"/>
                  </a:lnTo>
                  <a:lnTo>
                    <a:pt x="551" y="3923"/>
                  </a:lnTo>
                  <a:lnTo>
                    <a:pt x="545" y="3926"/>
                  </a:lnTo>
                  <a:lnTo>
                    <a:pt x="541" y="3926"/>
                  </a:lnTo>
                  <a:lnTo>
                    <a:pt x="534" y="3925"/>
                  </a:lnTo>
                  <a:lnTo>
                    <a:pt x="526" y="3922"/>
                  </a:lnTo>
                  <a:lnTo>
                    <a:pt x="516" y="3920"/>
                  </a:lnTo>
                  <a:lnTo>
                    <a:pt x="505" y="3917"/>
                  </a:lnTo>
                  <a:lnTo>
                    <a:pt x="495" y="3915"/>
                  </a:lnTo>
                  <a:lnTo>
                    <a:pt x="487" y="3915"/>
                  </a:lnTo>
                  <a:lnTo>
                    <a:pt x="481" y="3918"/>
                  </a:lnTo>
                  <a:lnTo>
                    <a:pt x="477" y="3923"/>
                  </a:lnTo>
                  <a:lnTo>
                    <a:pt x="476" y="3934"/>
                  </a:lnTo>
                  <a:lnTo>
                    <a:pt x="475" y="3948"/>
                  </a:lnTo>
                  <a:lnTo>
                    <a:pt x="476" y="3965"/>
                  </a:lnTo>
                  <a:lnTo>
                    <a:pt x="476" y="3982"/>
                  </a:lnTo>
                  <a:lnTo>
                    <a:pt x="476" y="3999"/>
                  </a:lnTo>
                  <a:lnTo>
                    <a:pt x="476" y="4014"/>
                  </a:lnTo>
                  <a:lnTo>
                    <a:pt x="475" y="4026"/>
                  </a:lnTo>
                  <a:lnTo>
                    <a:pt x="473" y="4034"/>
                  </a:lnTo>
                  <a:lnTo>
                    <a:pt x="465" y="4041"/>
                  </a:lnTo>
                  <a:lnTo>
                    <a:pt x="454" y="4051"/>
                  </a:lnTo>
                  <a:lnTo>
                    <a:pt x="441" y="4062"/>
                  </a:lnTo>
                  <a:lnTo>
                    <a:pt x="428" y="4073"/>
                  </a:lnTo>
                  <a:lnTo>
                    <a:pt x="417" y="4086"/>
                  </a:lnTo>
                  <a:lnTo>
                    <a:pt x="412" y="4096"/>
                  </a:lnTo>
                  <a:lnTo>
                    <a:pt x="410" y="4106"/>
                  </a:lnTo>
                  <a:lnTo>
                    <a:pt x="410" y="4117"/>
                  </a:lnTo>
                  <a:lnTo>
                    <a:pt x="411" y="4126"/>
                  </a:lnTo>
                  <a:lnTo>
                    <a:pt x="411" y="4133"/>
                  </a:lnTo>
                  <a:lnTo>
                    <a:pt x="410" y="4140"/>
                  </a:lnTo>
                  <a:lnTo>
                    <a:pt x="405" y="4144"/>
                  </a:lnTo>
                  <a:lnTo>
                    <a:pt x="396" y="4145"/>
                  </a:lnTo>
                  <a:lnTo>
                    <a:pt x="388" y="4144"/>
                  </a:lnTo>
                  <a:lnTo>
                    <a:pt x="378" y="4142"/>
                  </a:lnTo>
                  <a:lnTo>
                    <a:pt x="368" y="4141"/>
                  </a:lnTo>
                  <a:lnTo>
                    <a:pt x="358" y="4142"/>
                  </a:lnTo>
                  <a:lnTo>
                    <a:pt x="350" y="4149"/>
                  </a:lnTo>
                  <a:lnTo>
                    <a:pt x="337" y="4163"/>
                  </a:lnTo>
                  <a:lnTo>
                    <a:pt x="325" y="4177"/>
                  </a:lnTo>
                  <a:lnTo>
                    <a:pt x="314" y="4191"/>
                  </a:lnTo>
                  <a:lnTo>
                    <a:pt x="309" y="4204"/>
                  </a:lnTo>
                  <a:lnTo>
                    <a:pt x="309" y="4213"/>
                  </a:lnTo>
                  <a:lnTo>
                    <a:pt x="308" y="4221"/>
                  </a:lnTo>
                  <a:lnTo>
                    <a:pt x="306" y="4228"/>
                  </a:lnTo>
                  <a:lnTo>
                    <a:pt x="302" y="4236"/>
                  </a:lnTo>
                  <a:lnTo>
                    <a:pt x="297" y="4242"/>
                  </a:lnTo>
                  <a:lnTo>
                    <a:pt x="286" y="4246"/>
                  </a:lnTo>
                  <a:lnTo>
                    <a:pt x="278" y="4250"/>
                  </a:lnTo>
                  <a:lnTo>
                    <a:pt x="274" y="4256"/>
                  </a:lnTo>
                  <a:lnTo>
                    <a:pt x="272" y="4262"/>
                  </a:lnTo>
                  <a:lnTo>
                    <a:pt x="271" y="4270"/>
                  </a:lnTo>
                  <a:lnTo>
                    <a:pt x="269" y="4278"/>
                  </a:lnTo>
                  <a:lnTo>
                    <a:pt x="266" y="4284"/>
                  </a:lnTo>
                  <a:lnTo>
                    <a:pt x="260" y="4290"/>
                  </a:lnTo>
                  <a:lnTo>
                    <a:pt x="251" y="4294"/>
                  </a:lnTo>
                  <a:lnTo>
                    <a:pt x="241" y="4301"/>
                  </a:lnTo>
                  <a:lnTo>
                    <a:pt x="230" y="4307"/>
                  </a:lnTo>
                  <a:lnTo>
                    <a:pt x="218" y="4315"/>
                  </a:lnTo>
                  <a:lnTo>
                    <a:pt x="207" y="4322"/>
                  </a:lnTo>
                  <a:lnTo>
                    <a:pt x="197" y="4328"/>
                  </a:lnTo>
                  <a:lnTo>
                    <a:pt x="190" y="4334"/>
                  </a:lnTo>
                  <a:lnTo>
                    <a:pt x="184" y="4338"/>
                  </a:lnTo>
                  <a:lnTo>
                    <a:pt x="182" y="4339"/>
                  </a:lnTo>
                  <a:lnTo>
                    <a:pt x="181" y="4337"/>
                  </a:lnTo>
                  <a:lnTo>
                    <a:pt x="175" y="4332"/>
                  </a:lnTo>
                  <a:lnTo>
                    <a:pt x="169" y="4329"/>
                  </a:lnTo>
                  <a:lnTo>
                    <a:pt x="160" y="4327"/>
                  </a:lnTo>
                  <a:lnTo>
                    <a:pt x="150" y="4329"/>
                  </a:lnTo>
                  <a:lnTo>
                    <a:pt x="141" y="4332"/>
                  </a:lnTo>
                  <a:lnTo>
                    <a:pt x="130" y="4337"/>
                  </a:lnTo>
                  <a:lnTo>
                    <a:pt x="119" y="4341"/>
                  </a:lnTo>
                  <a:lnTo>
                    <a:pt x="107" y="4347"/>
                  </a:lnTo>
                  <a:lnTo>
                    <a:pt x="99" y="4353"/>
                  </a:lnTo>
                  <a:lnTo>
                    <a:pt x="92" y="4361"/>
                  </a:lnTo>
                  <a:lnTo>
                    <a:pt x="90" y="4370"/>
                  </a:lnTo>
                  <a:lnTo>
                    <a:pt x="90" y="4376"/>
                  </a:lnTo>
                  <a:lnTo>
                    <a:pt x="87" y="4384"/>
                  </a:lnTo>
                  <a:lnTo>
                    <a:pt x="83" y="4392"/>
                  </a:lnTo>
                  <a:lnTo>
                    <a:pt x="80" y="4398"/>
                  </a:lnTo>
                  <a:lnTo>
                    <a:pt x="78" y="4405"/>
                  </a:lnTo>
                  <a:lnTo>
                    <a:pt x="77" y="4410"/>
                  </a:lnTo>
                  <a:lnTo>
                    <a:pt x="80" y="4415"/>
                  </a:lnTo>
                  <a:lnTo>
                    <a:pt x="88" y="4418"/>
                  </a:lnTo>
                  <a:lnTo>
                    <a:pt x="100" y="4419"/>
                  </a:lnTo>
                  <a:lnTo>
                    <a:pt x="116" y="4418"/>
                  </a:lnTo>
                  <a:lnTo>
                    <a:pt x="129" y="4416"/>
                  </a:lnTo>
                  <a:lnTo>
                    <a:pt x="139" y="4412"/>
                  </a:lnTo>
                  <a:lnTo>
                    <a:pt x="146" y="4407"/>
                  </a:lnTo>
                  <a:lnTo>
                    <a:pt x="150" y="4403"/>
                  </a:lnTo>
                  <a:lnTo>
                    <a:pt x="153" y="4397"/>
                  </a:lnTo>
                  <a:lnTo>
                    <a:pt x="157" y="4392"/>
                  </a:lnTo>
                  <a:lnTo>
                    <a:pt x="162" y="4386"/>
                  </a:lnTo>
                  <a:lnTo>
                    <a:pt x="169" y="4382"/>
                  </a:lnTo>
                  <a:lnTo>
                    <a:pt x="177" y="4381"/>
                  </a:lnTo>
                  <a:lnTo>
                    <a:pt x="186" y="4384"/>
                  </a:lnTo>
                  <a:lnTo>
                    <a:pt x="197" y="4390"/>
                  </a:lnTo>
                  <a:lnTo>
                    <a:pt x="206" y="4400"/>
                  </a:lnTo>
                  <a:lnTo>
                    <a:pt x="215" y="4413"/>
                  </a:lnTo>
                  <a:lnTo>
                    <a:pt x="223" y="4428"/>
                  </a:lnTo>
                  <a:lnTo>
                    <a:pt x="232" y="4441"/>
                  </a:lnTo>
                  <a:lnTo>
                    <a:pt x="242" y="4451"/>
                  </a:lnTo>
                  <a:lnTo>
                    <a:pt x="252" y="4457"/>
                  </a:lnTo>
                  <a:lnTo>
                    <a:pt x="267" y="4459"/>
                  </a:lnTo>
                  <a:lnTo>
                    <a:pt x="281" y="4454"/>
                  </a:lnTo>
                  <a:lnTo>
                    <a:pt x="292" y="4443"/>
                  </a:lnTo>
                  <a:lnTo>
                    <a:pt x="300" y="4427"/>
                  </a:lnTo>
                  <a:lnTo>
                    <a:pt x="301" y="4417"/>
                  </a:lnTo>
                  <a:lnTo>
                    <a:pt x="299" y="4408"/>
                  </a:lnTo>
                  <a:lnTo>
                    <a:pt x="297" y="4400"/>
                  </a:lnTo>
                  <a:lnTo>
                    <a:pt x="295" y="4393"/>
                  </a:lnTo>
                  <a:lnTo>
                    <a:pt x="295" y="4385"/>
                  </a:lnTo>
                  <a:lnTo>
                    <a:pt x="299" y="4377"/>
                  </a:lnTo>
                  <a:lnTo>
                    <a:pt x="311" y="4365"/>
                  </a:lnTo>
                  <a:lnTo>
                    <a:pt x="325" y="4355"/>
                  </a:lnTo>
                  <a:lnTo>
                    <a:pt x="343" y="4346"/>
                  </a:lnTo>
                  <a:lnTo>
                    <a:pt x="362" y="4335"/>
                  </a:lnTo>
                  <a:lnTo>
                    <a:pt x="375" y="4329"/>
                  </a:lnTo>
                  <a:lnTo>
                    <a:pt x="383" y="4328"/>
                  </a:lnTo>
                  <a:lnTo>
                    <a:pt x="391" y="4327"/>
                  </a:lnTo>
                  <a:lnTo>
                    <a:pt x="395" y="4327"/>
                  </a:lnTo>
                  <a:lnTo>
                    <a:pt x="398" y="4326"/>
                  </a:lnTo>
                  <a:lnTo>
                    <a:pt x="400" y="4322"/>
                  </a:lnTo>
                  <a:lnTo>
                    <a:pt x="400" y="4313"/>
                  </a:lnTo>
                  <a:lnTo>
                    <a:pt x="401" y="4303"/>
                  </a:lnTo>
                  <a:lnTo>
                    <a:pt x="402" y="4293"/>
                  </a:lnTo>
                  <a:lnTo>
                    <a:pt x="404" y="4284"/>
                  </a:lnTo>
                  <a:lnTo>
                    <a:pt x="406" y="4278"/>
                  </a:lnTo>
                  <a:lnTo>
                    <a:pt x="412" y="4274"/>
                  </a:lnTo>
                  <a:lnTo>
                    <a:pt x="419" y="4274"/>
                  </a:lnTo>
                  <a:lnTo>
                    <a:pt x="431" y="4276"/>
                  </a:lnTo>
                  <a:lnTo>
                    <a:pt x="447" y="4278"/>
                  </a:lnTo>
                  <a:lnTo>
                    <a:pt x="463" y="4279"/>
                  </a:lnTo>
                  <a:lnTo>
                    <a:pt x="479" y="4280"/>
                  </a:lnTo>
                  <a:lnTo>
                    <a:pt x="492" y="4279"/>
                  </a:lnTo>
                  <a:lnTo>
                    <a:pt x="500" y="4277"/>
                  </a:lnTo>
                  <a:lnTo>
                    <a:pt x="509" y="4272"/>
                  </a:lnTo>
                  <a:lnTo>
                    <a:pt x="520" y="4267"/>
                  </a:lnTo>
                  <a:lnTo>
                    <a:pt x="532" y="4262"/>
                  </a:lnTo>
                  <a:lnTo>
                    <a:pt x="543" y="4259"/>
                  </a:lnTo>
                  <a:lnTo>
                    <a:pt x="554" y="4259"/>
                  </a:lnTo>
                  <a:lnTo>
                    <a:pt x="562" y="4261"/>
                  </a:lnTo>
                  <a:lnTo>
                    <a:pt x="570" y="4267"/>
                  </a:lnTo>
                  <a:lnTo>
                    <a:pt x="583" y="4269"/>
                  </a:lnTo>
                  <a:lnTo>
                    <a:pt x="593" y="4270"/>
                  </a:lnTo>
                  <a:lnTo>
                    <a:pt x="603" y="4268"/>
                  </a:lnTo>
                  <a:lnTo>
                    <a:pt x="611" y="4265"/>
                  </a:lnTo>
                  <a:lnTo>
                    <a:pt x="615" y="4264"/>
                  </a:lnTo>
                  <a:lnTo>
                    <a:pt x="621" y="4268"/>
                  </a:lnTo>
                  <a:lnTo>
                    <a:pt x="625" y="4276"/>
                  </a:lnTo>
                  <a:lnTo>
                    <a:pt x="631" y="4283"/>
                  </a:lnTo>
                  <a:lnTo>
                    <a:pt x="637" y="4291"/>
                  </a:lnTo>
                  <a:lnTo>
                    <a:pt x="644" y="4295"/>
                  </a:lnTo>
                  <a:lnTo>
                    <a:pt x="654" y="4296"/>
                  </a:lnTo>
                  <a:lnTo>
                    <a:pt x="664" y="4294"/>
                  </a:lnTo>
                  <a:lnTo>
                    <a:pt x="671" y="4292"/>
                  </a:lnTo>
                  <a:lnTo>
                    <a:pt x="679" y="4290"/>
                  </a:lnTo>
                  <a:lnTo>
                    <a:pt x="682" y="4290"/>
                  </a:lnTo>
                  <a:lnTo>
                    <a:pt x="685" y="4293"/>
                  </a:lnTo>
                  <a:lnTo>
                    <a:pt x="689" y="4300"/>
                  </a:lnTo>
                  <a:lnTo>
                    <a:pt x="695" y="4308"/>
                  </a:lnTo>
                  <a:lnTo>
                    <a:pt x="702" y="4318"/>
                  </a:lnTo>
                  <a:lnTo>
                    <a:pt x="710" y="4326"/>
                  </a:lnTo>
                  <a:lnTo>
                    <a:pt x="718" y="4332"/>
                  </a:lnTo>
                  <a:lnTo>
                    <a:pt x="728" y="4335"/>
                  </a:lnTo>
                  <a:lnTo>
                    <a:pt x="741" y="4334"/>
                  </a:lnTo>
                  <a:lnTo>
                    <a:pt x="753" y="4332"/>
                  </a:lnTo>
                  <a:lnTo>
                    <a:pt x="763" y="4330"/>
                  </a:lnTo>
                  <a:lnTo>
                    <a:pt x="771" y="4325"/>
                  </a:lnTo>
                  <a:lnTo>
                    <a:pt x="775" y="4316"/>
                  </a:lnTo>
                  <a:lnTo>
                    <a:pt x="776" y="4306"/>
                  </a:lnTo>
                  <a:lnTo>
                    <a:pt x="776" y="4296"/>
                  </a:lnTo>
                  <a:lnTo>
                    <a:pt x="776" y="4288"/>
                  </a:lnTo>
                  <a:lnTo>
                    <a:pt x="780" y="4280"/>
                  </a:lnTo>
                  <a:lnTo>
                    <a:pt x="787" y="4273"/>
                  </a:lnTo>
                  <a:lnTo>
                    <a:pt x="799" y="4265"/>
                  </a:lnTo>
                  <a:lnTo>
                    <a:pt x="809" y="4254"/>
                  </a:lnTo>
                  <a:lnTo>
                    <a:pt x="816" y="4241"/>
                  </a:lnTo>
                  <a:lnTo>
                    <a:pt x="819" y="4225"/>
                  </a:lnTo>
                  <a:lnTo>
                    <a:pt x="819" y="4212"/>
                  </a:lnTo>
                  <a:lnTo>
                    <a:pt x="818" y="4199"/>
                  </a:lnTo>
                  <a:lnTo>
                    <a:pt x="817" y="4186"/>
                  </a:lnTo>
                  <a:lnTo>
                    <a:pt x="818" y="4173"/>
                  </a:lnTo>
                  <a:lnTo>
                    <a:pt x="823" y="4160"/>
                  </a:lnTo>
                  <a:lnTo>
                    <a:pt x="835" y="4146"/>
                  </a:lnTo>
                  <a:lnTo>
                    <a:pt x="850" y="4134"/>
                  </a:lnTo>
                  <a:lnTo>
                    <a:pt x="867" y="4124"/>
                  </a:lnTo>
                  <a:lnTo>
                    <a:pt x="885" y="4115"/>
                  </a:lnTo>
                  <a:lnTo>
                    <a:pt x="904" y="4104"/>
                  </a:lnTo>
                  <a:lnTo>
                    <a:pt x="928" y="4093"/>
                  </a:lnTo>
                  <a:lnTo>
                    <a:pt x="954" y="4083"/>
                  </a:lnTo>
                  <a:lnTo>
                    <a:pt x="980" y="4075"/>
                  </a:lnTo>
                  <a:lnTo>
                    <a:pt x="1000" y="4071"/>
                  </a:lnTo>
                  <a:lnTo>
                    <a:pt x="1018" y="4068"/>
                  </a:lnTo>
                  <a:lnTo>
                    <a:pt x="1035" y="4066"/>
                  </a:lnTo>
                  <a:lnTo>
                    <a:pt x="1048" y="4068"/>
                  </a:lnTo>
                  <a:lnTo>
                    <a:pt x="1058" y="4071"/>
                  </a:lnTo>
                  <a:lnTo>
                    <a:pt x="1071" y="4077"/>
                  </a:lnTo>
                  <a:lnTo>
                    <a:pt x="1087" y="4084"/>
                  </a:lnTo>
                  <a:lnTo>
                    <a:pt x="1106" y="4092"/>
                  </a:lnTo>
                  <a:lnTo>
                    <a:pt x="1120" y="4100"/>
                  </a:lnTo>
                  <a:lnTo>
                    <a:pt x="1127" y="4106"/>
                  </a:lnTo>
                  <a:lnTo>
                    <a:pt x="1130" y="4111"/>
                  </a:lnTo>
                  <a:lnTo>
                    <a:pt x="1133" y="4117"/>
                  </a:lnTo>
                  <a:lnTo>
                    <a:pt x="1135" y="4122"/>
                  </a:lnTo>
                  <a:lnTo>
                    <a:pt x="1140" y="4127"/>
                  </a:lnTo>
                  <a:lnTo>
                    <a:pt x="1146" y="4130"/>
                  </a:lnTo>
                  <a:lnTo>
                    <a:pt x="1156" y="4132"/>
                  </a:lnTo>
                  <a:lnTo>
                    <a:pt x="1166" y="4131"/>
                  </a:lnTo>
                  <a:lnTo>
                    <a:pt x="1175" y="4128"/>
                  </a:lnTo>
                  <a:lnTo>
                    <a:pt x="1181" y="4123"/>
                  </a:lnTo>
                  <a:lnTo>
                    <a:pt x="1187" y="4118"/>
                  </a:lnTo>
                  <a:lnTo>
                    <a:pt x="1193" y="4114"/>
                  </a:lnTo>
                  <a:lnTo>
                    <a:pt x="1200" y="4110"/>
                  </a:lnTo>
                  <a:lnTo>
                    <a:pt x="1208" y="4109"/>
                  </a:lnTo>
                  <a:lnTo>
                    <a:pt x="1225" y="4110"/>
                  </a:lnTo>
                  <a:lnTo>
                    <a:pt x="1244" y="4115"/>
                  </a:lnTo>
                  <a:lnTo>
                    <a:pt x="1263" y="4119"/>
                  </a:lnTo>
                  <a:lnTo>
                    <a:pt x="1282" y="4121"/>
                  </a:lnTo>
                  <a:lnTo>
                    <a:pt x="1296" y="4122"/>
                  </a:lnTo>
                  <a:lnTo>
                    <a:pt x="1308" y="4122"/>
                  </a:lnTo>
                  <a:lnTo>
                    <a:pt x="1318" y="4119"/>
                  </a:lnTo>
                  <a:lnTo>
                    <a:pt x="1326" y="4114"/>
                  </a:lnTo>
                  <a:lnTo>
                    <a:pt x="1330" y="4104"/>
                  </a:lnTo>
                  <a:lnTo>
                    <a:pt x="1330" y="4095"/>
                  </a:lnTo>
                  <a:lnTo>
                    <a:pt x="1328" y="4088"/>
                  </a:lnTo>
                  <a:lnTo>
                    <a:pt x="1326" y="4082"/>
                  </a:lnTo>
                  <a:lnTo>
                    <a:pt x="1324" y="4075"/>
                  </a:lnTo>
                  <a:lnTo>
                    <a:pt x="1326" y="4070"/>
                  </a:lnTo>
                  <a:lnTo>
                    <a:pt x="1332" y="4063"/>
                  </a:lnTo>
                  <a:lnTo>
                    <a:pt x="1348" y="4053"/>
                  </a:lnTo>
                  <a:lnTo>
                    <a:pt x="1364" y="4047"/>
                  </a:lnTo>
                  <a:lnTo>
                    <a:pt x="1383" y="4042"/>
                  </a:lnTo>
                  <a:lnTo>
                    <a:pt x="1402" y="4044"/>
                  </a:lnTo>
                  <a:lnTo>
                    <a:pt x="1418" y="4048"/>
                  </a:lnTo>
                  <a:lnTo>
                    <a:pt x="1432" y="4052"/>
                  </a:lnTo>
                  <a:lnTo>
                    <a:pt x="1443" y="4056"/>
                  </a:lnTo>
                  <a:lnTo>
                    <a:pt x="1453" y="4057"/>
                  </a:lnTo>
                  <a:lnTo>
                    <a:pt x="1459" y="4053"/>
                  </a:lnTo>
                  <a:lnTo>
                    <a:pt x="1464" y="4047"/>
                  </a:lnTo>
                  <a:lnTo>
                    <a:pt x="1469" y="4040"/>
                  </a:lnTo>
                  <a:lnTo>
                    <a:pt x="1476" y="4034"/>
                  </a:lnTo>
                  <a:lnTo>
                    <a:pt x="1485" y="4026"/>
                  </a:lnTo>
                  <a:lnTo>
                    <a:pt x="1498" y="4018"/>
                  </a:lnTo>
                  <a:lnTo>
                    <a:pt x="1514" y="4012"/>
                  </a:lnTo>
                  <a:lnTo>
                    <a:pt x="1528" y="4007"/>
                  </a:lnTo>
                  <a:lnTo>
                    <a:pt x="1538" y="4004"/>
                  </a:lnTo>
                  <a:lnTo>
                    <a:pt x="1545" y="4002"/>
                  </a:lnTo>
                  <a:lnTo>
                    <a:pt x="1551" y="4002"/>
                  </a:lnTo>
                  <a:lnTo>
                    <a:pt x="1557" y="4003"/>
                  </a:lnTo>
                  <a:lnTo>
                    <a:pt x="1564" y="4005"/>
                  </a:lnTo>
                  <a:lnTo>
                    <a:pt x="1575" y="4008"/>
                  </a:lnTo>
                  <a:lnTo>
                    <a:pt x="1592" y="4013"/>
                  </a:lnTo>
                  <a:lnTo>
                    <a:pt x="1605" y="4014"/>
                  </a:lnTo>
                  <a:lnTo>
                    <a:pt x="1616" y="4012"/>
                  </a:lnTo>
                  <a:lnTo>
                    <a:pt x="1626" y="4007"/>
                  </a:lnTo>
                  <a:lnTo>
                    <a:pt x="1633" y="4001"/>
                  </a:lnTo>
                  <a:lnTo>
                    <a:pt x="1641" y="3996"/>
                  </a:lnTo>
                  <a:lnTo>
                    <a:pt x="1649" y="3999"/>
                  </a:lnTo>
                  <a:lnTo>
                    <a:pt x="1656" y="4004"/>
                  </a:lnTo>
                  <a:lnTo>
                    <a:pt x="1666" y="4012"/>
                  </a:lnTo>
                  <a:lnTo>
                    <a:pt x="1677" y="4019"/>
                  </a:lnTo>
                  <a:lnTo>
                    <a:pt x="1687" y="4024"/>
                  </a:lnTo>
                  <a:lnTo>
                    <a:pt x="1697" y="4023"/>
                  </a:lnTo>
                  <a:lnTo>
                    <a:pt x="1706" y="4019"/>
                  </a:lnTo>
                  <a:lnTo>
                    <a:pt x="1716" y="4014"/>
                  </a:lnTo>
                  <a:lnTo>
                    <a:pt x="1726" y="4007"/>
                  </a:lnTo>
                  <a:lnTo>
                    <a:pt x="1740" y="4000"/>
                  </a:lnTo>
                  <a:lnTo>
                    <a:pt x="1754" y="3994"/>
                  </a:lnTo>
                  <a:lnTo>
                    <a:pt x="1767" y="3990"/>
                  </a:lnTo>
                  <a:lnTo>
                    <a:pt x="1780" y="3988"/>
                  </a:lnTo>
                  <a:lnTo>
                    <a:pt x="1795" y="3987"/>
                  </a:lnTo>
                  <a:lnTo>
                    <a:pt x="1813" y="3987"/>
                  </a:lnTo>
                  <a:lnTo>
                    <a:pt x="1835" y="3985"/>
                  </a:lnTo>
                  <a:lnTo>
                    <a:pt x="1852" y="3983"/>
                  </a:lnTo>
                  <a:lnTo>
                    <a:pt x="1868" y="3980"/>
                  </a:lnTo>
                  <a:lnTo>
                    <a:pt x="1880" y="3976"/>
                  </a:lnTo>
                  <a:lnTo>
                    <a:pt x="1890" y="3973"/>
                  </a:lnTo>
                  <a:lnTo>
                    <a:pt x="1899" y="3972"/>
                  </a:lnTo>
                  <a:lnTo>
                    <a:pt x="1911" y="3973"/>
                  </a:lnTo>
                  <a:lnTo>
                    <a:pt x="1925" y="3980"/>
                  </a:lnTo>
                  <a:lnTo>
                    <a:pt x="1944" y="3989"/>
                  </a:lnTo>
                  <a:lnTo>
                    <a:pt x="1963" y="3994"/>
                  </a:lnTo>
                  <a:lnTo>
                    <a:pt x="1980" y="3998"/>
                  </a:lnTo>
                  <a:lnTo>
                    <a:pt x="1998" y="3999"/>
                  </a:lnTo>
                  <a:lnTo>
                    <a:pt x="2015" y="3999"/>
                  </a:lnTo>
                  <a:lnTo>
                    <a:pt x="2028" y="3998"/>
                  </a:lnTo>
                  <a:lnTo>
                    <a:pt x="2036" y="3995"/>
                  </a:lnTo>
                  <a:lnTo>
                    <a:pt x="2044" y="3991"/>
                  </a:lnTo>
                  <a:lnTo>
                    <a:pt x="2050" y="3985"/>
                  </a:lnTo>
                  <a:lnTo>
                    <a:pt x="2059" y="3979"/>
                  </a:lnTo>
                  <a:lnTo>
                    <a:pt x="2072" y="3970"/>
                  </a:lnTo>
                  <a:lnTo>
                    <a:pt x="2093" y="3960"/>
                  </a:lnTo>
                  <a:lnTo>
                    <a:pt x="2113" y="3955"/>
                  </a:lnTo>
                  <a:lnTo>
                    <a:pt x="2129" y="3953"/>
                  </a:lnTo>
                  <a:lnTo>
                    <a:pt x="2144" y="3950"/>
                  </a:lnTo>
                  <a:lnTo>
                    <a:pt x="2152" y="3945"/>
                  </a:lnTo>
                  <a:lnTo>
                    <a:pt x="2159" y="3937"/>
                  </a:lnTo>
                  <a:lnTo>
                    <a:pt x="2167" y="3927"/>
                  </a:lnTo>
                  <a:lnTo>
                    <a:pt x="2176" y="3918"/>
                  </a:lnTo>
                  <a:lnTo>
                    <a:pt x="2188" y="3908"/>
                  </a:lnTo>
                  <a:lnTo>
                    <a:pt x="2204" y="3903"/>
                  </a:lnTo>
                  <a:lnTo>
                    <a:pt x="2218" y="3903"/>
                  </a:lnTo>
                  <a:lnTo>
                    <a:pt x="2232" y="3903"/>
                  </a:lnTo>
                  <a:lnTo>
                    <a:pt x="2245" y="3903"/>
                  </a:lnTo>
                  <a:lnTo>
                    <a:pt x="2257" y="3900"/>
                  </a:lnTo>
                  <a:lnTo>
                    <a:pt x="2262" y="3896"/>
                  </a:lnTo>
                  <a:lnTo>
                    <a:pt x="2263" y="3891"/>
                  </a:lnTo>
                  <a:lnTo>
                    <a:pt x="2262" y="3887"/>
                  </a:lnTo>
                  <a:lnTo>
                    <a:pt x="2260" y="3883"/>
                  </a:lnTo>
                  <a:lnTo>
                    <a:pt x="2258" y="3877"/>
                  </a:lnTo>
                  <a:lnTo>
                    <a:pt x="2258" y="3871"/>
                  </a:lnTo>
                  <a:lnTo>
                    <a:pt x="2263" y="3862"/>
                  </a:lnTo>
                  <a:lnTo>
                    <a:pt x="2272" y="3853"/>
                  </a:lnTo>
                  <a:lnTo>
                    <a:pt x="2289" y="3837"/>
                  </a:lnTo>
                  <a:lnTo>
                    <a:pt x="2304" y="3824"/>
                  </a:lnTo>
                  <a:lnTo>
                    <a:pt x="2319" y="3811"/>
                  </a:lnTo>
                  <a:lnTo>
                    <a:pt x="2334" y="3802"/>
                  </a:lnTo>
                  <a:lnTo>
                    <a:pt x="2350" y="3793"/>
                  </a:lnTo>
                  <a:lnTo>
                    <a:pt x="2364" y="3787"/>
                  </a:lnTo>
                  <a:lnTo>
                    <a:pt x="2373" y="3784"/>
                  </a:lnTo>
                  <a:lnTo>
                    <a:pt x="2380" y="3780"/>
                  </a:lnTo>
                  <a:lnTo>
                    <a:pt x="2383" y="3775"/>
                  </a:lnTo>
                  <a:lnTo>
                    <a:pt x="2384" y="3768"/>
                  </a:lnTo>
                  <a:lnTo>
                    <a:pt x="2384" y="3758"/>
                  </a:lnTo>
                  <a:lnTo>
                    <a:pt x="2383" y="3746"/>
                  </a:lnTo>
                  <a:lnTo>
                    <a:pt x="2379" y="3735"/>
                  </a:lnTo>
                  <a:lnTo>
                    <a:pt x="2375" y="3725"/>
                  </a:lnTo>
                  <a:lnTo>
                    <a:pt x="2372" y="3714"/>
                  </a:lnTo>
                  <a:lnTo>
                    <a:pt x="2373" y="3702"/>
                  </a:lnTo>
                  <a:lnTo>
                    <a:pt x="2379" y="3690"/>
                  </a:lnTo>
                  <a:lnTo>
                    <a:pt x="2388" y="3678"/>
                  </a:lnTo>
                  <a:lnTo>
                    <a:pt x="2393" y="3667"/>
                  </a:lnTo>
                  <a:lnTo>
                    <a:pt x="2398" y="3658"/>
                  </a:lnTo>
                  <a:lnTo>
                    <a:pt x="2399" y="3652"/>
                  </a:lnTo>
                  <a:lnTo>
                    <a:pt x="2395" y="3647"/>
                  </a:lnTo>
                  <a:lnTo>
                    <a:pt x="2389" y="3645"/>
                  </a:lnTo>
                  <a:lnTo>
                    <a:pt x="2379" y="3646"/>
                  </a:lnTo>
                  <a:lnTo>
                    <a:pt x="2366" y="3647"/>
                  </a:lnTo>
                  <a:lnTo>
                    <a:pt x="2349" y="3651"/>
                  </a:lnTo>
                  <a:lnTo>
                    <a:pt x="2332" y="3654"/>
                  </a:lnTo>
                  <a:lnTo>
                    <a:pt x="2313" y="3657"/>
                  </a:lnTo>
                  <a:lnTo>
                    <a:pt x="2297" y="3660"/>
                  </a:lnTo>
                  <a:lnTo>
                    <a:pt x="2283" y="3664"/>
                  </a:lnTo>
                  <a:lnTo>
                    <a:pt x="2272" y="3667"/>
                  </a:lnTo>
                  <a:lnTo>
                    <a:pt x="2257" y="3671"/>
                  </a:lnTo>
                  <a:lnTo>
                    <a:pt x="2242" y="3676"/>
                  </a:lnTo>
                  <a:lnTo>
                    <a:pt x="2227" y="3679"/>
                  </a:lnTo>
                  <a:lnTo>
                    <a:pt x="2211" y="3680"/>
                  </a:lnTo>
                  <a:lnTo>
                    <a:pt x="2198" y="3678"/>
                  </a:lnTo>
                  <a:lnTo>
                    <a:pt x="2184" y="3675"/>
                  </a:lnTo>
                  <a:lnTo>
                    <a:pt x="2169" y="3671"/>
                  </a:lnTo>
                  <a:lnTo>
                    <a:pt x="2154" y="3668"/>
                  </a:lnTo>
                  <a:lnTo>
                    <a:pt x="2142" y="3667"/>
                  </a:lnTo>
                  <a:lnTo>
                    <a:pt x="2134" y="3666"/>
                  </a:lnTo>
                  <a:lnTo>
                    <a:pt x="2132" y="3665"/>
                  </a:lnTo>
                  <a:lnTo>
                    <a:pt x="2132" y="3660"/>
                  </a:lnTo>
                  <a:lnTo>
                    <a:pt x="2134" y="3654"/>
                  </a:lnTo>
                  <a:lnTo>
                    <a:pt x="2138" y="3647"/>
                  </a:lnTo>
                  <a:lnTo>
                    <a:pt x="2144" y="3641"/>
                  </a:lnTo>
                  <a:lnTo>
                    <a:pt x="2150" y="3635"/>
                  </a:lnTo>
                  <a:lnTo>
                    <a:pt x="2152" y="3631"/>
                  </a:lnTo>
                  <a:lnTo>
                    <a:pt x="2149" y="3626"/>
                  </a:lnTo>
                  <a:lnTo>
                    <a:pt x="2142" y="3622"/>
                  </a:lnTo>
                  <a:lnTo>
                    <a:pt x="2133" y="3618"/>
                  </a:lnTo>
                  <a:lnTo>
                    <a:pt x="2123" y="3614"/>
                  </a:lnTo>
                  <a:lnTo>
                    <a:pt x="2114" y="3613"/>
                  </a:lnTo>
                  <a:lnTo>
                    <a:pt x="2107" y="3614"/>
                  </a:lnTo>
                  <a:lnTo>
                    <a:pt x="2102" y="3614"/>
                  </a:lnTo>
                  <a:lnTo>
                    <a:pt x="2098" y="3613"/>
                  </a:lnTo>
                  <a:lnTo>
                    <a:pt x="2094" y="3610"/>
                  </a:lnTo>
                  <a:lnTo>
                    <a:pt x="2094" y="3607"/>
                  </a:lnTo>
                  <a:lnTo>
                    <a:pt x="2098" y="3601"/>
                  </a:lnTo>
                  <a:lnTo>
                    <a:pt x="2105" y="3597"/>
                  </a:lnTo>
                  <a:lnTo>
                    <a:pt x="2118" y="3593"/>
                  </a:lnTo>
                  <a:lnTo>
                    <a:pt x="2132" y="3591"/>
                  </a:lnTo>
                  <a:lnTo>
                    <a:pt x="2144" y="3593"/>
                  </a:lnTo>
                  <a:lnTo>
                    <a:pt x="2154" y="3596"/>
                  </a:lnTo>
                  <a:lnTo>
                    <a:pt x="2163" y="3599"/>
                  </a:lnTo>
                  <a:lnTo>
                    <a:pt x="2172" y="3602"/>
                  </a:lnTo>
                  <a:lnTo>
                    <a:pt x="2180" y="3602"/>
                  </a:lnTo>
                  <a:lnTo>
                    <a:pt x="2187" y="3598"/>
                  </a:lnTo>
                  <a:lnTo>
                    <a:pt x="2195" y="3589"/>
                  </a:lnTo>
                  <a:lnTo>
                    <a:pt x="2205" y="3574"/>
                  </a:lnTo>
                  <a:lnTo>
                    <a:pt x="2214" y="3562"/>
                  </a:lnTo>
                  <a:lnTo>
                    <a:pt x="2221" y="3550"/>
                  </a:lnTo>
                  <a:lnTo>
                    <a:pt x="2227" y="3540"/>
                  </a:lnTo>
                  <a:lnTo>
                    <a:pt x="2228" y="3530"/>
                  </a:lnTo>
                  <a:lnTo>
                    <a:pt x="2223" y="3519"/>
                  </a:lnTo>
                  <a:lnTo>
                    <a:pt x="2217" y="3514"/>
                  </a:lnTo>
                  <a:lnTo>
                    <a:pt x="2208" y="3510"/>
                  </a:lnTo>
                  <a:lnTo>
                    <a:pt x="2197" y="3508"/>
                  </a:lnTo>
                  <a:lnTo>
                    <a:pt x="2185" y="3508"/>
                  </a:lnTo>
                  <a:lnTo>
                    <a:pt x="2174" y="3508"/>
                  </a:lnTo>
                  <a:lnTo>
                    <a:pt x="2164" y="3508"/>
                  </a:lnTo>
                  <a:lnTo>
                    <a:pt x="2157" y="3507"/>
                  </a:lnTo>
                  <a:lnTo>
                    <a:pt x="2152" y="3504"/>
                  </a:lnTo>
                  <a:lnTo>
                    <a:pt x="2152" y="3500"/>
                  </a:lnTo>
                  <a:lnTo>
                    <a:pt x="2157" y="3492"/>
                  </a:lnTo>
                  <a:lnTo>
                    <a:pt x="2163" y="3486"/>
                  </a:lnTo>
                  <a:lnTo>
                    <a:pt x="2171" y="3482"/>
                  </a:lnTo>
                  <a:lnTo>
                    <a:pt x="2181" y="3478"/>
                  </a:lnTo>
                  <a:lnTo>
                    <a:pt x="2194" y="3471"/>
                  </a:lnTo>
                  <a:lnTo>
                    <a:pt x="2208" y="3462"/>
                  </a:lnTo>
                  <a:lnTo>
                    <a:pt x="2219" y="3456"/>
                  </a:lnTo>
                  <a:lnTo>
                    <a:pt x="2229" y="3454"/>
                  </a:lnTo>
                  <a:lnTo>
                    <a:pt x="2237" y="3454"/>
                  </a:lnTo>
                  <a:lnTo>
                    <a:pt x="2242" y="3456"/>
                  </a:lnTo>
                  <a:lnTo>
                    <a:pt x="2249" y="3458"/>
                  </a:lnTo>
                  <a:lnTo>
                    <a:pt x="2254" y="3461"/>
                  </a:lnTo>
                  <a:lnTo>
                    <a:pt x="2261" y="3463"/>
                  </a:lnTo>
                  <a:lnTo>
                    <a:pt x="2267" y="3463"/>
                  </a:lnTo>
                  <a:lnTo>
                    <a:pt x="2275" y="3461"/>
                  </a:lnTo>
                  <a:lnTo>
                    <a:pt x="2285" y="3455"/>
                  </a:lnTo>
                  <a:lnTo>
                    <a:pt x="2295" y="3446"/>
                  </a:lnTo>
                  <a:lnTo>
                    <a:pt x="2304" y="3437"/>
                  </a:lnTo>
                  <a:lnTo>
                    <a:pt x="2313" y="3426"/>
                  </a:lnTo>
                  <a:lnTo>
                    <a:pt x="2321" y="3417"/>
                  </a:lnTo>
                  <a:lnTo>
                    <a:pt x="2325" y="3411"/>
                  </a:lnTo>
                  <a:lnTo>
                    <a:pt x="2326" y="3406"/>
                  </a:lnTo>
                  <a:lnTo>
                    <a:pt x="2324" y="3402"/>
                  </a:lnTo>
                  <a:lnTo>
                    <a:pt x="2320" y="3397"/>
                  </a:lnTo>
                  <a:lnTo>
                    <a:pt x="2317" y="3391"/>
                  </a:lnTo>
                  <a:lnTo>
                    <a:pt x="2314" y="3385"/>
                  </a:lnTo>
                  <a:lnTo>
                    <a:pt x="2314" y="3379"/>
                  </a:lnTo>
                  <a:lnTo>
                    <a:pt x="2320" y="3374"/>
                  </a:lnTo>
                  <a:lnTo>
                    <a:pt x="2327" y="3369"/>
                  </a:lnTo>
                  <a:lnTo>
                    <a:pt x="2335" y="3365"/>
                  </a:lnTo>
                  <a:lnTo>
                    <a:pt x="2343" y="3361"/>
                  </a:lnTo>
                  <a:lnTo>
                    <a:pt x="2350" y="3354"/>
                  </a:lnTo>
                  <a:lnTo>
                    <a:pt x="2359" y="3344"/>
                  </a:lnTo>
                  <a:lnTo>
                    <a:pt x="2367" y="3330"/>
                  </a:lnTo>
                  <a:lnTo>
                    <a:pt x="2373" y="3321"/>
                  </a:lnTo>
                  <a:lnTo>
                    <a:pt x="2379" y="3315"/>
                  </a:lnTo>
                  <a:lnTo>
                    <a:pt x="2385" y="3312"/>
                  </a:lnTo>
                  <a:lnTo>
                    <a:pt x="2392" y="3310"/>
                  </a:lnTo>
                  <a:lnTo>
                    <a:pt x="2399" y="3308"/>
                  </a:lnTo>
                  <a:lnTo>
                    <a:pt x="2404" y="3306"/>
                  </a:lnTo>
                  <a:lnTo>
                    <a:pt x="2408" y="3300"/>
                  </a:lnTo>
                  <a:lnTo>
                    <a:pt x="2413" y="3293"/>
                  </a:lnTo>
                  <a:lnTo>
                    <a:pt x="2415" y="3280"/>
                  </a:lnTo>
                  <a:lnTo>
                    <a:pt x="2417" y="3259"/>
                  </a:lnTo>
                  <a:lnTo>
                    <a:pt x="2419" y="3237"/>
                  </a:lnTo>
                  <a:lnTo>
                    <a:pt x="2420" y="3214"/>
                  </a:lnTo>
                  <a:lnTo>
                    <a:pt x="2422" y="3191"/>
                  </a:lnTo>
                  <a:lnTo>
                    <a:pt x="2423" y="3171"/>
                  </a:lnTo>
                  <a:lnTo>
                    <a:pt x="2426" y="3155"/>
                  </a:lnTo>
                  <a:lnTo>
                    <a:pt x="2430" y="3144"/>
                  </a:lnTo>
                  <a:lnTo>
                    <a:pt x="2438" y="3131"/>
                  </a:lnTo>
                  <a:lnTo>
                    <a:pt x="2443" y="3116"/>
                  </a:lnTo>
                  <a:lnTo>
                    <a:pt x="2448" y="3101"/>
                  </a:lnTo>
                  <a:lnTo>
                    <a:pt x="2448" y="3085"/>
                  </a:lnTo>
                  <a:lnTo>
                    <a:pt x="2443" y="3065"/>
                  </a:lnTo>
                  <a:lnTo>
                    <a:pt x="2440" y="3052"/>
                  </a:lnTo>
                  <a:lnTo>
                    <a:pt x="2439" y="3040"/>
                  </a:lnTo>
                  <a:lnTo>
                    <a:pt x="2441" y="3028"/>
                  </a:lnTo>
                  <a:lnTo>
                    <a:pt x="2442" y="3016"/>
                  </a:lnTo>
                  <a:lnTo>
                    <a:pt x="2443" y="3005"/>
                  </a:lnTo>
                  <a:lnTo>
                    <a:pt x="2440" y="2993"/>
                  </a:lnTo>
                  <a:lnTo>
                    <a:pt x="2433" y="2981"/>
                  </a:lnTo>
                  <a:lnTo>
                    <a:pt x="2423" y="2969"/>
                  </a:lnTo>
                  <a:lnTo>
                    <a:pt x="2411" y="2956"/>
                  </a:lnTo>
                  <a:lnTo>
                    <a:pt x="2396" y="2942"/>
                  </a:lnTo>
                  <a:lnTo>
                    <a:pt x="2382" y="2928"/>
                  </a:lnTo>
                  <a:lnTo>
                    <a:pt x="2367" y="2915"/>
                  </a:lnTo>
                  <a:lnTo>
                    <a:pt x="2354" y="2904"/>
                  </a:lnTo>
                  <a:lnTo>
                    <a:pt x="2342" y="2894"/>
                  </a:lnTo>
                  <a:lnTo>
                    <a:pt x="2333" y="2888"/>
                  </a:lnTo>
                  <a:lnTo>
                    <a:pt x="2324" y="2883"/>
                  </a:lnTo>
                  <a:lnTo>
                    <a:pt x="2310" y="2878"/>
                  </a:lnTo>
                  <a:lnTo>
                    <a:pt x="2292" y="2873"/>
                  </a:lnTo>
                  <a:lnTo>
                    <a:pt x="2272" y="2868"/>
                  </a:lnTo>
                  <a:lnTo>
                    <a:pt x="2250" y="2864"/>
                  </a:lnTo>
                  <a:lnTo>
                    <a:pt x="2227" y="2859"/>
                  </a:lnTo>
                  <a:lnTo>
                    <a:pt x="2206" y="2856"/>
                  </a:lnTo>
                  <a:lnTo>
                    <a:pt x="2186" y="2854"/>
                  </a:lnTo>
                  <a:lnTo>
                    <a:pt x="2170" y="2853"/>
                  </a:lnTo>
                  <a:lnTo>
                    <a:pt x="2158" y="2853"/>
                  </a:lnTo>
                  <a:lnTo>
                    <a:pt x="2144" y="2854"/>
                  </a:lnTo>
                  <a:lnTo>
                    <a:pt x="2126" y="2855"/>
                  </a:lnTo>
                  <a:lnTo>
                    <a:pt x="2107" y="2856"/>
                  </a:lnTo>
                  <a:lnTo>
                    <a:pt x="2090" y="2857"/>
                  </a:lnTo>
                  <a:lnTo>
                    <a:pt x="2073" y="2858"/>
                  </a:lnTo>
                  <a:lnTo>
                    <a:pt x="2059" y="2859"/>
                  </a:lnTo>
                  <a:lnTo>
                    <a:pt x="2049" y="2863"/>
                  </a:lnTo>
                  <a:lnTo>
                    <a:pt x="2042" y="2869"/>
                  </a:lnTo>
                  <a:lnTo>
                    <a:pt x="2034" y="2881"/>
                  </a:lnTo>
                  <a:lnTo>
                    <a:pt x="2026" y="2895"/>
                  </a:lnTo>
                  <a:lnTo>
                    <a:pt x="2020" y="2911"/>
                  </a:lnTo>
                  <a:lnTo>
                    <a:pt x="2014" y="2925"/>
                  </a:lnTo>
                  <a:lnTo>
                    <a:pt x="2011" y="2936"/>
                  </a:lnTo>
                  <a:lnTo>
                    <a:pt x="2007" y="2946"/>
                  </a:lnTo>
                  <a:lnTo>
                    <a:pt x="2001" y="2952"/>
                  </a:lnTo>
                  <a:lnTo>
                    <a:pt x="1992" y="2954"/>
                  </a:lnTo>
                  <a:lnTo>
                    <a:pt x="1980" y="2954"/>
                  </a:lnTo>
                  <a:lnTo>
                    <a:pt x="1968" y="2951"/>
                  </a:lnTo>
                  <a:lnTo>
                    <a:pt x="1959" y="2945"/>
                  </a:lnTo>
                  <a:lnTo>
                    <a:pt x="1949" y="2937"/>
                  </a:lnTo>
                  <a:lnTo>
                    <a:pt x="1940" y="2928"/>
                  </a:lnTo>
                  <a:lnTo>
                    <a:pt x="1931" y="2921"/>
                  </a:lnTo>
                  <a:lnTo>
                    <a:pt x="1920" y="2915"/>
                  </a:lnTo>
                  <a:lnTo>
                    <a:pt x="1909" y="2910"/>
                  </a:lnTo>
                  <a:lnTo>
                    <a:pt x="1899" y="2906"/>
                  </a:lnTo>
                  <a:lnTo>
                    <a:pt x="1893" y="2904"/>
                  </a:lnTo>
                  <a:lnTo>
                    <a:pt x="1890" y="2903"/>
                  </a:lnTo>
                  <a:lnTo>
                    <a:pt x="1892" y="2901"/>
                  </a:lnTo>
                  <a:lnTo>
                    <a:pt x="1895" y="2893"/>
                  </a:lnTo>
                  <a:lnTo>
                    <a:pt x="1902" y="2882"/>
                  </a:lnTo>
                  <a:lnTo>
                    <a:pt x="1910" y="2870"/>
                  </a:lnTo>
                  <a:lnTo>
                    <a:pt x="1920" y="2857"/>
                  </a:lnTo>
                  <a:lnTo>
                    <a:pt x="1932" y="2844"/>
                  </a:lnTo>
                  <a:lnTo>
                    <a:pt x="1944" y="2834"/>
                  </a:lnTo>
                  <a:lnTo>
                    <a:pt x="1955" y="2825"/>
                  </a:lnTo>
                  <a:lnTo>
                    <a:pt x="1966" y="2818"/>
                  </a:lnTo>
                  <a:lnTo>
                    <a:pt x="1975" y="2810"/>
                  </a:lnTo>
                  <a:lnTo>
                    <a:pt x="1983" y="2801"/>
                  </a:lnTo>
                  <a:lnTo>
                    <a:pt x="1987" y="2791"/>
                  </a:lnTo>
                  <a:lnTo>
                    <a:pt x="1988" y="2778"/>
                  </a:lnTo>
                  <a:lnTo>
                    <a:pt x="1986" y="2759"/>
                  </a:lnTo>
                  <a:lnTo>
                    <a:pt x="1980" y="2737"/>
                  </a:lnTo>
                  <a:lnTo>
                    <a:pt x="1972" y="2715"/>
                  </a:lnTo>
                  <a:lnTo>
                    <a:pt x="1963" y="2693"/>
                  </a:lnTo>
                  <a:lnTo>
                    <a:pt x="1952" y="2673"/>
                  </a:lnTo>
                  <a:lnTo>
                    <a:pt x="1939" y="2650"/>
                  </a:lnTo>
                  <a:lnTo>
                    <a:pt x="1925" y="2630"/>
                  </a:lnTo>
                  <a:lnTo>
                    <a:pt x="1910" y="2615"/>
                  </a:lnTo>
                  <a:lnTo>
                    <a:pt x="1897" y="2606"/>
                  </a:lnTo>
                  <a:lnTo>
                    <a:pt x="1886" y="2599"/>
                  </a:lnTo>
                  <a:lnTo>
                    <a:pt x="1874" y="2589"/>
                  </a:lnTo>
                  <a:lnTo>
                    <a:pt x="1861" y="2578"/>
                  </a:lnTo>
                  <a:lnTo>
                    <a:pt x="1849" y="2568"/>
                  </a:lnTo>
                  <a:lnTo>
                    <a:pt x="1837" y="2563"/>
                  </a:lnTo>
                  <a:lnTo>
                    <a:pt x="1824" y="2558"/>
                  </a:lnTo>
                  <a:lnTo>
                    <a:pt x="1812" y="2553"/>
                  </a:lnTo>
                  <a:lnTo>
                    <a:pt x="1801" y="2545"/>
                  </a:lnTo>
                  <a:lnTo>
                    <a:pt x="1790" y="2533"/>
                  </a:lnTo>
                  <a:lnTo>
                    <a:pt x="1782" y="2523"/>
                  </a:lnTo>
                  <a:lnTo>
                    <a:pt x="1775" y="2513"/>
                  </a:lnTo>
                  <a:lnTo>
                    <a:pt x="1767" y="2506"/>
                  </a:lnTo>
                  <a:lnTo>
                    <a:pt x="1760" y="2499"/>
                  </a:lnTo>
                  <a:lnTo>
                    <a:pt x="1755" y="2495"/>
                  </a:lnTo>
                  <a:lnTo>
                    <a:pt x="1754" y="2493"/>
                  </a:lnTo>
                  <a:lnTo>
                    <a:pt x="1756" y="2494"/>
                  </a:lnTo>
                  <a:lnTo>
                    <a:pt x="1764" y="2496"/>
                  </a:lnTo>
                  <a:lnTo>
                    <a:pt x="1775" y="2499"/>
                  </a:lnTo>
                  <a:lnTo>
                    <a:pt x="1787" y="2505"/>
                  </a:lnTo>
                  <a:lnTo>
                    <a:pt x="1800" y="2510"/>
                  </a:lnTo>
                  <a:lnTo>
                    <a:pt x="1813" y="2518"/>
                  </a:lnTo>
                  <a:lnTo>
                    <a:pt x="1823" y="2524"/>
                  </a:lnTo>
                  <a:lnTo>
                    <a:pt x="1830" y="2529"/>
                  </a:lnTo>
                  <a:lnTo>
                    <a:pt x="1837" y="2532"/>
                  </a:lnTo>
                  <a:lnTo>
                    <a:pt x="1844" y="2534"/>
                  </a:lnTo>
                  <a:lnTo>
                    <a:pt x="1851" y="2534"/>
                  </a:lnTo>
                  <a:lnTo>
                    <a:pt x="1863" y="2535"/>
                  </a:lnTo>
                  <a:lnTo>
                    <a:pt x="1878" y="2535"/>
                  </a:lnTo>
                  <a:lnTo>
                    <a:pt x="1888" y="2534"/>
                  </a:lnTo>
                  <a:lnTo>
                    <a:pt x="1896" y="2532"/>
                  </a:lnTo>
                  <a:lnTo>
                    <a:pt x="1899" y="2531"/>
                  </a:lnTo>
                  <a:lnTo>
                    <a:pt x="1902" y="2530"/>
                  </a:lnTo>
                  <a:lnTo>
                    <a:pt x="1899" y="2528"/>
                  </a:lnTo>
                  <a:lnTo>
                    <a:pt x="1895" y="2523"/>
                  </a:lnTo>
                  <a:lnTo>
                    <a:pt x="1888" y="2516"/>
                  </a:lnTo>
                  <a:lnTo>
                    <a:pt x="1881" y="2506"/>
                  </a:lnTo>
                  <a:lnTo>
                    <a:pt x="1872" y="2495"/>
                  </a:lnTo>
                  <a:lnTo>
                    <a:pt x="1863" y="2483"/>
                  </a:lnTo>
                  <a:lnTo>
                    <a:pt x="1855" y="2471"/>
                  </a:lnTo>
                  <a:lnTo>
                    <a:pt x="1848" y="2461"/>
                  </a:lnTo>
                  <a:lnTo>
                    <a:pt x="1843" y="2451"/>
                  </a:lnTo>
                  <a:lnTo>
                    <a:pt x="1836" y="2440"/>
                  </a:lnTo>
                  <a:lnTo>
                    <a:pt x="1825" y="2429"/>
                  </a:lnTo>
                  <a:lnTo>
                    <a:pt x="1813" y="2417"/>
                  </a:lnTo>
                  <a:lnTo>
                    <a:pt x="1802" y="2406"/>
                  </a:lnTo>
                  <a:lnTo>
                    <a:pt x="1792" y="2395"/>
                  </a:lnTo>
                  <a:lnTo>
                    <a:pt x="1786" y="2386"/>
                  </a:lnTo>
                  <a:lnTo>
                    <a:pt x="1784" y="2378"/>
                  </a:lnTo>
                  <a:lnTo>
                    <a:pt x="1784" y="2369"/>
                  </a:lnTo>
                  <a:lnTo>
                    <a:pt x="1783" y="2360"/>
                  </a:lnTo>
                  <a:lnTo>
                    <a:pt x="1780" y="2351"/>
                  </a:lnTo>
                  <a:lnTo>
                    <a:pt x="1779" y="2342"/>
                  </a:lnTo>
                  <a:lnTo>
                    <a:pt x="1779" y="2332"/>
                  </a:lnTo>
                  <a:lnTo>
                    <a:pt x="1784" y="2321"/>
                  </a:lnTo>
                  <a:lnTo>
                    <a:pt x="1792" y="2313"/>
                  </a:lnTo>
                  <a:lnTo>
                    <a:pt x="1800" y="2310"/>
                  </a:lnTo>
                  <a:lnTo>
                    <a:pt x="1807" y="2308"/>
                  </a:lnTo>
                  <a:lnTo>
                    <a:pt x="1813" y="2306"/>
                  </a:lnTo>
                  <a:lnTo>
                    <a:pt x="1817" y="2304"/>
                  </a:lnTo>
                  <a:lnTo>
                    <a:pt x="1818" y="2299"/>
                  </a:lnTo>
                  <a:lnTo>
                    <a:pt x="1815" y="2292"/>
                  </a:lnTo>
                  <a:lnTo>
                    <a:pt x="1809" y="2287"/>
                  </a:lnTo>
                  <a:lnTo>
                    <a:pt x="1798" y="2280"/>
                  </a:lnTo>
                  <a:lnTo>
                    <a:pt x="1787" y="2275"/>
                  </a:lnTo>
                  <a:lnTo>
                    <a:pt x="1776" y="2268"/>
                  </a:lnTo>
                  <a:lnTo>
                    <a:pt x="1767" y="2261"/>
                  </a:lnTo>
                  <a:lnTo>
                    <a:pt x="1764" y="2253"/>
                  </a:lnTo>
                  <a:lnTo>
                    <a:pt x="1760" y="2245"/>
                  </a:lnTo>
                  <a:lnTo>
                    <a:pt x="1755" y="2240"/>
                  </a:lnTo>
                  <a:lnTo>
                    <a:pt x="1747" y="2236"/>
                  </a:lnTo>
                  <a:lnTo>
                    <a:pt x="1737" y="2234"/>
                  </a:lnTo>
                  <a:lnTo>
                    <a:pt x="1730" y="2232"/>
                  </a:lnTo>
                  <a:lnTo>
                    <a:pt x="1723" y="2231"/>
                  </a:lnTo>
                  <a:lnTo>
                    <a:pt x="1720" y="2229"/>
                  </a:lnTo>
                  <a:lnTo>
                    <a:pt x="1719" y="2224"/>
                  </a:lnTo>
                  <a:lnTo>
                    <a:pt x="1716" y="2215"/>
                  </a:lnTo>
                  <a:lnTo>
                    <a:pt x="1712" y="2201"/>
                  </a:lnTo>
                  <a:lnTo>
                    <a:pt x="1707" y="2187"/>
                  </a:lnTo>
                  <a:lnTo>
                    <a:pt x="1701" y="2172"/>
                  </a:lnTo>
                  <a:lnTo>
                    <a:pt x="1695" y="2158"/>
                  </a:lnTo>
                  <a:lnTo>
                    <a:pt x="1688" y="2147"/>
                  </a:lnTo>
                  <a:lnTo>
                    <a:pt x="1678" y="2136"/>
                  </a:lnTo>
                  <a:lnTo>
                    <a:pt x="1667" y="2124"/>
                  </a:lnTo>
                  <a:lnTo>
                    <a:pt x="1654" y="2112"/>
                  </a:lnTo>
                  <a:lnTo>
                    <a:pt x="1641" y="2100"/>
                  </a:lnTo>
                  <a:lnTo>
                    <a:pt x="1628" y="2090"/>
                  </a:lnTo>
                  <a:lnTo>
                    <a:pt x="1615" y="2081"/>
                  </a:lnTo>
                  <a:lnTo>
                    <a:pt x="1604" y="2077"/>
                  </a:lnTo>
                  <a:lnTo>
                    <a:pt x="1591" y="2073"/>
                  </a:lnTo>
                  <a:lnTo>
                    <a:pt x="1575" y="2069"/>
                  </a:lnTo>
                  <a:lnTo>
                    <a:pt x="1558" y="2065"/>
                  </a:lnTo>
                  <a:lnTo>
                    <a:pt x="1543" y="2060"/>
                  </a:lnTo>
                  <a:lnTo>
                    <a:pt x="1529" y="2057"/>
                  </a:lnTo>
                  <a:lnTo>
                    <a:pt x="1522" y="2055"/>
                  </a:lnTo>
                  <a:lnTo>
                    <a:pt x="1514" y="2053"/>
                  </a:lnTo>
                  <a:lnTo>
                    <a:pt x="1505" y="2050"/>
                  </a:lnTo>
                  <a:lnTo>
                    <a:pt x="1497" y="2046"/>
                  </a:lnTo>
                  <a:lnTo>
                    <a:pt x="1488" y="2043"/>
                  </a:lnTo>
                  <a:lnTo>
                    <a:pt x="1482" y="2041"/>
                  </a:lnTo>
                  <a:lnTo>
                    <a:pt x="1480" y="2039"/>
                  </a:lnTo>
                  <a:lnTo>
                    <a:pt x="1479" y="2035"/>
                  </a:lnTo>
                  <a:lnTo>
                    <a:pt x="1478" y="2026"/>
                  </a:lnTo>
                  <a:lnTo>
                    <a:pt x="1475" y="2015"/>
                  </a:lnTo>
                  <a:lnTo>
                    <a:pt x="1470" y="2003"/>
                  </a:lnTo>
                  <a:lnTo>
                    <a:pt x="1464" y="1993"/>
                  </a:lnTo>
                  <a:lnTo>
                    <a:pt x="1457" y="1987"/>
                  </a:lnTo>
                  <a:lnTo>
                    <a:pt x="1451" y="1983"/>
                  </a:lnTo>
                  <a:lnTo>
                    <a:pt x="1445" y="1977"/>
                  </a:lnTo>
                  <a:lnTo>
                    <a:pt x="1441" y="1972"/>
                  </a:lnTo>
                  <a:lnTo>
                    <a:pt x="1437" y="1962"/>
                  </a:lnTo>
                  <a:lnTo>
                    <a:pt x="1436" y="1952"/>
                  </a:lnTo>
                  <a:lnTo>
                    <a:pt x="1434" y="1944"/>
                  </a:lnTo>
                  <a:lnTo>
                    <a:pt x="1431" y="1937"/>
                  </a:lnTo>
                  <a:lnTo>
                    <a:pt x="1428" y="1927"/>
                  </a:lnTo>
                  <a:lnTo>
                    <a:pt x="1422" y="1914"/>
                  </a:lnTo>
                  <a:lnTo>
                    <a:pt x="1417" y="1899"/>
                  </a:lnTo>
                  <a:lnTo>
                    <a:pt x="1413" y="1886"/>
                  </a:lnTo>
                  <a:lnTo>
                    <a:pt x="1409" y="1873"/>
                  </a:lnTo>
                  <a:lnTo>
                    <a:pt x="1404" y="1860"/>
                  </a:lnTo>
                  <a:lnTo>
                    <a:pt x="1396" y="1845"/>
                  </a:lnTo>
                  <a:lnTo>
                    <a:pt x="1389" y="1831"/>
                  </a:lnTo>
                  <a:lnTo>
                    <a:pt x="1383" y="1815"/>
                  </a:lnTo>
                  <a:lnTo>
                    <a:pt x="1375" y="1795"/>
                  </a:lnTo>
                  <a:lnTo>
                    <a:pt x="1367" y="1776"/>
                  </a:lnTo>
                  <a:lnTo>
                    <a:pt x="1360" y="1755"/>
                  </a:lnTo>
                  <a:lnTo>
                    <a:pt x="1353" y="1737"/>
                  </a:lnTo>
                  <a:lnTo>
                    <a:pt x="1348" y="1721"/>
                  </a:lnTo>
                  <a:lnTo>
                    <a:pt x="1343" y="1710"/>
                  </a:lnTo>
                  <a:lnTo>
                    <a:pt x="1339" y="1694"/>
                  </a:lnTo>
                  <a:lnTo>
                    <a:pt x="1337" y="1674"/>
                  </a:lnTo>
                  <a:lnTo>
                    <a:pt x="1337" y="1655"/>
                  </a:lnTo>
                  <a:lnTo>
                    <a:pt x="1337" y="1638"/>
                  </a:lnTo>
                  <a:lnTo>
                    <a:pt x="1338" y="1624"/>
                  </a:lnTo>
                  <a:lnTo>
                    <a:pt x="1338" y="1607"/>
                  </a:lnTo>
                  <a:lnTo>
                    <a:pt x="1333" y="1591"/>
                  </a:lnTo>
                  <a:lnTo>
                    <a:pt x="1327" y="1575"/>
                  </a:lnTo>
                  <a:lnTo>
                    <a:pt x="1316" y="1562"/>
                  </a:lnTo>
                  <a:lnTo>
                    <a:pt x="1308" y="1557"/>
                  </a:lnTo>
                  <a:lnTo>
                    <a:pt x="1301" y="1555"/>
                  </a:lnTo>
                  <a:lnTo>
                    <a:pt x="1292" y="1555"/>
                  </a:lnTo>
                  <a:lnTo>
                    <a:pt x="1285" y="1556"/>
                  </a:lnTo>
                  <a:lnTo>
                    <a:pt x="1279" y="1555"/>
                  </a:lnTo>
                  <a:lnTo>
                    <a:pt x="1274" y="1551"/>
                  </a:lnTo>
                  <a:lnTo>
                    <a:pt x="1270" y="1545"/>
                  </a:lnTo>
                  <a:lnTo>
                    <a:pt x="1262" y="1535"/>
                  </a:lnTo>
                  <a:lnTo>
                    <a:pt x="1252" y="1523"/>
                  </a:lnTo>
                  <a:lnTo>
                    <a:pt x="1242" y="1509"/>
                  </a:lnTo>
                  <a:lnTo>
                    <a:pt x="1229" y="1493"/>
                  </a:lnTo>
                  <a:lnTo>
                    <a:pt x="1220" y="1479"/>
                  </a:lnTo>
                  <a:lnTo>
                    <a:pt x="1210" y="1465"/>
                  </a:lnTo>
                  <a:lnTo>
                    <a:pt x="1204" y="1453"/>
                  </a:lnTo>
                  <a:lnTo>
                    <a:pt x="1194" y="1432"/>
                  </a:lnTo>
                  <a:lnTo>
                    <a:pt x="1182" y="1414"/>
                  </a:lnTo>
                  <a:lnTo>
                    <a:pt x="1171" y="1402"/>
                  </a:lnTo>
                  <a:lnTo>
                    <a:pt x="1161" y="1395"/>
                  </a:lnTo>
                  <a:lnTo>
                    <a:pt x="1152" y="1393"/>
                  </a:lnTo>
                  <a:lnTo>
                    <a:pt x="1142" y="1393"/>
                  </a:lnTo>
                  <a:lnTo>
                    <a:pt x="1131" y="1393"/>
                  </a:lnTo>
                  <a:lnTo>
                    <a:pt x="1119" y="1391"/>
                  </a:lnTo>
                  <a:lnTo>
                    <a:pt x="1108" y="1386"/>
                  </a:lnTo>
                  <a:lnTo>
                    <a:pt x="1095" y="1377"/>
                  </a:lnTo>
                  <a:lnTo>
                    <a:pt x="1084" y="1370"/>
                  </a:lnTo>
                  <a:lnTo>
                    <a:pt x="1072" y="1364"/>
                  </a:lnTo>
                  <a:lnTo>
                    <a:pt x="1055" y="1362"/>
                  </a:lnTo>
                  <a:lnTo>
                    <a:pt x="1044" y="1358"/>
                  </a:lnTo>
                  <a:lnTo>
                    <a:pt x="1035" y="1350"/>
                  </a:lnTo>
                  <a:lnTo>
                    <a:pt x="1026" y="1340"/>
                  </a:lnTo>
                  <a:lnTo>
                    <a:pt x="1018" y="1330"/>
                  </a:lnTo>
                  <a:lnTo>
                    <a:pt x="1011" y="1323"/>
                  </a:lnTo>
                  <a:lnTo>
                    <a:pt x="1003" y="1319"/>
                  </a:lnTo>
                  <a:lnTo>
                    <a:pt x="992" y="1323"/>
                  </a:lnTo>
                  <a:lnTo>
                    <a:pt x="979" y="1329"/>
                  </a:lnTo>
                  <a:lnTo>
                    <a:pt x="966" y="1339"/>
                  </a:lnTo>
                  <a:lnTo>
                    <a:pt x="955" y="1349"/>
                  </a:lnTo>
                  <a:lnTo>
                    <a:pt x="945" y="1359"/>
                  </a:lnTo>
                  <a:lnTo>
                    <a:pt x="933" y="1370"/>
                  </a:lnTo>
                  <a:lnTo>
                    <a:pt x="917" y="1378"/>
                  </a:lnTo>
                  <a:lnTo>
                    <a:pt x="901" y="1383"/>
                  </a:lnTo>
                  <a:lnTo>
                    <a:pt x="884" y="1384"/>
                  </a:lnTo>
                  <a:lnTo>
                    <a:pt x="869" y="1382"/>
                  </a:lnTo>
                  <a:lnTo>
                    <a:pt x="852" y="1378"/>
                  </a:lnTo>
                  <a:lnTo>
                    <a:pt x="834" y="1374"/>
                  </a:lnTo>
                  <a:lnTo>
                    <a:pt x="820" y="1370"/>
                  </a:lnTo>
                  <a:lnTo>
                    <a:pt x="809" y="1365"/>
                  </a:lnTo>
                  <a:lnTo>
                    <a:pt x="801" y="1363"/>
                  </a:lnTo>
                  <a:lnTo>
                    <a:pt x="789" y="1362"/>
                  </a:lnTo>
                  <a:lnTo>
                    <a:pt x="775" y="1362"/>
                  </a:lnTo>
                  <a:lnTo>
                    <a:pt x="761" y="1361"/>
                  </a:lnTo>
                  <a:lnTo>
                    <a:pt x="749" y="1359"/>
                  </a:lnTo>
                  <a:lnTo>
                    <a:pt x="740" y="1354"/>
                  </a:lnTo>
                  <a:lnTo>
                    <a:pt x="732" y="1348"/>
                  </a:lnTo>
                  <a:lnTo>
                    <a:pt x="725" y="1341"/>
                  </a:lnTo>
                  <a:lnTo>
                    <a:pt x="719" y="1336"/>
                  </a:lnTo>
                  <a:lnTo>
                    <a:pt x="715" y="1332"/>
                  </a:lnTo>
                  <a:lnTo>
                    <a:pt x="714" y="1331"/>
                  </a:lnTo>
                  <a:lnTo>
                    <a:pt x="717" y="1331"/>
                  </a:lnTo>
                  <a:lnTo>
                    <a:pt x="725" y="1335"/>
                  </a:lnTo>
                  <a:lnTo>
                    <a:pt x="737" y="1337"/>
                  </a:lnTo>
                  <a:lnTo>
                    <a:pt x="751" y="1341"/>
                  </a:lnTo>
                  <a:lnTo>
                    <a:pt x="765" y="1344"/>
                  </a:lnTo>
                  <a:lnTo>
                    <a:pt x="780" y="1348"/>
                  </a:lnTo>
                  <a:lnTo>
                    <a:pt x="792" y="1350"/>
                  </a:lnTo>
                  <a:lnTo>
                    <a:pt x="801" y="1350"/>
                  </a:lnTo>
                  <a:lnTo>
                    <a:pt x="816" y="1348"/>
                  </a:lnTo>
                  <a:lnTo>
                    <a:pt x="832" y="1340"/>
                  </a:lnTo>
                  <a:lnTo>
                    <a:pt x="849" y="1330"/>
                  </a:lnTo>
                  <a:lnTo>
                    <a:pt x="866" y="1316"/>
                  </a:lnTo>
                  <a:lnTo>
                    <a:pt x="881" y="1301"/>
                  </a:lnTo>
                  <a:lnTo>
                    <a:pt x="891" y="1287"/>
                  </a:lnTo>
                  <a:lnTo>
                    <a:pt x="900" y="1275"/>
                  </a:lnTo>
                  <a:lnTo>
                    <a:pt x="911" y="1267"/>
                  </a:lnTo>
                  <a:lnTo>
                    <a:pt x="924" y="1262"/>
                  </a:lnTo>
                  <a:lnTo>
                    <a:pt x="938" y="1260"/>
                  </a:lnTo>
                  <a:lnTo>
                    <a:pt x="955" y="1259"/>
                  </a:lnTo>
                  <a:lnTo>
                    <a:pt x="970" y="1257"/>
                  </a:lnTo>
                  <a:lnTo>
                    <a:pt x="980" y="1254"/>
                  </a:lnTo>
                  <a:lnTo>
                    <a:pt x="992" y="1250"/>
                  </a:lnTo>
                  <a:lnTo>
                    <a:pt x="1003" y="1245"/>
                  </a:lnTo>
                  <a:lnTo>
                    <a:pt x="1014" y="1239"/>
                  </a:lnTo>
                  <a:lnTo>
                    <a:pt x="1023" y="1232"/>
                  </a:lnTo>
                  <a:lnTo>
                    <a:pt x="1028" y="1223"/>
                  </a:lnTo>
                  <a:lnTo>
                    <a:pt x="1030" y="1212"/>
                  </a:lnTo>
                  <a:lnTo>
                    <a:pt x="1029" y="1204"/>
                  </a:lnTo>
                  <a:lnTo>
                    <a:pt x="1024" y="1199"/>
                  </a:lnTo>
                  <a:lnTo>
                    <a:pt x="1017" y="1196"/>
                  </a:lnTo>
                  <a:lnTo>
                    <a:pt x="1008" y="1193"/>
                  </a:lnTo>
                  <a:lnTo>
                    <a:pt x="1000" y="1191"/>
                  </a:lnTo>
                  <a:lnTo>
                    <a:pt x="990" y="1190"/>
                  </a:lnTo>
                  <a:lnTo>
                    <a:pt x="982" y="1188"/>
                  </a:lnTo>
                  <a:lnTo>
                    <a:pt x="976" y="1185"/>
                  </a:lnTo>
                  <a:lnTo>
                    <a:pt x="972" y="1179"/>
                  </a:lnTo>
                  <a:lnTo>
                    <a:pt x="970" y="1170"/>
                  </a:lnTo>
                  <a:lnTo>
                    <a:pt x="970" y="1164"/>
                  </a:lnTo>
                  <a:lnTo>
                    <a:pt x="971" y="1158"/>
                  </a:lnTo>
                  <a:lnTo>
                    <a:pt x="972" y="1153"/>
                  </a:lnTo>
                  <a:lnTo>
                    <a:pt x="971" y="1146"/>
                  </a:lnTo>
                  <a:lnTo>
                    <a:pt x="967" y="1135"/>
                  </a:lnTo>
                  <a:lnTo>
                    <a:pt x="960" y="1129"/>
                  </a:lnTo>
                  <a:lnTo>
                    <a:pt x="950" y="1127"/>
                  </a:lnTo>
                  <a:lnTo>
                    <a:pt x="944" y="1127"/>
                  </a:lnTo>
                  <a:lnTo>
                    <a:pt x="934" y="1129"/>
                  </a:lnTo>
                  <a:lnTo>
                    <a:pt x="923" y="1131"/>
                  </a:lnTo>
                  <a:lnTo>
                    <a:pt x="912" y="1134"/>
                  </a:lnTo>
                  <a:lnTo>
                    <a:pt x="903" y="1136"/>
                  </a:lnTo>
                  <a:lnTo>
                    <a:pt x="897" y="1139"/>
                  </a:lnTo>
                  <a:lnTo>
                    <a:pt x="895" y="1140"/>
                  </a:lnTo>
                  <a:lnTo>
                    <a:pt x="896" y="1138"/>
                  </a:lnTo>
                  <a:lnTo>
                    <a:pt x="901" y="1134"/>
                  </a:lnTo>
                  <a:lnTo>
                    <a:pt x="910" y="1129"/>
                  </a:lnTo>
                  <a:lnTo>
                    <a:pt x="922" y="1123"/>
                  </a:lnTo>
                  <a:lnTo>
                    <a:pt x="935" y="1118"/>
                  </a:lnTo>
                  <a:lnTo>
                    <a:pt x="951" y="1116"/>
                  </a:lnTo>
                  <a:lnTo>
                    <a:pt x="971" y="1113"/>
                  </a:lnTo>
                  <a:lnTo>
                    <a:pt x="986" y="1111"/>
                  </a:lnTo>
                  <a:lnTo>
                    <a:pt x="1000" y="1107"/>
                  </a:lnTo>
                  <a:lnTo>
                    <a:pt x="1008" y="1100"/>
                  </a:lnTo>
                  <a:lnTo>
                    <a:pt x="1015" y="1090"/>
                  </a:lnTo>
                  <a:lnTo>
                    <a:pt x="1017" y="1082"/>
                  </a:lnTo>
                  <a:lnTo>
                    <a:pt x="1019" y="1075"/>
                  </a:lnTo>
                  <a:lnTo>
                    <a:pt x="1021" y="1069"/>
                  </a:lnTo>
                  <a:lnTo>
                    <a:pt x="1024" y="1062"/>
                  </a:lnTo>
                  <a:lnTo>
                    <a:pt x="1029" y="1054"/>
                  </a:lnTo>
                  <a:lnTo>
                    <a:pt x="1038" y="1044"/>
                  </a:lnTo>
                  <a:lnTo>
                    <a:pt x="1050" y="1028"/>
                  </a:lnTo>
                  <a:lnTo>
                    <a:pt x="1060" y="1009"/>
                  </a:lnTo>
                  <a:lnTo>
                    <a:pt x="1070" y="992"/>
                  </a:lnTo>
                  <a:lnTo>
                    <a:pt x="1077" y="976"/>
                  </a:lnTo>
                  <a:lnTo>
                    <a:pt x="1085" y="965"/>
                  </a:lnTo>
                  <a:lnTo>
                    <a:pt x="1094" y="954"/>
                  </a:lnTo>
                  <a:lnTo>
                    <a:pt x="1105" y="939"/>
                  </a:lnTo>
                  <a:lnTo>
                    <a:pt x="1115" y="924"/>
                  </a:lnTo>
                  <a:lnTo>
                    <a:pt x="1124" y="908"/>
                  </a:lnTo>
                  <a:lnTo>
                    <a:pt x="1130" y="893"/>
                  </a:lnTo>
                  <a:lnTo>
                    <a:pt x="1131" y="886"/>
                  </a:lnTo>
                  <a:lnTo>
                    <a:pt x="1131" y="879"/>
                  </a:lnTo>
                  <a:lnTo>
                    <a:pt x="1130" y="873"/>
                  </a:lnTo>
                  <a:lnTo>
                    <a:pt x="1130" y="867"/>
                  </a:lnTo>
                  <a:lnTo>
                    <a:pt x="1131" y="861"/>
                  </a:lnTo>
                  <a:lnTo>
                    <a:pt x="1134" y="852"/>
                  </a:lnTo>
                  <a:lnTo>
                    <a:pt x="1141" y="841"/>
                  </a:lnTo>
                  <a:lnTo>
                    <a:pt x="1150" y="830"/>
                  </a:lnTo>
                  <a:lnTo>
                    <a:pt x="1158" y="822"/>
                  </a:lnTo>
                  <a:lnTo>
                    <a:pt x="1165" y="816"/>
                  </a:lnTo>
                  <a:lnTo>
                    <a:pt x="1170" y="809"/>
                  </a:lnTo>
                  <a:lnTo>
                    <a:pt x="1174" y="803"/>
                  </a:lnTo>
                  <a:lnTo>
                    <a:pt x="1175" y="794"/>
                  </a:lnTo>
                  <a:lnTo>
                    <a:pt x="1174" y="782"/>
                  </a:lnTo>
                  <a:lnTo>
                    <a:pt x="1170" y="761"/>
                  </a:lnTo>
                  <a:lnTo>
                    <a:pt x="1171" y="740"/>
                  </a:lnTo>
                  <a:lnTo>
                    <a:pt x="1174" y="721"/>
                  </a:lnTo>
                  <a:lnTo>
                    <a:pt x="1179" y="703"/>
                  </a:lnTo>
                  <a:lnTo>
                    <a:pt x="1185" y="690"/>
                  </a:lnTo>
                  <a:lnTo>
                    <a:pt x="1192" y="680"/>
                  </a:lnTo>
                  <a:lnTo>
                    <a:pt x="1203" y="669"/>
                  </a:lnTo>
                  <a:lnTo>
                    <a:pt x="1216" y="656"/>
                  </a:lnTo>
                  <a:lnTo>
                    <a:pt x="1229" y="644"/>
                  </a:lnTo>
                  <a:lnTo>
                    <a:pt x="1239" y="632"/>
                  </a:lnTo>
                  <a:lnTo>
                    <a:pt x="1245" y="620"/>
                  </a:lnTo>
                  <a:lnTo>
                    <a:pt x="1247" y="606"/>
                  </a:lnTo>
                  <a:lnTo>
                    <a:pt x="1248" y="589"/>
                  </a:lnTo>
                  <a:lnTo>
                    <a:pt x="1247" y="574"/>
                  </a:lnTo>
                  <a:lnTo>
                    <a:pt x="1245" y="559"/>
                  </a:lnTo>
                  <a:lnTo>
                    <a:pt x="1239" y="546"/>
                  </a:lnTo>
                  <a:lnTo>
                    <a:pt x="1233" y="538"/>
                  </a:lnTo>
                  <a:lnTo>
                    <a:pt x="1224" y="526"/>
                  </a:lnTo>
                  <a:lnTo>
                    <a:pt x="1213" y="514"/>
                  </a:lnTo>
                  <a:lnTo>
                    <a:pt x="1202" y="503"/>
                  </a:lnTo>
                  <a:lnTo>
                    <a:pt x="1189" y="493"/>
                  </a:lnTo>
                  <a:lnTo>
                    <a:pt x="1178" y="486"/>
                  </a:lnTo>
                  <a:lnTo>
                    <a:pt x="1167" y="483"/>
                  </a:lnTo>
                  <a:lnTo>
                    <a:pt x="1153" y="485"/>
                  </a:lnTo>
                  <a:lnTo>
                    <a:pt x="1136" y="488"/>
                  </a:lnTo>
                  <a:lnTo>
                    <a:pt x="1117" y="493"/>
                  </a:lnTo>
                  <a:lnTo>
                    <a:pt x="1098" y="496"/>
                  </a:lnTo>
                  <a:lnTo>
                    <a:pt x="1080" y="498"/>
                  </a:lnTo>
                  <a:lnTo>
                    <a:pt x="1063" y="498"/>
                  </a:lnTo>
                  <a:lnTo>
                    <a:pt x="1044" y="496"/>
                  </a:lnTo>
                  <a:lnTo>
                    <a:pt x="1025" y="495"/>
                  </a:lnTo>
                  <a:lnTo>
                    <a:pt x="1006" y="493"/>
                  </a:lnTo>
                  <a:lnTo>
                    <a:pt x="990" y="492"/>
                  </a:lnTo>
                  <a:lnTo>
                    <a:pt x="977" y="491"/>
                  </a:lnTo>
                  <a:lnTo>
                    <a:pt x="965" y="491"/>
                  </a:lnTo>
                  <a:lnTo>
                    <a:pt x="950" y="492"/>
                  </a:lnTo>
                  <a:lnTo>
                    <a:pt x="936" y="493"/>
                  </a:lnTo>
                  <a:lnTo>
                    <a:pt x="922" y="496"/>
                  </a:lnTo>
                  <a:lnTo>
                    <a:pt x="911" y="501"/>
                  </a:lnTo>
                  <a:lnTo>
                    <a:pt x="901" y="503"/>
                  </a:lnTo>
                  <a:lnTo>
                    <a:pt x="887" y="504"/>
                  </a:lnTo>
                  <a:lnTo>
                    <a:pt x="870" y="504"/>
                  </a:lnTo>
                  <a:lnTo>
                    <a:pt x="854" y="502"/>
                  </a:lnTo>
                  <a:lnTo>
                    <a:pt x="839" y="499"/>
                  </a:lnTo>
                  <a:lnTo>
                    <a:pt x="826" y="497"/>
                  </a:lnTo>
                  <a:lnTo>
                    <a:pt x="819" y="494"/>
                  </a:lnTo>
                  <a:lnTo>
                    <a:pt x="812" y="488"/>
                  </a:lnTo>
                  <a:lnTo>
                    <a:pt x="804" y="484"/>
                  </a:lnTo>
                  <a:lnTo>
                    <a:pt x="795" y="481"/>
                  </a:lnTo>
                  <a:lnTo>
                    <a:pt x="786" y="480"/>
                  </a:lnTo>
                  <a:lnTo>
                    <a:pt x="778" y="483"/>
                  </a:lnTo>
                  <a:lnTo>
                    <a:pt x="773" y="488"/>
                  </a:lnTo>
                  <a:lnTo>
                    <a:pt x="765" y="496"/>
                  </a:lnTo>
                  <a:lnTo>
                    <a:pt x="758" y="505"/>
                  </a:lnTo>
                  <a:lnTo>
                    <a:pt x="749" y="513"/>
                  </a:lnTo>
                  <a:lnTo>
                    <a:pt x="741" y="519"/>
                  </a:lnTo>
                  <a:lnTo>
                    <a:pt x="735" y="520"/>
                  </a:lnTo>
                  <a:lnTo>
                    <a:pt x="729" y="520"/>
                  </a:lnTo>
                  <a:lnTo>
                    <a:pt x="726" y="518"/>
                  </a:lnTo>
                  <a:lnTo>
                    <a:pt x="722" y="517"/>
                  </a:lnTo>
                  <a:lnTo>
                    <a:pt x="717" y="517"/>
                  </a:lnTo>
                  <a:lnTo>
                    <a:pt x="712" y="518"/>
                  </a:lnTo>
                  <a:lnTo>
                    <a:pt x="705" y="521"/>
                  </a:lnTo>
                  <a:lnTo>
                    <a:pt x="696" y="528"/>
                  </a:lnTo>
                  <a:lnTo>
                    <a:pt x="688" y="534"/>
                  </a:lnTo>
                  <a:lnTo>
                    <a:pt x="680" y="539"/>
                  </a:lnTo>
                  <a:lnTo>
                    <a:pt x="673" y="542"/>
                  </a:lnTo>
                  <a:lnTo>
                    <a:pt x="667" y="544"/>
                  </a:lnTo>
                  <a:lnTo>
                    <a:pt x="659" y="548"/>
                  </a:lnTo>
                  <a:lnTo>
                    <a:pt x="651" y="553"/>
                  </a:lnTo>
                  <a:lnTo>
                    <a:pt x="642" y="562"/>
                  </a:lnTo>
                  <a:lnTo>
                    <a:pt x="627" y="573"/>
                  </a:lnTo>
                  <a:lnTo>
                    <a:pt x="614" y="578"/>
                  </a:lnTo>
                  <a:lnTo>
                    <a:pt x="603" y="582"/>
                  </a:lnTo>
                  <a:lnTo>
                    <a:pt x="595" y="582"/>
                  </a:lnTo>
                  <a:lnTo>
                    <a:pt x="587" y="582"/>
                  </a:lnTo>
                  <a:lnTo>
                    <a:pt x="585" y="582"/>
                  </a:lnTo>
                  <a:lnTo>
                    <a:pt x="581" y="583"/>
                  </a:lnTo>
                  <a:lnTo>
                    <a:pt x="579" y="583"/>
                  </a:lnTo>
                  <a:lnTo>
                    <a:pt x="576" y="583"/>
                  </a:lnTo>
                  <a:lnTo>
                    <a:pt x="574" y="583"/>
                  </a:lnTo>
                  <a:lnTo>
                    <a:pt x="572" y="583"/>
                  </a:lnTo>
                  <a:lnTo>
                    <a:pt x="569" y="583"/>
                  </a:lnTo>
                  <a:lnTo>
                    <a:pt x="567" y="582"/>
                  </a:lnTo>
                  <a:lnTo>
                    <a:pt x="566" y="582"/>
                  </a:lnTo>
                  <a:lnTo>
                    <a:pt x="565" y="580"/>
                  </a:lnTo>
                  <a:lnTo>
                    <a:pt x="565" y="579"/>
                  </a:lnTo>
                  <a:lnTo>
                    <a:pt x="566" y="577"/>
                  </a:lnTo>
                  <a:lnTo>
                    <a:pt x="568" y="575"/>
                  </a:lnTo>
                  <a:lnTo>
                    <a:pt x="572" y="572"/>
                  </a:lnTo>
                  <a:lnTo>
                    <a:pt x="576" y="568"/>
                  </a:lnTo>
                  <a:lnTo>
                    <a:pt x="592" y="553"/>
                  </a:lnTo>
                  <a:lnTo>
                    <a:pt x="606" y="537"/>
                  </a:lnTo>
                  <a:lnTo>
                    <a:pt x="616" y="520"/>
                  </a:lnTo>
                  <a:lnTo>
                    <a:pt x="625" y="507"/>
                  </a:lnTo>
                  <a:lnTo>
                    <a:pt x="630" y="498"/>
                  </a:lnTo>
                  <a:lnTo>
                    <a:pt x="637" y="488"/>
                  </a:lnTo>
                  <a:lnTo>
                    <a:pt x="646" y="476"/>
                  </a:lnTo>
                  <a:lnTo>
                    <a:pt x="656" y="463"/>
                  </a:lnTo>
                  <a:lnTo>
                    <a:pt x="665" y="451"/>
                  </a:lnTo>
                  <a:lnTo>
                    <a:pt x="672" y="439"/>
                  </a:lnTo>
                  <a:lnTo>
                    <a:pt x="678" y="430"/>
                  </a:lnTo>
                  <a:lnTo>
                    <a:pt x="681" y="425"/>
                  </a:lnTo>
                  <a:lnTo>
                    <a:pt x="680" y="422"/>
                  </a:lnTo>
                  <a:lnTo>
                    <a:pt x="676" y="421"/>
                  </a:lnTo>
                  <a:lnTo>
                    <a:pt x="668" y="421"/>
                  </a:lnTo>
                  <a:lnTo>
                    <a:pt x="659" y="422"/>
                  </a:lnTo>
                  <a:lnTo>
                    <a:pt x="649" y="423"/>
                  </a:lnTo>
                  <a:lnTo>
                    <a:pt x="639" y="423"/>
                  </a:lnTo>
                  <a:lnTo>
                    <a:pt x="631" y="422"/>
                  </a:lnTo>
                  <a:lnTo>
                    <a:pt x="622" y="418"/>
                  </a:lnTo>
                  <a:lnTo>
                    <a:pt x="613" y="415"/>
                  </a:lnTo>
                  <a:lnTo>
                    <a:pt x="608" y="412"/>
                  </a:lnTo>
                  <a:lnTo>
                    <a:pt x="604" y="407"/>
                  </a:lnTo>
                  <a:lnTo>
                    <a:pt x="604" y="402"/>
                  </a:lnTo>
                  <a:lnTo>
                    <a:pt x="609" y="395"/>
                  </a:lnTo>
                  <a:lnTo>
                    <a:pt x="616" y="387"/>
                  </a:lnTo>
                  <a:lnTo>
                    <a:pt x="621" y="379"/>
                  </a:lnTo>
                  <a:lnTo>
                    <a:pt x="626" y="371"/>
                  </a:lnTo>
                  <a:lnTo>
                    <a:pt x="634" y="364"/>
                  </a:lnTo>
                  <a:lnTo>
                    <a:pt x="646" y="356"/>
                  </a:lnTo>
                  <a:lnTo>
                    <a:pt x="657" y="349"/>
                  </a:lnTo>
                  <a:lnTo>
                    <a:pt x="666" y="343"/>
                  </a:lnTo>
                  <a:lnTo>
                    <a:pt x="673" y="336"/>
                  </a:lnTo>
                  <a:lnTo>
                    <a:pt x="682" y="328"/>
                  </a:lnTo>
                  <a:lnTo>
                    <a:pt x="693" y="318"/>
                  </a:lnTo>
                  <a:lnTo>
                    <a:pt x="707" y="306"/>
                  </a:lnTo>
                  <a:lnTo>
                    <a:pt x="726" y="289"/>
                  </a:lnTo>
                  <a:lnTo>
                    <a:pt x="742" y="268"/>
                  </a:lnTo>
                  <a:lnTo>
                    <a:pt x="758" y="248"/>
                  </a:lnTo>
                  <a:lnTo>
                    <a:pt x="771" y="230"/>
                  </a:lnTo>
                  <a:lnTo>
                    <a:pt x="784" y="217"/>
                  </a:lnTo>
                  <a:lnTo>
                    <a:pt x="803" y="204"/>
                  </a:lnTo>
                  <a:lnTo>
                    <a:pt x="821" y="192"/>
                  </a:lnTo>
                  <a:lnTo>
                    <a:pt x="840" y="180"/>
                  </a:lnTo>
                  <a:lnTo>
                    <a:pt x="851" y="170"/>
                  </a:lnTo>
                  <a:lnTo>
                    <a:pt x="857" y="160"/>
                  </a:lnTo>
                  <a:lnTo>
                    <a:pt x="862" y="148"/>
                  </a:lnTo>
                  <a:lnTo>
                    <a:pt x="865" y="134"/>
                  </a:lnTo>
                  <a:lnTo>
                    <a:pt x="866" y="124"/>
                  </a:lnTo>
                  <a:lnTo>
                    <a:pt x="865" y="116"/>
                  </a:lnTo>
                  <a:lnTo>
                    <a:pt x="863" y="110"/>
                  </a:lnTo>
                  <a:lnTo>
                    <a:pt x="861" y="103"/>
                  </a:lnTo>
                  <a:lnTo>
                    <a:pt x="858" y="96"/>
                  </a:lnTo>
                  <a:lnTo>
                    <a:pt x="858" y="87"/>
                  </a:lnTo>
                  <a:lnTo>
                    <a:pt x="862" y="70"/>
                  </a:lnTo>
                  <a:lnTo>
                    <a:pt x="870" y="55"/>
                  </a:lnTo>
                  <a:lnTo>
                    <a:pt x="878" y="40"/>
                  </a:lnTo>
                  <a:lnTo>
                    <a:pt x="882" y="24"/>
                  </a:lnTo>
                  <a:lnTo>
                    <a:pt x="884" y="13"/>
                  </a:lnTo>
                  <a:lnTo>
                    <a:pt x="884" y="8"/>
                  </a:lnTo>
                  <a:lnTo>
                    <a:pt x="882" y="6"/>
                  </a:lnTo>
                  <a:lnTo>
                    <a:pt x="881" y="6"/>
                  </a:lnTo>
                  <a:lnTo>
                    <a:pt x="881" y="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777280" y="2247480"/>
              <a:ext cx="273600" cy="391320"/>
            </a:xfrm>
            <a:custGeom>
              <a:avLst/>
              <a:gdLst/>
              <a:ahLst/>
              <a:rect l="l" t="t" r="r" b="b"/>
              <a:pathLst>
                <a:path w="263" h="378">
                  <a:moveTo>
                    <a:pt x="242" y="0"/>
                  </a:moveTo>
                  <a:lnTo>
                    <a:pt x="240" y="1"/>
                  </a:lnTo>
                  <a:lnTo>
                    <a:pt x="235" y="6"/>
                  </a:lnTo>
                  <a:lnTo>
                    <a:pt x="228" y="12"/>
                  </a:lnTo>
                  <a:lnTo>
                    <a:pt x="219" y="19"/>
                  </a:lnTo>
                  <a:lnTo>
                    <a:pt x="210" y="27"/>
                  </a:lnTo>
                  <a:lnTo>
                    <a:pt x="200" y="35"/>
                  </a:lnTo>
                  <a:lnTo>
                    <a:pt x="191" y="43"/>
                  </a:lnTo>
                  <a:lnTo>
                    <a:pt x="185" y="48"/>
                  </a:lnTo>
                  <a:lnTo>
                    <a:pt x="174" y="57"/>
                  </a:lnTo>
                  <a:lnTo>
                    <a:pt x="165" y="62"/>
                  </a:lnTo>
                  <a:lnTo>
                    <a:pt x="157" y="68"/>
                  </a:lnTo>
                  <a:lnTo>
                    <a:pt x="155" y="73"/>
                  </a:lnTo>
                  <a:lnTo>
                    <a:pt x="153" y="77"/>
                  </a:lnTo>
                  <a:lnTo>
                    <a:pt x="147" y="79"/>
                  </a:lnTo>
                  <a:lnTo>
                    <a:pt x="138" y="81"/>
                  </a:lnTo>
                  <a:lnTo>
                    <a:pt x="127" y="83"/>
                  </a:lnTo>
                  <a:lnTo>
                    <a:pt x="117" y="83"/>
                  </a:lnTo>
                  <a:lnTo>
                    <a:pt x="108" y="84"/>
                  </a:lnTo>
                  <a:lnTo>
                    <a:pt x="101" y="86"/>
                  </a:lnTo>
                  <a:lnTo>
                    <a:pt x="94" y="90"/>
                  </a:lnTo>
                  <a:lnTo>
                    <a:pt x="91" y="96"/>
                  </a:lnTo>
                  <a:lnTo>
                    <a:pt x="90" y="105"/>
                  </a:lnTo>
                  <a:lnTo>
                    <a:pt x="92" y="118"/>
                  </a:lnTo>
                  <a:lnTo>
                    <a:pt x="95" y="134"/>
                  </a:lnTo>
                  <a:lnTo>
                    <a:pt x="96" y="145"/>
                  </a:lnTo>
                  <a:lnTo>
                    <a:pt x="97" y="151"/>
                  </a:lnTo>
                  <a:lnTo>
                    <a:pt x="97" y="153"/>
                  </a:lnTo>
                  <a:lnTo>
                    <a:pt x="95" y="152"/>
                  </a:lnTo>
                  <a:lnTo>
                    <a:pt x="92" y="150"/>
                  </a:lnTo>
                  <a:lnTo>
                    <a:pt x="86" y="149"/>
                  </a:lnTo>
                  <a:lnTo>
                    <a:pt x="81" y="149"/>
                  </a:lnTo>
                  <a:lnTo>
                    <a:pt x="74" y="154"/>
                  </a:lnTo>
                  <a:lnTo>
                    <a:pt x="69" y="164"/>
                  </a:lnTo>
                  <a:lnTo>
                    <a:pt x="67" y="175"/>
                  </a:lnTo>
                  <a:lnTo>
                    <a:pt x="66" y="183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4" y="176"/>
                  </a:lnTo>
                  <a:lnTo>
                    <a:pt x="62" y="167"/>
                  </a:lnTo>
                  <a:lnTo>
                    <a:pt x="58" y="158"/>
                  </a:lnTo>
                  <a:lnTo>
                    <a:pt x="53" y="148"/>
                  </a:lnTo>
                  <a:lnTo>
                    <a:pt x="46" y="142"/>
                  </a:lnTo>
                  <a:lnTo>
                    <a:pt x="37" y="139"/>
                  </a:lnTo>
                  <a:lnTo>
                    <a:pt x="29" y="142"/>
                  </a:lnTo>
                  <a:lnTo>
                    <a:pt x="24" y="149"/>
                  </a:lnTo>
                  <a:lnTo>
                    <a:pt x="18" y="159"/>
                  </a:lnTo>
                  <a:lnTo>
                    <a:pt x="13" y="172"/>
                  </a:lnTo>
                  <a:lnTo>
                    <a:pt x="10" y="182"/>
                  </a:lnTo>
                  <a:lnTo>
                    <a:pt x="7" y="193"/>
                  </a:lnTo>
                  <a:lnTo>
                    <a:pt x="5" y="203"/>
                  </a:lnTo>
                  <a:lnTo>
                    <a:pt x="5" y="212"/>
                  </a:lnTo>
                  <a:lnTo>
                    <a:pt x="6" y="220"/>
                  </a:lnTo>
                  <a:lnTo>
                    <a:pt x="11" y="227"/>
                  </a:lnTo>
                  <a:lnTo>
                    <a:pt x="18" y="230"/>
                  </a:lnTo>
                  <a:lnTo>
                    <a:pt x="30" y="232"/>
                  </a:lnTo>
                  <a:lnTo>
                    <a:pt x="38" y="233"/>
                  </a:lnTo>
                  <a:lnTo>
                    <a:pt x="44" y="233"/>
                  </a:lnTo>
                  <a:lnTo>
                    <a:pt x="46" y="233"/>
                  </a:lnTo>
                  <a:lnTo>
                    <a:pt x="47" y="233"/>
                  </a:lnTo>
                  <a:lnTo>
                    <a:pt x="45" y="233"/>
                  </a:lnTo>
                  <a:lnTo>
                    <a:pt x="38" y="234"/>
                  </a:lnTo>
                  <a:lnTo>
                    <a:pt x="30" y="236"/>
                  </a:lnTo>
                  <a:lnTo>
                    <a:pt x="22" y="240"/>
                  </a:lnTo>
                  <a:lnTo>
                    <a:pt x="14" y="244"/>
                  </a:lnTo>
                  <a:lnTo>
                    <a:pt x="10" y="248"/>
                  </a:lnTo>
                  <a:lnTo>
                    <a:pt x="9" y="254"/>
                  </a:lnTo>
                  <a:lnTo>
                    <a:pt x="14" y="261"/>
                  </a:lnTo>
                  <a:lnTo>
                    <a:pt x="26" y="270"/>
                  </a:lnTo>
                  <a:lnTo>
                    <a:pt x="38" y="278"/>
                  </a:lnTo>
                  <a:lnTo>
                    <a:pt x="49" y="286"/>
                  </a:lnTo>
                  <a:lnTo>
                    <a:pt x="59" y="291"/>
                  </a:lnTo>
                  <a:lnTo>
                    <a:pt x="64" y="296"/>
                  </a:lnTo>
                  <a:lnTo>
                    <a:pt x="68" y="297"/>
                  </a:lnTo>
                  <a:lnTo>
                    <a:pt x="66" y="298"/>
                  </a:lnTo>
                  <a:lnTo>
                    <a:pt x="60" y="302"/>
                  </a:lnTo>
                  <a:lnTo>
                    <a:pt x="52" y="306"/>
                  </a:lnTo>
                  <a:lnTo>
                    <a:pt x="44" y="313"/>
                  </a:lnTo>
                  <a:lnTo>
                    <a:pt x="36" y="319"/>
                  </a:lnTo>
                  <a:lnTo>
                    <a:pt x="29" y="324"/>
                  </a:lnTo>
                  <a:lnTo>
                    <a:pt x="24" y="328"/>
                  </a:lnTo>
                  <a:lnTo>
                    <a:pt x="16" y="334"/>
                  </a:lnTo>
                  <a:lnTo>
                    <a:pt x="9" y="340"/>
                  </a:lnTo>
                  <a:lnTo>
                    <a:pt x="2" y="347"/>
                  </a:lnTo>
                  <a:lnTo>
                    <a:pt x="0" y="354"/>
                  </a:lnTo>
                  <a:lnTo>
                    <a:pt x="2" y="360"/>
                  </a:lnTo>
                  <a:lnTo>
                    <a:pt x="12" y="368"/>
                  </a:lnTo>
                  <a:lnTo>
                    <a:pt x="28" y="374"/>
                  </a:lnTo>
                  <a:lnTo>
                    <a:pt x="43" y="378"/>
                  </a:lnTo>
                  <a:lnTo>
                    <a:pt x="53" y="377"/>
                  </a:lnTo>
                  <a:lnTo>
                    <a:pt x="63" y="372"/>
                  </a:lnTo>
                  <a:lnTo>
                    <a:pt x="73" y="363"/>
                  </a:lnTo>
                  <a:lnTo>
                    <a:pt x="85" y="351"/>
                  </a:lnTo>
                  <a:lnTo>
                    <a:pt x="97" y="338"/>
                  </a:lnTo>
                  <a:lnTo>
                    <a:pt x="109" y="326"/>
                  </a:lnTo>
                  <a:lnTo>
                    <a:pt x="117" y="314"/>
                  </a:lnTo>
                  <a:lnTo>
                    <a:pt x="120" y="306"/>
                  </a:lnTo>
                  <a:lnTo>
                    <a:pt x="120" y="297"/>
                  </a:lnTo>
                  <a:lnTo>
                    <a:pt x="119" y="287"/>
                  </a:lnTo>
                  <a:lnTo>
                    <a:pt x="117" y="278"/>
                  </a:lnTo>
                  <a:lnTo>
                    <a:pt x="116" y="271"/>
                  </a:lnTo>
                  <a:lnTo>
                    <a:pt x="115" y="269"/>
                  </a:lnTo>
                  <a:lnTo>
                    <a:pt x="116" y="271"/>
                  </a:lnTo>
                  <a:lnTo>
                    <a:pt x="121" y="277"/>
                  </a:lnTo>
                  <a:lnTo>
                    <a:pt x="128" y="285"/>
                  </a:lnTo>
                  <a:lnTo>
                    <a:pt x="136" y="292"/>
                  </a:lnTo>
                  <a:lnTo>
                    <a:pt x="144" y="299"/>
                  </a:lnTo>
                  <a:lnTo>
                    <a:pt x="153" y="303"/>
                  </a:lnTo>
                  <a:lnTo>
                    <a:pt x="160" y="302"/>
                  </a:lnTo>
                  <a:lnTo>
                    <a:pt x="168" y="297"/>
                  </a:lnTo>
                  <a:lnTo>
                    <a:pt x="177" y="287"/>
                  </a:lnTo>
                  <a:lnTo>
                    <a:pt x="185" y="275"/>
                  </a:lnTo>
                  <a:lnTo>
                    <a:pt x="191" y="261"/>
                  </a:lnTo>
                  <a:lnTo>
                    <a:pt x="197" y="247"/>
                  </a:lnTo>
                  <a:lnTo>
                    <a:pt x="201" y="234"/>
                  </a:lnTo>
                  <a:lnTo>
                    <a:pt x="201" y="224"/>
                  </a:lnTo>
                  <a:lnTo>
                    <a:pt x="197" y="218"/>
                  </a:lnTo>
                  <a:lnTo>
                    <a:pt x="190" y="212"/>
                  </a:lnTo>
                  <a:lnTo>
                    <a:pt x="183" y="209"/>
                  </a:lnTo>
                  <a:lnTo>
                    <a:pt x="175" y="208"/>
                  </a:lnTo>
                  <a:lnTo>
                    <a:pt x="168" y="208"/>
                  </a:lnTo>
                  <a:lnTo>
                    <a:pt x="167" y="207"/>
                  </a:lnTo>
                  <a:lnTo>
                    <a:pt x="171" y="205"/>
                  </a:lnTo>
                  <a:lnTo>
                    <a:pt x="176" y="201"/>
                  </a:lnTo>
                  <a:lnTo>
                    <a:pt x="184" y="197"/>
                  </a:lnTo>
                  <a:lnTo>
                    <a:pt x="192" y="193"/>
                  </a:lnTo>
                  <a:lnTo>
                    <a:pt x="200" y="188"/>
                  </a:lnTo>
                  <a:lnTo>
                    <a:pt x="208" y="184"/>
                  </a:lnTo>
                  <a:lnTo>
                    <a:pt x="213" y="181"/>
                  </a:lnTo>
                  <a:lnTo>
                    <a:pt x="214" y="180"/>
                  </a:lnTo>
                  <a:lnTo>
                    <a:pt x="213" y="175"/>
                  </a:lnTo>
                  <a:lnTo>
                    <a:pt x="211" y="169"/>
                  </a:lnTo>
                  <a:lnTo>
                    <a:pt x="210" y="159"/>
                  </a:lnTo>
                  <a:lnTo>
                    <a:pt x="211" y="148"/>
                  </a:lnTo>
                  <a:lnTo>
                    <a:pt x="219" y="136"/>
                  </a:lnTo>
                  <a:lnTo>
                    <a:pt x="226" y="128"/>
                  </a:lnTo>
                  <a:lnTo>
                    <a:pt x="235" y="122"/>
                  </a:lnTo>
                  <a:lnTo>
                    <a:pt x="244" y="116"/>
                  </a:lnTo>
                  <a:lnTo>
                    <a:pt x="252" y="111"/>
                  </a:lnTo>
                  <a:lnTo>
                    <a:pt x="257" y="104"/>
                  </a:lnTo>
                  <a:lnTo>
                    <a:pt x="261" y="95"/>
                  </a:lnTo>
                  <a:lnTo>
                    <a:pt x="263" y="84"/>
                  </a:lnTo>
                  <a:lnTo>
                    <a:pt x="261" y="69"/>
                  </a:lnTo>
                  <a:lnTo>
                    <a:pt x="261" y="53"/>
                  </a:lnTo>
                  <a:lnTo>
                    <a:pt x="261" y="38"/>
                  </a:lnTo>
                  <a:lnTo>
                    <a:pt x="261" y="25"/>
                  </a:lnTo>
                  <a:lnTo>
                    <a:pt x="261" y="15"/>
                  </a:lnTo>
                  <a:lnTo>
                    <a:pt x="259" y="10"/>
                  </a:lnTo>
                  <a:lnTo>
                    <a:pt x="255" y="6"/>
                  </a:lnTo>
                  <a:lnTo>
                    <a:pt x="248" y="2"/>
                  </a:lnTo>
                  <a:lnTo>
                    <a:pt x="244" y="1"/>
                  </a:lnTo>
                  <a:lnTo>
                    <a:pt x="242" y="0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5655240" y="2674080"/>
              <a:ext cx="132840" cy="8856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0" y="46"/>
                  </a:moveTo>
                  <a:lnTo>
                    <a:pt x="0" y="42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1"/>
                  </a:lnTo>
                  <a:lnTo>
                    <a:pt x="71" y="7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5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8" y="29"/>
                  </a:lnTo>
                  <a:lnTo>
                    <a:pt x="128" y="37"/>
                  </a:lnTo>
                  <a:lnTo>
                    <a:pt x="124" y="42"/>
                  </a:lnTo>
                  <a:lnTo>
                    <a:pt x="118" y="47"/>
                  </a:lnTo>
                  <a:lnTo>
                    <a:pt x="109" y="50"/>
                  </a:lnTo>
                  <a:lnTo>
                    <a:pt x="104" y="57"/>
                  </a:lnTo>
                  <a:lnTo>
                    <a:pt x="101" y="62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99" y="71"/>
                  </a:lnTo>
                  <a:lnTo>
                    <a:pt x="99" y="75"/>
                  </a:lnTo>
                  <a:lnTo>
                    <a:pt x="97" y="80"/>
                  </a:lnTo>
                  <a:lnTo>
                    <a:pt x="94" y="84"/>
                  </a:lnTo>
                  <a:lnTo>
                    <a:pt x="87" y="85"/>
                  </a:lnTo>
                  <a:lnTo>
                    <a:pt x="78" y="84"/>
                  </a:lnTo>
                  <a:lnTo>
                    <a:pt x="64" y="78"/>
                  </a:lnTo>
                  <a:lnTo>
                    <a:pt x="52" y="75"/>
                  </a:lnTo>
                  <a:lnTo>
                    <a:pt x="40" y="71"/>
                  </a:lnTo>
                  <a:lnTo>
                    <a:pt x="29" y="65"/>
                  </a:lnTo>
                  <a:lnTo>
                    <a:pt x="20" y="60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1" y="47"/>
                  </a:lnTo>
                  <a:lnTo>
                    <a:pt x="0" y="4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5669640" y="2787840"/>
              <a:ext cx="74520" cy="196560"/>
            </a:xfrm>
            <a:custGeom>
              <a:avLst/>
              <a:gdLst/>
              <a:ahLst/>
              <a:rect l="l" t="t" r="r" b="b"/>
              <a:pathLst>
                <a:path w="71" h="192">
                  <a:moveTo>
                    <a:pt x="13" y="8"/>
                  </a:moveTo>
                  <a:lnTo>
                    <a:pt x="13" y="11"/>
                  </a:lnTo>
                  <a:lnTo>
                    <a:pt x="13" y="19"/>
                  </a:lnTo>
                  <a:lnTo>
                    <a:pt x="13" y="30"/>
                  </a:lnTo>
                  <a:lnTo>
                    <a:pt x="12" y="42"/>
                  </a:lnTo>
                  <a:lnTo>
                    <a:pt x="12" y="53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9" y="78"/>
                  </a:lnTo>
                  <a:lnTo>
                    <a:pt x="4" y="86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1" y="123"/>
                  </a:lnTo>
                  <a:lnTo>
                    <a:pt x="3" y="136"/>
                  </a:lnTo>
                  <a:lnTo>
                    <a:pt x="5" y="149"/>
                  </a:lnTo>
                  <a:lnTo>
                    <a:pt x="8" y="162"/>
                  </a:lnTo>
                  <a:lnTo>
                    <a:pt x="10" y="174"/>
                  </a:lnTo>
                  <a:lnTo>
                    <a:pt x="14" y="183"/>
                  </a:lnTo>
                  <a:lnTo>
                    <a:pt x="20" y="189"/>
                  </a:lnTo>
                  <a:lnTo>
                    <a:pt x="26" y="190"/>
                  </a:lnTo>
                  <a:lnTo>
                    <a:pt x="34" y="190"/>
                  </a:lnTo>
                  <a:lnTo>
                    <a:pt x="40" y="192"/>
                  </a:lnTo>
                  <a:lnTo>
                    <a:pt x="48" y="192"/>
                  </a:lnTo>
                  <a:lnTo>
                    <a:pt x="55" y="190"/>
                  </a:lnTo>
                  <a:lnTo>
                    <a:pt x="59" y="188"/>
                  </a:lnTo>
                  <a:lnTo>
                    <a:pt x="62" y="184"/>
                  </a:lnTo>
                  <a:lnTo>
                    <a:pt x="64" y="176"/>
                  </a:lnTo>
                  <a:lnTo>
                    <a:pt x="63" y="165"/>
                  </a:lnTo>
                  <a:lnTo>
                    <a:pt x="61" y="148"/>
                  </a:lnTo>
                  <a:lnTo>
                    <a:pt x="60" y="135"/>
                  </a:lnTo>
                  <a:lnTo>
                    <a:pt x="61" y="123"/>
                  </a:lnTo>
                  <a:lnTo>
                    <a:pt x="63" y="111"/>
                  </a:lnTo>
                  <a:lnTo>
                    <a:pt x="67" y="96"/>
                  </a:lnTo>
                  <a:lnTo>
                    <a:pt x="70" y="78"/>
                  </a:lnTo>
                  <a:lnTo>
                    <a:pt x="71" y="62"/>
                  </a:lnTo>
                  <a:lnTo>
                    <a:pt x="70" y="49"/>
                  </a:lnTo>
                  <a:lnTo>
                    <a:pt x="68" y="36"/>
                  </a:lnTo>
                  <a:lnTo>
                    <a:pt x="63" y="23"/>
                  </a:lnTo>
                  <a:lnTo>
                    <a:pt x="59" y="14"/>
                  </a:lnTo>
                  <a:lnTo>
                    <a:pt x="53" y="7"/>
                  </a:lnTo>
                  <a:lnTo>
                    <a:pt x="44" y="1"/>
                  </a:lnTo>
                  <a:lnTo>
                    <a:pt x="34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3" y="8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5868360" y="2680200"/>
              <a:ext cx="308880" cy="364320"/>
            </a:xfrm>
            <a:custGeom>
              <a:avLst/>
              <a:gdLst/>
              <a:ahLst/>
              <a:rect l="l" t="t" r="r" b="b"/>
              <a:pathLst>
                <a:path w="298" h="352">
                  <a:moveTo>
                    <a:pt x="129" y="0"/>
                  </a:moveTo>
                  <a:lnTo>
                    <a:pt x="127" y="0"/>
                  </a:lnTo>
                  <a:lnTo>
                    <a:pt x="122" y="2"/>
                  </a:lnTo>
                  <a:lnTo>
                    <a:pt x="115" y="6"/>
                  </a:lnTo>
                  <a:lnTo>
                    <a:pt x="109" y="10"/>
                  </a:lnTo>
                  <a:lnTo>
                    <a:pt x="102" y="14"/>
                  </a:lnTo>
                  <a:lnTo>
                    <a:pt x="100" y="20"/>
                  </a:lnTo>
                  <a:lnTo>
                    <a:pt x="101" y="27"/>
                  </a:lnTo>
                  <a:lnTo>
                    <a:pt x="103" y="36"/>
                  </a:lnTo>
                  <a:lnTo>
                    <a:pt x="108" y="45"/>
                  </a:lnTo>
                  <a:lnTo>
                    <a:pt x="112" y="53"/>
                  </a:lnTo>
                  <a:lnTo>
                    <a:pt x="114" y="59"/>
                  </a:lnTo>
                  <a:lnTo>
                    <a:pt x="116" y="61"/>
                  </a:lnTo>
                  <a:lnTo>
                    <a:pt x="114" y="61"/>
                  </a:lnTo>
                  <a:lnTo>
                    <a:pt x="111" y="65"/>
                  </a:lnTo>
                  <a:lnTo>
                    <a:pt x="106" y="69"/>
                  </a:lnTo>
                  <a:lnTo>
                    <a:pt x="105" y="74"/>
                  </a:lnTo>
                  <a:lnTo>
                    <a:pt x="108" y="80"/>
                  </a:lnTo>
                  <a:lnTo>
                    <a:pt x="109" y="85"/>
                  </a:lnTo>
                  <a:lnTo>
                    <a:pt x="105" y="88"/>
                  </a:lnTo>
                  <a:lnTo>
                    <a:pt x="100" y="90"/>
                  </a:lnTo>
                  <a:lnTo>
                    <a:pt x="94" y="91"/>
                  </a:lnTo>
                  <a:lnTo>
                    <a:pt x="89" y="91"/>
                  </a:lnTo>
                  <a:lnTo>
                    <a:pt x="87" y="91"/>
                  </a:lnTo>
                  <a:lnTo>
                    <a:pt x="86" y="90"/>
                  </a:lnTo>
                  <a:lnTo>
                    <a:pt x="81" y="87"/>
                  </a:lnTo>
                  <a:lnTo>
                    <a:pt x="75" y="82"/>
                  </a:lnTo>
                  <a:lnTo>
                    <a:pt x="68" y="76"/>
                  </a:lnTo>
                  <a:lnTo>
                    <a:pt x="63" y="69"/>
                  </a:lnTo>
                  <a:lnTo>
                    <a:pt x="58" y="61"/>
                  </a:lnTo>
                  <a:lnTo>
                    <a:pt x="54" y="56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3" y="67"/>
                  </a:lnTo>
                  <a:lnTo>
                    <a:pt x="35" y="69"/>
                  </a:lnTo>
                  <a:lnTo>
                    <a:pt x="39" y="74"/>
                  </a:lnTo>
                  <a:lnTo>
                    <a:pt x="43" y="81"/>
                  </a:lnTo>
                  <a:lnTo>
                    <a:pt x="47" y="88"/>
                  </a:lnTo>
                  <a:lnTo>
                    <a:pt x="50" y="94"/>
                  </a:lnTo>
                  <a:lnTo>
                    <a:pt x="50" y="100"/>
                  </a:lnTo>
                  <a:lnTo>
                    <a:pt x="46" y="106"/>
                  </a:lnTo>
                  <a:lnTo>
                    <a:pt x="41" y="113"/>
                  </a:lnTo>
                  <a:lnTo>
                    <a:pt x="36" y="117"/>
                  </a:lnTo>
                  <a:lnTo>
                    <a:pt x="34" y="118"/>
                  </a:lnTo>
                  <a:lnTo>
                    <a:pt x="12" y="87"/>
                  </a:lnTo>
                  <a:lnTo>
                    <a:pt x="11" y="89"/>
                  </a:lnTo>
                  <a:lnTo>
                    <a:pt x="8" y="93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6"/>
                  </a:lnTo>
                  <a:lnTo>
                    <a:pt x="7" y="148"/>
                  </a:lnTo>
                  <a:lnTo>
                    <a:pt x="12" y="159"/>
                  </a:lnTo>
                  <a:lnTo>
                    <a:pt x="21" y="169"/>
                  </a:lnTo>
                  <a:lnTo>
                    <a:pt x="31" y="175"/>
                  </a:lnTo>
                  <a:lnTo>
                    <a:pt x="39" y="180"/>
                  </a:lnTo>
                  <a:lnTo>
                    <a:pt x="46" y="182"/>
                  </a:lnTo>
                  <a:lnTo>
                    <a:pt x="52" y="181"/>
                  </a:lnTo>
                  <a:lnTo>
                    <a:pt x="55" y="175"/>
                  </a:lnTo>
                  <a:lnTo>
                    <a:pt x="56" y="169"/>
                  </a:lnTo>
                  <a:lnTo>
                    <a:pt x="57" y="161"/>
                  </a:lnTo>
                  <a:lnTo>
                    <a:pt x="57" y="154"/>
                  </a:lnTo>
                  <a:lnTo>
                    <a:pt x="58" y="149"/>
                  </a:lnTo>
                  <a:lnTo>
                    <a:pt x="62" y="147"/>
                  </a:lnTo>
                  <a:lnTo>
                    <a:pt x="67" y="148"/>
                  </a:lnTo>
                  <a:lnTo>
                    <a:pt x="76" y="154"/>
                  </a:lnTo>
                  <a:lnTo>
                    <a:pt x="81" y="163"/>
                  </a:lnTo>
                  <a:lnTo>
                    <a:pt x="86" y="173"/>
                  </a:lnTo>
                  <a:lnTo>
                    <a:pt x="88" y="180"/>
                  </a:lnTo>
                  <a:lnTo>
                    <a:pt x="89" y="183"/>
                  </a:lnTo>
                  <a:lnTo>
                    <a:pt x="87" y="184"/>
                  </a:lnTo>
                  <a:lnTo>
                    <a:pt x="82" y="188"/>
                  </a:lnTo>
                  <a:lnTo>
                    <a:pt x="77" y="194"/>
                  </a:lnTo>
                  <a:lnTo>
                    <a:pt x="73" y="200"/>
                  </a:lnTo>
                  <a:lnTo>
                    <a:pt x="71" y="208"/>
                  </a:lnTo>
                  <a:lnTo>
                    <a:pt x="74" y="213"/>
                  </a:lnTo>
                  <a:lnTo>
                    <a:pt x="87" y="226"/>
                  </a:lnTo>
                  <a:lnTo>
                    <a:pt x="102" y="239"/>
                  </a:lnTo>
                  <a:lnTo>
                    <a:pt x="116" y="254"/>
                  </a:lnTo>
                  <a:lnTo>
                    <a:pt x="127" y="264"/>
                  </a:lnTo>
                  <a:lnTo>
                    <a:pt x="139" y="269"/>
                  </a:lnTo>
                  <a:lnTo>
                    <a:pt x="151" y="271"/>
                  </a:lnTo>
                  <a:lnTo>
                    <a:pt x="162" y="269"/>
                  </a:lnTo>
                  <a:lnTo>
                    <a:pt x="170" y="268"/>
                  </a:lnTo>
                  <a:lnTo>
                    <a:pt x="177" y="270"/>
                  </a:lnTo>
                  <a:lnTo>
                    <a:pt x="182" y="275"/>
                  </a:lnTo>
                  <a:lnTo>
                    <a:pt x="185" y="279"/>
                  </a:lnTo>
                  <a:lnTo>
                    <a:pt x="188" y="281"/>
                  </a:lnTo>
                  <a:lnTo>
                    <a:pt x="188" y="280"/>
                  </a:lnTo>
                  <a:lnTo>
                    <a:pt x="189" y="277"/>
                  </a:lnTo>
                  <a:lnTo>
                    <a:pt x="191" y="274"/>
                  </a:lnTo>
                  <a:lnTo>
                    <a:pt x="195" y="270"/>
                  </a:lnTo>
                  <a:lnTo>
                    <a:pt x="201" y="268"/>
                  </a:lnTo>
                  <a:lnTo>
                    <a:pt x="209" y="268"/>
                  </a:lnTo>
                  <a:lnTo>
                    <a:pt x="227" y="269"/>
                  </a:lnTo>
                  <a:lnTo>
                    <a:pt x="238" y="270"/>
                  </a:lnTo>
                  <a:lnTo>
                    <a:pt x="242" y="270"/>
                  </a:lnTo>
                  <a:lnTo>
                    <a:pt x="240" y="271"/>
                  </a:lnTo>
                  <a:lnTo>
                    <a:pt x="235" y="275"/>
                  </a:lnTo>
                  <a:lnTo>
                    <a:pt x="228" y="279"/>
                  </a:lnTo>
                  <a:lnTo>
                    <a:pt x="220" y="286"/>
                  </a:lnTo>
                  <a:lnTo>
                    <a:pt x="214" y="292"/>
                  </a:lnTo>
                  <a:lnTo>
                    <a:pt x="208" y="300"/>
                  </a:lnTo>
                  <a:lnTo>
                    <a:pt x="206" y="308"/>
                  </a:lnTo>
                  <a:lnTo>
                    <a:pt x="205" y="314"/>
                  </a:lnTo>
                  <a:lnTo>
                    <a:pt x="204" y="323"/>
                  </a:lnTo>
                  <a:lnTo>
                    <a:pt x="203" y="331"/>
                  </a:lnTo>
                  <a:lnTo>
                    <a:pt x="202" y="339"/>
                  </a:lnTo>
                  <a:lnTo>
                    <a:pt x="201" y="346"/>
                  </a:lnTo>
                  <a:lnTo>
                    <a:pt x="202" y="350"/>
                  </a:lnTo>
                  <a:lnTo>
                    <a:pt x="205" y="352"/>
                  </a:lnTo>
                  <a:lnTo>
                    <a:pt x="210" y="350"/>
                  </a:lnTo>
                  <a:lnTo>
                    <a:pt x="218" y="345"/>
                  </a:lnTo>
                  <a:lnTo>
                    <a:pt x="233" y="329"/>
                  </a:lnTo>
                  <a:lnTo>
                    <a:pt x="248" y="315"/>
                  </a:lnTo>
                  <a:lnTo>
                    <a:pt x="261" y="300"/>
                  </a:lnTo>
                  <a:lnTo>
                    <a:pt x="271" y="287"/>
                  </a:lnTo>
                  <a:lnTo>
                    <a:pt x="277" y="276"/>
                  </a:lnTo>
                  <a:lnTo>
                    <a:pt x="284" y="267"/>
                  </a:lnTo>
                  <a:lnTo>
                    <a:pt x="290" y="258"/>
                  </a:lnTo>
                  <a:lnTo>
                    <a:pt x="296" y="251"/>
                  </a:lnTo>
                  <a:lnTo>
                    <a:pt x="298" y="242"/>
                  </a:lnTo>
                  <a:lnTo>
                    <a:pt x="295" y="234"/>
                  </a:lnTo>
                  <a:lnTo>
                    <a:pt x="286" y="228"/>
                  </a:lnTo>
                  <a:lnTo>
                    <a:pt x="275" y="224"/>
                  </a:lnTo>
                  <a:lnTo>
                    <a:pt x="262" y="222"/>
                  </a:lnTo>
                  <a:lnTo>
                    <a:pt x="248" y="220"/>
                  </a:lnTo>
                  <a:lnTo>
                    <a:pt x="233" y="217"/>
                  </a:lnTo>
                  <a:lnTo>
                    <a:pt x="221" y="213"/>
                  </a:lnTo>
                  <a:lnTo>
                    <a:pt x="213" y="208"/>
                  </a:lnTo>
                  <a:lnTo>
                    <a:pt x="207" y="200"/>
                  </a:lnTo>
                  <a:lnTo>
                    <a:pt x="204" y="197"/>
                  </a:lnTo>
                  <a:lnTo>
                    <a:pt x="201" y="196"/>
                  </a:lnTo>
                  <a:lnTo>
                    <a:pt x="196" y="196"/>
                  </a:lnTo>
                  <a:lnTo>
                    <a:pt x="192" y="197"/>
                  </a:lnTo>
                  <a:lnTo>
                    <a:pt x="188" y="197"/>
                  </a:lnTo>
                  <a:lnTo>
                    <a:pt x="184" y="195"/>
                  </a:lnTo>
                  <a:lnTo>
                    <a:pt x="180" y="189"/>
                  </a:lnTo>
                  <a:lnTo>
                    <a:pt x="178" y="178"/>
                  </a:lnTo>
                  <a:lnTo>
                    <a:pt x="177" y="158"/>
                  </a:lnTo>
                  <a:lnTo>
                    <a:pt x="178" y="137"/>
                  </a:lnTo>
                  <a:lnTo>
                    <a:pt x="180" y="116"/>
                  </a:lnTo>
                  <a:lnTo>
                    <a:pt x="181" y="97"/>
                  </a:lnTo>
                  <a:lnTo>
                    <a:pt x="179" y="80"/>
                  </a:lnTo>
                  <a:lnTo>
                    <a:pt x="174" y="61"/>
                  </a:lnTo>
                  <a:lnTo>
                    <a:pt x="168" y="49"/>
                  </a:lnTo>
                  <a:lnTo>
                    <a:pt x="160" y="38"/>
                  </a:lnTo>
                  <a:lnTo>
                    <a:pt x="151" y="27"/>
                  </a:lnTo>
                  <a:lnTo>
                    <a:pt x="142" y="16"/>
                  </a:lnTo>
                  <a:lnTo>
                    <a:pt x="135" y="8"/>
                  </a:lnTo>
                  <a:lnTo>
                    <a:pt x="132" y="2"/>
                  </a:lnTo>
                  <a:lnTo>
                    <a:pt x="129" y="0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5968080" y="3237120"/>
              <a:ext cx="215280" cy="192240"/>
            </a:xfrm>
            <a:custGeom>
              <a:avLst/>
              <a:gdLst/>
              <a:ahLst/>
              <a:rect l="l" t="t" r="r" b="b"/>
              <a:pathLst>
                <a:path w="208" h="186">
                  <a:moveTo>
                    <a:pt x="14" y="46"/>
                  </a:moveTo>
                  <a:lnTo>
                    <a:pt x="18" y="35"/>
                  </a:lnTo>
                  <a:lnTo>
                    <a:pt x="23" y="26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6" y="15"/>
                  </a:lnTo>
                  <a:lnTo>
                    <a:pt x="43" y="10"/>
                  </a:lnTo>
                  <a:lnTo>
                    <a:pt x="51" y="6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3" y="1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7" y="16"/>
                  </a:lnTo>
                  <a:lnTo>
                    <a:pt x="101" y="25"/>
                  </a:lnTo>
                  <a:lnTo>
                    <a:pt x="106" y="36"/>
                  </a:lnTo>
                  <a:lnTo>
                    <a:pt x="111" y="47"/>
                  </a:lnTo>
                  <a:lnTo>
                    <a:pt x="119" y="56"/>
                  </a:lnTo>
                  <a:lnTo>
                    <a:pt x="129" y="62"/>
                  </a:lnTo>
                  <a:lnTo>
                    <a:pt x="141" y="64"/>
                  </a:lnTo>
                  <a:lnTo>
                    <a:pt x="153" y="65"/>
                  </a:lnTo>
                  <a:lnTo>
                    <a:pt x="165" y="69"/>
                  </a:lnTo>
                  <a:lnTo>
                    <a:pt x="175" y="74"/>
                  </a:lnTo>
                  <a:lnTo>
                    <a:pt x="181" y="79"/>
                  </a:lnTo>
                  <a:lnTo>
                    <a:pt x="189" y="85"/>
                  </a:lnTo>
                  <a:lnTo>
                    <a:pt x="196" y="89"/>
                  </a:lnTo>
                  <a:lnTo>
                    <a:pt x="202" y="95"/>
                  </a:lnTo>
                  <a:lnTo>
                    <a:pt x="207" y="100"/>
                  </a:lnTo>
                  <a:lnTo>
                    <a:pt x="208" y="107"/>
                  </a:lnTo>
                  <a:lnTo>
                    <a:pt x="204" y="114"/>
                  </a:lnTo>
                  <a:lnTo>
                    <a:pt x="198" y="123"/>
                  </a:lnTo>
                  <a:lnTo>
                    <a:pt x="189" y="133"/>
                  </a:lnTo>
                  <a:lnTo>
                    <a:pt x="179" y="143"/>
                  </a:lnTo>
                  <a:lnTo>
                    <a:pt x="168" y="153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2" y="168"/>
                  </a:lnTo>
                  <a:lnTo>
                    <a:pt x="136" y="167"/>
                  </a:lnTo>
                  <a:lnTo>
                    <a:pt x="133" y="165"/>
                  </a:lnTo>
                  <a:lnTo>
                    <a:pt x="131" y="162"/>
                  </a:lnTo>
                  <a:lnTo>
                    <a:pt x="129" y="158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1" y="162"/>
                  </a:lnTo>
                  <a:lnTo>
                    <a:pt x="99" y="167"/>
                  </a:lnTo>
                  <a:lnTo>
                    <a:pt x="84" y="174"/>
                  </a:lnTo>
                  <a:lnTo>
                    <a:pt x="69" y="180"/>
                  </a:lnTo>
                  <a:lnTo>
                    <a:pt x="54" y="185"/>
                  </a:lnTo>
                  <a:lnTo>
                    <a:pt x="43" y="186"/>
                  </a:lnTo>
                  <a:lnTo>
                    <a:pt x="32" y="185"/>
                  </a:lnTo>
                  <a:lnTo>
                    <a:pt x="23" y="185"/>
                  </a:lnTo>
                  <a:lnTo>
                    <a:pt x="13" y="183"/>
                  </a:lnTo>
                  <a:lnTo>
                    <a:pt x="6" y="181"/>
                  </a:lnTo>
                  <a:lnTo>
                    <a:pt x="2" y="177"/>
                  </a:lnTo>
                  <a:lnTo>
                    <a:pt x="1" y="171"/>
                  </a:lnTo>
                  <a:lnTo>
                    <a:pt x="2" y="166"/>
                  </a:lnTo>
                  <a:lnTo>
                    <a:pt x="1" y="160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3" y="151"/>
                  </a:lnTo>
                  <a:lnTo>
                    <a:pt x="8" y="151"/>
                  </a:lnTo>
                  <a:lnTo>
                    <a:pt x="19" y="153"/>
                  </a:lnTo>
                  <a:lnTo>
                    <a:pt x="38" y="156"/>
                  </a:lnTo>
                  <a:lnTo>
                    <a:pt x="52" y="156"/>
                  </a:lnTo>
                  <a:lnTo>
                    <a:pt x="63" y="154"/>
                  </a:lnTo>
                  <a:lnTo>
                    <a:pt x="72" y="150"/>
                  </a:lnTo>
                  <a:lnTo>
                    <a:pt x="77" y="145"/>
                  </a:lnTo>
                  <a:lnTo>
                    <a:pt x="77" y="142"/>
                  </a:lnTo>
                  <a:lnTo>
                    <a:pt x="74" y="140"/>
                  </a:lnTo>
                  <a:lnTo>
                    <a:pt x="68" y="136"/>
                  </a:lnTo>
                  <a:lnTo>
                    <a:pt x="60" y="135"/>
                  </a:lnTo>
                  <a:lnTo>
                    <a:pt x="54" y="134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51" y="131"/>
                  </a:lnTo>
                  <a:lnTo>
                    <a:pt x="51" y="128"/>
                  </a:lnTo>
                  <a:lnTo>
                    <a:pt x="54" y="122"/>
                  </a:lnTo>
                  <a:lnTo>
                    <a:pt x="60" y="114"/>
                  </a:lnTo>
                  <a:lnTo>
                    <a:pt x="68" y="106"/>
                  </a:lnTo>
                  <a:lnTo>
                    <a:pt x="76" y="99"/>
                  </a:lnTo>
                  <a:lnTo>
                    <a:pt x="84" y="95"/>
                  </a:lnTo>
                  <a:lnTo>
                    <a:pt x="89" y="91"/>
                  </a:lnTo>
                  <a:lnTo>
                    <a:pt x="92" y="90"/>
                  </a:lnTo>
                  <a:lnTo>
                    <a:pt x="92" y="89"/>
                  </a:lnTo>
                  <a:lnTo>
                    <a:pt x="94" y="85"/>
                  </a:lnTo>
                  <a:lnTo>
                    <a:pt x="96" y="81"/>
                  </a:lnTo>
                  <a:lnTo>
                    <a:pt x="96" y="75"/>
                  </a:lnTo>
                  <a:lnTo>
                    <a:pt x="93" y="72"/>
                  </a:lnTo>
                  <a:lnTo>
                    <a:pt x="88" y="71"/>
                  </a:lnTo>
                  <a:lnTo>
                    <a:pt x="81" y="71"/>
                  </a:lnTo>
                  <a:lnTo>
                    <a:pt x="73" y="73"/>
                  </a:lnTo>
                  <a:lnTo>
                    <a:pt x="65" y="75"/>
                  </a:lnTo>
                  <a:lnTo>
                    <a:pt x="60" y="77"/>
                  </a:lnTo>
                  <a:lnTo>
                    <a:pt x="58" y="78"/>
                  </a:lnTo>
                  <a:lnTo>
                    <a:pt x="57" y="76"/>
                  </a:lnTo>
                  <a:lnTo>
                    <a:pt x="51" y="72"/>
                  </a:lnTo>
                  <a:lnTo>
                    <a:pt x="46" y="66"/>
                  </a:lnTo>
                  <a:lnTo>
                    <a:pt x="40" y="61"/>
                  </a:lnTo>
                  <a:lnTo>
                    <a:pt x="36" y="56"/>
                  </a:lnTo>
                  <a:lnTo>
                    <a:pt x="30" y="52"/>
                  </a:lnTo>
                  <a:lnTo>
                    <a:pt x="23" y="49"/>
                  </a:lnTo>
                  <a:lnTo>
                    <a:pt x="17" y="47"/>
                  </a:lnTo>
                  <a:lnTo>
                    <a:pt x="14" y="4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5916240" y="3605760"/>
              <a:ext cx="146880" cy="202680"/>
            </a:xfrm>
            <a:custGeom>
              <a:avLst/>
              <a:gdLst/>
              <a:ahLst/>
              <a:rect l="l" t="t" r="r" b="b"/>
              <a:pathLst>
                <a:path w="144" h="196">
                  <a:moveTo>
                    <a:pt x="0" y="133"/>
                  </a:moveTo>
                  <a:lnTo>
                    <a:pt x="0" y="126"/>
                  </a:lnTo>
                  <a:lnTo>
                    <a:pt x="1" y="122"/>
                  </a:lnTo>
                  <a:lnTo>
                    <a:pt x="5" y="115"/>
                  </a:lnTo>
                  <a:lnTo>
                    <a:pt x="9" y="106"/>
                  </a:lnTo>
                  <a:lnTo>
                    <a:pt x="15" y="93"/>
                  </a:lnTo>
                  <a:lnTo>
                    <a:pt x="18" y="80"/>
                  </a:lnTo>
                  <a:lnTo>
                    <a:pt x="19" y="69"/>
                  </a:lnTo>
                  <a:lnTo>
                    <a:pt x="19" y="60"/>
                  </a:lnTo>
                  <a:lnTo>
                    <a:pt x="19" y="53"/>
                  </a:lnTo>
                  <a:lnTo>
                    <a:pt x="22" y="48"/>
                  </a:lnTo>
                  <a:lnTo>
                    <a:pt x="30" y="45"/>
                  </a:lnTo>
                  <a:lnTo>
                    <a:pt x="43" y="43"/>
                  </a:lnTo>
                  <a:lnTo>
                    <a:pt x="52" y="42"/>
                  </a:lnTo>
                  <a:lnTo>
                    <a:pt x="57" y="43"/>
                  </a:lnTo>
                  <a:lnTo>
                    <a:pt x="58" y="46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7" y="37"/>
                  </a:lnTo>
                  <a:lnTo>
                    <a:pt x="78" y="28"/>
                  </a:lnTo>
                  <a:lnTo>
                    <a:pt x="86" y="21"/>
                  </a:lnTo>
                  <a:lnTo>
                    <a:pt x="92" y="15"/>
                  </a:lnTo>
                  <a:lnTo>
                    <a:pt x="99" y="8"/>
                  </a:lnTo>
                  <a:lnTo>
                    <a:pt x="104" y="2"/>
                  </a:lnTo>
                  <a:lnTo>
                    <a:pt x="110" y="0"/>
                  </a:lnTo>
                  <a:lnTo>
                    <a:pt x="113" y="2"/>
                  </a:lnTo>
                  <a:lnTo>
                    <a:pt x="115" y="9"/>
                  </a:lnTo>
                  <a:lnTo>
                    <a:pt x="116" y="20"/>
                  </a:lnTo>
                  <a:lnTo>
                    <a:pt x="115" y="33"/>
                  </a:lnTo>
                  <a:lnTo>
                    <a:pt x="114" y="47"/>
                  </a:lnTo>
                  <a:lnTo>
                    <a:pt x="113" y="60"/>
                  </a:lnTo>
                  <a:lnTo>
                    <a:pt x="114" y="73"/>
                  </a:lnTo>
                  <a:lnTo>
                    <a:pt x="117" y="82"/>
                  </a:lnTo>
                  <a:lnTo>
                    <a:pt x="124" y="91"/>
                  </a:lnTo>
                  <a:lnTo>
                    <a:pt x="132" y="100"/>
                  </a:lnTo>
                  <a:lnTo>
                    <a:pt x="139" y="109"/>
                  </a:lnTo>
                  <a:lnTo>
                    <a:pt x="144" y="117"/>
                  </a:lnTo>
                  <a:lnTo>
                    <a:pt x="144" y="127"/>
                  </a:lnTo>
                  <a:lnTo>
                    <a:pt x="138" y="137"/>
                  </a:lnTo>
                  <a:lnTo>
                    <a:pt x="127" y="146"/>
                  </a:lnTo>
                  <a:lnTo>
                    <a:pt x="113" y="155"/>
                  </a:lnTo>
                  <a:lnTo>
                    <a:pt x="99" y="162"/>
                  </a:lnTo>
                  <a:lnTo>
                    <a:pt x="88" y="169"/>
                  </a:lnTo>
                  <a:lnTo>
                    <a:pt x="80" y="176"/>
                  </a:lnTo>
                  <a:lnTo>
                    <a:pt x="75" y="184"/>
                  </a:lnTo>
                  <a:lnTo>
                    <a:pt x="70" y="191"/>
                  </a:lnTo>
                  <a:lnTo>
                    <a:pt x="67" y="196"/>
                  </a:lnTo>
                  <a:lnTo>
                    <a:pt x="64" y="196"/>
                  </a:lnTo>
                  <a:lnTo>
                    <a:pt x="59" y="192"/>
                  </a:lnTo>
                  <a:lnTo>
                    <a:pt x="56" y="183"/>
                  </a:lnTo>
                  <a:lnTo>
                    <a:pt x="56" y="176"/>
                  </a:lnTo>
                  <a:lnTo>
                    <a:pt x="57" y="170"/>
                  </a:lnTo>
                  <a:lnTo>
                    <a:pt x="60" y="162"/>
                  </a:lnTo>
                  <a:lnTo>
                    <a:pt x="64" y="150"/>
                  </a:lnTo>
                  <a:lnTo>
                    <a:pt x="67" y="137"/>
                  </a:lnTo>
                  <a:lnTo>
                    <a:pt x="68" y="128"/>
                  </a:lnTo>
                  <a:lnTo>
                    <a:pt x="68" y="121"/>
                  </a:lnTo>
                  <a:lnTo>
                    <a:pt x="66" y="115"/>
                  </a:lnTo>
                  <a:lnTo>
                    <a:pt x="63" y="109"/>
                  </a:lnTo>
                  <a:lnTo>
                    <a:pt x="59" y="101"/>
                  </a:lnTo>
                  <a:lnTo>
                    <a:pt x="58" y="95"/>
                  </a:lnTo>
                  <a:lnTo>
                    <a:pt x="59" y="92"/>
                  </a:lnTo>
                  <a:lnTo>
                    <a:pt x="60" y="91"/>
                  </a:lnTo>
                  <a:lnTo>
                    <a:pt x="58" y="92"/>
                  </a:lnTo>
                  <a:lnTo>
                    <a:pt x="53" y="95"/>
                  </a:lnTo>
                  <a:lnTo>
                    <a:pt x="45" y="101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9" y="123"/>
                  </a:lnTo>
                  <a:lnTo>
                    <a:pt x="11" y="131"/>
                  </a:lnTo>
                  <a:lnTo>
                    <a:pt x="6" y="134"/>
                  </a:lnTo>
                  <a:lnTo>
                    <a:pt x="2" y="135"/>
                  </a:lnTo>
                  <a:lnTo>
                    <a:pt x="0" y="134"/>
                  </a:lnTo>
                  <a:lnTo>
                    <a:pt x="0" y="133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042600" y="3500280"/>
              <a:ext cx="111600" cy="18000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7" y="176"/>
                  </a:moveTo>
                  <a:lnTo>
                    <a:pt x="5" y="173"/>
                  </a:lnTo>
                  <a:lnTo>
                    <a:pt x="4" y="166"/>
                  </a:lnTo>
                  <a:lnTo>
                    <a:pt x="2" y="156"/>
                  </a:lnTo>
                  <a:lnTo>
                    <a:pt x="1" y="145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12" y="111"/>
                  </a:lnTo>
                  <a:lnTo>
                    <a:pt x="22" y="106"/>
                  </a:lnTo>
                  <a:lnTo>
                    <a:pt x="32" y="101"/>
                  </a:lnTo>
                  <a:lnTo>
                    <a:pt x="39" y="97"/>
                  </a:lnTo>
                  <a:lnTo>
                    <a:pt x="44" y="91"/>
                  </a:lnTo>
                  <a:lnTo>
                    <a:pt x="43" y="85"/>
                  </a:lnTo>
                  <a:lnTo>
                    <a:pt x="38" y="79"/>
                  </a:lnTo>
                  <a:lnTo>
                    <a:pt x="33" y="75"/>
                  </a:lnTo>
                  <a:lnTo>
                    <a:pt x="28" y="72"/>
                  </a:lnTo>
                  <a:lnTo>
                    <a:pt x="26" y="71"/>
                  </a:lnTo>
                  <a:lnTo>
                    <a:pt x="28" y="69"/>
                  </a:lnTo>
                  <a:lnTo>
                    <a:pt x="33" y="65"/>
                  </a:lnTo>
                  <a:lnTo>
                    <a:pt x="40" y="58"/>
                  </a:lnTo>
                  <a:lnTo>
                    <a:pt x="49" y="51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8" y="26"/>
                  </a:lnTo>
                  <a:lnTo>
                    <a:pt x="76" y="16"/>
                  </a:lnTo>
                  <a:lnTo>
                    <a:pt x="82" y="8"/>
                  </a:lnTo>
                  <a:lnTo>
                    <a:pt x="90" y="2"/>
                  </a:lnTo>
                  <a:lnTo>
                    <a:pt x="96" y="0"/>
                  </a:lnTo>
                  <a:lnTo>
                    <a:pt x="103" y="4"/>
                  </a:lnTo>
                  <a:lnTo>
                    <a:pt x="106" y="13"/>
                  </a:lnTo>
                  <a:lnTo>
                    <a:pt x="105" y="22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5" y="56"/>
                  </a:lnTo>
                  <a:lnTo>
                    <a:pt x="78" y="69"/>
                  </a:lnTo>
                  <a:lnTo>
                    <a:pt x="72" y="81"/>
                  </a:lnTo>
                  <a:lnTo>
                    <a:pt x="67" y="101"/>
                  </a:lnTo>
                  <a:lnTo>
                    <a:pt x="61" y="120"/>
                  </a:lnTo>
                  <a:lnTo>
                    <a:pt x="56" y="138"/>
                  </a:lnTo>
                  <a:lnTo>
                    <a:pt x="50" y="154"/>
                  </a:lnTo>
                  <a:lnTo>
                    <a:pt x="44" y="164"/>
                  </a:lnTo>
                  <a:lnTo>
                    <a:pt x="36" y="169"/>
                  </a:lnTo>
                  <a:lnTo>
                    <a:pt x="26" y="173"/>
                  </a:lnTo>
                  <a:lnTo>
                    <a:pt x="16" y="175"/>
                  </a:lnTo>
                  <a:lnTo>
                    <a:pt x="9" y="176"/>
                  </a:lnTo>
                  <a:lnTo>
                    <a:pt x="7" y="17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249960" y="3736440"/>
              <a:ext cx="97200" cy="156960"/>
            </a:xfrm>
            <a:custGeom>
              <a:avLst/>
              <a:gdLst/>
              <a:ahLst/>
              <a:rect l="l" t="t" r="r" b="b"/>
              <a:pathLst>
                <a:path w="94" h="152">
                  <a:moveTo>
                    <a:pt x="0" y="43"/>
                  </a:moveTo>
                  <a:lnTo>
                    <a:pt x="0" y="38"/>
                  </a:lnTo>
                  <a:lnTo>
                    <a:pt x="1" y="32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2" y="7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45" y="6"/>
                  </a:lnTo>
                  <a:lnTo>
                    <a:pt x="59" y="14"/>
                  </a:lnTo>
                  <a:lnTo>
                    <a:pt x="70" y="26"/>
                  </a:lnTo>
                  <a:lnTo>
                    <a:pt x="75" y="38"/>
                  </a:lnTo>
                  <a:lnTo>
                    <a:pt x="78" y="56"/>
                  </a:lnTo>
                  <a:lnTo>
                    <a:pt x="85" y="75"/>
                  </a:lnTo>
                  <a:lnTo>
                    <a:pt x="91" y="89"/>
                  </a:lnTo>
                  <a:lnTo>
                    <a:pt x="92" y="96"/>
                  </a:lnTo>
                  <a:lnTo>
                    <a:pt x="90" y="104"/>
                  </a:lnTo>
                  <a:lnTo>
                    <a:pt x="88" y="113"/>
                  </a:lnTo>
                  <a:lnTo>
                    <a:pt x="86" y="124"/>
                  </a:lnTo>
                  <a:lnTo>
                    <a:pt x="87" y="130"/>
                  </a:lnTo>
                  <a:lnTo>
                    <a:pt x="89" y="136"/>
                  </a:lnTo>
                  <a:lnTo>
                    <a:pt x="92" y="141"/>
                  </a:lnTo>
                  <a:lnTo>
                    <a:pt x="93" y="146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5" y="152"/>
                  </a:lnTo>
                  <a:lnTo>
                    <a:pt x="72" y="152"/>
                  </a:lnTo>
                  <a:lnTo>
                    <a:pt x="57" y="152"/>
                  </a:lnTo>
                  <a:lnTo>
                    <a:pt x="43" y="152"/>
                  </a:lnTo>
                  <a:lnTo>
                    <a:pt x="32" y="150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1" y="136"/>
                  </a:lnTo>
                  <a:lnTo>
                    <a:pt x="9" y="124"/>
                  </a:lnTo>
                  <a:lnTo>
                    <a:pt x="9" y="110"/>
                  </a:lnTo>
                  <a:lnTo>
                    <a:pt x="8" y="94"/>
                  </a:lnTo>
                  <a:lnTo>
                    <a:pt x="6" y="79"/>
                  </a:lnTo>
                  <a:lnTo>
                    <a:pt x="4" y="65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43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6430320" y="4421520"/>
              <a:ext cx="153000" cy="186120"/>
            </a:xfrm>
            <a:custGeom>
              <a:avLst/>
              <a:gdLst/>
              <a:ahLst/>
              <a:rect l="l" t="t" r="r" b="b"/>
              <a:pathLst>
                <a:path w="149" h="180">
                  <a:moveTo>
                    <a:pt x="0" y="180"/>
                  </a:moveTo>
                  <a:lnTo>
                    <a:pt x="1" y="178"/>
                  </a:lnTo>
                  <a:lnTo>
                    <a:pt x="3" y="172"/>
                  </a:lnTo>
                  <a:lnTo>
                    <a:pt x="8" y="164"/>
                  </a:lnTo>
                  <a:lnTo>
                    <a:pt x="11" y="153"/>
                  </a:lnTo>
                  <a:lnTo>
                    <a:pt x="16" y="139"/>
                  </a:lnTo>
                  <a:lnTo>
                    <a:pt x="19" y="125"/>
                  </a:lnTo>
                  <a:lnTo>
                    <a:pt x="20" y="116"/>
                  </a:lnTo>
                  <a:lnTo>
                    <a:pt x="21" y="110"/>
                  </a:lnTo>
                  <a:lnTo>
                    <a:pt x="22" y="106"/>
                  </a:lnTo>
                  <a:lnTo>
                    <a:pt x="23" y="102"/>
                  </a:lnTo>
                  <a:lnTo>
                    <a:pt x="26" y="99"/>
                  </a:lnTo>
                  <a:lnTo>
                    <a:pt x="30" y="95"/>
                  </a:lnTo>
                  <a:lnTo>
                    <a:pt x="35" y="88"/>
                  </a:lnTo>
                  <a:lnTo>
                    <a:pt x="43" y="78"/>
                  </a:lnTo>
                  <a:lnTo>
                    <a:pt x="53" y="63"/>
                  </a:lnTo>
                  <a:lnTo>
                    <a:pt x="59" y="49"/>
                  </a:lnTo>
                  <a:lnTo>
                    <a:pt x="65" y="37"/>
                  </a:lnTo>
                  <a:lnTo>
                    <a:pt x="70" y="26"/>
                  </a:lnTo>
                  <a:lnTo>
                    <a:pt x="78" y="18"/>
                  </a:lnTo>
                  <a:lnTo>
                    <a:pt x="89" y="14"/>
                  </a:lnTo>
                  <a:lnTo>
                    <a:pt x="102" y="9"/>
                  </a:lnTo>
                  <a:lnTo>
                    <a:pt x="112" y="6"/>
                  </a:lnTo>
                  <a:lnTo>
                    <a:pt x="120" y="3"/>
                  </a:lnTo>
                  <a:lnTo>
                    <a:pt x="126" y="0"/>
                  </a:lnTo>
                  <a:lnTo>
                    <a:pt x="129" y="2"/>
                  </a:lnTo>
                  <a:lnTo>
                    <a:pt x="129" y="5"/>
                  </a:lnTo>
                  <a:lnTo>
                    <a:pt x="128" y="14"/>
                  </a:lnTo>
                  <a:lnTo>
                    <a:pt x="126" y="25"/>
                  </a:lnTo>
                  <a:lnTo>
                    <a:pt x="126" y="35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9" y="54"/>
                  </a:lnTo>
                  <a:lnTo>
                    <a:pt x="144" y="55"/>
                  </a:lnTo>
                  <a:lnTo>
                    <a:pt x="147" y="57"/>
                  </a:lnTo>
                  <a:lnTo>
                    <a:pt x="149" y="61"/>
                  </a:lnTo>
                  <a:lnTo>
                    <a:pt x="149" y="64"/>
                  </a:lnTo>
                  <a:lnTo>
                    <a:pt x="146" y="72"/>
                  </a:lnTo>
                  <a:lnTo>
                    <a:pt x="140" y="81"/>
                  </a:lnTo>
                  <a:lnTo>
                    <a:pt x="132" y="95"/>
                  </a:lnTo>
                  <a:lnTo>
                    <a:pt x="125" y="107"/>
                  </a:lnTo>
                  <a:lnTo>
                    <a:pt x="120" y="116"/>
                  </a:lnTo>
                  <a:lnTo>
                    <a:pt x="113" y="125"/>
                  </a:lnTo>
                  <a:lnTo>
                    <a:pt x="103" y="135"/>
                  </a:lnTo>
                  <a:lnTo>
                    <a:pt x="90" y="147"/>
                  </a:lnTo>
                  <a:lnTo>
                    <a:pt x="72" y="160"/>
                  </a:lnTo>
                  <a:lnTo>
                    <a:pt x="57" y="169"/>
                  </a:lnTo>
                  <a:lnTo>
                    <a:pt x="45" y="174"/>
                  </a:lnTo>
                  <a:lnTo>
                    <a:pt x="35" y="177"/>
                  </a:lnTo>
                  <a:lnTo>
                    <a:pt x="26" y="179"/>
                  </a:lnTo>
                  <a:lnTo>
                    <a:pt x="18" y="180"/>
                  </a:lnTo>
                  <a:lnTo>
                    <a:pt x="9" y="180"/>
                  </a:lnTo>
                  <a:lnTo>
                    <a:pt x="2" y="180"/>
                  </a:lnTo>
                  <a:lnTo>
                    <a:pt x="0" y="180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6469200" y="4945680"/>
              <a:ext cx="199080" cy="15948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30" y="13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18" y="23"/>
                  </a:lnTo>
                  <a:lnTo>
                    <a:pt x="11" y="30"/>
                  </a:lnTo>
                  <a:lnTo>
                    <a:pt x="5" y="38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5" y="71"/>
                  </a:lnTo>
                  <a:lnTo>
                    <a:pt x="16" y="86"/>
                  </a:lnTo>
                  <a:lnTo>
                    <a:pt x="25" y="100"/>
                  </a:lnTo>
                  <a:lnTo>
                    <a:pt x="34" y="111"/>
                  </a:lnTo>
                  <a:lnTo>
                    <a:pt x="45" y="119"/>
                  </a:lnTo>
                  <a:lnTo>
                    <a:pt x="57" y="126"/>
                  </a:lnTo>
                  <a:lnTo>
                    <a:pt x="64" y="131"/>
                  </a:lnTo>
                  <a:lnTo>
                    <a:pt x="67" y="137"/>
                  </a:lnTo>
                  <a:lnTo>
                    <a:pt x="68" y="142"/>
                  </a:lnTo>
                  <a:lnTo>
                    <a:pt x="68" y="148"/>
                  </a:lnTo>
                  <a:lnTo>
                    <a:pt x="68" y="152"/>
                  </a:lnTo>
                  <a:lnTo>
                    <a:pt x="69" y="155"/>
                  </a:lnTo>
                  <a:lnTo>
                    <a:pt x="74" y="155"/>
                  </a:lnTo>
                  <a:lnTo>
                    <a:pt x="80" y="153"/>
                  </a:lnTo>
                  <a:lnTo>
                    <a:pt x="100" y="143"/>
                  </a:lnTo>
                  <a:lnTo>
                    <a:pt x="120" y="129"/>
                  </a:lnTo>
                  <a:lnTo>
                    <a:pt x="140" y="114"/>
                  </a:lnTo>
                  <a:lnTo>
                    <a:pt x="155" y="97"/>
                  </a:lnTo>
                  <a:lnTo>
                    <a:pt x="163" y="90"/>
                  </a:lnTo>
                  <a:lnTo>
                    <a:pt x="171" y="84"/>
                  </a:lnTo>
                  <a:lnTo>
                    <a:pt x="180" y="79"/>
                  </a:lnTo>
                  <a:lnTo>
                    <a:pt x="187" y="74"/>
                  </a:lnTo>
                  <a:lnTo>
                    <a:pt x="192" y="70"/>
                  </a:lnTo>
                  <a:lnTo>
                    <a:pt x="193" y="67"/>
                  </a:lnTo>
                  <a:lnTo>
                    <a:pt x="190" y="62"/>
                  </a:lnTo>
                  <a:lnTo>
                    <a:pt x="182" y="58"/>
                  </a:lnTo>
                  <a:lnTo>
                    <a:pt x="169" y="53"/>
                  </a:lnTo>
                  <a:lnTo>
                    <a:pt x="155" y="49"/>
                  </a:lnTo>
                  <a:lnTo>
                    <a:pt x="143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7" y="33"/>
                  </a:lnTo>
                  <a:lnTo>
                    <a:pt x="114" y="24"/>
                  </a:lnTo>
                  <a:lnTo>
                    <a:pt x="111" y="14"/>
                  </a:lnTo>
                  <a:lnTo>
                    <a:pt x="104" y="7"/>
                  </a:lnTo>
                  <a:lnTo>
                    <a:pt x="95" y="2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7"/>
                  </a:lnTo>
                  <a:lnTo>
                    <a:pt x="40" y="10"/>
                  </a:lnTo>
                  <a:lnTo>
                    <a:pt x="33" y="12"/>
                  </a:lnTo>
                  <a:lnTo>
                    <a:pt x="30" y="13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7519680" y="6337080"/>
              <a:ext cx="165600" cy="105480"/>
            </a:xfrm>
            <a:custGeom>
              <a:avLst/>
              <a:gdLst/>
              <a:ahLst/>
              <a:rect l="l" t="t" r="r" b="b"/>
              <a:pathLst>
                <a:path w="160" h="103">
                  <a:moveTo>
                    <a:pt x="0" y="64"/>
                  </a:moveTo>
                  <a:lnTo>
                    <a:pt x="1" y="60"/>
                  </a:lnTo>
                  <a:lnTo>
                    <a:pt x="2" y="54"/>
                  </a:lnTo>
                  <a:lnTo>
                    <a:pt x="7" y="45"/>
                  </a:lnTo>
                  <a:lnTo>
                    <a:pt x="13" y="35"/>
                  </a:lnTo>
                  <a:lnTo>
                    <a:pt x="23" y="26"/>
                  </a:lnTo>
                  <a:lnTo>
                    <a:pt x="37" y="19"/>
                  </a:lnTo>
                  <a:lnTo>
                    <a:pt x="51" y="13"/>
                  </a:lnTo>
                  <a:lnTo>
                    <a:pt x="64" y="8"/>
                  </a:lnTo>
                  <a:lnTo>
                    <a:pt x="75" y="3"/>
                  </a:lnTo>
                  <a:lnTo>
                    <a:pt x="87" y="0"/>
                  </a:lnTo>
                  <a:lnTo>
                    <a:pt x="98" y="1"/>
                  </a:lnTo>
                  <a:lnTo>
                    <a:pt x="109" y="6"/>
                  </a:lnTo>
                  <a:lnTo>
                    <a:pt x="121" y="14"/>
                  </a:lnTo>
                  <a:lnTo>
                    <a:pt x="131" y="23"/>
                  </a:lnTo>
                  <a:lnTo>
                    <a:pt x="139" y="27"/>
                  </a:lnTo>
                  <a:lnTo>
                    <a:pt x="147" y="31"/>
                  </a:lnTo>
                  <a:lnTo>
                    <a:pt x="154" y="33"/>
                  </a:lnTo>
                  <a:lnTo>
                    <a:pt x="158" y="34"/>
                  </a:lnTo>
                  <a:lnTo>
                    <a:pt x="160" y="36"/>
                  </a:lnTo>
                  <a:lnTo>
                    <a:pt x="160" y="39"/>
                  </a:lnTo>
                  <a:lnTo>
                    <a:pt x="157" y="46"/>
                  </a:lnTo>
                  <a:lnTo>
                    <a:pt x="150" y="56"/>
                  </a:lnTo>
                  <a:lnTo>
                    <a:pt x="144" y="66"/>
                  </a:lnTo>
                  <a:lnTo>
                    <a:pt x="140" y="76"/>
                  </a:lnTo>
                  <a:lnTo>
                    <a:pt x="138" y="83"/>
                  </a:lnTo>
                  <a:lnTo>
                    <a:pt x="138" y="91"/>
                  </a:lnTo>
                  <a:lnTo>
                    <a:pt x="137" y="96"/>
                  </a:lnTo>
                  <a:lnTo>
                    <a:pt x="136" y="101"/>
                  </a:lnTo>
                  <a:lnTo>
                    <a:pt x="133" y="103"/>
                  </a:lnTo>
                  <a:lnTo>
                    <a:pt x="127" y="103"/>
                  </a:lnTo>
                  <a:lnTo>
                    <a:pt x="118" y="101"/>
                  </a:lnTo>
                  <a:lnTo>
                    <a:pt x="106" y="96"/>
                  </a:lnTo>
                  <a:lnTo>
                    <a:pt x="85" y="89"/>
                  </a:lnTo>
                  <a:lnTo>
                    <a:pt x="64" y="81"/>
                  </a:lnTo>
                  <a:lnTo>
                    <a:pt x="44" y="75"/>
                  </a:lnTo>
                  <a:lnTo>
                    <a:pt x="27" y="70"/>
                  </a:lnTo>
                  <a:lnTo>
                    <a:pt x="12" y="66"/>
                  </a:lnTo>
                  <a:lnTo>
                    <a:pt x="4" y="64"/>
                  </a:lnTo>
                  <a:lnTo>
                    <a:pt x="0" y="64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4572000" y="3891960"/>
              <a:ext cx="1462320" cy="2043360"/>
            </a:xfrm>
            <a:custGeom>
              <a:avLst/>
              <a:gdLst/>
              <a:ahLst/>
              <a:rect l="l" t="t" r="r" b="b"/>
              <a:pathLst>
                <a:path w="1412" h="1975">
                  <a:moveTo>
                    <a:pt x="1074" y="159"/>
                  </a:moveTo>
                  <a:lnTo>
                    <a:pt x="1075" y="157"/>
                  </a:lnTo>
                  <a:lnTo>
                    <a:pt x="1077" y="151"/>
                  </a:lnTo>
                  <a:lnTo>
                    <a:pt x="1083" y="142"/>
                  </a:lnTo>
                  <a:lnTo>
                    <a:pt x="1091" y="134"/>
                  </a:lnTo>
                  <a:lnTo>
                    <a:pt x="1101" y="125"/>
                  </a:lnTo>
                  <a:lnTo>
                    <a:pt x="1111" y="118"/>
                  </a:lnTo>
                  <a:lnTo>
                    <a:pt x="1123" y="112"/>
                  </a:lnTo>
                  <a:lnTo>
                    <a:pt x="1137" y="103"/>
                  </a:lnTo>
                  <a:lnTo>
                    <a:pt x="1150" y="97"/>
                  </a:lnTo>
                  <a:lnTo>
                    <a:pt x="1158" y="91"/>
                  </a:lnTo>
                  <a:lnTo>
                    <a:pt x="1164" y="88"/>
                  </a:lnTo>
                  <a:lnTo>
                    <a:pt x="1168" y="84"/>
                  </a:lnTo>
                  <a:lnTo>
                    <a:pt x="1169" y="81"/>
                  </a:lnTo>
                  <a:lnTo>
                    <a:pt x="1166" y="78"/>
                  </a:lnTo>
                  <a:lnTo>
                    <a:pt x="1158" y="75"/>
                  </a:lnTo>
                  <a:lnTo>
                    <a:pt x="1146" y="70"/>
                  </a:lnTo>
                  <a:lnTo>
                    <a:pt x="1134" y="65"/>
                  </a:lnTo>
                  <a:lnTo>
                    <a:pt x="1122" y="58"/>
                  </a:lnTo>
                  <a:lnTo>
                    <a:pt x="1114" y="51"/>
                  </a:lnTo>
                  <a:lnTo>
                    <a:pt x="1101" y="34"/>
                  </a:lnTo>
                  <a:lnTo>
                    <a:pt x="1087" y="23"/>
                  </a:lnTo>
                  <a:lnTo>
                    <a:pt x="1071" y="13"/>
                  </a:lnTo>
                  <a:lnTo>
                    <a:pt x="1058" y="6"/>
                  </a:lnTo>
                  <a:lnTo>
                    <a:pt x="1047" y="2"/>
                  </a:lnTo>
                  <a:lnTo>
                    <a:pt x="1039" y="0"/>
                  </a:lnTo>
                  <a:lnTo>
                    <a:pt x="1037" y="0"/>
                  </a:lnTo>
                  <a:lnTo>
                    <a:pt x="1038" y="2"/>
                  </a:lnTo>
                  <a:lnTo>
                    <a:pt x="1040" y="8"/>
                  </a:lnTo>
                  <a:lnTo>
                    <a:pt x="1044" y="16"/>
                  </a:lnTo>
                  <a:lnTo>
                    <a:pt x="1050" y="23"/>
                  </a:lnTo>
                  <a:lnTo>
                    <a:pt x="1054" y="31"/>
                  </a:lnTo>
                  <a:lnTo>
                    <a:pt x="1060" y="36"/>
                  </a:lnTo>
                  <a:lnTo>
                    <a:pt x="1064" y="42"/>
                  </a:lnTo>
                  <a:lnTo>
                    <a:pt x="1066" y="48"/>
                  </a:lnTo>
                  <a:lnTo>
                    <a:pt x="1066" y="54"/>
                  </a:lnTo>
                  <a:lnTo>
                    <a:pt x="1066" y="56"/>
                  </a:lnTo>
                  <a:lnTo>
                    <a:pt x="1065" y="55"/>
                  </a:lnTo>
                  <a:lnTo>
                    <a:pt x="1062" y="52"/>
                  </a:lnTo>
                  <a:lnTo>
                    <a:pt x="1056" y="48"/>
                  </a:lnTo>
                  <a:lnTo>
                    <a:pt x="1049" y="45"/>
                  </a:lnTo>
                  <a:lnTo>
                    <a:pt x="1039" y="44"/>
                  </a:lnTo>
                  <a:lnTo>
                    <a:pt x="1026" y="46"/>
                  </a:lnTo>
                  <a:lnTo>
                    <a:pt x="1010" y="49"/>
                  </a:lnTo>
                  <a:lnTo>
                    <a:pt x="1000" y="53"/>
                  </a:lnTo>
                  <a:lnTo>
                    <a:pt x="991" y="56"/>
                  </a:lnTo>
                  <a:lnTo>
                    <a:pt x="986" y="63"/>
                  </a:lnTo>
                  <a:lnTo>
                    <a:pt x="984" y="72"/>
                  </a:lnTo>
                  <a:lnTo>
                    <a:pt x="986" y="84"/>
                  </a:lnTo>
                  <a:lnTo>
                    <a:pt x="991" y="94"/>
                  </a:lnTo>
                  <a:lnTo>
                    <a:pt x="997" y="104"/>
                  </a:lnTo>
                  <a:lnTo>
                    <a:pt x="1004" y="115"/>
                  </a:lnTo>
                  <a:lnTo>
                    <a:pt x="1008" y="126"/>
                  </a:lnTo>
                  <a:lnTo>
                    <a:pt x="1009" y="137"/>
                  </a:lnTo>
                  <a:lnTo>
                    <a:pt x="1006" y="147"/>
                  </a:lnTo>
                  <a:lnTo>
                    <a:pt x="1002" y="156"/>
                  </a:lnTo>
                  <a:lnTo>
                    <a:pt x="997" y="163"/>
                  </a:lnTo>
                  <a:lnTo>
                    <a:pt x="993" y="169"/>
                  </a:lnTo>
                  <a:lnTo>
                    <a:pt x="992" y="171"/>
                  </a:lnTo>
                  <a:lnTo>
                    <a:pt x="992" y="168"/>
                  </a:lnTo>
                  <a:lnTo>
                    <a:pt x="993" y="160"/>
                  </a:lnTo>
                  <a:lnTo>
                    <a:pt x="993" y="148"/>
                  </a:lnTo>
                  <a:lnTo>
                    <a:pt x="992" y="136"/>
                  </a:lnTo>
                  <a:lnTo>
                    <a:pt x="989" y="125"/>
                  </a:lnTo>
                  <a:lnTo>
                    <a:pt x="984" y="116"/>
                  </a:lnTo>
                  <a:lnTo>
                    <a:pt x="977" y="107"/>
                  </a:lnTo>
                  <a:lnTo>
                    <a:pt x="969" y="99"/>
                  </a:lnTo>
                  <a:lnTo>
                    <a:pt x="962" y="90"/>
                  </a:lnTo>
                  <a:lnTo>
                    <a:pt x="959" y="81"/>
                  </a:lnTo>
                  <a:lnTo>
                    <a:pt x="959" y="72"/>
                  </a:lnTo>
                  <a:lnTo>
                    <a:pt x="960" y="66"/>
                  </a:lnTo>
                  <a:lnTo>
                    <a:pt x="958" y="61"/>
                  </a:lnTo>
                  <a:lnTo>
                    <a:pt x="954" y="58"/>
                  </a:lnTo>
                  <a:lnTo>
                    <a:pt x="948" y="56"/>
                  </a:lnTo>
                  <a:lnTo>
                    <a:pt x="943" y="55"/>
                  </a:lnTo>
                  <a:lnTo>
                    <a:pt x="938" y="55"/>
                  </a:lnTo>
                  <a:lnTo>
                    <a:pt x="937" y="55"/>
                  </a:lnTo>
                  <a:lnTo>
                    <a:pt x="893" y="78"/>
                  </a:lnTo>
                  <a:lnTo>
                    <a:pt x="891" y="117"/>
                  </a:lnTo>
                  <a:lnTo>
                    <a:pt x="890" y="115"/>
                  </a:lnTo>
                  <a:lnTo>
                    <a:pt x="887" y="110"/>
                  </a:lnTo>
                  <a:lnTo>
                    <a:pt x="881" y="102"/>
                  </a:lnTo>
                  <a:lnTo>
                    <a:pt x="876" y="93"/>
                  </a:lnTo>
                  <a:lnTo>
                    <a:pt x="869" y="86"/>
                  </a:lnTo>
                  <a:lnTo>
                    <a:pt x="864" y="78"/>
                  </a:lnTo>
                  <a:lnTo>
                    <a:pt x="859" y="74"/>
                  </a:lnTo>
                  <a:lnTo>
                    <a:pt x="857" y="72"/>
                  </a:lnTo>
                  <a:lnTo>
                    <a:pt x="855" y="76"/>
                  </a:lnTo>
                  <a:lnTo>
                    <a:pt x="851" y="83"/>
                  </a:lnTo>
                  <a:lnTo>
                    <a:pt x="846" y="92"/>
                  </a:lnTo>
                  <a:lnTo>
                    <a:pt x="840" y="101"/>
                  </a:lnTo>
                  <a:lnTo>
                    <a:pt x="832" y="109"/>
                  </a:lnTo>
                  <a:lnTo>
                    <a:pt x="823" y="112"/>
                  </a:lnTo>
                  <a:lnTo>
                    <a:pt x="813" y="111"/>
                  </a:lnTo>
                  <a:lnTo>
                    <a:pt x="801" y="110"/>
                  </a:lnTo>
                  <a:lnTo>
                    <a:pt x="788" y="107"/>
                  </a:lnTo>
                  <a:lnTo>
                    <a:pt x="777" y="105"/>
                  </a:lnTo>
                  <a:lnTo>
                    <a:pt x="770" y="104"/>
                  </a:lnTo>
                  <a:lnTo>
                    <a:pt x="766" y="103"/>
                  </a:lnTo>
                  <a:lnTo>
                    <a:pt x="766" y="106"/>
                  </a:lnTo>
                  <a:lnTo>
                    <a:pt x="765" y="114"/>
                  </a:lnTo>
                  <a:lnTo>
                    <a:pt x="765" y="125"/>
                  </a:lnTo>
                  <a:lnTo>
                    <a:pt x="764" y="137"/>
                  </a:lnTo>
                  <a:lnTo>
                    <a:pt x="762" y="149"/>
                  </a:lnTo>
                  <a:lnTo>
                    <a:pt x="760" y="159"/>
                  </a:lnTo>
                  <a:lnTo>
                    <a:pt x="757" y="165"/>
                  </a:lnTo>
                  <a:lnTo>
                    <a:pt x="752" y="168"/>
                  </a:lnTo>
                  <a:lnTo>
                    <a:pt x="746" y="167"/>
                  </a:lnTo>
                  <a:lnTo>
                    <a:pt x="738" y="165"/>
                  </a:lnTo>
                  <a:lnTo>
                    <a:pt x="731" y="162"/>
                  </a:lnTo>
                  <a:lnTo>
                    <a:pt x="726" y="160"/>
                  </a:lnTo>
                  <a:lnTo>
                    <a:pt x="725" y="160"/>
                  </a:lnTo>
                  <a:lnTo>
                    <a:pt x="723" y="161"/>
                  </a:lnTo>
                  <a:lnTo>
                    <a:pt x="719" y="167"/>
                  </a:lnTo>
                  <a:lnTo>
                    <a:pt x="716" y="178"/>
                  </a:lnTo>
                  <a:lnTo>
                    <a:pt x="714" y="192"/>
                  </a:lnTo>
                  <a:lnTo>
                    <a:pt x="716" y="204"/>
                  </a:lnTo>
                  <a:lnTo>
                    <a:pt x="721" y="215"/>
                  </a:lnTo>
                  <a:lnTo>
                    <a:pt x="728" y="225"/>
                  </a:lnTo>
                  <a:lnTo>
                    <a:pt x="736" y="232"/>
                  </a:lnTo>
                  <a:lnTo>
                    <a:pt x="742" y="239"/>
                  </a:lnTo>
                  <a:lnTo>
                    <a:pt x="746" y="242"/>
                  </a:lnTo>
                  <a:lnTo>
                    <a:pt x="748" y="248"/>
                  </a:lnTo>
                  <a:lnTo>
                    <a:pt x="749" y="255"/>
                  </a:lnTo>
                  <a:lnTo>
                    <a:pt x="748" y="263"/>
                  </a:lnTo>
                  <a:lnTo>
                    <a:pt x="744" y="269"/>
                  </a:lnTo>
                  <a:lnTo>
                    <a:pt x="739" y="271"/>
                  </a:lnTo>
                  <a:lnTo>
                    <a:pt x="729" y="272"/>
                  </a:lnTo>
                  <a:lnTo>
                    <a:pt x="718" y="271"/>
                  </a:lnTo>
                  <a:lnTo>
                    <a:pt x="706" y="269"/>
                  </a:lnTo>
                  <a:lnTo>
                    <a:pt x="698" y="268"/>
                  </a:lnTo>
                  <a:lnTo>
                    <a:pt x="695" y="268"/>
                  </a:lnTo>
                  <a:lnTo>
                    <a:pt x="714" y="300"/>
                  </a:lnTo>
                  <a:lnTo>
                    <a:pt x="711" y="300"/>
                  </a:lnTo>
                  <a:lnTo>
                    <a:pt x="704" y="298"/>
                  </a:lnTo>
                  <a:lnTo>
                    <a:pt x="693" y="296"/>
                  </a:lnTo>
                  <a:lnTo>
                    <a:pt x="681" y="294"/>
                  </a:lnTo>
                  <a:lnTo>
                    <a:pt x="668" y="294"/>
                  </a:lnTo>
                  <a:lnTo>
                    <a:pt x="656" y="294"/>
                  </a:lnTo>
                  <a:lnTo>
                    <a:pt x="645" y="297"/>
                  </a:lnTo>
                  <a:lnTo>
                    <a:pt x="638" y="303"/>
                  </a:lnTo>
                  <a:lnTo>
                    <a:pt x="632" y="311"/>
                  </a:lnTo>
                  <a:lnTo>
                    <a:pt x="625" y="318"/>
                  </a:lnTo>
                  <a:lnTo>
                    <a:pt x="619" y="323"/>
                  </a:lnTo>
                  <a:lnTo>
                    <a:pt x="613" y="327"/>
                  </a:lnTo>
                  <a:lnTo>
                    <a:pt x="610" y="332"/>
                  </a:lnTo>
                  <a:lnTo>
                    <a:pt x="610" y="337"/>
                  </a:lnTo>
                  <a:lnTo>
                    <a:pt x="612" y="344"/>
                  </a:lnTo>
                  <a:lnTo>
                    <a:pt x="626" y="361"/>
                  </a:lnTo>
                  <a:lnTo>
                    <a:pt x="643" y="372"/>
                  </a:lnTo>
                  <a:lnTo>
                    <a:pt x="662" y="378"/>
                  </a:lnTo>
                  <a:lnTo>
                    <a:pt x="676" y="378"/>
                  </a:lnTo>
                  <a:lnTo>
                    <a:pt x="691" y="377"/>
                  </a:lnTo>
                  <a:lnTo>
                    <a:pt x="707" y="376"/>
                  </a:lnTo>
                  <a:lnTo>
                    <a:pt x="721" y="377"/>
                  </a:lnTo>
                  <a:lnTo>
                    <a:pt x="732" y="379"/>
                  </a:lnTo>
                  <a:lnTo>
                    <a:pt x="740" y="380"/>
                  </a:lnTo>
                  <a:lnTo>
                    <a:pt x="750" y="379"/>
                  </a:lnTo>
                  <a:lnTo>
                    <a:pt x="762" y="377"/>
                  </a:lnTo>
                  <a:lnTo>
                    <a:pt x="774" y="375"/>
                  </a:lnTo>
                  <a:lnTo>
                    <a:pt x="786" y="372"/>
                  </a:lnTo>
                  <a:lnTo>
                    <a:pt x="795" y="371"/>
                  </a:lnTo>
                  <a:lnTo>
                    <a:pt x="801" y="372"/>
                  </a:lnTo>
                  <a:lnTo>
                    <a:pt x="805" y="375"/>
                  </a:lnTo>
                  <a:lnTo>
                    <a:pt x="802" y="382"/>
                  </a:lnTo>
                  <a:lnTo>
                    <a:pt x="797" y="392"/>
                  </a:lnTo>
                  <a:lnTo>
                    <a:pt x="789" y="403"/>
                  </a:lnTo>
                  <a:lnTo>
                    <a:pt x="781" y="414"/>
                  </a:lnTo>
                  <a:lnTo>
                    <a:pt x="773" y="423"/>
                  </a:lnTo>
                  <a:lnTo>
                    <a:pt x="766" y="428"/>
                  </a:lnTo>
                  <a:lnTo>
                    <a:pt x="763" y="430"/>
                  </a:lnTo>
                  <a:lnTo>
                    <a:pt x="762" y="433"/>
                  </a:lnTo>
                  <a:lnTo>
                    <a:pt x="762" y="435"/>
                  </a:lnTo>
                  <a:lnTo>
                    <a:pt x="763" y="437"/>
                  </a:lnTo>
                  <a:lnTo>
                    <a:pt x="764" y="439"/>
                  </a:lnTo>
                  <a:lnTo>
                    <a:pt x="765" y="441"/>
                  </a:lnTo>
                  <a:lnTo>
                    <a:pt x="766" y="442"/>
                  </a:lnTo>
                  <a:lnTo>
                    <a:pt x="767" y="443"/>
                  </a:lnTo>
                  <a:lnTo>
                    <a:pt x="769" y="443"/>
                  </a:lnTo>
                  <a:lnTo>
                    <a:pt x="766" y="442"/>
                  </a:lnTo>
                  <a:lnTo>
                    <a:pt x="763" y="441"/>
                  </a:lnTo>
                  <a:lnTo>
                    <a:pt x="755" y="440"/>
                  </a:lnTo>
                  <a:lnTo>
                    <a:pt x="746" y="441"/>
                  </a:lnTo>
                  <a:lnTo>
                    <a:pt x="734" y="443"/>
                  </a:lnTo>
                  <a:lnTo>
                    <a:pt x="719" y="450"/>
                  </a:lnTo>
                  <a:lnTo>
                    <a:pt x="702" y="461"/>
                  </a:lnTo>
                  <a:lnTo>
                    <a:pt x="689" y="472"/>
                  </a:lnTo>
                  <a:lnTo>
                    <a:pt x="679" y="483"/>
                  </a:lnTo>
                  <a:lnTo>
                    <a:pt x="670" y="491"/>
                  </a:lnTo>
                  <a:lnTo>
                    <a:pt x="662" y="496"/>
                  </a:lnTo>
                  <a:lnTo>
                    <a:pt x="655" y="499"/>
                  </a:lnTo>
                  <a:lnTo>
                    <a:pt x="648" y="506"/>
                  </a:lnTo>
                  <a:lnTo>
                    <a:pt x="643" y="511"/>
                  </a:lnTo>
                  <a:lnTo>
                    <a:pt x="639" y="516"/>
                  </a:lnTo>
                  <a:lnTo>
                    <a:pt x="638" y="518"/>
                  </a:lnTo>
                  <a:lnTo>
                    <a:pt x="640" y="518"/>
                  </a:lnTo>
                  <a:lnTo>
                    <a:pt x="645" y="518"/>
                  </a:lnTo>
                  <a:lnTo>
                    <a:pt x="651" y="518"/>
                  </a:lnTo>
                  <a:lnTo>
                    <a:pt x="659" y="519"/>
                  </a:lnTo>
                  <a:lnTo>
                    <a:pt x="666" y="521"/>
                  </a:lnTo>
                  <a:lnTo>
                    <a:pt x="671" y="526"/>
                  </a:lnTo>
                  <a:lnTo>
                    <a:pt x="672" y="531"/>
                  </a:lnTo>
                  <a:lnTo>
                    <a:pt x="670" y="539"/>
                  </a:lnTo>
                  <a:lnTo>
                    <a:pt x="666" y="544"/>
                  </a:lnTo>
                  <a:lnTo>
                    <a:pt x="659" y="550"/>
                  </a:lnTo>
                  <a:lnTo>
                    <a:pt x="653" y="554"/>
                  </a:lnTo>
                  <a:lnTo>
                    <a:pt x="647" y="556"/>
                  </a:lnTo>
                  <a:lnTo>
                    <a:pt x="646" y="557"/>
                  </a:lnTo>
                  <a:lnTo>
                    <a:pt x="642" y="556"/>
                  </a:lnTo>
                  <a:lnTo>
                    <a:pt x="632" y="556"/>
                  </a:lnTo>
                  <a:lnTo>
                    <a:pt x="615" y="554"/>
                  </a:lnTo>
                  <a:lnTo>
                    <a:pt x="595" y="551"/>
                  </a:lnTo>
                  <a:lnTo>
                    <a:pt x="580" y="546"/>
                  </a:lnTo>
                  <a:lnTo>
                    <a:pt x="567" y="540"/>
                  </a:lnTo>
                  <a:lnTo>
                    <a:pt x="557" y="534"/>
                  </a:lnTo>
                  <a:lnTo>
                    <a:pt x="546" y="531"/>
                  </a:lnTo>
                  <a:lnTo>
                    <a:pt x="536" y="529"/>
                  </a:lnTo>
                  <a:lnTo>
                    <a:pt x="527" y="532"/>
                  </a:lnTo>
                  <a:lnTo>
                    <a:pt x="518" y="538"/>
                  </a:lnTo>
                  <a:lnTo>
                    <a:pt x="509" y="546"/>
                  </a:lnTo>
                  <a:lnTo>
                    <a:pt x="501" y="556"/>
                  </a:lnTo>
                  <a:lnTo>
                    <a:pt x="495" y="566"/>
                  </a:lnTo>
                  <a:lnTo>
                    <a:pt x="489" y="575"/>
                  </a:lnTo>
                  <a:lnTo>
                    <a:pt x="486" y="581"/>
                  </a:lnTo>
                  <a:lnTo>
                    <a:pt x="485" y="584"/>
                  </a:lnTo>
                  <a:lnTo>
                    <a:pt x="484" y="581"/>
                  </a:lnTo>
                  <a:lnTo>
                    <a:pt x="482" y="576"/>
                  </a:lnTo>
                  <a:lnTo>
                    <a:pt x="477" y="567"/>
                  </a:lnTo>
                  <a:lnTo>
                    <a:pt x="470" y="556"/>
                  </a:lnTo>
                  <a:lnTo>
                    <a:pt x="459" y="541"/>
                  </a:lnTo>
                  <a:lnTo>
                    <a:pt x="447" y="530"/>
                  </a:lnTo>
                  <a:lnTo>
                    <a:pt x="434" y="523"/>
                  </a:lnTo>
                  <a:lnTo>
                    <a:pt x="419" y="519"/>
                  </a:lnTo>
                  <a:lnTo>
                    <a:pt x="404" y="517"/>
                  </a:lnTo>
                  <a:lnTo>
                    <a:pt x="390" y="517"/>
                  </a:lnTo>
                  <a:lnTo>
                    <a:pt x="378" y="516"/>
                  </a:lnTo>
                  <a:lnTo>
                    <a:pt x="354" y="511"/>
                  </a:lnTo>
                  <a:lnTo>
                    <a:pt x="332" y="505"/>
                  </a:lnTo>
                  <a:lnTo>
                    <a:pt x="310" y="499"/>
                  </a:lnTo>
                  <a:lnTo>
                    <a:pt x="298" y="499"/>
                  </a:lnTo>
                  <a:lnTo>
                    <a:pt x="290" y="501"/>
                  </a:lnTo>
                  <a:lnTo>
                    <a:pt x="285" y="506"/>
                  </a:lnTo>
                  <a:lnTo>
                    <a:pt x="283" y="511"/>
                  </a:lnTo>
                  <a:lnTo>
                    <a:pt x="281" y="517"/>
                  </a:lnTo>
                  <a:lnTo>
                    <a:pt x="283" y="520"/>
                  </a:lnTo>
                  <a:lnTo>
                    <a:pt x="283" y="524"/>
                  </a:lnTo>
                  <a:lnTo>
                    <a:pt x="283" y="529"/>
                  </a:lnTo>
                  <a:lnTo>
                    <a:pt x="281" y="533"/>
                  </a:lnTo>
                  <a:lnTo>
                    <a:pt x="279" y="535"/>
                  </a:lnTo>
                  <a:lnTo>
                    <a:pt x="275" y="535"/>
                  </a:lnTo>
                  <a:lnTo>
                    <a:pt x="268" y="533"/>
                  </a:lnTo>
                  <a:lnTo>
                    <a:pt x="258" y="528"/>
                  </a:lnTo>
                  <a:lnTo>
                    <a:pt x="242" y="518"/>
                  </a:lnTo>
                  <a:lnTo>
                    <a:pt x="230" y="512"/>
                  </a:lnTo>
                  <a:lnTo>
                    <a:pt x="220" y="510"/>
                  </a:lnTo>
                  <a:lnTo>
                    <a:pt x="214" y="515"/>
                  </a:lnTo>
                  <a:lnTo>
                    <a:pt x="207" y="523"/>
                  </a:lnTo>
                  <a:lnTo>
                    <a:pt x="203" y="538"/>
                  </a:lnTo>
                  <a:lnTo>
                    <a:pt x="199" y="553"/>
                  </a:lnTo>
                  <a:lnTo>
                    <a:pt x="197" y="568"/>
                  </a:lnTo>
                  <a:lnTo>
                    <a:pt x="196" y="581"/>
                  </a:lnTo>
                  <a:lnTo>
                    <a:pt x="196" y="590"/>
                  </a:lnTo>
                  <a:lnTo>
                    <a:pt x="198" y="592"/>
                  </a:lnTo>
                  <a:lnTo>
                    <a:pt x="202" y="591"/>
                  </a:lnTo>
                  <a:lnTo>
                    <a:pt x="206" y="587"/>
                  </a:lnTo>
                  <a:lnTo>
                    <a:pt x="212" y="581"/>
                  </a:lnTo>
                  <a:lnTo>
                    <a:pt x="218" y="576"/>
                  </a:lnTo>
                  <a:lnTo>
                    <a:pt x="223" y="570"/>
                  </a:lnTo>
                  <a:lnTo>
                    <a:pt x="229" y="566"/>
                  </a:lnTo>
                  <a:lnTo>
                    <a:pt x="235" y="565"/>
                  </a:lnTo>
                  <a:lnTo>
                    <a:pt x="241" y="569"/>
                  </a:lnTo>
                  <a:lnTo>
                    <a:pt x="245" y="577"/>
                  </a:lnTo>
                  <a:lnTo>
                    <a:pt x="247" y="586"/>
                  </a:lnTo>
                  <a:lnTo>
                    <a:pt x="247" y="595"/>
                  </a:lnTo>
                  <a:lnTo>
                    <a:pt x="245" y="603"/>
                  </a:lnTo>
                  <a:lnTo>
                    <a:pt x="242" y="610"/>
                  </a:lnTo>
                  <a:lnTo>
                    <a:pt x="240" y="618"/>
                  </a:lnTo>
                  <a:lnTo>
                    <a:pt x="240" y="622"/>
                  </a:lnTo>
                  <a:lnTo>
                    <a:pt x="244" y="624"/>
                  </a:lnTo>
                  <a:lnTo>
                    <a:pt x="249" y="627"/>
                  </a:lnTo>
                  <a:lnTo>
                    <a:pt x="251" y="633"/>
                  </a:lnTo>
                  <a:lnTo>
                    <a:pt x="252" y="640"/>
                  </a:lnTo>
                  <a:lnTo>
                    <a:pt x="254" y="649"/>
                  </a:lnTo>
                  <a:lnTo>
                    <a:pt x="258" y="660"/>
                  </a:lnTo>
                  <a:lnTo>
                    <a:pt x="263" y="668"/>
                  </a:lnTo>
                  <a:lnTo>
                    <a:pt x="265" y="676"/>
                  </a:lnTo>
                  <a:lnTo>
                    <a:pt x="265" y="682"/>
                  </a:lnTo>
                  <a:lnTo>
                    <a:pt x="264" y="688"/>
                  </a:lnTo>
                  <a:lnTo>
                    <a:pt x="261" y="691"/>
                  </a:lnTo>
                  <a:lnTo>
                    <a:pt x="256" y="691"/>
                  </a:lnTo>
                  <a:lnTo>
                    <a:pt x="250" y="686"/>
                  </a:lnTo>
                  <a:lnTo>
                    <a:pt x="243" y="679"/>
                  </a:lnTo>
                  <a:lnTo>
                    <a:pt x="235" y="670"/>
                  </a:lnTo>
                  <a:lnTo>
                    <a:pt x="227" y="661"/>
                  </a:lnTo>
                  <a:lnTo>
                    <a:pt x="219" y="654"/>
                  </a:lnTo>
                  <a:lnTo>
                    <a:pt x="212" y="648"/>
                  </a:lnTo>
                  <a:lnTo>
                    <a:pt x="206" y="646"/>
                  </a:lnTo>
                  <a:lnTo>
                    <a:pt x="200" y="648"/>
                  </a:lnTo>
                  <a:lnTo>
                    <a:pt x="194" y="653"/>
                  </a:lnTo>
                  <a:lnTo>
                    <a:pt x="185" y="655"/>
                  </a:lnTo>
                  <a:lnTo>
                    <a:pt x="175" y="657"/>
                  </a:lnTo>
                  <a:lnTo>
                    <a:pt x="165" y="658"/>
                  </a:lnTo>
                  <a:lnTo>
                    <a:pt x="157" y="660"/>
                  </a:lnTo>
                  <a:lnTo>
                    <a:pt x="149" y="662"/>
                  </a:lnTo>
                  <a:lnTo>
                    <a:pt x="146" y="665"/>
                  </a:lnTo>
                  <a:lnTo>
                    <a:pt x="146" y="669"/>
                  </a:lnTo>
                  <a:lnTo>
                    <a:pt x="150" y="674"/>
                  </a:lnTo>
                  <a:lnTo>
                    <a:pt x="158" y="677"/>
                  </a:lnTo>
                  <a:lnTo>
                    <a:pt x="168" y="679"/>
                  </a:lnTo>
                  <a:lnTo>
                    <a:pt x="177" y="680"/>
                  </a:lnTo>
                  <a:lnTo>
                    <a:pt x="187" y="684"/>
                  </a:lnTo>
                  <a:lnTo>
                    <a:pt x="195" y="691"/>
                  </a:lnTo>
                  <a:lnTo>
                    <a:pt x="202" y="698"/>
                  </a:lnTo>
                  <a:lnTo>
                    <a:pt x="208" y="707"/>
                  </a:lnTo>
                  <a:lnTo>
                    <a:pt x="214" y="715"/>
                  </a:lnTo>
                  <a:lnTo>
                    <a:pt x="220" y="721"/>
                  </a:lnTo>
                  <a:lnTo>
                    <a:pt x="229" y="726"/>
                  </a:lnTo>
                  <a:lnTo>
                    <a:pt x="240" y="729"/>
                  </a:lnTo>
                  <a:lnTo>
                    <a:pt x="254" y="729"/>
                  </a:lnTo>
                  <a:lnTo>
                    <a:pt x="267" y="728"/>
                  </a:lnTo>
                  <a:lnTo>
                    <a:pt x="281" y="725"/>
                  </a:lnTo>
                  <a:lnTo>
                    <a:pt x="295" y="723"/>
                  </a:lnTo>
                  <a:lnTo>
                    <a:pt x="307" y="721"/>
                  </a:lnTo>
                  <a:lnTo>
                    <a:pt x="318" y="725"/>
                  </a:lnTo>
                  <a:lnTo>
                    <a:pt x="331" y="734"/>
                  </a:lnTo>
                  <a:lnTo>
                    <a:pt x="338" y="743"/>
                  </a:lnTo>
                  <a:lnTo>
                    <a:pt x="342" y="753"/>
                  </a:lnTo>
                  <a:lnTo>
                    <a:pt x="341" y="762"/>
                  </a:lnTo>
                  <a:lnTo>
                    <a:pt x="335" y="765"/>
                  </a:lnTo>
                  <a:lnTo>
                    <a:pt x="324" y="770"/>
                  </a:lnTo>
                  <a:lnTo>
                    <a:pt x="310" y="773"/>
                  </a:lnTo>
                  <a:lnTo>
                    <a:pt x="293" y="776"/>
                  </a:lnTo>
                  <a:lnTo>
                    <a:pt x="277" y="781"/>
                  </a:lnTo>
                  <a:lnTo>
                    <a:pt x="263" y="786"/>
                  </a:lnTo>
                  <a:lnTo>
                    <a:pt x="253" y="792"/>
                  </a:lnTo>
                  <a:lnTo>
                    <a:pt x="243" y="801"/>
                  </a:lnTo>
                  <a:lnTo>
                    <a:pt x="238" y="811"/>
                  </a:lnTo>
                  <a:lnTo>
                    <a:pt x="234" y="821"/>
                  </a:lnTo>
                  <a:lnTo>
                    <a:pt x="234" y="831"/>
                  </a:lnTo>
                  <a:lnTo>
                    <a:pt x="238" y="839"/>
                  </a:lnTo>
                  <a:lnTo>
                    <a:pt x="244" y="848"/>
                  </a:lnTo>
                  <a:lnTo>
                    <a:pt x="246" y="856"/>
                  </a:lnTo>
                  <a:lnTo>
                    <a:pt x="247" y="863"/>
                  </a:lnTo>
                  <a:lnTo>
                    <a:pt x="247" y="865"/>
                  </a:lnTo>
                  <a:lnTo>
                    <a:pt x="207" y="867"/>
                  </a:lnTo>
                  <a:lnTo>
                    <a:pt x="204" y="867"/>
                  </a:lnTo>
                  <a:lnTo>
                    <a:pt x="197" y="868"/>
                  </a:lnTo>
                  <a:lnTo>
                    <a:pt x="187" y="870"/>
                  </a:lnTo>
                  <a:lnTo>
                    <a:pt x="177" y="873"/>
                  </a:lnTo>
                  <a:lnTo>
                    <a:pt x="168" y="877"/>
                  </a:lnTo>
                  <a:lnTo>
                    <a:pt x="160" y="882"/>
                  </a:lnTo>
                  <a:lnTo>
                    <a:pt x="156" y="889"/>
                  </a:lnTo>
                  <a:lnTo>
                    <a:pt x="157" y="897"/>
                  </a:lnTo>
                  <a:lnTo>
                    <a:pt x="161" y="903"/>
                  </a:lnTo>
                  <a:lnTo>
                    <a:pt x="168" y="908"/>
                  </a:lnTo>
                  <a:lnTo>
                    <a:pt x="174" y="913"/>
                  </a:lnTo>
                  <a:lnTo>
                    <a:pt x="180" y="920"/>
                  </a:lnTo>
                  <a:lnTo>
                    <a:pt x="182" y="927"/>
                  </a:lnTo>
                  <a:lnTo>
                    <a:pt x="179" y="934"/>
                  </a:lnTo>
                  <a:lnTo>
                    <a:pt x="173" y="938"/>
                  </a:lnTo>
                  <a:lnTo>
                    <a:pt x="166" y="943"/>
                  </a:lnTo>
                  <a:lnTo>
                    <a:pt x="160" y="946"/>
                  </a:lnTo>
                  <a:lnTo>
                    <a:pt x="153" y="949"/>
                  </a:lnTo>
                  <a:lnTo>
                    <a:pt x="151" y="952"/>
                  </a:lnTo>
                  <a:lnTo>
                    <a:pt x="152" y="957"/>
                  </a:lnTo>
                  <a:lnTo>
                    <a:pt x="160" y="961"/>
                  </a:lnTo>
                  <a:lnTo>
                    <a:pt x="169" y="962"/>
                  </a:lnTo>
                  <a:lnTo>
                    <a:pt x="177" y="963"/>
                  </a:lnTo>
                  <a:lnTo>
                    <a:pt x="186" y="966"/>
                  </a:lnTo>
                  <a:lnTo>
                    <a:pt x="193" y="971"/>
                  </a:lnTo>
                  <a:lnTo>
                    <a:pt x="198" y="978"/>
                  </a:lnTo>
                  <a:lnTo>
                    <a:pt x="204" y="982"/>
                  </a:lnTo>
                  <a:lnTo>
                    <a:pt x="209" y="984"/>
                  </a:lnTo>
                  <a:lnTo>
                    <a:pt x="218" y="985"/>
                  </a:lnTo>
                  <a:lnTo>
                    <a:pt x="230" y="984"/>
                  </a:lnTo>
                  <a:lnTo>
                    <a:pt x="235" y="983"/>
                  </a:lnTo>
                  <a:lnTo>
                    <a:pt x="239" y="985"/>
                  </a:lnTo>
                  <a:lnTo>
                    <a:pt x="238" y="990"/>
                  </a:lnTo>
                  <a:lnTo>
                    <a:pt x="237" y="994"/>
                  </a:lnTo>
                  <a:lnTo>
                    <a:pt x="234" y="999"/>
                  </a:lnTo>
                  <a:lnTo>
                    <a:pt x="233" y="1005"/>
                  </a:lnTo>
                  <a:lnTo>
                    <a:pt x="234" y="1009"/>
                  </a:lnTo>
                  <a:lnTo>
                    <a:pt x="239" y="1014"/>
                  </a:lnTo>
                  <a:lnTo>
                    <a:pt x="250" y="1017"/>
                  </a:lnTo>
                  <a:lnTo>
                    <a:pt x="261" y="1018"/>
                  </a:lnTo>
                  <a:lnTo>
                    <a:pt x="272" y="1017"/>
                  </a:lnTo>
                  <a:lnTo>
                    <a:pt x="280" y="1015"/>
                  </a:lnTo>
                  <a:lnTo>
                    <a:pt x="286" y="1010"/>
                  </a:lnTo>
                  <a:lnTo>
                    <a:pt x="290" y="1008"/>
                  </a:lnTo>
                  <a:lnTo>
                    <a:pt x="296" y="1008"/>
                  </a:lnTo>
                  <a:lnTo>
                    <a:pt x="304" y="1012"/>
                  </a:lnTo>
                  <a:lnTo>
                    <a:pt x="312" y="1017"/>
                  </a:lnTo>
                  <a:lnTo>
                    <a:pt x="320" y="1024"/>
                  </a:lnTo>
                  <a:lnTo>
                    <a:pt x="325" y="1033"/>
                  </a:lnTo>
                  <a:lnTo>
                    <a:pt x="331" y="1044"/>
                  </a:lnTo>
                  <a:lnTo>
                    <a:pt x="336" y="1055"/>
                  </a:lnTo>
                  <a:lnTo>
                    <a:pt x="342" y="1064"/>
                  </a:lnTo>
                  <a:lnTo>
                    <a:pt x="349" y="1070"/>
                  </a:lnTo>
                  <a:lnTo>
                    <a:pt x="359" y="1071"/>
                  </a:lnTo>
                  <a:lnTo>
                    <a:pt x="369" y="1070"/>
                  </a:lnTo>
                  <a:lnTo>
                    <a:pt x="383" y="1066"/>
                  </a:lnTo>
                  <a:lnTo>
                    <a:pt x="399" y="1063"/>
                  </a:lnTo>
                  <a:lnTo>
                    <a:pt x="415" y="1061"/>
                  </a:lnTo>
                  <a:lnTo>
                    <a:pt x="430" y="1059"/>
                  </a:lnTo>
                  <a:lnTo>
                    <a:pt x="443" y="1058"/>
                  </a:lnTo>
                  <a:lnTo>
                    <a:pt x="455" y="1059"/>
                  </a:lnTo>
                  <a:lnTo>
                    <a:pt x="468" y="1058"/>
                  </a:lnTo>
                  <a:lnTo>
                    <a:pt x="480" y="1058"/>
                  </a:lnTo>
                  <a:lnTo>
                    <a:pt x="491" y="1060"/>
                  </a:lnTo>
                  <a:lnTo>
                    <a:pt x="498" y="1063"/>
                  </a:lnTo>
                  <a:lnTo>
                    <a:pt x="505" y="1071"/>
                  </a:lnTo>
                  <a:lnTo>
                    <a:pt x="506" y="1079"/>
                  </a:lnTo>
                  <a:lnTo>
                    <a:pt x="504" y="1087"/>
                  </a:lnTo>
                  <a:lnTo>
                    <a:pt x="499" y="1094"/>
                  </a:lnTo>
                  <a:lnTo>
                    <a:pt x="492" y="1100"/>
                  </a:lnTo>
                  <a:lnTo>
                    <a:pt x="482" y="1106"/>
                  </a:lnTo>
                  <a:lnTo>
                    <a:pt x="473" y="1112"/>
                  </a:lnTo>
                  <a:lnTo>
                    <a:pt x="464" y="1120"/>
                  </a:lnTo>
                  <a:lnTo>
                    <a:pt x="459" y="1123"/>
                  </a:lnTo>
                  <a:lnTo>
                    <a:pt x="455" y="1125"/>
                  </a:lnTo>
                  <a:lnTo>
                    <a:pt x="454" y="1126"/>
                  </a:lnTo>
                  <a:lnTo>
                    <a:pt x="454" y="1126"/>
                  </a:lnTo>
                  <a:lnTo>
                    <a:pt x="452" y="1125"/>
                  </a:lnTo>
                  <a:lnTo>
                    <a:pt x="448" y="1122"/>
                  </a:lnTo>
                  <a:lnTo>
                    <a:pt x="441" y="1118"/>
                  </a:lnTo>
                  <a:lnTo>
                    <a:pt x="432" y="1113"/>
                  </a:lnTo>
                  <a:lnTo>
                    <a:pt x="424" y="1109"/>
                  </a:lnTo>
                  <a:lnTo>
                    <a:pt x="416" y="1107"/>
                  </a:lnTo>
                  <a:lnTo>
                    <a:pt x="408" y="1107"/>
                  </a:lnTo>
                  <a:lnTo>
                    <a:pt x="404" y="1111"/>
                  </a:lnTo>
                  <a:lnTo>
                    <a:pt x="401" y="1118"/>
                  </a:lnTo>
                  <a:lnTo>
                    <a:pt x="395" y="1126"/>
                  </a:lnTo>
                  <a:lnTo>
                    <a:pt x="388" y="1140"/>
                  </a:lnTo>
                  <a:lnTo>
                    <a:pt x="380" y="1153"/>
                  </a:lnTo>
                  <a:lnTo>
                    <a:pt x="371" y="1168"/>
                  </a:lnTo>
                  <a:lnTo>
                    <a:pt x="364" y="1182"/>
                  </a:lnTo>
                  <a:lnTo>
                    <a:pt x="356" y="1197"/>
                  </a:lnTo>
                  <a:lnTo>
                    <a:pt x="350" y="1207"/>
                  </a:lnTo>
                  <a:lnTo>
                    <a:pt x="347" y="1217"/>
                  </a:lnTo>
                  <a:lnTo>
                    <a:pt x="347" y="1223"/>
                  </a:lnTo>
                  <a:lnTo>
                    <a:pt x="350" y="1229"/>
                  </a:lnTo>
                  <a:lnTo>
                    <a:pt x="357" y="1234"/>
                  </a:lnTo>
                  <a:lnTo>
                    <a:pt x="365" y="1236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1" y="1239"/>
                  </a:lnTo>
                  <a:lnTo>
                    <a:pt x="368" y="1244"/>
                  </a:lnTo>
                  <a:lnTo>
                    <a:pt x="362" y="1250"/>
                  </a:lnTo>
                  <a:lnTo>
                    <a:pt x="356" y="1259"/>
                  </a:lnTo>
                  <a:lnTo>
                    <a:pt x="349" y="1268"/>
                  </a:lnTo>
                  <a:lnTo>
                    <a:pt x="342" y="1278"/>
                  </a:lnTo>
                  <a:lnTo>
                    <a:pt x="335" y="1288"/>
                  </a:lnTo>
                  <a:lnTo>
                    <a:pt x="330" y="1298"/>
                  </a:lnTo>
                  <a:lnTo>
                    <a:pt x="325" y="1308"/>
                  </a:lnTo>
                  <a:lnTo>
                    <a:pt x="323" y="1315"/>
                  </a:lnTo>
                  <a:lnTo>
                    <a:pt x="323" y="1317"/>
                  </a:lnTo>
                  <a:lnTo>
                    <a:pt x="323" y="1316"/>
                  </a:lnTo>
                  <a:lnTo>
                    <a:pt x="323" y="1314"/>
                  </a:lnTo>
                  <a:lnTo>
                    <a:pt x="323" y="1310"/>
                  </a:lnTo>
                  <a:lnTo>
                    <a:pt x="322" y="1308"/>
                  </a:lnTo>
                  <a:lnTo>
                    <a:pt x="319" y="1306"/>
                  </a:lnTo>
                  <a:lnTo>
                    <a:pt x="314" y="1306"/>
                  </a:lnTo>
                  <a:lnTo>
                    <a:pt x="308" y="1309"/>
                  </a:lnTo>
                  <a:lnTo>
                    <a:pt x="299" y="1316"/>
                  </a:lnTo>
                  <a:lnTo>
                    <a:pt x="281" y="1331"/>
                  </a:lnTo>
                  <a:lnTo>
                    <a:pt x="266" y="1348"/>
                  </a:lnTo>
                  <a:lnTo>
                    <a:pt x="251" y="1363"/>
                  </a:lnTo>
                  <a:lnTo>
                    <a:pt x="238" y="1375"/>
                  </a:lnTo>
                  <a:lnTo>
                    <a:pt x="226" y="1384"/>
                  </a:lnTo>
                  <a:lnTo>
                    <a:pt x="216" y="1388"/>
                  </a:lnTo>
                  <a:lnTo>
                    <a:pt x="206" y="1392"/>
                  </a:lnTo>
                  <a:lnTo>
                    <a:pt x="197" y="1397"/>
                  </a:lnTo>
                  <a:lnTo>
                    <a:pt x="189" y="1400"/>
                  </a:lnTo>
                  <a:lnTo>
                    <a:pt x="184" y="1403"/>
                  </a:lnTo>
                  <a:lnTo>
                    <a:pt x="183" y="1407"/>
                  </a:lnTo>
                  <a:lnTo>
                    <a:pt x="186" y="1409"/>
                  </a:lnTo>
                  <a:lnTo>
                    <a:pt x="195" y="1410"/>
                  </a:lnTo>
                  <a:lnTo>
                    <a:pt x="208" y="1410"/>
                  </a:lnTo>
                  <a:lnTo>
                    <a:pt x="223" y="1409"/>
                  </a:lnTo>
                  <a:lnTo>
                    <a:pt x="240" y="1407"/>
                  </a:lnTo>
                  <a:lnTo>
                    <a:pt x="254" y="1401"/>
                  </a:lnTo>
                  <a:lnTo>
                    <a:pt x="267" y="1395"/>
                  </a:lnTo>
                  <a:lnTo>
                    <a:pt x="278" y="1387"/>
                  </a:lnTo>
                  <a:lnTo>
                    <a:pt x="290" y="1379"/>
                  </a:lnTo>
                  <a:lnTo>
                    <a:pt x="301" y="1374"/>
                  </a:lnTo>
                  <a:lnTo>
                    <a:pt x="313" y="1369"/>
                  </a:lnTo>
                  <a:lnTo>
                    <a:pt x="323" y="1369"/>
                  </a:lnTo>
                  <a:lnTo>
                    <a:pt x="331" y="1373"/>
                  </a:lnTo>
                  <a:lnTo>
                    <a:pt x="342" y="1380"/>
                  </a:lnTo>
                  <a:lnTo>
                    <a:pt x="354" y="1387"/>
                  </a:lnTo>
                  <a:lnTo>
                    <a:pt x="365" y="1390"/>
                  </a:lnTo>
                  <a:lnTo>
                    <a:pt x="373" y="1390"/>
                  </a:lnTo>
                  <a:lnTo>
                    <a:pt x="381" y="1390"/>
                  </a:lnTo>
                  <a:lnTo>
                    <a:pt x="391" y="1391"/>
                  </a:lnTo>
                  <a:lnTo>
                    <a:pt x="404" y="1391"/>
                  </a:lnTo>
                  <a:lnTo>
                    <a:pt x="417" y="1387"/>
                  </a:lnTo>
                  <a:lnTo>
                    <a:pt x="432" y="1377"/>
                  </a:lnTo>
                  <a:lnTo>
                    <a:pt x="440" y="1368"/>
                  </a:lnTo>
                  <a:lnTo>
                    <a:pt x="449" y="1360"/>
                  </a:lnTo>
                  <a:lnTo>
                    <a:pt x="457" y="1350"/>
                  </a:lnTo>
                  <a:lnTo>
                    <a:pt x="464" y="1341"/>
                  </a:lnTo>
                  <a:lnTo>
                    <a:pt x="472" y="1333"/>
                  </a:lnTo>
                  <a:lnTo>
                    <a:pt x="477" y="1327"/>
                  </a:lnTo>
                  <a:lnTo>
                    <a:pt x="483" y="1325"/>
                  </a:lnTo>
                  <a:lnTo>
                    <a:pt x="486" y="1325"/>
                  </a:lnTo>
                  <a:lnTo>
                    <a:pt x="488" y="1329"/>
                  </a:lnTo>
                  <a:lnTo>
                    <a:pt x="489" y="1341"/>
                  </a:lnTo>
                  <a:lnTo>
                    <a:pt x="491" y="1353"/>
                  </a:lnTo>
                  <a:lnTo>
                    <a:pt x="493" y="1364"/>
                  </a:lnTo>
                  <a:lnTo>
                    <a:pt x="494" y="1371"/>
                  </a:lnTo>
                  <a:lnTo>
                    <a:pt x="494" y="1374"/>
                  </a:lnTo>
                  <a:lnTo>
                    <a:pt x="492" y="1375"/>
                  </a:lnTo>
                  <a:lnTo>
                    <a:pt x="484" y="1377"/>
                  </a:lnTo>
                  <a:lnTo>
                    <a:pt x="472" y="1380"/>
                  </a:lnTo>
                  <a:lnTo>
                    <a:pt x="459" y="1385"/>
                  </a:lnTo>
                  <a:lnTo>
                    <a:pt x="445" y="1390"/>
                  </a:lnTo>
                  <a:lnTo>
                    <a:pt x="430" y="1395"/>
                  </a:lnTo>
                  <a:lnTo>
                    <a:pt x="417" y="1399"/>
                  </a:lnTo>
                  <a:lnTo>
                    <a:pt x="402" y="1403"/>
                  </a:lnTo>
                  <a:lnTo>
                    <a:pt x="384" y="1408"/>
                  </a:lnTo>
                  <a:lnTo>
                    <a:pt x="366" y="1411"/>
                  </a:lnTo>
                  <a:lnTo>
                    <a:pt x="348" y="1414"/>
                  </a:lnTo>
                  <a:lnTo>
                    <a:pt x="332" y="1417"/>
                  </a:lnTo>
                  <a:lnTo>
                    <a:pt x="319" y="1417"/>
                  </a:lnTo>
                  <a:lnTo>
                    <a:pt x="309" y="1413"/>
                  </a:lnTo>
                  <a:lnTo>
                    <a:pt x="300" y="1410"/>
                  </a:lnTo>
                  <a:lnTo>
                    <a:pt x="292" y="1406"/>
                  </a:lnTo>
                  <a:lnTo>
                    <a:pt x="286" y="1403"/>
                  </a:lnTo>
                  <a:lnTo>
                    <a:pt x="281" y="1404"/>
                  </a:lnTo>
                  <a:lnTo>
                    <a:pt x="278" y="1410"/>
                  </a:lnTo>
                  <a:lnTo>
                    <a:pt x="276" y="1418"/>
                  </a:lnTo>
                  <a:lnTo>
                    <a:pt x="275" y="1425"/>
                  </a:lnTo>
                  <a:lnTo>
                    <a:pt x="273" y="1434"/>
                  </a:lnTo>
                  <a:lnTo>
                    <a:pt x="270" y="1442"/>
                  </a:lnTo>
                  <a:lnTo>
                    <a:pt x="266" y="1449"/>
                  </a:lnTo>
                  <a:lnTo>
                    <a:pt x="260" y="1455"/>
                  </a:lnTo>
                  <a:lnTo>
                    <a:pt x="250" y="1458"/>
                  </a:lnTo>
                  <a:lnTo>
                    <a:pt x="239" y="1459"/>
                  </a:lnTo>
                  <a:lnTo>
                    <a:pt x="227" y="1460"/>
                  </a:lnTo>
                  <a:lnTo>
                    <a:pt x="215" y="1461"/>
                  </a:lnTo>
                  <a:lnTo>
                    <a:pt x="204" y="1462"/>
                  </a:lnTo>
                  <a:lnTo>
                    <a:pt x="195" y="1464"/>
                  </a:lnTo>
                  <a:lnTo>
                    <a:pt x="188" y="1467"/>
                  </a:lnTo>
                  <a:lnTo>
                    <a:pt x="186" y="1470"/>
                  </a:lnTo>
                  <a:lnTo>
                    <a:pt x="188" y="1476"/>
                  </a:lnTo>
                  <a:lnTo>
                    <a:pt x="196" y="1484"/>
                  </a:lnTo>
                  <a:lnTo>
                    <a:pt x="204" y="1491"/>
                  </a:lnTo>
                  <a:lnTo>
                    <a:pt x="209" y="1498"/>
                  </a:lnTo>
                  <a:lnTo>
                    <a:pt x="212" y="1503"/>
                  </a:lnTo>
                  <a:lnTo>
                    <a:pt x="212" y="1511"/>
                  </a:lnTo>
                  <a:lnTo>
                    <a:pt x="208" y="1518"/>
                  </a:lnTo>
                  <a:lnTo>
                    <a:pt x="203" y="1526"/>
                  </a:lnTo>
                  <a:lnTo>
                    <a:pt x="197" y="1533"/>
                  </a:lnTo>
                  <a:lnTo>
                    <a:pt x="193" y="1539"/>
                  </a:lnTo>
                  <a:lnTo>
                    <a:pt x="192" y="1545"/>
                  </a:lnTo>
                  <a:lnTo>
                    <a:pt x="195" y="1547"/>
                  </a:lnTo>
                  <a:lnTo>
                    <a:pt x="199" y="1550"/>
                  </a:lnTo>
                  <a:lnTo>
                    <a:pt x="198" y="1554"/>
                  </a:lnTo>
                  <a:lnTo>
                    <a:pt x="196" y="1560"/>
                  </a:lnTo>
                  <a:lnTo>
                    <a:pt x="192" y="1565"/>
                  </a:lnTo>
                  <a:lnTo>
                    <a:pt x="188" y="1569"/>
                  </a:lnTo>
                  <a:lnTo>
                    <a:pt x="187" y="1570"/>
                  </a:lnTo>
                  <a:lnTo>
                    <a:pt x="185" y="1570"/>
                  </a:lnTo>
                  <a:lnTo>
                    <a:pt x="180" y="1570"/>
                  </a:lnTo>
                  <a:lnTo>
                    <a:pt x="171" y="1566"/>
                  </a:lnTo>
                  <a:lnTo>
                    <a:pt x="160" y="1560"/>
                  </a:lnTo>
                  <a:lnTo>
                    <a:pt x="147" y="1550"/>
                  </a:lnTo>
                  <a:lnTo>
                    <a:pt x="135" y="1540"/>
                  </a:lnTo>
                  <a:lnTo>
                    <a:pt x="124" y="1535"/>
                  </a:lnTo>
                  <a:lnTo>
                    <a:pt x="113" y="1534"/>
                  </a:lnTo>
                  <a:lnTo>
                    <a:pt x="103" y="1536"/>
                  </a:lnTo>
                  <a:lnTo>
                    <a:pt x="92" y="1539"/>
                  </a:lnTo>
                  <a:lnTo>
                    <a:pt x="85" y="1543"/>
                  </a:lnTo>
                  <a:lnTo>
                    <a:pt x="75" y="1549"/>
                  </a:lnTo>
                  <a:lnTo>
                    <a:pt x="62" y="1557"/>
                  </a:lnTo>
                  <a:lnTo>
                    <a:pt x="48" y="1565"/>
                  </a:lnTo>
                  <a:lnTo>
                    <a:pt x="35" y="1574"/>
                  </a:lnTo>
                  <a:lnTo>
                    <a:pt x="23" y="1584"/>
                  </a:lnTo>
                  <a:lnTo>
                    <a:pt x="12" y="1593"/>
                  </a:lnTo>
                  <a:lnTo>
                    <a:pt x="4" y="1601"/>
                  </a:lnTo>
                  <a:lnTo>
                    <a:pt x="0" y="1609"/>
                  </a:lnTo>
                  <a:lnTo>
                    <a:pt x="0" y="1614"/>
                  </a:lnTo>
                  <a:lnTo>
                    <a:pt x="6" y="1619"/>
                  </a:lnTo>
                  <a:lnTo>
                    <a:pt x="9" y="1622"/>
                  </a:lnTo>
                  <a:lnTo>
                    <a:pt x="14" y="1623"/>
                  </a:lnTo>
                  <a:lnTo>
                    <a:pt x="22" y="1623"/>
                  </a:lnTo>
                  <a:lnTo>
                    <a:pt x="34" y="1623"/>
                  </a:lnTo>
                  <a:lnTo>
                    <a:pt x="52" y="1623"/>
                  </a:lnTo>
                  <a:lnTo>
                    <a:pt x="80" y="1623"/>
                  </a:lnTo>
                  <a:lnTo>
                    <a:pt x="103" y="1622"/>
                  </a:lnTo>
                  <a:lnTo>
                    <a:pt x="123" y="1621"/>
                  </a:lnTo>
                  <a:lnTo>
                    <a:pt x="140" y="1619"/>
                  </a:lnTo>
                  <a:lnTo>
                    <a:pt x="150" y="1617"/>
                  </a:lnTo>
                  <a:lnTo>
                    <a:pt x="162" y="1614"/>
                  </a:lnTo>
                  <a:lnTo>
                    <a:pt x="174" y="1611"/>
                  </a:lnTo>
                  <a:lnTo>
                    <a:pt x="185" y="1609"/>
                  </a:lnTo>
                  <a:lnTo>
                    <a:pt x="196" y="1608"/>
                  </a:lnTo>
                  <a:lnTo>
                    <a:pt x="205" y="1608"/>
                  </a:lnTo>
                  <a:lnTo>
                    <a:pt x="210" y="1611"/>
                  </a:lnTo>
                  <a:lnTo>
                    <a:pt x="212" y="1616"/>
                  </a:lnTo>
                  <a:lnTo>
                    <a:pt x="208" y="1623"/>
                  </a:lnTo>
                  <a:lnTo>
                    <a:pt x="200" y="1631"/>
                  </a:lnTo>
                  <a:lnTo>
                    <a:pt x="187" y="1640"/>
                  </a:lnTo>
                  <a:lnTo>
                    <a:pt x="173" y="1649"/>
                  </a:lnTo>
                  <a:lnTo>
                    <a:pt x="159" y="1655"/>
                  </a:lnTo>
                  <a:lnTo>
                    <a:pt x="145" y="1662"/>
                  </a:lnTo>
                  <a:lnTo>
                    <a:pt x="134" y="1667"/>
                  </a:lnTo>
                  <a:lnTo>
                    <a:pt x="124" y="1670"/>
                  </a:lnTo>
                  <a:lnTo>
                    <a:pt x="112" y="1674"/>
                  </a:lnTo>
                  <a:lnTo>
                    <a:pt x="98" y="1676"/>
                  </a:lnTo>
                  <a:lnTo>
                    <a:pt x="82" y="1679"/>
                  </a:lnTo>
                  <a:lnTo>
                    <a:pt x="69" y="1684"/>
                  </a:lnTo>
                  <a:lnTo>
                    <a:pt x="58" y="1688"/>
                  </a:lnTo>
                  <a:lnTo>
                    <a:pt x="50" y="1693"/>
                  </a:lnTo>
                  <a:lnTo>
                    <a:pt x="48" y="1700"/>
                  </a:lnTo>
                  <a:lnTo>
                    <a:pt x="49" y="1714"/>
                  </a:lnTo>
                  <a:lnTo>
                    <a:pt x="49" y="1725"/>
                  </a:lnTo>
                  <a:lnTo>
                    <a:pt x="49" y="1732"/>
                  </a:lnTo>
                  <a:lnTo>
                    <a:pt x="48" y="1735"/>
                  </a:lnTo>
                  <a:lnTo>
                    <a:pt x="47" y="1736"/>
                  </a:lnTo>
                  <a:lnTo>
                    <a:pt x="42" y="1738"/>
                  </a:lnTo>
                  <a:lnTo>
                    <a:pt x="35" y="1743"/>
                  </a:lnTo>
                  <a:lnTo>
                    <a:pt x="29" y="1747"/>
                  </a:lnTo>
                  <a:lnTo>
                    <a:pt x="24" y="1753"/>
                  </a:lnTo>
                  <a:lnTo>
                    <a:pt x="23" y="1756"/>
                  </a:lnTo>
                  <a:lnTo>
                    <a:pt x="24" y="1761"/>
                  </a:lnTo>
                  <a:lnTo>
                    <a:pt x="27" y="1768"/>
                  </a:lnTo>
                  <a:lnTo>
                    <a:pt x="33" y="1776"/>
                  </a:lnTo>
                  <a:lnTo>
                    <a:pt x="39" y="1781"/>
                  </a:lnTo>
                  <a:lnTo>
                    <a:pt x="46" y="1783"/>
                  </a:lnTo>
                  <a:lnTo>
                    <a:pt x="53" y="1781"/>
                  </a:lnTo>
                  <a:lnTo>
                    <a:pt x="58" y="1774"/>
                  </a:lnTo>
                  <a:lnTo>
                    <a:pt x="62" y="1768"/>
                  </a:lnTo>
                  <a:lnTo>
                    <a:pt x="66" y="1762"/>
                  </a:lnTo>
                  <a:lnTo>
                    <a:pt x="70" y="1759"/>
                  </a:lnTo>
                  <a:lnTo>
                    <a:pt x="75" y="1758"/>
                  </a:lnTo>
                  <a:lnTo>
                    <a:pt x="81" y="1761"/>
                  </a:lnTo>
                  <a:lnTo>
                    <a:pt x="88" y="1770"/>
                  </a:lnTo>
                  <a:lnTo>
                    <a:pt x="89" y="1779"/>
                  </a:lnTo>
                  <a:lnTo>
                    <a:pt x="89" y="1788"/>
                  </a:lnTo>
                  <a:lnTo>
                    <a:pt x="87" y="1794"/>
                  </a:lnTo>
                  <a:lnTo>
                    <a:pt x="85" y="1796"/>
                  </a:lnTo>
                  <a:lnTo>
                    <a:pt x="85" y="1797"/>
                  </a:lnTo>
                  <a:lnTo>
                    <a:pt x="87" y="1801"/>
                  </a:lnTo>
                  <a:lnTo>
                    <a:pt x="88" y="1804"/>
                  </a:lnTo>
                  <a:lnTo>
                    <a:pt x="90" y="1806"/>
                  </a:lnTo>
                  <a:lnTo>
                    <a:pt x="94" y="1808"/>
                  </a:lnTo>
                  <a:lnTo>
                    <a:pt x="101" y="1808"/>
                  </a:lnTo>
                  <a:lnTo>
                    <a:pt x="111" y="1805"/>
                  </a:lnTo>
                  <a:lnTo>
                    <a:pt x="138" y="1796"/>
                  </a:lnTo>
                  <a:lnTo>
                    <a:pt x="165" y="1792"/>
                  </a:lnTo>
                  <a:lnTo>
                    <a:pt x="188" y="1789"/>
                  </a:lnTo>
                  <a:lnTo>
                    <a:pt x="198" y="1785"/>
                  </a:lnTo>
                  <a:lnTo>
                    <a:pt x="210" y="1782"/>
                  </a:lnTo>
                  <a:lnTo>
                    <a:pt x="223" y="1777"/>
                  </a:lnTo>
                  <a:lnTo>
                    <a:pt x="235" y="1771"/>
                  </a:lnTo>
                  <a:lnTo>
                    <a:pt x="247" y="1767"/>
                  </a:lnTo>
                  <a:lnTo>
                    <a:pt x="257" y="1762"/>
                  </a:lnTo>
                  <a:lnTo>
                    <a:pt x="264" y="1759"/>
                  </a:lnTo>
                  <a:lnTo>
                    <a:pt x="267" y="1758"/>
                  </a:lnTo>
                  <a:lnTo>
                    <a:pt x="264" y="1759"/>
                  </a:lnTo>
                  <a:lnTo>
                    <a:pt x="258" y="1762"/>
                  </a:lnTo>
                  <a:lnTo>
                    <a:pt x="249" y="1768"/>
                  </a:lnTo>
                  <a:lnTo>
                    <a:pt x="238" y="1773"/>
                  </a:lnTo>
                  <a:lnTo>
                    <a:pt x="226" y="1780"/>
                  </a:lnTo>
                  <a:lnTo>
                    <a:pt x="214" y="1788"/>
                  </a:lnTo>
                  <a:lnTo>
                    <a:pt x="204" y="1793"/>
                  </a:lnTo>
                  <a:lnTo>
                    <a:pt x="196" y="1798"/>
                  </a:lnTo>
                  <a:lnTo>
                    <a:pt x="188" y="1804"/>
                  </a:lnTo>
                  <a:lnTo>
                    <a:pt x="176" y="1811"/>
                  </a:lnTo>
                  <a:lnTo>
                    <a:pt x="162" y="1817"/>
                  </a:lnTo>
                  <a:lnTo>
                    <a:pt x="147" y="1825"/>
                  </a:lnTo>
                  <a:lnTo>
                    <a:pt x="133" y="1832"/>
                  </a:lnTo>
                  <a:lnTo>
                    <a:pt x="119" y="1840"/>
                  </a:lnTo>
                  <a:lnTo>
                    <a:pt x="108" y="1847"/>
                  </a:lnTo>
                  <a:lnTo>
                    <a:pt x="103" y="1852"/>
                  </a:lnTo>
                  <a:lnTo>
                    <a:pt x="99" y="1859"/>
                  </a:lnTo>
                  <a:lnTo>
                    <a:pt x="91" y="1865"/>
                  </a:lnTo>
                  <a:lnTo>
                    <a:pt x="81" y="1871"/>
                  </a:lnTo>
                  <a:lnTo>
                    <a:pt x="72" y="1876"/>
                  </a:lnTo>
                  <a:lnTo>
                    <a:pt x="64" y="1881"/>
                  </a:lnTo>
                  <a:lnTo>
                    <a:pt x="57" y="1883"/>
                  </a:lnTo>
                  <a:lnTo>
                    <a:pt x="55" y="1884"/>
                  </a:lnTo>
                  <a:lnTo>
                    <a:pt x="58" y="1885"/>
                  </a:lnTo>
                  <a:lnTo>
                    <a:pt x="66" y="1886"/>
                  </a:lnTo>
                  <a:lnTo>
                    <a:pt x="78" y="1888"/>
                  </a:lnTo>
                  <a:lnTo>
                    <a:pt x="93" y="1889"/>
                  </a:lnTo>
                  <a:lnTo>
                    <a:pt x="112" y="1888"/>
                  </a:lnTo>
                  <a:lnTo>
                    <a:pt x="134" y="1886"/>
                  </a:lnTo>
                  <a:lnTo>
                    <a:pt x="150" y="1882"/>
                  </a:lnTo>
                  <a:lnTo>
                    <a:pt x="162" y="1877"/>
                  </a:lnTo>
                  <a:lnTo>
                    <a:pt x="171" y="1873"/>
                  </a:lnTo>
                  <a:lnTo>
                    <a:pt x="180" y="1869"/>
                  </a:lnTo>
                  <a:lnTo>
                    <a:pt x="188" y="1865"/>
                  </a:lnTo>
                  <a:lnTo>
                    <a:pt x="199" y="1863"/>
                  </a:lnTo>
                  <a:lnTo>
                    <a:pt x="215" y="1863"/>
                  </a:lnTo>
                  <a:lnTo>
                    <a:pt x="233" y="1862"/>
                  </a:lnTo>
                  <a:lnTo>
                    <a:pt x="249" y="1859"/>
                  </a:lnTo>
                  <a:lnTo>
                    <a:pt x="261" y="1853"/>
                  </a:lnTo>
                  <a:lnTo>
                    <a:pt x="269" y="1848"/>
                  </a:lnTo>
                  <a:lnTo>
                    <a:pt x="276" y="1843"/>
                  </a:lnTo>
                  <a:lnTo>
                    <a:pt x="280" y="1839"/>
                  </a:lnTo>
                  <a:lnTo>
                    <a:pt x="285" y="1840"/>
                  </a:lnTo>
                  <a:lnTo>
                    <a:pt x="288" y="1844"/>
                  </a:lnTo>
                  <a:lnTo>
                    <a:pt x="291" y="1851"/>
                  </a:lnTo>
                  <a:lnTo>
                    <a:pt x="292" y="1857"/>
                  </a:lnTo>
                  <a:lnTo>
                    <a:pt x="292" y="1859"/>
                  </a:lnTo>
                  <a:lnTo>
                    <a:pt x="290" y="1860"/>
                  </a:lnTo>
                  <a:lnTo>
                    <a:pt x="284" y="1863"/>
                  </a:lnTo>
                  <a:lnTo>
                    <a:pt x="274" y="1867"/>
                  </a:lnTo>
                  <a:lnTo>
                    <a:pt x="262" y="1874"/>
                  </a:lnTo>
                  <a:lnTo>
                    <a:pt x="247" y="1881"/>
                  </a:lnTo>
                  <a:lnTo>
                    <a:pt x="233" y="1887"/>
                  </a:lnTo>
                  <a:lnTo>
                    <a:pt x="220" y="1894"/>
                  </a:lnTo>
                  <a:lnTo>
                    <a:pt x="208" y="1900"/>
                  </a:lnTo>
                  <a:lnTo>
                    <a:pt x="198" y="1907"/>
                  </a:lnTo>
                  <a:lnTo>
                    <a:pt x="192" y="1911"/>
                  </a:lnTo>
                  <a:lnTo>
                    <a:pt x="189" y="1915"/>
                  </a:lnTo>
                  <a:lnTo>
                    <a:pt x="189" y="1920"/>
                  </a:lnTo>
                  <a:lnTo>
                    <a:pt x="187" y="1927"/>
                  </a:lnTo>
                  <a:lnTo>
                    <a:pt x="184" y="1935"/>
                  </a:lnTo>
                  <a:lnTo>
                    <a:pt x="181" y="1943"/>
                  </a:lnTo>
                  <a:lnTo>
                    <a:pt x="179" y="1951"/>
                  </a:lnTo>
                  <a:lnTo>
                    <a:pt x="180" y="1957"/>
                  </a:lnTo>
                  <a:lnTo>
                    <a:pt x="183" y="1960"/>
                  </a:lnTo>
                  <a:lnTo>
                    <a:pt x="195" y="1960"/>
                  </a:lnTo>
                  <a:lnTo>
                    <a:pt x="209" y="1958"/>
                  </a:lnTo>
                  <a:lnTo>
                    <a:pt x="224" y="1955"/>
                  </a:lnTo>
                  <a:lnTo>
                    <a:pt x="243" y="1950"/>
                  </a:lnTo>
                  <a:lnTo>
                    <a:pt x="256" y="1947"/>
                  </a:lnTo>
                  <a:lnTo>
                    <a:pt x="269" y="1946"/>
                  </a:lnTo>
                  <a:lnTo>
                    <a:pt x="281" y="1945"/>
                  </a:lnTo>
                  <a:lnTo>
                    <a:pt x="293" y="1947"/>
                  </a:lnTo>
                  <a:lnTo>
                    <a:pt x="302" y="1951"/>
                  </a:lnTo>
                  <a:lnTo>
                    <a:pt x="308" y="1955"/>
                  </a:lnTo>
                  <a:lnTo>
                    <a:pt x="310" y="1960"/>
                  </a:lnTo>
                  <a:lnTo>
                    <a:pt x="312" y="1966"/>
                  </a:lnTo>
                  <a:lnTo>
                    <a:pt x="313" y="1969"/>
                  </a:lnTo>
                  <a:lnTo>
                    <a:pt x="315" y="1973"/>
                  </a:lnTo>
                  <a:lnTo>
                    <a:pt x="320" y="1975"/>
                  </a:lnTo>
                  <a:lnTo>
                    <a:pt x="327" y="1974"/>
                  </a:lnTo>
                  <a:lnTo>
                    <a:pt x="338" y="1971"/>
                  </a:lnTo>
                  <a:lnTo>
                    <a:pt x="359" y="1963"/>
                  </a:lnTo>
                  <a:lnTo>
                    <a:pt x="378" y="1954"/>
                  </a:lnTo>
                  <a:lnTo>
                    <a:pt x="396" y="1946"/>
                  </a:lnTo>
                  <a:lnTo>
                    <a:pt x="415" y="1943"/>
                  </a:lnTo>
                  <a:lnTo>
                    <a:pt x="426" y="1943"/>
                  </a:lnTo>
                  <a:lnTo>
                    <a:pt x="435" y="1944"/>
                  </a:lnTo>
                  <a:lnTo>
                    <a:pt x="441" y="1947"/>
                  </a:lnTo>
                  <a:lnTo>
                    <a:pt x="448" y="1950"/>
                  </a:lnTo>
                  <a:lnTo>
                    <a:pt x="455" y="1951"/>
                  </a:lnTo>
                  <a:lnTo>
                    <a:pt x="463" y="1948"/>
                  </a:lnTo>
                  <a:lnTo>
                    <a:pt x="473" y="1944"/>
                  </a:lnTo>
                  <a:lnTo>
                    <a:pt x="483" y="1936"/>
                  </a:lnTo>
                  <a:lnTo>
                    <a:pt x="492" y="1929"/>
                  </a:lnTo>
                  <a:lnTo>
                    <a:pt x="500" y="1922"/>
                  </a:lnTo>
                  <a:lnTo>
                    <a:pt x="508" y="1918"/>
                  </a:lnTo>
                  <a:lnTo>
                    <a:pt x="516" y="1918"/>
                  </a:lnTo>
                  <a:lnTo>
                    <a:pt x="524" y="1923"/>
                  </a:lnTo>
                  <a:lnTo>
                    <a:pt x="532" y="1929"/>
                  </a:lnTo>
                  <a:lnTo>
                    <a:pt x="540" y="1932"/>
                  </a:lnTo>
                  <a:lnTo>
                    <a:pt x="545" y="1933"/>
                  </a:lnTo>
                  <a:lnTo>
                    <a:pt x="550" y="1930"/>
                  </a:lnTo>
                  <a:lnTo>
                    <a:pt x="552" y="1923"/>
                  </a:lnTo>
                  <a:lnTo>
                    <a:pt x="552" y="1915"/>
                  </a:lnTo>
                  <a:lnTo>
                    <a:pt x="551" y="1907"/>
                  </a:lnTo>
                  <a:lnTo>
                    <a:pt x="551" y="1900"/>
                  </a:lnTo>
                  <a:lnTo>
                    <a:pt x="551" y="1896"/>
                  </a:lnTo>
                  <a:lnTo>
                    <a:pt x="553" y="1895"/>
                  </a:lnTo>
                  <a:lnTo>
                    <a:pt x="555" y="1898"/>
                  </a:lnTo>
                  <a:lnTo>
                    <a:pt x="558" y="1902"/>
                  </a:lnTo>
                  <a:lnTo>
                    <a:pt x="561" y="1908"/>
                  </a:lnTo>
                  <a:lnTo>
                    <a:pt x="564" y="1913"/>
                  </a:lnTo>
                  <a:lnTo>
                    <a:pt x="568" y="1917"/>
                  </a:lnTo>
                  <a:lnTo>
                    <a:pt x="574" y="1918"/>
                  </a:lnTo>
                  <a:lnTo>
                    <a:pt x="581" y="1916"/>
                  </a:lnTo>
                  <a:lnTo>
                    <a:pt x="590" y="1908"/>
                  </a:lnTo>
                  <a:lnTo>
                    <a:pt x="598" y="1899"/>
                  </a:lnTo>
                  <a:lnTo>
                    <a:pt x="602" y="1894"/>
                  </a:lnTo>
                  <a:lnTo>
                    <a:pt x="605" y="1889"/>
                  </a:lnTo>
                  <a:lnTo>
                    <a:pt x="607" y="1886"/>
                  </a:lnTo>
                  <a:lnTo>
                    <a:pt x="609" y="1883"/>
                  </a:lnTo>
                  <a:lnTo>
                    <a:pt x="612" y="1879"/>
                  </a:lnTo>
                  <a:lnTo>
                    <a:pt x="619" y="1875"/>
                  </a:lnTo>
                  <a:lnTo>
                    <a:pt x="628" y="1869"/>
                  </a:lnTo>
                  <a:lnTo>
                    <a:pt x="645" y="1859"/>
                  </a:lnTo>
                  <a:lnTo>
                    <a:pt x="658" y="1852"/>
                  </a:lnTo>
                  <a:lnTo>
                    <a:pt x="668" y="1846"/>
                  </a:lnTo>
                  <a:lnTo>
                    <a:pt x="674" y="1840"/>
                  </a:lnTo>
                  <a:lnTo>
                    <a:pt x="678" y="1835"/>
                  </a:lnTo>
                  <a:lnTo>
                    <a:pt x="677" y="1827"/>
                  </a:lnTo>
                  <a:lnTo>
                    <a:pt x="673" y="1821"/>
                  </a:lnTo>
                  <a:lnTo>
                    <a:pt x="668" y="1815"/>
                  </a:lnTo>
                  <a:lnTo>
                    <a:pt x="661" y="1808"/>
                  </a:lnTo>
                  <a:lnTo>
                    <a:pt x="654" y="1802"/>
                  </a:lnTo>
                  <a:lnTo>
                    <a:pt x="648" y="1795"/>
                  </a:lnTo>
                  <a:lnTo>
                    <a:pt x="643" y="1791"/>
                  </a:lnTo>
                  <a:lnTo>
                    <a:pt x="642" y="1786"/>
                  </a:lnTo>
                  <a:lnTo>
                    <a:pt x="644" y="1785"/>
                  </a:lnTo>
                  <a:lnTo>
                    <a:pt x="650" y="1785"/>
                  </a:lnTo>
                  <a:lnTo>
                    <a:pt x="667" y="1789"/>
                  </a:lnTo>
                  <a:lnTo>
                    <a:pt x="681" y="1791"/>
                  </a:lnTo>
                  <a:lnTo>
                    <a:pt x="692" y="1793"/>
                  </a:lnTo>
                  <a:lnTo>
                    <a:pt x="700" y="1794"/>
                  </a:lnTo>
                  <a:lnTo>
                    <a:pt x="702" y="1794"/>
                  </a:lnTo>
                  <a:lnTo>
                    <a:pt x="701" y="1795"/>
                  </a:lnTo>
                  <a:lnTo>
                    <a:pt x="698" y="1798"/>
                  </a:lnTo>
                  <a:lnTo>
                    <a:pt x="695" y="1803"/>
                  </a:lnTo>
                  <a:lnTo>
                    <a:pt x="691" y="1808"/>
                  </a:lnTo>
                  <a:lnTo>
                    <a:pt x="689" y="1814"/>
                  </a:lnTo>
                  <a:lnTo>
                    <a:pt x="686" y="1819"/>
                  </a:lnTo>
                  <a:lnTo>
                    <a:pt x="688" y="1823"/>
                  </a:lnTo>
                  <a:lnTo>
                    <a:pt x="691" y="1826"/>
                  </a:lnTo>
                  <a:lnTo>
                    <a:pt x="698" y="1826"/>
                  </a:lnTo>
                  <a:lnTo>
                    <a:pt x="714" y="1824"/>
                  </a:lnTo>
                  <a:lnTo>
                    <a:pt x="731" y="1820"/>
                  </a:lnTo>
                  <a:lnTo>
                    <a:pt x="748" y="1816"/>
                  </a:lnTo>
                  <a:lnTo>
                    <a:pt x="763" y="1811"/>
                  </a:lnTo>
                  <a:lnTo>
                    <a:pt x="775" y="1804"/>
                  </a:lnTo>
                  <a:lnTo>
                    <a:pt x="783" y="1796"/>
                  </a:lnTo>
                  <a:lnTo>
                    <a:pt x="786" y="1790"/>
                  </a:lnTo>
                  <a:lnTo>
                    <a:pt x="788" y="1782"/>
                  </a:lnTo>
                  <a:lnTo>
                    <a:pt x="789" y="1774"/>
                  </a:lnTo>
                  <a:lnTo>
                    <a:pt x="792" y="1768"/>
                  </a:lnTo>
                  <a:lnTo>
                    <a:pt x="796" y="1762"/>
                  </a:lnTo>
                  <a:lnTo>
                    <a:pt x="804" y="1759"/>
                  </a:lnTo>
                  <a:lnTo>
                    <a:pt x="816" y="1758"/>
                  </a:lnTo>
                  <a:lnTo>
                    <a:pt x="839" y="1758"/>
                  </a:lnTo>
                  <a:lnTo>
                    <a:pt x="857" y="1756"/>
                  </a:lnTo>
                  <a:lnTo>
                    <a:pt x="871" y="1750"/>
                  </a:lnTo>
                  <a:lnTo>
                    <a:pt x="882" y="1742"/>
                  </a:lnTo>
                  <a:lnTo>
                    <a:pt x="892" y="1731"/>
                  </a:lnTo>
                  <a:lnTo>
                    <a:pt x="903" y="1721"/>
                  </a:lnTo>
                  <a:lnTo>
                    <a:pt x="911" y="1712"/>
                  </a:lnTo>
                  <a:lnTo>
                    <a:pt x="915" y="1704"/>
                  </a:lnTo>
                  <a:lnTo>
                    <a:pt x="913" y="1701"/>
                  </a:lnTo>
                  <a:lnTo>
                    <a:pt x="909" y="1700"/>
                  </a:lnTo>
                  <a:lnTo>
                    <a:pt x="901" y="1698"/>
                  </a:lnTo>
                  <a:lnTo>
                    <a:pt x="893" y="1696"/>
                  </a:lnTo>
                  <a:lnTo>
                    <a:pt x="885" y="1695"/>
                  </a:lnTo>
                  <a:lnTo>
                    <a:pt x="878" y="1693"/>
                  </a:lnTo>
                  <a:lnTo>
                    <a:pt x="874" y="1691"/>
                  </a:lnTo>
                  <a:lnTo>
                    <a:pt x="871" y="1690"/>
                  </a:lnTo>
                  <a:lnTo>
                    <a:pt x="875" y="1688"/>
                  </a:lnTo>
                  <a:lnTo>
                    <a:pt x="885" y="1686"/>
                  </a:lnTo>
                  <a:lnTo>
                    <a:pt x="900" y="1684"/>
                  </a:lnTo>
                  <a:lnTo>
                    <a:pt x="932" y="1679"/>
                  </a:lnTo>
                  <a:lnTo>
                    <a:pt x="958" y="1676"/>
                  </a:lnTo>
                  <a:lnTo>
                    <a:pt x="979" y="1673"/>
                  </a:lnTo>
                  <a:lnTo>
                    <a:pt x="997" y="1669"/>
                  </a:lnTo>
                  <a:lnTo>
                    <a:pt x="1015" y="1667"/>
                  </a:lnTo>
                  <a:lnTo>
                    <a:pt x="1032" y="1665"/>
                  </a:lnTo>
                  <a:lnTo>
                    <a:pt x="1047" y="1665"/>
                  </a:lnTo>
                  <a:lnTo>
                    <a:pt x="1059" y="1667"/>
                  </a:lnTo>
                  <a:lnTo>
                    <a:pt x="1067" y="1672"/>
                  </a:lnTo>
                  <a:lnTo>
                    <a:pt x="1075" y="1675"/>
                  </a:lnTo>
                  <a:lnTo>
                    <a:pt x="1082" y="1676"/>
                  </a:lnTo>
                  <a:lnTo>
                    <a:pt x="1087" y="1674"/>
                  </a:lnTo>
                  <a:lnTo>
                    <a:pt x="1093" y="1668"/>
                  </a:lnTo>
                  <a:lnTo>
                    <a:pt x="1098" y="1656"/>
                  </a:lnTo>
                  <a:lnTo>
                    <a:pt x="1101" y="1646"/>
                  </a:lnTo>
                  <a:lnTo>
                    <a:pt x="1101" y="1638"/>
                  </a:lnTo>
                  <a:lnTo>
                    <a:pt x="1101" y="1631"/>
                  </a:lnTo>
                  <a:lnTo>
                    <a:pt x="1101" y="1624"/>
                  </a:lnTo>
                  <a:lnTo>
                    <a:pt x="1102" y="1621"/>
                  </a:lnTo>
                  <a:lnTo>
                    <a:pt x="1107" y="1621"/>
                  </a:lnTo>
                  <a:lnTo>
                    <a:pt x="1112" y="1623"/>
                  </a:lnTo>
                  <a:lnTo>
                    <a:pt x="1118" y="1628"/>
                  </a:lnTo>
                  <a:lnTo>
                    <a:pt x="1123" y="1632"/>
                  </a:lnTo>
                  <a:lnTo>
                    <a:pt x="1127" y="1639"/>
                  </a:lnTo>
                  <a:lnTo>
                    <a:pt x="1129" y="1645"/>
                  </a:lnTo>
                  <a:lnTo>
                    <a:pt x="1129" y="1653"/>
                  </a:lnTo>
                  <a:lnTo>
                    <a:pt x="1133" y="1658"/>
                  </a:lnTo>
                  <a:lnTo>
                    <a:pt x="1139" y="1659"/>
                  </a:lnTo>
                  <a:lnTo>
                    <a:pt x="1147" y="1656"/>
                  </a:lnTo>
                  <a:lnTo>
                    <a:pt x="1157" y="1650"/>
                  </a:lnTo>
                  <a:lnTo>
                    <a:pt x="1167" y="1643"/>
                  </a:lnTo>
                  <a:lnTo>
                    <a:pt x="1177" y="1638"/>
                  </a:lnTo>
                  <a:lnTo>
                    <a:pt x="1187" y="1635"/>
                  </a:lnTo>
                  <a:lnTo>
                    <a:pt x="1198" y="1637"/>
                  </a:lnTo>
                  <a:lnTo>
                    <a:pt x="1211" y="1643"/>
                  </a:lnTo>
                  <a:lnTo>
                    <a:pt x="1228" y="1650"/>
                  </a:lnTo>
                  <a:lnTo>
                    <a:pt x="1245" y="1651"/>
                  </a:lnTo>
                  <a:lnTo>
                    <a:pt x="1260" y="1649"/>
                  </a:lnTo>
                  <a:lnTo>
                    <a:pt x="1274" y="1645"/>
                  </a:lnTo>
                  <a:lnTo>
                    <a:pt x="1284" y="1643"/>
                  </a:lnTo>
                  <a:lnTo>
                    <a:pt x="1292" y="1641"/>
                  </a:lnTo>
                  <a:lnTo>
                    <a:pt x="1299" y="1639"/>
                  </a:lnTo>
                  <a:lnTo>
                    <a:pt x="1304" y="1635"/>
                  </a:lnTo>
                  <a:lnTo>
                    <a:pt x="1306" y="1630"/>
                  </a:lnTo>
                  <a:lnTo>
                    <a:pt x="1303" y="1623"/>
                  </a:lnTo>
                  <a:lnTo>
                    <a:pt x="1296" y="1616"/>
                  </a:lnTo>
                  <a:lnTo>
                    <a:pt x="1287" y="1606"/>
                  </a:lnTo>
                  <a:lnTo>
                    <a:pt x="1278" y="1597"/>
                  </a:lnTo>
                  <a:lnTo>
                    <a:pt x="1269" y="1587"/>
                  </a:lnTo>
                  <a:lnTo>
                    <a:pt x="1262" y="1578"/>
                  </a:lnTo>
                  <a:lnTo>
                    <a:pt x="1260" y="1571"/>
                  </a:lnTo>
                  <a:lnTo>
                    <a:pt x="1261" y="1565"/>
                  </a:lnTo>
                  <a:lnTo>
                    <a:pt x="1264" y="1562"/>
                  </a:lnTo>
                  <a:lnTo>
                    <a:pt x="1271" y="1559"/>
                  </a:lnTo>
                  <a:lnTo>
                    <a:pt x="1279" y="1554"/>
                  </a:lnTo>
                  <a:lnTo>
                    <a:pt x="1287" y="1548"/>
                  </a:lnTo>
                  <a:lnTo>
                    <a:pt x="1299" y="1537"/>
                  </a:lnTo>
                  <a:lnTo>
                    <a:pt x="1312" y="1524"/>
                  </a:lnTo>
                  <a:lnTo>
                    <a:pt x="1324" y="1512"/>
                  </a:lnTo>
                  <a:lnTo>
                    <a:pt x="1335" y="1500"/>
                  </a:lnTo>
                  <a:lnTo>
                    <a:pt x="1343" y="1489"/>
                  </a:lnTo>
                  <a:lnTo>
                    <a:pt x="1350" y="1478"/>
                  </a:lnTo>
                  <a:lnTo>
                    <a:pt x="1351" y="1466"/>
                  </a:lnTo>
                  <a:lnTo>
                    <a:pt x="1351" y="1449"/>
                  </a:lnTo>
                  <a:lnTo>
                    <a:pt x="1351" y="1431"/>
                  </a:lnTo>
                  <a:lnTo>
                    <a:pt x="1353" y="1412"/>
                  </a:lnTo>
                  <a:lnTo>
                    <a:pt x="1357" y="1396"/>
                  </a:lnTo>
                  <a:lnTo>
                    <a:pt x="1363" y="1383"/>
                  </a:lnTo>
                  <a:lnTo>
                    <a:pt x="1372" y="1366"/>
                  </a:lnTo>
                  <a:lnTo>
                    <a:pt x="1380" y="1346"/>
                  </a:lnTo>
                  <a:lnTo>
                    <a:pt x="1388" y="1325"/>
                  </a:lnTo>
                  <a:lnTo>
                    <a:pt x="1397" y="1302"/>
                  </a:lnTo>
                  <a:lnTo>
                    <a:pt x="1405" y="1281"/>
                  </a:lnTo>
                  <a:lnTo>
                    <a:pt x="1410" y="1262"/>
                  </a:lnTo>
                  <a:lnTo>
                    <a:pt x="1412" y="1245"/>
                  </a:lnTo>
                  <a:lnTo>
                    <a:pt x="1410" y="1227"/>
                  </a:lnTo>
                  <a:lnTo>
                    <a:pt x="1407" y="1215"/>
                  </a:lnTo>
                  <a:lnTo>
                    <a:pt x="1407" y="1203"/>
                  </a:lnTo>
                  <a:lnTo>
                    <a:pt x="1407" y="1192"/>
                  </a:lnTo>
                  <a:lnTo>
                    <a:pt x="1406" y="1179"/>
                  </a:lnTo>
                  <a:lnTo>
                    <a:pt x="1403" y="1166"/>
                  </a:lnTo>
                  <a:lnTo>
                    <a:pt x="1398" y="1151"/>
                  </a:lnTo>
                  <a:lnTo>
                    <a:pt x="1389" y="1131"/>
                  </a:lnTo>
                  <a:lnTo>
                    <a:pt x="1380" y="1112"/>
                  </a:lnTo>
                  <a:lnTo>
                    <a:pt x="1372" y="1095"/>
                  </a:lnTo>
                  <a:lnTo>
                    <a:pt x="1364" y="1080"/>
                  </a:lnTo>
                  <a:lnTo>
                    <a:pt x="1360" y="1071"/>
                  </a:lnTo>
                  <a:lnTo>
                    <a:pt x="1354" y="1062"/>
                  </a:lnTo>
                  <a:lnTo>
                    <a:pt x="1351" y="1053"/>
                  </a:lnTo>
                  <a:lnTo>
                    <a:pt x="1351" y="1044"/>
                  </a:lnTo>
                  <a:lnTo>
                    <a:pt x="1354" y="1038"/>
                  </a:lnTo>
                  <a:lnTo>
                    <a:pt x="1362" y="1032"/>
                  </a:lnTo>
                  <a:lnTo>
                    <a:pt x="1370" y="1025"/>
                  </a:lnTo>
                  <a:lnTo>
                    <a:pt x="1377" y="1016"/>
                  </a:lnTo>
                  <a:lnTo>
                    <a:pt x="1384" y="1005"/>
                  </a:lnTo>
                  <a:lnTo>
                    <a:pt x="1385" y="991"/>
                  </a:lnTo>
                  <a:lnTo>
                    <a:pt x="1387" y="980"/>
                  </a:lnTo>
                  <a:lnTo>
                    <a:pt x="1390" y="969"/>
                  </a:lnTo>
                  <a:lnTo>
                    <a:pt x="1395" y="959"/>
                  </a:lnTo>
                  <a:lnTo>
                    <a:pt x="1397" y="951"/>
                  </a:lnTo>
                  <a:lnTo>
                    <a:pt x="1397" y="944"/>
                  </a:lnTo>
                  <a:lnTo>
                    <a:pt x="1393" y="937"/>
                  </a:lnTo>
                  <a:lnTo>
                    <a:pt x="1386" y="933"/>
                  </a:lnTo>
                  <a:lnTo>
                    <a:pt x="1378" y="927"/>
                  </a:lnTo>
                  <a:lnTo>
                    <a:pt x="1371" y="922"/>
                  </a:lnTo>
                  <a:lnTo>
                    <a:pt x="1363" y="915"/>
                  </a:lnTo>
                  <a:lnTo>
                    <a:pt x="1356" y="908"/>
                  </a:lnTo>
                  <a:lnTo>
                    <a:pt x="1352" y="896"/>
                  </a:lnTo>
                  <a:lnTo>
                    <a:pt x="1349" y="881"/>
                  </a:lnTo>
                  <a:lnTo>
                    <a:pt x="1349" y="866"/>
                  </a:lnTo>
                  <a:lnTo>
                    <a:pt x="1350" y="854"/>
                  </a:lnTo>
                  <a:lnTo>
                    <a:pt x="1352" y="845"/>
                  </a:lnTo>
                  <a:lnTo>
                    <a:pt x="1353" y="839"/>
                  </a:lnTo>
                  <a:lnTo>
                    <a:pt x="1354" y="831"/>
                  </a:lnTo>
                  <a:lnTo>
                    <a:pt x="1354" y="821"/>
                  </a:lnTo>
                  <a:lnTo>
                    <a:pt x="1353" y="812"/>
                  </a:lnTo>
                  <a:lnTo>
                    <a:pt x="1352" y="806"/>
                  </a:lnTo>
                  <a:lnTo>
                    <a:pt x="1352" y="800"/>
                  </a:lnTo>
                  <a:lnTo>
                    <a:pt x="1351" y="796"/>
                  </a:lnTo>
                  <a:lnTo>
                    <a:pt x="1348" y="792"/>
                  </a:lnTo>
                  <a:lnTo>
                    <a:pt x="1342" y="785"/>
                  </a:lnTo>
                  <a:lnTo>
                    <a:pt x="1333" y="776"/>
                  </a:lnTo>
                  <a:lnTo>
                    <a:pt x="1324" y="766"/>
                  </a:lnTo>
                  <a:lnTo>
                    <a:pt x="1316" y="755"/>
                  </a:lnTo>
                  <a:lnTo>
                    <a:pt x="1309" y="746"/>
                  </a:lnTo>
                  <a:lnTo>
                    <a:pt x="1306" y="735"/>
                  </a:lnTo>
                  <a:lnTo>
                    <a:pt x="1307" y="727"/>
                  </a:lnTo>
                  <a:lnTo>
                    <a:pt x="1313" y="723"/>
                  </a:lnTo>
                  <a:lnTo>
                    <a:pt x="1319" y="721"/>
                  </a:lnTo>
                  <a:lnTo>
                    <a:pt x="1329" y="721"/>
                  </a:lnTo>
                  <a:lnTo>
                    <a:pt x="1339" y="724"/>
                  </a:lnTo>
                  <a:lnTo>
                    <a:pt x="1350" y="726"/>
                  </a:lnTo>
                  <a:lnTo>
                    <a:pt x="1360" y="728"/>
                  </a:lnTo>
                  <a:lnTo>
                    <a:pt x="1368" y="729"/>
                  </a:lnTo>
                  <a:lnTo>
                    <a:pt x="1374" y="729"/>
                  </a:lnTo>
                  <a:lnTo>
                    <a:pt x="1379" y="726"/>
                  </a:lnTo>
                  <a:lnTo>
                    <a:pt x="1383" y="720"/>
                  </a:lnTo>
                  <a:lnTo>
                    <a:pt x="1384" y="712"/>
                  </a:lnTo>
                  <a:lnTo>
                    <a:pt x="1382" y="703"/>
                  </a:lnTo>
                  <a:lnTo>
                    <a:pt x="1378" y="695"/>
                  </a:lnTo>
                  <a:lnTo>
                    <a:pt x="1373" y="688"/>
                  </a:lnTo>
                  <a:lnTo>
                    <a:pt x="1363" y="679"/>
                  </a:lnTo>
                  <a:lnTo>
                    <a:pt x="1356" y="671"/>
                  </a:lnTo>
                  <a:lnTo>
                    <a:pt x="1352" y="667"/>
                  </a:lnTo>
                  <a:lnTo>
                    <a:pt x="1351" y="665"/>
                  </a:lnTo>
                  <a:lnTo>
                    <a:pt x="1313" y="657"/>
                  </a:lnTo>
                  <a:lnTo>
                    <a:pt x="1299" y="680"/>
                  </a:lnTo>
                  <a:lnTo>
                    <a:pt x="1248" y="685"/>
                  </a:lnTo>
                  <a:lnTo>
                    <a:pt x="1227" y="670"/>
                  </a:lnTo>
                  <a:lnTo>
                    <a:pt x="1238" y="633"/>
                  </a:lnTo>
                  <a:lnTo>
                    <a:pt x="1220" y="610"/>
                  </a:lnTo>
                  <a:lnTo>
                    <a:pt x="1202" y="618"/>
                  </a:lnTo>
                  <a:lnTo>
                    <a:pt x="1168" y="566"/>
                  </a:lnTo>
                  <a:lnTo>
                    <a:pt x="1174" y="541"/>
                  </a:lnTo>
                  <a:lnTo>
                    <a:pt x="1123" y="496"/>
                  </a:lnTo>
                  <a:lnTo>
                    <a:pt x="1091" y="529"/>
                  </a:lnTo>
                  <a:lnTo>
                    <a:pt x="1076" y="532"/>
                  </a:lnTo>
                  <a:lnTo>
                    <a:pt x="1077" y="566"/>
                  </a:lnTo>
                  <a:lnTo>
                    <a:pt x="1088" y="576"/>
                  </a:lnTo>
                  <a:lnTo>
                    <a:pt x="1086" y="596"/>
                  </a:lnTo>
                  <a:lnTo>
                    <a:pt x="1060" y="595"/>
                  </a:lnTo>
                  <a:lnTo>
                    <a:pt x="1050" y="609"/>
                  </a:lnTo>
                  <a:lnTo>
                    <a:pt x="1054" y="630"/>
                  </a:lnTo>
                  <a:lnTo>
                    <a:pt x="1019" y="642"/>
                  </a:lnTo>
                  <a:lnTo>
                    <a:pt x="1000" y="626"/>
                  </a:lnTo>
                  <a:lnTo>
                    <a:pt x="977" y="640"/>
                  </a:lnTo>
                  <a:lnTo>
                    <a:pt x="952" y="628"/>
                  </a:lnTo>
                  <a:lnTo>
                    <a:pt x="914" y="593"/>
                  </a:lnTo>
                  <a:lnTo>
                    <a:pt x="871" y="592"/>
                  </a:lnTo>
                  <a:lnTo>
                    <a:pt x="868" y="557"/>
                  </a:lnTo>
                  <a:lnTo>
                    <a:pt x="821" y="508"/>
                  </a:lnTo>
                  <a:lnTo>
                    <a:pt x="789" y="458"/>
                  </a:lnTo>
                  <a:lnTo>
                    <a:pt x="816" y="441"/>
                  </a:lnTo>
                  <a:lnTo>
                    <a:pt x="838" y="419"/>
                  </a:lnTo>
                  <a:lnTo>
                    <a:pt x="879" y="425"/>
                  </a:lnTo>
                  <a:lnTo>
                    <a:pt x="922" y="388"/>
                  </a:lnTo>
                  <a:lnTo>
                    <a:pt x="891" y="373"/>
                  </a:lnTo>
                  <a:lnTo>
                    <a:pt x="868" y="349"/>
                  </a:lnTo>
                  <a:lnTo>
                    <a:pt x="892" y="330"/>
                  </a:lnTo>
                  <a:lnTo>
                    <a:pt x="915" y="342"/>
                  </a:lnTo>
                  <a:lnTo>
                    <a:pt x="951" y="320"/>
                  </a:lnTo>
                  <a:lnTo>
                    <a:pt x="982" y="323"/>
                  </a:lnTo>
                  <a:lnTo>
                    <a:pt x="979" y="294"/>
                  </a:lnTo>
                  <a:lnTo>
                    <a:pt x="1014" y="257"/>
                  </a:lnTo>
                  <a:lnTo>
                    <a:pt x="1013" y="221"/>
                  </a:lnTo>
                  <a:lnTo>
                    <a:pt x="1035" y="178"/>
                  </a:lnTo>
                  <a:lnTo>
                    <a:pt x="1074" y="159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5390280" y="3978720"/>
              <a:ext cx="836640" cy="637560"/>
            </a:xfrm>
            <a:custGeom>
              <a:avLst/>
              <a:gdLst/>
              <a:ahLst/>
              <a:rect l="l" t="t" r="r" b="b"/>
              <a:pathLst>
                <a:path w="808" h="618">
                  <a:moveTo>
                    <a:pt x="339" y="95"/>
                  </a:moveTo>
                  <a:lnTo>
                    <a:pt x="284" y="76"/>
                  </a:lnTo>
                  <a:lnTo>
                    <a:pt x="245" y="95"/>
                  </a:lnTo>
                  <a:lnTo>
                    <a:pt x="223" y="138"/>
                  </a:lnTo>
                  <a:lnTo>
                    <a:pt x="224" y="174"/>
                  </a:lnTo>
                  <a:lnTo>
                    <a:pt x="190" y="209"/>
                  </a:lnTo>
                  <a:lnTo>
                    <a:pt x="192" y="240"/>
                  </a:lnTo>
                  <a:lnTo>
                    <a:pt x="161" y="238"/>
                  </a:lnTo>
                  <a:lnTo>
                    <a:pt x="125" y="259"/>
                  </a:lnTo>
                  <a:lnTo>
                    <a:pt x="102" y="247"/>
                  </a:lnTo>
                  <a:lnTo>
                    <a:pt x="78" y="266"/>
                  </a:lnTo>
                  <a:lnTo>
                    <a:pt x="101" y="289"/>
                  </a:lnTo>
                  <a:lnTo>
                    <a:pt x="132" y="305"/>
                  </a:lnTo>
                  <a:lnTo>
                    <a:pt x="89" y="342"/>
                  </a:lnTo>
                  <a:lnTo>
                    <a:pt x="48" y="337"/>
                  </a:lnTo>
                  <a:lnTo>
                    <a:pt x="27" y="357"/>
                  </a:lnTo>
                  <a:lnTo>
                    <a:pt x="0" y="375"/>
                  </a:lnTo>
                  <a:lnTo>
                    <a:pt x="31" y="425"/>
                  </a:lnTo>
                  <a:lnTo>
                    <a:pt x="78" y="474"/>
                  </a:lnTo>
                  <a:lnTo>
                    <a:pt x="81" y="508"/>
                  </a:lnTo>
                  <a:lnTo>
                    <a:pt x="124" y="512"/>
                  </a:lnTo>
                  <a:lnTo>
                    <a:pt x="162" y="544"/>
                  </a:lnTo>
                  <a:lnTo>
                    <a:pt x="185" y="556"/>
                  </a:lnTo>
                  <a:lnTo>
                    <a:pt x="208" y="544"/>
                  </a:lnTo>
                  <a:lnTo>
                    <a:pt x="229" y="557"/>
                  </a:lnTo>
                  <a:lnTo>
                    <a:pt x="264" y="547"/>
                  </a:lnTo>
                  <a:lnTo>
                    <a:pt x="260" y="526"/>
                  </a:lnTo>
                  <a:lnTo>
                    <a:pt x="269" y="513"/>
                  </a:lnTo>
                  <a:lnTo>
                    <a:pt x="296" y="513"/>
                  </a:lnTo>
                  <a:lnTo>
                    <a:pt x="297" y="495"/>
                  </a:lnTo>
                  <a:lnTo>
                    <a:pt x="287" y="483"/>
                  </a:lnTo>
                  <a:lnTo>
                    <a:pt x="287" y="450"/>
                  </a:lnTo>
                  <a:lnTo>
                    <a:pt x="301" y="445"/>
                  </a:lnTo>
                  <a:lnTo>
                    <a:pt x="333" y="413"/>
                  </a:lnTo>
                  <a:lnTo>
                    <a:pt x="385" y="458"/>
                  </a:lnTo>
                  <a:lnTo>
                    <a:pt x="378" y="483"/>
                  </a:lnTo>
                  <a:lnTo>
                    <a:pt x="412" y="533"/>
                  </a:lnTo>
                  <a:lnTo>
                    <a:pt x="431" y="528"/>
                  </a:lnTo>
                  <a:lnTo>
                    <a:pt x="448" y="550"/>
                  </a:lnTo>
                  <a:lnTo>
                    <a:pt x="437" y="587"/>
                  </a:lnTo>
                  <a:lnTo>
                    <a:pt x="457" y="602"/>
                  </a:lnTo>
                  <a:lnTo>
                    <a:pt x="508" y="597"/>
                  </a:lnTo>
                  <a:lnTo>
                    <a:pt x="523" y="574"/>
                  </a:lnTo>
                  <a:lnTo>
                    <a:pt x="560" y="580"/>
                  </a:lnTo>
                  <a:lnTo>
                    <a:pt x="562" y="580"/>
                  </a:lnTo>
                  <a:lnTo>
                    <a:pt x="567" y="582"/>
                  </a:lnTo>
                  <a:lnTo>
                    <a:pt x="574" y="583"/>
                  </a:lnTo>
                  <a:lnTo>
                    <a:pt x="581" y="586"/>
                  </a:lnTo>
                  <a:lnTo>
                    <a:pt x="585" y="590"/>
                  </a:lnTo>
                  <a:lnTo>
                    <a:pt x="593" y="598"/>
                  </a:lnTo>
                  <a:lnTo>
                    <a:pt x="600" y="606"/>
                  </a:lnTo>
                  <a:lnTo>
                    <a:pt x="609" y="613"/>
                  </a:lnTo>
                  <a:lnTo>
                    <a:pt x="616" y="618"/>
                  </a:lnTo>
                  <a:lnTo>
                    <a:pt x="621" y="618"/>
                  </a:lnTo>
                  <a:lnTo>
                    <a:pt x="628" y="614"/>
                  </a:lnTo>
                  <a:lnTo>
                    <a:pt x="636" y="608"/>
                  </a:lnTo>
                  <a:lnTo>
                    <a:pt x="646" y="601"/>
                  </a:lnTo>
                  <a:lnTo>
                    <a:pt x="655" y="594"/>
                  </a:lnTo>
                  <a:lnTo>
                    <a:pt x="663" y="587"/>
                  </a:lnTo>
                  <a:lnTo>
                    <a:pt x="670" y="579"/>
                  </a:lnTo>
                  <a:lnTo>
                    <a:pt x="675" y="570"/>
                  </a:lnTo>
                  <a:lnTo>
                    <a:pt x="676" y="555"/>
                  </a:lnTo>
                  <a:lnTo>
                    <a:pt x="677" y="544"/>
                  </a:lnTo>
                  <a:lnTo>
                    <a:pt x="678" y="535"/>
                  </a:lnTo>
                  <a:lnTo>
                    <a:pt x="680" y="527"/>
                  </a:lnTo>
                  <a:lnTo>
                    <a:pt x="685" y="521"/>
                  </a:lnTo>
                  <a:lnTo>
                    <a:pt x="692" y="518"/>
                  </a:lnTo>
                  <a:lnTo>
                    <a:pt x="704" y="517"/>
                  </a:lnTo>
                  <a:lnTo>
                    <a:pt x="716" y="517"/>
                  </a:lnTo>
                  <a:lnTo>
                    <a:pt x="725" y="518"/>
                  </a:lnTo>
                  <a:lnTo>
                    <a:pt x="730" y="519"/>
                  </a:lnTo>
                  <a:lnTo>
                    <a:pt x="737" y="520"/>
                  </a:lnTo>
                  <a:lnTo>
                    <a:pt x="745" y="520"/>
                  </a:lnTo>
                  <a:lnTo>
                    <a:pt x="754" y="520"/>
                  </a:lnTo>
                  <a:lnTo>
                    <a:pt x="762" y="517"/>
                  </a:lnTo>
                  <a:lnTo>
                    <a:pt x="769" y="512"/>
                  </a:lnTo>
                  <a:lnTo>
                    <a:pt x="773" y="504"/>
                  </a:lnTo>
                  <a:lnTo>
                    <a:pt x="778" y="489"/>
                  </a:lnTo>
                  <a:lnTo>
                    <a:pt x="779" y="474"/>
                  </a:lnTo>
                  <a:lnTo>
                    <a:pt x="778" y="462"/>
                  </a:lnTo>
                  <a:lnTo>
                    <a:pt x="773" y="452"/>
                  </a:lnTo>
                  <a:lnTo>
                    <a:pt x="768" y="448"/>
                  </a:lnTo>
                  <a:lnTo>
                    <a:pt x="760" y="447"/>
                  </a:lnTo>
                  <a:lnTo>
                    <a:pt x="754" y="446"/>
                  </a:lnTo>
                  <a:lnTo>
                    <a:pt x="747" y="444"/>
                  </a:lnTo>
                  <a:lnTo>
                    <a:pt x="743" y="440"/>
                  </a:lnTo>
                  <a:lnTo>
                    <a:pt x="740" y="435"/>
                  </a:lnTo>
                  <a:lnTo>
                    <a:pt x="743" y="427"/>
                  </a:lnTo>
                  <a:lnTo>
                    <a:pt x="745" y="417"/>
                  </a:lnTo>
                  <a:lnTo>
                    <a:pt x="748" y="408"/>
                  </a:lnTo>
                  <a:lnTo>
                    <a:pt x="750" y="398"/>
                  </a:lnTo>
                  <a:lnTo>
                    <a:pt x="749" y="390"/>
                  </a:lnTo>
                  <a:lnTo>
                    <a:pt x="745" y="383"/>
                  </a:lnTo>
                  <a:lnTo>
                    <a:pt x="740" y="376"/>
                  </a:lnTo>
                  <a:lnTo>
                    <a:pt x="736" y="369"/>
                  </a:lnTo>
                  <a:lnTo>
                    <a:pt x="734" y="363"/>
                  </a:lnTo>
                  <a:lnTo>
                    <a:pt x="735" y="358"/>
                  </a:lnTo>
                  <a:lnTo>
                    <a:pt x="739" y="356"/>
                  </a:lnTo>
                  <a:lnTo>
                    <a:pt x="747" y="356"/>
                  </a:lnTo>
                  <a:lnTo>
                    <a:pt x="756" y="358"/>
                  </a:lnTo>
                  <a:lnTo>
                    <a:pt x="765" y="363"/>
                  </a:lnTo>
                  <a:lnTo>
                    <a:pt x="769" y="368"/>
                  </a:lnTo>
                  <a:lnTo>
                    <a:pt x="771" y="376"/>
                  </a:lnTo>
                  <a:lnTo>
                    <a:pt x="773" y="388"/>
                  </a:lnTo>
                  <a:lnTo>
                    <a:pt x="775" y="400"/>
                  </a:lnTo>
                  <a:lnTo>
                    <a:pt x="777" y="412"/>
                  </a:lnTo>
                  <a:lnTo>
                    <a:pt x="780" y="420"/>
                  </a:lnTo>
                  <a:lnTo>
                    <a:pt x="783" y="427"/>
                  </a:lnTo>
                  <a:lnTo>
                    <a:pt x="786" y="435"/>
                  </a:lnTo>
                  <a:lnTo>
                    <a:pt x="791" y="441"/>
                  </a:lnTo>
                  <a:lnTo>
                    <a:pt x="795" y="445"/>
                  </a:lnTo>
                  <a:lnTo>
                    <a:pt x="798" y="441"/>
                  </a:lnTo>
                  <a:lnTo>
                    <a:pt x="803" y="433"/>
                  </a:lnTo>
                  <a:lnTo>
                    <a:pt x="806" y="421"/>
                  </a:lnTo>
                  <a:lnTo>
                    <a:pt x="808" y="406"/>
                  </a:lnTo>
                  <a:lnTo>
                    <a:pt x="806" y="394"/>
                  </a:lnTo>
                  <a:lnTo>
                    <a:pt x="798" y="378"/>
                  </a:lnTo>
                  <a:lnTo>
                    <a:pt x="791" y="363"/>
                  </a:lnTo>
                  <a:lnTo>
                    <a:pt x="788" y="347"/>
                  </a:lnTo>
                  <a:lnTo>
                    <a:pt x="785" y="337"/>
                  </a:lnTo>
                  <a:lnTo>
                    <a:pt x="781" y="324"/>
                  </a:lnTo>
                  <a:lnTo>
                    <a:pt x="775" y="311"/>
                  </a:lnTo>
                  <a:lnTo>
                    <a:pt x="768" y="299"/>
                  </a:lnTo>
                  <a:lnTo>
                    <a:pt x="760" y="290"/>
                  </a:lnTo>
                  <a:lnTo>
                    <a:pt x="751" y="289"/>
                  </a:lnTo>
                  <a:lnTo>
                    <a:pt x="738" y="292"/>
                  </a:lnTo>
                  <a:lnTo>
                    <a:pt x="724" y="294"/>
                  </a:lnTo>
                  <a:lnTo>
                    <a:pt x="711" y="296"/>
                  </a:lnTo>
                  <a:lnTo>
                    <a:pt x="703" y="298"/>
                  </a:lnTo>
                  <a:lnTo>
                    <a:pt x="700" y="301"/>
                  </a:lnTo>
                  <a:lnTo>
                    <a:pt x="693" y="307"/>
                  </a:lnTo>
                  <a:lnTo>
                    <a:pt x="686" y="312"/>
                  </a:lnTo>
                  <a:lnTo>
                    <a:pt x="678" y="318"/>
                  </a:lnTo>
                  <a:lnTo>
                    <a:pt x="673" y="322"/>
                  </a:lnTo>
                  <a:lnTo>
                    <a:pt x="667" y="322"/>
                  </a:lnTo>
                  <a:lnTo>
                    <a:pt x="664" y="320"/>
                  </a:lnTo>
                  <a:lnTo>
                    <a:pt x="661" y="317"/>
                  </a:lnTo>
                  <a:lnTo>
                    <a:pt x="658" y="312"/>
                  </a:lnTo>
                  <a:lnTo>
                    <a:pt x="658" y="307"/>
                  </a:lnTo>
                  <a:lnTo>
                    <a:pt x="663" y="300"/>
                  </a:lnTo>
                  <a:lnTo>
                    <a:pt x="673" y="293"/>
                  </a:lnTo>
                  <a:lnTo>
                    <a:pt x="687" y="285"/>
                  </a:lnTo>
                  <a:lnTo>
                    <a:pt x="700" y="281"/>
                  </a:lnTo>
                  <a:lnTo>
                    <a:pt x="710" y="275"/>
                  </a:lnTo>
                  <a:lnTo>
                    <a:pt x="717" y="270"/>
                  </a:lnTo>
                  <a:lnTo>
                    <a:pt x="723" y="262"/>
                  </a:lnTo>
                  <a:lnTo>
                    <a:pt x="727" y="253"/>
                  </a:lnTo>
                  <a:lnTo>
                    <a:pt x="734" y="247"/>
                  </a:lnTo>
                  <a:lnTo>
                    <a:pt x="739" y="239"/>
                  </a:lnTo>
                  <a:lnTo>
                    <a:pt x="742" y="232"/>
                  </a:lnTo>
                  <a:lnTo>
                    <a:pt x="740" y="226"/>
                  </a:lnTo>
                  <a:lnTo>
                    <a:pt x="732" y="220"/>
                  </a:lnTo>
                  <a:lnTo>
                    <a:pt x="716" y="211"/>
                  </a:lnTo>
                  <a:lnTo>
                    <a:pt x="701" y="198"/>
                  </a:lnTo>
                  <a:lnTo>
                    <a:pt x="687" y="184"/>
                  </a:lnTo>
                  <a:lnTo>
                    <a:pt x="675" y="169"/>
                  </a:lnTo>
                  <a:lnTo>
                    <a:pt x="666" y="155"/>
                  </a:lnTo>
                  <a:lnTo>
                    <a:pt x="663" y="145"/>
                  </a:lnTo>
                  <a:lnTo>
                    <a:pt x="662" y="134"/>
                  </a:lnTo>
                  <a:lnTo>
                    <a:pt x="662" y="124"/>
                  </a:lnTo>
                  <a:lnTo>
                    <a:pt x="661" y="114"/>
                  </a:lnTo>
                  <a:lnTo>
                    <a:pt x="656" y="107"/>
                  </a:lnTo>
                  <a:lnTo>
                    <a:pt x="649" y="101"/>
                  </a:lnTo>
                  <a:lnTo>
                    <a:pt x="641" y="97"/>
                  </a:lnTo>
                  <a:lnTo>
                    <a:pt x="638" y="90"/>
                  </a:lnTo>
                  <a:lnTo>
                    <a:pt x="638" y="82"/>
                  </a:lnTo>
                  <a:lnTo>
                    <a:pt x="639" y="75"/>
                  </a:lnTo>
                  <a:lnTo>
                    <a:pt x="639" y="66"/>
                  </a:lnTo>
                  <a:lnTo>
                    <a:pt x="639" y="58"/>
                  </a:lnTo>
                  <a:lnTo>
                    <a:pt x="635" y="51"/>
                  </a:lnTo>
                  <a:lnTo>
                    <a:pt x="624" y="40"/>
                  </a:lnTo>
                  <a:lnTo>
                    <a:pt x="610" y="29"/>
                  </a:lnTo>
                  <a:lnTo>
                    <a:pt x="595" y="21"/>
                  </a:lnTo>
                  <a:lnTo>
                    <a:pt x="576" y="15"/>
                  </a:lnTo>
                  <a:lnTo>
                    <a:pt x="552" y="9"/>
                  </a:lnTo>
                  <a:lnTo>
                    <a:pt x="529" y="3"/>
                  </a:lnTo>
                  <a:lnTo>
                    <a:pt x="506" y="0"/>
                  </a:lnTo>
                  <a:lnTo>
                    <a:pt x="494" y="1"/>
                  </a:lnTo>
                  <a:lnTo>
                    <a:pt x="480" y="7"/>
                  </a:lnTo>
                  <a:lnTo>
                    <a:pt x="466" y="14"/>
                  </a:lnTo>
                  <a:lnTo>
                    <a:pt x="453" y="20"/>
                  </a:lnTo>
                  <a:lnTo>
                    <a:pt x="441" y="27"/>
                  </a:lnTo>
                  <a:lnTo>
                    <a:pt x="433" y="31"/>
                  </a:lnTo>
                  <a:lnTo>
                    <a:pt x="426" y="32"/>
                  </a:lnTo>
                  <a:lnTo>
                    <a:pt x="421" y="32"/>
                  </a:lnTo>
                  <a:lnTo>
                    <a:pt x="415" y="31"/>
                  </a:lnTo>
                  <a:lnTo>
                    <a:pt x="410" y="31"/>
                  </a:lnTo>
                  <a:lnTo>
                    <a:pt x="404" y="32"/>
                  </a:lnTo>
                  <a:lnTo>
                    <a:pt x="396" y="38"/>
                  </a:lnTo>
                  <a:lnTo>
                    <a:pt x="386" y="46"/>
                  </a:lnTo>
                  <a:lnTo>
                    <a:pt x="375" y="54"/>
                  </a:lnTo>
                  <a:lnTo>
                    <a:pt x="365" y="63"/>
                  </a:lnTo>
                  <a:lnTo>
                    <a:pt x="357" y="69"/>
                  </a:lnTo>
                  <a:lnTo>
                    <a:pt x="354" y="75"/>
                  </a:lnTo>
                  <a:lnTo>
                    <a:pt x="352" y="80"/>
                  </a:lnTo>
                  <a:lnTo>
                    <a:pt x="347" y="86"/>
                  </a:lnTo>
                  <a:lnTo>
                    <a:pt x="343" y="91"/>
                  </a:lnTo>
                  <a:lnTo>
                    <a:pt x="340" y="93"/>
                  </a:lnTo>
                  <a:lnTo>
                    <a:pt x="339" y="95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1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