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E74-D6CE-4011-B0A9-3CE8E414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3B8-DB12-48E2-BEFD-EE69AAA4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4FB-434D-4CC3-82BF-D22A7783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25C-5D0B-40DC-919F-5C832E97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CA8-878E-4D33-8481-EC371D60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16C-B399-4721-A4BA-B106B715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E92-FA65-4540-AEAF-1629A1FA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DA7-E714-478D-A6F3-97AE227B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645-64DB-4E5D-993C-B09271BA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5AA-AE14-46E9-BF7C-442867ED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843-ADF8-448D-B26F-23C6093C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4EA-0046-4709-B13D-4ADF573E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4D99-85A9-4538-96B7-25CDECF6CA5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3D40-C832-4B4B-85C7-9037485D8C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9280" y="1211400"/>
            <a:ext cx="8348400" cy="4649760"/>
            <a:chOff x="719280" y="1211400"/>
            <a:chExt cx="8348400" cy="4649760"/>
          </a:xfrm>
        </p:grpSpPr>
        <p:pic>
          <p:nvPicPr>
            <p:cNvPr id="42" name="图片 9" descr="4.jpg"/>
            <p:cNvPicPr/>
            <p:nvPr/>
          </p:nvPicPr>
          <p:blipFill>
            <a:blip r:embed="rId1"/>
            <a:stretch/>
          </p:blipFill>
          <p:spPr>
            <a:xfrm>
              <a:off x="719280" y="1211400"/>
              <a:ext cx="7848720" cy="46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22" descr="卷轴祥云1.gif"/>
            <p:cNvPicPr/>
            <p:nvPr/>
          </p:nvPicPr>
          <p:blipFill>
            <a:blip r:embed="rId2"/>
            <a:stretch/>
          </p:blipFill>
          <p:spPr>
            <a:xfrm>
              <a:off x="8290080" y="1539360"/>
              <a:ext cx="777600" cy="406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图片 17" descr="卷轴祥云1.gif"/>
          <p:cNvPicPr/>
          <p:nvPr/>
        </p:nvPicPr>
        <p:blipFill>
          <a:blip r:embed="rId3"/>
          <a:stretch/>
        </p:blipFill>
        <p:spPr>
          <a:xfrm>
            <a:off x="441360" y="1539720"/>
            <a:ext cx="777960" cy="40640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4286160" y="1539720"/>
            <a:ext cx="1292400" cy="4064040"/>
            <a:chOff x="4286160" y="1539720"/>
            <a:chExt cx="1292400" cy="4064040"/>
          </a:xfrm>
        </p:grpSpPr>
        <p:pic>
          <p:nvPicPr>
            <p:cNvPr id="46" name="图片 18" descr="卷轴祥云1.gif"/>
            <p:cNvPicPr/>
            <p:nvPr/>
          </p:nvPicPr>
          <p:blipFill>
            <a:blip r:embed="rId4"/>
            <a:stretch/>
          </p:blipFill>
          <p:spPr>
            <a:xfrm>
              <a:off x="4286160" y="1539720"/>
              <a:ext cx="777960" cy="40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12" descr="卷轴祥云1.gif"/>
            <p:cNvPicPr/>
            <p:nvPr/>
          </p:nvPicPr>
          <p:blipFill>
            <a:blip r:embed="rId5"/>
            <a:stretch/>
          </p:blipFill>
          <p:spPr>
            <a:xfrm>
              <a:off x="4800600" y="1539720"/>
              <a:ext cx="777960" cy="4064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7 -3.33333E-006 L -0.39774 -3.33333E-006 E">
                                      <p:cBhvr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14280" y="1219320"/>
            <a:ext cx="8753400" cy="4649760"/>
            <a:chOff x="314280" y="1219320"/>
            <a:chExt cx="8753400" cy="4649760"/>
          </a:xfrm>
        </p:grpSpPr>
        <p:grpSp>
          <p:nvGrpSpPr>
            <p:cNvPr id="51" name=""/>
            <p:cNvGrpSpPr/>
            <p:nvPr/>
          </p:nvGrpSpPr>
          <p:grpSpPr>
            <a:xfrm>
              <a:off x="718920" y="1219320"/>
              <a:ext cx="8348760" cy="4649760"/>
              <a:chOff x="718920" y="1219320"/>
              <a:chExt cx="8348760" cy="4649760"/>
            </a:xfrm>
          </p:grpSpPr>
          <p:pic>
            <p:nvPicPr>
              <p:cNvPr id="52" name="图片 9" descr="4.jpg"/>
              <p:cNvPicPr/>
              <p:nvPr/>
            </p:nvPicPr>
            <p:blipFill>
              <a:blip r:embed="rId1"/>
              <a:stretch/>
            </p:blipFill>
            <p:spPr>
              <a:xfrm>
                <a:off x="718920" y="1219320"/>
                <a:ext cx="7848720" cy="464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图片 22" descr="卷轴祥云1.gif"/>
              <p:cNvPicPr/>
              <p:nvPr/>
            </p:nvPicPr>
            <p:blipFill>
              <a:blip r:embed="rId2"/>
              <a:stretch/>
            </p:blipFill>
            <p:spPr>
              <a:xfrm>
                <a:off x="8290080" y="1547280"/>
                <a:ext cx="777600" cy="4065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" name="图片 17" descr="卷轴祥云1.gif"/>
            <p:cNvPicPr/>
            <p:nvPr/>
          </p:nvPicPr>
          <p:blipFill>
            <a:blip r:embed="rId3"/>
            <a:stretch/>
          </p:blipFill>
          <p:spPr>
            <a:xfrm>
              <a:off x="314280" y="1548000"/>
              <a:ext cx="777960" cy="406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685800" y="1187280"/>
            <a:ext cx="8429760" cy="4697640"/>
            <a:chOff x="685800" y="1187280"/>
            <a:chExt cx="8429760" cy="4697640"/>
          </a:xfrm>
        </p:grpSpPr>
        <p:grpSp>
          <p:nvGrpSpPr>
            <p:cNvPr id="56" name=""/>
            <p:cNvGrpSpPr/>
            <p:nvPr/>
          </p:nvGrpSpPr>
          <p:grpSpPr>
            <a:xfrm>
              <a:off x="685800" y="1187280"/>
              <a:ext cx="8429760" cy="4697640"/>
              <a:chOff x="685800" y="1187280"/>
              <a:chExt cx="8429760" cy="46976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685800" y="1187280"/>
                <a:ext cx="8429760" cy="4697640"/>
                <a:chOff x="685800" y="1187280"/>
                <a:chExt cx="8429760" cy="4697640"/>
              </a:xfrm>
            </p:grpSpPr>
            <p:pic>
              <p:nvPicPr>
                <p:cNvPr id="58" name="Picture 2" descr="F:\08年课件\图片6.jp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5800" y="1187280"/>
                  <a:ext cx="7929720" cy="469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图片 10" descr="卷轴祥云1.gi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37960" y="1539360"/>
                  <a:ext cx="777600" cy="4064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" name=""/>
              <p:cNvGrpSpPr/>
              <p:nvPr/>
            </p:nvGrpSpPr>
            <p:grpSpPr>
              <a:xfrm>
                <a:off x="823320" y="3946320"/>
                <a:ext cx="398880" cy="1536120"/>
                <a:chOff x="823320" y="3946320"/>
                <a:chExt cx="398880" cy="1536120"/>
              </a:xfrm>
            </p:grpSpPr>
            <p:sp>
              <p:nvSpPr>
                <p:cNvPr id="61" name="Oval 35"/>
                <p:cNvSpPr/>
                <p:nvPr/>
              </p:nvSpPr>
              <p:spPr>
                <a:xfrm rot="18900000">
                  <a:off x="841320" y="5418720"/>
                  <a:ext cx="28080" cy="6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AutoShape 37"/>
                <p:cNvSpPr/>
                <p:nvPr/>
              </p:nvSpPr>
              <p:spPr>
                <a:xfrm>
                  <a:off x="1033920" y="3946320"/>
                  <a:ext cx="188280" cy="970920"/>
                </a:xfrm>
                <a:prstGeom prst="parallelogram">
                  <a:avLst>
                    <a:gd name="adj" fmla="val 43088"/>
                  </a:avLst>
                </a:prstGeom>
                <a:gradFill rotWithShape="0">
                  <a:gsLst>
                    <a:gs pos="0">
                      <a:srgbClr val="ffffff">
                        <a:alpha val="68235"/>
                      </a:srgbClr>
                    </a:gs>
                    <a:gs pos="100000">
                      <a:srgbClr val="a7c6e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Oval 35"/>
              <p:cNvSpPr/>
              <p:nvPr/>
            </p:nvSpPr>
            <p:spPr>
              <a:xfrm rot="18900000">
                <a:off x="2859840" y="4650840"/>
                <a:ext cx="26640" cy="63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35"/>
              <p:cNvSpPr/>
              <p:nvPr/>
            </p:nvSpPr>
            <p:spPr>
              <a:xfrm rot="18900000">
                <a:off x="4788720" y="3871080"/>
                <a:ext cx="26640" cy="63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35"/>
              <p:cNvSpPr/>
              <p:nvPr/>
            </p:nvSpPr>
            <p:spPr>
              <a:xfrm rot="18900000">
                <a:off x="6733440" y="3007440"/>
                <a:ext cx="26640" cy="63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 Box 9"/>
            <p:cNvSpPr/>
            <p:nvPr/>
          </p:nvSpPr>
          <p:spPr>
            <a:xfrm>
              <a:off x="761760" y="2666880"/>
              <a:ext cx="754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图片 13" descr="卷轴祥云1.gif"/>
          <p:cNvPicPr/>
          <p:nvPr/>
        </p:nvPicPr>
        <p:blipFill>
          <a:blip r:embed="rId3"/>
          <a:stretch/>
        </p:blipFill>
        <p:spPr>
          <a:xfrm>
            <a:off x="365040" y="1539720"/>
            <a:ext cx="777960" cy="4064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357120" y="1539720"/>
            <a:ext cx="1335240" cy="4064040"/>
            <a:chOff x="357120" y="1539720"/>
            <a:chExt cx="1335240" cy="4064040"/>
          </a:xfrm>
        </p:grpSpPr>
        <p:pic>
          <p:nvPicPr>
            <p:cNvPr id="69" name="图片 32" descr="卷轴祥云1.gif"/>
            <p:cNvPicPr/>
            <p:nvPr/>
          </p:nvPicPr>
          <p:blipFill>
            <a:blip r:embed="rId4"/>
            <a:stretch/>
          </p:blipFill>
          <p:spPr>
            <a:xfrm>
              <a:off x="357120" y="1539720"/>
              <a:ext cx="777960" cy="40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图片 33" descr="卷轴祥云1.gif"/>
            <p:cNvPicPr/>
            <p:nvPr/>
          </p:nvPicPr>
          <p:blipFill>
            <a:blip r:embed="rId5"/>
            <a:stretch/>
          </p:blipFill>
          <p:spPr>
            <a:xfrm>
              <a:off x="914400" y="1539720"/>
              <a:ext cx="777960" cy="4064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-3.33333E-006 L 0.43785 -3.33333E-006 E">
                                      <p:cBhvr>
                                        <p:cTn id="3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076-ED5C-4899-A583-CAA991B7FF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12:0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