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A70-1B4B-40CE-A8DB-CC4C32F2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66F0-0814-4AF0-90FE-B77B56A0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01DB-B171-4A17-B496-FFE58E227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CBF-179D-4BA2-A692-AF9FA059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D531-B017-4778-BCDB-0A8B9764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21D-FA0D-4A71-8BA1-CDCD5ECD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387B-003E-4C92-91C4-BE150B7E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11F-AEF0-4230-B994-DA8F24F1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491-CDB4-4322-91CB-B0296CF1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079-1E68-431B-8400-F8E9CD95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8503-59BA-40E0-8939-AE0BE712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D8F9-FBE0-4274-BCD6-BCB7025B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D702-500E-434B-B6BF-43844172159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3716-B794-41C4-ABB6-27E7D8A0E1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6300720" y="2933640"/>
            <a:ext cx="576360" cy="2114640"/>
          </a:xfrm>
          <a:prstGeom prst="rect">
            <a:avLst/>
          </a:prstGeom>
          <a:solidFill>
            <a:srgbClr val="93d5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7"/>
          <p:cNvSpPr/>
          <p:nvPr/>
        </p:nvSpPr>
        <p:spPr>
          <a:xfrm>
            <a:off x="1940040" y="4495680"/>
            <a:ext cx="576000" cy="5526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030480" y="3941640"/>
            <a:ext cx="576360" cy="1106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9"/>
          <p:cNvSpPr/>
          <p:nvPr/>
        </p:nvSpPr>
        <p:spPr>
          <a:xfrm>
            <a:off x="4121280" y="3654360"/>
            <a:ext cx="574560" cy="1393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0"/>
          <p:cNvSpPr/>
          <p:nvPr/>
        </p:nvSpPr>
        <p:spPr>
          <a:xfrm>
            <a:off x="5210280" y="3436920"/>
            <a:ext cx="576000" cy="1611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6266160" y="51246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5176080" y="51246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4085640" y="51246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2996640" y="51246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5"/>
          <p:cNvSpPr/>
          <p:nvPr/>
        </p:nvSpPr>
        <p:spPr>
          <a:xfrm>
            <a:off x="1906920" y="5124600"/>
            <a:ext cx="6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  <a:ea typeface="Calibri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3196440" y="1989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业务取得长足进步。五年来，一年一个台阶。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年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008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年番了二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1118520" y="706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业务发展指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6"/>
          <p:cNvSpPr/>
          <p:nvPr/>
        </p:nvSpPr>
        <p:spPr>
          <a:xfrm>
            <a:off x="1312920" y="1989000"/>
            <a:ext cx="67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同业占比达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60%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。通过五年的努力，由五年前的排名倒数第一，到</a:t>
            </a: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年，同业占比排名第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7"/>
          <p:cNvSpPr/>
          <p:nvPr/>
        </p:nvSpPr>
        <p:spPr>
          <a:xfrm>
            <a:off x="1118520" y="706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业务同业占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18"/>
          <p:cNvSpPr/>
          <p:nvPr/>
        </p:nvSpPr>
        <p:spPr>
          <a:xfrm>
            <a:off x="2978280" y="4532400"/>
            <a:ext cx="3457440" cy="1152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表 19" descr=""/>
          <p:cNvPicPr/>
          <p:nvPr/>
        </p:nvPicPr>
        <p:blipFill>
          <a:blip r:embed="rId1"/>
          <a:stretch/>
        </p:blipFill>
        <p:spPr>
          <a:xfrm>
            <a:off x="2949480" y="3381480"/>
            <a:ext cx="3479760" cy="231912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20"/>
          <p:cNvGrpSpPr/>
          <p:nvPr/>
        </p:nvGrpSpPr>
        <p:grpSpPr>
          <a:xfrm>
            <a:off x="3711600" y="3878280"/>
            <a:ext cx="1963800" cy="1008000"/>
            <a:chOff x="3711600" y="3878280"/>
            <a:chExt cx="1963800" cy="1008000"/>
          </a:xfrm>
        </p:grpSpPr>
        <p:sp>
          <p:nvSpPr>
            <p:cNvPr id="61" name="椭圆 21"/>
            <p:cNvSpPr/>
            <p:nvPr/>
          </p:nvSpPr>
          <p:spPr>
            <a:xfrm>
              <a:off x="3711600" y="3878280"/>
              <a:ext cx="1963800" cy="1008000"/>
            </a:xfrm>
            <a:prstGeom prst="ellipse">
              <a:avLst/>
            </a:prstGeom>
            <a:solidFill>
              <a:srgbClr val="d8d8d8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椭圆 22"/>
            <p:cNvSpPr/>
            <p:nvPr/>
          </p:nvSpPr>
          <p:spPr>
            <a:xfrm>
              <a:off x="4225320" y="4140360"/>
              <a:ext cx="936360" cy="483480"/>
            </a:xfrm>
            <a:prstGeom prst="ellipse">
              <a:avLst/>
            </a:prstGeom>
            <a:solidFill>
              <a:srgbClr val="7f7f7f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8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