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F89-6EEB-4EF8-8A46-E11C54BE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29D-0AC9-46A9-969D-A4CE97A7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935-0161-4DED-AB4A-599243C9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8F68-F6C8-4E05-8F3F-19F1FACA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42E-1074-426A-AA6D-F725EA33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397-BF77-45D6-951E-29B0D77C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3F0-602E-4B93-94B5-36F2147D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919-FFC4-4FD9-B4A8-49522B8A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82D-1C59-4611-AD7E-A65771FB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B7D-D399-4DB4-AF5B-1E0F5864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16E-D742-4617-873F-BCECA5BF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25B-830E-4C78-8075-F85FE30C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AD3D-5AA5-4C1B-B463-21A4A6A98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9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1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image" Target="../media/image11.png"/><Relationship Id="rId48" Type="http://schemas.openxmlformats.org/officeDocument/2006/relationships/image" Target="../media/image11.png"/><Relationship Id="rId49" Type="http://schemas.openxmlformats.org/officeDocument/2006/relationships/image" Target="../media/image11.png"/><Relationship Id="rId50" Type="http://schemas.openxmlformats.org/officeDocument/2006/relationships/image" Target="../media/image11.png"/><Relationship Id="rId51" Type="http://schemas.openxmlformats.org/officeDocument/2006/relationships/image" Target="../media/image11.png"/><Relationship Id="rId52" Type="http://schemas.openxmlformats.org/officeDocument/2006/relationships/image" Target="../media/image11.png"/><Relationship Id="rId53" Type="http://schemas.openxmlformats.org/officeDocument/2006/relationships/image" Target="../media/image11.png"/><Relationship Id="rId54" Type="http://schemas.openxmlformats.org/officeDocument/2006/relationships/image" Target="../media/image11.png"/><Relationship Id="rId55" Type="http://schemas.openxmlformats.org/officeDocument/2006/relationships/image" Target="../media/image11.png"/><Relationship Id="rId56" Type="http://schemas.openxmlformats.org/officeDocument/2006/relationships/image" Target="../media/image11.png"/><Relationship Id="rId57" Type="http://schemas.openxmlformats.org/officeDocument/2006/relationships/image" Target="../media/image11.png"/><Relationship Id="rId58" Type="http://schemas.openxmlformats.org/officeDocument/2006/relationships/image" Target="../media/image11.png"/><Relationship Id="rId59" Type="http://schemas.openxmlformats.org/officeDocument/2006/relationships/image" Target="../media/image11.png"/><Relationship Id="rId60" Type="http://schemas.openxmlformats.org/officeDocument/2006/relationships/image" Target="../media/image11.png"/><Relationship Id="rId61" Type="http://schemas.openxmlformats.org/officeDocument/2006/relationships/image" Target="../media/image11.png"/><Relationship Id="rId62" Type="http://schemas.openxmlformats.org/officeDocument/2006/relationships/image" Target="../media/image11.png"/><Relationship Id="rId63" Type="http://schemas.openxmlformats.org/officeDocument/2006/relationships/image" Target="../media/image11.png"/><Relationship Id="rId64" Type="http://schemas.openxmlformats.org/officeDocument/2006/relationships/image" Target="../media/image12.png"/><Relationship Id="rId65" Type="http://schemas.openxmlformats.org/officeDocument/2006/relationships/image" Target="../media/image13.png"/><Relationship Id="rId6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143000" y="-5634000"/>
            <a:ext cx="14020920" cy="12977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914400" y="762120"/>
            <a:ext cx="1279440" cy="635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8424720" y="4419720"/>
            <a:ext cx="1438560" cy="74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 rot="3083400">
            <a:off x="-2743200" y="3225600"/>
            <a:ext cx="969840" cy="80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 rot="21177600">
            <a:off x="-2271240" y="3047760"/>
            <a:ext cx="2047680" cy="1685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-1214280" y="4376880"/>
            <a:ext cx="780840" cy="652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 rot="1464600">
            <a:off x="-3301920" y="2133720"/>
            <a:ext cx="1096920" cy="2468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 rot="1298400">
            <a:off x="-3860280" y="2773080"/>
            <a:ext cx="969840" cy="807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 rot="989400">
            <a:off x="-4317480" y="2590920"/>
            <a:ext cx="969840" cy="807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 rot="580800">
            <a:off x="-4871520" y="2468160"/>
            <a:ext cx="969840" cy="808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 rot="417600">
            <a:off x="-5384520" y="2392200"/>
            <a:ext cx="970200" cy="808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 rot="403800">
            <a:off x="-5862240" y="2286000"/>
            <a:ext cx="969840" cy="808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 rot="255600">
            <a:off x="-6299280" y="2209320"/>
            <a:ext cx="970200" cy="80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-6740640" y="1338120"/>
            <a:ext cx="954360" cy="262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6"/>
          <a:stretch/>
        </p:blipFill>
        <p:spPr>
          <a:xfrm rot="201600">
            <a:off x="-7137360" y="2087640"/>
            <a:ext cx="969840" cy="807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7"/>
          <a:stretch/>
        </p:blipFill>
        <p:spPr>
          <a:xfrm rot="21424800">
            <a:off x="-7517880" y="2057040"/>
            <a:ext cx="969840" cy="808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8"/>
          <a:stretch/>
        </p:blipFill>
        <p:spPr>
          <a:xfrm>
            <a:off x="-9151920" y="2209680"/>
            <a:ext cx="1841400" cy="87804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-1976400" y="5334120"/>
            <a:ext cx="1295280" cy="1295280"/>
            <a:chOff x="-1976400" y="5334120"/>
            <a:chExt cx="1295280" cy="1295280"/>
          </a:xfrm>
        </p:grpSpPr>
        <p:sp>
          <p:nvSpPr>
            <p:cNvPr id="59" name=""/>
            <p:cNvSpPr/>
            <p:nvPr/>
          </p:nvSpPr>
          <p:spPr>
            <a:xfrm>
              <a:off x="-1939320" y="537084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9"/>
            <a:stretch/>
          </p:blipFill>
          <p:spPr>
            <a:xfrm>
              <a:off x="-1976400" y="533412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-1366920" y="5334120"/>
            <a:ext cx="1295640" cy="1295280"/>
            <a:chOff x="-1366920" y="5334120"/>
            <a:chExt cx="1295640" cy="1295280"/>
          </a:xfrm>
        </p:grpSpPr>
        <p:sp>
          <p:nvSpPr>
            <p:cNvPr id="62" name=""/>
            <p:cNvSpPr/>
            <p:nvPr/>
          </p:nvSpPr>
          <p:spPr>
            <a:xfrm>
              <a:off x="-1329480" y="537084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0"/>
            <a:stretch/>
          </p:blipFill>
          <p:spPr>
            <a:xfrm>
              <a:off x="-1366920" y="5334120"/>
              <a:ext cx="129564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-681120" y="5334120"/>
            <a:ext cx="1290600" cy="1295280"/>
            <a:chOff x="-681120" y="5334120"/>
            <a:chExt cx="1290600" cy="1295280"/>
          </a:xfrm>
        </p:grpSpPr>
        <p:sp>
          <p:nvSpPr>
            <p:cNvPr id="65" name=""/>
            <p:cNvSpPr/>
            <p:nvPr/>
          </p:nvSpPr>
          <p:spPr>
            <a:xfrm>
              <a:off x="-644040" y="5370840"/>
              <a:ext cx="121680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21"/>
            <a:stretch/>
          </p:blipFill>
          <p:spPr>
            <a:xfrm>
              <a:off x="-681120" y="5334120"/>
              <a:ext cx="12906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76320" y="5334120"/>
            <a:ext cx="1295280" cy="1295280"/>
            <a:chOff x="76320" y="5334120"/>
            <a:chExt cx="1295280" cy="1295280"/>
          </a:xfrm>
        </p:grpSpPr>
        <p:sp>
          <p:nvSpPr>
            <p:cNvPr id="68" name=""/>
            <p:cNvSpPr/>
            <p:nvPr/>
          </p:nvSpPr>
          <p:spPr>
            <a:xfrm>
              <a:off x="113040" y="537084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22"/>
            <a:stretch/>
          </p:blipFill>
          <p:spPr>
            <a:xfrm>
              <a:off x="76320" y="533412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838080" y="5334120"/>
            <a:ext cx="1295640" cy="1295280"/>
            <a:chOff x="838080" y="5334120"/>
            <a:chExt cx="1295640" cy="1295280"/>
          </a:xfrm>
        </p:grpSpPr>
        <p:sp>
          <p:nvSpPr>
            <p:cNvPr id="71" name=""/>
            <p:cNvSpPr/>
            <p:nvPr/>
          </p:nvSpPr>
          <p:spPr>
            <a:xfrm>
              <a:off x="875160" y="537084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3"/>
            <a:stretch/>
          </p:blipFill>
          <p:spPr>
            <a:xfrm>
              <a:off x="838080" y="5334120"/>
              <a:ext cx="129564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1600200" y="5334120"/>
            <a:ext cx="1295280" cy="1295280"/>
            <a:chOff x="1600200" y="5334120"/>
            <a:chExt cx="1295280" cy="1295280"/>
          </a:xfrm>
        </p:grpSpPr>
        <p:sp>
          <p:nvSpPr>
            <p:cNvPr id="74" name=""/>
            <p:cNvSpPr/>
            <p:nvPr/>
          </p:nvSpPr>
          <p:spPr>
            <a:xfrm>
              <a:off x="1636920" y="537084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24"/>
            <a:stretch/>
          </p:blipFill>
          <p:spPr>
            <a:xfrm>
              <a:off x="1600200" y="533412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2362320" y="5334120"/>
            <a:ext cx="1295280" cy="1295280"/>
            <a:chOff x="2362320" y="5334120"/>
            <a:chExt cx="1295280" cy="1295280"/>
          </a:xfrm>
        </p:grpSpPr>
        <p:sp>
          <p:nvSpPr>
            <p:cNvPr id="77" name=""/>
            <p:cNvSpPr/>
            <p:nvPr/>
          </p:nvSpPr>
          <p:spPr>
            <a:xfrm>
              <a:off x="2399040" y="537084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25"/>
            <a:stretch/>
          </p:blipFill>
          <p:spPr>
            <a:xfrm>
              <a:off x="2362320" y="533412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"/>
          <p:cNvGrpSpPr/>
          <p:nvPr/>
        </p:nvGrpSpPr>
        <p:grpSpPr>
          <a:xfrm>
            <a:off x="3124080" y="5334120"/>
            <a:ext cx="1295640" cy="1295280"/>
            <a:chOff x="3124080" y="5334120"/>
            <a:chExt cx="1295640" cy="1295280"/>
          </a:xfrm>
        </p:grpSpPr>
        <p:sp>
          <p:nvSpPr>
            <p:cNvPr id="80" name=""/>
            <p:cNvSpPr/>
            <p:nvPr/>
          </p:nvSpPr>
          <p:spPr>
            <a:xfrm>
              <a:off x="3161160" y="537084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26"/>
            <a:stretch/>
          </p:blipFill>
          <p:spPr>
            <a:xfrm>
              <a:off x="3124080" y="5334120"/>
              <a:ext cx="129564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3886200" y="5334120"/>
            <a:ext cx="1295280" cy="1295280"/>
            <a:chOff x="3886200" y="5334120"/>
            <a:chExt cx="1295280" cy="1295280"/>
          </a:xfrm>
        </p:grpSpPr>
        <p:sp>
          <p:nvSpPr>
            <p:cNvPr id="83" name=""/>
            <p:cNvSpPr/>
            <p:nvPr/>
          </p:nvSpPr>
          <p:spPr>
            <a:xfrm>
              <a:off x="3922920" y="537084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7"/>
            <a:stretch/>
          </p:blipFill>
          <p:spPr>
            <a:xfrm>
              <a:off x="3886200" y="533412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4648320" y="5334120"/>
            <a:ext cx="1295280" cy="1295280"/>
            <a:chOff x="4648320" y="5334120"/>
            <a:chExt cx="1295280" cy="1295280"/>
          </a:xfrm>
        </p:grpSpPr>
        <p:sp>
          <p:nvSpPr>
            <p:cNvPr id="86" name=""/>
            <p:cNvSpPr/>
            <p:nvPr/>
          </p:nvSpPr>
          <p:spPr>
            <a:xfrm>
              <a:off x="4685040" y="537084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8"/>
            <a:stretch/>
          </p:blipFill>
          <p:spPr>
            <a:xfrm>
              <a:off x="4648320" y="533412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5410080" y="5334120"/>
            <a:ext cx="1295640" cy="1295280"/>
            <a:chOff x="5410080" y="5334120"/>
            <a:chExt cx="1295640" cy="1295280"/>
          </a:xfrm>
        </p:grpSpPr>
        <p:sp>
          <p:nvSpPr>
            <p:cNvPr id="89" name=""/>
            <p:cNvSpPr/>
            <p:nvPr/>
          </p:nvSpPr>
          <p:spPr>
            <a:xfrm>
              <a:off x="5447160" y="537084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29"/>
            <a:stretch/>
          </p:blipFill>
          <p:spPr>
            <a:xfrm>
              <a:off x="5410080" y="5334120"/>
              <a:ext cx="129564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6172200" y="5334120"/>
            <a:ext cx="1295280" cy="1295280"/>
            <a:chOff x="6172200" y="5334120"/>
            <a:chExt cx="1295280" cy="1295280"/>
          </a:xfrm>
        </p:grpSpPr>
        <p:sp>
          <p:nvSpPr>
            <p:cNvPr id="92" name=""/>
            <p:cNvSpPr/>
            <p:nvPr/>
          </p:nvSpPr>
          <p:spPr>
            <a:xfrm>
              <a:off x="6208920" y="537084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30"/>
            <a:stretch/>
          </p:blipFill>
          <p:spPr>
            <a:xfrm>
              <a:off x="6172200" y="533412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6934320" y="5334120"/>
            <a:ext cx="1295280" cy="1295280"/>
            <a:chOff x="6934320" y="5334120"/>
            <a:chExt cx="1295280" cy="1295280"/>
          </a:xfrm>
        </p:grpSpPr>
        <p:sp>
          <p:nvSpPr>
            <p:cNvPr id="95" name=""/>
            <p:cNvSpPr/>
            <p:nvPr/>
          </p:nvSpPr>
          <p:spPr>
            <a:xfrm>
              <a:off x="6971040" y="537084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1"/>
            <a:stretch/>
          </p:blipFill>
          <p:spPr>
            <a:xfrm>
              <a:off x="6934320" y="533412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7696080" y="5334120"/>
            <a:ext cx="1295640" cy="1295280"/>
            <a:chOff x="7696080" y="5334120"/>
            <a:chExt cx="1295640" cy="1295280"/>
          </a:xfrm>
        </p:grpSpPr>
        <p:sp>
          <p:nvSpPr>
            <p:cNvPr id="98" name=""/>
            <p:cNvSpPr/>
            <p:nvPr/>
          </p:nvSpPr>
          <p:spPr>
            <a:xfrm>
              <a:off x="7733160" y="537084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32"/>
            <a:stretch/>
          </p:blipFill>
          <p:spPr>
            <a:xfrm>
              <a:off x="7696080" y="5334120"/>
              <a:ext cx="129564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8458200" y="5334120"/>
            <a:ext cx="1295280" cy="1295280"/>
            <a:chOff x="8458200" y="5334120"/>
            <a:chExt cx="1295280" cy="1295280"/>
          </a:xfrm>
        </p:grpSpPr>
        <p:sp>
          <p:nvSpPr>
            <p:cNvPr id="101" name=""/>
            <p:cNvSpPr/>
            <p:nvPr/>
          </p:nvSpPr>
          <p:spPr>
            <a:xfrm>
              <a:off x="8494920" y="537084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33"/>
            <a:stretch/>
          </p:blipFill>
          <p:spPr>
            <a:xfrm>
              <a:off x="8458200" y="533412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-1671480" y="5867280"/>
            <a:ext cx="1295280" cy="1295640"/>
            <a:chOff x="-1671480" y="5867280"/>
            <a:chExt cx="1295280" cy="1295640"/>
          </a:xfrm>
        </p:grpSpPr>
        <p:sp>
          <p:nvSpPr>
            <p:cNvPr id="104" name=""/>
            <p:cNvSpPr/>
            <p:nvPr/>
          </p:nvSpPr>
          <p:spPr>
            <a:xfrm>
              <a:off x="-1634400" y="59043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34"/>
            <a:stretch/>
          </p:blipFill>
          <p:spPr>
            <a:xfrm>
              <a:off x="-1671480" y="58672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-1062000" y="5867280"/>
            <a:ext cx="1290600" cy="1295640"/>
            <a:chOff x="-1062000" y="5867280"/>
            <a:chExt cx="1290600" cy="1295640"/>
          </a:xfrm>
        </p:grpSpPr>
        <p:sp>
          <p:nvSpPr>
            <p:cNvPr id="107" name=""/>
            <p:cNvSpPr/>
            <p:nvPr/>
          </p:nvSpPr>
          <p:spPr>
            <a:xfrm>
              <a:off x="-1024920" y="5904360"/>
              <a:ext cx="121680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35"/>
            <a:stretch/>
          </p:blipFill>
          <p:spPr>
            <a:xfrm>
              <a:off x="-1062000" y="5867280"/>
              <a:ext cx="129060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-376200" y="5867280"/>
            <a:ext cx="1290600" cy="1295640"/>
            <a:chOff x="-376200" y="5867280"/>
            <a:chExt cx="1290600" cy="1295640"/>
          </a:xfrm>
        </p:grpSpPr>
        <p:sp>
          <p:nvSpPr>
            <p:cNvPr id="110" name=""/>
            <p:cNvSpPr/>
            <p:nvPr/>
          </p:nvSpPr>
          <p:spPr>
            <a:xfrm>
              <a:off x="-339120" y="5904360"/>
              <a:ext cx="121680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36"/>
            <a:stretch/>
          </p:blipFill>
          <p:spPr>
            <a:xfrm>
              <a:off x="-376200" y="5867280"/>
              <a:ext cx="129060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380880" y="5867280"/>
            <a:ext cx="1295640" cy="1295640"/>
            <a:chOff x="380880" y="5867280"/>
            <a:chExt cx="1295640" cy="1295640"/>
          </a:xfrm>
        </p:grpSpPr>
        <p:sp>
          <p:nvSpPr>
            <p:cNvPr id="113" name=""/>
            <p:cNvSpPr/>
            <p:nvPr/>
          </p:nvSpPr>
          <p:spPr>
            <a:xfrm>
              <a:off x="417960" y="59043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7"/>
            <a:stretch/>
          </p:blipFill>
          <p:spPr>
            <a:xfrm>
              <a:off x="380880" y="5867280"/>
              <a:ext cx="129564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1143000" y="5867280"/>
            <a:ext cx="1295280" cy="1295640"/>
            <a:chOff x="1143000" y="5867280"/>
            <a:chExt cx="1295280" cy="1295640"/>
          </a:xfrm>
        </p:grpSpPr>
        <p:sp>
          <p:nvSpPr>
            <p:cNvPr id="116" name=""/>
            <p:cNvSpPr/>
            <p:nvPr/>
          </p:nvSpPr>
          <p:spPr>
            <a:xfrm>
              <a:off x="1179720" y="59043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8"/>
            <a:stretch/>
          </p:blipFill>
          <p:spPr>
            <a:xfrm>
              <a:off x="1143000" y="58672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1905120" y="5867280"/>
            <a:ext cx="1295280" cy="1295640"/>
            <a:chOff x="1905120" y="5867280"/>
            <a:chExt cx="1295280" cy="1295640"/>
          </a:xfrm>
        </p:grpSpPr>
        <p:sp>
          <p:nvSpPr>
            <p:cNvPr id="119" name=""/>
            <p:cNvSpPr/>
            <p:nvPr/>
          </p:nvSpPr>
          <p:spPr>
            <a:xfrm>
              <a:off x="1941840" y="59043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39"/>
            <a:stretch/>
          </p:blipFill>
          <p:spPr>
            <a:xfrm>
              <a:off x="1905120" y="58672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2666880" y="5867280"/>
            <a:ext cx="1295640" cy="1295640"/>
            <a:chOff x="2666880" y="5867280"/>
            <a:chExt cx="1295640" cy="1295640"/>
          </a:xfrm>
        </p:grpSpPr>
        <p:sp>
          <p:nvSpPr>
            <p:cNvPr id="122" name=""/>
            <p:cNvSpPr/>
            <p:nvPr/>
          </p:nvSpPr>
          <p:spPr>
            <a:xfrm>
              <a:off x="2703960" y="59043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40"/>
            <a:stretch/>
          </p:blipFill>
          <p:spPr>
            <a:xfrm>
              <a:off x="2666880" y="5867280"/>
              <a:ext cx="129564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3429000" y="5867280"/>
            <a:ext cx="1295280" cy="1295640"/>
            <a:chOff x="3429000" y="5867280"/>
            <a:chExt cx="1295280" cy="1295640"/>
          </a:xfrm>
        </p:grpSpPr>
        <p:sp>
          <p:nvSpPr>
            <p:cNvPr id="125" name=""/>
            <p:cNvSpPr/>
            <p:nvPr/>
          </p:nvSpPr>
          <p:spPr>
            <a:xfrm>
              <a:off x="3465720" y="59043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41"/>
            <a:stretch/>
          </p:blipFill>
          <p:spPr>
            <a:xfrm>
              <a:off x="3429000" y="58672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4191120" y="5867280"/>
            <a:ext cx="1295280" cy="1295640"/>
            <a:chOff x="4191120" y="5867280"/>
            <a:chExt cx="1295280" cy="1295640"/>
          </a:xfrm>
        </p:grpSpPr>
        <p:sp>
          <p:nvSpPr>
            <p:cNvPr id="128" name=""/>
            <p:cNvSpPr/>
            <p:nvPr/>
          </p:nvSpPr>
          <p:spPr>
            <a:xfrm>
              <a:off x="4227840" y="59043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42"/>
            <a:stretch/>
          </p:blipFill>
          <p:spPr>
            <a:xfrm>
              <a:off x="4191120" y="58672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4952880" y="5867280"/>
            <a:ext cx="1295640" cy="1295640"/>
            <a:chOff x="4952880" y="5867280"/>
            <a:chExt cx="1295640" cy="1295640"/>
          </a:xfrm>
        </p:grpSpPr>
        <p:sp>
          <p:nvSpPr>
            <p:cNvPr id="131" name=""/>
            <p:cNvSpPr/>
            <p:nvPr/>
          </p:nvSpPr>
          <p:spPr>
            <a:xfrm>
              <a:off x="4989960" y="59043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43"/>
            <a:stretch/>
          </p:blipFill>
          <p:spPr>
            <a:xfrm>
              <a:off x="4952880" y="5867280"/>
              <a:ext cx="129564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5715000" y="5867280"/>
            <a:ext cx="1295280" cy="1295640"/>
            <a:chOff x="5715000" y="5867280"/>
            <a:chExt cx="1295280" cy="1295640"/>
          </a:xfrm>
        </p:grpSpPr>
        <p:sp>
          <p:nvSpPr>
            <p:cNvPr id="134" name=""/>
            <p:cNvSpPr/>
            <p:nvPr/>
          </p:nvSpPr>
          <p:spPr>
            <a:xfrm>
              <a:off x="5751720" y="59043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44"/>
            <a:stretch/>
          </p:blipFill>
          <p:spPr>
            <a:xfrm>
              <a:off x="5715000" y="58672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6477120" y="5867280"/>
            <a:ext cx="1295280" cy="1295640"/>
            <a:chOff x="6477120" y="5867280"/>
            <a:chExt cx="1295280" cy="1295640"/>
          </a:xfrm>
        </p:grpSpPr>
        <p:sp>
          <p:nvSpPr>
            <p:cNvPr id="137" name=""/>
            <p:cNvSpPr/>
            <p:nvPr/>
          </p:nvSpPr>
          <p:spPr>
            <a:xfrm>
              <a:off x="6513840" y="59043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45"/>
            <a:stretch/>
          </p:blipFill>
          <p:spPr>
            <a:xfrm>
              <a:off x="6477120" y="58672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7238880" y="5867280"/>
            <a:ext cx="1295640" cy="1295640"/>
            <a:chOff x="7238880" y="5867280"/>
            <a:chExt cx="1295640" cy="1295640"/>
          </a:xfrm>
        </p:grpSpPr>
        <p:sp>
          <p:nvSpPr>
            <p:cNvPr id="140" name=""/>
            <p:cNvSpPr/>
            <p:nvPr/>
          </p:nvSpPr>
          <p:spPr>
            <a:xfrm>
              <a:off x="7275960" y="59043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46"/>
            <a:stretch/>
          </p:blipFill>
          <p:spPr>
            <a:xfrm>
              <a:off x="7238880" y="5867280"/>
              <a:ext cx="129564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8001000" y="5867280"/>
            <a:ext cx="1295280" cy="1295640"/>
            <a:chOff x="8001000" y="5867280"/>
            <a:chExt cx="1295280" cy="1295640"/>
          </a:xfrm>
        </p:grpSpPr>
        <p:sp>
          <p:nvSpPr>
            <p:cNvPr id="143" name=""/>
            <p:cNvSpPr/>
            <p:nvPr/>
          </p:nvSpPr>
          <p:spPr>
            <a:xfrm>
              <a:off x="8037720" y="59043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47"/>
            <a:stretch/>
          </p:blipFill>
          <p:spPr>
            <a:xfrm>
              <a:off x="8001000" y="58672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8763120" y="5867280"/>
            <a:ext cx="1295280" cy="1295640"/>
            <a:chOff x="8763120" y="5867280"/>
            <a:chExt cx="1295280" cy="1295640"/>
          </a:xfrm>
        </p:grpSpPr>
        <p:sp>
          <p:nvSpPr>
            <p:cNvPr id="146" name=""/>
            <p:cNvSpPr/>
            <p:nvPr/>
          </p:nvSpPr>
          <p:spPr>
            <a:xfrm>
              <a:off x="8799840" y="59043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48"/>
            <a:stretch/>
          </p:blipFill>
          <p:spPr>
            <a:xfrm>
              <a:off x="8763120" y="58672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-1442880" y="6324480"/>
            <a:ext cx="1295280" cy="1295640"/>
            <a:chOff x="-1442880" y="6324480"/>
            <a:chExt cx="1295280" cy="1295640"/>
          </a:xfrm>
        </p:grpSpPr>
        <p:sp>
          <p:nvSpPr>
            <p:cNvPr id="149" name=""/>
            <p:cNvSpPr/>
            <p:nvPr/>
          </p:nvSpPr>
          <p:spPr>
            <a:xfrm>
              <a:off x="-1405800" y="63615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49"/>
            <a:stretch/>
          </p:blipFill>
          <p:spPr>
            <a:xfrm>
              <a:off x="-1442880" y="6324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-833400" y="6324480"/>
            <a:ext cx="1290600" cy="1295640"/>
            <a:chOff x="-833400" y="6324480"/>
            <a:chExt cx="1290600" cy="1295640"/>
          </a:xfrm>
        </p:grpSpPr>
        <p:sp>
          <p:nvSpPr>
            <p:cNvPr id="152" name=""/>
            <p:cNvSpPr/>
            <p:nvPr/>
          </p:nvSpPr>
          <p:spPr>
            <a:xfrm>
              <a:off x="-796320" y="6361560"/>
              <a:ext cx="121680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50"/>
            <a:stretch/>
          </p:blipFill>
          <p:spPr>
            <a:xfrm>
              <a:off x="-833400" y="6324480"/>
              <a:ext cx="129060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-147600" y="6324480"/>
            <a:ext cx="1290600" cy="1295640"/>
            <a:chOff x="-147600" y="6324480"/>
            <a:chExt cx="1290600" cy="1295640"/>
          </a:xfrm>
        </p:grpSpPr>
        <p:sp>
          <p:nvSpPr>
            <p:cNvPr id="155" name=""/>
            <p:cNvSpPr/>
            <p:nvPr/>
          </p:nvSpPr>
          <p:spPr>
            <a:xfrm>
              <a:off x="-110520" y="6361560"/>
              <a:ext cx="121680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51"/>
            <a:stretch/>
          </p:blipFill>
          <p:spPr>
            <a:xfrm>
              <a:off x="-147600" y="6324480"/>
              <a:ext cx="129060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"/>
          <p:cNvGrpSpPr/>
          <p:nvPr/>
        </p:nvGrpSpPr>
        <p:grpSpPr>
          <a:xfrm>
            <a:off x="609480" y="6324480"/>
            <a:ext cx="1295640" cy="1295640"/>
            <a:chOff x="609480" y="6324480"/>
            <a:chExt cx="1295640" cy="1295640"/>
          </a:xfrm>
        </p:grpSpPr>
        <p:sp>
          <p:nvSpPr>
            <p:cNvPr id="158" name=""/>
            <p:cNvSpPr/>
            <p:nvPr/>
          </p:nvSpPr>
          <p:spPr>
            <a:xfrm>
              <a:off x="646560" y="63615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52"/>
            <a:stretch/>
          </p:blipFill>
          <p:spPr>
            <a:xfrm>
              <a:off x="609480" y="6324480"/>
              <a:ext cx="129564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1371600" y="6324480"/>
            <a:ext cx="1295280" cy="1295640"/>
            <a:chOff x="1371600" y="6324480"/>
            <a:chExt cx="1295280" cy="1295640"/>
          </a:xfrm>
        </p:grpSpPr>
        <p:sp>
          <p:nvSpPr>
            <p:cNvPr id="161" name=""/>
            <p:cNvSpPr/>
            <p:nvPr/>
          </p:nvSpPr>
          <p:spPr>
            <a:xfrm>
              <a:off x="1408320" y="63615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53"/>
            <a:stretch/>
          </p:blipFill>
          <p:spPr>
            <a:xfrm>
              <a:off x="1371600" y="6324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"/>
          <p:cNvGrpSpPr/>
          <p:nvPr/>
        </p:nvGrpSpPr>
        <p:grpSpPr>
          <a:xfrm>
            <a:off x="2133720" y="6324480"/>
            <a:ext cx="1295280" cy="1295640"/>
            <a:chOff x="2133720" y="6324480"/>
            <a:chExt cx="1295280" cy="1295640"/>
          </a:xfrm>
        </p:grpSpPr>
        <p:sp>
          <p:nvSpPr>
            <p:cNvPr id="164" name=""/>
            <p:cNvSpPr/>
            <p:nvPr/>
          </p:nvSpPr>
          <p:spPr>
            <a:xfrm>
              <a:off x="2170440" y="63615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54"/>
            <a:stretch/>
          </p:blipFill>
          <p:spPr>
            <a:xfrm>
              <a:off x="2133720" y="6324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"/>
          <p:cNvGrpSpPr/>
          <p:nvPr/>
        </p:nvGrpSpPr>
        <p:grpSpPr>
          <a:xfrm>
            <a:off x="2895480" y="6324480"/>
            <a:ext cx="1295640" cy="1295640"/>
            <a:chOff x="2895480" y="6324480"/>
            <a:chExt cx="1295640" cy="1295640"/>
          </a:xfrm>
        </p:grpSpPr>
        <p:sp>
          <p:nvSpPr>
            <p:cNvPr id="167" name=""/>
            <p:cNvSpPr/>
            <p:nvPr/>
          </p:nvSpPr>
          <p:spPr>
            <a:xfrm>
              <a:off x="2932560" y="63615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55"/>
            <a:stretch/>
          </p:blipFill>
          <p:spPr>
            <a:xfrm>
              <a:off x="2895480" y="6324480"/>
              <a:ext cx="129564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3657600" y="6324480"/>
            <a:ext cx="1295280" cy="1295640"/>
            <a:chOff x="3657600" y="6324480"/>
            <a:chExt cx="1295280" cy="1295640"/>
          </a:xfrm>
        </p:grpSpPr>
        <p:sp>
          <p:nvSpPr>
            <p:cNvPr id="170" name=""/>
            <p:cNvSpPr/>
            <p:nvPr/>
          </p:nvSpPr>
          <p:spPr>
            <a:xfrm>
              <a:off x="3694320" y="63615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56"/>
            <a:stretch/>
          </p:blipFill>
          <p:spPr>
            <a:xfrm>
              <a:off x="3657600" y="6324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4419720" y="6324480"/>
            <a:ext cx="1295280" cy="1295640"/>
            <a:chOff x="4419720" y="6324480"/>
            <a:chExt cx="1295280" cy="1295640"/>
          </a:xfrm>
        </p:grpSpPr>
        <p:sp>
          <p:nvSpPr>
            <p:cNvPr id="173" name=""/>
            <p:cNvSpPr/>
            <p:nvPr/>
          </p:nvSpPr>
          <p:spPr>
            <a:xfrm>
              <a:off x="4456440" y="63615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57"/>
            <a:stretch/>
          </p:blipFill>
          <p:spPr>
            <a:xfrm>
              <a:off x="4419720" y="6324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5181480" y="6324480"/>
            <a:ext cx="1295640" cy="1295640"/>
            <a:chOff x="5181480" y="6324480"/>
            <a:chExt cx="1295640" cy="1295640"/>
          </a:xfrm>
        </p:grpSpPr>
        <p:sp>
          <p:nvSpPr>
            <p:cNvPr id="176" name=""/>
            <p:cNvSpPr/>
            <p:nvPr/>
          </p:nvSpPr>
          <p:spPr>
            <a:xfrm>
              <a:off x="5218560" y="63615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58"/>
            <a:stretch/>
          </p:blipFill>
          <p:spPr>
            <a:xfrm>
              <a:off x="5181480" y="6324480"/>
              <a:ext cx="129564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"/>
          <p:cNvGrpSpPr/>
          <p:nvPr/>
        </p:nvGrpSpPr>
        <p:grpSpPr>
          <a:xfrm>
            <a:off x="5943600" y="6324480"/>
            <a:ext cx="1295280" cy="1295640"/>
            <a:chOff x="5943600" y="6324480"/>
            <a:chExt cx="1295280" cy="1295640"/>
          </a:xfrm>
        </p:grpSpPr>
        <p:sp>
          <p:nvSpPr>
            <p:cNvPr id="179" name=""/>
            <p:cNvSpPr/>
            <p:nvPr/>
          </p:nvSpPr>
          <p:spPr>
            <a:xfrm>
              <a:off x="5980320" y="63615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59"/>
            <a:stretch/>
          </p:blipFill>
          <p:spPr>
            <a:xfrm>
              <a:off x="5943600" y="6324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6705720" y="6324480"/>
            <a:ext cx="1295280" cy="1295640"/>
            <a:chOff x="6705720" y="6324480"/>
            <a:chExt cx="1295280" cy="1295640"/>
          </a:xfrm>
        </p:grpSpPr>
        <p:sp>
          <p:nvSpPr>
            <p:cNvPr id="182" name=""/>
            <p:cNvSpPr/>
            <p:nvPr/>
          </p:nvSpPr>
          <p:spPr>
            <a:xfrm>
              <a:off x="6742440" y="63615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60"/>
            <a:stretch/>
          </p:blipFill>
          <p:spPr>
            <a:xfrm>
              <a:off x="6705720" y="6324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7467480" y="6324480"/>
            <a:ext cx="1295640" cy="1295640"/>
            <a:chOff x="7467480" y="6324480"/>
            <a:chExt cx="1295640" cy="1295640"/>
          </a:xfrm>
        </p:grpSpPr>
        <p:sp>
          <p:nvSpPr>
            <p:cNvPr id="185" name=""/>
            <p:cNvSpPr/>
            <p:nvPr/>
          </p:nvSpPr>
          <p:spPr>
            <a:xfrm>
              <a:off x="7504560" y="63615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61"/>
            <a:stretch/>
          </p:blipFill>
          <p:spPr>
            <a:xfrm>
              <a:off x="7467480" y="6324480"/>
              <a:ext cx="129564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"/>
          <p:cNvGrpSpPr/>
          <p:nvPr/>
        </p:nvGrpSpPr>
        <p:grpSpPr>
          <a:xfrm>
            <a:off x="8229600" y="6324480"/>
            <a:ext cx="1295280" cy="1295640"/>
            <a:chOff x="8229600" y="6324480"/>
            <a:chExt cx="1295280" cy="1295640"/>
          </a:xfrm>
        </p:grpSpPr>
        <p:sp>
          <p:nvSpPr>
            <p:cNvPr id="188" name=""/>
            <p:cNvSpPr/>
            <p:nvPr/>
          </p:nvSpPr>
          <p:spPr>
            <a:xfrm>
              <a:off x="8266320" y="63615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62"/>
            <a:stretch/>
          </p:blipFill>
          <p:spPr>
            <a:xfrm>
              <a:off x="8229600" y="6324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8991720" y="6324480"/>
            <a:ext cx="1295280" cy="1295640"/>
            <a:chOff x="8991720" y="6324480"/>
            <a:chExt cx="1295280" cy="1295640"/>
          </a:xfrm>
        </p:grpSpPr>
        <p:sp>
          <p:nvSpPr>
            <p:cNvPr id="191" name=""/>
            <p:cNvSpPr/>
            <p:nvPr/>
          </p:nvSpPr>
          <p:spPr>
            <a:xfrm>
              <a:off x="9028440" y="6361560"/>
              <a:ext cx="1221480" cy="122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63"/>
            <a:stretch/>
          </p:blipFill>
          <p:spPr>
            <a:xfrm>
              <a:off x="8991720" y="6324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" descr=""/>
          <p:cNvPicPr/>
          <p:nvPr/>
        </p:nvPicPr>
        <p:blipFill>
          <a:blip r:embed="rId64"/>
          <a:stretch/>
        </p:blipFill>
        <p:spPr>
          <a:xfrm>
            <a:off x="2590920" y="3147840"/>
            <a:ext cx="3004920" cy="1109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5"/>
          <a:stretch/>
        </p:blipFill>
        <p:spPr>
          <a:xfrm>
            <a:off x="7086600" y="1143000"/>
            <a:ext cx="3108240" cy="1039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51280" y="66690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760">
                                      <p:cBhvr>
                                        <p:cTn id="6" dur="9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8" dur="32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10" dur="32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12" dur="32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14" dur="32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16" dur="32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18" dur="32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20" dur="32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22" dur="32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24" dur="32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26" dur="32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28" dur="32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30" dur="32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32" dur="32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34" dur="32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36" dur="32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38" dur="32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40" dur="32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42" dur="32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44" dur="32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46" dur="32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48" dur="32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50" dur="32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52" dur="32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54" dur="32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56" dur="32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58" dur="32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60" dur="32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62" dur="32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64" dur="32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66" dur="32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68" dur="32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70" dur="32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72" dur="32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74" dur="32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76" dur="32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78" dur="3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80" dur="32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82" dur="32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84" dur="32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86" dur="32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88" dur="32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90" dur="32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92" dur="32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94" dur="32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-3.7037E-006 C 0.01979 -0.01527 0.03958 -0.03055 0.06215 -0.03148 C 0.08472 -0.03217 0.11024 -0.01875 0.13594 -0.00486 E">
                                      <p:cBhvr>
                                        <p:cTn id="96" dur="32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11111E-006 L -0.04497 -1.11111E-006 E">
                                      <p:cBhvr>
                                        <p:cTn id="98" dur="9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9259E-006 L -0.11164 2.59259E-006 E">
                                      <p:cBhvr>
                                        <p:cTn id="100" dur="9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0.16423 2.22222E-006 E">
                                      <p:cBhvr>
                                        <p:cTn id="102" dur="9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4" dur="9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3698 0.08171 C 0.07274 0.12338 0.10851 0.16482 0.15278 0.19074 C 0.19705 0.21644 0.24861 0.24954 0.30278 0.23634 C 0.35695 0.22315 0.42795 0.17338 0.47778 0.11181 C 0.52761 0.05023 0.55417 -0.04838 0.60156 -0.1338 C 0.64896 -0.21921 0.70955 -0.34606 0.76198 -0.40069 C 0.81441 -0.45486 0.86441 -0.46736 0.91597 -0.45995 C 0.96754 -0.45255 1.03299 -0.3868 1.07118 -0.35648 C 1.10938 -0.32616 1.10938 -0.3206 1.14497 -0.27801 C 1.18056 -0.23542 1.25538 -0.13796 1.28438 -0.10069 E">
                                      <p:cBhvr>
                                        <p:cTn id="106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699759">
                                      <p:cBhvr>
                                        <p:cTn id="10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3899760">
                                      <p:cBhvr>
                                        <p:cTn id="1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7200000">
                                      <p:cBhvr>
                                        <p:cTn id="1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14341 0.20602 C 0.15799 0.21759 0.18056 0.25393 0.23021 0.27338 C 0.27934 0.29282 0.37865 0.34074 0.44028 0.32338 C 0.50191 0.30602 0.55938 0.22106 0.6 0.16898 C 0.64063 0.11689 0.65487 0.07338 0.68421 0.01111 C 0.71355 -0.05116 0.7441 -0.14121 0.77639 -0.20463 C 0.80868 -0.26806 0.83733 -0.33311 0.87761 -0.36945 C 0.91771 -0.40579 0.96615 -0.43264 1.01719 -0.42223 C 1.06823 -0.41181 1.1441 -0.34051 1.18421 -0.30625 C 1.22431 -0.27199 1.22917 -0.25394 1.25782 -0.2169 C 1.28646 -0.17986 1.33612 -0.11135 1.35643 -0.08357 E">
                                      <p:cBhvr>
                                        <p:cTn id="114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2699759">
                                      <p:cBhvr>
                                        <p:cTn id="1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-3899760">
                                      <p:cBhvr>
                                        <p:cTn id="1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7200000">
                                      <p:cBhvr>
                                        <p:cTn id="120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024 C 0.03698 0.04236 0.07396 0.08495 0.1184 0.11018 C 0.1625 0.13588 0.21267 0.16759 0.26701 0.15416 C 0.32118 0.14097 0.39357 0.0912 0.4441 0.02939 C 0.49462 -0.03241 0.52274 -0.13079 0.57048 -0.21598 C 0.61823 -0.30116 0.6783 -0.42755 0.7309 -0.48102 C 0.78351 -0.53449 0.83542 -0.54561 0.88628 -0.53704 C 0.93715 -0.52848 0.99878 -0.46019 1.03628 -0.4301 C 1.07378 -0.4 1.07639 -0.39653 1.11128 -0.35649 C 1.14618 -0.31644 1.21753 -0.22454 1.24548 -0.18982 E">
                                      <p:cBhvr>
                                        <p:cTn id="122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99759">
                                      <p:cBhvr>
                                        <p:cTn id="1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2699759">
                                      <p:cBhvr>
                                        <p:cTn id="1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7200000">
                                      <p:cBhvr>
                                        <p:cTn id="1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20017 0.27986 C 0.2184 0.29144 0.26059 0.33472 0.31215 0.35162 C 0.36371 0.36898 0.45017 0.40394 0.50937 0.3831 C 0.56857 0.36227 0.62187 0.29537 0.66736 0.22662 C 0.71267 0.15787 0.74791 0.05394 0.78159 -0.02986 C 0.81545 -0.11319 0.8283 -0.21412 0.86996 -0.27477 C 0.91163 -0.33541 0.97222 -0.3912 1.03159 -0.39352 C 1.09097 -0.39583 1.15903 -0.35555 1.22639 -0.28866 C 1.29357 -0.22176 1.39219 -0.0537 1.43576 0.0081 E">
                                      <p:cBhvr>
                                        <p:cTn id="130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-2699759">
                                      <p:cBhvr>
                                        <p:cTn id="1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>
                                  <p:stCondLst>
                                    <p:cond delay="1600"/>
                                  </p:stCondLst>
                                  <p:childTnLst>
                                    <p:animRot by="-3899760">
                                      <p:cBhvr>
                                        <p:cTn id="1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8">
                                  <p:stCondLst>
                                    <p:cond delay="2900"/>
                                  </p:stCondLst>
                                  <p:childTnLst>
                                    <p:animRot by="7200000">
                                      <p:cBhvr>
                                        <p:cTn id="1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32101 0.36135 C 0.3375 0.36991 0.36771 0.40695 0.41962 0.41227 C 0.47153 0.4176 0.56997 0.43612 0.63264 0.39306 C 0.69566 0.35 0.75452 0.23287 0.79722 0.1544 C 0.83993 0.07593 0.85851 -0.00208 0.88924 -0.07731 C 0.91962 -0.15254 0.93768 -0.25254 0.98125 -0.29652 C 1.02465 -0.3405 1.09549 -0.35324 1.14809 -0.34189 C 1.20104 -0.33055 1.25538 -0.26689 1.29792 -0.228 C 1.34132 -0.18912 1.37066 -0.15439 1.40625 -0.10879 C 1.44184 -0.06319 1.48976 0.01343 1.51181 0.04561 E">
                                      <p:cBhvr>
                                        <p:cTn id="13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2699759">
                                      <p:cBhvr>
                                        <p:cTn id="1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-3899760">
                                      <p:cBhvr>
                                        <p:cTn id="1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>
                                  <p:stCondLst>
                                    <p:cond delay="3100"/>
                                  </p:stCondLst>
                                  <p:childTnLst>
                                    <p:animRot by="7200000">
                                      <p:cBhvr>
                                        <p:cTn id="1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40781 0.4213 C 0.42761 0.42431 0.48143 0.4419 0.52483 0.4419 C 0.56823 0.44237 0.62344 0.44352 0.66823 0.42199 C 0.71302 0.40139 0.75851 0.35787 0.79323 0.31227 C 0.82795 0.26644 0.85174 0.20579 0.87622 0.14746 C 0.9007 0.08912 0.91997 0.01991 0.94063 -0.03842 C 0.96129 -0.09676 0.97639 -0.15879 0.99983 -0.20324 C 1.02327 -0.24768 1.04393 -0.28703 1.08143 -0.30509 C 1.11893 -0.32314 1.18212 -0.32731 1.22483 -0.31203 C 1.26754 -0.29676 1.30313 -0.24583 1.33785 -0.21365 C 1.37257 -0.18148 1.39601 -0.16805 1.43281 -0.11898 C 1.46962 -0.0706 1.53281 0.03936 1.55886 0.08102 E">
                                      <p:cBhvr>
                                        <p:cTn id="146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2699759">
                                      <p:cBhvr>
                                        <p:cTn id="1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3299759">
                                      <p:cBhvr>
                                        <p:cTn id="1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8">
                                  <p:stCondLst>
                                    <p:cond delay="3300"/>
                                  </p:stCondLst>
                                  <p:childTnLst>
                                    <p:animRot by="7200000">
                                      <p:cBhvr>
                                        <p:cTn id="1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.50261 0.44977 C 0.5125 0.45046 0.52292 0.45718 0.56285 0.4544 C 0.60278 0.45162 0.68038 0.47546 0.74184 0.43356 C 0.8033 0.39167 0.88524 0.28403 0.9316 0.20231 C 0.97795 0.1206 0.98785 0.02037 1.01962 -0.05741 C 1.05139 -0.13519 1.07847 -0.22662 1.1224 -0.26435 C 1.16632 -0.30208 1.23681 -0.29468 1.28281 -0.28356 C 1.32882 -0.27245 1.35834 -0.23657 1.39861 -0.19769 C 1.43889 -0.1588 1.48715 -0.10116 1.525 -0.05023 C 1.56285 0.000690000000000003 1.60504 0.07477 1.62604 0.10764 E">
                                      <p:cBhvr>
                                        <p:cTn id="15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2699759">
                                      <p:cBhvr>
                                        <p:cTn id="1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-2999759">
                                      <p:cBhvr>
                                        <p:cTn id="15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7200000">
                                      <p:cBhvr>
                                        <p:cTn id="16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59027 0.46428 C 0.63263 0.47052 0.67517 0.47676 0.71388 0.47121 C 0.7526 0.46566 0.79166 0.45133 0.82309 0.43098 C 0.85451 0.41063 0.87517 0.3852 0.90208 0.34867 C 0.92899 0.31214 0.95972 0.26821 0.98489 0.21156 C 1.01006 0.15491 1.03194 0.07121 1.05347 0.00809 C 1.075 -0.05503 1.09114 -0.12162 1.11388 -0.1674 C 1.13663 -0.21318 1.16006 -0.24717 1.1901 -0.26729 C 1.22048 -0.2874 1.26475 -0.28856 1.29548 -0.28833 C 1.32621 -0.28809 1.346 -0.28393 1.37447 -0.26544 C 1.40295 -0.24694 1.43298 -0.21318 1.46649 -0.17781 C 1.5 -0.14243 1.53888 -0.10451 1.57569 -0.05318 C 1.6125 -0.00185 1.66388 0.09202 1.68715 0.13017 E">
                                      <p:cBhvr>
                                        <p:cTn id="162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-2699759">
                                      <p:cBhvr>
                                        <p:cTn id="1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2999759">
                                      <p:cBhvr>
                                        <p:cTn id="1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7200000">
                                      <p:cBhvr>
                                        <p:cTn id="16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.675 0.4831 C 0.69583 0.48287 0.76094 0.49005 0.79913 0.47986 C 0.83732 0.46921 0.87014 0.45278 0.90434 0.42199 C 0.93854 0.39051 0.97656 0.33981 1.00434 0.29167 C 1.03212 0.24444 1.04878 0.19884 1.07135 0.13588 C 1.09392 0.07292 1.11684 -0.02639 1.13993 -0.08519 C 1.16302 -0.14398 1.18264 -0.18657 1.21024 -0.21736 C 1.23785 -0.24815 1.27361 -0.26366 1.30607 -0.26968 C 1.33854 -0.27569 1.36962 -0.27037 1.40469 -0.25347 C 1.43976 -0.23657 1.48507 -0.19514 1.51614 -0.16759 C 1.54722 -0.14005 1.55191 -0.14375 1.59114 -0.08866 C 1.63038 -0.03357 1.71857 0.11042 1.75208 0.16273 E">
                                      <p:cBhvr>
                                        <p:cTn id="170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8">
                                  <p:stCondLst>
                                    <p:cond delay="1600"/>
                                  </p:stCondLst>
                                  <p:childTnLst>
                                    <p:animRot by="-2699759">
                                      <p:cBhvr>
                                        <p:cTn id="1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-2999759">
                                      <p:cBhvr>
                                        <p:cTn id="1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7200000">
                                      <p:cBhvr>
                                        <p:cTn id="1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76267 0.49977 C 0.77187 0.49907 0.79149 0.50139 0.81649 0.49583 C 0.84149 0.49028 0.8802 0.48727 0.91267 0.4662 C 0.94513 0.44491 0.98298 0.4044 1.01128 0.36782 C 1.03941 0.33148 1.05711 0.30046 1.08107 0.24699 C 1.10503 0.19352 1.13298 0.10741 1.15468 0.04676 C 1.17638 -0.01343 1.18628 -0.06921 1.21111 -0.11621 C 1.23593 -0.1632 1.26718 -0.21296 1.30347 -0.23542 C 1.33958 -0.25787 1.38732 -0.26204 1.42847 -0.25116 C 1.46961 -0.24028 1.51232 -0.20417 1.55069 -0.1706 C 1.58888 -0.13704 1.62777 -0.08796 1.65711 -0.04954 C 1.68663 -0.01111 1.70156 0.01736 1.72812 0.05926 C 1.75451 0.10116 1.79687 0.17176 1.8151 0.20139 E">
                                      <p:cBhvr>
                                        <p:cTn id="178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-2699759">
                                      <p:cBhvr>
                                        <p:cTn id="1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-2999759">
                                      <p:cBhvr>
                                        <p:cTn id="1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7200000">
                                      <p:cBhvr>
                                        <p:cTn id="18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84723 0.50301 C 0.8658 0.49885 0.92431 0.4963 0.95903 0.47847 C 0.99375 0.45996 1.02657 0.42778 1.05521 0.3926 C 1.08386 0.35718 1.1099 0.3081 1.13143 0.26621 C 1.15295 0.22408 1.16962 0.18125 1.18403 0.14005 C 1.19844 0.09885 1.20591 0.05996 1.21823 0.01898 C 1.23056 -0.02199 1.24063 -0.06551 1.25782 -0.10555 C 1.275 -0.1456 1.29497 -0.19537 1.32101 -0.22153 C 1.34688 -0.24768 1.38143 -0.25972 1.41441 -0.26203 C 1.44705 -0.26435 1.48716 -0.24884 1.51702 -0.23541 C 1.54688 -0.22199 1.56632 -0.20463 1.59323 -0.18102 C 1.62014 -0.1574 1.65434 -0.12199 1.67882 -0.09328 C 1.70313 -0.06458 1.70573 -0.06273 1.73941 -0.00926 C 1.77309 0.04422 1.85191 0.17847 1.88143 0.22778 E">
                                      <p:cBhvr>
                                        <p:cTn id="186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2699759">
                                      <p:cBhvr>
                                        <p:cTn id="1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8">
                                  <p:stCondLst>
                                    <p:cond delay="3100"/>
                                  </p:stCondLst>
                                  <p:childTnLst>
                                    <p:animRot by="-899760">
                                      <p:cBhvr>
                                        <p:cTn id="1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>
                                  <p:stCondLst>
                                    <p:cond delay="4200"/>
                                  </p:stCondLst>
                                  <p:childTnLst>
                                    <p:animRot by="5700000">
                                      <p:cBhvr>
                                        <p:cTn id="19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93316 0.52107 C 0.94687 0.51713 0.98871 0.51343 1.01476 0.49769 C 1.0408 0.48149 1.06302 0.45926 1.08976 0.42431 C 1.11649 0.38936 1.15312 0.33889 1.17535 0.2875 C 1.19757 0.23635 1.20677 0.16945 1.22274 0.11575 C 1.23871 0.06204 1.24948 0.01713 1.27135 -0.03518 C 1.29305 -0.0875 1.31597 -0.16365 1.35434 -0.19838 C 1.39271 -0.2331 1.45746 -0.24838 1.50156 -0.24398 C 1.54566 -0.23958 1.58368 -0.19884 1.61875 -0.17199 C 1.65382 -0.14513 1.68368 -0.1155 1.71215 -0.0824 C 1.74062 -0.0493 1.74948 -0.03657 1.78923 0.02616 C 1.82899 0.08889 1.91684 0.23866 1.95035 0.29468 E">
                                      <p:cBhvr>
                                        <p:cTn id="194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8">
                                  <p:stCondLst>
                                    <p:cond delay="2200"/>
                                  </p:stCondLst>
                                  <p:childTnLst>
                                    <p:animRot by="-2699759">
                                      <p:cBhvr>
                                        <p:cTn id="1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-2699759">
                                      <p:cBhvr>
                                        <p:cTn id="1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8">
                                  <p:stCondLst>
                                    <p:cond delay="4400"/>
                                  </p:stCondLst>
                                  <p:childTnLst>
                                    <p:animRot by="7200000">
                                      <p:cBhvr>
                                        <p:cTn id="20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1.01823 0.51481 C 1.04584 0.50694 1.07344 0.49954 1.10122 0.47271 C 1.129 0.44566 1.16007 0.3964 1.18542 0.35153 C 1.21077 0.3069 1.229 0.27382 1.25382 0.20444 C 1.27865 0.13506 1.31059 -0.00161 1.33403 -0.06568 C 1.35747 -0.12997 1.37031 -0.15194 1.39462 -0.17992 C 1.41893 -0.2079 1.44462 -0.22872 1.48021 -0.23427 C 1.5158 -0.23982 1.56163 -0.23982 1.60781 -0.21322 C 1.654 -0.18663 1.71615 -0.12234 1.75781 -0.07446 C 1.79948 -0.02682 1.81476 0.00278 1.85781 0.07239 C 1.90087 0.14247 1.98299 0.28793 2.0158 0.34459 E">
                                      <p:cBhvr>
                                        <p:cTn id="20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-2699759">
                                      <p:cBhvr>
                                        <p:cTn id="2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699759">
                                      <p:cBhvr>
                                        <p:cTn id="2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7200000">
                                      <p:cBhvr>
                                        <p:cTn id="208" dur="7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1.17066 0.50718 C 1.18159 0.50093 1.21284 0.49306 1.23784 0.46921 C 1.26284 0.44537 1.29548 0.41921 1.32066 0.36435 C 1.34583 0.30949 1.36927 0.20347 1.38923 0.13958 C 1.4092 0.0757 1.42083 0.0338 1.44062 -0.01852 C 1.46041 -0.07083 1.48229 -0.13704 1.50781 -0.17477 C 1.53333 -0.2125 1.56423 -0.2331 1.5934 -0.24514 C 1.62239 -0.25717 1.64757 -0.2581 1.68211 -0.24699 C 1.71666 -0.23588 1.75972 -0.21065 1.80069 -0.17847 C 1.84166 -0.1463 1.88871 -0.10486 1.92777 -0.05463 C 1.96684 -0.0044 1.99704 0.05903 2.03472 0.12245 C 2.07239 0.18588 2.12882 0.2838 2.15347 0.32616 E">
                                      <p:cBhvr>
                                        <p:cTn id="210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-2699759">
                                      <p:cBhvr>
                                        <p:cTn id="2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-899760">
                                      <p:cBhvr>
                                        <p:cTn id="21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8">
                                  <p:stCondLst>
                                    <p:cond delay="4800"/>
                                  </p:stCondLst>
                                  <p:childTnLst>
                                    <p:animRot by="6600000">
                                      <p:cBhvr>
                                        <p:cTn id="216" dur="7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63086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DD6-EDF3-4219-AA15-D5C00B2BD163}" type="slidenum">
              <a:t>3</a:t>
            </a:fld>
          </a:p>
        </p:txBody>
      </p:sp>
    </p:spTree>
  </p:cSld>
  <p:transition advTm="1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8:25:50Z</dcterms:created>
  <dc:creator/>
  <dc:description/>
  <dc:language>en-US</dc:language>
  <cp:lastModifiedBy>微软用户</cp:lastModifiedBy>
  <dcterms:modified xsi:type="dcterms:W3CDTF">2015-06-12T15:03:18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Version">
    <vt:r8>1</vt:r8>
  </property>
</Properties>
</file>