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D2E-0658-4D94-AF1F-24416E41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9BC-4B8D-4903-BD5F-AF0B1C72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ADD-DB07-42EA-A58B-C1B2E85B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69E-2359-4F73-BCE7-8EE05290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658-A9A1-468B-91BA-BEA756DD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D0B-98A2-4926-81E2-F386EFD6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357-34AB-4CE5-B4C1-975A39C2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B0C-B1C1-49E3-A574-0B477915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A9F-FB2A-49FF-B7FF-BDE737FB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681-CA0B-4633-A88C-5381A235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E9D-764E-4E09-9D6D-700C334B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E1F-32BF-4E56-85B7-150FDCA2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334D-C6DA-43FC-B837-8D84C0AD3B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797C-474F-478B-A72B-E09000BDF8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3"/>
          <p:cNvSpPr/>
          <p:nvPr/>
        </p:nvSpPr>
        <p:spPr>
          <a:xfrm>
            <a:off x="2797200" y="2082960"/>
            <a:ext cx="3449520" cy="3449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4"/>
          <p:cNvSpPr/>
          <p:nvPr/>
        </p:nvSpPr>
        <p:spPr>
          <a:xfrm>
            <a:off x="2863800" y="2149560"/>
            <a:ext cx="3314880" cy="3314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1928880" y="1500120"/>
            <a:ext cx="4857840" cy="485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"/>
          <p:cNvSpPr/>
          <p:nvPr/>
        </p:nvSpPr>
        <p:spPr>
          <a:xfrm>
            <a:off x="3273480" y="2558880"/>
            <a:ext cx="2463840" cy="246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3429000" y="2714760"/>
            <a:ext cx="2154240" cy="215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3846600" y="3132000"/>
            <a:ext cx="1319040" cy="1319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642960" y="2016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中心强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3929040" y="32148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2073240" y="5273640"/>
            <a:ext cx="936720" cy="9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5857920" y="1500120"/>
            <a:ext cx="936720" cy="9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标注 13"/>
          <p:cNvSpPr/>
          <p:nvPr/>
        </p:nvSpPr>
        <p:spPr>
          <a:xfrm>
            <a:off x="357120" y="3929040"/>
            <a:ext cx="1928880" cy="1000080"/>
          </a:xfrm>
          <a:prstGeom prst="wedgeRoundRectCallout">
            <a:avLst>
              <a:gd name="adj1" fmla="val 42759"/>
              <a:gd name="adj2" fmla="val 78106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标注 14"/>
          <p:cNvSpPr/>
          <p:nvPr/>
        </p:nvSpPr>
        <p:spPr>
          <a:xfrm>
            <a:off x="6643800" y="2786040"/>
            <a:ext cx="1928880" cy="1000080"/>
          </a:xfrm>
          <a:prstGeom prst="wedgeRoundRectCallout">
            <a:avLst>
              <a:gd name="adj1" fmla="val -47430"/>
              <a:gd name="adj2" fmla="val -91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9BA-E0BA-4CDE-B486-51D0912464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6:01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