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58680"/>
            <a:ext cx="8520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837FA42A-8FD8-4B6B-8386-5B41E30D498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2540160"/>
            <a:ext cx="9144000" cy="1675800"/>
            <a:chOff x="0" y="2540160"/>
            <a:chExt cx="9144000" cy="1675800"/>
          </a:xfrm>
        </p:grpSpPr>
        <p:sp>
          <p:nvSpPr>
            <p:cNvPr id="41" name="Rectangle 3"/>
            <p:cNvSpPr/>
            <p:nvPr/>
          </p:nvSpPr>
          <p:spPr>
            <a:xfrm>
              <a:off x="0" y="29192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25"/>
            <p:cNvSpPr/>
            <p:nvPr/>
          </p:nvSpPr>
          <p:spPr>
            <a:xfrm flipV="1">
              <a:off x="0" y="25398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Textfeld 7"/>
          <p:cNvSpPr/>
          <p:nvPr/>
        </p:nvSpPr>
        <p:spPr>
          <a:xfrm>
            <a:off x="188640" y="174600"/>
            <a:ext cx="618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c40505"/>
                </a:solidFill>
                <a:latin typeface="Arial"/>
              </a:rPr>
              <a:t>FRE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</a:rPr>
              <a:t>GRAPH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uppieren 44" descr=""/>
          <p:cNvPicPr/>
          <p:nvPr/>
        </p:nvPicPr>
        <p:blipFill>
          <a:blip r:embed="rId1"/>
          <a:stretch/>
        </p:blipFill>
        <p:spPr>
          <a:xfrm>
            <a:off x="774720" y="2664000"/>
            <a:ext cx="8813880" cy="6078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578480" y="1876320"/>
            <a:ext cx="3052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xt can be replac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927840" y="4444920"/>
            <a:ext cx="2062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 fontScale="99000"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1b2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1" lang="en-US" sz="1600" spc="-1" strike="noStrike">
                <a:solidFill>
                  <a:srgbClr val="0061b2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77840" y="3225960"/>
            <a:ext cx="18478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 fontScale="99000"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erade Verbindung 17"/>
          <p:cNvSpPr/>
          <p:nvPr/>
        </p:nvSpPr>
        <p:spPr>
          <a:xfrm>
            <a:off x="244440" y="3251160"/>
            <a:ext cx="19540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Gerade Verbindung 18"/>
          <p:cNvSpPr/>
          <p:nvPr/>
        </p:nvSpPr>
        <p:spPr>
          <a:xfrm>
            <a:off x="7292880" y="4444920"/>
            <a:ext cx="15447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Gerade Verbindung 20"/>
          <p:cNvSpPr/>
          <p:nvPr/>
        </p:nvSpPr>
        <p:spPr>
          <a:xfrm flipV="1">
            <a:off x="4514760" y="1990440"/>
            <a:ext cx="0" cy="755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52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feld 7"/>
          <p:cNvSpPr/>
          <p:nvPr/>
        </p:nvSpPr>
        <p:spPr>
          <a:xfrm>
            <a:off x="188640" y="174600"/>
            <a:ext cx="618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c40505"/>
                </a:solidFill>
                <a:latin typeface="Arial"/>
                <a:ea typeface="宋体"/>
              </a:rPr>
              <a:t>FRE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GRAPH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uppieren 19" descr=""/>
          <p:cNvPicPr/>
          <p:nvPr/>
        </p:nvPicPr>
        <p:blipFill>
          <a:blip r:embed="rId1"/>
          <a:stretch/>
        </p:blipFill>
        <p:spPr>
          <a:xfrm>
            <a:off x="-982800" y="3913200"/>
            <a:ext cx="11266560" cy="263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324000" y="1555920"/>
            <a:ext cx="41749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2c3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Pro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24000" y="1916280"/>
            <a:ext cx="4174920" cy="152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  <a:ea typeface="宋体"/>
              </a:rPr>
              <a:t>Argum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  <a:ea typeface="宋体"/>
              </a:rPr>
              <a:t>Argum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  <a:ea typeface="宋体"/>
              </a:rPr>
              <a:t>Argum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  <a:ea typeface="宋体"/>
              </a:rPr>
              <a:t>Argumen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643280" y="1555920"/>
            <a:ext cx="417528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Contra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43280" y="1916280"/>
            <a:ext cx="4175280" cy="152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Argum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Argum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Argum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Argumen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storypreso.com/blog/wp-content/uploads/2009/10/powerpoint-2007-icon.jpg"/>
          <p:cNvPicPr/>
          <p:nvPr/>
        </p:nvPicPr>
        <p:blipFill>
          <a:blip r:embed="rId2"/>
          <a:stretch/>
        </p:blipFill>
        <p:spPr>
          <a:xfrm>
            <a:off x="8118360" y="324000"/>
            <a:ext cx="717840" cy="71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sp>
        <p:nvSpPr>
          <p:cNvPr id="61" name="Rectangle 5"/>
          <p:cNvSpPr/>
          <p:nvPr/>
        </p:nvSpPr>
        <p:spPr>
          <a:xfrm>
            <a:off x="4968720" y="5808600"/>
            <a:ext cx="4175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r>
              <a:rPr b="0" sz="1400" spc="-1" strike="noStrike">
                <a:solidFill>
                  <a:srgbClr val="7f7f7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3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http://www.storypreso.com/blog/wp-content/uploads/2009/10/powerpoint-2007-icon.jpg"/>
          <p:cNvPicPr/>
          <p:nvPr/>
        </p:nvPicPr>
        <p:blipFill>
          <a:blip r:embed="rId1"/>
          <a:stretch/>
        </p:blipFill>
        <p:spPr>
          <a:xfrm>
            <a:off x="8118360" y="324000"/>
            <a:ext cx="717840" cy="71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pic>
        <p:nvPicPr>
          <p:cNvPr id="66" name="Kreuz 15" descr=""/>
          <p:cNvPicPr/>
          <p:nvPr/>
        </p:nvPicPr>
        <p:blipFill>
          <a:blip r:embed="rId2"/>
          <a:stretch/>
        </p:blipFill>
        <p:spPr>
          <a:xfrm>
            <a:off x="5175360" y="1231920"/>
            <a:ext cx="4402080" cy="4394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84320" y="1496880"/>
            <a:ext cx="417492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f7f7f"/>
                </a:solidFill>
                <a:latin typeface="Arial"/>
              </a:rPr>
              <a:t>You can use this slide to add impact and a visual element to an argument or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f7f7f"/>
                </a:solidFill>
                <a:latin typeface="Arial"/>
              </a:rPr>
              <a:t>A simple sign that will support your message makes it easier for your audience to remember the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7"/>
          <p:cNvSpPr/>
          <p:nvPr/>
        </p:nvSpPr>
        <p:spPr>
          <a:xfrm>
            <a:off x="188640" y="174600"/>
            <a:ext cx="618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c40505"/>
                </a:solidFill>
                <a:latin typeface="Arial"/>
                <a:ea typeface="宋体"/>
              </a:rPr>
              <a:t>FRE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GRAPH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http://www.storypreso.com/blog/wp-content/uploads/2009/10/powerpoint-2007-icon.jpg"/>
          <p:cNvPicPr/>
          <p:nvPr/>
        </p:nvPicPr>
        <p:blipFill>
          <a:blip r:embed="rId1"/>
          <a:stretch/>
        </p:blipFill>
        <p:spPr>
          <a:xfrm>
            <a:off x="8118360" y="324000"/>
            <a:ext cx="717840" cy="71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sp>
        <p:nvSpPr>
          <p:cNvPr id="73" name="Textfeld 7"/>
          <p:cNvSpPr/>
          <p:nvPr/>
        </p:nvSpPr>
        <p:spPr>
          <a:xfrm>
            <a:off x="188640" y="174600"/>
            <a:ext cx="618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c40505"/>
                </a:solidFill>
                <a:latin typeface="Arial"/>
                <a:ea typeface="宋体"/>
              </a:rPr>
              <a:t>FRE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GRAPH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uppieren 10" descr=""/>
          <p:cNvPicPr/>
          <p:nvPr/>
        </p:nvPicPr>
        <p:blipFill>
          <a:blip r:embed="rId2"/>
          <a:stretch/>
        </p:blipFill>
        <p:spPr>
          <a:xfrm>
            <a:off x="1566720" y="1700280"/>
            <a:ext cx="6766200" cy="6157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84320" y="1496880"/>
            <a:ext cx="2787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f7f7f"/>
                </a:solidFill>
                <a:latin typeface="Arial"/>
              </a:rPr>
              <a:t>Edit this text to edit 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a description using 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classic text lay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203880" y="1496880"/>
            <a:ext cx="2787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f7f7f"/>
                </a:solidFill>
                <a:latin typeface="Arial"/>
              </a:rPr>
              <a:t>Edit this text to edit 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a description using 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classic text lay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8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http://www.storypreso.com/blog/wp-content/uploads/2009/10/powerpoint-2007-icon.jpg"/>
          <p:cNvPicPr/>
          <p:nvPr/>
        </p:nvPicPr>
        <p:blipFill>
          <a:blip r:embed="rId1"/>
          <a:stretch/>
        </p:blipFill>
        <p:spPr>
          <a:xfrm>
            <a:off x="8118360" y="324000"/>
            <a:ext cx="717840" cy="71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sp>
        <p:nvSpPr>
          <p:cNvPr id="81" name="Textfeld 7"/>
          <p:cNvSpPr/>
          <p:nvPr/>
        </p:nvSpPr>
        <p:spPr>
          <a:xfrm>
            <a:off x="188640" y="174600"/>
            <a:ext cx="618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c40505"/>
                </a:solidFill>
                <a:latin typeface="Arial"/>
                <a:ea typeface="宋体"/>
              </a:rPr>
              <a:t>FREE</a:t>
            </a:r>
            <a:r>
              <a:rPr b="0" lang="de-DE" sz="6000" spc="-1" strike="noStrike">
                <a:solidFill>
                  <a:srgbClr val="595959"/>
                </a:solidFill>
                <a:latin typeface="Arial"/>
                <a:ea typeface="宋体"/>
              </a:rPr>
              <a:t>GRAPH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84320" y="1496880"/>
            <a:ext cx="417492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spcAft>
                <a:spcPts val="14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f7f7f"/>
                </a:solidFill>
                <a:latin typeface="Arial"/>
              </a:rPr>
              <a:t>Use this card graphic to drop in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your own text and to accentuate </a:t>
            </a:r>
            <a:br>
              <a:rPr sz="1800"/>
            </a:br>
            <a:r>
              <a:rPr b="0" sz="1800" spc="-1" strike="noStrike">
                <a:solidFill>
                  <a:srgbClr val="7f7f7f"/>
                </a:solidFill>
                <a:latin typeface="Arial"/>
              </a:rPr>
              <a:t>a single statement, qoute or any othe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ihandform 23"/>
          <p:cNvSpPr/>
          <p:nvPr/>
        </p:nvSpPr>
        <p:spPr>
          <a:xfrm>
            <a:off x="4135320" y="2184480"/>
            <a:ext cx="1325520" cy="2833560"/>
          </a:xfrm>
          <a:custGeom>
            <a:avLst/>
            <a:gdLst/>
            <a:ahLst/>
            <a:rect l="l" t="t" r="r" b="b"/>
            <a:pathLst>
              <a:path w="1312174" h="3187049">
                <a:moveTo>
                  <a:pt x="0" y="3187049"/>
                </a:moveTo>
                <a:lnTo>
                  <a:pt x="859098" y="0"/>
                </a:lnTo>
                <a:lnTo>
                  <a:pt x="1312174" y="2821571"/>
                </a:lnTo>
                <a:lnTo>
                  <a:pt x="0" y="3187049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ihandform 25"/>
          <p:cNvSpPr/>
          <p:nvPr/>
        </p:nvSpPr>
        <p:spPr>
          <a:xfrm>
            <a:off x="4299120" y="2384280"/>
            <a:ext cx="1172880" cy="2479680"/>
          </a:xfrm>
          <a:custGeom>
            <a:avLst/>
            <a:gdLst/>
            <a:ahLst/>
            <a:rect l="l" t="t" r="r" b="b"/>
            <a:pathLst>
              <a:path w="1161026" h="2788011">
                <a:moveTo>
                  <a:pt x="0" y="2788011"/>
                </a:moveTo>
                <a:lnTo>
                  <a:pt x="771876" y="0"/>
                </a:lnTo>
                <a:lnTo>
                  <a:pt x="1161026" y="2447314"/>
                </a:lnTo>
                <a:lnTo>
                  <a:pt x="0" y="2788011"/>
                </a:lnTo>
                <a:close/>
              </a:path>
            </a:pathLst>
          </a:custGeom>
          <a:solidFill>
            <a:srgbClr val="7f7f7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hteck 26" descr=""/>
          <p:cNvPicPr/>
          <p:nvPr/>
        </p:nvPicPr>
        <p:blipFill>
          <a:blip r:embed="rId2"/>
          <a:stretch/>
        </p:blipFill>
        <p:spPr>
          <a:xfrm>
            <a:off x="3462480" y="2182680"/>
            <a:ext cx="4943160" cy="418788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 rot="21118800">
            <a:off x="5667120" y="2886120"/>
            <a:ext cx="2474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nter your own text an 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dit the greeting card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de-DE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de-DE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de-DE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de-DE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de-DE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de-DE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3:39:00Z</dcterms:created>
  <dc:creator>Tom Becker</dc:creator>
  <dc:description/>
  <dc:language>en-US</dc:language>
  <cp:lastModifiedBy>a</cp:lastModifiedBy>
  <dcterms:modified xsi:type="dcterms:W3CDTF">2015-06-13T08:56:32Z</dcterms:modified>
  <cp:revision>305</cp:revision>
  <dc:subject/>
  <dc:title>Content-Stylegu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