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7411-FBA1-45F4-8F18-79E9BFCE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BFA-B8CC-4E3A-B233-40A359F8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0640-D63D-4B24-AD4F-49927F06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D3B-06F1-4F76-A486-59585305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03E5-9CF1-4A73-A681-6C974125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99A0-8519-4FB0-9105-F5104E1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5E94-2977-439C-8CEF-89492E2A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FDCE-CDB6-4A88-AD48-B1EE41E7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7DBF-C6AD-44A5-94D2-37A8B136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460A-20F1-49DB-A647-37119D4A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374A-E01D-45CA-BD32-FCADF10E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C31-CBF0-468D-844E-C62D689D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E1BC-C46D-48CB-A9FC-962597A4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D327-E0EC-439D-A09D-DE48D12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88C0-5AC1-4AE1-9295-386CE95C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29C8-3BC1-4FF2-BB9C-CBB9B1B1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690C-AB12-4C25-9C34-0258E7DF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103-158D-48CB-A92A-8D84CBB3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04F-2550-4206-8439-31E44144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1FA-191A-494D-9D65-AD672819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F8E-B239-46CC-9D4F-F4A4D085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D3C-DC76-4745-9F00-8B5B7B04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EBA-5FF5-4FB0-83DC-713740F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C30-0060-47CF-815E-E79D7CA3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00AA-209F-413E-91D8-6BCEA9796C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D7E5-6232-4168-BBAA-F9153A09D8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8069-2D18-4448-A9C5-218C516327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6243-2DD2-4138-985E-62C5564BA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292400" y="4102200"/>
            <a:ext cx="6748200" cy="1933560"/>
            <a:chOff x="1292400" y="4102200"/>
            <a:chExt cx="6748200" cy="1933560"/>
          </a:xfrm>
        </p:grpSpPr>
        <p:pic>
          <p:nvPicPr>
            <p:cNvPr id="83" name="任意多边形 3" descr=""/>
            <p:cNvPicPr/>
            <p:nvPr/>
          </p:nvPicPr>
          <p:blipFill>
            <a:blip r:embed="rId1"/>
            <a:stretch/>
          </p:blipFill>
          <p:spPr>
            <a:xfrm>
              <a:off x="1292400" y="4102200"/>
              <a:ext cx="6748200" cy="19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333440" y="4129200"/>
              <a:ext cx="6673320" cy="18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直接连接符 4"/>
          <p:cNvSpPr/>
          <p:nvPr/>
        </p:nvSpPr>
        <p:spPr>
          <a:xfrm flipV="1">
            <a:off x="1317600" y="3063600"/>
            <a:ext cx="0" cy="1655640"/>
          </a:xfrm>
          <a:prstGeom prst="line">
            <a:avLst/>
          </a:prstGeom>
          <a:ln w="12600">
            <a:solidFill>
              <a:srgbClr val="7f7f7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5"/>
          <p:cNvSpPr/>
          <p:nvPr/>
        </p:nvSpPr>
        <p:spPr>
          <a:xfrm flipV="1">
            <a:off x="7921800" y="3021120"/>
            <a:ext cx="0" cy="2039760"/>
          </a:xfrm>
          <a:prstGeom prst="line">
            <a:avLst/>
          </a:prstGeom>
          <a:ln w="12600">
            <a:solidFill>
              <a:srgbClr val="7f7f7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6"/>
          <p:cNvSpPr/>
          <p:nvPr/>
        </p:nvSpPr>
        <p:spPr>
          <a:xfrm flipV="1">
            <a:off x="1333440" y="3811680"/>
            <a:ext cx="1654200" cy="68256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7"/>
          <p:cNvSpPr/>
          <p:nvPr/>
        </p:nvSpPr>
        <p:spPr>
          <a:xfrm flipV="1">
            <a:off x="2987640" y="2342880"/>
            <a:ext cx="0" cy="1757160"/>
          </a:xfrm>
          <a:prstGeom prst="line">
            <a:avLst/>
          </a:prstGeom>
          <a:ln w="12600">
            <a:solidFill>
              <a:srgbClr val="7f7f7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8"/>
          <p:cNvSpPr/>
          <p:nvPr/>
        </p:nvSpPr>
        <p:spPr>
          <a:xfrm flipV="1">
            <a:off x="1317600" y="3449520"/>
            <a:ext cx="1670040" cy="6876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9"/>
          <p:cNvSpPr/>
          <p:nvPr/>
        </p:nvSpPr>
        <p:spPr>
          <a:xfrm flipV="1">
            <a:off x="1317600" y="2363400"/>
            <a:ext cx="1670040" cy="7002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0"/>
          <p:cNvSpPr/>
          <p:nvPr/>
        </p:nvSpPr>
        <p:spPr>
          <a:xfrm flipV="1">
            <a:off x="1317600" y="2725200"/>
            <a:ext cx="1670040" cy="676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1"/>
          <p:cNvSpPr/>
          <p:nvPr/>
        </p:nvSpPr>
        <p:spPr>
          <a:xfrm flipV="1">
            <a:off x="1317600" y="3087360"/>
            <a:ext cx="1670040" cy="6872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2"/>
          <p:cNvSpPr/>
          <p:nvPr/>
        </p:nvSpPr>
        <p:spPr>
          <a:xfrm>
            <a:off x="2987640" y="2343240"/>
            <a:ext cx="4934160" cy="67788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3"/>
          <p:cNvSpPr/>
          <p:nvPr/>
        </p:nvSpPr>
        <p:spPr>
          <a:xfrm>
            <a:off x="2987640" y="2725560"/>
            <a:ext cx="4934160" cy="676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4"/>
          <p:cNvSpPr/>
          <p:nvPr/>
        </p:nvSpPr>
        <p:spPr>
          <a:xfrm>
            <a:off x="2987640" y="3087720"/>
            <a:ext cx="4934160" cy="7286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5"/>
          <p:cNvSpPr/>
          <p:nvPr/>
        </p:nvSpPr>
        <p:spPr>
          <a:xfrm>
            <a:off x="2987640" y="3449520"/>
            <a:ext cx="4934160" cy="79236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6"/>
          <p:cNvSpPr/>
          <p:nvPr/>
        </p:nvSpPr>
        <p:spPr>
          <a:xfrm>
            <a:off x="2987640" y="3816360"/>
            <a:ext cx="4934160" cy="8492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17"/>
          <p:cNvSpPr/>
          <p:nvPr/>
        </p:nvSpPr>
        <p:spPr>
          <a:xfrm>
            <a:off x="2608200" y="3465360"/>
            <a:ext cx="5083200" cy="1789200"/>
          </a:xfrm>
          <a:custGeom>
            <a:avLst/>
            <a:gdLst/>
            <a:ahLst/>
            <a:rect l="l" t="t" r="r" b="b"/>
            <a:pathLst>
              <a:path w="5083250" h="1788856">
                <a:moveTo>
                  <a:pt x="5083250" y="0"/>
                </a:moveTo>
                <a:lnTo>
                  <a:pt x="5083250" y="1723604"/>
                </a:lnTo>
                <a:lnTo>
                  <a:pt x="4985882" y="1788856"/>
                </a:lnTo>
                <a:lnTo>
                  <a:pt x="4973975" y="292772"/>
                </a:lnTo>
                <a:lnTo>
                  <a:pt x="4970558" y="113289"/>
                </a:lnTo>
                <a:lnTo>
                  <a:pt x="4511744" y="388418"/>
                </a:lnTo>
                <a:lnTo>
                  <a:pt x="3545819" y="712099"/>
                </a:lnTo>
                <a:lnTo>
                  <a:pt x="2660387" y="372234"/>
                </a:lnTo>
                <a:lnTo>
                  <a:pt x="1404684" y="550259"/>
                </a:lnTo>
                <a:lnTo>
                  <a:pt x="0" y="530827"/>
                </a:lnTo>
                <a:lnTo>
                  <a:pt x="166726" y="445649"/>
                </a:lnTo>
                <a:lnTo>
                  <a:pt x="1493227" y="461246"/>
                </a:lnTo>
                <a:lnTo>
                  <a:pt x="2773079" y="291313"/>
                </a:lnTo>
                <a:lnTo>
                  <a:pt x="3666559" y="623087"/>
                </a:lnTo>
                <a:lnTo>
                  <a:pt x="4584189" y="307497"/>
                </a:lnTo>
                <a:lnTo>
                  <a:pt x="5083250" y="0"/>
                </a:lnTo>
                <a:close/>
              </a:path>
            </a:pathLst>
          </a:custGeom>
          <a:gradFill rotWithShape="0">
            <a:gsLst>
              <a:gs pos="0">
                <a:srgbClr val="be1247"/>
              </a:gs>
              <a:gs pos="100000">
                <a:srgbClr val="fa9496"/>
              </a:gs>
            </a:gsLst>
            <a:lin ang="54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18"/>
          <p:cNvSpPr/>
          <p:nvPr/>
        </p:nvSpPr>
        <p:spPr>
          <a:xfrm>
            <a:off x="2604960" y="3565440"/>
            <a:ext cx="4988160" cy="1689120"/>
          </a:xfrm>
          <a:custGeom>
            <a:avLst/>
            <a:gdLst/>
            <a:ahLst/>
            <a:rect l="l" t="t" r="r" b="b"/>
            <a:pathLst>
              <a:path w="4988688" h="1689903">
                <a:moveTo>
                  <a:pt x="0" y="717630"/>
                </a:moveTo>
                <a:lnTo>
                  <a:pt x="0" y="428263"/>
                </a:lnTo>
                <a:lnTo>
                  <a:pt x="1377387" y="439838"/>
                </a:lnTo>
                <a:lnTo>
                  <a:pt x="2662177" y="266217"/>
                </a:lnTo>
                <a:lnTo>
                  <a:pt x="3553428" y="601883"/>
                </a:lnTo>
                <a:lnTo>
                  <a:pt x="4525701" y="277792"/>
                </a:lnTo>
                <a:lnTo>
                  <a:pt x="4988688" y="0"/>
                </a:lnTo>
                <a:lnTo>
                  <a:pt x="4988688" y="1689903"/>
                </a:lnTo>
                <a:lnTo>
                  <a:pt x="0" y="717630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19"/>
          <p:cNvSpPr/>
          <p:nvPr/>
        </p:nvSpPr>
        <p:spPr>
          <a:xfrm>
            <a:off x="1822320" y="4221000"/>
            <a:ext cx="5400720" cy="1473480"/>
          </a:xfrm>
          <a:custGeom>
            <a:avLst/>
            <a:gdLst/>
            <a:ahLst/>
            <a:rect l="l" t="t" r="r" b="b"/>
            <a:pathLst>
              <a:path w="5401659" h="1473594">
                <a:moveTo>
                  <a:pt x="3653326" y="0"/>
                </a:moveTo>
                <a:lnTo>
                  <a:pt x="5401659" y="117043"/>
                </a:lnTo>
                <a:lnTo>
                  <a:pt x="5401659" y="1374978"/>
                </a:lnTo>
                <a:lnTo>
                  <a:pt x="5266639" y="1473594"/>
                </a:lnTo>
                <a:cubicBezTo>
                  <a:pt x="5264522" y="1062012"/>
                  <a:pt x="5264787" y="645668"/>
                  <a:pt x="5262670" y="234086"/>
                </a:cubicBezTo>
                <a:lnTo>
                  <a:pt x="3536283" y="102412"/>
                </a:lnTo>
                <a:lnTo>
                  <a:pt x="2556046" y="307238"/>
                </a:lnTo>
                <a:lnTo>
                  <a:pt x="0" y="167437"/>
                </a:lnTo>
                <a:lnTo>
                  <a:pt x="242744" y="64812"/>
                </a:lnTo>
                <a:lnTo>
                  <a:pt x="2687720" y="190195"/>
                </a:lnTo>
                <a:lnTo>
                  <a:pt x="3653326" y="0"/>
                </a:lnTo>
                <a:close/>
              </a:path>
            </a:pathLst>
          </a:custGeom>
          <a:gradFill rotWithShape="0">
            <a:gsLst>
              <a:gs pos="0">
                <a:srgbClr val="c73e01"/>
              </a:gs>
              <a:gs pos="100000">
                <a:srgbClr val="fece02"/>
              </a:gs>
            </a:gsLst>
            <a:lin ang="54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20"/>
          <p:cNvSpPr/>
          <p:nvPr/>
        </p:nvSpPr>
        <p:spPr>
          <a:xfrm>
            <a:off x="1817640" y="4316400"/>
            <a:ext cx="5272200" cy="1378080"/>
          </a:xfrm>
          <a:custGeom>
            <a:avLst/>
            <a:gdLst/>
            <a:ahLst/>
            <a:rect l="l" t="t" r="r" b="b"/>
            <a:pathLst>
              <a:path w="5272644" h="1377537">
                <a:moveTo>
                  <a:pt x="0" y="249381"/>
                </a:moveTo>
                <a:lnTo>
                  <a:pt x="0" y="249381"/>
                </a:lnTo>
                <a:lnTo>
                  <a:pt x="5272644" y="1377537"/>
                </a:lnTo>
                <a:lnTo>
                  <a:pt x="5272644" y="118753"/>
                </a:lnTo>
                <a:lnTo>
                  <a:pt x="3538847" y="0"/>
                </a:lnTo>
                <a:lnTo>
                  <a:pt x="2553195" y="190005"/>
                </a:lnTo>
                <a:lnTo>
                  <a:pt x="4762" y="68902"/>
                </a:lnTo>
                <a:lnTo>
                  <a:pt x="0" y="249381"/>
                </a:lnTo>
                <a:close/>
              </a:path>
            </a:pathLst>
          </a:custGeom>
          <a:gradFill rotWithShape="0">
            <a:gsLst>
              <a:gs pos="0">
                <a:srgbClr val="fece02"/>
              </a:gs>
              <a:gs pos="100000">
                <a:srgbClr val="c73e01"/>
              </a:gs>
            </a:gsLst>
            <a:lin ang="108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 rot="783600">
            <a:off x="1292040" y="4835160"/>
            <a:ext cx="125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 rot="783600">
            <a:off x="2162520" y="505152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 rot="783600">
            <a:off x="3034800" y="526572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 flipH="1" rot="783600">
            <a:off x="3907440" y="54813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 rot="783600">
            <a:off x="4779000" y="569700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 flipH="1" rot="783600">
            <a:off x="5650560" y="59115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 flipH="1">
            <a:off x="564480" y="459252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 flipH="1">
            <a:off x="564480" y="42544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 flipH="1">
            <a:off x="564480" y="39178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 flipH="1">
            <a:off x="564480" y="35812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 flipH="1">
            <a:off x="564480" y="32432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 flipH="1">
            <a:off x="564480" y="29066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5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 flipH="1">
            <a:off x="5127480" y="1665360"/>
            <a:ext cx="24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 flipH="1">
            <a:off x="5127480" y="1930320"/>
            <a:ext cx="24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5"/>
          <p:cNvSpPr/>
          <p:nvPr/>
        </p:nvSpPr>
        <p:spPr>
          <a:xfrm>
            <a:off x="5402160" y="1511280"/>
            <a:ext cx="3170520" cy="460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 flipH="1">
            <a:off x="7094520" y="118908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平行四边形 37"/>
          <p:cNvSpPr/>
          <p:nvPr/>
        </p:nvSpPr>
        <p:spPr>
          <a:xfrm>
            <a:off x="7620120" y="1838160"/>
            <a:ext cx="839520" cy="304920"/>
          </a:xfrm>
          <a:prstGeom prst="parallelogram">
            <a:avLst>
              <a:gd name="adj" fmla="val 65670"/>
            </a:avLst>
          </a:prstGeom>
          <a:gradFill rotWithShape="0">
            <a:gsLst>
              <a:gs pos="0">
                <a:srgbClr val="fece02"/>
              </a:gs>
              <a:gs pos="100000">
                <a:srgbClr val="c73e01"/>
              </a:gs>
            </a:gsLst>
            <a:lin ang="108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平行四边形 38"/>
          <p:cNvSpPr/>
          <p:nvPr/>
        </p:nvSpPr>
        <p:spPr>
          <a:xfrm>
            <a:off x="7620120" y="1639800"/>
            <a:ext cx="839520" cy="304920"/>
          </a:xfrm>
          <a:prstGeom prst="parallelogram">
            <a:avLst>
              <a:gd name="adj" fmla="val 65670"/>
            </a:avLst>
          </a:pr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7093800" y="255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折线图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0">
            <a:hlinkClick r:id="rId2"/>
          </p:cNvPr>
          <p:cNvSpPr/>
          <p:nvPr/>
        </p:nvSpPr>
        <p:spPr>
          <a:xfrm>
            <a:off x="3767040" y="6391440"/>
            <a:ext cx="2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3:0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