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A09-23BB-453E-9C31-1492114F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81C-044C-40C9-AAF6-8D02969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4A9-24F6-401F-AEBC-441048F3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1EC-01BE-428C-8FFA-7353D1F5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7CC-3C93-438A-9069-58DF6494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1CE-1F22-41E8-9665-B4DC723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DEB-00D4-4C2F-B084-1B8A1667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BAA-5754-4C3E-BBEC-EC3EDDDB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7AE-64AE-481E-BF18-C364CB51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70D-5797-411B-92A3-CF1A1FA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6FB-A937-43F4-85DF-DD58818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158-C755-4EBA-800E-DEBA93D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477-D618-4702-9698-B47AF5884C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D89-D0F5-4F52-863A-1402FF951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81080" y="3886200"/>
            <a:ext cx="5334120" cy="1371600"/>
            <a:chOff x="1981080" y="3886200"/>
            <a:chExt cx="5334120" cy="1371600"/>
          </a:xfrm>
        </p:grpSpPr>
        <p:grpSp>
          <p:nvGrpSpPr>
            <p:cNvPr id="43" name="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sp>
            <p:nvSpPr>
              <p:cNvPr id="44" name="Freeform 5"/>
              <p:cNvSpPr/>
              <p:nvPr/>
            </p:nvSpPr>
            <p:spPr>
              <a:xfrm>
                <a:off x="1981080" y="4191120"/>
                <a:ext cx="5334120" cy="1066680"/>
              </a:xfrm>
              <a:custGeom>
                <a:avLst/>
                <a:gdLst>
                  <a:gd name="textAreaLeft" fmla="*/ 0 w 5334120"/>
                  <a:gd name="textAreaRight" fmla="*/ 5334480 w 53341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3200400" y="3886200"/>
                <a:ext cx="3123720" cy="1371600"/>
                <a:chOff x="3200400" y="3886200"/>
                <a:chExt cx="3123720" cy="1371600"/>
              </a:xfrm>
            </p:grpSpPr>
            <p:sp>
              <p:nvSpPr>
                <p:cNvPr id="46" name="Line 7"/>
                <p:cNvSpPr/>
                <p:nvPr/>
              </p:nvSpPr>
              <p:spPr>
                <a:xfrm flipV="1">
                  <a:off x="3200400" y="4114440"/>
                  <a:ext cx="83808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 flipV="1">
                  <a:off x="4114800" y="3886200"/>
                  <a:ext cx="152280" cy="1371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 flipV="1">
                  <a:off x="4800600" y="39625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 flipH="1" flipV="1">
                  <a:off x="5105520" y="4038120"/>
                  <a:ext cx="457200" cy="121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 flipH="1" flipV="1">
                  <a:off x="5333760" y="4114440"/>
                  <a:ext cx="99036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" name="Line 12"/>
            <p:cNvSpPr/>
            <p:nvPr/>
          </p:nvSpPr>
          <p:spPr>
            <a:xfrm>
              <a:off x="2590560" y="4876920"/>
              <a:ext cx="411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>
              <a:off x="3047760" y="45720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3352680" y="434340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2141640"/>
            <a:ext cx="2556000" cy="2430000"/>
            <a:chOff x="457200" y="2141640"/>
            <a:chExt cx="2556000" cy="2430000"/>
          </a:xfrm>
        </p:grpSpPr>
        <p:pic>
          <p:nvPicPr>
            <p:cNvPr id="55" name="Picture 16" descr="pan_03"/>
            <p:cNvPicPr/>
            <p:nvPr/>
          </p:nvPicPr>
          <p:blipFill>
            <a:blip r:embed="rId1"/>
            <a:stretch/>
          </p:blipFill>
          <p:spPr>
            <a:xfrm flipH="1">
              <a:off x="462960" y="2141640"/>
              <a:ext cx="25394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Freeform 17"/>
            <p:cNvSpPr/>
            <p:nvPr/>
          </p:nvSpPr>
          <p:spPr>
            <a:xfrm>
              <a:off x="457200" y="2144880"/>
              <a:ext cx="2556000" cy="2421360"/>
            </a:xfrm>
            <a:custGeom>
              <a:avLst/>
              <a:gdLst>
                <a:gd name="textAreaLeft" fmla="*/ 0 w 2556000"/>
                <a:gd name="textAreaRight" fmla="*/ 2556360 w 2556000"/>
                <a:gd name="textAreaTop" fmla="*/ 0 h 2421360"/>
                <a:gd name="textAreaBottom" fmla="*/ 2421720 h 2421360"/>
              </a:gdLst>
              <a:ahLst/>
              <a:rect l="textAreaLeft" t="textAreaTop" r="textAreaRight" b="textAreaBottom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a7c6e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676520" y="5257800"/>
            <a:ext cx="6019200" cy="685440"/>
            <a:chOff x="1676520" y="5257800"/>
            <a:chExt cx="6019200" cy="685440"/>
          </a:xfrm>
        </p:grpSpPr>
        <p:sp>
          <p:nvSpPr>
            <p:cNvPr id="58" name="AutoShape 19"/>
            <p:cNvSpPr/>
            <p:nvPr/>
          </p:nvSpPr>
          <p:spPr>
            <a:xfrm>
              <a:off x="1676520" y="5257800"/>
              <a:ext cx="601920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adce"/>
                </a:gs>
                <a:gs pos="50000">
                  <a:srgbClr val="97ccf3"/>
                </a:gs>
                <a:gs pos="100000">
                  <a:srgbClr val="80adc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0"/>
            <p:cNvSpPr/>
            <p:nvPr/>
          </p:nvSpPr>
          <p:spPr>
            <a:xfrm>
              <a:off x="1962360" y="5367600"/>
              <a:ext cx="5417280" cy="43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ebfa"/>
                </a:gs>
                <a:gs pos="50000">
                  <a:srgbClr val="97ccf3"/>
                </a:gs>
                <a:gs pos="100000">
                  <a:srgbClr val="d6ebfa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21"/>
          <p:cNvSpPr/>
          <p:nvPr/>
        </p:nvSpPr>
        <p:spPr>
          <a:xfrm>
            <a:off x="609480" y="2446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2"/>
          <p:cNvSpPr txBox="1"/>
          <p:nvPr/>
        </p:nvSpPr>
        <p:spPr>
          <a:xfrm>
            <a:off x="3352680" y="183672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137280" y="2141640"/>
            <a:ext cx="2625840" cy="2353680"/>
            <a:chOff x="6137280" y="2141640"/>
            <a:chExt cx="2625840" cy="2353680"/>
          </a:xfrm>
        </p:grpSpPr>
        <p:pic>
          <p:nvPicPr>
            <p:cNvPr id="63" name="Picture 24" descr="pan_03"/>
            <p:cNvPicPr/>
            <p:nvPr/>
          </p:nvPicPr>
          <p:blipFill>
            <a:blip r:embed="rId2"/>
            <a:stretch/>
          </p:blipFill>
          <p:spPr>
            <a:xfrm>
              <a:off x="6148440" y="2141640"/>
              <a:ext cx="2608560" cy="23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Freeform 25"/>
            <p:cNvSpPr/>
            <p:nvPr/>
          </p:nvSpPr>
          <p:spPr>
            <a:xfrm flipH="1">
              <a:off x="6137280" y="2144880"/>
              <a:ext cx="2625840" cy="2345400"/>
            </a:xfrm>
            <a:custGeom>
              <a:avLst/>
              <a:gdLst>
                <a:gd name="textAreaLeft" fmla="*/ 0 w 2625840"/>
                <a:gd name="textAreaRight" fmla="*/ 2625840 w 2625840"/>
                <a:gd name="textAreaTop" fmla="*/ 0 h 2345400"/>
                <a:gd name="textAreaBottom" fmla="*/ 2345760 h 2345400"/>
              </a:gdLst>
              <a:ahLst/>
              <a:rect l="textAreaLeft" t="textAreaTop" r="textAreaRight" b="textAreaBottom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a7c6e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26"/>
          <p:cNvSpPr/>
          <p:nvPr/>
        </p:nvSpPr>
        <p:spPr>
          <a:xfrm>
            <a:off x="6213600" y="25225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124080" y="2446200"/>
            <a:ext cx="2895480" cy="1325520"/>
            <a:chOff x="3124080" y="2446200"/>
            <a:chExt cx="2895480" cy="1325520"/>
          </a:xfrm>
        </p:grpSpPr>
        <p:sp>
          <p:nvSpPr>
            <p:cNvPr id="67" name="Oval 28"/>
            <p:cNvSpPr/>
            <p:nvPr/>
          </p:nvSpPr>
          <p:spPr>
            <a:xfrm>
              <a:off x="3155760" y="2488320"/>
              <a:ext cx="2863800" cy="12834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418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124080" y="2446200"/>
              <a:ext cx="2864160" cy="1283400"/>
            </a:xfrm>
            <a:prstGeom prst="ellipse">
              <a:avLst/>
            </a:prstGeom>
            <a:gradFill rotWithShape="0">
              <a:gsLst>
                <a:gs pos="0">
                  <a:srgbClr val="1d80e3"/>
                </a:gs>
                <a:gs pos="100000">
                  <a:srgbClr val="9bc7f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30"/>
          <p:cNvSpPr/>
          <p:nvPr/>
        </p:nvSpPr>
        <p:spPr>
          <a:xfrm>
            <a:off x="3260880" y="237024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1"/>
          <p:cNvSpPr/>
          <p:nvPr/>
        </p:nvSpPr>
        <p:spPr>
          <a:xfrm>
            <a:off x="3294000" y="2376360"/>
            <a:ext cx="2529000" cy="1121040"/>
          </a:xfrm>
          <a:prstGeom prst="ellipse">
            <a:avLst/>
          </a:prstGeom>
          <a:gradFill rotWithShape="0">
            <a:gsLst>
              <a:gs pos="0">
                <a:srgbClr val="ffeda6"/>
              </a:gs>
              <a:gs pos="100000">
                <a:srgbClr val="ffcc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2"/>
          <p:cNvSpPr/>
          <p:nvPr/>
        </p:nvSpPr>
        <p:spPr>
          <a:xfrm>
            <a:off x="3321000" y="238752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ffcc00">
                  <a:alpha val="48235"/>
                </a:srgbClr>
              </a:gs>
              <a:gs pos="100000">
                <a:srgbClr val="caa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3"/>
          <p:cNvSpPr/>
          <p:nvPr/>
        </p:nvSpPr>
        <p:spPr>
          <a:xfrm>
            <a:off x="3448080" y="241128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cc00">
                  <a:alpha val="38039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3959280" y="2522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038480" y="3970440"/>
            <a:ext cx="457200" cy="1137600"/>
            <a:chOff x="4038480" y="3970440"/>
            <a:chExt cx="457200" cy="1137600"/>
          </a:xfrm>
        </p:grpSpPr>
        <p:sp>
          <p:nvSpPr>
            <p:cNvPr id="75" name="Freeform 36"/>
            <p:cNvSpPr/>
            <p:nvPr/>
          </p:nvSpPr>
          <p:spPr>
            <a:xfrm>
              <a:off x="4149360" y="3970440"/>
              <a:ext cx="213840" cy="2318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4038480" y="4227120"/>
              <a:ext cx="457200" cy="88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572000" y="3970440"/>
            <a:ext cx="457200" cy="1137600"/>
            <a:chOff x="4572000" y="3970440"/>
            <a:chExt cx="457200" cy="1137600"/>
          </a:xfrm>
        </p:grpSpPr>
        <p:sp>
          <p:nvSpPr>
            <p:cNvPr id="78" name="Freeform 39"/>
            <p:cNvSpPr/>
            <p:nvPr/>
          </p:nvSpPr>
          <p:spPr>
            <a:xfrm>
              <a:off x="4682880" y="3970440"/>
              <a:ext cx="213840" cy="2318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7c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4572000" y="4227120"/>
              <a:ext cx="457200" cy="88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a7c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7"/>
          <p:cNvCxnSpPr>
            <a:stCxn id="84" idx="1"/>
            <a:endCxn id="86" idx="3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87" name="AutoShape 8"/>
          <p:cNvCxnSpPr>
            <a:stCxn id="83" idx="1"/>
            <a:endCxn id="88" idx="3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9" name=""/>
          <p:cNvGrpSpPr/>
          <p:nvPr/>
        </p:nvGrpSpPr>
        <p:grpSpPr>
          <a:xfrm>
            <a:off x="533520" y="2286360"/>
            <a:ext cx="2804400" cy="2799000"/>
            <a:chOff x="533520" y="2286360"/>
            <a:chExt cx="2804400" cy="2799000"/>
          </a:xfrm>
        </p:grpSpPr>
        <p:pic>
          <p:nvPicPr>
            <p:cNvPr id="90" name="Picture 10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rc 11"/>
            <p:cNvSpPr/>
            <p:nvPr/>
          </p:nvSpPr>
          <p:spPr>
            <a:xfrm flipH="1" flipV="1" rot="5400000">
              <a:off x="-75600" y="2916720"/>
              <a:ext cx="2593080" cy="1371240"/>
            </a:xfrm>
            <a:custGeom>
              <a:avLst/>
              <a:gdLst>
                <a:gd name="textAreaLeft" fmla="*/ -360 w 2593080"/>
                <a:gd name="textAreaRight" fmla="*/ 2593080 w 2593080"/>
                <a:gd name="textAreaTop" fmla="*/ -360 h 1371240"/>
                <a:gd name="textAreaBottom" fmla="*/ 1371240 h 1371240"/>
              </a:gdLst>
              <a:ahLst/>
              <a:rect l="textAreaLeft" t="textAreaTop" r="textAreaRight" b="textAreaBottom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close/>
                </a:path>
              </a:pathLst>
            </a:custGeom>
            <a:solidFill>
              <a:srgbClr val="a7c6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2"/>
            <p:cNvSpPr/>
            <p:nvPr/>
          </p:nvSpPr>
          <p:spPr>
            <a:xfrm flipH="1" flipV="1" rot="16490400">
              <a:off x="1059120" y="2850480"/>
              <a:ext cx="2667600" cy="1670040"/>
            </a:xfrm>
            <a:custGeom>
              <a:avLst/>
              <a:gdLst>
                <a:gd name="textAreaLeft" fmla="*/ 0 w 2667600"/>
                <a:gd name="textAreaRight" fmla="*/ 2667600 w 2667600"/>
                <a:gd name="textAreaTop" fmla="*/ -360 h 1670040"/>
                <a:gd name="textAreaBottom" fmla="*/ 1670040 h 1670040"/>
              </a:gdLst>
              <a:ahLst/>
              <a:rect l="textAreaLeft" t="textAreaTop" r="textAreaRight" b="textAreaBottom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3"/>
            <p:cNvSpPr/>
            <p:nvPr/>
          </p:nvSpPr>
          <p:spPr>
            <a:xfrm>
              <a:off x="761760" y="31410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981080" y="359892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439280" y="3257640"/>
              <a:ext cx="1898640" cy="1730880"/>
              <a:chOff x="1439280" y="3257640"/>
              <a:chExt cx="1898640" cy="17308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877040" y="3257640"/>
                <a:ext cx="1460880" cy="1714320"/>
                <a:chOff x="1877040" y="3257640"/>
                <a:chExt cx="1460880" cy="1714320"/>
              </a:xfrm>
            </p:grpSpPr>
            <p:sp>
              <p:nvSpPr>
                <p:cNvPr id="97" name="AutoShape 17"/>
                <p:cNvSpPr/>
                <p:nvPr/>
              </p:nvSpPr>
              <p:spPr>
                <a:xfrm flipH="1" flipV="1" rot="1528800">
                  <a:off x="2691000" y="3262680"/>
                  <a:ext cx="3474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18"/>
                <p:cNvSpPr/>
                <p:nvPr/>
              </p:nvSpPr>
              <p:spPr>
                <a:xfrm flipH="1" flipV="1" rot="2344200">
                  <a:off x="2580480" y="3471480"/>
                  <a:ext cx="3474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utoShape 19"/>
                <p:cNvSpPr/>
                <p:nvPr/>
              </p:nvSpPr>
              <p:spPr>
                <a:xfrm flipH="1" flipV="1" rot="2640000">
                  <a:off x="2488680" y="3574080"/>
                  <a:ext cx="3474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20"/>
                <p:cNvSpPr/>
                <p:nvPr/>
              </p:nvSpPr>
              <p:spPr>
                <a:xfrm flipH="1" flipV="1" rot="3172200">
                  <a:off x="2376000" y="3691800"/>
                  <a:ext cx="34704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439280" y="3728880"/>
                <a:ext cx="1834920" cy="1259640"/>
                <a:chOff x="1439280" y="3728880"/>
                <a:chExt cx="1834920" cy="1259640"/>
              </a:xfrm>
            </p:grpSpPr>
            <p:sp>
              <p:nvSpPr>
                <p:cNvPr id="102" name="AutoShape 22"/>
                <p:cNvSpPr/>
                <p:nvPr/>
              </p:nvSpPr>
              <p:spPr>
                <a:xfrm flipH="1" flipV="1" rot="2881800">
                  <a:off x="2453040" y="36223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AutoShape 23"/>
                <p:cNvSpPr/>
                <p:nvPr/>
              </p:nvSpPr>
              <p:spPr>
                <a:xfrm flipH="1" flipV="1" rot="3697200">
                  <a:off x="2270880" y="3774240"/>
                  <a:ext cx="3492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AutoShape 24"/>
                <p:cNvSpPr/>
                <p:nvPr/>
              </p:nvSpPr>
              <p:spPr>
                <a:xfrm flipH="1" flipV="1" rot="3993000">
                  <a:off x="2147400" y="38329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AutoShape 25"/>
                <p:cNvSpPr/>
                <p:nvPr/>
              </p:nvSpPr>
              <p:spPr>
                <a:xfrm flipH="1" flipV="1" rot="4525200">
                  <a:off x="1996920" y="3898440"/>
                  <a:ext cx="34920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" name=""/>
          <p:cNvGrpSpPr/>
          <p:nvPr/>
        </p:nvGrpSpPr>
        <p:grpSpPr>
          <a:xfrm>
            <a:off x="3352680" y="2199960"/>
            <a:ext cx="2910600" cy="2886120"/>
            <a:chOff x="3352680" y="2199960"/>
            <a:chExt cx="2910600" cy="2886120"/>
          </a:xfrm>
        </p:grpSpPr>
        <p:pic>
          <p:nvPicPr>
            <p:cNvPr id="107" name="Picture 27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360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rc 28"/>
            <p:cNvSpPr/>
            <p:nvPr/>
          </p:nvSpPr>
          <p:spPr>
            <a:xfrm flipH="1" flipV="1" rot="5400000">
              <a:off x="2745360" y="2916000"/>
              <a:ext cx="2592720" cy="1374120"/>
            </a:xfrm>
            <a:custGeom>
              <a:avLst/>
              <a:gdLst>
                <a:gd name="textAreaLeft" fmla="*/ 360 w 2592720"/>
                <a:gd name="textAreaRight" fmla="*/ 2593440 w 2592720"/>
                <a:gd name="textAreaTop" fmla="*/ -360 h 1374120"/>
                <a:gd name="textAreaBottom" fmla="*/ 1374120 h 1374120"/>
              </a:gdLst>
              <a:ahLst/>
              <a:rect l="textAreaLeft" t="textAreaTop" r="textAreaRight" b="textAreaBottom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close/>
                </a:path>
              </a:pathLst>
            </a:custGeom>
            <a:solidFill>
              <a:srgbClr val="a7c6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29"/>
            <p:cNvSpPr/>
            <p:nvPr/>
          </p:nvSpPr>
          <p:spPr>
            <a:xfrm flipH="1" flipV="1" rot="16490400">
              <a:off x="4443480" y="3459240"/>
              <a:ext cx="1443240" cy="167328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360 h 1673280"/>
                <a:gd name="textAreaBottom" fmla="*/ 1674000 h 1673280"/>
              </a:gdLst>
              <a:ahLst/>
              <a:rect l="textAreaLeft" t="textAreaTop" r="textAreaRight" b="textAreaBottom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-1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-1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30"/>
            <p:cNvSpPr/>
            <p:nvPr/>
          </p:nvSpPr>
          <p:spPr>
            <a:xfrm flipH="1" flipV="1" rot="11090400">
              <a:off x="4768920" y="2379600"/>
              <a:ext cx="803160" cy="1305000"/>
            </a:xfrm>
            <a:custGeom>
              <a:avLst/>
              <a:gdLst>
                <a:gd name="textAreaLeft" fmla="*/ -360 w 803160"/>
                <a:gd name="textAreaRight" fmla="*/ 803160 w 803160"/>
                <a:gd name="textAreaTop" fmla="*/ -36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31"/>
            <p:cNvSpPr/>
            <p:nvPr/>
          </p:nvSpPr>
          <p:spPr>
            <a:xfrm flipH="1" flipV="1" rot="13924200">
              <a:off x="4886280" y="2799000"/>
              <a:ext cx="1052280" cy="1337040"/>
            </a:xfrm>
            <a:custGeom>
              <a:avLst/>
              <a:gdLst>
                <a:gd name="textAreaLeft" fmla="*/ -360 w 1052280"/>
                <a:gd name="textAreaRight" fmla="*/ 1052280 w 1052280"/>
                <a:gd name="textAreaTop" fmla="*/ 360 h 1337040"/>
                <a:gd name="textAreaBottom" fmla="*/ 1337760 h 1337040"/>
              </a:gdLst>
              <a:ahLst/>
              <a:rect l="textAreaLeft" t="textAreaTop" r="textAreaRight" b="textAreaBottom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-1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-1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32"/>
            <p:cNvSpPr/>
            <p:nvPr/>
          </p:nvSpPr>
          <p:spPr>
            <a:xfrm flipH="1" flipV="1" rot="9746400">
              <a:off x="4509720" y="2284200"/>
              <a:ext cx="756720" cy="1269720"/>
            </a:xfrm>
            <a:custGeom>
              <a:avLst/>
              <a:gdLst>
                <a:gd name="textAreaLeft" fmla="*/ 360 w 756720"/>
                <a:gd name="textAreaRight" fmla="*/ 757440 w 756720"/>
                <a:gd name="textAreaTop" fmla="*/ -360 h 1269720"/>
                <a:gd name="textAreaBottom" fmla="*/ 1269720 h 1269720"/>
              </a:gdLst>
              <a:ahLst/>
              <a:rect l="textAreaLeft" t="textAreaTop" r="textAreaRight" b="textAreaBottom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3553200" y="3217680"/>
              <a:ext cx="106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4698000" y="3904560"/>
              <a:ext cx="106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5003280" y="3141360"/>
              <a:ext cx="106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261680" y="3257640"/>
              <a:ext cx="1899360" cy="1731240"/>
              <a:chOff x="4261680" y="3257640"/>
              <a:chExt cx="1899360" cy="1731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699440" y="3257640"/>
                <a:ext cx="1461600" cy="1714320"/>
                <a:chOff x="4699440" y="3257640"/>
                <a:chExt cx="1461600" cy="1714320"/>
              </a:xfrm>
            </p:grpSpPr>
            <p:sp>
              <p:nvSpPr>
                <p:cNvPr id="116" name="AutoShape 38"/>
                <p:cNvSpPr/>
                <p:nvPr/>
              </p:nvSpPr>
              <p:spPr>
                <a:xfrm flipH="1" flipV="1" rot="1528800">
                  <a:off x="5513760" y="326268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flipH="1" flipV="1" rot="2344200">
                  <a:off x="5402880" y="3472200"/>
                  <a:ext cx="34776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flipH="1" flipV="1" rot="2640000">
                  <a:off x="5311080" y="357408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flipH="1" flipV="1" rot="3172200">
                  <a:off x="5197320" y="369144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261680" y="3728880"/>
                <a:ext cx="1836000" cy="1260000"/>
                <a:chOff x="4261680" y="3728880"/>
                <a:chExt cx="1836000" cy="1260000"/>
              </a:xfrm>
            </p:grpSpPr>
            <p:sp>
              <p:nvSpPr>
                <p:cNvPr id="121" name="AutoShape 43"/>
                <p:cNvSpPr/>
                <p:nvPr/>
              </p:nvSpPr>
              <p:spPr>
                <a:xfrm flipH="1" flipV="1" rot="2881800">
                  <a:off x="5275800" y="3622320"/>
                  <a:ext cx="34956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flipV="1" rot="3697200">
                  <a:off x="5092920" y="37753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flipV="1" rot="3993000">
                  <a:off x="4969440" y="3832920"/>
                  <a:ext cx="34956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flipV="1" rot="4525200">
                  <a:off x="4818960" y="3898080"/>
                  <a:ext cx="3495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AutoShape 47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a7c6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7c6e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a7c6e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2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3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1619280"/>
            <a:ext cx="7446960" cy="4705200"/>
            <a:chOff x="914400" y="1619280"/>
            <a:chExt cx="7446960" cy="4705200"/>
          </a:xfrm>
        </p:grpSpPr>
        <p:sp>
          <p:nvSpPr>
            <p:cNvPr id="134" name="AutoShape 4"/>
            <p:cNvSpPr/>
            <p:nvPr/>
          </p:nvSpPr>
          <p:spPr>
            <a:xfrm>
              <a:off x="1905120" y="238140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1676520" y="161928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a8a"/>
                </a:gs>
                <a:gs pos="50000">
                  <a:srgbClr val="009999"/>
                </a:gs>
                <a:gs pos="100000">
                  <a:srgbClr val="a2ba8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3656160" y="29908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14400" y="4254480"/>
              <a:ext cx="1579680" cy="2070000"/>
              <a:chOff x="914400" y="4254480"/>
              <a:chExt cx="1579680" cy="20700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914400" y="4254480"/>
                <a:ext cx="1486080" cy="1514520"/>
                <a:chOff x="914400" y="4254480"/>
                <a:chExt cx="1486080" cy="151452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914400" y="4254480"/>
                  <a:ext cx="1486080" cy="1514520"/>
                  <a:chOff x="914400" y="4254480"/>
                  <a:chExt cx="1486080" cy="1514520"/>
                </a:xfrm>
              </p:grpSpPr>
              <p:sp>
                <p:nvSpPr>
                  <p:cNvPr id="140" name="Oval 10"/>
                  <p:cNvSpPr/>
                  <p:nvPr/>
                </p:nvSpPr>
                <p:spPr>
                  <a:xfrm>
                    <a:off x="914400" y="425448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99"/>
                      </a:gs>
                      <a:gs pos="100000">
                        <a:srgbClr val="915f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1"/>
                  <p:cNvSpPr/>
                  <p:nvPr/>
                </p:nvSpPr>
                <p:spPr>
                  <a:xfrm>
                    <a:off x="1084320" y="4279320"/>
                    <a:ext cx="1146240" cy="571680"/>
                  </a:xfrm>
                  <a:custGeom>
                    <a:avLst/>
                    <a:gdLst>
                      <a:gd name="textAreaLeft" fmla="*/ 0 w 1146240"/>
                      <a:gd name="textAreaRight" fmla="*/ 1146600 w 1146240"/>
                      <a:gd name="textAreaTop" fmla="*/ 0 h 571680"/>
                      <a:gd name="textAreaBottom" fmla="*/ 572040 h 5716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" name="Text Box 12"/>
                <p:cNvSpPr/>
                <p:nvPr/>
              </p:nvSpPr>
              <p:spPr>
                <a:xfrm>
                  <a:off x="1072800" y="50256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Oval 13"/>
              <p:cNvSpPr/>
              <p:nvPr/>
            </p:nvSpPr>
            <p:spPr>
              <a:xfrm>
                <a:off x="914400" y="588636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819520" y="4254480"/>
              <a:ext cx="1617120" cy="2070000"/>
              <a:chOff x="2819520" y="4254480"/>
              <a:chExt cx="1617120" cy="20700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819520" y="4254480"/>
                <a:ext cx="1523520" cy="1521000"/>
                <a:chOff x="2819520" y="4254480"/>
                <a:chExt cx="1523520" cy="1521000"/>
              </a:xfrm>
            </p:grpSpPr>
            <p:sp>
              <p:nvSpPr>
                <p:cNvPr id="146" name="Oval 16"/>
                <p:cNvSpPr/>
                <p:nvPr/>
              </p:nvSpPr>
              <p:spPr>
                <a:xfrm>
                  <a:off x="2819520" y="4254480"/>
                  <a:ext cx="152352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394c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7"/>
                <p:cNvSpPr/>
                <p:nvPr/>
              </p:nvSpPr>
              <p:spPr>
                <a:xfrm>
                  <a:off x="2994480" y="4279680"/>
                  <a:ext cx="1174320" cy="573120"/>
                </a:xfrm>
                <a:custGeom>
                  <a:avLst/>
                  <a:gdLst>
                    <a:gd name="textAreaLeft" fmla="*/ 0 w 1174320"/>
                    <a:gd name="textAreaRight" fmla="*/ 1174680 w 1174320"/>
                    <a:gd name="textAreaTop" fmla="*/ 0 h 573120"/>
                    <a:gd name="textAreaBottom" fmla="*/ 573120 h 5731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Text Box 18"/>
              <p:cNvSpPr/>
              <p:nvPr/>
            </p:nvSpPr>
            <p:spPr>
              <a:xfrm>
                <a:off x="2895480" y="498456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9"/>
              <p:cNvSpPr/>
              <p:nvPr/>
            </p:nvSpPr>
            <p:spPr>
              <a:xfrm>
                <a:off x="2857320" y="588636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876920" y="4210200"/>
              <a:ext cx="1631880" cy="2113920"/>
              <a:chOff x="4876920" y="4210200"/>
              <a:chExt cx="1631880" cy="21139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876920" y="4210200"/>
                <a:ext cx="1523880" cy="1520640"/>
                <a:chOff x="4876920" y="4210200"/>
                <a:chExt cx="1523880" cy="1520640"/>
              </a:xfrm>
            </p:grpSpPr>
            <p:sp>
              <p:nvSpPr>
                <p:cNvPr id="152" name="Oval 22"/>
                <p:cNvSpPr/>
                <p:nvPr/>
              </p:nvSpPr>
              <p:spPr>
                <a:xfrm>
                  <a:off x="4876920" y="421020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c6e5"/>
                    </a:gs>
                    <a:gs pos="100000">
                      <a:srgbClr val="30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23"/>
                <p:cNvSpPr/>
                <p:nvPr/>
              </p:nvSpPr>
              <p:spPr>
                <a:xfrm>
                  <a:off x="5051880" y="4235400"/>
                  <a:ext cx="1174680" cy="573120"/>
                </a:xfrm>
                <a:custGeom>
                  <a:avLst/>
                  <a:gdLst>
                    <a:gd name="textAreaLeft" fmla="*/ 0 w 1174680"/>
                    <a:gd name="textAreaRight" fmla="*/ 1175040 w 1174680"/>
                    <a:gd name="textAreaTop" fmla="*/ 0 h 573120"/>
                    <a:gd name="textAreaBottom" fmla="*/ 573120 h 5731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c6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24"/>
              <p:cNvSpPr/>
              <p:nvPr/>
            </p:nvSpPr>
            <p:spPr>
              <a:xfrm>
                <a:off x="4953240" y="4939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5"/>
              <p:cNvSpPr/>
              <p:nvPr/>
            </p:nvSpPr>
            <p:spPr>
              <a:xfrm>
                <a:off x="4929480" y="5886360"/>
                <a:ext cx="157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781680" y="4210200"/>
              <a:ext cx="1579680" cy="2113920"/>
              <a:chOff x="6781680" y="4210200"/>
              <a:chExt cx="1579680" cy="2113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6781680" y="4210200"/>
                <a:ext cx="1523880" cy="1531440"/>
                <a:chOff x="6781680" y="4210200"/>
                <a:chExt cx="1523880" cy="15314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6781680" y="4210200"/>
                  <a:ext cx="1523880" cy="1531440"/>
                  <a:chOff x="6781680" y="4210200"/>
                  <a:chExt cx="1523880" cy="1531440"/>
                </a:xfrm>
              </p:grpSpPr>
              <p:sp>
                <p:nvSpPr>
                  <p:cNvPr id="159" name="Oval 29"/>
                  <p:cNvSpPr/>
                  <p:nvPr/>
                </p:nvSpPr>
                <p:spPr>
                  <a:xfrm>
                    <a:off x="6781680" y="4210200"/>
                    <a:ext cx="1523880" cy="153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30"/>
                  <p:cNvSpPr/>
                  <p:nvPr/>
                </p:nvSpPr>
                <p:spPr>
                  <a:xfrm>
                    <a:off x="6955920" y="4235400"/>
                    <a:ext cx="1175400" cy="577800"/>
                  </a:xfrm>
                  <a:custGeom>
                    <a:avLst/>
                    <a:gdLst>
                      <a:gd name="textAreaLeft" fmla="*/ 0 w 1175400"/>
                      <a:gd name="textAreaRight" fmla="*/ 1175760 w 1175400"/>
                      <a:gd name="textAreaTop" fmla="*/ 0 h 577800"/>
                      <a:gd name="textAreaBottom" fmla="*/ 578160 h 57780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Text Box 31"/>
                <p:cNvSpPr/>
                <p:nvPr/>
              </p:nvSpPr>
              <p:spPr>
                <a:xfrm>
                  <a:off x="6924600" y="49240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Oval 32"/>
              <p:cNvSpPr/>
              <p:nvPr/>
            </p:nvSpPr>
            <p:spPr>
              <a:xfrm>
                <a:off x="6781680" y="5886360"/>
                <a:ext cx="1579680" cy="437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D20-99CD-461A-A314-825E56BFA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4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