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F6A-86D9-42CE-B596-263E5E99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F87-BDDA-4345-81D2-505F0A3D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924-5747-411D-BF89-B99B3C12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9D4-9100-40FF-BD46-04E4BC28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245-B8F6-4D5D-B7CB-F1D235AC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C19-7E7E-4088-AD6E-E638EC57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1F0-9681-4529-834B-4F63C911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F56-9C9A-4ADA-AA33-B3166A05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5BA-72E3-4B51-B8FF-B664C9F9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2B0-13B0-4CE8-BFAA-F236C77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C59-751C-4C2E-978B-19F3A68E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2D0-23F1-458A-B6F7-FA5AD45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BAE3-C769-49A3-9D69-914FB9760A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6EF0-191D-421A-8C2D-9629E864A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318756-13061ZF34578.jpg"/>
          <p:cNvPicPr/>
          <p:nvPr/>
        </p:nvPicPr>
        <p:blipFill>
          <a:blip r:embed="rId1"/>
          <a:stretch/>
        </p:blipFill>
        <p:spPr>
          <a:xfrm>
            <a:off x="0" y="689040"/>
            <a:ext cx="7709040" cy="616896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318769-130G60I61522.jpg"/>
          <p:cNvPicPr/>
          <p:nvPr/>
        </p:nvPicPr>
        <p:blipFill>
          <a:blip r:embed="rId1"/>
          <a:stretch/>
        </p:blipFill>
        <p:spPr>
          <a:xfrm>
            <a:off x="0" y="536400"/>
            <a:ext cx="7023240" cy="632160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235105-1305160I11570.jpg"/>
          <p:cNvPicPr/>
          <p:nvPr/>
        </p:nvPicPr>
        <p:blipFill>
          <a:blip r:embed="rId1"/>
          <a:stretch/>
        </p:blipFill>
        <p:spPr>
          <a:xfrm>
            <a:off x="1817640" y="0"/>
            <a:ext cx="7326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