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435-74FB-4F0A-848F-B5A29BA3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B79-CA58-44C4-9B64-6FF34F83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F9D-113B-4655-A023-1060E3D1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4AB-2318-4B89-B0A0-C44032A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099-3076-4FBB-B57E-AAA9BA4A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DB1-E56E-471F-A18C-FEACF8F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44C-FEE6-4D29-B186-BC071FD7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ECB-3632-407B-8698-2F3C9255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430-DB2F-4284-BA29-759C960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EEE-A086-4134-9FFC-2992FA4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0D6-7B92-44EE-ABCF-DCA9FC6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D6C-B390-4921-B9B5-E7E6F32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C4E-7A39-41C5-B3FA-7F484CC1AB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788-FC8D-4F3E-980B-4975E4D430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5104-1305100H91272.jpg"/>
          <p:cNvPicPr/>
          <p:nvPr/>
        </p:nvPicPr>
        <p:blipFill>
          <a:blip r:embed="rId1"/>
          <a:stretch/>
        </p:blipFill>
        <p:spPr>
          <a:xfrm>
            <a:off x="4354560" y="795240"/>
            <a:ext cx="4813200" cy="577548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35104-1305100H55264.jpg"/>
          <p:cNvPicPr/>
          <p:nvPr/>
        </p:nvPicPr>
        <p:blipFill>
          <a:blip r:embed="rId1"/>
          <a:srcRect l="0" t="0" r="0" b="7624"/>
          <a:stretch/>
        </p:blipFill>
        <p:spPr>
          <a:xfrm>
            <a:off x="576360" y="225360"/>
            <a:ext cx="8567640" cy="63342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240425-130RPR23677.jpg"/>
          <p:cNvPicPr/>
          <p:nvPr/>
        </p:nvPicPr>
        <p:blipFill>
          <a:blip r:embed="rId1"/>
          <a:stretch/>
        </p:blipFill>
        <p:spPr>
          <a:xfrm>
            <a:off x="0" y="297000"/>
            <a:ext cx="4264200" cy="657684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