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0F7-1961-43B0-911B-0B1AB44A6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7CCC-6C45-4E84-A615-1B1FB8D2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04A8-3C37-4B63-8454-3B90E528D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05F-8CC8-4882-9A95-D55178C0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CEB-3FCB-4AA4-A764-A86B09F5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EC3-1413-41E9-A665-7478A6DD2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CA7F-00E0-4EE5-A509-89B1A8B8B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51B3-F9A8-490F-A5E8-7FCF079C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0E9E-8628-423C-9238-98A20808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C718-BD36-4633-9A35-7B4B73C2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0DB-85C8-4B41-A17B-A9EAF98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53B6-6A96-488D-8670-F994DCD4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C41C-0B3B-4109-BD99-15BA6E0EA14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4E56-8AF6-413D-AEBE-A95DD726E35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1" descr="8879-120309200U019.jpg"/>
          <p:cNvPicPr/>
          <p:nvPr/>
        </p:nvPicPr>
        <p:blipFill>
          <a:blip r:embed="rId1"/>
          <a:stretch/>
        </p:blipFill>
        <p:spPr>
          <a:xfrm>
            <a:off x="3699000" y="1668600"/>
            <a:ext cx="544500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" descr="8879-120309203U047.jpg"/>
          <p:cNvPicPr/>
          <p:nvPr/>
        </p:nvPicPr>
        <p:blipFill>
          <a:blip r:embed="rId1"/>
          <a:stretch/>
        </p:blipFill>
        <p:spPr>
          <a:xfrm>
            <a:off x="2770200" y="620640"/>
            <a:ext cx="63882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8879-12030920353013.jpg"/>
          <p:cNvPicPr/>
          <p:nvPr/>
        </p:nvPicPr>
        <p:blipFill>
          <a:blip r:embed="rId1"/>
          <a:stretch/>
        </p:blipFill>
        <p:spPr>
          <a:xfrm>
            <a:off x="3025800" y="0"/>
            <a:ext cx="61182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1" descr="60416-11120910433374.jpg"/>
          <p:cNvPicPr/>
          <p:nvPr/>
        </p:nvPicPr>
        <p:blipFill>
          <a:blip r:embed="rId1"/>
          <a:stretch/>
        </p:blipFill>
        <p:spPr>
          <a:xfrm>
            <a:off x="1449360" y="693720"/>
            <a:ext cx="7155000" cy="559584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3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