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E1D-BBB7-4DFF-BF8B-CABF2A99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73E-9A34-4CB8-A865-959FEE59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0C8-E0E2-47E2-8121-286B574D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C3C-EC1E-43A9-996F-BDAF70E9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0BA8-8043-4C40-867E-6E9D0CFD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4AC-AD31-403A-B0F4-C58CB6A4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9972-5E9F-4B4A-9C49-DA22C33B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041-0916-4076-A1E0-3E084E6F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6CCF-4AB3-4A6D-B33B-6A7EB616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60E-731E-444C-8A67-F3EDDF85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B33-3C63-4E7C-8382-D1E29860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7FB9-8EAF-436E-A574-ABDB04F1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ADD5-3254-443E-9767-0086A807EAD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5836-AB9F-4370-9879-16E2C0D115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234972-13110FU42367.jpg"/>
          <p:cNvPicPr/>
          <p:nvPr/>
        </p:nvPicPr>
        <p:blipFill>
          <a:blip r:embed="rId1"/>
          <a:stretch/>
        </p:blipFill>
        <p:spPr>
          <a:xfrm>
            <a:off x="-9360" y="960480"/>
            <a:ext cx="6229080" cy="561024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234973-1310120G95346.jpg"/>
          <p:cNvPicPr/>
          <p:nvPr/>
        </p:nvPicPr>
        <p:blipFill>
          <a:blip r:embed="rId1"/>
          <a:stretch/>
        </p:blipFill>
        <p:spPr>
          <a:xfrm>
            <a:off x="-9360" y="523800"/>
            <a:ext cx="7221240" cy="6154920"/>
          </a:xfrm>
          <a:prstGeom prst="rect">
            <a:avLst/>
          </a:prstGeom>
          <a:ln w="0">
            <a:noFill/>
          </a:ln>
        </p:spPr>
      </p:pic>
      <p:sp>
        <p:nvSpPr>
          <p:cNvPr id="46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234973-1310120K31340.jpg"/>
          <p:cNvPicPr/>
          <p:nvPr/>
        </p:nvPicPr>
        <p:blipFill>
          <a:blip r:embed="rId1"/>
          <a:stretch/>
        </p:blipFill>
        <p:spPr>
          <a:xfrm>
            <a:off x="1206360" y="0"/>
            <a:ext cx="79376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18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