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60B-C200-4F33-9C6C-89269433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F3E-43D9-474C-9C49-F2C9093A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55F-9702-426D-A323-28710E99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ECD-6A3A-4A94-99DB-5B2C8760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CE0-7F74-467B-B5E6-7CA129E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FBE-8FBD-4184-865E-3DC1376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F00-70C1-4700-9325-0D5DD4E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480-3DF6-4D42-AF92-B1F2F72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A55-8C6E-4BA9-A30B-7346C32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D6A-D350-4BB4-9F73-4E5EC0A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4E8-167E-4ED9-86B8-896266F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1EC-F0AF-4597-9F1F-20007A7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5E8-A533-4663-9FD1-2378895A1C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766-C723-4160-ABC4-68DAD3A0A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1680" y="1714680"/>
            <a:ext cx="2000160" cy="857160"/>
            <a:chOff x="571680" y="1714680"/>
            <a:chExt cx="2000160" cy="857160"/>
          </a:xfrm>
        </p:grpSpPr>
        <p:sp>
          <p:nvSpPr>
            <p:cNvPr id="42" name="圆角矩形 8"/>
            <p:cNvSpPr/>
            <p:nvPr/>
          </p:nvSpPr>
          <p:spPr>
            <a:xfrm>
              <a:off x="622800" y="177588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7"/>
            <p:cNvSpPr/>
            <p:nvPr/>
          </p:nvSpPr>
          <p:spPr>
            <a:xfrm>
              <a:off x="571680" y="171468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5"/>
            <p:cNvSpPr/>
            <p:nvPr/>
          </p:nvSpPr>
          <p:spPr>
            <a:xfrm>
              <a:off x="622800" y="177588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1680" y="2643120"/>
            <a:ext cx="2000160" cy="857160"/>
            <a:chOff x="571680" y="2643120"/>
            <a:chExt cx="2000160" cy="857160"/>
          </a:xfrm>
        </p:grpSpPr>
        <p:sp>
          <p:nvSpPr>
            <p:cNvPr id="46" name="圆角矩形 11"/>
            <p:cNvSpPr/>
            <p:nvPr/>
          </p:nvSpPr>
          <p:spPr>
            <a:xfrm>
              <a:off x="622800" y="27043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12"/>
            <p:cNvSpPr/>
            <p:nvPr/>
          </p:nvSpPr>
          <p:spPr>
            <a:xfrm>
              <a:off x="571680" y="26431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3"/>
            <p:cNvSpPr/>
            <p:nvPr/>
          </p:nvSpPr>
          <p:spPr>
            <a:xfrm>
              <a:off x="622800" y="270432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71680" y="3571920"/>
            <a:ext cx="2000160" cy="857160"/>
            <a:chOff x="571680" y="3571920"/>
            <a:chExt cx="2000160" cy="857160"/>
          </a:xfrm>
        </p:grpSpPr>
        <p:sp>
          <p:nvSpPr>
            <p:cNvPr id="50" name="圆角矩形 15"/>
            <p:cNvSpPr/>
            <p:nvPr/>
          </p:nvSpPr>
          <p:spPr>
            <a:xfrm>
              <a:off x="622800" y="36331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6"/>
            <p:cNvSpPr/>
            <p:nvPr/>
          </p:nvSpPr>
          <p:spPr>
            <a:xfrm>
              <a:off x="571680" y="35719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7"/>
            <p:cNvSpPr/>
            <p:nvPr/>
          </p:nvSpPr>
          <p:spPr>
            <a:xfrm>
              <a:off x="622800" y="363312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71680" y="4500720"/>
            <a:ext cx="2000160" cy="857160"/>
            <a:chOff x="571680" y="4500720"/>
            <a:chExt cx="2000160" cy="857160"/>
          </a:xfrm>
        </p:grpSpPr>
        <p:sp>
          <p:nvSpPr>
            <p:cNvPr id="54" name="圆角矩形 19"/>
            <p:cNvSpPr/>
            <p:nvPr/>
          </p:nvSpPr>
          <p:spPr>
            <a:xfrm>
              <a:off x="622800" y="45619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20"/>
            <p:cNvSpPr/>
            <p:nvPr/>
          </p:nvSpPr>
          <p:spPr>
            <a:xfrm>
              <a:off x="571680" y="450072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21"/>
            <p:cNvSpPr/>
            <p:nvPr/>
          </p:nvSpPr>
          <p:spPr>
            <a:xfrm>
              <a:off x="622800" y="456192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71680" y="5429160"/>
            <a:ext cx="2000160" cy="857520"/>
            <a:chOff x="571680" y="5429160"/>
            <a:chExt cx="2000160" cy="857520"/>
          </a:xfrm>
        </p:grpSpPr>
        <p:sp>
          <p:nvSpPr>
            <p:cNvPr id="58" name="圆角矩形 23"/>
            <p:cNvSpPr/>
            <p:nvPr/>
          </p:nvSpPr>
          <p:spPr>
            <a:xfrm>
              <a:off x="622800" y="5490360"/>
              <a:ext cx="19490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24"/>
            <p:cNvSpPr/>
            <p:nvPr/>
          </p:nvSpPr>
          <p:spPr>
            <a:xfrm>
              <a:off x="571680" y="5429160"/>
              <a:ext cx="19490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5"/>
            <p:cNvSpPr/>
            <p:nvPr/>
          </p:nvSpPr>
          <p:spPr>
            <a:xfrm>
              <a:off x="622800" y="5490360"/>
              <a:ext cx="184644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4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并列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57680" y="1714680"/>
            <a:ext cx="5643360" cy="857160"/>
            <a:chOff x="2857680" y="1714680"/>
            <a:chExt cx="5643360" cy="857160"/>
          </a:xfrm>
        </p:grpSpPr>
        <p:sp>
          <p:nvSpPr>
            <p:cNvPr id="63" name="对角圆角矩形 76"/>
            <p:cNvSpPr/>
            <p:nvPr/>
          </p:nvSpPr>
          <p:spPr>
            <a:xfrm>
              <a:off x="2928960" y="1785960"/>
              <a:ext cx="5572080" cy="785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对角圆角矩形 68"/>
            <p:cNvSpPr/>
            <p:nvPr/>
          </p:nvSpPr>
          <p:spPr>
            <a:xfrm>
              <a:off x="2857680" y="1714680"/>
              <a:ext cx="5572080" cy="785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双击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57680" y="2643120"/>
            <a:ext cx="5643360" cy="857160"/>
            <a:chOff x="2857680" y="2643120"/>
            <a:chExt cx="5643360" cy="857160"/>
          </a:xfrm>
        </p:grpSpPr>
        <p:sp>
          <p:nvSpPr>
            <p:cNvPr id="66" name="对角圆角矩形 78"/>
            <p:cNvSpPr/>
            <p:nvPr/>
          </p:nvSpPr>
          <p:spPr>
            <a:xfrm>
              <a:off x="2928960" y="2714400"/>
              <a:ext cx="5572080" cy="785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对角圆角矩形 70"/>
            <p:cNvSpPr/>
            <p:nvPr/>
          </p:nvSpPr>
          <p:spPr>
            <a:xfrm>
              <a:off x="2857680" y="2643120"/>
              <a:ext cx="5572080" cy="785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双击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57680" y="3571920"/>
            <a:ext cx="5643360" cy="857160"/>
            <a:chOff x="2857680" y="3571920"/>
            <a:chExt cx="5643360" cy="857160"/>
          </a:xfrm>
        </p:grpSpPr>
        <p:sp>
          <p:nvSpPr>
            <p:cNvPr id="69" name="对角圆角矩形 79"/>
            <p:cNvSpPr/>
            <p:nvPr/>
          </p:nvSpPr>
          <p:spPr>
            <a:xfrm>
              <a:off x="2928960" y="3643200"/>
              <a:ext cx="5572080" cy="785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对角圆角矩形 71"/>
            <p:cNvSpPr/>
            <p:nvPr/>
          </p:nvSpPr>
          <p:spPr>
            <a:xfrm>
              <a:off x="2857680" y="3571920"/>
              <a:ext cx="5572080" cy="785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双击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57680" y="4500720"/>
            <a:ext cx="5643360" cy="857160"/>
            <a:chOff x="2857680" y="4500720"/>
            <a:chExt cx="5643360" cy="857160"/>
          </a:xfrm>
        </p:grpSpPr>
        <p:sp>
          <p:nvSpPr>
            <p:cNvPr id="72" name="对角圆角矩形 81"/>
            <p:cNvSpPr/>
            <p:nvPr/>
          </p:nvSpPr>
          <p:spPr>
            <a:xfrm>
              <a:off x="2928960" y="4572000"/>
              <a:ext cx="5572080" cy="785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对角圆角矩形 73"/>
            <p:cNvSpPr/>
            <p:nvPr/>
          </p:nvSpPr>
          <p:spPr>
            <a:xfrm>
              <a:off x="2857680" y="4500720"/>
              <a:ext cx="5572080" cy="785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双击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857680" y="5429160"/>
            <a:ext cx="5643360" cy="857520"/>
            <a:chOff x="2857680" y="5429160"/>
            <a:chExt cx="5643360" cy="857520"/>
          </a:xfrm>
        </p:grpSpPr>
        <p:sp>
          <p:nvSpPr>
            <p:cNvPr id="75" name="对角圆角矩形 82"/>
            <p:cNvSpPr/>
            <p:nvPr/>
          </p:nvSpPr>
          <p:spPr>
            <a:xfrm>
              <a:off x="2928960" y="5500440"/>
              <a:ext cx="5572080" cy="786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对角圆角矩形 74"/>
            <p:cNvSpPr/>
            <p:nvPr/>
          </p:nvSpPr>
          <p:spPr>
            <a:xfrm>
              <a:off x="2857680" y="5429160"/>
              <a:ext cx="5572080" cy="78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双击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0FB-0F9E-461A-9F6E-34B6053D3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2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