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7C29-4EC4-4B7E-B6ED-74D16DCD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DE9B-5B00-422A-8097-682CF735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945-9D11-49D7-9D00-0A7EBCB0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57F-663A-44C1-B755-2C236A0A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E152-B137-4B2D-9E1F-E4143BE5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F458-706A-4431-8E91-8A55FE31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2267-6A52-41FC-A33E-7441AB1B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2582-C709-4BA3-9A90-99461FF8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4B9-4D55-42E7-8FF7-D0AF6AFC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3E9-615E-4247-ADC9-195C9EC6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A6E1-C7E4-4AFC-B4A2-F63BF38F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5B2A-2EAB-432F-B03B-D6D0E315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7735-A95F-4BBA-B58E-96955E0013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F907-0543-46A9-8024-AFDA72EDF0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642960" y="2858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饼图类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968640" y="1996920"/>
            <a:ext cx="4249800" cy="4262760"/>
            <a:chOff x="3968640" y="1996920"/>
            <a:chExt cx="4249800" cy="4262760"/>
          </a:xfrm>
        </p:grpSpPr>
        <p:sp>
          <p:nvSpPr>
            <p:cNvPr id="43" name="椭圆 5"/>
            <p:cNvSpPr/>
            <p:nvPr/>
          </p:nvSpPr>
          <p:spPr>
            <a:xfrm>
              <a:off x="3968640" y="1996920"/>
              <a:ext cx="4249800" cy="424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6"/>
            <p:cNvSpPr/>
            <p:nvPr/>
          </p:nvSpPr>
          <p:spPr>
            <a:xfrm>
              <a:off x="4109040" y="2137320"/>
              <a:ext cx="3969000" cy="3968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7c6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饼形 7"/>
            <p:cNvSpPr/>
            <p:nvPr/>
          </p:nvSpPr>
          <p:spPr>
            <a:xfrm>
              <a:off x="4165920" y="2221560"/>
              <a:ext cx="4038840" cy="4038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8"/>
            <p:cNvSpPr/>
            <p:nvPr/>
          </p:nvSpPr>
          <p:spPr>
            <a:xfrm>
              <a:off x="5695200" y="3766320"/>
              <a:ext cx="871560" cy="871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9"/>
            <p:cNvSpPr/>
            <p:nvPr/>
          </p:nvSpPr>
          <p:spPr>
            <a:xfrm>
              <a:off x="5734080" y="3805200"/>
              <a:ext cx="793440" cy="793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7c6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0"/>
            <p:cNvSpPr/>
            <p:nvPr/>
          </p:nvSpPr>
          <p:spPr>
            <a:xfrm>
              <a:off x="6072120" y="5000400"/>
              <a:ext cx="185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双击输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接连接符 11"/>
            <p:cNvSpPr/>
            <p:nvPr/>
          </p:nvSpPr>
          <p:spPr>
            <a:xfrm flipH="1" flipV="1">
              <a:off x="4108680" y="4120920"/>
              <a:ext cx="1585800" cy="80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12"/>
            <p:cNvSpPr/>
            <p:nvPr/>
          </p:nvSpPr>
          <p:spPr>
            <a:xfrm flipH="1" flipV="1">
              <a:off x="6093000" y="2137320"/>
              <a:ext cx="37080" cy="1628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3"/>
            <p:cNvSpPr/>
            <p:nvPr/>
          </p:nvSpPr>
          <p:spPr>
            <a:xfrm>
              <a:off x="4214160" y="4642920"/>
              <a:ext cx="185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双击输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14"/>
            <p:cNvSpPr/>
            <p:nvPr/>
          </p:nvSpPr>
          <p:spPr>
            <a:xfrm>
              <a:off x="4495320" y="3376440"/>
              <a:ext cx="185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双击输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Box 15"/>
            <p:cNvSpPr/>
            <p:nvPr/>
          </p:nvSpPr>
          <p:spPr>
            <a:xfrm>
              <a:off x="6143400" y="3428640"/>
              <a:ext cx="185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双击输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143000" y="1785960"/>
            <a:ext cx="2000160" cy="857160"/>
            <a:chOff x="1143000" y="1785960"/>
            <a:chExt cx="2000160" cy="857160"/>
          </a:xfrm>
        </p:grpSpPr>
        <p:sp>
          <p:nvSpPr>
            <p:cNvPr id="55" name="圆角矩形 17"/>
            <p:cNvSpPr/>
            <p:nvPr/>
          </p:nvSpPr>
          <p:spPr>
            <a:xfrm>
              <a:off x="1194120" y="1847160"/>
              <a:ext cx="194904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圆角矩形 18"/>
            <p:cNvSpPr/>
            <p:nvPr/>
          </p:nvSpPr>
          <p:spPr>
            <a:xfrm>
              <a:off x="1143000" y="1785960"/>
              <a:ext cx="194904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圆角矩形 19"/>
            <p:cNvSpPr/>
            <p:nvPr/>
          </p:nvSpPr>
          <p:spPr>
            <a:xfrm>
              <a:off x="1194120" y="1847160"/>
              <a:ext cx="184644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143000" y="2714760"/>
            <a:ext cx="2000160" cy="857160"/>
            <a:chOff x="1143000" y="2714760"/>
            <a:chExt cx="2000160" cy="857160"/>
          </a:xfrm>
        </p:grpSpPr>
        <p:sp>
          <p:nvSpPr>
            <p:cNvPr id="59" name="圆角矩形 21"/>
            <p:cNvSpPr/>
            <p:nvPr/>
          </p:nvSpPr>
          <p:spPr>
            <a:xfrm>
              <a:off x="1194120" y="2775960"/>
              <a:ext cx="194904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圆角矩形 22"/>
            <p:cNvSpPr/>
            <p:nvPr/>
          </p:nvSpPr>
          <p:spPr>
            <a:xfrm>
              <a:off x="1143000" y="2714760"/>
              <a:ext cx="194904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圆角矩形 23"/>
            <p:cNvSpPr/>
            <p:nvPr/>
          </p:nvSpPr>
          <p:spPr>
            <a:xfrm>
              <a:off x="1194120" y="2775960"/>
              <a:ext cx="184644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143000" y="3643200"/>
            <a:ext cx="2000160" cy="857520"/>
            <a:chOff x="1143000" y="3643200"/>
            <a:chExt cx="2000160" cy="857520"/>
          </a:xfrm>
        </p:grpSpPr>
        <p:sp>
          <p:nvSpPr>
            <p:cNvPr id="63" name="圆角矩形 25"/>
            <p:cNvSpPr/>
            <p:nvPr/>
          </p:nvSpPr>
          <p:spPr>
            <a:xfrm>
              <a:off x="1194120" y="3704400"/>
              <a:ext cx="1949040" cy="7963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圆角矩形 26"/>
            <p:cNvSpPr/>
            <p:nvPr/>
          </p:nvSpPr>
          <p:spPr>
            <a:xfrm>
              <a:off x="1143000" y="3643200"/>
              <a:ext cx="1949040" cy="796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27"/>
            <p:cNvSpPr/>
            <p:nvPr/>
          </p:nvSpPr>
          <p:spPr>
            <a:xfrm>
              <a:off x="1194120" y="3704400"/>
              <a:ext cx="1846440" cy="67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143000" y="4572000"/>
            <a:ext cx="2000160" cy="857160"/>
            <a:chOff x="1143000" y="4572000"/>
            <a:chExt cx="2000160" cy="857160"/>
          </a:xfrm>
        </p:grpSpPr>
        <p:sp>
          <p:nvSpPr>
            <p:cNvPr id="67" name="圆角矩形 29"/>
            <p:cNvSpPr/>
            <p:nvPr/>
          </p:nvSpPr>
          <p:spPr>
            <a:xfrm>
              <a:off x="1194120" y="4633200"/>
              <a:ext cx="194904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圆角矩形 30"/>
            <p:cNvSpPr/>
            <p:nvPr/>
          </p:nvSpPr>
          <p:spPr>
            <a:xfrm>
              <a:off x="1143000" y="4572000"/>
              <a:ext cx="194904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圆角矩形 31"/>
            <p:cNvSpPr/>
            <p:nvPr/>
          </p:nvSpPr>
          <p:spPr>
            <a:xfrm>
              <a:off x="1194120" y="4633200"/>
              <a:ext cx="184644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143000" y="5500800"/>
            <a:ext cx="2000160" cy="857160"/>
            <a:chOff x="1143000" y="5500800"/>
            <a:chExt cx="2000160" cy="857160"/>
          </a:xfrm>
        </p:grpSpPr>
        <p:sp>
          <p:nvSpPr>
            <p:cNvPr id="71" name="圆角矩形 33"/>
            <p:cNvSpPr/>
            <p:nvPr/>
          </p:nvSpPr>
          <p:spPr>
            <a:xfrm>
              <a:off x="1194120" y="5562000"/>
              <a:ext cx="194904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34"/>
            <p:cNvSpPr/>
            <p:nvPr/>
          </p:nvSpPr>
          <p:spPr>
            <a:xfrm>
              <a:off x="1143000" y="5500800"/>
              <a:ext cx="194904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圆角矩形 35"/>
            <p:cNvSpPr/>
            <p:nvPr/>
          </p:nvSpPr>
          <p:spPr>
            <a:xfrm>
              <a:off x="1194120" y="5562000"/>
              <a:ext cx="184644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975-8429-4D52-9BD8-687E19E03D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6:01:1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