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919-03BE-4752-AC42-5D7A45EB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34C-C142-4712-BBF5-CC6C92C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F6B-3E5F-4609-A06B-204E9D9C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D89-B6AE-4054-B6FC-9BB9306D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E772-608F-4A21-8FC1-54502A04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A75-E8EB-4AFA-94A6-1D4417A6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B67-5D19-4596-8D1A-FE5307D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BCA-23DC-4702-B07C-BD68F19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81E4-FFFF-4953-A7B9-E7C2DABE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25A-EB38-4C7A-AAB4-246AA4D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7E41-9E3A-4B1B-A63D-AE87240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977-B91F-4660-BE8E-644D9E0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6E59-91E7-4328-9AB1-308BB5E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DF8-BB79-4260-8A01-2AEF094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6723-FE46-4554-9890-442715B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80F-BCB3-4D2B-8356-3DF84E4D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B8D-F1AC-40F1-839B-CB9B4E37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3D6-256D-48C7-A81B-EC4C502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623-12DA-4244-84FD-3846BE1A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457-0E11-4313-B2E6-BD2BA7A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629-9CA9-4181-8445-9E26C37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4DB-0F0B-45B7-8D6A-3B2F70B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41F-45F4-4BB9-B0D2-8C00585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389-2187-44FE-88F7-150A7CC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E37-0485-45B1-AAFE-3E2A1C73A8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B6D7-FA10-45D8-9671-A3BB9BD2A8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0B9-48E4-4BCE-9FDE-B32E4B4151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75E-94C7-4381-BBFE-D1108D461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8580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637848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37380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14240" y="4294080"/>
            <a:ext cx="214344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267012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8"/>
          <p:cNvSpPr/>
          <p:nvPr/>
        </p:nvSpPr>
        <p:spPr>
          <a:xfrm flipH="1" flipV="1" rot="5400000">
            <a:off x="3219840" y="4681440"/>
            <a:ext cx="419040" cy="215640"/>
          </a:xfrm>
          <a:custGeom>
            <a:avLst/>
            <a:gdLst>
              <a:gd name="textAreaLeft" fmla="*/ 360 w 419040"/>
              <a:gd name="textAreaRight" fmla="*/ 419760 w 41904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66220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0"/>
          <p:cNvSpPr/>
          <p:nvPr/>
        </p:nvSpPr>
        <p:spPr>
          <a:xfrm rot="9670200">
            <a:off x="3312720" y="5677920"/>
            <a:ext cx="206280" cy="355320"/>
          </a:xfrm>
          <a:custGeom>
            <a:avLst/>
            <a:gdLst>
              <a:gd name="textAreaLeft" fmla="*/ 0 w 206280"/>
              <a:gd name="textAreaRight" fmla="*/ 206640 w 206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808080"/>
            </a:solidFill>
            <a:beve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5656320" y="56214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565308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13"/>
          <p:cNvSpPr/>
          <p:nvPr/>
        </p:nvSpPr>
        <p:spPr>
          <a:xfrm rot="5400000">
            <a:off x="6194520" y="5705280"/>
            <a:ext cx="365040" cy="254160"/>
          </a:xfrm>
          <a:custGeom>
            <a:avLst/>
            <a:gdLst>
              <a:gd name="textAreaLeft" fmla="*/ 0 w 365040"/>
              <a:gd name="textAreaRight" fmla="*/ 365400 w 365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14"/>
          <p:cNvSpPr/>
          <p:nvPr/>
        </p:nvSpPr>
        <p:spPr>
          <a:xfrm>
            <a:off x="6280200" y="4579920"/>
            <a:ext cx="272880" cy="347760"/>
          </a:xfrm>
          <a:custGeom>
            <a:avLst/>
            <a:gdLst>
              <a:gd name="textAreaLeft" fmla="*/ 0 w 272880"/>
              <a:gd name="textAreaRight" fmla="*/ 273240 w 27288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bevel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600280" y="4586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56560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581200" y="56973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554800" y="45846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97648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aa"/>
          <p:cNvPicPr/>
          <p:nvPr/>
        </p:nvPicPr>
        <p:blipFill>
          <a:blip r:embed="rId1"/>
          <a:stretch/>
        </p:blipFill>
        <p:spPr>
          <a:xfrm>
            <a:off x="297648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01" name="Arc 21"/>
          <p:cNvSpPr/>
          <p:nvPr/>
        </p:nvSpPr>
        <p:spPr>
          <a:xfrm>
            <a:off x="4610160" y="1389240"/>
            <a:ext cx="1325520" cy="165096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22"/>
          <p:cNvSpPr/>
          <p:nvPr/>
        </p:nvSpPr>
        <p:spPr>
          <a:xfrm rot="5400000">
            <a:off x="4272480" y="2404080"/>
            <a:ext cx="2396880" cy="1623960"/>
          </a:xfrm>
          <a:custGeom>
            <a:avLst/>
            <a:gdLst>
              <a:gd name="textAreaLeft" fmla="*/ 0 w 2396880"/>
              <a:gd name="textAreaRight" fmla="*/ 2397240 w 239688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23"/>
          <p:cNvSpPr/>
          <p:nvPr/>
        </p:nvSpPr>
        <p:spPr>
          <a:xfrm flipH="1" flipV="1" rot="5400000">
            <a:off x="2210040" y="2176200"/>
            <a:ext cx="3284640" cy="1716120"/>
          </a:xfrm>
          <a:custGeom>
            <a:avLst/>
            <a:gdLst>
              <a:gd name="textAreaLeft" fmla="*/ 360 w 3284640"/>
              <a:gd name="textAreaRight" fmla="*/ 3285360 w 3284640"/>
              <a:gd name="textAreaTop" fmla="*/ -360 h 1716120"/>
              <a:gd name="textAreaBottom" fmla="*/ 1716120 h 17161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95600" y="1386720"/>
            <a:ext cx="1823760" cy="1508760"/>
            <a:chOff x="4395600" y="1386720"/>
            <a:chExt cx="1823760" cy="1508760"/>
          </a:xfrm>
        </p:grpSpPr>
        <p:grpSp>
          <p:nvGrpSpPr>
            <p:cNvPr id="105" name=""/>
            <p:cNvGrpSpPr/>
            <p:nvPr/>
          </p:nvGrpSpPr>
          <p:grpSpPr>
            <a:xfrm>
              <a:off x="4793760" y="1386720"/>
              <a:ext cx="1425600" cy="1508760"/>
              <a:chOff x="4793760" y="1386720"/>
              <a:chExt cx="1425600" cy="1508760"/>
            </a:xfrm>
          </p:grpSpPr>
          <p:sp>
            <p:nvSpPr>
              <p:cNvPr id="106" name="AutoShape 26"/>
              <p:cNvSpPr/>
              <p:nvPr/>
            </p:nvSpPr>
            <p:spPr>
              <a:xfrm flipV="1" rot="8983800">
                <a:off x="5608080" y="1581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27"/>
              <p:cNvSpPr/>
              <p:nvPr/>
            </p:nvSpPr>
            <p:spPr>
              <a:xfrm flipV="1" rot="8167800">
                <a:off x="5489280" y="13942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28"/>
              <p:cNvSpPr/>
              <p:nvPr/>
            </p:nvSpPr>
            <p:spPr>
              <a:xfrm flipV="1" rot="7872600">
                <a:off x="5397840" y="13053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29"/>
              <p:cNvSpPr/>
              <p:nvPr/>
            </p:nvSpPr>
            <p:spPr>
              <a:xfrm flipV="1" rot="7340400">
                <a:off x="5286240" y="1202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95600" y="1394280"/>
              <a:ext cx="1743480" cy="1050120"/>
              <a:chOff x="4395600" y="1394280"/>
              <a:chExt cx="1743480" cy="1050120"/>
            </a:xfrm>
          </p:grpSpPr>
          <p:sp>
            <p:nvSpPr>
              <p:cNvPr id="111" name="AutoShape 31"/>
              <p:cNvSpPr/>
              <p:nvPr/>
            </p:nvSpPr>
            <p:spPr>
              <a:xfrm flipV="1" rot="7630800">
                <a:off x="5370480" y="12582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32"/>
              <p:cNvSpPr/>
              <p:nvPr/>
            </p:nvSpPr>
            <p:spPr>
              <a:xfrm flipV="1" rot="6814800">
                <a:off x="5188680" y="11311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33"/>
              <p:cNvSpPr/>
              <p:nvPr/>
            </p:nvSpPr>
            <p:spPr>
              <a:xfrm flipV="1" rot="6519600">
                <a:off x="5070240" y="108396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4"/>
              <p:cNvSpPr/>
              <p:nvPr/>
            </p:nvSpPr>
            <p:spPr>
              <a:xfrm flipV="1" rot="5987400">
                <a:off x="4927320" y="1031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936880" y="3063960"/>
            <a:ext cx="1886400" cy="1778040"/>
            <a:chOff x="2936880" y="3063960"/>
            <a:chExt cx="1886400" cy="1778040"/>
          </a:xfrm>
        </p:grpSpPr>
        <p:sp>
          <p:nvSpPr>
            <p:cNvPr id="116" name="AutoShape 36"/>
            <p:cNvSpPr/>
            <p:nvPr/>
          </p:nvSpPr>
          <p:spPr>
            <a:xfrm flipV="1" rot="19510800">
              <a:off x="3378240" y="302040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 flipV="1" rot="18694800">
              <a:off x="3545280" y="3240000"/>
              <a:ext cx="36936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8"/>
            <p:cNvSpPr/>
            <p:nvPr/>
          </p:nvSpPr>
          <p:spPr>
            <a:xfrm flipV="1" rot="18399600">
              <a:off x="3668040" y="334224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9"/>
            <p:cNvSpPr/>
            <p:nvPr/>
          </p:nvSpPr>
          <p:spPr>
            <a:xfrm flipV="1" rot="17867400">
              <a:off x="3816720" y="345960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rc 40"/>
          <p:cNvSpPr/>
          <p:nvPr/>
        </p:nvSpPr>
        <p:spPr>
          <a:xfrm rot="9670200">
            <a:off x="4433760" y="2998440"/>
            <a:ext cx="890640" cy="1650960"/>
          </a:xfrm>
          <a:custGeom>
            <a:avLst/>
            <a:gdLst>
              <a:gd name="textAreaLeft" fmla="*/ 0 w 890640"/>
              <a:gd name="textAreaRight" fmla="*/ 891000 w 8906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406548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301464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539604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466236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466236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782640" y="434016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6826320" y="53578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74628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6838920" y="429732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"/>
          <p:cNvSpPr/>
          <p:nvPr/>
        </p:nvSpPr>
        <p:spPr>
          <a:xfrm>
            <a:off x="914400" y="4191120"/>
            <a:ext cx="4362480" cy="1265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4"/>
          <p:cNvSpPr/>
          <p:nvPr/>
        </p:nvSpPr>
        <p:spPr>
          <a:xfrm rot="16200000">
            <a:off x="2536560" y="223128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550960" y="35845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"/>
          <p:cNvSpPr/>
          <p:nvPr/>
        </p:nvSpPr>
        <p:spPr>
          <a:xfrm rot="16200000">
            <a:off x="2673360" y="213048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2d1b2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7"/>
          <p:cNvSpPr/>
          <p:nvPr/>
        </p:nvSpPr>
        <p:spPr>
          <a:xfrm rot="16200000">
            <a:off x="2565360" y="227628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9d5d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8"/>
          <p:cNvSpPr/>
          <p:nvPr/>
        </p:nvSpPr>
        <p:spPr>
          <a:xfrm rot="16200000">
            <a:off x="2496240" y="232596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4d4a0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214880" y="42386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714920" y="39322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133960" y="4371840"/>
            <a:ext cx="0" cy="11592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4719600" y="4630680"/>
            <a:ext cx="0" cy="6984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2476440" y="41227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14"/>
          <p:cNvSpPr/>
          <p:nvPr/>
        </p:nvSpPr>
        <p:spPr>
          <a:xfrm rot="16200000">
            <a:off x="2517120" y="189936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05c5c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5486400" y="358128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6"/>
          <p:cNvSpPr/>
          <p:nvPr/>
        </p:nvSpPr>
        <p:spPr>
          <a:xfrm rot="16200000">
            <a:off x="2532600" y="172944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fe1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5146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18"/>
          <p:cNvCxnSpPr>
            <a:endCxn id="145" idx="3"/>
          </p:cNvCxnSpPr>
          <p:nvPr/>
        </p:nvCxnSpPr>
        <p:spPr>
          <a:xfrm flipV="1" rot="10800000">
            <a:off x="3907800" y="29199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19"/>
          <p:cNvCxnSpPr>
            <a:endCxn id="138" idx="3"/>
          </p:cNvCxnSpPr>
          <p:nvPr/>
        </p:nvCxnSpPr>
        <p:spPr>
          <a:xfrm rot="10800000">
            <a:off x="5250600" y="408384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3282840" y="43527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09480" y="1676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867280" y="2666880"/>
            <a:ext cx="2028960" cy="482400"/>
            <a:chOff x="5867280" y="2666880"/>
            <a:chExt cx="2028960" cy="482400"/>
          </a:xfrm>
        </p:grpSpPr>
        <p:sp>
          <p:nvSpPr>
            <p:cNvPr id="151" name="Freeform 23"/>
            <p:cNvSpPr/>
            <p:nvPr/>
          </p:nvSpPr>
          <p:spPr>
            <a:xfrm>
              <a:off x="5986800" y="29448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4"/>
            <p:cNvSpPr/>
            <p:nvPr/>
          </p:nvSpPr>
          <p:spPr>
            <a:xfrm>
              <a:off x="5867280" y="26668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4e4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867280" y="4191120"/>
            <a:ext cx="2028960" cy="482040"/>
            <a:chOff x="5867280" y="4191120"/>
            <a:chExt cx="2028960" cy="482040"/>
          </a:xfrm>
        </p:grpSpPr>
        <p:sp>
          <p:nvSpPr>
            <p:cNvPr id="154" name="Freeform 26"/>
            <p:cNvSpPr/>
            <p:nvPr/>
          </p:nvSpPr>
          <p:spPr>
            <a:xfrm>
              <a:off x="5986800" y="446868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5867280" y="41911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cad8b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143000" y="5638680"/>
            <a:ext cx="2028960" cy="482400"/>
            <a:chOff x="1143000" y="5638680"/>
            <a:chExt cx="2028960" cy="482400"/>
          </a:xfrm>
        </p:grpSpPr>
        <p:sp>
          <p:nvSpPr>
            <p:cNvPr id="157" name="Freeform 29"/>
            <p:cNvSpPr/>
            <p:nvPr/>
          </p:nvSpPr>
          <p:spPr>
            <a:xfrm>
              <a:off x="1262520" y="59166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0"/>
            <p:cNvSpPr/>
            <p:nvPr/>
          </p:nvSpPr>
          <p:spPr>
            <a:xfrm>
              <a:off x="1143000" y="56386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5d8a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AutoShape 31"/>
          <p:cNvCxnSpPr/>
          <p:nvPr/>
        </p:nvCxnSpPr>
        <p:spPr>
          <a:xfrm rot="10800000">
            <a:off x="4799880" y="449496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32"/>
          <p:cNvCxnSpPr/>
          <p:nvPr/>
        </p:nvCxnSpPr>
        <p:spPr>
          <a:xfrm flipV="1">
            <a:off x="3171960" y="46479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" name=""/>
          <p:cNvGrpSpPr/>
          <p:nvPr/>
        </p:nvGrpSpPr>
        <p:grpSpPr>
          <a:xfrm>
            <a:off x="5867280" y="5486400"/>
            <a:ext cx="2028960" cy="482400"/>
            <a:chOff x="5867280" y="5486400"/>
            <a:chExt cx="2028960" cy="482400"/>
          </a:xfrm>
        </p:grpSpPr>
        <p:sp>
          <p:nvSpPr>
            <p:cNvPr id="162" name="Freeform 34"/>
            <p:cNvSpPr/>
            <p:nvPr/>
          </p:nvSpPr>
          <p:spPr>
            <a:xfrm>
              <a:off x="5986800" y="576432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5867280" y="54864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d7df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0480" y="1986120"/>
            <a:ext cx="4905360" cy="2425320"/>
            <a:chOff x="2130480" y="1986120"/>
            <a:chExt cx="4905360" cy="2425320"/>
          </a:xfrm>
        </p:grpSpPr>
        <p:sp>
          <p:nvSpPr>
            <p:cNvPr id="166" name="AutoShape 4"/>
            <p:cNvSpPr/>
            <p:nvPr/>
          </p:nvSpPr>
          <p:spPr>
            <a:xfrm>
              <a:off x="2130480" y="2136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2130480" y="199368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333399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 flipV="1">
              <a:off x="4563000" y="1986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3164400" y="2636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5961240" y="2617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 flipV="1">
              <a:off x="5961240" y="2403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H="1" flipV="1">
              <a:off x="2671920" y="2412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 flipH="1">
              <a:off x="3245760" y="381564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5703480" y="376272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 flipH="1">
              <a:off x="3237840" y="4082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 flipH="1">
              <a:off x="6169680" y="3994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Line 15"/>
          <p:cNvSpPr/>
          <p:nvPr/>
        </p:nvSpPr>
        <p:spPr>
          <a:xfrm>
            <a:off x="3689280" y="18129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5508720" y="1768320"/>
            <a:ext cx="0" cy="4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V="1">
            <a:off x="4668840" y="411156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6640200" y="3075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1903320" y="3075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28400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46814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7218360" y="2911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3821040" y="466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01680" y="291132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3700440" y="2878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6"/>
          <p:cNvSpPr/>
          <p:nvPr/>
        </p:nvSpPr>
        <p:spPr>
          <a:xfrm>
            <a:off x="3382920" y="2544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e5c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7"/>
          <p:cNvSpPr/>
          <p:nvPr/>
        </p:nvSpPr>
        <p:spPr>
          <a:xfrm flipH="1" flipV="1">
            <a:off x="3461760" y="317664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07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8"/>
          <p:cNvSpPr/>
          <p:nvPr/>
        </p:nvSpPr>
        <p:spPr>
          <a:xfrm>
            <a:off x="468360" y="5373720"/>
            <a:ext cx="84042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403200" y="5292720"/>
            <a:ext cx="836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4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5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2d1b2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6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>
              <a:gd name="textAreaLeft" fmla="*/ 0 w 1379880"/>
              <a:gd name="textAreaRight" fmla="*/ 1380240 w 137988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9d5d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7"/>
          <p:cNvSpPr/>
          <p:nvPr/>
        </p:nvSpPr>
        <p:spPr>
          <a:xfrm rot="16200000">
            <a:off x="2220120" y="183852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4d4a0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3"/>
          <p:cNvSpPr/>
          <p:nvPr/>
        </p:nvSpPr>
        <p:spPr>
          <a:xfrm rot="16200000">
            <a:off x="2240640" y="1411920"/>
            <a:ext cx="1768680" cy="45320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4532040"/>
              <a:gd name="textAreaBottom" fmla="*/ 4532400 h 453204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05c5c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5210280" y="309420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15"/>
          <p:cNvSpPr/>
          <p:nvPr/>
        </p:nvSpPr>
        <p:spPr>
          <a:xfrm rot="16200000">
            <a:off x="2256480" y="124200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fe1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17"/>
          <p:cNvCxnSpPr>
            <a:endCxn id="206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18"/>
          <p:cNvCxnSpPr>
            <a:endCxn id="199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Text Box 19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324000" y="105264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212" name="Freeform 22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3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4a8e8e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215" name="Freeform 25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6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57743a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218" name="Freeform 28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72848b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221" name="Freeform 31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b47510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3" name="AutoShape 33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34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35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229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230" name="Freeform 40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>
                  <a:gd name="textAreaLeft" fmla="*/ 0 w 990720"/>
                  <a:gd name="textAreaRight" fmla="*/ 990720 w 99072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41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Freeform 42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>
                <a:gd name="textAreaLeft" fmla="*/ 0 w 990000"/>
                <a:gd name="textAreaRight" fmla="*/ 990000 w 990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3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4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029320" y="2155680"/>
              <a:ext cx="344520" cy="359280"/>
              <a:chOff x="2029320" y="2155680"/>
              <a:chExt cx="344520" cy="35928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2037960" y="2155680"/>
                <a:ext cx="335880" cy="273960"/>
                <a:chOff x="2037960" y="2155680"/>
                <a:chExt cx="335880" cy="273960"/>
              </a:xfrm>
            </p:grpSpPr>
            <p:sp>
              <p:nvSpPr>
                <p:cNvPr id="238" name="AutoShape 48"/>
                <p:cNvSpPr/>
                <p:nvPr/>
              </p:nvSpPr>
              <p:spPr>
                <a:xfrm flipH="1" rot="15040200">
                  <a:off x="219024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49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AutoShape 50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51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029320" y="2177640"/>
                <a:ext cx="271800" cy="337320"/>
                <a:chOff x="2029320" y="2177640"/>
                <a:chExt cx="271800" cy="337320"/>
              </a:xfrm>
            </p:grpSpPr>
            <p:sp>
              <p:nvSpPr>
                <p:cNvPr id="243" name="AutoShape 53"/>
                <p:cNvSpPr/>
                <p:nvPr/>
              </p:nvSpPr>
              <p:spPr>
                <a:xfrm flipH="1" rot="13687200">
                  <a:off x="212616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54"/>
                <p:cNvSpPr/>
                <p:nvPr/>
              </p:nvSpPr>
              <p:spPr>
                <a:xfrm flipH="1" rot="12871200">
                  <a:off x="209556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55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56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"/>
            <p:cNvGrpSpPr/>
            <p:nvPr/>
          </p:nvGrpSpPr>
          <p:grpSpPr>
            <a:xfrm>
              <a:off x="1849320" y="2691360"/>
              <a:ext cx="429480" cy="517320"/>
              <a:chOff x="1849320" y="2691360"/>
              <a:chExt cx="429480" cy="51732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1849320" y="2691360"/>
                <a:ext cx="429480" cy="405000"/>
                <a:chOff x="1849320" y="2691360"/>
                <a:chExt cx="429480" cy="405000"/>
              </a:xfrm>
            </p:grpSpPr>
            <p:sp>
              <p:nvSpPr>
                <p:cNvPr id="249" name="AutoShape 59"/>
                <p:cNvSpPr/>
                <p:nvPr/>
              </p:nvSpPr>
              <p:spPr>
                <a:xfrm flipH="1" rot="14424600">
                  <a:off x="204588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60"/>
                <p:cNvSpPr/>
                <p:nvPr/>
              </p:nvSpPr>
              <p:spPr>
                <a:xfrm flipH="1" rot="13608600">
                  <a:off x="199332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61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62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850400" y="2719080"/>
                <a:ext cx="308880" cy="489600"/>
                <a:chOff x="1850400" y="2719080"/>
                <a:chExt cx="308880" cy="489600"/>
              </a:xfrm>
            </p:grpSpPr>
            <p:sp>
              <p:nvSpPr>
                <p:cNvPr id="254" name="AutoShape 64"/>
                <p:cNvSpPr/>
                <p:nvPr/>
              </p:nvSpPr>
              <p:spPr>
                <a:xfrm flipH="1" rot="13071600">
                  <a:off x="195876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65"/>
                <p:cNvSpPr/>
                <p:nvPr/>
              </p:nvSpPr>
              <p:spPr>
                <a:xfrm flipH="1" rot="12256200">
                  <a:off x="192168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66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67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8" name="Rectangle 68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260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261" name="Freeform 71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>
                  <a:gd name="textAreaLeft" fmla="*/ 0 w 991080"/>
                  <a:gd name="textAreaRight" fmla="*/ 991080 w 99108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72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Freeform 73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>
                <a:gd name="textAreaLeft" fmla="*/ 0 w 990360"/>
                <a:gd name="textAreaRight" fmla="*/ 990360 w 99036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3c270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4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5"/>
            <p:cNvSpPr/>
            <p:nvPr/>
          </p:nvSpPr>
          <p:spPr>
            <a:xfrm>
              <a:off x="15138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80540b"/>
                </a:gs>
                <a:gs pos="50000">
                  <a:srgbClr val="333399"/>
                </a:gs>
                <a:gs pos="100000">
                  <a:srgbClr val="8054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6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269" name="AutoShape 79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80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1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82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274" name="AutoShape 84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85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86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87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1315800" y="2691360"/>
              <a:ext cx="429480" cy="517320"/>
              <a:chOff x="1315800" y="2691360"/>
              <a:chExt cx="429480" cy="5173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315800" y="2691360"/>
                <a:ext cx="429480" cy="405000"/>
                <a:chOff x="1315800" y="2691360"/>
                <a:chExt cx="429480" cy="405000"/>
              </a:xfrm>
            </p:grpSpPr>
            <p:sp>
              <p:nvSpPr>
                <p:cNvPr id="280" name="AutoShape 90"/>
                <p:cNvSpPr/>
                <p:nvPr/>
              </p:nvSpPr>
              <p:spPr>
                <a:xfrm flipH="1" rot="14424600">
                  <a:off x="151236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91"/>
                <p:cNvSpPr/>
                <p:nvPr/>
              </p:nvSpPr>
              <p:spPr>
                <a:xfrm flipH="1" rot="13608600">
                  <a:off x="145980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92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93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316880" y="2719080"/>
                <a:ext cx="308880" cy="489600"/>
                <a:chOff x="1316880" y="2719080"/>
                <a:chExt cx="308880" cy="489600"/>
              </a:xfrm>
            </p:grpSpPr>
            <p:sp>
              <p:nvSpPr>
                <p:cNvPr id="285" name="AutoShape 95"/>
                <p:cNvSpPr/>
                <p:nvPr/>
              </p:nvSpPr>
              <p:spPr>
                <a:xfrm flipH="1" rot="13071600">
                  <a:off x="142524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96"/>
                <p:cNvSpPr/>
                <p:nvPr/>
              </p:nvSpPr>
              <p:spPr>
                <a:xfrm flipH="1" rot="12256200">
                  <a:off x="138816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97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98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Rectangle 99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249560" y="1760040"/>
            <a:ext cx="6599160" cy="4675320"/>
            <a:chOff x="1249560" y="1760040"/>
            <a:chExt cx="6599160" cy="4675320"/>
          </a:xfrm>
        </p:grpSpPr>
        <p:sp>
          <p:nvSpPr>
            <p:cNvPr id="291" name="Oval 3"/>
            <p:cNvSpPr/>
            <p:nvPr/>
          </p:nvSpPr>
          <p:spPr>
            <a:xfrm>
              <a:off x="2286000" y="47703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"/>
            <p:cNvSpPr/>
            <p:nvPr/>
          </p:nvSpPr>
          <p:spPr>
            <a:xfrm rot="20601600">
              <a:off x="1560600" y="26568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5"/>
            <p:cNvSpPr/>
            <p:nvPr/>
          </p:nvSpPr>
          <p:spPr>
            <a:xfrm rot="20601600">
              <a:off x="1617120" y="24951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rc 6"/>
            <p:cNvSpPr/>
            <p:nvPr/>
          </p:nvSpPr>
          <p:spPr>
            <a:xfrm rot="20601600">
              <a:off x="4273200" y="238428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3ba8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rc 7"/>
            <p:cNvSpPr/>
            <p:nvPr/>
          </p:nvSpPr>
          <p:spPr>
            <a:xfrm flipH="1" rot="20602200">
              <a:off x="1861200" y="4259160"/>
              <a:ext cx="3281040" cy="1476720"/>
            </a:xfrm>
            <a:custGeom>
              <a:avLst/>
              <a:gdLst>
                <a:gd name="textAreaLeft" fmla="*/ 360 w 3281040"/>
                <a:gd name="textAreaRight" fmla="*/ 3281760 w 328104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rc 8"/>
            <p:cNvSpPr/>
            <p:nvPr/>
          </p:nvSpPr>
          <p:spPr>
            <a:xfrm rot="20601600">
              <a:off x="2870280" y="2430000"/>
              <a:ext cx="3228840" cy="14176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06b35"/>
                </a:gs>
                <a:gs pos="100000">
                  <a:srgbClr val="00999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rc 9"/>
            <p:cNvSpPr/>
            <p:nvPr/>
          </p:nvSpPr>
          <p:spPr>
            <a:xfrm flipH="1" rot="20602200">
              <a:off x="1518840" y="3024000"/>
              <a:ext cx="2851200" cy="2066760"/>
            </a:xfrm>
            <a:custGeom>
              <a:avLst/>
              <a:gdLst>
                <a:gd name="textAreaLeft" fmla="*/ 360 w 2851200"/>
                <a:gd name="textAreaRight" fmla="*/ 2851920 w 285120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6a4509"/>
                </a:gs>
                <a:gs pos="100000">
                  <a:srgbClr val="33339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5611680" y="3927240"/>
              <a:ext cx="1754280" cy="177804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24c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rc 11"/>
            <p:cNvSpPr/>
            <p:nvPr/>
          </p:nvSpPr>
          <p:spPr>
            <a:xfrm rot="20539200">
              <a:off x="4655880" y="3316320"/>
              <a:ext cx="2728800" cy="1858680"/>
            </a:xfrm>
            <a:custGeom>
              <a:avLst/>
              <a:gdLst>
                <a:gd name="textAreaLeft" fmla="*/ 0 w 2728800"/>
                <a:gd name="textAreaRight" fmla="*/ 2729160 w 2728800"/>
                <a:gd name="textAreaTop" fmla="*/ 0 h 1858680"/>
                <a:gd name="textAreaBottom" fmla="*/ 1859040 h 185868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34e51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"/>
            <p:cNvSpPr/>
            <p:nvPr/>
          </p:nvSpPr>
          <p:spPr>
            <a:xfrm>
              <a:off x="4622760" y="4267080"/>
              <a:ext cx="1028880" cy="147312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5b6b7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 rot="20601600">
              <a:off x="3078000" y="32094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0e0e0"/>
                </a:gs>
                <a:gs pos="50000">
                  <a:srgbClr val="808080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2068920" y="3889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39740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802840" y="297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54979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8"/>
            <p:cNvSpPr/>
            <p:nvPr/>
          </p:nvSpPr>
          <p:spPr>
            <a:xfrm>
              <a:off x="3288240" y="4879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4541760" y="4483080"/>
              <a:ext cx="863640" cy="107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19215"/>
                  </a:srgbClr>
                </a:gs>
                <a:gs pos="100000">
                  <a:srgbClr val="9eb7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0"/>
            <p:cNvSpPr/>
            <p:nvPr/>
          </p:nvSpPr>
          <p:spPr>
            <a:xfrm rot="20601600">
              <a:off x="3179880" y="346212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8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>
              <a:gd name="textAreaLeft" fmla="*/ -360 w 419400"/>
              <a:gd name="textAreaRight" fmla="*/ 419400 w 4194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10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>
              <a:gd name="textAreaLeft" fmla="*/ 0 w 206280"/>
              <a:gd name="textAreaRight" fmla="*/ 206640 w 2062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808080"/>
            </a:solidFill>
            <a:beve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13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>
              <a:gd name="textAreaLeft" fmla="*/ 0 w 365040"/>
              <a:gd name="textAreaRight" fmla="*/ 365400 w 365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14"/>
          <p:cNvSpPr/>
          <p:nvPr/>
        </p:nvSpPr>
        <p:spPr>
          <a:xfrm>
            <a:off x="6127920" y="4503600"/>
            <a:ext cx="272880" cy="347760"/>
          </a:xfrm>
          <a:custGeom>
            <a:avLst/>
            <a:gdLst>
              <a:gd name="textAreaLeft" fmla="*/ 0 w 272880"/>
              <a:gd name="textAreaRight" fmla="*/ 273240 w 27288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bevel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0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329" name="Arc 21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22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>
              <a:gd name="textAreaLeft" fmla="*/ 0 w 2411640"/>
              <a:gd name="textAreaRight" fmla="*/ 2412000 w 241164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23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>
              <a:gd name="textAreaLeft" fmla="*/ -360 w 3284280"/>
              <a:gd name="textAreaRight" fmla="*/ 3284280 w 3284280"/>
              <a:gd name="textAreaTop" fmla="*/ -360 h 1716120"/>
              <a:gd name="textAreaBottom" fmla="*/ 1716120 h 17161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333" name="AutoShape 25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 flipV="1" rot="18694800">
              <a:off x="3393000" y="3163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Arc 29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>
              <a:gd name="textAreaLeft" fmla="*/ 0 w 890640"/>
              <a:gd name="textAreaRight" fmla="*/ 891000 w 8906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6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348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349" name="AutoShape 41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2"/>
              <p:cNvSpPr/>
              <p:nvPr/>
            </p:nvSpPr>
            <p:spPr>
              <a:xfrm flipV="1" rot="8167800">
                <a:off x="5336640" y="131760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3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44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243320" y="1317600"/>
              <a:ext cx="1742760" cy="1050120"/>
              <a:chOff x="4243320" y="1317600"/>
              <a:chExt cx="1742760" cy="1050120"/>
            </a:xfrm>
          </p:grpSpPr>
          <p:sp>
            <p:nvSpPr>
              <p:cNvPr id="354" name="AutoShape 46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47"/>
              <p:cNvSpPr/>
              <p:nvPr/>
            </p:nvSpPr>
            <p:spPr>
              <a:xfrm flipV="1" rot="6814800">
                <a:off x="5036400" y="10544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48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49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696320" y="1301400"/>
            <a:ext cx="4462920" cy="3133440"/>
            <a:chOff x="1696320" y="1301400"/>
            <a:chExt cx="4462920" cy="3133440"/>
          </a:xfrm>
        </p:grpSpPr>
        <p:sp>
          <p:nvSpPr>
            <p:cNvPr id="360" name="Oval 4"/>
            <p:cNvSpPr/>
            <p:nvPr/>
          </p:nvSpPr>
          <p:spPr>
            <a:xfrm>
              <a:off x="2393640" y="331632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5"/>
            <p:cNvSpPr/>
            <p:nvPr/>
          </p:nvSpPr>
          <p:spPr>
            <a:xfrm rot="20601600">
              <a:off x="1902600" y="190692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"/>
            <p:cNvSpPr/>
            <p:nvPr/>
          </p:nvSpPr>
          <p:spPr>
            <a:xfrm rot="20601600">
              <a:off x="1941120" y="179964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rc 7"/>
            <p:cNvSpPr/>
            <p:nvPr/>
          </p:nvSpPr>
          <p:spPr>
            <a:xfrm rot="20601600">
              <a:off x="3740400" y="1725120"/>
              <a:ext cx="1928880" cy="131148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3ba8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8"/>
            <p:cNvSpPr/>
            <p:nvPr/>
          </p:nvSpPr>
          <p:spPr>
            <a:xfrm flipH="1" rot="20602200">
              <a:off x="2106000" y="2976480"/>
              <a:ext cx="2220840" cy="983880"/>
            </a:xfrm>
            <a:custGeom>
              <a:avLst/>
              <a:gdLst>
                <a:gd name="textAreaLeft" fmla="*/ -360 w 2220840"/>
                <a:gd name="textAreaRight" fmla="*/ 2220840 w 222084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rc 9"/>
            <p:cNvSpPr/>
            <p:nvPr/>
          </p:nvSpPr>
          <p:spPr>
            <a:xfrm rot="20601600">
              <a:off x="2789280" y="1754640"/>
              <a:ext cx="2185560" cy="946440"/>
            </a:xfrm>
            <a:custGeom>
              <a:avLst/>
              <a:gdLst>
                <a:gd name="textAreaLeft" fmla="*/ 0 w 2185560"/>
                <a:gd name="textAreaRight" fmla="*/ 2185920 w 218556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06b35"/>
                </a:gs>
                <a:gs pos="100000">
                  <a:srgbClr val="00999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10"/>
            <p:cNvSpPr/>
            <p:nvPr/>
          </p:nvSpPr>
          <p:spPr>
            <a:xfrm flipH="1" rot="20602200">
              <a:off x="1873800" y="2152080"/>
              <a:ext cx="1929960" cy="1378440"/>
            </a:xfrm>
            <a:custGeom>
              <a:avLst/>
              <a:gdLst>
                <a:gd name="textAreaLeft" fmla="*/ -360 w 1929960"/>
                <a:gd name="textAreaRight" fmla="*/ 1929960 w 1929960"/>
                <a:gd name="textAreaTop" fmla="*/ 0 h 1378440"/>
                <a:gd name="textAreaBottom" fmla="*/ 1378800 h 137844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6a4509"/>
                </a:gs>
                <a:gs pos="100000">
                  <a:srgbClr val="33339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4645080" y="2754360"/>
              <a:ext cx="1187280" cy="118548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185480"/>
                <a:gd name="textAreaBottom" fmla="*/ 1185840 h 11854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dd7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rc 12"/>
            <p:cNvSpPr/>
            <p:nvPr/>
          </p:nvSpPr>
          <p:spPr>
            <a:xfrm rot="20539200">
              <a:off x="3998880" y="2345760"/>
              <a:ext cx="1846080" cy="123948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34e51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974760" y="2980800"/>
              <a:ext cx="695160" cy="9820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dd7d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4"/>
            <p:cNvSpPr/>
            <p:nvPr/>
          </p:nvSpPr>
          <p:spPr>
            <a:xfrm rot="20601600">
              <a:off x="2930040" y="227592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2201400" y="2777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6"/>
            <p:cNvSpPr/>
            <p:nvPr/>
          </p:nvSpPr>
          <p:spPr>
            <a:xfrm>
              <a:off x="3492000" y="196776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4728600" y="2170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4521960" y="298296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9"/>
            <p:cNvSpPr/>
            <p:nvPr/>
          </p:nvSpPr>
          <p:spPr>
            <a:xfrm>
              <a:off x="3026520" y="34405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3920760" y="3124800"/>
              <a:ext cx="584640" cy="7196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1"/>
            <p:cNvSpPr/>
            <p:nvPr/>
          </p:nvSpPr>
          <p:spPr>
            <a:xfrm rot="20601600">
              <a:off x="2998800" y="244368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22"/>
          <p:cNvSpPr/>
          <p:nvPr/>
        </p:nvSpPr>
        <p:spPr>
          <a:xfrm>
            <a:off x="5504040" y="143028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AutoShape 23"/>
          <p:cNvCxnSpPr/>
          <p:nvPr/>
        </p:nvCxnSpPr>
        <p:spPr>
          <a:xfrm flipV="1" rot="10800000">
            <a:off x="5311080" y="1546560"/>
            <a:ext cx="192960" cy="29628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80" name="Text Box 24"/>
          <p:cNvSpPr/>
          <p:nvPr/>
        </p:nvSpPr>
        <p:spPr>
          <a:xfrm>
            <a:off x="685800" y="213840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25"/>
          <p:cNvCxnSpPr/>
          <p:nvPr/>
        </p:nvCxnSpPr>
        <p:spPr>
          <a:xfrm>
            <a:off x="2112480" y="225576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82" name="Text Box 26"/>
          <p:cNvSpPr/>
          <p:nvPr/>
        </p:nvSpPr>
        <p:spPr>
          <a:xfrm>
            <a:off x="2112840" y="1371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AutoShape 27"/>
          <p:cNvCxnSpPr/>
          <p:nvPr/>
        </p:nvCxnSpPr>
        <p:spPr>
          <a:xfrm>
            <a:off x="3541680" y="1488600"/>
            <a:ext cx="178200" cy="29628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84" name="Text Box 28"/>
          <p:cNvSpPr/>
          <p:nvPr/>
        </p:nvSpPr>
        <p:spPr>
          <a:xfrm>
            <a:off x="6040440" y="337500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29"/>
          <p:cNvCxnSpPr/>
          <p:nvPr/>
        </p:nvCxnSpPr>
        <p:spPr>
          <a:xfrm rot="10800000">
            <a:off x="5503320" y="308052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386" name="Text Box 30"/>
          <p:cNvSpPr/>
          <p:nvPr/>
        </p:nvSpPr>
        <p:spPr>
          <a:xfrm>
            <a:off x="990720" y="4114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31"/>
          <p:cNvCxnSpPr>
            <a:stCxn id="386" idx="3"/>
          </p:cNvCxnSpPr>
          <p:nvPr/>
        </p:nvCxnSpPr>
        <p:spPr>
          <a:xfrm flipV="1">
            <a:off x="2819520" y="386208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388" name=""/>
          <p:cNvGrpSpPr/>
          <p:nvPr/>
        </p:nvGrpSpPr>
        <p:grpSpPr>
          <a:xfrm>
            <a:off x="914400" y="4411800"/>
            <a:ext cx="6359400" cy="1707120"/>
            <a:chOff x="914400" y="4411800"/>
            <a:chExt cx="6359400" cy="1707120"/>
          </a:xfrm>
        </p:grpSpPr>
        <p:grpSp>
          <p:nvGrpSpPr>
            <p:cNvPr id="389" name=""/>
            <p:cNvGrpSpPr/>
            <p:nvPr/>
          </p:nvGrpSpPr>
          <p:grpSpPr>
            <a:xfrm>
              <a:off x="914400" y="4647960"/>
              <a:ext cx="6359400" cy="1470960"/>
              <a:chOff x="914400" y="4647960"/>
              <a:chExt cx="6359400" cy="1470960"/>
            </a:xfrm>
          </p:grpSpPr>
          <p:sp>
            <p:nvSpPr>
              <p:cNvPr id="390" name="AutoShape 34"/>
              <p:cNvSpPr/>
              <p:nvPr/>
            </p:nvSpPr>
            <p:spPr>
              <a:xfrm>
                <a:off x="914400" y="50778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35"/>
              <p:cNvSpPr/>
              <p:nvPr/>
            </p:nvSpPr>
            <p:spPr>
              <a:xfrm>
                <a:off x="914400" y="46508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36"/>
              <p:cNvSpPr/>
              <p:nvPr/>
            </p:nvSpPr>
            <p:spPr>
              <a:xfrm>
                <a:off x="3048120" y="50778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37"/>
              <p:cNvSpPr/>
              <p:nvPr/>
            </p:nvSpPr>
            <p:spPr>
              <a:xfrm>
                <a:off x="3048120" y="46508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8"/>
              <p:cNvSpPr/>
              <p:nvPr/>
            </p:nvSpPr>
            <p:spPr>
              <a:xfrm>
                <a:off x="1407600" y="46969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39"/>
              <p:cNvSpPr/>
              <p:nvPr/>
            </p:nvSpPr>
            <p:spPr>
              <a:xfrm>
                <a:off x="3540960" y="470628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40"/>
              <p:cNvSpPr/>
              <p:nvPr/>
            </p:nvSpPr>
            <p:spPr>
              <a:xfrm>
                <a:off x="914400" y="5177880"/>
                <a:ext cx="203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41"/>
              <p:cNvSpPr/>
              <p:nvPr/>
            </p:nvSpPr>
            <p:spPr>
              <a:xfrm>
                <a:off x="3048120" y="5177880"/>
                <a:ext cx="203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42"/>
              <p:cNvSpPr/>
              <p:nvPr/>
            </p:nvSpPr>
            <p:spPr>
              <a:xfrm>
                <a:off x="5162400" y="507456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43"/>
              <p:cNvSpPr/>
              <p:nvPr/>
            </p:nvSpPr>
            <p:spPr>
              <a:xfrm>
                <a:off x="5162400" y="4647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44"/>
              <p:cNvSpPr/>
              <p:nvPr/>
            </p:nvSpPr>
            <p:spPr>
              <a:xfrm>
                <a:off x="5655600" y="470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45"/>
              <p:cNvSpPr/>
              <p:nvPr/>
            </p:nvSpPr>
            <p:spPr>
              <a:xfrm>
                <a:off x="5162400" y="5174640"/>
                <a:ext cx="203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46"/>
            <p:cNvSpPr/>
            <p:nvPr/>
          </p:nvSpPr>
          <p:spPr>
            <a:xfrm>
              <a:off x="914400" y="4419360"/>
              <a:ext cx="6324480" cy="228240"/>
            </a:xfrm>
            <a:custGeom>
              <a:avLst/>
              <a:gdLst>
                <a:gd name="textAreaLeft" fmla="*/ 0 w 6324480"/>
                <a:gd name="textAreaRight" fmla="*/ 6324840 w 63244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808080"/>
                </a:gs>
                <a:gs pos="100000">
                  <a:srgbClr val="dfd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 flipV="1">
              <a:off x="3044880" y="4411800"/>
              <a:ext cx="187200" cy="20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H="1" flipV="1">
              <a:off x="4962240" y="4415760"/>
              <a:ext cx="19044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 flipH="1">
            <a:off x="2401200" y="1771560"/>
            <a:ext cx="2214360" cy="22719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2271960"/>
              <a:gd name="textAreaBottom" fmla="*/ 2272320 h 2271960"/>
            </a:gdLst>
            <a:ahLst/>
            <a:rect l="textAreaLeft" t="textAreaTop" r="textAreaRight" b="textAreaBottom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3"/>
          <p:cNvSpPr/>
          <p:nvPr/>
        </p:nvSpPr>
        <p:spPr>
          <a:xfrm flipH="1" flipV="1">
            <a:off x="2413080" y="4050720"/>
            <a:ext cx="2187360" cy="2181240"/>
          </a:xfrm>
          <a:custGeom>
            <a:avLst/>
            <a:gdLst>
              <a:gd name="textAreaLeft" fmla="*/ 360 w 2187360"/>
              <a:gd name="textAreaRight" fmla="*/ 2188080 w 2187360"/>
              <a:gd name="textAreaTop" fmla="*/ -360 h 2181240"/>
              <a:gd name="textAreaBottom" fmla="*/ 2181240 h 218124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4"/>
          <p:cNvSpPr/>
          <p:nvPr/>
        </p:nvSpPr>
        <p:spPr>
          <a:xfrm>
            <a:off x="4600440" y="1771560"/>
            <a:ext cx="2278080" cy="22734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fill="none" w="21685" h="21600">
                <a:moveTo>
                  <a:pt x="0" y="0"/>
                </a:moveTo>
                <a:cubicBezTo>
                  <a:pt x="28" y="0"/>
                  <a:pt x="56" y="-1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</a:path>
              <a:path stroke="0" w="21685" h="21600">
                <a:moveTo>
                  <a:pt x="0" y="0"/>
                </a:moveTo>
                <a:cubicBezTo>
                  <a:pt x="28" y="0"/>
                  <a:pt x="56" y="-1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  <a:lnTo>
                  <a:pt x="85" y="21600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rc 5"/>
          <p:cNvSpPr/>
          <p:nvPr/>
        </p:nvSpPr>
        <p:spPr>
          <a:xfrm flipV="1">
            <a:off x="4608360" y="4042800"/>
            <a:ext cx="2268720" cy="2189160"/>
          </a:xfrm>
          <a:custGeom>
            <a:avLst/>
            <a:gdLst>
              <a:gd name="textAreaLeft" fmla="*/ 0 w 2268720"/>
              <a:gd name="textAreaRight" fmla="*/ 2269080 w 2268720"/>
              <a:gd name="textAreaTop" fmla="*/ -360 h 2189160"/>
              <a:gd name="textAreaBottom" fmla="*/ 2189160 h 218916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6"/>
          <p:cNvSpPr/>
          <p:nvPr/>
        </p:nvSpPr>
        <p:spPr>
          <a:xfrm>
            <a:off x="4610160" y="1930320"/>
            <a:ext cx="2082600" cy="2121120"/>
          </a:xfrm>
          <a:custGeom>
            <a:avLst/>
            <a:gdLst>
              <a:gd name="textAreaLeft" fmla="*/ 0 w 2082600"/>
              <a:gd name="textAreaRight" fmla="*/ 2082960 w 2082600"/>
              <a:gd name="textAreaTop" fmla="*/ 0 h 2121120"/>
              <a:gd name="textAreaBottom" fmla="*/ 2121120 h 212112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5757b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rc 7"/>
          <p:cNvSpPr/>
          <p:nvPr/>
        </p:nvSpPr>
        <p:spPr>
          <a:xfrm flipH="1" flipV="1">
            <a:off x="3151080" y="4004640"/>
            <a:ext cx="1463760" cy="1498680"/>
          </a:xfrm>
          <a:custGeom>
            <a:avLst/>
            <a:gdLst>
              <a:gd name="textAreaLeft" fmla="*/ 360 w 1463760"/>
              <a:gd name="textAreaRight" fmla="*/ 1464480 w 1463760"/>
              <a:gd name="textAreaTop" fmla="*/ -360 h 1498680"/>
              <a:gd name="textAreaBottom" fmla="*/ 1498680 h 14986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42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8"/>
          <p:cNvSpPr/>
          <p:nvPr/>
        </p:nvSpPr>
        <p:spPr>
          <a:xfrm flipV="1">
            <a:off x="4610160" y="4043520"/>
            <a:ext cx="1176120" cy="1218960"/>
          </a:xfrm>
          <a:custGeom>
            <a:avLst/>
            <a:gdLst>
              <a:gd name="textAreaLeft" fmla="*/ 0 w 1176120"/>
              <a:gd name="textAreaRight" fmla="*/ 1176480 w 117612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41111"/>
              </a:gs>
              <a:gs pos="100000">
                <a:srgbClr val="000000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9"/>
          <p:cNvSpPr/>
          <p:nvPr/>
        </p:nvSpPr>
        <p:spPr>
          <a:xfrm flipH="1">
            <a:off x="2962440" y="2354400"/>
            <a:ext cx="1653840" cy="1697040"/>
          </a:xfrm>
          <a:custGeom>
            <a:avLst/>
            <a:gdLst>
              <a:gd name="textAreaLeft" fmla="*/ 360 w 1653840"/>
              <a:gd name="textAreaRight" fmla="*/ 1654560 w 165384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b5b0c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416" name="Picture 13" descr="man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Freeform 14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420" name="Picture 17" descr="man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Freeform 18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424" name="Picture 21" descr="man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Freeform 22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3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428" name="Picture 25" descr="man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Freeform 26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7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28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2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3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DA1-577B-4FD6-A72F-A4811A83F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41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