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19040" y="248760"/>
            <a:ext cx="829152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幼圆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19040" y="1197000"/>
            <a:ext cx="8291520" cy="21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25d22"/>
              </a:solidFill>
              <a:latin typeface="幼圆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9040" y="3568680"/>
            <a:ext cx="8291520" cy="21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25d22"/>
              </a:solidFill>
              <a:latin typeface="幼圆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48760"/>
            <a:ext cx="829152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幼圆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19040" y="1197000"/>
            <a:ext cx="4046040" cy="21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25d22"/>
              </a:solidFill>
              <a:latin typeface="幼圆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7760" y="1197000"/>
            <a:ext cx="4046040" cy="21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25d22"/>
              </a:solidFill>
              <a:latin typeface="幼圆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19040" y="3568680"/>
            <a:ext cx="4046040" cy="21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25d22"/>
              </a:solidFill>
              <a:latin typeface="幼圆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67760" y="3568680"/>
            <a:ext cx="4046040" cy="21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25d22"/>
              </a:solidFill>
              <a:latin typeface="幼圆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19040" y="248760"/>
            <a:ext cx="829152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幼圆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19040" y="1197000"/>
            <a:ext cx="2669760" cy="21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25d22"/>
              </a:solidFill>
              <a:latin typeface="幼圆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22720" y="1197000"/>
            <a:ext cx="2669760" cy="21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25d22"/>
              </a:solidFill>
              <a:latin typeface="幼圆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6400" y="1197000"/>
            <a:ext cx="2669760" cy="21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25d22"/>
              </a:solidFill>
              <a:latin typeface="幼圆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19040" y="3568680"/>
            <a:ext cx="2669760" cy="21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25d22"/>
              </a:solidFill>
              <a:latin typeface="幼圆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22720" y="3568680"/>
            <a:ext cx="2669760" cy="21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25d22"/>
              </a:solidFill>
              <a:latin typeface="幼圆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6400" y="3568680"/>
            <a:ext cx="2669760" cy="21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25d22"/>
              </a:solidFill>
              <a:latin typeface="幼圆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66C2E-B4EC-4992-AF37-47257A0B6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19040" y="248760"/>
            <a:ext cx="829152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幼圆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19040" y="1197000"/>
            <a:ext cx="8291520" cy="45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5680"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6370a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7FACD-B135-4511-9B33-E2FA89902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19040" y="248760"/>
            <a:ext cx="829152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幼圆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19040" y="1197000"/>
            <a:ext cx="8291520" cy="45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25d22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F7327-3F97-435A-AD74-13F20FB31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48760"/>
            <a:ext cx="829152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幼圆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19040" y="1197000"/>
            <a:ext cx="4046040" cy="45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25d22"/>
              </a:solidFill>
              <a:latin typeface="幼圆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7760" y="1197000"/>
            <a:ext cx="4046040" cy="45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25d22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17270-3A13-48E7-82CA-63596B94F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248760"/>
            <a:ext cx="829152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幼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B6BFE-8C85-4080-9876-CA4C225EC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19040" y="248760"/>
            <a:ext cx="8291520" cy="32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5680"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6370a"/>
              </a:solidFill>
              <a:latin typeface="幼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1CC34-D346-44E1-90C6-9E22028FA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248760"/>
            <a:ext cx="829152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幼圆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19040" y="1197000"/>
            <a:ext cx="4046040" cy="21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25d22"/>
              </a:solidFill>
              <a:latin typeface="幼圆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7760" y="1197000"/>
            <a:ext cx="4046040" cy="45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25d22"/>
              </a:solidFill>
              <a:latin typeface="幼圆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19040" y="3568680"/>
            <a:ext cx="4046040" cy="21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25d22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00E0B-BFB8-41A9-A703-8267ECDAC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19040" y="248760"/>
            <a:ext cx="829152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幼圆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19040" y="1197000"/>
            <a:ext cx="8291520" cy="45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5680"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6370a"/>
              </a:solidFill>
              <a:latin typeface="幼圆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48760"/>
            <a:ext cx="829152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幼圆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19040" y="1197000"/>
            <a:ext cx="4046040" cy="45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25d22"/>
              </a:solidFill>
              <a:latin typeface="幼圆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7760" y="1197000"/>
            <a:ext cx="4046040" cy="21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25d22"/>
              </a:solidFill>
              <a:latin typeface="幼圆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67760" y="3568680"/>
            <a:ext cx="4046040" cy="21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25d22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D2E74-6C5A-45CF-8305-741D092A2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48760"/>
            <a:ext cx="829152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幼圆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19040" y="1197000"/>
            <a:ext cx="4046040" cy="21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25d22"/>
              </a:solidFill>
              <a:latin typeface="幼圆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7760" y="1197000"/>
            <a:ext cx="4046040" cy="21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25d22"/>
              </a:solidFill>
              <a:latin typeface="幼圆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19040" y="3568680"/>
            <a:ext cx="8291520" cy="21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25d22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F859E-C00F-4135-8736-AD8357977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48760"/>
            <a:ext cx="829152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幼圆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19040" y="1197000"/>
            <a:ext cx="8291520" cy="21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25d22"/>
              </a:solidFill>
              <a:latin typeface="幼圆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19040" y="3568680"/>
            <a:ext cx="8291520" cy="21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25d22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D1829-F73F-4A87-A5B8-731B377B3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19040" y="248760"/>
            <a:ext cx="829152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幼圆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19040" y="1197000"/>
            <a:ext cx="4046040" cy="21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25d22"/>
              </a:solidFill>
              <a:latin typeface="幼圆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7760" y="1197000"/>
            <a:ext cx="4046040" cy="21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25d22"/>
              </a:solidFill>
              <a:latin typeface="幼圆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9040" y="3568680"/>
            <a:ext cx="4046040" cy="21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25d22"/>
              </a:solidFill>
              <a:latin typeface="幼圆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67760" y="3568680"/>
            <a:ext cx="4046040" cy="21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25d22"/>
              </a:solidFill>
              <a:latin typeface="幼圆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18D86-E9F0-42DA-833B-75D63DEBC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19040" y="248760"/>
            <a:ext cx="829152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幼圆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19040" y="1197000"/>
            <a:ext cx="2669760" cy="21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25d22"/>
              </a:solidFill>
              <a:latin typeface="幼圆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22720" y="1197000"/>
            <a:ext cx="2669760" cy="21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25d22"/>
              </a:solidFill>
              <a:latin typeface="幼圆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6400" y="1197000"/>
            <a:ext cx="2669760" cy="21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25d22"/>
              </a:solidFill>
              <a:latin typeface="幼圆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19040" y="3568680"/>
            <a:ext cx="2669760" cy="21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25d22"/>
              </a:solidFill>
              <a:latin typeface="幼圆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22720" y="3568680"/>
            <a:ext cx="2669760" cy="21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25d22"/>
              </a:solidFill>
              <a:latin typeface="幼圆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6400" y="3568680"/>
            <a:ext cx="2669760" cy="21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25d22"/>
              </a:solidFill>
              <a:latin typeface="幼圆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4F3DF-BFAC-40C4-B2EE-EC8361E97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FB1E7-E9F6-4C16-9A07-3F43DD205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19040" y="248760"/>
            <a:ext cx="829152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幼圆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19040" y="1197000"/>
            <a:ext cx="8291520" cy="45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5680"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6370a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14E18-C23D-4F0A-892C-CDCACD0EF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19040" y="248760"/>
            <a:ext cx="829152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幼圆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19040" y="1197000"/>
            <a:ext cx="8291520" cy="45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25d22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260E4-898D-4B93-BABB-F7DB26DEE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19040" y="248760"/>
            <a:ext cx="829152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幼圆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19040" y="1197000"/>
            <a:ext cx="4046040" cy="45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25d22"/>
              </a:solidFill>
              <a:latin typeface="幼圆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7760" y="1197000"/>
            <a:ext cx="4046040" cy="45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25d22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77722-DB8D-4F08-BA39-8C1A6780D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19040" y="248760"/>
            <a:ext cx="829152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幼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D3CE6-773A-487B-AF22-AE7FAC11E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19040" y="248760"/>
            <a:ext cx="829152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幼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19040" y="1197000"/>
            <a:ext cx="8291520" cy="45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25d22"/>
              </a:solidFill>
              <a:latin typeface="幼圆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19040" y="248760"/>
            <a:ext cx="8291520" cy="32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5680"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6370a"/>
              </a:solidFill>
              <a:latin typeface="幼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C0571-7023-4F7B-92D1-AC30ED80A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19040" y="248760"/>
            <a:ext cx="829152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幼圆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19040" y="1197000"/>
            <a:ext cx="4046040" cy="21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25d22"/>
              </a:solidFill>
              <a:latin typeface="幼圆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67760" y="1197000"/>
            <a:ext cx="4046040" cy="45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25d22"/>
              </a:solidFill>
              <a:latin typeface="幼圆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19040" y="3568680"/>
            <a:ext cx="4046040" cy="21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25d22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CC614-0297-498F-9CDD-AE3C0367D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19040" y="248760"/>
            <a:ext cx="829152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幼圆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19040" y="1197000"/>
            <a:ext cx="4046040" cy="45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25d22"/>
              </a:solidFill>
              <a:latin typeface="幼圆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7760" y="1197000"/>
            <a:ext cx="4046040" cy="21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25d22"/>
              </a:solidFill>
              <a:latin typeface="幼圆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67760" y="3568680"/>
            <a:ext cx="4046040" cy="21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25d22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37AA6-A19C-49A7-AF33-1A9C534C6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19040" y="248760"/>
            <a:ext cx="829152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幼圆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19040" y="1197000"/>
            <a:ext cx="4046040" cy="21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25d22"/>
              </a:solidFill>
              <a:latin typeface="幼圆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7760" y="1197000"/>
            <a:ext cx="4046040" cy="21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25d22"/>
              </a:solidFill>
              <a:latin typeface="幼圆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19040" y="3568680"/>
            <a:ext cx="8291520" cy="21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25d22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36C59-23C4-42E9-BCF8-964B8DDE1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19040" y="248760"/>
            <a:ext cx="829152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幼圆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19040" y="1197000"/>
            <a:ext cx="8291520" cy="21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25d22"/>
              </a:solidFill>
              <a:latin typeface="幼圆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19040" y="3568680"/>
            <a:ext cx="8291520" cy="21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25d22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2FE77-AF8A-4BF2-93A6-50E9EA5CE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19040" y="248760"/>
            <a:ext cx="829152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幼圆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19040" y="1197000"/>
            <a:ext cx="4046040" cy="21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25d22"/>
              </a:solidFill>
              <a:latin typeface="幼圆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7760" y="1197000"/>
            <a:ext cx="4046040" cy="21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25d22"/>
              </a:solidFill>
              <a:latin typeface="幼圆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19040" y="3568680"/>
            <a:ext cx="4046040" cy="21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25d22"/>
              </a:solidFill>
              <a:latin typeface="幼圆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67760" y="3568680"/>
            <a:ext cx="4046040" cy="21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25d22"/>
              </a:solidFill>
              <a:latin typeface="幼圆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86002-8DEE-4EC4-BC62-40352763C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19040" y="248760"/>
            <a:ext cx="829152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幼圆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19040" y="1197000"/>
            <a:ext cx="2669760" cy="21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25d22"/>
              </a:solidFill>
              <a:latin typeface="幼圆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22720" y="1197000"/>
            <a:ext cx="2669760" cy="21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25d22"/>
              </a:solidFill>
              <a:latin typeface="幼圆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6400" y="1197000"/>
            <a:ext cx="2669760" cy="21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25d22"/>
              </a:solidFill>
              <a:latin typeface="幼圆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19040" y="3568680"/>
            <a:ext cx="2669760" cy="21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25d22"/>
              </a:solidFill>
              <a:latin typeface="幼圆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22720" y="3568680"/>
            <a:ext cx="2669760" cy="21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25d22"/>
              </a:solidFill>
              <a:latin typeface="幼圆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6400" y="3568680"/>
            <a:ext cx="2669760" cy="21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25d22"/>
              </a:solidFill>
              <a:latin typeface="幼圆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AFE43-45A9-481F-A771-9883CE3FA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19040" y="248760"/>
            <a:ext cx="829152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幼圆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19040" y="1197000"/>
            <a:ext cx="4046040" cy="45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25d22"/>
              </a:solidFill>
              <a:latin typeface="幼圆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67760" y="1197000"/>
            <a:ext cx="4046040" cy="45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25d22"/>
              </a:solidFill>
              <a:latin typeface="幼圆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48760"/>
            <a:ext cx="829152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幼圆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19040" y="248760"/>
            <a:ext cx="8291520" cy="32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5680"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6370a"/>
              </a:solidFill>
              <a:latin typeface="幼圆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48760"/>
            <a:ext cx="829152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幼圆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19040" y="1197000"/>
            <a:ext cx="4046040" cy="21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25d22"/>
              </a:solidFill>
              <a:latin typeface="幼圆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7760" y="1197000"/>
            <a:ext cx="4046040" cy="45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25d22"/>
              </a:solidFill>
              <a:latin typeface="幼圆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19040" y="3568680"/>
            <a:ext cx="4046040" cy="21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25d22"/>
              </a:solidFill>
              <a:latin typeface="幼圆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19040" y="248760"/>
            <a:ext cx="829152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幼圆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19040" y="1197000"/>
            <a:ext cx="4046040" cy="45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25d22"/>
              </a:solidFill>
              <a:latin typeface="幼圆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7760" y="1197000"/>
            <a:ext cx="4046040" cy="21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25d22"/>
              </a:solidFill>
              <a:latin typeface="幼圆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67760" y="3568680"/>
            <a:ext cx="4046040" cy="21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25d22"/>
              </a:solidFill>
              <a:latin typeface="幼圆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19040" y="248760"/>
            <a:ext cx="829152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幼圆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19040" y="1197000"/>
            <a:ext cx="4046040" cy="21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25d22"/>
              </a:solidFill>
              <a:latin typeface="幼圆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7760" y="1197000"/>
            <a:ext cx="4046040" cy="21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25d22"/>
              </a:solidFill>
              <a:latin typeface="幼圆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19040" y="3568680"/>
            <a:ext cx="8291520" cy="21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25d22"/>
              </a:solidFill>
              <a:latin typeface="幼圆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19040" y="248760"/>
            <a:ext cx="829152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幼圆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幼圆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DFD3A-EA12-42DB-BC32-F33EEAEBA4CA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19040" y="1197000"/>
            <a:ext cx="8291520" cy="45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271440" algn="just">
              <a:lnSpc>
                <a:spcPct val="110000"/>
              </a:lnSpc>
              <a:spcBef>
                <a:spcPts val="1800"/>
              </a:spcBef>
              <a:buClr>
                <a:srgbClr val="f25d22"/>
              </a:buClr>
              <a:buSzPct val="70000"/>
              <a:buFont typeface="Wingdings 2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25d22"/>
                </a:solidFill>
                <a:latin typeface="幼圆"/>
              </a:rPr>
              <a:t>Click to edit the outline text format</a:t>
            </a:r>
            <a:endParaRPr b="0" lang="en-US" sz="2000" spc="-1" strike="noStrike">
              <a:solidFill>
                <a:srgbClr val="f25d22"/>
              </a:solidFill>
              <a:latin typeface="幼圆"/>
            </a:endParaRPr>
          </a:p>
          <a:p>
            <a:pPr lvl="1" marL="357120" indent="-357120" algn="just">
              <a:lnSpc>
                <a:spcPct val="110000"/>
              </a:lnSpc>
              <a:spcBef>
                <a:spcPts val="1800"/>
              </a:spcBef>
              <a:buClr>
                <a:srgbClr val="ffdf6b"/>
              </a:buClr>
              <a:buFont typeface="幼圆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25d22"/>
                </a:solidFill>
                <a:latin typeface="幼圆"/>
              </a:rPr>
              <a:t>Second Outline Level</a:t>
            </a:r>
            <a:endParaRPr b="0" lang="en-US" sz="2000" spc="-1" strike="noStrike">
              <a:solidFill>
                <a:srgbClr val="f25d22"/>
              </a:solidFill>
              <a:latin typeface="幼圆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25d22"/>
                </a:solidFill>
                <a:latin typeface="幼圆"/>
              </a:rPr>
              <a:t>Third Outline Level</a:t>
            </a:r>
            <a:endParaRPr b="0" lang="en-US" sz="2000" spc="-1" strike="noStrike">
              <a:solidFill>
                <a:srgbClr val="f25d22"/>
              </a:solidFill>
              <a:latin typeface="幼圆"/>
            </a:endParaRPr>
          </a:p>
          <a:p>
            <a:pPr lvl="3" marL="1600200" indent="-228600" algn="just">
              <a:lnSpc>
                <a:spcPct val="11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25d22"/>
                </a:solidFill>
                <a:latin typeface="幼圆"/>
              </a:rPr>
              <a:t>Fourth Outline Level</a:t>
            </a:r>
            <a:endParaRPr b="0" lang="en-US" sz="2000" spc="-1" strike="noStrike">
              <a:solidFill>
                <a:srgbClr val="f25d22"/>
              </a:solidFill>
              <a:latin typeface="幼圆"/>
            </a:endParaRPr>
          </a:p>
          <a:p>
            <a:pPr lvl="4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25d22"/>
                </a:solidFill>
                <a:latin typeface="幼圆"/>
              </a:rPr>
              <a:t>Fifth Outline Level</a:t>
            </a:r>
            <a:endParaRPr b="0" lang="en-US" sz="2000" spc="-1" strike="noStrike">
              <a:solidFill>
                <a:srgbClr val="f25d22"/>
              </a:solidFill>
              <a:latin typeface="幼圆"/>
            </a:endParaRPr>
          </a:p>
          <a:p>
            <a:pPr lvl="5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25d22"/>
                </a:solidFill>
                <a:latin typeface="幼圆"/>
              </a:rPr>
              <a:t>Sixth Outline Level</a:t>
            </a:r>
            <a:endParaRPr b="0" lang="en-US" sz="2000" spc="-1" strike="noStrike">
              <a:solidFill>
                <a:srgbClr val="f25d22"/>
              </a:solidFill>
              <a:latin typeface="幼圆"/>
            </a:endParaRPr>
          </a:p>
          <a:p>
            <a:pPr lvl="6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25d22"/>
                </a:solidFill>
                <a:latin typeface="幼圆"/>
              </a:rPr>
              <a:t>Seventh Outline Level</a:t>
            </a:r>
            <a:endParaRPr b="0" lang="en-US" sz="2000" spc="-1" strike="noStrike">
              <a:solidFill>
                <a:srgbClr val="f25d22"/>
              </a:solidFill>
              <a:latin typeface="幼圆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212720" y="2827080"/>
            <a:ext cx="4930920" cy="123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25d22"/>
                </a:solidFill>
                <a:latin typeface="幼圆"/>
              </a:rPr>
              <a:t>Click to edit the title text format</a:t>
            </a:r>
            <a:endParaRPr b="0" lang="en-US" sz="3200" spc="-1" strike="noStrike">
              <a:solidFill>
                <a:srgbClr val="f25d22"/>
              </a:solidFill>
              <a:latin typeface="幼圆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849E1-CBFA-4C00-9F5E-51D7DAB88BA3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85680" indent="0"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6370a"/>
                </a:solidFill>
                <a:latin typeface="幼圆"/>
              </a:rPr>
              <a:t>Click to edit the outline text format</a:t>
            </a:r>
            <a:endParaRPr b="0" lang="en-US" sz="2000" spc="-1" strike="noStrike">
              <a:solidFill>
                <a:srgbClr val="a6370a"/>
              </a:solidFill>
              <a:latin typeface="幼圆"/>
            </a:endParaRPr>
          </a:p>
          <a:p>
            <a:pPr lvl="1" indent="0" algn="ctr">
              <a:lnSpc>
                <a:spcPct val="13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d7d7d"/>
                </a:solidFill>
                <a:latin typeface="幼圆"/>
              </a:rPr>
              <a:t>Second Outline Level</a:t>
            </a:r>
            <a:endParaRPr b="0" lang="en-US" sz="1600" spc="-1" strike="noStrike">
              <a:solidFill>
                <a:srgbClr val="7d7d7d"/>
              </a:solidFill>
              <a:latin typeface="幼圆"/>
            </a:endParaRPr>
          </a:p>
          <a:p>
            <a:pPr lvl="2" marL="914400" algn="ctr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-360" y="2971800"/>
            <a:ext cx="6251400" cy="7063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幼圆"/>
              </a:rPr>
              <a:t>健康餐饮水果</a:t>
            </a:r>
            <a:r>
              <a:rPr b="0" lang="zh-CN" sz="3600" spc="-1" strike="noStrike">
                <a:solidFill>
                  <a:srgbClr val="ffffff"/>
                </a:solidFill>
                <a:latin typeface="幼圆"/>
              </a:rPr>
              <a:t>PPT</a:t>
            </a:r>
            <a:r>
              <a:rPr b="0" lang="zh-CN" sz="3600" spc="-1" strike="noStrike">
                <a:solidFill>
                  <a:srgbClr val="ffffff"/>
                </a:solidFill>
                <a:latin typeface="幼圆"/>
              </a:rPr>
              <a:t>模板</a:t>
            </a:r>
            <a:endParaRPr b="0" lang="en-US" sz="3600" spc="-1" strike="noStrike">
              <a:solidFill>
                <a:srgbClr val="f25d22"/>
              </a:solidFill>
              <a:latin typeface="幼圆"/>
            </a:endParaRPr>
          </a:p>
        </p:txBody>
      </p:sp>
      <p:sp>
        <p:nvSpPr>
          <p:cNvPr id="121" name="矩形 4"/>
          <p:cNvSpPr/>
          <p:nvPr/>
        </p:nvSpPr>
        <p:spPr>
          <a:xfrm>
            <a:off x="6556320" y="20520"/>
            <a:ext cx="76356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-8280" y="1444320"/>
            <a:ext cx="6413400" cy="584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幼圆"/>
              </a:rPr>
              <a:t>Slide Title</a:t>
            </a:r>
            <a:endParaRPr b="0" lang="en-US" sz="3200" spc="-1" strike="noStrike">
              <a:solidFill>
                <a:srgbClr val="f25d22"/>
              </a:solidFill>
              <a:latin typeface="幼圆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2053800"/>
            <a:ext cx="8229600" cy="40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幼圆"/>
              </a:rPr>
              <a:t>Make Effective Presentations</a:t>
            </a:r>
            <a:endParaRPr b="0" lang="en-US" sz="2800" spc="-1" strike="noStrike">
              <a:solidFill>
                <a:srgbClr val="a6370a"/>
              </a:solidFill>
              <a:latin typeface="幼圆"/>
            </a:endParaRPr>
          </a:p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幼圆"/>
              </a:rPr>
              <a:t>Using Awesome Backgrounds</a:t>
            </a:r>
            <a:endParaRPr b="0" lang="en-US" sz="2800" spc="-1" strike="noStrike">
              <a:solidFill>
                <a:srgbClr val="a6370a"/>
              </a:solidFill>
              <a:latin typeface="幼圆"/>
            </a:endParaRPr>
          </a:p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幼圆"/>
              </a:rPr>
              <a:t>Engage your Audience</a:t>
            </a:r>
            <a:endParaRPr b="0" lang="en-US" sz="2800" spc="-1" strike="noStrike">
              <a:solidFill>
                <a:srgbClr val="a6370a"/>
              </a:solidFill>
              <a:latin typeface="幼圆"/>
            </a:endParaRPr>
          </a:p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幼圆"/>
              </a:rPr>
              <a:t>Capture Audience Attention</a:t>
            </a:r>
            <a:endParaRPr b="0" lang="en-US" sz="2800" spc="-1" strike="noStrike">
              <a:solidFill>
                <a:srgbClr val="a6370a"/>
              </a:solidFill>
              <a:latin typeface="幼圆"/>
            </a:endParaRPr>
          </a:p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6370a"/>
              </a:solidFill>
              <a:latin typeface="幼圆"/>
            </a:endParaRPr>
          </a:p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6370a"/>
              </a:solidFill>
              <a:latin typeface="幼圆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-360" y="1469520"/>
            <a:ext cx="6404040" cy="584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幼圆"/>
              </a:rPr>
              <a:t>Slide Title</a:t>
            </a:r>
            <a:endParaRPr b="0" lang="en-US" sz="3200" spc="-1" strike="noStrike">
              <a:solidFill>
                <a:srgbClr val="f25d22"/>
              </a:solidFill>
              <a:latin typeface="幼圆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205380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幼圆"/>
              </a:rPr>
              <a:t>Product A</a:t>
            </a:r>
            <a:endParaRPr b="0" lang="en-US" sz="2400" spc="-1" strike="noStrike">
              <a:solidFill>
                <a:srgbClr val="a6370a"/>
              </a:solidFill>
              <a:latin typeface="幼圆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6840" y="2684520"/>
            <a:ext cx="4040280" cy="37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幼圆"/>
              </a:rPr>
              <a:t>Feature 1</a:t>
            </a:r>
            <a:endParaRPr b="0" lang="en-US" sz="2400" spc="-1" strike="noStrike">
              <a:solidFill>
                <a:srgbClr val="a6370a"/>
              </a:solidFill>
              <a:latin typeface="幼圆"/>
            </a:endParaRPr>
          </a:p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幼圆"/>
              </a:rPr>
              <a:t>Feature 2</a:t>
            </a:r>
            <a:endParaRPr b="0" lang="en-US" sz="2400" spc="-1" strike="noStrike">
              <a:solidFill>
                <a:srgbClr val="a6370a"/>
              </a:solidFill>
              <a:latin typeface="幼圆"/>
            </a:endParaRPr>
          </a:p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幼圆"/>
              </a:rPr>
              <a:t>Feature 3</a:t>
            </a:r>
            <a:endParaRPr b="0" lang="en-US" sz="2400" spc="-1" strike="noStrike">
              <a:solidFill>
                <a:srgbClr val="a6370a"/>
              </a:solidFill>
              <a:latin typeface="幼圆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644720" y="205380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幼圆"/>
              </a:rPr>
              <a:t>Product B</a:t>
            </a:r>
            <a:endParaRPr b="0" lang="en-US" sz="2400" spc="-1" strike="noStrike">
              <a:solidFill>
                <a:srgbClr val="a6370a"/>
              </a:solidFill>
              <a:latin typeface="幼圆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644720" y="2684520"/>
            <a:ext cx="4041720" cy="37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幼圆"/>
              </a:rPr>
              <a:t>Feature 1</a:t>
            </a:r>
            <a:endParaRPr b="0" lang="en-US" sz="2400" spc="-1" strike="noStrike">
              <a:solidFill>
                <a:srgbClr val="a6370a"/>
              </a:solidFill>
              <a:latin typeface="幼圆"/>
            </a:endParaRPr>
          </a:p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幼圆"/>
              </a:rPr>
              <a:t>Feature 2</a:t>
            </a:r>
            <a:endParaRPr b="0" lang="en-US" sz="2400" spc="-1" strike="noStrike">
              <a:solidFill>
                <a:srgbClr val="a6370a"/>
              </a:solidFill>
              <a:latin typeface="幼圆"/>
            </a:endParaRPr>
          </a:p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幼圆"/>
              </a:rPr>
              <a:t>Feature 3</a:t>
            </a:r>
            <a:endParaRPr b="0" lang="en-US" sz="2400" spc="-1" strike="noStrike">
              <a:solidFill>
                <a:srgbClr val="a6370a"/>
              </a:solidFill>
              <a:latin typeface="幼圆"/>
            </a:endParaRPr>
          </a:p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6370a"/>
              </a:solidFill>
              <a:latin typeface="幼圆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幼圆"/>
              </a:rPr>
              <a:t>使用规范说明</a:t>
            </a:r>
            <a:endParaRPr b="0" lang="en-US" sz="2800" spc="-1" strike="noStrike">
              <a:solidFill>
                <a:srgbClr val="ffffff"/>
              </a:solidFill>
              <a:latin typeface="幼圆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幼圆"/>
              </a:rPr>
              <a:t>站点介绍：</a:t>
            </a:r>
            <a:endParaRPr b="0" lang="en-US" sz="1800" spc="-1" strike="noStrike">
              <a:solidFill>
                <a:srgbClr val="f25d22"/>
              </a:solidFill>
              <a:latin typeface="幼圆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25d22"/>
              </a:solidFill>
              <a:latin typeface="幼圆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幼圆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幼圆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幼圆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幼圆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幼圆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幼圆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幼圆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幼圆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幼圆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幼圆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幼圆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幼圆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幼圆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幼圆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幼圆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幼圆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幼圆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幼圆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幼圆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幼圆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幼圆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幼圆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幼圆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c1a84b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c1a84b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f25d22"/>
              </a:solidFill>
              <a:latin typeface="幼圆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25d22"/>
              </a:solidFill>
              <a:latin typeface="幼圆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25d22"/>
              </a:solidFill>
              <a:latin typeface="幼圆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幼圆"/>
              </a:rPr>
              <a:t>特别说明：</a:t>
            </a:r>
            <a:endParaRPr b="0" lang="en-US" sz="1800" spc="-1" strike="noStrike">
              <a:solidFill>
                <a:srgbClr val="f25d22"/>
              </a:solidFill>
              <a:latin typeface="幼圆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25d22"/>
              </a:solidFill>
              <a:latin typeface="幼圆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幼圆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幼圆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幼圆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f25d22"/>
              </a:solidFill>
              <a:latin typeface="幼圆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25d22"/>
              </a:solidFill>
              <a:latin typeface="幼圆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25d22"/>
              </a:solidFill>
              <a:latin typeface="幼圆"/>
            </a:endParaRPr>
          </a:p>
          <a:p>
            <a:pPr indent="0" algn="just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幼圆"/>
              </a:rPr>
              <a:t>栏目推荐：</a:t>
            </a:r>
            <a:endParaRPr b="0" lang="en-US" sz="1800" spc="-1" strike="noStrike">
              <a:solidFill>
                <a:srgbClr val="f25d22"/>
              </a:solidFill>
              <a:latin typeface="幼圆"/>
            </a:endParaRPr>
          </a:p>
          <a:p>
            <a:pPr indent="0" algn="just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1a84b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c1a84b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c1a84b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f25d22"/>
              </a:solidFill>
              <a:latin typeface="幼圆"/>
            </a:endParaRPr>
          </a:p>
          <a:p>
            <a:pPr indent="0" algn="just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1a84b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c1a84b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c1a84b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f25d22"/>
              </a:solidFill>
              <a:latin typeface="幼圆"/>
            </a:endParaRPr>
          </a:p>
          <a:p>
            <a:pPr indent="0" algn="just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1a84b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c1a84b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c1a84b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f25d22"/>
              </a:solidFill>
              <a:latin typeface="幼圆"/>
            </a:endParaRPr>
          </a:p>
          <a:p>
            <a:pPr indent="0" algn="just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1a84b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c1a84b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f25d22"/>
              </a:solidFill>
              <a:latin typeface="幼圆"/>
            </a:endParaRPr>
          </a:p>
          <a:p>
            <a:pPr indent="0" algn="just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1a84b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f25d22"/>
              </a:solidFill>
              <a:latin typeface="幼圆"/>
            </a:endParaRPr>
          </a:p>
          <a:p>
            <a:pPr indent="0" algn="just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1a84b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f25d22"/>
              </a:solidFill>
              <a:latin typeface="幼圆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25d22"/>
              </a:solidFill>
              <a:latin typeface="幼圆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4438E-336F-464A-BEBB-D80FECCB11A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1T19:17:00Z</dcterms:created>
  <dc:creator>http://www.eeppt.com</dc:creator>
  <dc:description>ppt模板下载网站 http://www.eeppt.com</dc:description>
  <dc:language>en-US</dc:language>
  <cp:lastModifiedBy/>
  <dcterms:modified xsi:type="dcterms:W3CDTF">2015-06-15T00:43:03Z</dcterms:modified>
  <cp:revision>2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