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2B9-0E29-47B8-A094-863FDC4B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446-4E78-4759-AB55-C08DF17C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821-6DA5-4318-977E-49851206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098-697E-4527-8160-897BED19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EC5F-2393-495D-B493-02456299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555D-9224-4CCD-9F95-051609AF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2F8F-96A1-4C72-A5E3-77F68D7D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2615-E5A6-41DD-9B7A-A6B2841B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768B-A68B-42D6-A3AC-0ED27CF9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919B-ED77-4B7F-ACCF-232C5948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4B5C-4EC7-4ABD-8DB2-36F076AB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34C-B4BE-4089-A36A-A5828A1F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4373-0E17-4FE1-97DD-574797D5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A062-09F3-40B7-9119-92FFEF02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B336-7289-477D-A6F8-00980B69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61F1-CB53-4069-9A28-AF3F77F6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0E81-CBE5-441A-AE7A-D6E81C26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C40-2E9D-4529-A77C-43C2B9D5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222-F9C5-4A9A-807E-63472CF6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9EF-F406-486C-8F97-67F4D4C6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08E-217A-40FC-8888-828FD6F9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7118-2E2A-480D-A468-57956CB8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08B-FC76-499F-80DB-337EDE8F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CA2E-D7B5-47EE-AACA-0997B1F2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92F6-47AC-479C-9D90-57ADD51FDC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393B-52D1-461E-B833-AC914E7572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A08A-2EE2-414D-8F4E-BA7092F791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E943-6118-4DF3-BDAF-ECA82F253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3267000" y="785880"/>
            <a:ext cx="1233720" cy="1000080"/>
          </a:xfrm>
          <a:prstGeom prst="roundRect">
            <a:avLst>
              <a:gd name="adj" fmla="val 86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626000" y="2000160"/>
            <a:ext cx="1589040" cy="1289160"/>
          </a:xfrm>
          <a:prstGeom prst="roundRect">
            <a:avLst>
              <a:gd name="adj" fmla="val 86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500200" y="3143160"/>
            <a:ext cx="1935360" cy="1569960"/>
          </a:xfrm>
          <a:prstGeom prst="roundRect">
            <a:avLst>
              <a:gd name="adj" fmla="val 86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908600" y="4319640"/>
            <a:ext cx="2381040" cy="1933560"/>
          </a:xfrm>
          <a:prstGeom prst="roundRect">
            <a:avLst>
              <a:gd name="adj" fmla="val 86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8"/>
          <p:cNvSpPr/>
          <p:nvPr/>
        </p:nvSpPr>
        <p:spPr>
          <a:xfrm>
            <a:off x="4260960" y="1695600"/>
            <a:ext cx="745920" cy="53784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1"/>
          <p:cNvSpPr/>
          <p:nvPr/>
        </p:nvSpPr>
        <p:spPr>
          <a:xfrm flipH="1">
            <a:off x="4143240" y="3098160"/>
            <a:ext cx="635040" cy="4014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6"/>
          <p:cNvSpPr/>
          <p:nvPr/>
        </p:nvSpPr>
        <p:spPr>
          <a:xfrm>
            <a:off x="4102200" y="4346640"/>
            <a:ext cx="1095120" cy="66024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191200" y="4460760"/>
            <a:ext cx="1809720" cy="1468440"/>
          </a:xfrm>
          <a:prstGeom prst="roundRect">
            <a:avLst>
              <a:gd name="adj" fmla="val 8685"/>
            </a:avLst>
          </a:prstGeom>
          <a:solidFill>
            <a:srgbClr val="f2f2f2">
              <a:alpha val="29000"/>
            </a:srgbClr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8" descr="num11"/>
          <p:cNvPicPr/>
          <p:nvPr/>
        </p:nvPicPr>
        <p:blipFill>
          <a:blip r:embed="rId2"/>
          <a:stretch/>
        </p:blipFill>
        <p:spPr>
          <a:xfrm>
            <a:off x="5108400" y="3759120"/>
            <a:ext cx="1486080" cy="1674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9"/>
          <p:cNvSpPr/>
          <p:nvPr/>
        </p:nvSpPr>
        <p:spPr>
          <a:xfrm rot="19731600">
            <a:off x="3079800" y="1114560"/>
            <a:ext cx="1627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9"/>
          <p:cNvSpPr/>
          <p:nvPr/>
        </p:nvSpPr>
        <p:spPr>
          <a:xfrm rot="19731600">
            <a:off x="2686680" y="3735000"/>
            <a:ext cx="1625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9"/>
          <p:cNvSpPr/>
          <p:nvPr/>
        </p:nvSpPr>
        <p:spPr>
          <a:xfrm rot="19731600">
            <a:off x="4554000" y="2392200"/>
            <a:ext cx="1627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4834080" y="1011240"/>
            <a:ext cx="25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9"/>
          <p:cNvSpPr/>
          <p:nvPr/>
        </p:nvSpPr>
        <p:spPr>
          <a:xfrm>
            <a:off x="4834080" y="1273320"/>
            <a:ext cx="25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9"/>
          <p:cNvSpPr/>
          <p:nvPr/>
        </p:nvSpPr>
        <p:spPr>
          <a:xfrm>
            <a:off x="1714680" y="2286000"/>
            <a:ext cx="25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1714680" y="2548080"/>
            <a:ext cx="25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1214280" y="4929120"/>
            <a:ext cx="2565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1214280" y="5191200"/>
            <a:ext cx="2565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递进关系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系列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26:1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