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652D-3D5E-4034-8480-B3872F12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70C-FDF8-4DD3-9D86-FC0BF890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15F9-FD08-489B-8B75-45389941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9FA-8D97-48F8-A7CD-60C2C359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19BF-3944-48FD-9855-22A6E572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FA01-1D57-438E-A040-42A77C19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0610-CD24-45D8-A6D9-CB463A30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E7D4-6D8D-41ED-B273-E26B0AAF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749C-7B2F-4F24-BCBA-F4691240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3F07-2B7F-43ED-BDC2-45228490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EF81-4051-4F88-A481-8EBA9D62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B33-303B-4D6A-8D0C-E7F93054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F395-5E9B-4865-9BF9-09D1781B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3A4A-EA9C-4C7D-94C9-9980EDF2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7A45-DF99-4372-863A-73DE3184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1B52-8B6A-4447-B4F3-860939E0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AFF3-0A47-4A7A-919C-8919E4A1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254-9311-4E50-B84A-BB254BB7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92DF-1C62-4620-812A-A50FE641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645-0224-4346-A066-B595E419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EC1-A54F-42FB-91DB-9FF465D3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7989-0DDA-4D9F-91EA-6FFEF229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0333-D66F-40BF-981A-EFD7419C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369-0C98-4521-A25A-DD71CC53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0B98-EA4F-4DD3-A007-1D788E42E93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2E18-25CF-4D2C-B4E6-E7A2430DC7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C9CB-6A77-469E-8CB2-E038097F1F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DE70-3AF2-4A08-901F-E80CA3E9E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3"/>
          <p:cNvSpPr/>
          <p:nvPr/>
        </p:nvSpPr>
        <p:spPr>
          <a:xfrm>
            <a:off x="388800" y="2365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递进关系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系列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424"/>
          <p:cNvGrpSpPr/>
          <p:nvPr/>
        </p:nvGrpSpPr>
        <p:grpSpPr>
          <a:xfrm>
            <a:off x="642960" y="1285920"/>
            <a:ext cx="1520640" cy="2951280"/>
            <a:chOff x="642960" y="1285920"/>
            <a:chExt cx="1520640" cy="2951280"/>
          </a:xfrm>
        </p:grpSpPr>
        <p:sp>
          <p:nvSpPr>
            <p:cNvPr id="84" name="圆角矩形 425"/>
            <p:cNvSpPr/>
            <p:nvPr/>
          </p:nvSpPr>
          <p:spPr>
            <a:xfrm rot="5400000">
              <a:off x="-72360" y="2001240"/>
              <a:ext cx="2951280" cy="152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426"/>
            <p:cNvSpPr/>
            <p:nvPr/>
          </p:nvSpPr>
          <p:spPr>
            <a:xfrm>
              <a:off x="795240" y="1462680"/>
              <a:ext cx="1188720" cy="1189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39"/>
            <p:cNvSpPr/>
            <p:nvPr/>
          </p:nvSpPr>
          <p:spPr>
            <a:xfrm>
              <a:off x="768600" y="1437120"/>
              <a:ext cx="1306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428"/>
            <p:cNvSpPr/>
            <p:nvPr/>
          </p:nvSpPr>
          <p:spPr>
            <a:xfrm>
              <a:off x="1109160" y="206028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9"/>
            <p:cNvSpPr/>
            <p:nvPr/>
          </p:nvSpPr>
          <p:spPr>
            <a:xfrm>
              <a:off x="742680" y="2866320"/>
              <a:ext cx="136116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430"/>
          <p:cNvGrpSpPr/>
          <p:nvPr/>
        </p:nvGrpSpPr>
        <p:grpSpPr>
          <a:xfrm>
            <a:off x="2819520" y="1285920"/>
            <a:ext cx="1520640" cy="2951280"/>
            <a:chOff x="2819520" y="1285920"/>
            <a:chExt cx="1520640" cy="2951280"/>
          </a:xfrm>
        </p:grpSpPr>
        <p:sp>
          <p:nvSpPr>
            <p:cNvPr id="90" name="圆角矩形 431"/>
            <p:cNvSpPr/>
            <p:nvPr/>
          </p:nvSpPr>
          <p:spPr>
            <a:xfrm rot="5400000">
              <a:off x="2103840" y="2001240"/>
              <a:ext cx="2951280" cy="152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432"/>
            <p:cNvSpPr/>
            <p:nvPr/>
          </p:nvSpPr>
          <p:spPr>
            <a:xfrm>
              <a:off x="2971800" y="1462680"/>
              <a:ext cx="1188720" cy="1189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39"/>
            <p:cNvSpPr/>
            <p:nvPr/>
          </p:nvSpPr>
          <p:spPr>
            <a:xfrm>
              <a:off x="2945160" y="1437120"/>
              <a:ext cx="1306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434"/>
            <p:cNvSpPr/>
            <p:nvPr/>
          </p:nvSpPr>
          <p:spPr>
            <a:xfrm>
              <a:off x="3285720" y="206028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39933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39"/>
            <p:cNvSpPr/>
            <p:nvPr/>
          </p:nvSpPr>
          <p:spPr>
            <a:xfrm>
              <a:off x="2919240" y="2866320"/>
              <a:ext cx="136116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436"/>
          <p:cNvGrpSpPr/>
          <p:nvPr/>
        </p:nvGrpSpPr>
        <p:grpSpPr>
          <a:xfrm>
            <a:off x="2214720" y="2521080"/>
            <a:ext cx="522000" cy="285480"/>
            <a:chOff x="2214720" y="2521080"/>
            <a:chExt cx="522000" cy="285480"/>
          </a:xfrm>
        </p:grpSpPr>
        <p:sp>
          <p:nvSpPr>
            <p:cNvPr id="96" name="燕尾形 437"/>
            <p:cNvSpPr/>
            <p:nvPr/>
          </p:nvSpPr>
          <p:spPr>
            <a:xfrm>
              <a:off x="2214720" y="2521080"/>
              <a:ext cx="285120" cy="2854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燕尾形 438"/>
            <p:cNvSpPr/>
            <p:nvPr/>
          </p:nvSpPr>
          <p:spPr>
            <a:xfrm>
              <a:off x="2451600" y="2521080"/>
              <a:ext cx="285120" cy="2854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439"/>
          <p:cNvGrpSpPr/>
          <p:nvPr/>
        </p:nvGrpSpPr>
        <p:grpSpPr>
          <a:xfrm>
            <a:off x="5000760" y="1285920"/>
            <a:ext cx="1520640" cy="2951280"/>
            <a:chOff x="5000760" y="1285920"/>
            <a:chExt cx="1520640" cy="2951280"/>
          </a:xfrm>
        </p:grpSpPr>
        <p:sp>
          <p:nvSpPr>
            <p:cNvPr id="99" name="圆角矩形 440"/>
            <p:cNvSpPr/>
            <p:nvPr/>
          </p:nvSpPr>
          <p:spPr>
            <a:xfrm rot="5400000">
              <a:off x="4285440" y="2001240"/>
              <a:ext cx="2951280" cy="152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441"/>
            <p:cNvSpPr/>
            <p:nvPr/>
          </p:nvSpPr>
          <p:spPr>
            <a:xfrm>
              <a:off x="5153040" y="1462680"/>
              <a:ext cx="1188720" cy="1189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39"/>
            <p:cNvSpPr/>
            <p:nvPr/>
          </p:nvSpPr>
          <p:spPr>
            <a:xfrm>
              <a:off x="5126400" y="1437120"/>
              <a:ext cx="1306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443"/>
            <p:cNvSpPr/>
            <p:nvPr/>
          </p:nvSpPr>
          <p:spPr>
            <a:xfrm>
              <a:off x="5466960" y="206028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9"/>
            <p:cNvSpPr/>
            <p:nvPr/>
          </p:nvSpPr>
          <p:spPr>
            <a:xfrm>
              <a:off x="5100480" y="2866320"/>
              <a:ext cx="136116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445"/>
          <p:cNvGrpSpPr/>
          <p:nvPr/>
        </p:nvGrpSpPr>
        <p:grpSpPr>
          <a:xfrm>
            <a:off x="7122600" y="1285920"/>
            <a:ext cx="1521000" cy="2951280"/>
            <a:chOff x="7122600" y="1285920"/>
            <a:chExt cx="1521000" cy="2951280"/>
          </a:xfrm>
        </p:grpSpPr>
        <p:sp>
          <p:nvSpPr>
            <p:cNvPr id="105" name="圆角矩形 446"/>
            <p:cNvSpPr/>
            <p:nvPr/>
          </p:nvSpPr>
          <p:spPr>
            <a:xfrm rot="5400000">
              <a:off x="6407280" y="2000880"/>
              <a:ext cx="2951280" cy="152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447"/>
            <p:cNvSpPr/>
            <p:nvPr/>
          </p:nvSpPr>
          <p:spPr>
            <a:xfrm>
              <a:off x="7275600" y="1462680"/>
              <a:ext cx="1188720" cy="1189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39"/>
            <p:cNvSpPr/>
            <p:nvPr/>
          </p:nvSpPr>
          <p:spPr>
            <a:xfrm>
              <a:off x="7248600" y="1437120"/>
              <a:ext cx="1307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36c09"/>
                  </a:solidFill>
                  <a:latin typeface="微软雅黑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449"/>
            <p:cNvSpPr/>
            <p:nvPr/>
          </p:nvSpPr>
          <p:spPr>
            <a:xfrm>
              <a:off x="7589160" y="206028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e36c09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39"/>
            <p:cNvSpPr/>
            <p:nvPr/>
          </p:nvSpPr>
          <p:spPr>
            <a:xfrm>
              <a:off x="7222680" y="2866320"/>
              <a:ext cx="136152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451"/>
          <p:cNvGrpSpPr/>
          <p:nvPr/>
        </p:nvGrpSpPr>
        <p:grpSpPr>
          <a:xfrm>
            <a:off x="6572160" y="2521080"/>
            <a:ext cx="522360" cy="285480"/>
            <a:chOff x="6572160" y="2521080"/>
            <a:chExt cx="522360" cy="285480"/>
          </a:xfrm>
        </p:grpSpPr>
        <p:sp>
          <p:nvSpPr>
            <p:cNvPr id="111" name="燕尾形 452"/>
            <p:cNvSpPr/>
            <p:nvPr/>
          </p:nvSpPr>
          <p:spPr>
            <a:xfrm>
              <a:off x="6572160" y="2521080"/>
              <a:ext cx="285480" cy="2854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燕尾形 453"/>
            <p:cNvSpPr/>
            <p:nvPr/>
          </p:nvSpPr>
          <p:spPr>
            <a:xfrm>
              <a:off x="6809040" y="2521080"/>
              <a:ext cx="285480" cy="2854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454"/>
          <p:cNvGrpSpPr/>
          <p:nvPr/>
        </p:nvGrpSpPr>
        <p:grpSpPr>
          <a:xfrm>
            <a:off x="4429080" y="2521080"/>
            <a:ext cx="522360" cy="285480"/>
            <a:chOff x="4429080" y="2521080"/>
            <a:chExt cx="522360" cy="285480"/>
          </a:xfrm>
        </p:grpSpPr>
        <p:sp>
          <p:nvSpPr>
            <p:cNvPr id="114" name="燕尾形 455"/>
            <p:cNvSpPr/>
            <p:nvPr/>
          </p:nvSpPr>
          <p:spPr>
            <a:xfrm>
              <a:off x="4429080" y="2521080"/>
              <a:ext cx="285480" cy="2854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燕尾形 456"/>
            <p:cNvSpPr/>
            <p:nvPr/>
          </p:nvSpPr>
          <p:spPr>
            <a:xfrm>
              <a:off x="4665960" y="2521080"/>
              <a:ext cx="285480" cy="2854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右箭头 457"/>
          <p:cNvSpPr/>
          <p:nvPr/>
        </p:nvSpPr>
        <p:spPr>
          <a:xfrm>
            <a:off x="892080" y="4705200"/>
            <a:ext cx="690480" cy="6717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1714680" y="4976640"/>
            <a:ext cx="6368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点击此处添加您要的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9"/>
          <p:cNvSpPr/>
          <p:nvPr/>
        </p:nvSpPr>
        <p:spPr>
          <a:xfrm>
            <a:off x="1714680" y="4643280"/>
            <a:ext cx="3143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9"/>
          <p:cNvSpPr/>
          <p:nvPr/>
        </p:nvSpPr>
        <p:spPr>
          <a:xfrm>
            <a:off x="776160" y="4838760"/>
            <a:ext cx="86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右箭头 461"/>
          <p:cNvSpPr/>
          <p:nvPr/>
        </p:nvSpPr>
        <p:spPr>
          <a:xfrm>
            <a:off x="892080" y="5472000"/>
            <a:ext cx="690480" cy="6717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9"/>
          <p:cNvSpPr/>
          <p:nvPr/>
        </p:nvSpPr>
        <p:spPr>
          <a:xfrm>
            <a:off x="1714680" y="5743440"/>
            <a:ext cx="6368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点击此处添加您要的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9"/>
          <p:cNvSpPr/>
          <p:nvPr/>
        </p:nvSpPr>
        <p:spPr>
          <a:xfrm>
            <a:off x="1714680" y="5410080"/>
            <a:ext cx="3143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9"/>
          <p:cNvSpPr/>
          <p:nvPr/>
        </p:nvSpPr>
        <p:spPr>
          <a:xfrm>
            <a:off x="776160" y="5605560"/>
            <a:ext cx="86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26:0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