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A49-4DD2-43E4-92D0-3608661A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66B-067D-4465-B05B-FA18A378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A6B-F981-4AD5-94B5-1D87E1BB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30C-957C-4E88-B736-DA3DBC61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416-59F5-4148-B18C-4CB1D84A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765-D087-458D-8484-9B29984C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6E7-B31F-4268-9A73-F847DA2F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99C-66E6-470E-B287-1EE4C442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0B4-CA27-4A48-8BA2-83B45DA3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01E-0BB5-425F-9D8B-E00C7C1E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F6A-9778-4A38-A1BB-426EF816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6F4-3E42-47D3-9251-3DA7D34F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BE84-D5DD-4AA8-B928-2B720E6A9E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灰色1"/>
          <p:cNvGrpSpPr/>
          <p:nvPr/>
        </p:nvGrpSpPr>
        <p:grpSpPr>
          <a:xfrm>
            <a:off x="2416320" y="3798720"/>
            <a:ext cx="1331640" cy="1128960"/>
            <a:chOff x="2416320" y="3798720"/>
            <a:chExt cx="1331640" cy="1128960"/>
          </a:xfrm>
        </p:grpSpPr>
        <p:sp>
          <p:nvSpPr>
            <p:cNvPr id="42" name="Freeform 5"/>
            <p:cNvSpPr/>
            <p:nvPr/>
          </p:nvSpPr>
          <p:spPr>
            <a:xfrm>
              <a:off x="2416320" y="3798720"/>
              <a:ext cx="1331640" cy="934920"/>
            </a:xfrm>
            <a:custGeom>
              <a:avLst/>
              <a:gdLst>
                <a:gd name="textAreaLeft" fmla="*/ 0 w 1331640"/>
                <a:gd name="textAreaRight" fmla="*/ 1332000 w 13316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963" h="691">
                  <a:moveTo>
                    <a:pt x="0" y="328"/>
                  </a:moveTo>
                  <a:lnTo>
                    <a:pt x="944" y="0"/>
                  </a:lnTo>
                  <a:lnTo>
                    <a:pt x="963" y="691"/>
                  </a:lnTo>
                  <a:lnTo>
                    <a:pt x="3" y="691"/>
                  </a:lnTo>
                  <a:lnTo>
                    <a:pt x="0" y="32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10"/>
            <p:cNvSpPr/>
            <p:nvPr/>
          </p:nvSpPr>
          <p:spPr>
            <a:xfrm>
              <a:off x="3169800" y="4224240"/>
              <a:ext cx="50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b2b2b2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灰色2"/>
          <p:cNvGrpSpPr/>
          <p:nvPr/>
        </p:nvGrpSpPr>
        <p:grpSpPr>
          <a:xfrm>
            <a:off x="3902040" y="3200400"/>
            <a:ext cx="1327320" cy="1711440"/>
            <a:chOff x="3902040" y="3200400"/>
            <a:chExt cx="1327320" cy="1711440"/>
          </a:xfrm>
        </p:grpSpPr>
        <p:sp>
          <p:nvSpPr>
            <p:cNvPr id="45" name="Freeform 2"/>
            <p:cNvSpPr/>
            <p:nvPr/>
          </p:nvSpPr>
          <p:spPr>
            <a:xfrm>
              <a:off x="3902040" y="3200400"/>
              <a:ext cx="1327320" cy="1536840"/>
            </a:xfrm>
            <a:custGeom>
              <a:avLst/>
              <a:gdLst>
                <a:gd name="textAreaLeft" fmla="*/ 0 w 1327320"/>
                <a:gd name="textAreaRight" fmla="*/ 1327680 w 13273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960" h="1110">
                  <a:moveTo>
                    <a:pt x="0" y="390"/>
                  </a:moveTo>
                  <a:lnTo>
                    <a:pt x="952" y="0"/>
                  </a:lnTo>
                  <a:lnTo>
                    <a:pt x="960" y="1110"/>
                  </a:lnTo>
                  <a:lnTo>
                    <a:pt x="0" y="1110"/>
                  </a:lnTo>
                  <a:lnTo>
                    <a:pt x="0" y="39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1"/>
            <p:cNvSpPr/>
            <p:nvPr/>
          </p:nvSpPr>
          <p:spPr>
            <a:xfrm>
              <a:off x="4718160" y="4208400"/>
              <a:ext cx="50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b2b2b2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灰色3"/>
          <p:cNvGrpSpPr/>
          <p:nvPr/>
        </p:nvGrpSpPr>
        <p:grpSpPr>
          <a:xfrm>
            <a:off x="5376960" y="2651040"/>
            <a:ext cx="1336680" cy="2260800"/>
            <a:chOff x="5376960" y="2651040"/>
            <a:chExt cx="1336680" cy="2260800"/>
          </a:xfrm>
        </p:grpSpPr>
        <p:sp>
          <p:nvSpPr>
            <p:cNvPr id="48" name="Freeform 4"/>
            <p:cNvSpPr/>
            <p:nvPr/>
          </p:nvSpPr>
          <p:spPr>
            <a:xfrm>
              <a:off x="5376960" y="2651040"/>
              <a:ext cx="1336680" cy="208620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967" h="1507">
                  <a:moveTo>
                    <a:pt x="0" y="381"/>
                  </a:moveTo>
                  <a:lnTo>
                    <a:pt x="949" y="0"/>
                  </a:lnTo>
                  <a:lnTo>
                    <a:pt x="967" y="1507"/>
                  </a:lnTo>
                  <a:lnTo>
                    <a:pt x="7" y="1507"/>
                  </a:lnTo>
                  <a:lnTo>
                    <a:pt x="0" y="381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2"/>
            <p:cNvSpPr/>
            <p:nvPr/>
          </p:nvSpPr>
          <p:spPr>
            <a:xfrm>
              <a:off x="6185160" y="4208400"/>
              <a:ext cx="50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b2b2b2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灰色4"/>
          <p:cNvGrpSpPr/>
          <p:nvPr/>
        </p:nvGrpSpPr>
        <p:grpSpPr>
          <a:xfrm>
            <a:off x="6867360" y="2036880"/>
            <a:ext cx="1359000" cy="2874960"/>
            <a:chOff x="6867360" y="2036880"/>
            <a:chExt cx="1359000" cy="2874960"/>
          </a:xfrm>
        </p:grpSpPr>
        <p:sp>
          <p:nvSpPr>
            <p:cNvPr id="51" name="Freeform 3"/>
            <p:cNvSpPr/>
            <p:nvPr/>
          </p:nvSpPr>
          <p:spPr>
            <a:xfrm>
              <a:off x="6867360" y="2036880"/>
              <a:ext cx="1359000" cy="2701800"/>
            </a:xfrm>
            <a:custGeom>
              <a:avLst/>
              <a:gdLst>
                <a:gd name="textAreaLeft" fmla="*/ 0 w 1359000"/>
                <a:gd name="textAreaRight" fmla="*/ 1359360 w 1359000"/>
                <a:gd name="textAreaTop" fmla="*/ 0 h 2701800"/>
                <a:gd name="textAreaBottom" fmla="*/ 2702160 h 2701800"/>
              </a:gdLst>
              <a:ahLst/>
              <a:rect l="textAreaLeft" t="textAreaTop" r="textAreaRight" b="textAreaBottom"/>
              <a:pathLst>
                <a:path w="982" h="1953">
                  <a:moveTo>
                    <a:pt x="0" y="422"/>
                  </a:moveTo>
                  <a:lnTo>
                    <a:pt x="982" y="0"/>
                  </a:lnTo>
                  <a:lnTo>
                    <a:pt x="978" y="1953"/>
                  </a:lnTo>
                  <a:lnTo>
                    <a:pt x="18" y="1953"/>
                  </a:lnTo>
                  <a:lnTo>
                    <a:pt x="0" y="42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3"/>
            <p:cNvSpPr/>
            <p:nvPr/>
          </p:nvSpPr>
          <p:spPr>
            <a:xfrm>
              <a:off x="7708680" y="4208400"/>
              <a:ext cx="50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b2b2b2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深色1"/>
          <p:cNvGrpSpPr/>
          <p:nvPr/>
        </p:nvGrpSpPr>
        <p:grpSpPr>
          <a:xfrm>
            <a:off x="2416320" y="3811680"/>
            <a:ext cx="1331640" cy="1109880"/>
            <a:chOff x="2416320" y="3811680"/>
            <a:chExt cx="1331640" cy="1109880"/>
          </a:xfrm>
        </p:grpSpPr>
        <p:sp>
          <p:nvSpPr>
            <p:cNvPr id="54" name="Freeform 5"/>
            <p:cNvSpPr/>
            <p:nvPr/>
          </p:nvSpPr>
          <p:spPr>
            <a:xfrm>
              <a:off x="2416320" y="3811680"/>
              <a:ext cx="1331640" cy="935280"/>
            </a:xfrm>
            <a:custGeom>
              <a:avLst/>
              <a:gdLst>
                <a:gd name="textAreaLeft" fmla="*/ 0 w 1331640"/>
                <a:gd name="textAreaRight" fmla="*/ 1332000 w 133164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963" h="691">
                  <a:moveTo>
                    <a:pt x="0" y="328"/>
                  </a:moveTo>
                  <a:lnTo>
                    <a:pt x="944" y="0"/>
                  </a:lnTo>
                  <a:lnTo>
                    <a:pt x="963" y="691"/>
                  </a:lnTo>
                  <a:lnTo>
                    <a:pt x="3" y="691"/>
                  </a:lnTo>
                  <a:lnTo>
                    <a:pt x="0" y="328"/>
                  </a:lnTo>
                  <a:close/>
                </a:path>
              </a:pathLst>
            </a:custGeom>
            <a:gradFill rotWithShape="0">
              <a:gsLst>
                <a:gs pos="0">
                  <a:srgbClr val="6daa2d"/>
                </a:gs>
                <a:gs pos="100000">
                  <a:srgbClr val="a8da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3224160" y="4218120"/>
              <a:ext cx="50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深色2"/>
          <p:cNvGrpSpPr/>
          <p:nvPr/>
        </p:nvGrpSpPr>
        <p:grpSpPr>
          <a:xfrm>
            <a:off x="3902040" y="3209760"/>
            <a:ext cx="1327320" cy="1711800"/>
            <a:chOff x="3902040" y="3209760"/>
            <a:chExt cx="1327320" cy="1711800"/>
          </a:xfrm>
        </p:grpSpPr>
        <p:sp>
          <p:nvSpPr>
            <p:cNvPr id="57" name="Freeform 2"/>
            <p:cNvSpPr/>
            <p:nvPr/>
          </p:nvSpPr>
          <p:spPr>
            <a:xfrm>
              <a:off x="3902040" y="3209760"/>
              <a:ext cx="1327320" cy="1537200"/>
            </a:xfrm>
            <a:custGeom>
              <a:avLst/>
              <a:gdLst>
                <a:gd name="textAreaLeft" fmla="*/ 0 w 1327320"/>
                <a:gd name="textAreaRight" fmla="*/ 1327680 w 1327320"/>
                <a:gd name="textAreaTop" fmla="*/ 0 h 1537200"/>
                <a:gd name="textAreaBottom" fmla="*/ 1537560 h 1537200"/>
              </a:gdLst>
              <a:ahLst/>
              <a:rect l="textAreaLeft" t="textAreaTop" r="textAreaRight" b="textAreaBottom"/>
              <a:pathLst>
                <a:path w="960" h="1110">
                  <a:moveTo>
                    <a:pt x="0" y="390"/>
                  </a:moveTo>
                  <a:lnTo>
                    <a:pt x="952" y="0"/>
                  </a:lnTo>
                  <a:lnTo>
                    <a:pt x="960" y="1110"/>
                  </a:lnTo>
                  <a:lnTo>
                    <a:pt x="0" y="1110"/>
                  </a:lnTo>
                  <a:lnTo>
                    <a:pt x="0" y="390"/>
                  </a:lnTo>
                  <a:close/>
                </a:path>
              </a:pathLst>
            </a:custGeom>
            <a:gradFill rotWithShape="0">
              <a:gsLst>
                <a:gs pos="0">
                  <a:srgbClr val="6daa2d"/>
                </a:gs>
                <a:gs pos="100000">
                  <a:srgbClr val="a8da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1"/>
            <p:cNvSpPr/>
            <p:nvPr/>
          </p:nvSpPr>
          <p:spPr>
            <a:xfrm>
              <a:off x="4718160" y="4218120"/>
              <a:ext cx="50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深色3"/>
          <p:cNvGrpSpPr/>
          <p:nvPr/>
        </p:nvGrpSpPr>
        <p:grpSpPr>
          <a:xfrm>
            <a:off x="5376960" y="2660760"/>
            <a:ext cx="1336680" cy="2260800"/>
            <a:chOff x="5376960" y="2660760"/>
            <a:chExt cx="1336680" cy="2260800"/>
          </a:xfrm>
        </p:grpSpPr>
        <p:sp>
          <p:nvSpPr>
            <p:cNvPr id="60" name="Freeform 4"/>
            <p:cNvSpPr/>
            <p:nvPr/>
          </p:nvSpPr>
          <p:spPr>
            <a:xfrm>
              <a:off x="5376960" y="2660760"/>
              <a:ext cx="1336680" cy="208620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967" h="1507">
                  <a:moveTo>
                    <a:pt x="0" y="381"/>
                  </a:moveTo>
                  <a:lnTo>
                    <a:pt x="949" y="0"/>
                  </a:lnTo>
                  <a:lnTo>
                    <a:pt x="967" y="1507"/>
                  </a:lnTo>
                  <a:lnTo>
                    <a:pt x="7" y="1507"/>
                  </a:lnTo>
                  <a:lnTo>
                    <a:pt x="0" y="381"/>
                  </a:lnTo>
                  <a:close/>
                </a:path>
              </a:pathLst>
            </a:custGeom>
            <a:gradFill rotWithShape="0">
              <a:gsLst>
                <a:gs pos="0">
                  <a:srgbClr val="6daa2d"/>
                </a:gs>
                <a:gs pos="100000">
                  <a:srgbClr val="a8da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6185160" y="4218120"/>
              <a:ext cx="50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深色4"/>
          <p:cNvGrpSpPr/>
          <p:nvPr/>
        </p:nvGrpSpPr>
        <p:grpSpPr>
          <a:xfrm>
            <a:off x="6867360" y="2046240"/>
            <a:ext cx="1359000" cy="2875320"/>
            <a:chOff x="6867360" y="2046240"/>
            <a:chExt cx="1359000" cy="2875320"/>
          </a:xfrm>
        </p:grpSpPr>
        <p:sp>
          <p:nvSpPr>
            <p:cNvPr id="63" name="Freeform 3"/>
            <p:cNvSpPr/>
            <p:nvPr/>
          </p:nvSpPr>
          <p:spPr>
            <a:xfrm>
              <a:off x="6867360" y="2046240"/>
              <a:ext cx="1359000" cy="2702160"/>
            </a:xfrm>
            <a:custGeom>
              <a:avLst/>
              <a:gdLst>
                <a:gd name="textAreaLeft" fmla="*/ 0 w 1359000"/>
                <a:gd name="textAreaRight" fmla="*/ 1359360 w 1359000"/>
                <a:gd name="textAreaTop" fmla="*/ 0 h 2702160"/>
                <a:gd name="textAreaBottom" fmla="*/ 2702520 h 2702160"/>
              </a:gdLst>
              <a:ahLst/>
              <a:rect l="textAreaLeft" t="textAreaTop" r="textAreaRight" b="textAreaBottom"/>
              <a:pathLst>
                <a:path w="982" h="1953">
                  <a:moveTo>
                    <a:pt x="0" y="422"/>
                  </a:moveTo>
                  <a:lnTo>
                    <a:pt x="982" y="0"/>
                  </a:lnTo>
                  <a:lnTo>
                    <a:pt x="978" y="1953"/>
                  </a:lnTo>
                  <a:lnTo>
                    <a:pt x="18" y="1953"/>
                  </a:lnTo>
                  <a:lnTo>
                    <a:pt x="0" y="422"/>
                  </a:lnTo>
                  <a:close/>
                </a:path>
              </a:pathLst>
            </a:custGeom>
            <a:gradFill rotWithShape="0">
              <a:gsLst>
                <a:gs pos="0">
                  <a:srgbClr val="6daa2d"/>
                </a:gs>
                <a:gs pos="100000">
                  <a:srgbClr val="a8da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7708680" y="4218120"/>
              <a:ext cx="50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文本1"/>
          <p:cNvGrpSpPr/>
          <p:nvPr/>
        </p:nvGrpSpPr>
        <p:grpSpPr>
          <a:xfrm>
            <a:off x="552600" y="3753000"/>
            <a:ext cx="2917440" cy="385920"/>
            <a:chOff x="552600" y="3753000"/>
            <a:chExt cx="2917440" cy="385920"/>
          </a:xfrm>
        </p:grpSpPr>
        <p:sp>
          <p:nvSpPr>
            <p:cNvPr id="66" name="Line 14"/>
            <p:cNvSpPr/>
            <p:nvPr/>
          </p:nvSpPr>
          <p:spPr>
            <a:xfrm flipH="1">
              <a:off x="640800" y="4082400"/>
              <a:ext cx="28292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552600" y="3753000"/>
              <a:ext cx="27100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）文字说明内容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文本2"/>
          <p:cNvGrpSpPr/>
          <p:nvPr/>
        </p:nvGrpSpPr>
        <p:grpSpPr>
          <a:xfrm>
            <a:off x="552600" y="3138480"/>
            <a:ext cx="4441680" cy="385920"/>
            <a:chOff x="552600" y="3138480"/>
            <a:chExt cx="4441680" cy="385920"/>
          </a:xfrm>
        </p:grpSpPr>
        <p:sp>
          <p:nvSpPr>
            <p:cNvPr id="69" name="Line 16"/>
            <p:cNvSpPr/>
            <p:nvPr/>
          </p:nvSpPr>
          <p:spPr>
            <a:xfrm flipH="1">
              <a:off x="641160" y="3467880"/>
              <a:ext cx="435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7"/>
            <p:cNvSpPr/>
            <p:nvPr/>
          </p:nvSpPr>
          <p:spPr>
            <a:xfrm>
              <a:off x="552600" y="3138480"/>
              <a:ext cx="40132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）文字说明内容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文本3"/>
          <p:cNvGrpSpPr/>
          <p:nvPr/>
        </p:nvGrpSpPr>
        <p:grpSpPr>
          <a:xfrm>
            <a:off x="552600" y="2557440"/>
            <a:ext cx="5935680" cy="385920"/>
            <a:chOff x="552600" y="2557440"/>
            <a:chExt cx="5935680" cy="385920"/>
          </a:xfrm>
        </p:grpSpPr>
        <p:sp>
          <p:nvSpPr>
            <p:cNvPr id="72" name="Line 18"/>
            <p:cNvSpPr/>
            <p:nvPr/>
          </p:nvSpPr>
          <p:spPr>
            <a:xfrm flipH="1">
              <a:off x="641160" y="2886840"/>
              <a:ext cx="5847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9"/>
            <p:cNvSpPr/>
            <p:nvPr/>
          </p:nvSpPr>
          <p:spPr>
            <a:xfrm>
              <a:off x="552600" y="2557440"/>
              <a:ext cx="54928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）文字说明内容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文本4"/>
          <p:cNvGrpSpPr/>
          <p:nvPr/>
        </p:nvGrpSpPr>
        <p:grpSpPr>
          <a:xfrm>
            <a:off x="552600" y="2006640"/>
            <a:ext cx="7459200" cy="385920"/>
            <a:chOff x="552600" y="2006640"/>
            <a:chExt cx="7459200" cy="385920"/>
          </a:xfrm>
        </p:grpSpPr>
        <p:sp>
          <p:nvSpPr>
            <p:cNvPr id="75" name="Line 20"/>
            <p:cNvSpPr/>
            <p:nvPr/>
          </p:nvSpPr>
          <p:spPr>
            <a:xfrm flipH="1">
              <a:off x="640800" y="2336760"/>
              <a:ext cx="73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552600" y="2006640"/>
              <a:ext cx="5632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）文字说明内容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79"/>
          <p:cNvGrpSpPr/>
          <p:nvPr/>
        </p:nvGrpSpPr>
        <p:grpSpPr>
          <a:xfrm>
            <a:off x="511200" y="4746600"/>
            <a:ext cx="8453520" cy="410760"/>
            <a:chOff x="511200" y="4746600"/>
            <a:chExt cx="8453520" cy="410760"/>
          </a:xfrm>
        </p:grpSpPr>
        <p:sp>
          <p:nvSpPr>
            <p:cNvPr id="78" name="AutoShape 23"/>
            <p:cNvSpPr/>
            <p:nvPr/>
          </p:nvSpPr>
          <p:spPr>
            <a:xfrm rot="10800000">
              <a:off x="511200" y="4783680"/>
              <a:ext cx="8453520" cy="373320"/>
            </a:xfrm>
            <a:custGeom>
              <a:avLst/>
              <a:gdLst>
                <a:gd name="textAreaLeft" fmla="*/ 766440 w 8453520"/>
                <a:gd name="textAreaRight" fmla="*/ 7687080 w 8453520"/>
                <a:gd name="textAreaTop" fmla="*/ 33840 h 373320"/>
                <a:gd name="textAreaBottom" fmla="*/ 339480 h 37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17" y="21600"/>
                  </a:lnTo>
                  <a:lnTo>
                    <a:pt x="2128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000000">
                    <a:alpha val="18039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4"/>
            <p:cNvSpPr/>
            <p:nvPr/>
          </p:nvSpPr>
          <p:spPr>
            <a:xfrm>
              <a:off x="636480" y="4746600"/>
              <a:ext cx="820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0F8-BC1D-4969-8214-CC2D1420B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http://www.eeppt.com</dc:creator>
  <dc:description>ppt模板下载网站 http://www.eeppt.com</dc:description>
  <dc:language>en-US</dc:language>
  <cp:lastModifiedBy/>
  <dcterms:modified xsi:type="dcterms:W3CDTF">2015-06-14T15:32:16Z</dcterms:modified>
  <cp:revision>100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NXTAG2">
    <vt:lpwstr>0008004402000000000001024140</vt:lpwstr>
  </property>
  <property fmtid="{D5CDD505-2E9C-101B-9397-08002B2CF9AE}" pid="4" name="Presentation">
    <vt:lpwstr>锐普图表</vt:lpwstr>
  </property>
  <property fmtid="{D5CDD505-2E9C-101B-9397-08002B2CF9AE}" pid="5" name="SlideDescription">
    <vt:lpwstr/>
  </property>
</Properties>
</file>