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7B5-FAB8-408D-8DC4-0E105780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2A1-60AA-4CA5-813E-A5381751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4D4-81E3-49BA-B118-EAD7D4C4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0D2-2B90-40D8-AE3D-9DC22221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FED-F392-4640-8205-7FE73896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596-BC24-4314-A5EA-96080416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8E3-20A7-44C3-8C5B-8275E7FD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801-E7B3-4BCE-9E42-9086AC12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5EF-4A52-4909-B0A3-3FEF7CFD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9C6-4779-4017-A3D7-DAA626E6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565-983B-4EBF-9CA2-9D931058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1FA-0D7E-4E07-A0BD-513E259A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59A5-5B90-407F-89C6-3F1C619FB4E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12B3-479E-47D1-B656-C189311C0DD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rc 19"/>
          <p:cNvSpPr/>
          <p:nvPr/>
        </p:nvSpPr>
        <p:spPr>
          <a:xfrm rot="16200000">
            <a:off x="2525760" y="1795320"/>
            <a:ext cx="1628640" cy="3826080"/>
          </a:xfrm>
          <a:prstGeom prst="pie">
            <a:avLst/>
          </a:prstGeom>
          <a:solidFill>
            <a:srgbClr val="106a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2630520" y="3139920"/>
            <a:ext cx="6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rc 21"/>
          <p:cNvSpPr/>
          <p:nvPr/>
        </p:nvSpPr>
        <p:spPr>
          <a:xfrm rot="16200000">
            <a:off x="2744640" y="1767960"/>
            <a:ext cx="1299960" cy="368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rc 22"/>
          <p:cNvSpPr/>
          <p:nvPr/>
        </p:nvSpPr>
        <p:spPr>
          <a:xfrm rot="16200000">
            <a:off x="2643120" y="1906560"/>
            <a:ext cx="1301760" cy="3549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rc 23"/>
          <p:cNvSpPr/>
          <p:nvPr/>
        </p:nvSpPr>
        <p:spPr>
          <a:xfrm rot="16200000">
            <a:off x="2577240" y="1953000"/>
            <a:ext cx="1335240" cy="3429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4199040" y="375768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5"/>
          <p:cNvSpPr/>
          <p:nvPr/>
        </p:nvSpPr>
        <p:spPr>
          <a:xfrm>
            <a:off x="4670280" y="346860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065560" y="3882960"/>
            <a:ext cx="360" cy="173160"/>
            <a:chOff x="5065560" y="3882960"/>
            <a:chExt cx="360" cy="173160"/>
          </a:xfrm>
        </p:grpSpPr>
        <p:sp>
          <p:nvSpPr>
            <p:cNvPr id="50" name="Line 26"/>
            <p:cNvSpPr/>
            <p:nvPr/>
          </p:nvSpPr>
          <p:spPr>
            <a:xfrm>
              <a:off x="5065560" y="3882960"/>
              <a:ext cx="0" cy="173160"/>
            </a:xfrm>
            <a:prstGeom prst="line">
              <a:avLst/>
            </a:prstGeom>
            <a:ln w="9360">
              <a:solidFill>
                <a:srgbClr val="1c1c1c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5065560" y="3882960"/>
              <a:ext cx="360" cy="17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670280" y="4125960"/>
            <a:ext cx="3240" cy="162000"/>
            <a:chOff x="4670280" y="4125960"/>
            <a:chExt cx="3240" cy="162000"/>
          </a:xfrm>
        </p:grpSpPr>
        <p:sp>
          <p:nvSpPr>
            <p:cNvPr id="53" name="Line 27"/>
            <p:cNvSpPr/>
            <p:nvPr/>
          </p:nvSpPr>
          <p:spPr>
            <a:xfrm>
              <a:off x="4670280" y="4125960"/>
              <a:ext cx="3240" cy="162000"/>
            </a:xfrm>
            <a:prstGeom prst="line">
              <a:avLst/>
            </a:prstGeom>
            <a:ln w="9360">
              <a:solidFill>
                <a:srgbClr val="1c1c1c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670280" y="4125960"/>
              <a:ext cx="3240" cy="16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560320" y="3648240"/>
            <a:ext cx="956160" cy="782640"/>
            <a:chOff x="2560320" y="3648240"/>
            <a:chExt cx="956160" cy="782640"/>
          </a:xfrm>
        </p:grpSpPr>
        <p:sp>
          <p:nvSpPr>
            <p:cNvPr id="56" name="Line 28"/>
            <p:cNvSpPr/>
            <p:nvPr/>
          </p:nvSpPr>
          <p:spPr>
            <a:xfrm flipH="1">
              <a:off x="2560320" y="3648240"/>
              <a:ext cx="955800" cy="7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2560680" y="3648240"/>
              <a:ext cx="955800" cy="78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Arc 29"/>
          <p:cNvSpPr/>
          <p:nvPr/>
        </p:nvSpPr>
        <p:spPr>
          <a:xfrm rot="16200000">
            <a:off x="2598480" y="1550880"/>
            <a:ext cx="1666800" cy="4273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0"/>
          <p:cNvSpPr/>
          <p:nvPr/>
        </p:nvSpPr>
        <p:spPr>
          <a:xfrm>
            <a:off x="5397480" y="3137040"/>
            <a:ext cx="209520" cy="279360"/>
          </a:xfrm>
          <a:prstGeom prst="pie">
            <a:avLst/>
          </a:prstGeom>
          <a:solidFill>
            <a:srgbClr val="6c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rc 31"/>
          <p:cNvSpPr/>
          <p:nvPr/>
        </p:nvSpPr>
        <p:spPr>
          <a:xfrm rot="16200000">
            <a:off x="2611440" y="1392120"/>
            <a:ext cx="1657440" cy="427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2"/>
          <p:cNvSpPr/>
          <p:nvPr/>
        </p:nvSpPr>
        <p:spPr>
          <a:xfrm>
            <a:off x="2362320" y="2981160"/>
            <a:ext cx="8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33"/>
          <p:cNvCxnSpPr>
            <a:stCxn id="63" idx="1"/>
            <a:endCxn id="61" idx="3"/>
          </p:cNvCxnSpPr>
          <p:nvPr/>
        </p:nvCxnSpPr>
        <p:spPr>
          <a:xfrm flipV="1" rot="10800000">
            <a:off x="3244680" y="2474280"/>
            <a:ext cx="3115080" cy="706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34"/>
          <p:cNvCxnSpPr/>
          <p:nvPr/>
        </p:nvCxnSpPr>
        <p:spPr>
          <a:xfrm rot="10800000">
            <a:off x="5176080" y="3620520"/>
            <a:ext cx="1437480" cy="373680"/>
          </a:xfrm>
          <a:prstGeom prst="bentConnector3">
            <a:avLst>
              <a:gd name="adj1" fmla="val 76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Text Box 35"/>
          <p:cNvSpPr/>
          <p:nvPr/>
        </p:nvSpPr>
        <p:spPr>
          <a:xfrm>
            <a:off x="3321000" y="38638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7"/>
          <p:cNvGrpSpPr/>
          <p:nvPr/>
        </p:nvGrpSpPr>
        <p:grpSpPr>
          <a:xfrm>
            <a:off x="6359400" y="2274840"/>
            <a:ext cx="1911600" cy="455760"/>
            <a:chOff x="6359400" y="2274840"/>
            <a:chExt cx="1911600" cy="455760"/>
          </a:xfrm>
        </p:grpSpPr>
        <p:sp>
          <p:nvSpPr>
            <p:cNvPr id="67" name="Freeform 38"/>
            <p:cNvSpPr/>
            <p:nvPr/>
          </p:nvSpPr>
          <p:spPr>
            <a:xfrm>
              <a:off x="6472080" y="2537280"/>
              <a:ext cx="168552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9"/>
            <p:cNvSpPr/>
            <p:nvPr/>
          </p:nvSpPr>
          <p:spPr>
            <a:xfrm>
              <a:off x="6359400" y="2274840"/>
              <a:ext cx="1911600" cy="399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df9f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0"/>
          <p:cNvGrpSpPr/>
          <p:nvPr/>
        </p:nvGrpSpPr>
        <p:grpSpPr>
          <a:xfrm>
            <a:off x="6404040" y="3711600"/>
            <a:ext cx="1911240" cy="455760"/>
            <a:chOff x="6404040" y="3711600"/>
            <a:chExt cx="1911240" cy="455760"/>
          </a:xfrm>
        </p:grpSpPr>
        <p:sp>
          <p:nvSpPr>
            <p:cNvPr id="69" name="Freeform 41"/>
            <p:cNvSpPr/>
            <p:nvPr/>
          </p:nvSpPr>
          <p:spPr>
            <a:xfrm>
              <a:off x="6516720" y="3974040"/>
              <a:ext cx="168552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2"/>
            <p:cNvSpPr/>
            <p:nvPr/>
          </p:nvSpPr>
          <p:spPr>
            <a:xfrm>
              <a:off x="6404040" y="3711600"/>
              <a:ext cx="1911240" cy="399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df9f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43"/>
          <p:cNvGrpSpPr/>
          <p:nvPr/>
        </p:nvGrpSpPr>
        <p:grpSpPr>
          <a:xfrm>
            <a:off x="5972040" y="4933800"/>
            <a:ext cx="1911600" cy="454320"/>
            <a:chOff x="5972040" y="4933800"/>
            <a:chExt cx="1911600" cy="454320"/>
          </a:xfrm>
        </p:grpSpPr>
        <p:sp>
          <p:nvSpPr>
            <p:cNvPr id="72" name="Freeform 44"/>
            <p:cNvSpPr/>
            <p:nvPr/>
          </p:nvSpPr>
          <p:spPr>
            <a:xfrm>
              <a:off x="6084720" y="5195520"/>
              <a:ext cx="168552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5"/>
            <p:cNvSpPr/>
            <p:nvPr/>
          </p:nvSpPr>
          <p:spPr>
            <a:xfrm>
              <a:off x="5972040" y="4933800"/>
              <a:ext cx="1911600" cy="39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df9f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46"/>
          <p:cNvGrpSpPr/>
          <p:nvPr/>
        </p:nvGrpSpPr>
        <p:grpSpPr>
          <a:xfrm>
            <a:off x="1303200" y="5076720"/>
            <a:ext cx="1913040" cy="455760"/>
            <a:chOff x="1303200" y="5076720"/>
            <a:chExt cx="1913040" cy="455760"/>
          </a:xfrm>
        </p:grpSpPr>
        <p:sp>
          <p:nvSpPr>
            <p:cNvPr id="75" name="Freeform 47"/>
            <p:cNvSpPr/>
            <p:nvPr/>
          </p:nvSpPr>
          <p:spPr>
            <a:xfrm>
              <a:off x="1415880" y="5339160"/>
              <a:ext cx="168696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8"/>
            <p:cNvSpPr/>
            <p:nvPr/>
          </p:nvSpPr>
          <p:spPr>
            <a:xfrm>
              <a:off x="1303200" y="5076720"/>
              <a:ext cx="1913040" cy="399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df9f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" name="AutoShape 49"/>
          <p:cNvCxnSpPr/>
          <p:nvPr/>
        </p:nvCxnSpPr>
        <p:spPr>
          <a:xfrm rot="10800000">
            <a:off x="4750560" y="3998160"/>
            <a:ext cx="1221480" cy="115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50"/>
          <p:cNvCxnSpPr/>
          <p:nvPr/>
        </p:nvCxnSpPr>
        <p:spPr>
          <a:xfrm flipV="1">
            <a:off x="3216240" y="4142520"/>
            <a:ext cx="241920" cy="113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DD6-C2A9-40F2-8B2C-5F9D5D5ABF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http://www.eeppt.com</dc:creator>
  <dc:description>ppt模板下载网站 http://www.eeppt.com</dc:description>
  <dc:language>en-US</dc:language>
  <cp:lastModifiedBy/>
  <dcterms:modified xsi:type="dcterms:W3CDTF">2015-06-15T00:42:20Z</dcterms:modified>
  <cp:revision>7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